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3.png" ContentType="image/png"/>
  <Override PartName="/ppt/media/image11.jpeg" ContentType="image/jpeg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BE4-10DB-4592-A87E-30B92C53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DE4-D308-4488-8591-6424B2F7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361B0-DE63-433D-B57C-C07B8FA7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6F131-62FB-446E-98EC-028E976B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5BDAC-01B8-42EC-B709-4645D1F0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F418A-2B6F-4A14-9B2E-CA5C87E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96306-9A5D-43F2-A631-0592FC91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F6118-46E4-4E01-98AE-D1070C3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8CEF5-FA68-4D5C-9EE6-AE385CBB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7213F-8F1D-4141-9878-BCD00ECE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931A1-5548-4B23-97C7-0F0FEEA9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2D9-B8C1-4D86-9F71-AAE149E9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97B-AAB5-4F07-9144-987DC736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ECDB-4FC3-4449-837D-A94AA88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0A7B-4351-4F86-B3DA-D2935787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2D1-9C4F-4610-9682-C9EE06B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07F8-BC01-4479-8AD8-9FDDC79F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4889-418B-4F96-9C0A-C4F3E595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A08D-123D-4B81-A1AD-61F70BF1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0B0-FE22-4ECB-8709-8F173D7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E3D-7E3E-4277-8C2A-CA0E0578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EEDE-D851-4F5D-8286-0013A32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0AE2-D613-419A-917D-08BDE84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2F22-59C1-41DE-B7CE-A75474ED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5F9-4BF5-42C6-A0C9-68378D2B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39A6-1FEE-4856-B776-856A8142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2CBE-D188-46AA-A5A5-3460DD4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DFDD-39E2-4BAF-B60B-3F32623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8DC4-84B6-4E00-AB35-07A7655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5A3C-BBED-4EC4-B7DE-F518B69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FF0F-914B-4DC7-8D33-46A048A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2D8-D9FA-4DAA-8574-398C0DA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116A-6740-464D-A346-F4969BB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6236-4084-49C3-A4FD-FF345E6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E44D-C628-42A1-BD86-9E3506AE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FF2C-FA42-4517-842E-5543617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845A-7FAA-440E-BD18-6C184BD6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2D51-BE54-4015-AB47-BDB0F1BA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DBA4-6B3B-4B8D-BF36-968A121A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25D7-70B6-4B0A-B935-8B097314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CE95-21DA-433F-8F8A-1B762551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957F-1D38-4044-9774-B1F6B11E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071-DC4B-4A39-AF76-7148F65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0B22-E965-4356-B25F-E679169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7FCA-59DC-46A3-8391-ACE8459B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F599-B6E1-45FC-9D3B-A823C0D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2E94-7BAD-48F2-AA36-57EB301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A013-4B57-4D2D-BC65-B8B8ABAF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AA92-170D-4459-B411-B90B0FF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1005-7A7E-41E9-8C2E-CA3948D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8856-1B90-4D8B-96E3-AF28C875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9DC1-BFEB-4050-BDD0-170AD338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C9CB-B47E-425B-A491-5F74E76D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06B-5C84-4467-B79F-B91469C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11AA-B064-4305-BAB9-0C2AFF3E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98BC-03BA-42D9-A7F3-A6BDFD4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FE92-C848-41DD-B540-D2B673F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E281-C294-4CF9-B0E2-C1DA240F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64CF-213A-43E3-AAEB-223DD7A7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EA4D-D8EF-45BA-8681-5DC2ADA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F4CD9-4857-42FA-8E8D-BF0BA30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895D-527E-4B1B-A812-19F69AD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7FE3-97A8-4747-B716-22B03F6F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0C37-3B27-4268-8728-C281CDF8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6CA-0C62-4D5A-AD56-3BABD41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D8A6-1779-43B4-AA2C-9507C44B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D2586-0481-4699-8BDE-CEC7E3D7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67E0-1177-4FD6-8C0F-FD881E85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8AAD-C455-4E46-B909-9186396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6CB37-2C77-469D-82FA-8EFAAD4C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76A66-7CB0-4C22-A650-393546DF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8081-8A77-4798-85D9-F01D0DAA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E4189-8780-4778-AF0F-6D1966C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CF1D-2A79-4FB3-AA7B-0746CDD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90790-EA4D-467A-9D9B-8A0D432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EAF-5F06-4AC1-B5C2-685A949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DD29-9421-4460-B086-E74624C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D3930-4769-4BA3-AD6C-89A898C9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BE1B-F615-4FF9-AEE1-34DBC734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8325-5E60-4758-8B5F-3BE2D53C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1DDFC-7D89-412E-9F94-C289DF2B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D25AD-E122-4D3E-B51C-D60B9046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FD72C-E151-4637-B82C-D5039DEA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543C-CC53-492E-A82A-B7D5EC51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886C-3657-40BC-906A-A52DB8A0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D78A-F4C7-428F-A0EF-6C51EA0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FB5-AA2D-4362-B616-6CA8F98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54E58-310F-4008-BA46-6719A1F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7EB5-2912-4228-8E17-5E63BDE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2AE33-95B9-44CE-9265-CCD984CC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9A577-4862-4D07-8BA5-0FFC09A2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D3B7A-FA4C-4900-800B-F2C88242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3A68-A0D4-4E29-8DAA-8A08B2C1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08EE6-549D-40BB-A468-62575B1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6C3F-782F-44A0-9A34-EE80E8DC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48B8A-129E-491E-8317-C03A2AA3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0E31F-E2EB-4D36-AA7D-D3409BB4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62E-5D39-4148-8C2D-2F58E8F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1BC63-EB4B-4275-8AD6-54AE683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71F3-24C6-48B7-B1CB-3853309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2E90C-5EB0-4545-8242-B008AA52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A72F-CB09-477D-966F-C1B7A63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EB6E5-A9A8-4BCA-AC07-1D6CCC55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1F10-AB8B-4DAC-B578-EAAF63E5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CDF6-E5DA-40D1-A1BA-58116252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11100-5057-4C07-9CF3-69A937B0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B8102-2AED-4AF0-94DA-403AE6BC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A5DD0-5B96-4EFD-BA4C-E8D2974E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200-5772-4372-9448-32AFB18B2F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7A7-9971-4502-9253-B5CE112755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4339-1888-4A8D-A7C1-AA26BA82B6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23CD-0502-4559-A21F-B744FB0ACB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6ED3-C85F-4E64-AD59-1E7A42C474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ABD8-C0E8-4C9E-8C64-8D72F13534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83E-950F-47CA-8C12-670C206DE5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0DE-8DBC-4610-9E35-363F4F4947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02F1-586A-4813-9DA0-4B97EA27AF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7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52280" y="4005360"/>
            <a:ext cx="8972640" cy="187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190760" y="56386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Дослідження учнів 8 класу</a:t>
            </a:r>
            <a:r>
              <a:rPr b="0" lang="en-US" sz="2000" spc="-1" strike="noStrike">
                <a:solidFill>
                  <a:srgbClr val="443329"/>
                </a:solidFill>
                <a:latin typeface="Franklin Gothic Demi"/>
              </a:rPr>
              <a:t>: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Скічко І., Ткаченко В., Масич 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28600" y="5335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Arial"/>
              </a:rPr>
              <a:t>Косарська загальноосвітня школа І-ІІІ ступ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никнення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Чому корінь називають радикал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ерше використання знака кореня в математичній літератур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дозміна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Знак кореня від Рене Дека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Object 7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83808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радикала продовжувалась більше 500 рок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чинаючи з ХІІІ ст. італійські та інші європейські математики позначали корінь латинським слово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adix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(корінь) або скорочено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, поті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200" spc="-1" strike="noStrike" baseline="-25000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ст. Н.Шюке писа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 baseline="30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2 заміс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ject 4" descr=""/>
          <p:cNvPicPr/>
          <p:nvPr/>
        </p:nvPicPr>
        <p:blipFill>
          <a:blip r:embed="rId3"/>
          <a:stretch/>
        </p:blipFill>
        <p:spPr>
          <a:xfrm>
            <a:off x="7162920" y="4572000"/>
            <a:ext cx="838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90043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У Стародавній Індії невідоме іменувалося «мула», що означає «початок», «основа», «корінь (дерева)». Араби для цих цілей використовували слово «джізр» з тим же значенням. Європейці переклали його на латину як radix - «корінь». Так виник математичний термін «радикал»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72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\\Vchitel\вчителі2\Скічко Т.М\Для учнів\8 клас\Алгебра\На презентацію\Застосування кореня\156.jpg"/>
          <p:cNvPicPr/>
          <p:nvPr/>
        </p:nvPicPr>
        <p:blipFill>
          <a:blip r:embed="rId3"/>
          <a:stretch/>
        </p:blipFill>
        <p:spPr>
          <a:xfrm>
            <a:off x="5006880" y="1600200"/>
            <a:ext cx="362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8240" y="1554120"/>
            <a:ext cx="5181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6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Деякі математики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ст. позначали квадратний корінь точкою перед числом чи виразом; корені вищих степенів – декількома точками. Ті точки, що ставились перед підкореневим виразом, перейшли в скоропису в рисочки, і, можливо, з них і виник знак кореня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(без верхньої риски сучасного знака       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4" descr=""/>
          <p:cNvPicPr/>
          <p:nvPr/>
        </p:nvPicPr>
        <p:blipFill>
          <a:blip r:embed="rId3"/>
          <a:stretch/>
        </p:blipFill>
        <p:spPr>
          <a:xfrm>
            <a:off x="1676520" y="59436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16" name="Полілінія 7"/>
          <p:cNvSpPr/>
          <p:nvPr/>
        </p:nvSpPr>
        <p:spPr>
          <a:xfrm>
            <a:off x="5791320" y="1905120"/>
            <a:ext cx="2670120" cy="3776400"/>
          </a:xfrm>
          <a:prstGeom prst="pie">
            <a:avLst/>
          </a:prstGeom>
          <a:noFill/>
          <a:ln w="889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волюція зн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8" descr=""/>
          <p:cNvPicPr/>
          <p:nvPr/>
        </p:nvPicPr>
        <p:blipFill>
          <a:blip r:embed="rId4"/>
          <a:stretch/>
        </p:blipFill>
        <p:spPr>
          <a:xfrm>
            <a:off x="4038480" y="438120"/>
            <a:ext cx="8384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133200" y="-36360"/>
            <a:ext cx="8864640" cy="1487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28600" y="15238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Цей знак вперше зустрічається в німецькій книзі з алгебри, виданій в 1525 р. в Страсбурзі. Автором цієї книги був уродженець Чехії, вчитель математики з Відня, Криштоф Рудольф. Знаком кореня користувались в Х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І ст. М.Штифель, С.Стевін та і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C:\Users\Учень\Pictures\текст.jpg"/>
          <p:cNvPicPr/>
          <p:nvPr/>
        </p:nvPicPr>
        <p:blipFill>
          <a:blip r:embed="rId3"/>
          <a:srcRect l="0" t="0" r="9" b="-67"/>
          <a:stretch/>
        </p:blipFill>
        <p:spPr>
          <a:xfrm>
            <a:off x="4952880" y="1359000"/>
            <a:ext cx="3919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5471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37124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16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1626 р. нідерландський математик А.Жирар, поєднуючи  знак Рудольфа з показниками Шюке, ввів близьке до сучасного позначення            .. Це позначення стало витісняти знак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Але довгий час писали, наприклад              ,  (замість сучасного          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3"/>
          <a:srcRect l="0" t="0" r="82377" b="46286"/>
          <a:stretch/>
        </p:blipFill>
        <p:spPr>
          <a:xfrm>
            <a:off x="2819520" y="388620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4"/>
          <a:srcRect l="76151" t="46462" r="-44" b="-44"/>
          <a:stretch/>
        </p:blipFill>
        <p:spPr>
          <a:xfrm>
            <a:off x="4114800" y="5410080"/>
            <a:ext cx="1295280" cy="4446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8" descr=""/>
          <p:cNvPicPr/>
          <p:nvPr/>
        </p:nvPicPr>
        <p:blipFill>
          <a:blip r:embed="rId5"/>
          <a:stretch/>
        </p:blipFill>
        <p:spPr>
          <a:xfrm>
            <a:off x="4038480" y="586728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\\Vchitel\вчителі2\Скічко Т.М\Для учнів\8 клас\Квадратні корені\Картинки\square-root-day.jpg"/>
          <p:cNvPicPr/>
          <p:nvPr/>
        </p:nvPicPr>
        <p:blipFill>
          <a:blip r:embed="rId6"/>
          <a:stretch/>
        </p:blipFill>
        <p:spPr>
          <a:xfrm>
            <a:off x="5846760" y="2266920"/>
            <a:ext cx="2925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5238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Тільки в 1637 р. Рене Декарт з’єднав знак кореня з горизонтальною рискою, застосувавши в своїй «Геометрії» сучасний знак кореня      Цей знак став загальновживаним лише на початку  Х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ІІІ 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4" descr=""/>
          <p:cNvPicPr/>
          <p:nvPr/>
        </p:nvPicPr>
        <p:blipFill>
          <a:blip r:embed="rId3"/>
          <a:stretch/>
        </p:blipFill>
        <p:spPr>
          <a:xfrm>
            <a:off x="4375080" y="4087800"/>
            <a:ext cx="466920" cy="380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\\Vchitel\вчителі2\Скічко Т.М\Для учнів\8 клас\Алгебра\На презентацію\Походження кореня\250px-Frans_Hals_-_Portret_van_René_Descartes.jpg"/>
          <p:cNvPicPr/>
          <p:nvPr/>
        </p:nvPicPr>
        <p:blipFill>
          <a:blip r:embed="rId4"/>
          <a:stretch/>
        </p:blipFill>
        <p:spPr>
          <a:xfrm>
            <a:off x="5334120" y="1752480"/>
            <a:ext cx="317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Г.І.Глейзер Історія математики в школі. «Просвещение». М.1964 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shkolnik.in.ua/index.php?option=com_c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ntent&amp;view=category&amp;layout=blog&amp;id=9&amp;Itemid=2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ru.wikipedia.org/wik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ані джере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16:46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8000000000001024140</vt:lpwstr>
  </property>
  <property fmtid="{D5CDD505-2E9C-101B-9397-08002B2CF9AE}" pid="3" name="Version">
    <vt:r8>1</vt:r8>
  </property>
</Properties>
</file>