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C90-9D5A-4FD6-9651-917078DC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F07-968A-4725-A475-A4F9F2C5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E4FC3-BB2C-403A-8391-66250E67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A0F87-C7DC-453D-9953-0C13A63E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69418-7C61-4025-BF04-560D5698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5742F-35F4-49FE-B873-865F7F6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D35EF-DFD3-4590-8388-1CDAB19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C4B91-E5C8-4EAD-AC1D-800FE5E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D5DD2-A070-4BB1-882C-26F1F7FF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1FFCA-FEF6-4FF8-8218-3F1646CB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83BC0-1491-4CB0-B8AE-769B68C4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997B4-421D-4D94-81E1-B188A9F7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8E1-9AA4-40B1-B194-776E5166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63E0B-B491-4219-8DED-2D9A8A30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891F4-ED97-4DEB-96ED-5B09231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68C8C-FFEE-4197-8093-DD2C1A4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6ECF3-542C-4C62-BDD0-0C9F0402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3487A-E572-4A6D-BE83-C96606EC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53F25-8385-4BCB-837D-C671699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51B47-5698-4048-8AD7-429A2433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63C23-46D7-48AF-B882-46594630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87413-B24B-4B2B-8CC8-CE0CF112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CAE20-E784-4D38-818D-8A3838AF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D35-C46F-493D-8853-603524A4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968F4-58E8-4C68-8802-012E945E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FF0E5-28E5-4D9B-B2D6-C2ACE330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F4694-436C-4438-BA9A-4E82833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93C61-D2AF-4FDD-9995-754431FD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33D2A-472C-44AB-A362-795EB859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E48F4-B699-46BE-8367-188C8F13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31E78-608F-41FB-9D6A-55863F71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728CC-2A1B-4D87-8221-B376869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1BD26-20CB-47B2-9558-E9C38613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DFD19-8EF1-4D07-AD22-B882783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B257-1D1B-48A6-A74D-4AC012E2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C44DF-B299-4C45-8A79-E26F78B2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13FE-3E71-4CBC-AA46-8ED29A67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B0490-DF9E-428E-9339-FB1B36F0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3A8FD-D5FD-4B4B-8213-C8D45703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3C1B8-DBD4-4376-BA11-D6131161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F7F53-1BA2-4000-9E9C-497812E5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54DA3-8AC5-40F7-B9CF-A013F797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473D0-9DA3-488D-9CCF-F9C1EBA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38DD2-30B6-4495-96FC-E6E0B573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FFBEF-1AE9-42B9-A270-80B6E98F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7B23-81E6-4386-878C-A32051BD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0C380-5EFE-42F6-A305-E087037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32BC1-D13D-41CF-90C0-E22D35D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FAB28-FFBD-428B-B98A-3427F42D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84BF4-0E1B-43E5-ABF9-C72C58DD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D5BEA-04D0-450D-AADD-1A2ADA23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BFB9-F1A5-443D-954D-F19F94C6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CA1D-CFE5-46FF-A0B8-6258561A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06D8-328E-412A-A671-4D92AE68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352F-FA5C-478F-A9A6-F011594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FB04-D816-4F4E-A885-FA83EEEF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075-1D17-4A9E-B103-D933F621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BABD-AEFC-492F-AEE8-62AA89D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300C-BD00-44A7-9446-30F39E86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8184-342B-4DAD-9BAC-C6C50DA5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56C6-DAAC-450A-82BE-A1E9B4CD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34A8-47E7-4FD5-9BDF-32385C8F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12BE-3736-4D61-8375-2E117622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FE92-E3EF-451A-94C4-CAD9F9AE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51B8-2C66-43E6-B0A9-FC269FF4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30C9-68F1-435F-BF38-1FA56016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EDC4-62CB-443E-8F86-ED10E666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6A9-6FE3-42ED-8418-B6360C3F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91B7-9370-45AC-B7FC-A1953C01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4B6C-1EAA-4706-987E-630F68A0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AF72-97B7-4EB8-B9F9-FBD4441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EB87-44E2-492F-9767-3DE30B0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A158-4891-4F4F-990B-EDAE8C67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62A2-B01C-4164-843D-CA721578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9720-6D15-4832-A57F-3FFA1563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9D8FB-E430-4CC7-BDB0-860ED97A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B5D8-DD55-49BC-87FA-D00CDF6C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4BE0-0B25-4BD7-BCB2-25560048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A94-9ADB-4AF0-A086-51C687D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F845F-363B-4DEF-9EC1-A6B00157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EB22-B0A3-460F-A11C-3E35CB1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5A58-B8AF-4EE5-A024-BAEAC1F1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966A-1ED9-4F05-B1CC-59D4D57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92E1-3ACC-427F-AEED-CEA946B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0D91-8CD3-4C16-93A7-09DFAF5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15D8-29D9-4260-A610-A044182A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DBC44-B5A0-430C-82CF-1AD236A6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5689-EFF5-4EB0-82DF-7D6202EB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86FE-DAD7-4235-8619-DCAA4316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659-6881-4147-BB29-4B74CC2E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FFFA8-308E-4EFA-9488-01250A0E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40F8-1CB1-4546-A622-89F4FA3F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E6ABB-CFF2-4B57-B20A-AB8D19A2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2CBA-93E1-40B2-829F-389A914E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5CAB-233F-43E0-8B96-35AD224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BFB2E-CA55-499D-9B79-4536BB7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0F15-2712-4EE4-AB1C-8AF153D2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05A0A-E080-4562-B11A-68CF7C5D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1F64-F684-4442-8E0A-F8B787B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A41C-203D-446E-A062-382D7BC6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789-24DE-4617-8CA1-ACE8600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0FBD0-C88B-4B93-9E51-58F7FF91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20AC7-7E5F-48F2-AAD7-673E36D6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0953-B426-43D4-958B-8BF08B0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9BB8-4C05-4292-9BCA-794EDDE3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5173-9026-4DB7-85D9-D92EB340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E0E3-6D79-4CE8-BEE9-2AEA3E37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0E105-AA07-4742-85E0-9082D0A5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EB9B-3493-4D69-89C0-A9987BF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8FA2-3261-4626-93B6-504B72A6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92F74-3FE0-4C3B-9B99-887BF62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9C6-A396-4B17-A9FC-418A19D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10BEB-858F-4190-A5F3-7D11BDA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DBB8-6E35-4E3D-B358-7CC5EC63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DCA05-BB57-4DBA-8FCA-5748FD04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4FDA4-1E6F-4F42-98F2-1EC69DCA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CA79C-6BA8-43EB-90A3-B2EB6BF8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2FFE8-0324-48A7-83C3-62F83069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1DEB-F5C2-41DD-9AC0-448D3A86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9E672-DCE2-49BE-841F-FED8F4FC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59241-8D49-412C-B7F2-1C270F14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C50F-A91A-4731-B210-11CEAAD9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E05-833D-49EF-A32C-097B013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D9D41-0DD6-4CB0-9936-F2C44490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17FA0-CC18-4AD6-AF23-2351C108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35B46-2A2F-47FD-88A4-0E465E38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36CC-9404-4120-8AA0-E7D2815C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2844-BBDF-4398-9891-0E685315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07DE8-C871-4FC1-8214-D168262C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D6209-6B31-4EF7-A3C6-1FF2D2D1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7D7EA-B0A8-4166-91D3-4A75E89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99D7-2020-420F-AD59-96DB9F8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7D725-3938-47A5-969E-C5071C22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7AD-7D49-42D8-BA93-BEFF00F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3206C-8982-4C47-82FC-16D77EBE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43F2D-7134-4F47-879F-685B2AAC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3ADA8-F8F1-47B9-B28F-382007E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D1D7E-7F85-4239-90C8-AAC16F0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F4BE1-0FD3-4228-887F-102BD0E9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19FC6-405B-48FB-8581-D5781337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FC818-26F5-4F82-BD5A-586065E1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8E0AC-6070-4453-AA9D-81B76102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58B01-2C4F-4720-B2BF-1B1F4C9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61C85-B3AB-40FC-BB6C-C7F3C691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2C7A-B1E1-422D-AE2B-C58548B11FB3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 сполучна ліні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кут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кут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кут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кут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кут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кут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кут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EFD4-2CFF-47AA-B723-784A8B105D40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8FC6-31F1-4EF0-8B1F-23A5DE3EA0CE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кут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кут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кут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кут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кут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кут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 сполучна ліні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300-125F-40B4-839B-BD407B9ABCF3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кут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кут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кут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 сполучна ліні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кут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479C-2231-470B-AD9D-6FF3BBE15658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CBD8-1767-4A6A-9DA1-9D5F9AD1D471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кут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кут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кут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 сполучна ліні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ECA-E02C-408F-A198-9FCE78565958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 сполучна ліні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567-1DCB-4C13-972B-07BF7F14F7E7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 сполучна ліні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кут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кут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кут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кут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кут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кут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 сполучна ліні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кут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FFDF-EB6A-4F74-B8FD-773362502811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78B0-0E38-4931-806A-405638B06071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кут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кут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кут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кут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кут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кут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156E-258E-4E1D-848D-36A31E62526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кут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кут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кут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кут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кут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кут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 сполучна ліні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кут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1D0-19AB-43AF-AAF1-E26A6B1BFAFE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355640" y="4508640"/>
            <a:ext cx="431964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Georgia"/>
              </a:rPr>
              <a:t>ПРОЕКТ ПІДГОТУВАЛИ УЧЕНИЦІ 8 КЛАСУ КОСАРСЬКОЇ ЗОШ ПЕРЕПЕЛИЦЯ ВІКТОРІЯ ТА БОЙКО ОЛЬГ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f6fc6"/>
                </a:solidFill>
                <a:latin typeface="Georgia"/>
              </a:rPr>
              <a:t>Значення слів радикал та корінь</a:t>
            </a:r>
            <a:r>
              <a:rPr b="0" lang="en-US" sz="4200" spc="-1" strike="noStrike">
                <a:solidFill>
                  <a:srgbClr val="0f6fc6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08b7bf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біології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1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Це прихована, заглиблена частина основи чого-небудь, наприклад органу живого організму (волосини, зуба і т. п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http://www.oniko.ua/images/products_watermark/model/1416_j010bcopy.jpg"/>
          <p:cNvPicPr/>
          <p:nvPr/>
        </p:nvPicPr>
        <p:blipFill>
          <a:blip r:embed="rId1"/>
          <a:stretch/>
        </p:blipFill>
        <p:spPr>
          <a:xfrm>
            <a:off x="4643280" y="1214280"/>
            <a:ext cx="2943360" cy="2854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http://lib.mdpu.org.ua/e-book/anatomiya/ANATOM1.files/image515.jpg"/>
          <p:cNvPicPr/>
          <p:nvPr/>
        </p:nvPicPr>
        <p:blipFill>
          <a:blip r:embed="rId2"/>
          <a:stretch/>
        </p:blipFill>
        <p:spPr>
          <a:xfrm>
            <a:off x="6227640" y="3786120"/>
            <a:ext cx="267840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Висновок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680" y="1371600"/>
            <a:ext cx="419904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и дослідили значення слів радикал та корінь.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87640" y="4508640"/>
            <a:ext cx="4051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якуємо за увагу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http://4.bp.blogspot.com/_3CS8bulT1OA/S2gXendP_-I/AAAAAAAAAGk/7cMQP6fCMd4/s320/610.gif"/>
          <p:cNvPicPr/>
          <p:nvPr/>
        </p:nvPicPr>
        <p:blipFill>
          <a:blip r:embed="rId1"/>
          <a:stretch/>
        </p:blipFill>
        <p:spPr>
          <a:xfrm>
            <a:off x="4788000" y="155736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http://i.ytimg.com/vi/2lMnP89qeMU/0.jpg"/>
          <p:cNvPicPr/>
          <p:nvPr/>
        </p:nvPicPr>
        <p:blipFill>
          <a:blip r:embed="rId2"/>
          <a:stretch/>
        </p:blipFill>
        <p:spPr>
          <a:xfrm>
            <a:off x="611280" y="3429000"/>
            <a:ext cx="37083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План (радикал)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Значення слова радикал в хім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Значення слова радикал в матема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Значення слова радикал в суспільств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. Значення слова радикал у лінгвіс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1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матема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дикал – це математичний знак для позначення дії добування кореня, а також результат цієї д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rcRect l="425" t="18646" r="36268" b="24315"/>
          <a:stretch/>
        </p:blipFill>
        <p:spPr>
          <a:xfrm>
            <a:off x="3949560" y="1643040"/>
            <a:ext cx="50594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хімії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6760" y="1928520"/>
            <a:ext cx="40006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дикал – це стійка група атомів у молекулі, яка у процесі хімічного перетворення переходить без зміни з однієї сполуки в інш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4" descr="C:\Users\Учень\Desktop\клас 8\Квадратні корені\На презентацію\12677.gif.jpg"/>
          <p:cNvPicPr/>
          <p:nvPr/>
        </p:nvPicPr>
        <p:blipFill>
          <a:blip r:embed="rId1"/>
          <a:stretch/>
        </p:blipFill>
        <p:spPr>
          <a:xfrm>
            <a:off x="4714920" y="357192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Users\Учень\Desktop\клас 8\Квадратні корені\На презентацію\1274799330.jpg"/>
          <p:cNvPicPr/>
          <p:nvPr/>
        </p:nvPicPr>
        <p:blipFill>
          <a:blip r:embed="rId2"/>
          <a:stretch/>
        </p:blipFill>
        <p:spPr>
          <a:xfrm>
            <a:off x="6000840" y="1500120"/>
            <a:ext cx="253980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суспільств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527120"/>
            <a:ext cx="434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адикал - прихильник радикалізму, тобто безкомпромісний виразник будь-яких поглядів, як правило - пов'язаних з глибокими перетвореннями в суспільному устрої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адикал - член якої-небудь Радикальної партії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http://blog.leonidv.com.ua/wp-content/uploads/CivilSociety.jpg"/>
          <p:cNvPicPr/>
          <p:nvPr/>
        </p:nvPicPr>
        <p:blipFill>
          <a:blip r:embed="rId1"/>
          <a:stretch/>
        </p:blipFill>
        <p:spPr>
          <a:xfrm>
            <a:off x="5003640" y="1628640"/>
            <a:ext cx="331344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8b7bf"/>
                </a:solidFill>
                <a:latin typeface="Georgia"/>
              </a:rPr>
              <a:t>У лінгвіс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13840" y="1857240"/>
            <a:ext cx="43578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адикал - те ж, що ієрогліфічний ключ (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ієрогліф, який є складовою частиною іншого ієрогліфа і який часто дозволяє пояснити його значення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4" descr="keys1_1"/>
          <p:cNvPicPr/>
          <p:nvPr/>
        </p:nvPicPr>
        <p:blipFill>
          <a:blip r:embed="rId1"/>
          <a:stretch/>
        </p:blipFill>
        <p:spPr>
          <a:xfrm>
            <a:off x="4643280" y="1413000"/>
            <a:ext cx="4348440" cy="4968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План (корінь)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у природ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в матема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в біолог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природ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42680"/>
            <a:ext cx="414324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1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Це розгалужена підземна частина рослини або гриба, орган, який забезпечує закріплення (укорінення) у ґрунті, підживлення водою та іншими 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4" descr="http://school.xvatit.com/images/0/01/%D0%9C%D0%B0%D0%BB._200._%D0%92%D0%B7%D0%B0%D1%94%D0%BC%D0%BE%D0%B2%D0%B8%D0%B3%D1%96%D0%B4%D0%BD%D0%B5_%D1%81%D0%BF%D1%96%D0%B2%D0%B6%D0%B8%D1%82%D1%82%D1%8F_%D1%80%D0%BE%D1%81%D0%BB%D0%B8%D0%BD_%D1%96_%D0%B3%D1%80%D0%B8%D0%B1%D1%96%D0%B2.jpg"/>
          <p:cNvPicPr/>
          <p:nvPr/>
        </p:nvPicPr>
        <p:blipFill>
          <a:blip r:embed="rId1"/>
          <a:stretch/>
        </p:blipFill>
        <p:spPr>
          <a:xfrm>
            <a:off x="4143240" y="1643040"/>
            <a:ext cx="4643640" cy="3021120"/>
          </a:xfrm>
          <a:prstGeom prst="rect">
            <a:avLst/>
          </a:prstGeom>
          <a:ln w="0">
            <a:noFill/>
          </a:ln>
        </p:spPr>
      </p:pic>
      <p:sp>
        <p:nvSpPr>
          <p:cNvPr id="628" name="Місце для вмісту 2"/>
          <p:cNvSpPr/>
          <p:nvPr/>
        </p:nvSpPr>
        <p:spPr>
          <a:xfrm>
            <a:off x="0" y="4714920"/>
            <a:ext cx="88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1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ечовинами, а в окремих випадках і для вегетативного розмноження.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матема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483920"/>
            <a:ext cx="3683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ний корі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це таке число, квадрат якого дорівнює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інь рівняння 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е  число, яке при підстановці в рівняння дає тотожність; при підстановці в многочлен дає 0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2" descr="C:\Users\Учень\Desktop\клас 8\Квадратні корені\Картинки\square-root-day.jpg"/>
          <p:cNvPicPr/>
          <p:nvPr/>
        </p:nvPicPr>
        <p:blipFill>
          <a:blip r:embed="rId1"/>
          <a:stretch/>
        </p:blipFill>
        <p:spPr>
          <a:xfrm>
            <a:off x="5651640" y="1341360"/>
            <a:ext cx="2838240" cy="2951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0003-003-Reshenie-uravnenij"/>
          <p:cNvPicPr/>
          <p:nvPr/>
        </p:nvPicPr>
        <p:blipFill>
          <a:blip r:embed="rId2"/>
          <a:srcRect l="0" t="0" r="58" b="128"/>
          <a:stretch/>
        </p:blipFill>
        <p:spPr>
          <a:xfrm>
            <a:off x="3924360" y="3860640"/>
            <a:ext cx="468000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5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5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35:04Z</dcterms:created>
  <dc:creator>Учень</dc:creator>
  <dc:description/>
  <dc:language>en-US</dc:language>
  <cp:lastModifiedBy>Admin</cp:lastModifiedBy>
  <dcterms:modified xsi:type="dcterms:W3CDTF">2014-08-04T16:47:38Z</dcterms:modified>
  <cp:revision>28</cp:revision>
  <dc:subject/>
  <dc:title>Значення слів радикал та корінь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4000000000001024140</vt:lpwstr>
  </property>
</Properties>
</file>