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5E8A-4AAF-402B-9DFB-440A8F39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C68E-D2E5-4EC4-AD28-748B9457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7E5B6-6218-4CFE-AE13-9C5DD393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18250-1163-40FB-9440-A8FD717D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3196CF-CC2C-4365-91A4-3845758A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E92DB8-ACE3-4D9B-9EBD-86F9FA3D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C02EB5-C6BE-409A-B77A-3E866B97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DABA5A-E1D9-4790-8A68-5332D74F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F3A5D6-1D68-4B17-BD76-976BC815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AE9BA5-2A27-4F69-B6CB-3B077194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5889EC-F3E8-492B-A24E-27F120F4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F5F2CD-2DBF-45D7-A01F-6951A1DA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29A6-BFCD-42FE-98FA-66D6F705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9BF81-74A0-4EAE-A4B8-558F41B6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0996EC-DD2F-42BF-8EB8-2F4974C0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85AAFC-F516-4CC2-80A9-B846940B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8121D7-2418-4D30-AB2B-CE2245AA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2E969B-567A-48FD-9057-19D1EBB0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26C888-AB09-4D2B-88E0-1DF5B273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1921BE-5302-4D82-8113-A63970FB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241C1C-4DF2-493E-8B76-EFC9AC34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E9997D-8347-40C0-9055-B4FB43F3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D13F1A-927E-4430-8D62-42BEE27C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704F-5F9E-41D3-8258-4DA0E9DE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732206-2278-4987-BD6F-937A45B9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8796A-E535-4375-8732-132B4F02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B027F-3DC6-44A7-BA70-90AD46BE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A5F72-47F7-41CF-BA8A-86CDA713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73D27-5A40-4F4F-9F46-57E3A389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82DED-B39E-4029-A224-DB471601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4A72A-DC6B-4627-B349-82186E5E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CE8D2-1C56-4506-AF22-8CE6FD88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9673E-571C-4D06-AF68-B0AB2655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86AC9-6F0D-485F-9532-66400351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8CFE-B83E-430D-AB00-FA1F0EC6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C5336-7C97-4F88-B53D-E94D366E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669A0-A58F-48D6-A4C1-EBFB7759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27F59-117B-4424-A5A8-9060E2C3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A64AAE-9A3D-461C-9063-255C0D4B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E35C5-383B-4BB1-BD61-CFDFF7CA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C2C6C2-3A11-4B95-A88F-0687EECE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4DC291-5FFE-415D-AC47-492004D6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8D40BF-8164-444F-B844-0D9E9E8E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D59E3C-022D-405C-A79A-BAFB6BA3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50E6D2-2EC9-4569-A022-38D5C8D1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95A1-B028-4F35-8F1B-8A15656C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0113AB-FCD0-4E04-8200-02B179A1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118AE6-5358-4DA5-94C5-57CFCB23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5A8F0C-B9D6-4642-A04E-C3A41EED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0C55D2-41AF-4F43-A148-A5854D01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087F39-0972-4D21-9484-05107D4D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C292-0DC4-4425-93F1-5653488D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E816-9569-4AE6-B866-6DC2A7A1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B9EE-CB6C-47CF-8A7A-E7AA86D5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B2B9-3E5E-4054-94F8-6A99732B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C035-F6D8-47D3-B6D1-CDE23373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713B-DE23-487F-909F-D9DA95F4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BE12-926F-4A45-B612-4C1F4B5A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6D7F-1DAC-4CB8-AF43-E2A97567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2852-AAB2-43E2-9E9E-9DFF911F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4919-CA23-459F-9F2E-849B1445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4858-EC79-4247-AE9B-2741219B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F6270-C78A-41C6-B780-1581A86B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F0976-C3BD-46C1-BD31-44ED05FD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3523E-AB71-4988-9490-6256C6D5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AF7DD-17B1-492F-BC92-15EBE102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AA0ED-AE0D-4D7B-9C07-AA0C9D5A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4DB7-7F26-4A0D-BDB3-44751230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452CA-782C-489B-B17E-41C4D0E2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C23D6-0DDB-430F-AF96-09C7EB95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9A6B2-7EA7-46DB-A59F-D415A84C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1CF31-994F-447F-A866-7E3E4CF6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B701A-6387-4A82-BB14-BABD3711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04F2F-FB9B-41C2-89A4-2354A6FC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295B2-A99A-4CC0-A692-3C684D08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4EFB9-DDDE-43AD-9A9C-50F23FE7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97EC2-DEC6-4ED3-A0FF-EF6A4024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3DE90-CBBD-44E9-A1A1-5617064E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4ADB-A252-4C10-A3DF-F9C991AE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E1CA5-EC45-43CC-B1BF-2BFF47EC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0F7A8-47F6-4998-B825-345E24C6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ED231-3118-43AC-8B54-FD4D99BC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F17ED-55F3-4074-8022-80CA6D1F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2456B-EBAE-470E-99B9-49DA7E26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4396F-936B-4A97-8C10-5484B34A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CCD9A-CF44-4F05-9A92-B9CC2E5D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1391B-14AE-4E8C-9B9B-C8D98374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F37CD-FD91-404F-AF87-3B281412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C5293-D7A0-4DC0-A63F-3FA5E5C0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1E71-BCB0-4BF3-BC97-DB814A94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4F300-D06F-4BD2-BEF1-67275090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F0ABD-A1C1-499E-A7F4-6010ED8D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32C0C-EC65-4605-94A0-D3CA8223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F46EB-D6CF-47C6-ADA9-81C937ED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9C4C0-0214-44F4-8126-3B318C56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579AC-4AE3-4386-A709-BC4C888B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CCD54-969B-4BE2-97F6-73D8AAE9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A4FB7-7F91-4360-BD66-0D086EEE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76112-C898-4DE8-9154-1DEC97F8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C3868-3876-4394-B14B-C9FCE912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F4F7-A39E-4E59-9164-98277B74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4572F-9186-475B-9409-68DB26B9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BE126-2133-4CD9-A778-AA7630C5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DADD3-28D9-4D44-8C5B-F0BFD264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877D1-48B6-4EBD-A970-BCD62AFE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DB563-FCD0-4839-91EE-C385DE00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D1F90-3270-4FBF-A575-86089B21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11D59-6EF9-4407-8058-DA681C00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206B4-B876-4C30-ACDB-5EDBC019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2F67A-1BD7-4481-B660-D7E36408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B9948-89BC-4AF4-8D5E-C590DBDF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6116-4656-496C-B367-BCB2E4A0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30AED-8499-4143-9F3B-674781EE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CBDA6-26FB-43F8-A886-DFF2B419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41008-6B67-4D97-BFC7-0F11AA86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90C27-BD37-458B-A6E6-CA81927A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88AD7-E678-4F51-9724-9F9CE7C6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3F526-ED4E-4411-8B38-AFD20B22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5D0F1-8CF0-41B8-BF21-AE150878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EBC5A-BAA0-4972-9C01-96944F15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E1CF2-BC22-42CD-B906-453367B3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5931F-B3F9-4BB4-8C84-F7676A29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6397-8FEA-4D90-A945-BDA69878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BD7FE-D629-45EE-871E-50806895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288E9-D7A5-407A-B72B-44898121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B36DB-BDA5-410A-8F83-1F24BB1E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86109-C559-4D25-8942-0F0B19A3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FC6C2-159E-49D8-9500-9E9D11ED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866F5-5ADE-4B58-BAAA-BEBF97FC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C0C81-CB3C-4674-A0C3-324C2B8B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291A6-A144-4D02-9ABB-36D5F8C2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1D101-D5A5-405B-9A6E-9713C561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B6E0F-52D7-40D4-94AA-ED0A1FBD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C62-2B9E-4290-B499-65097D03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AB734-3666-48C3-9C40-63EE5B26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7E83C-835C-4A60-A987-417DFF8D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FA018-DD6C-48D5-A436-0EE9E293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F2732-8FB0-44E0-8C68-8D6F3651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7527E-F697-44A0-BF7F-F90B4B71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1204C-DEBE-42C8-8F35-F3A58AD4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D62F0-393B-4FA9-B47C-499C9C30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05F79-E3D9-4758-A103-2EA09937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B07F0-2E03-4CFF-9BA5-58DCCB81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E3563-18C5-472E-940E-418D3A7B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кут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кут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кут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кут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кут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 сполучна ліні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53D2-7D41-45E3-BAAE-102821CBE5A6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 сполучна ліні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кут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кут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кут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кут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кут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кут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кут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ACAA-A424-4B0D-8742-E269D5BD26B1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кут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кут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кут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кут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кут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 сполучна ліні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9E7A-8FEB-4242-A15A-16901741049C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кут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кут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кут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кут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кут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кут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 сполучна ліні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E89B-4A04-4925-9586-47F033D7AF16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кут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кут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кут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кут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 сполучна ліні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кут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7524-891C-49F7-BB82-D89A038B2E08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кут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кут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кут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кут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кут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 сполучна ліні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CE7D-3984-4126-A648-3C831A544CC4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кут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кут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кут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кут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кут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кут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кут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кут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 сполучна ліні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1927-A397-49F5-9B91-40A0B229076F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кут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кут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кут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кут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кут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 сполучна ліні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 сполучна ліні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07FF-ED97-4E06-90DD-194B3BB2E8F2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 сполучна ліні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кут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кут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кут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кут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кут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кут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 сполучна ліні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кут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F6B0-21EC-4DD8-AD99-69FC599D8321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кут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кут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кут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кут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кут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 сполучна ліні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8A1F-000E-49B8-87BC-B2579F28CA88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кут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кут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кут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кут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кут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кут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5FA4-D7FA-4985-80BA-E881481A1AB5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кут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кут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кут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кут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кут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кут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кут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 сполучна ліні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кут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7017-E4A4-4777-B60F-795F23FBF90D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355640" y="4508640"/>
            <a:ext cx="431964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617b"/>
                </a:solidFill>
                <a:latin typeface="Georgia"/>
              </a:rPr>
              <a:t>ПРОЕКТ ПІДГОТУВАЛИ УЧЕНИЦІ 8 КЛАСУ КОСАРСЬКОЇ ЗОШ ПЕРЕПЕЛИЦЯ ВІКТОРІЯ ТА БОЙКО ОЛЬГ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f6fc6"/>
                </a:solidFill>
                <a:latin typeface="Georgia"/>
              </a:rPr>
              <a:t>Значення слів радикал та корінь</a:t>
            </a:r>
            <a:r>
              <a:rPr b="0" lang="en-US" sz="4200" spc="-1" strike="noStrike">
                <a:solidFill>
                  <a:srgbClr val="0f6fc6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08b7bf"/>
              </a:solidFill>
              <a:latin typeface="Georgia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600"/>
                            </p:stCondLst>
                            <p:childTnLst>
                              <p:par>
                                <p:cTn id="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У біології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1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Це прихована, заглиблена частина основи чого-небудь, наприклад органу живого організму (волосини, зуба і т. п.)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2" descr="http://www.oniko.ua/images/products_watermark/model/1416_j010bcopy.jpg"/>
          <p:cNvPicPr/>
          <p:nvPr/>
        </p:nvPicPr>
        <p:blipFill>
          <a:blip r:embed="rId1"/>
          <a:stretch/>
        </p:blipFill>
        <p:spPr>
          <a:xfrm>
            <a:off x="4643280" y="1214280"/>
            <a:ext cx="2943360" cy="28544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" descr="http://lib.mdpu.org.ua/e-book/anatomiya/ANATOM1.files/image515.jpg"/>
          <p:cNvPicPr/>
          <p:nvPr/>
        </p:nvPicPr>
        <p:blipFill>
          <a:blip r:embed="rId2"/>
          <a:stretch/>
        </p:blipFill>
        <p:spPr>
          <a:xfrm>
            <a:off x="6227640" y="3786120"/>
            <a:ext cx="267840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Висновок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680" y="1371600"/>
            <a:ext cx="419904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Ми дослідили значення слів радикал та корінь.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787640" y="4508640"/>
            <a:ext cx="405108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Дякуємо за увагу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0" name="Picture 2" descr="http://4.bp.blogspot.com/_3CS8bulT1OA/S2gXendP_-I/AAAAAAAAAGk/7cMQP6fCMd4/s320/610.gif"/>
          <p:cNvPicPr/>
          <p:nvPr/>
        </p:nvPicPr>
        <p:blipFill>
          <a:blip r:embed="rId1"/>
          <a:stretch/>
        </p:blipFill>
        <p:spPr>
          <a:xfrm>
            <a:off x="4788000" y="1557360"/>
            <a:ext cx="3960720" cy="28083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4" descr="http://i.ytimg.com/vi/2lMnP89qeMU/0.jpg"/>
          <p:cNvPicPr/>
          <p:nvPr/>
        </p:nvPicPr>
        <p:blipFill>
          <a:blip r:embed="rId2"/>
          <a:stretch/>
        </p:blipFill>
        <p:spPr>
          <a:xfrm>
            <a:off x="611280" y="3429000"/>
            <a:ext cx="3708360" cy="2637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План (радикал)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. Значення слова радикал в хімії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Значення слова радикал в математиці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. Значення слова радикал в суспільстві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4. Значення слова радикал у лінгвістиці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pull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11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У математиці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Радикал – це математичний знак для позначення дії добування кореня, а також результат цієї дії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1"/>
          <a:srcRect l="425" t="18646" r="36268" b="24315"/>
          <a:stretch/>
        </p:blipFill>
        <p:spPr>
          <a:xfrm>
            <a:off x="3949560" y="1643040"/>
            <a:ext cx="505944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У хімії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56760" y="1928520"/>
            <a:ext cx="40006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Радикал – це стійка група атомів у молекулі, яка у процесі хімічного перетворення переходить без зміни з однієї сполуки в інш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5" name="Picture 4" descr="C:\Users\Учень\Desktop\клас 8\Квадратні корені\На презентацію\12677.gif.jpg"/>
          <p:cNvPicPr/>
          <p:nvPr/>
        </p:nvPicPr>
        <p:blipFill>
          <a:blip r:embed="rId1"/>
          <a:stretch/>
        </p:blipFill>
        <p:spPr>
          <a:xfrm>
            <a:off x="4714920" y="3571920"/>
            <a:ext cx="3556080" cy="26668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C:\Users\Учень\Desktop\клас 8\Квадратні корені\На презентацію\1274799330.jpg"/>
          <p:cNvPicPr/>
          <p:nvPr/>
        </p:nvPicPr>
        <p:blipFill>
          <a:blip r:embed="rId2"/>
          <a:stretch/>
        </p:blipFill>
        <p:spPr>
          <a:xfrm>
            <a:off x="6000840" y="1500120"/>
            <a:ext cx="2539800" cy="1968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У суспільстві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680" y="1527120"/>
            <a:ext cx="4341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Радикал - прихильник радикалізму, тобто безкомпромісний виразник будь-яких поглядів, як правило - пов'язаних з глибокими перетвореннями в суспільному устрої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Радикал - член якої-небудь Радикальної партії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Picture 2" descr="http://blog.leonidv.com.ua/wp-content/uploads/CivilSociety.jpg"/>
          <p:cNvPicPr/>
          <p:nvPr/>
        </p:nvPicPr>
        <p:blipFill>
          <a:blip r:embed="rId1"/>
          <a:stretch/>
        </p:blipFill>
        <p:spPr>
          <a:xfrm>
            <a:off x="5003640" y="1628640"/>
            <a:ext cx="331344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08b7bf"/>
                </a:solidFill>
                <a:latin typeface="Georgia"/>
              </a:rPr>
              <a:t>У лінгвістиці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13840" y="1857240"/>
            <a:ext cx="43578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Радикал - те ж, що ієрогліфічний ключ (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ієрогліф, який є складовою частиною іншого ієрогліфа і який часто дозволяє пояснити його значення</a:t>
            </a: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Picture 4" descr="keys1_1"/>
          <p:cNvPicPr/>
          <p:nvPr/>
        </p:nvPicPr>
        <p:blipFill>
          <a:blip r:embed="rId1"/>
          <a:stretch/>
        </p:blipFill>
        <p:spPr>
          <a:xfrm>
            <a:off x="4643280" y="1413000"/>
            <a:ext cx="4348440" cy="4968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План (корінь)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Значення слова корінь у природі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Значення слова корінь в математиці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Значення слова корінь в біології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pull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У природі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-360" y="1642680"/>
            <a:ext cx="4143240" cy="31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1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Це розгалужена підземна частина рослини або гриба, орган, який забезпечує закріплення (укорінення) у ґрунті, підживлення водою та іншими 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4" descr="http://school.xvatit.com/images/0/01/%D0%9C%D0%B0%D0%BB._200._%D0%92%D0%B7%D0%B0%D1%94%D0%BC%D0%BE%D0%B2%D0%B8%D0%B3%D1%96%D0%B4%D0%BD%D0%B5_%D1%81%D0%BF%D1%96%D0%B2%D0%B6%D0%B8%D1%82%D1%82%D1%8F_%D1%80%D0%BE%D1%81%D0%BB%D0%B8%D0%BD_%D1%96_%D0%B3%D1%80%D0%B8%D0%B1%D1%96%D0%B2.jpg"/>
          <p:cNvPicPr/>
          <p:nvPr/>
        </p:nvPicPr>
        <p:blipFill>
          <a:blip r:embed="rId1"/>
          <a:stretch/>
        </p:blipFill>
        <p:spPr>
          <a:xfrm>
            <a:off x="4143240" y="1643040"/>
            <a:ext cx="4643640" cy="3021120"/>
          </a:xfrm>
          <a:prstGeom prst="rect">
            <a:avLst/>
          </a:prstGeom>
          <a:ln w="0">
            <a:noFill/>
          </a:ln>
        </p:spPr>
      </p:pic>
      <p:sp>
        <p:nvSpPr>
          <p:cNvPr id="628" name="Місце для вмісту 2"/>
          <p:cNvSpPr/>
          <p:nvPr/>
        </p:nvSpPr>
        <p:spPr>
          <a:xfrm>
            <a:off x="0" y="4714920"/>
            <a:ext cx="885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1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речовинами, а в окремих випадках і для вегетативного розмноження.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У математиці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539280" y="1483920"/>
            <a:ext cx="3683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вадратний корін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 числ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це таке число, квадрат якого дорівнює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інь рівняння 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це  число, яке при підстановці в рівняння дає тотожність; при підстановці в многочлен дає 0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Picture 2" descr="C:\Users\Учень\Desktop\клас 8\Квадратні корені\Картинки\square-root-day.jpg"/>
          <p:cNvPicPr/>
          <p:nvPr/>
        </p:nvPicPr>
        <p:blipFill>
          <a:blip r:embed="rId1"/>
          <a:stretch/>
        </p:blipFill>
        <p:spPr>
          <a:xfrm>
            <a:off x="5651640" y="1341360"/>
            <a:ext cx="2838240" cy="29512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" descr="0003-003-Reshenie-uravnenij"/>
          <p:cNvPicPr/>
          <p:nvPr/>
        </p:nvPicPr>
        <p:blipFill>
          <a:blip r:embed="rId2"/>
          <a:srcRect l="0" t="0" r="58" b="128"/>
          <a:stretch/>
        </p:blipFill>
        <p:spPr>
          <a:xfrm>
            <a:off x="3924360" y="3860640"/>
            <a:ext cx="4680000" cy="2378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50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50"/>
                            </p:stCondLst>
                            <p:childTnLst>
                              <p:par>
                                <p:cTn id="2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50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0:35:04Z</dcterms:created>
  <dc:creator>Учень</dc:creator>
  <dc:description/>
  <dc:language>en-US</dc:language>
  <cp:lastModifiedBy>Admin</cp:lastModifiedBy>
  <dcterms:modified xsi:type="dcterms:W3CDTF">2014-08-04T16:47:38Z</dcterms:modified>
  <cp:revision>28</cp:revision>
  <dc:subject/>
  <dc:title>Значення слів радикал та корінь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14000000000001024140</vt:lpwstr>
  </property>
</Properties>
</file>