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20.jpeg" ContentType="image/jpeg"/>
  <Override PartName="/ppt/media/image9.wmf" ContentType="image/x-wmf"/>
  <Override PartName="/ppt/media/image13.png" ContentType="image/png"/>
  <Override PartName="/ppt/media/image11.jpeg" ContentType="image/jpeg"/>
  <Override PartName="/ppt/media/image19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3.png" ContentType="image/png"/>
  <Override PartName="/ppt/media/image8.png" ContentType="image/png"/>
  <Override PartName="/ppt/media/image14.jpeg" ContentType="image/jpeg"/>
  <Override PartName="/ppt/media/image2.png" ContentType="image/png"/>
  <Override PartName="/ppt/media/image4.jpeg" ContentType="image/jpeg"/>
  <Override PartName="/ppt/media/image6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4D84-4291-4DFB-A86D-EA7FCA74E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2D3E-40FE-4FE1-896B-9994E7F9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B0EC2-5D2A-4D64-8F0E-92CDA99D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664100-491E-409A-AD6B-CC60791F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66DA8-C0B8-421E-A4AA-D30A2D22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C092C6-B8EE-45A6-BAB7-E1C1DE2A0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E06702-3FE6-454C-BEFC-6F2C77EA7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10489-DBF1-4E76-BF4F-D21BFFE1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ABB0B-5EDD-45D7-B50B-B071042C2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270E3C-7E7E-4E3F-8656-947EB5373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669CE2-247A-414C-996A-860720F1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9168-3247-434E-982B-3F08483E2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7833-4BAF-4D1B-B07F-CB58DAC6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CD38-2CFA-4F20-B73C-3C3138700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87569-A33F-4B67-9A1C-2BD5F01D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41077-9470-4D8E-9D1C-E36F37ACF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0F7D-CCC9-4027-96BF-42868A81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5B90B-2442-4283-AA8A-2325111F6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99D19-816F-41B2-94C2-63C4BDD37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31D5B-0B38-471F-8BE4-EEA04DDB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AFCA-5761-4446-9EA4-CBE47126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401B-6F36-49AE-87FD-3846D786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E1768-DEA0-443D-8977-E1E31E6F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7C8D-F755-479D-8946-3FBA64818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6F276-A591-498A-B0BA-E30BD271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C5580-7FF9-415B-9847-BA7BFEDB5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96AF8-30F8-45C3-B03A-25BDF0256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544C0-92B6-429C-849A-B6478731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508C6-1B6C-43B3-AFA2-7DAF0CD81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9A8D0-9373-4AE9-A443-E4102754C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3B85D-0364-45D0-B102-15C9F9188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A099-C304-44F5-8E2D-42244620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AF7D6-809F-4FC2-82AD-F7131C565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E2F2A-74F5-47D0-BAF8-564CA7A91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97801-26D1-41C4-B1F6-4C6A80CF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EE686-5B1D-4391-9DFE-38345FCB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1EC7A9-B4E4-48BB-BD6B-819AB7C12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2BD16-4817-448F-BC3C-1AEE15D46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3BE07-D8CA-42A8-A69E-E8F48EC3D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7DA6CD-6C35-4AC6-BFEF-146308754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C44FD-0847-4F8D-8BCA-0DE5E56A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109FC-78CC-4DDD-A355-4B4D821A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E257-606C-4EDE-8ADB-8E490D895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182B2-933C-4BE2-A8A2-1989FD3AF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62D41-1182-44B2-A7E7-3825767FC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4B82A-F5AC-45DD-9DED-AD618795C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8B5A0-9D82-4362-BB2A-AC330042C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EE34B-476A-4716-8E97-2F849A1B5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8C54A-ED5D-436E-8D2C-F12317DF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8FB3A0-E47D-4B32-BD59-C8DC7D96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D0682-4AF5-46BE-9F70-BB222EA16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6C1B4-476C-4C5D-BF17-3EF379A68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656D9-85CD-4E0C-857C-7770D54C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BC4F-A2FB-4611-A688-1C54D47E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56C8B-323B-4AE8-9F9F-C2800CF1D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D3020-62E1-47B1-8E5C-B92395BA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47816-7AF2-495B-B24F-015F6ED56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B8F617-DAA0-4EAF-AADA-D5166875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024CB5-C9C6-4A21-A2D5-7444C269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084954-DA64-4B16-8BFC-225ABD91F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72F86C-79CE-4F2A-88DD-F3E63AB66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945F2-94C5-44AB-964A-5E3DEDF9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50061-778D-46E9-A6C8-B069F88A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021EA-45C1-46E1-A0FC-630C11853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9DAE-C432-4BD4-9224-547E555B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8BDCD-9BB9-4E01-A790-9FEC1F0B9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EA6DDB-8757-435D-99DE-C42E98C63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27876-25D4-4898-BA3E-002381AA9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DA49C-5AB0-4453-9F18-09818B16F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E3B6D-28CE-4A54-A4E9-1844B75D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D9B08-C5E8-4DA0-A064-AA8A5337F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0A597-E195-4005-B9B8-FA051330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3788E-6489-4044-8D9B-D4ADC292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1D265-3B1C-4648-9B56-AE2FA009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FED61-9D4D-4177-8BF9-F1A8D40AE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C1E8-6F49-4C31-8746-F0591DD0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AB6164-4415-4790-9CED-7599D550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A232C-31F9-4F64-82C1-ED582923C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C4692E-9512-46BC-A5A2-210397F7F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5ADF7-9D41-45FA-BA43-3B34E6C9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2483E1-2CE7-42A5-844B-98CDC0791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52964A-351C-4E31-8A52-5438B087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255DA-C556-42B0-920D-CDEE949C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38182-02CE-4FC3-8A69-75D4D9CC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86E999-8FEE-49C1-8AD9-30932543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1BDCFA-F77E-4B8C-A3A3-FE21A070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100F-9C98-4206-8501-DFDD173A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B4A5C-32BF-45D8-8A3C-4D9F230D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28FC4-C7C3-45EC-9637-C4D2EE22A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798FD-74A2-45FD-A01C-6A6D6CB8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955A1-33ED-4D87-B564-29AAE4F59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06DCB-A5C3-48FE-BCA1-4E1E6DFCF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063E8-8F27-4551-98B0-8CACFDA6A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9A5F9A-74D5-411E-B7F8-0B65CE7AA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27B86-F80D-4512-8C16-2FB4B153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7B4A9-BDF0-404A-B623-8383BFC3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F1785-FF9F-43AF-93B3-C40651DD5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5BE3-EB5E-4032-979B-9AD91AF2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E581E-E7ED-46C2-9808-08F3B04C8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71A245-63F0-44C5-BAFD-C9465D70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FB7A7A-0243-4A03-B7C8-F6D4251F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277B64-6722-4E38-9820-3C0433224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A1D3ED-AEAF-4358-8ABE-D7EF57E8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2AACCE-3D61-4D8E-A8DB-58B35F219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9EC171-2FDB-4AB1-AA8B-B7EE11552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48E3F-C150-44FE-97DB-8A25A4752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3D60C-E3C8-444B-A5B4-4DFA20AD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1B452-785C-4414-A093-80C587FC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 сполучна ліні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A49F-1E43-4583-8595-1B759A6A4FD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 сполучна ліні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 сполучна ліні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 сполучна ліні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3ED9-C812-4BCA-B6F8-787FDF8C874C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 сполучна ліні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 сполучна ліні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 сполучна ліні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 сполучна ліні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 сполучна ліні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 сполучна ліні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59E0-7CD6-4E37-B24D-DD007B69D71D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 сполучна ліні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9A23-F085-44D2-A2E9-5F1077449FE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 сполучна ліні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35FF-F020-4C28-95C6-E8A5A1817668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965F5-1309-4110-96ED-107C6E48E94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 сполучна ліні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 сполучна ліні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BE99A-2BAA-4995-919A-BD0BC3AC9BE7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86690-12F5-432F-917B-15AD76700CF5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9815-D661-43AF-887A-94C493894C41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7.wmf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7.wmf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Rectangle 2" descr=""/>
          <p:cNvPicPr/>
          <p:nvPr/>
        </p:nvPicPr>
        <p:blipFill>
          <a:blip r:embed="rId2"/>
          <a:stretch/>
        </p:blipFill>
        <p:spPr>
          <a:xfrm>
            <a:off x="152280" y="4005360"/>
            <a:ext cx="8972640" cy="18777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190760" y="5638680"/>
            <a:ext cx="47242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uk-UA" sz="2000" spc="-1" strike="noStrike">
                <a:solidFill>
                  <a:srgbClr val="443329"/>
                </a:solidFill>
                <a:latin typeface="Franklin Gothic Demi"/>
              </a:rPr>
              <a:t>Дослідження учнів 8 класу</a:t>
            </a:r>
            <a:r>
              <a:rPr b="0" lang="en-US" sz="2000" spc="-1" strike="noStrike">
                <a:solidFill>
                  <a:srgbClr val="443329"/>
                </a:solidFill>
                <a:latin typeface="Franklin Gothic Demi"/>
              </a:rPr>
              <a:t>:</a:t>
            </a:r>
            <a:r>
              <a:rPr b="0" lang="uk-UA" sz="2000" spc="-1" strike="noStrike">
                <a:solidFill>
                  <a:srgbClr val="443329"/>
                </a:solidFill>
                <a:latin typeface="Franklin Gothic Demi"/>
              </a:rPr>
              <a:t>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43329"/>
                </a:solidFill>
                <a:latin typeface="Franklin Gothic Demi"/>
              </a:rPr>
              <a:t>Скічко І., Ткаченко В., Масич І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Rectangle 3"/>
          <p:cNvSpPr/>
          <p:nvPr/>
        </p:nvSpPr>
        <p:spPr>
          <a:xfrm>
            <a:off x="228600" y="533520"/>
            <a:ext cx="8458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443329"/>
                </a:solidFill>
                <a:latin typeface="Franklin Gothic Book"/>
              </a:rPr>
              <a:t> </a:t>
            </a:r>
            <a:r>
              <a:rPr b="0" lang="uk-UA" sz="2000" spc="-1" strike="noStrike">
                <a:solidFill>
                  <a:srgbClr val="443329"/>
                </a:solidFill>
                <a:latin typeface="Arial"/>
              </a:rPr>
              <a:t>Косарська загальноосвітня школа І-ІІІ ступені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Заголовок 1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474040" cy="115272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Виникнення знака корен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Чому корінь називають радикалом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Еволюція знака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Перше використання знака кореня в математичній літературі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Видозміна знака кореня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Знак кореня від Рене Декарта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04" name="Object 7" descr=""/>
          <p:cNvPicPr/>
          <p:nvPr/>
        </p:nvPicPr>
        <p:blipFill>
          <a:blip r:embed="rId3"/>
          <a:stretch/>
        </p:blipFill>
        <p:spPr>
          <a:xfrm>
            <a:off x="3505320" y="2666880"/>
            <a:ext cx="838080" cy="6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Еволюція знака радикала продовжувалась більше 500 років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Починаючи з ХІІІ ст. італійські та інші європейські математики позначали корінь латинським словом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adix 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(корінь) або скорочено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, потім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P</a:t>
            </a:r>
            <a:r>
              <a:rPr b="0" lang="en-US" sz="3200" spc="-1" strike="noStrike" baseline="-25000">
                <a:solidFill>
                  <a:srgbClr val="4e3b30"/>
                </a:solidFill>
                <a:latin typeface="Franklin Gothic Book"/>
              </a:rPr>
              <a:t>x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В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XV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 ст. Н.Шюке писав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</a:t>
            </a:r>
            <a:r>
              <a:rPr b="0" lang="uk-UA" sz="3200" spc="-1" strike="noStrike" baseline="30000">
                <a:solidFill>
                  <a:srgbClr val="4e3b30"/>
                </a:solidFill>
                <a:latin typeface="Franklin Gothic Book"/>
              </a:rPr>
              <a:t>2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12 замість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Object 4" descr=""/>
          <p:cNvPicPr/>
          <p:nvPr/>
        </p:nvPicPr>
        <p:blipFill>
          <a:blip r:embed="rId3"/>
          <a:stretch/>
        </p:blipFill>
        <p:spPr>
          <a:xfrm>
            <a:off x="7162920" y="4572000"/>
            <a:ext cx="83808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Заголовок 1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90043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304560" y="1599840"/>
            <a:ext cx="41907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4e3b30"/>
                </a:solidFill>
                <a:latin typeface="Franklin Gothic Book"/>
              </a:rPr>
              <a:t>У Стародавній Індії невідоме іменувалося «мула», що означає «початок», «основа», «корінь (дерева)». Араби для цих цілей використовували слово «джізр» з тим же значенням. Європейці переклали його на латину як radix - «корінь». Так виник математичний термін «радикал».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17280">
              <a:lnSpc>
                <a:spcPct val="8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11" name="Picture 2" descr="\\Vchitel\вчителі2\Скічко Т.М\Для учнів\8 клас\Алгебра\На презентацію\Застосування кореня\156.jpg"/>
          <p:cNvPicPr/>
          <p:nvPr/>
        </p:nvPicPr>
        <p:blipFill>
          <a:blip r:embed="rId3"/>
          <a:stretch/>
        </p:blipFill>
        <p:spPr>
          <a:xfrm>
            <a:off x="5006880" y="1600200"/>
            <a:ext cx="3625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Rectangle 2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699400" cy="85428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228240" y="1554120"/>
            <a:ext cx="518148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16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4e3b30"/>
                </a:solidFill>
                <a:latin typeface="Franklin Gothic Book"/>
              </a:rPr>
              <a:t>Деякі математики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XV</a:t>
            </a:r>
            <a:r>
              <a:rPr b="0" lang="uk-UA" sz="3000" spc="-1" strike="noStrike">
                <a:solidFill>
                  <a:srgbClr val="4e3b30"/>
                </a:solidFill>
                <a:latin typeface="Franklin Gothic Book"/>
              </a:rPr>
              <a:t> ст. позначали квадратний корінь точкою перед числом чи виразом; корені вищих степенів – декількома точками. Ті точки, що ставились перед підкореневим виразом, перейшли в скоропису в рисочки, і, можливо, з них і виник знак кореня </a:t>
            </a:r>
            <a:r>
              <a:rPr b="0" lang="en-US" sz="30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uk-UA" sz="3000" spc="-1" strike="noStrike">
                <a:solidFill>
                  <a:srgbClr val="4e3b30"/>
                </a:solidFill>
                <a:latin typeface="Franklin Gothic Book"/>
              </a:rPr>
              <a:t> (без верхньої риски сучасного знака       ).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Object 4" descr=""/>
          <p:cNvPicPr/>
          <p:nvPr/>
        </p:nvPicPr>
        <p:blipFill>
          <a:blip r:embed="rId3"/>
          <a:stretch/>
        </p:blipFill>
        <p:spPr>
          <a:xfrm>
            <a:off x="1676520" y="5943600"/>
            <a:ext cx="609480" cy="457200"/>
          </a:xfrm>
          <a:prstGeom prst="rect">
            <a:avLst/>
          </a:prstGeom>
          <a:ln w="0">
            <a:noFill/>
          </a:ln>
        </p:spPr>
      </p:pic>
      <p:sp>
        <p:nvSpPr>
          <p:cNvPr id="416" name="Полілінія 7"/>
          <p:cNvSpPr/>
          <p:nvPr/>
        </p:nvSpPr>
        <p:spPr>
          <a:xfrm>
            <a:off x="5791320" y="1905120"/>
            <a:ext cx="2670120" cy="3776400"/>
          </a:xfrm>
          <a:prstGeom prst="pie">
            <a:avLst/>
          </a:prstGeom>
          <a:noFill/>
          <a:ln w="8892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Прямокутник 8"/>
          <p:cNvSpPr/>
          <p:nvPr/>
        </p:nvSpPr>
        <p:spPr>
          <a:xfrm>
            <a:off x="914400" y="533520"/>
            <a:ext cx="47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Еволюція зна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Object 8" descr=""/>
          <p:cNvPicPr/>
          <p:nvPr/>
        </p:nvPicPr>
        <p:blipFill>
          <a:blip r:embed="rId4"/>
          <a:stretch/>
        </p:blipFill>
        <p:spPr>
          <a:xfrm>
            <a:off x="4038480" y="438120"/>
            <a:ext cx="83844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2"/>
          <a:stretch/>
        </p:blipFill>
        <p:spPr>
          <a:xfrm>
            <a:off x="133200" y="-36360"/>
            <a:ext cx="8864640" cy="148716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228600" y="1523880"/>
            <a:ext cx="4648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7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Цей знак вперше зустрічається в німецькій книзі з алгебри, виданій в 1525 р. в Страсбурзі. Автором цієї книги був уродженець Чехії, вчитель математики з Відня, Криштоф Рудольф. Знаком кореня користувались в Х</a:t>
            </a:r>
            <a:r>
              <a:rPr b="0" lang="en-US" sz="28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uk-UA" sz="2800" spc="-1" strike="noStrike">
                <a:solidFill>
                  <a:srgbClr val="4e3b30"/>
                </a:solidFill>
                <a:latin typeface="Franklin Gothic Book"/>
              </a:rPr>
              <a:t>І ст. М.Штифель, С.Стевін та ін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1" name="Picture 2" descr="C:\Users\Учень\Pictures\текст.jpg"/>
          <p:cNvPicPr/>
          <p:nvPr/>
        </p:nvPicPr>
        <p:blipFill>
          <a:blip r:embed="rId3"/>
          <a:srcRect l="0" t="0" r="9" b="-67"/>
          <a:stretch/>
        </p:blipFill>
        <p:spPr>
          <a:xfrm>
            <a:off x="4952880" y="1359000"/>
            <a:ext cx="391968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Rectangle 2" descr=""/>
          <p:cNvPicPr/>
          <p:nvPr/>
        </p:nvPicPr>
        <p:blipFill>
          <a:blip r:embed="rId2"/>
          <a:stretch/>
        </p:blipFill>
        <p:spPr>
          <a:xfrm>
            <a:off x="298440" y="450720"/>
            <a:ext cx="8547120" cy="115272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304920" y="1371240"/>
            <a:ext cx="5486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16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В 1626 р. нідерландський математик А.Жирар, поєднуючи  знак Рудольфа з показниками Шюке, ввів близьке до сучасного позначення            .. Це позначення стало витісняти знак 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R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. Але довгий час писали, наприклад              ,  (замість сучасного          )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24" name="Picture 6" descr=""/>
          <p:cNvPicPr/>
          <p:nvPr/>
        </p:nvPicPr>
        <p:blipFill>
          <a:blip r:embed="rId3"/>
          <a:srcRect l="0" t="0" r="82377" b="46286"/>
          <a:stretch/>
        </p:blipFill>
        <p:spPr>
          <a:xfrm>
            <a:off x="2819520" y="3886200"/>
            <a:ext cx="1143000" cy="4381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7" descr=""/>
          <p:cNvPicPr/>
          <p:nvPr/>
        </p:nvPicPr>
        <p:blipFill>
          <a:blip r:embed="rId4"/>
          <a:srcRect l="76151" t="46462" r="-44" b="-44"/>
          <a:stretch/>
        </p:blipFill>
        <p:spPr>
          <a:xfrm>
            <a:off x="4114800" y="5410080"/>
            <a:ext cx="1295280" cy="444600"/>
          </a:xfrm>
          <a:prstGeom prst="rect">
            <a:avLst/>
          </a:prstGeom>
          <a:ln w="0">
            <a:noFill/>
          </a:ln>
        </p:spPr>
      </p:pic>
      <p:sp>
        <p:nvSpPr>
          <p:cNvPr id="426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Object 8" descr=""/>
          <p:cNvPicPr/>
          <p:nvPr/>
        </p:nvPicPr>
        <p:blipFill>
          <a:blip r:embed="rId5"/>
          <a:stretch/>
        </p:blipFill>
        <p:spPr>
          <a:xfrm>
            <a:off x="4038480" y="5867280"/>
            <a:ext cx="914400" cy="4572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\\Vchitel\вчителі2\Скічко Т.М\Для учнів\8 клас\Квадратні корені\Картинки\square-root-day.jpg"/>
          <p:cNvPicPr/>
          <p:nvPr/>
        </p:nvPicPr>
        <p:blipFill>
          <a:blip r:embed="rId6"/>
          <a:stretch/>
        </p:blipFill>
        <p:spPr>
          <a:xfrm>
            <a:off x="5846760" y="2266920"/>
            <a:ext cx="292572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Rectangle 2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0" y="1523880"/>
            <a:ext cx="5029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15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Тільки в 1637 р. Рене Декарт з’єднав знак кореня з горизонтальною рискою, застосувавши в своїй «Геометрії» сучасний знак кореня      Цей знак став загальновживаним лише на початку  Х</a:t>
            </a: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V</a:t>
            </a: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ІІІ ст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Object 4" descr=""/>
          <p:cNvPicPr/>
          <p:nvPr/>
        </p:nvPicPr>
        <p:blipFill>
          <a:blip r:embed="rId3"/>
          <a:stretch/>
        </p:blipFill>
        <p:spPr>
          <a:xfrm>
            <a:off x="4375080" y="4087800"/>
            <a:ext cx="466920" cy="38088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2" descr="\\Vchitel\вчителі2\Скічко Т.М\Для учнів\8 клас\Алгебра\На презентацію\Походження кореня\250px-Frans_Hals_-_Portret_van_René_Descartes.jpg"/>
          <p:cNvPicPr/>
          <p:nvPr/>
        </p:nvPicPr>
        <p:blipFill>
          <a:blip r:embed="rId4"/>
          <a:stretch/>
        </p:blipFill>
        <p:spPr>
          <a:xfrm>
            <a:off x="5334120" y="1752480"/>
            <a:ext cx="3174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4e3b30"/>
                </a:solidFill>
                <a:latin typeface="Franklin Gothic Book"/>
              </a:rPr>
              <a:t>Г.І.Глейзер Історія математики в школі. «Просвещение». М.1964 р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c4b3b"/>
                </a:solidFill>
                <a:latin typeface="Franklin Gothic Book"/>
              </a:rPr>
              <a:t>http://shkolnik.in.ua/index.php?option=com_c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c4b3b"/>
                </a:solidFill>
                <a:latin typeface="Franklin Gothic Book"/>
              </a:rPr>
              <a:t>ntent&amp;view=category&amp;layout=blog&amp;id=9&amp;Itemid=26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7c4b3b"/>
                </a:solidFill>
                <a:latin typeface="Franklin Gothic Book"/>
              </a:rPr>
              <a:t>http://ru.wikipedia.org/wiki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5" name="Прямокутник 8"/>
          <p:cNvSpPr/>
          <p:nvPr/>
        </p:nvSpPr>
        <p:spPr>
          <a:xfrm>
            <a:off x="914400" y="533520"/>
            <a:ext cx="476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Використані джерела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08-04T16:46:58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c18000000000001024140</vt:lpwstr>
  </property>
  <property fmtid="{D5CDD505-2E9C-101B-9397-08002B2CF9AE}" pid="3" name="Version">
    <vt:r8>1</vt:r8>
  </property>
</Properties>
</file>