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5DE-5749-4930-B4E8-F1E833E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CE8-3BA3-447F-A28D-BE194F02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55CB2-CFBB-4AB5-93E7-022B874A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A39E4-8676-4C2C-BC5B-D33458C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F3E08-B5A1-4685-B19D-AF037FE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18FEA-EC01-4B47-9B2A-38AEE49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80F10-6076-43E9-97C7-302631DD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22535-B04C-4263-A162-190DD8E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8ED59-8C89-4F43-BF50-3FBB9364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428CB-0A72-4E66-B179-3D51D258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640BA-07E2-4924-A274-4D6D101E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F1DB0-58C7-4C30-8687-67F3A53F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D75-D8D3-4CBC-963A-F8EE968F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27207-54A8-4C83-A3CF-89F291AA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6A556-53D5-4D2A-927C-F63B8C2F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11BE6-201D-40BE-8279-9AECAFEC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9E8CF-0394-4131-BBEA-10B9AB4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06C04-E36F-48A4-9993-5BF6BC8F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27765-3E2E-4C58-9EB1-1F3C134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1423D-275F-4AB4-BEEA-7C8E1DB9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96AD6-4BC3-4CEC-8EB5-D16D9D1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DA4E3-30CF-413D-B46D-4C7E49E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0B018-BF4E-4C2F-8360-478E4C15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667-6760-49FD-ABCD-E701A011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B89AE-2930-48D6-8047-22F16C01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76F42-3357-400E-93E4-3B529BAF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92024-F5A2-4A29-B448-7FDEBB7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07873-5D91-4732-BE5B-923B460A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DAD07-0942-4D55-9FDB-67DA5885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3F0DF-4644-441A-BB43-AF2AC9D1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0C2C4-C7AE-44F8-805E-A80F47D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5A4D3-79D9-42CE-B57D-FFA797D0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4373A-6489-4227-B600-2CA15FF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43C6F-B11F-4CF9-909D-84B15515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3817-984D-4741-8F85-D431B051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E496-82E1-4542-A11D-E4B5EEE8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F3601-5A59-4E40-880A-755A5FBA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72393-5719-4FCC-89DF-46D8AA40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92DD8-8E6D-4622-B973-01CCA709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E2760-02A8-4D71-A399-E930FF2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9FA03-E114-4AE1-8530-338BC178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12996-DCF0-49C8-9904-BCF0801A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4356F-B7C0-4297-9BD3-FAC4D1FC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63C26-8167-4922-9390-09E33EBE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7E73E-24E8-4500-9EAF-D3D8A12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7CC1-D183-424D-B970-A7AF3C5D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58900-5553-469E-94DF-F7F126D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19073-650A-44E0-9074-EEB3044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2564F-94E2-449E-9C67-0AD71F84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57ACF-BBD6-4C29-982B-CEB43461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96C71-F302-4F58-ABCD-295A7175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8E56-2AFD-4207-BD09-B57B2F9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2AE-E2C8-4AB8-9621-0153BA1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30EB-04AF-4F6F-9566-5354CB2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0D01-B151-4D3F-8275-88462C12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1B1D-7821-47B0-A5CC-953B106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830-D877-4F65-AA1B-9AA5139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A05B-B57B-4B4F-B8ED-1033FBF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BDC-4DB9-45D4-A073-6884A76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9911-DA2E-4805-9845-078A6874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7F72-A305-4D0E-97A5-F8425A46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D116-BEDE-46E9-A572-2EEDC45C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64EA-D1E1-4F84-B00D-823312D7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92D6-5298-46CB-99ED-46F6073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4A2E-4997-4EA8-BDA8-C3523FF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E761-92F0-4219-9B02-7FD99647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5E66-618E-4D06-B7F5-1D255D73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5E2-3401-47F7-9A57-0ECFDE0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306B-38EB-4E96-8C8B-310C91F4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1184-8FCC-4D36-975A-ED5C4DB2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2F59-00C3-439C-BCFA-D7511C2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319C-F719-4BD0-B537-3D88240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5AFF-DF87-4DB0-A715-BAFD5A5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6EEA-B4BD-4EF1-A360-0F79488D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F65D-F868-42BC-B901-EEB9BDBF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556E-848E-4FB0-9E66-4EB238E6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E02E-EFDC-4511-B329-29EEF780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E63F-A4DB-43DD-86F1-37FA5645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415-82BC-4C3C-8B08-A9910D1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CCA0-B4BA-4686-8E86-9A597745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5A6A-BF3F-43BE-9DE5-4BEC2379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0707-B02C-4EE3-ADC1-C4F2019A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E1CE-A8A3-4043-B392-C02BE07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C999-23C0-42AD-B538-7DD4D82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1C6C-8253-455A-92CF-E0C6B761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069F-A1BC-4087-BE52-5B104D97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BD98-2D97-4C2B-8809-F3853E1C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AC05-2A2D-4BC3-B66F-EC2A7F22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40E6-61CC-4397-8F4A-ACE6D064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B98-3007-4548-B43D-CC0A430B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B75D-48C7-4362-8F70-EA394CCB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4C95-0E61-4E6D-B120-59AF21C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A4E3-10D0-4540-9D1D-819BCD2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7825-0323-4810-8A43-97B4CB33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E56D-5CCE-4682-B004-1A7BE829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5E54-1818-4131-A1B5-3678CC41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5F9C-DF35-4C06-A3DE-81A62C5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1A0E-C7D9-458E-AB2B-DC40FD0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2F3C0-493E-4A02-9F15-EBBFDE26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8C7C-2500-424C-BFCA-F19FE27F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314-C2F8-4C5B-8D28-9FBC029B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B843-A2B8-4253-B2DD-A20E4B14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29322-6FCB-4662-8C6B-14697064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088CF-5E86-460D-990C-0DBE930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D6F5-34A0-4ECA-A842-74FD057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7DB0-0108-4D8A-8C1E-76DAFE1E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AAC66-454E-41A3-AE18-D81487A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9F38-8836-4BC5-A00B-1CCA457C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51E0-C700-46C2-B1D2-FFE4AEC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38F6-07AE-470C-9095-151087B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A0E1F-8661-44EF-8209-0B9F2323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651-9486-4A6D-A863-0EC2778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8B42-EEFA-43B7-B373-8329D11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0E12F-339C-465A-A703-8291F814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F47D-5688-4311-91F9-7446F196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EA59F-B6A3-43B3-9981-CFB1140B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9A44-9450-4308-A85C-5453D4F7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7D29-DE47-484A-AE15-1CC5B9C3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C686-9D02-468D-AE3F-E1BC3451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04241-CF1B-4892-BA8A-46B27D0D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AEC5-C9E6-45B5-A4B1-FCDA2570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308C-7DC7-418A-94A0-C151457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E7E-1661-43FB-92C0-98207D3E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2402F-C967-41E9-AA91-C792FB83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82A82-1547-46C3-86C0-2B5720A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12C9F-FB35-45C9-8D9D-76F1B73D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323D-21F2-437D-A14B-16027EE3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F1DE5-34A2-4CC4-AFA4-EC9DAD5D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F2F6-B5E0-4FC6-BA80-C9A9BEFD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622C3-EB7D-4C95-83F1-42096B07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2E6F-EE73-4ED4-964E-EA8A6345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794B-184D-4BA4-8AA3-64610156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C8A4B-01B2-4E94-8274-D29B0C9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880-1825-4AD9-97B1-A54DD48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9962-9E9D-4B86-B0E7-F1F0691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6651D-64EB-4D55-9974-B8A2984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F82F-2193-45E7-A0D0-EF55333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1B4C0-A45D-4616-A3B2-004209B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332EC-A7CE-4715-B6FD-FBCA7A5E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F0825-487C-4325-9320-53E70030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521F0-9389-4600-B734-8678FCF5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7FA94-0E9A-483A-A215-F82D3DCB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8C7C9-4A4C-4EDD-83FE-A0333479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51CD5-9AE2-4F09-B959-B4674BAF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2449-FF35-4777-B8A8-74D7E4F754E8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 сполучна ліні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кут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кут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кут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кут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кут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кут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6F8-2C63-4BD6-95B8-446F835FC6B6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0B94-73AD-48B5-9B8D-B145198DC9CB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кут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кут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кут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кут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кут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 сполучна ліні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79B-DEBD-4F1D-B1D8-1AA0FD0B312A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кут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кут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кут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 сполучна ліні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кут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EBF-B49B-461A-932B-89B217287F77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B320-1DFE-468D-894F-06495F8B3810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кут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кут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кут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 сполучна ліні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D414-D50D-4477-AFAC-37EA1252B23E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 сполучна ліні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8A7A-A2CC-49B4-851E-2570DF7B9CDE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 сполучна ліні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кут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кут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кут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кут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кут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 сполучна ліні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кут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AF72-C1A3-4B85-BDED-EDC9B6AD5349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C56E-6044-4B97-84BA-FE28A793B289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кут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кут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кут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кут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кут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C350-3259-4556-8333-B6A38A2F6C9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кут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кут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кут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кут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кут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 сполучна ліні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кут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37E4-9B81-4B13-99A4-D7C39ED8E46C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355640" y="4508640"/>
            <a:ext cx="431964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Georgia"/>
              </a:rPr>
              <a:t>ПРОЕКТ ПІДГОТУВАЛИ УЧЕНИЦІ 8 КЛАСУ КОСАРСЬКОЇ ЗОШ ПЕРЕПЕЛИЦЯ ВІКТОРІЯ ТА БОЙКО ОЛЬГ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f6fc6"/>
                </a:solidFill>
                <a:latin typeface="Georgia"/>
              </a:rPr>
              <a:t>Значення слів радикал та корінь</a:t>
            </a:r>
            <a:r>
              <a:rPr b="0" lang="en-US" sz="4200" spc="-1" strike="noStrike">
                <a:solidFill>
                  <a:srgbClr val="0f6fc6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біолог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1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Це прихована, заглиблена частина основи чого-небудь, наприклад органу живого організму (волосини, зуба і т. п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http://www.oniko.ua/images/products_watermark/model/1416_j010bcopy.jpg"/>
          <p:cNvPicPr/>
          <p:nvPr/>
        </p:nvPicPr>
        <p:blipFill>
          <a:blip r:embed="rId1"/>
          <a:stretch/>
        </p:blipFill>
        <p:spPr>
          <a:xfrm>
            <a:off x="4643280" y="1214280"/>
            <a:ext cx="2943360" cy="2854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http://lib.mdpu.org.ua/e-book/anatomiya/ANATOM1.files/image515.jpg"/>
          <p:cNvPicPr/>
          <p:nvPr/>
        </p:nvPicPr>
        <p:blipFill>
          <a:blip r:embed="rId2"/>
          <a:stretch/>
        </p:blipFill>
        <p:spPr>
          <a:xfrm>
            <a:off x="6227640" y="3786120"/>
            <a:ext cx="267840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Висновок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680" y="1371600"/>
            <a:ext cx="419904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и дослідили значення слів радикал та корінь.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87640" y="4508640"/>
            <a:ext cx="4051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якуємо за увагу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http://4.bp.blogspot.com/_3CS8bulT1OA/S2gXendP_-I/AAAAAAAAAGk/7cMQP6fCMd4/s320/610.gif"/>
          <p:cNvPicPr/>
          <p:nvPr/>
        </p:nvPicPr>
        <p:blipFill>
          <a:blip r:embed="rId1"/>
          <a:stretch/>
        </p:blipFill>
        <p:spPr>
          <a:xfrm>
            <a:off x="4788000" y="155736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http://i.ytimg.com/vi/2lMnP89qeMU/0.jpg"/>
          <p:cNvPicPr/>
          <p:nvPr/>
        </p:nvPicPr>
        <p:blipFill>
          <a:blip r:embed="rId2"/>
          <a:stretch/>
        </p:blipFill>
        <p:spPr>
          <a:xfrm>
            <a:off x="611280" y="3429000"/>
            <a:ext cx="37083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План (радикал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Значення слова радикал в хім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Значення слова радикал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Значення слова радикал в суспільств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. Значення слова радикал у лінгвіс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математичний знак для позначення дії добування кореня, а також результат цієї д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rcRect l="425" t="18646" r="36268" b="24315"/>
          <a:stretch/>
        </p:blipFill>
        <p:spPr>
          <a:xfrm>
            <a:off x="3949560" y="1643040"/>
            <a:ext cx="50594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хім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6760" y="1928520"/>
            <a:ext cx="40006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стійка група атомів у молекулі, яка у процесі хімічного перетворення переходить без зміни з однієї сполуки в інш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4" descr="C:\Users\Учень\Desktop\клас 8\Квадратні корені\На презентацію\12677.gif.jpg"/>
          <p:cNvPicPr/>
          <p:nvPr/>
        </p:nvPicPr>
        <p:blipFill>
          <a:blip r:embed="rId1"/>
          <a:stretch/>
        </p:blipFill>
        <p:spPr>
          <a:xfrm>
            <a:off x="4714920" y="357192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Users\Учень\Desktop\клас 8\Квадратні корені\На презентацію\1274799330.jpg"/>
          <p:cNvPicPr/>
          <p:nvPr/>
        </p:nvPicPr>
        <p:blipFill>
          <a:blip r:embed="rId2"/>
          <a:stretch/>
        </p:blipFill>
        <p:spPr>
          <a:xfrm>
            <a:off x="6000840" y="1500120"/>
            <a:ext cx="253980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суспільств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527120"/>
            <a:ext cx="434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прихильник радикалізму, тобто безкомпромісний виразник будь-яких поглядів, як правило - пов'язаних з глибокими перетвореннями в суспільному устрої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член якої-небудь Радикальної партії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http://blog.leonidv.com.ua/wp-content/uploads/CivilSociety.jpg"/>
          <p:cNvPicPr/>
          <p:nvPr/>
        </p:nvPicPr>
        <p:blipFill>
          <a:blip r:embed="rId1"/>
          <a:stretch/>
        </p:blipFill>
        <p:spPr>
          <a:xfrm>
            <a:off x="5003640" y="1628640"/>
            <a:ext cx="331344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8b7bf"/>
                </a:solidFill>
                <a:latin typeface="Georgia"/>
              </a:rPr>
              <a:t>У лінгвіс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13840" y="1857240"/>
            <a:ext cx="43578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адикал - те ж, що ієрогліфічний ключ (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ієрогліф, який є складовою частиною іншого ієрогліфа і який часто дозволяє пояснити його значення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4" descr="keys1_1"/>
          <p:cNvPicPr/>
          <p:nvPr/>
        </p:nvPicPr>
        <p:blipFill>
          <a:blip r:embed="rId1"/>
          <a:stretch/>
        </p:blipFill>
        <p:spPr>
          <a:xfrm>
            <a:off x="4643280" y="1413000"/>
            <a:ext cx="434844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План (корінь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у природ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біолог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природ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42680"/>
            <a:ext cx="414324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Це розгалужена підземна частина рослини або гриба, орган, який забезпечує закріплення (укорінення) у ґрунті, підживлення водою та іншими 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4" descr="http://school.xvatit.com/images/0/01/%D0%9C%D0%B0%D0%BB._200._%D0%92%D0%B7%D0%B0%D1%94%D0%BC%D0%BE%D0%B2%D0%B8%D0%B3%D1%96%D0%B4%D0%BD%D0%B5_%D1%81%D0%BF%D1%96%D0%B2%D0%B6%D0%B8%D1%82%D1%82%D1%8F_%D1%80%D0%BE%D1%81%D0%BB%D0%B8%D0%BD_%D1%96_%D0%B3%D1%80%D0%B8%D0%B1%D1%96%D0%B2.jpg"/>
          <p:cNvPicPr/>
          <p:nvPr/>
        </p:nvPicPr>
        <p:blipFill>
          <a:blip r:embed="rId1"/>
          <a:stretch/>
        </p:blipFill>
        <p:spPr>
          <a:xfrm>
            <a:off x="4143240" y="1643040"/>
            <a:ext cx="4643640" cy="3021120"/>
          </a:xfrm>
          <a:prstGeom prst="rect">
            <a:avLst/>
          </a:prstGeom>
          <a:ln w="0">
            <a:noFill/>
          </a:ln>
        </p:spPr>
      </p:pic>
      <p:sp>
        <p:nvSpPr>
          <p:cNvPr id="628" name="Місце для вмісту 2"/>
          <p:cNvSpPr/>
          <p:nvPr/>
        </p:nvSpPr>
        <p:spPr>
          <a:xfrm>
            <a:off x="0" y="4714920"/>
            <a:ext cx="88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1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ечовинами, а в окремих випадках і для вегетативного розмноження.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483920"/>
            <a:ext cx="3683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ий корі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це таке число, квадрат якого дорівнює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інь рівняння 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е  число, яке при підстановці в рівняння дає тотожність; при підстановці в многочлен дає 0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2" descr="C:\Users\Учень\Desktop\клас 8\Квадратні корені\Картинки\square-root-day.jpg"/>
          <p:cNvPicPr/>
          <p:nvPr/>
        </p:nvPicPr>
        <p:blipFill>
          <a:blip r:embed="rId1"/>
          <a:stretch/>
        </p:blipFill>
        <p:spPr>
          <a:xfrm>
            <a:off x="5651640" y="1341360"/>
            <a:ext cx="2838240" cy="2951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0003-003-Reshenie-uravnenij"/>
          <p:cNvPicPr/>
          <p:nvPr/>
        </p:nvPicPr>
        <p:blipFill>
          <a:blip r:embed="rId2"/>
          <a:srcRect l="0" t="0" r="58" b="128"/>
          <a:stretch/>
        </p:blipFill>
        <p:spPr>
          <a:xfrm>
            <a:off x="3924360" y="3860640"/>
            <a:ext cx="468000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5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5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35:04Z</dcterms:created>
  <dc:creator>Учень</dc:creator>
  <dc:description/>
  <dc:language>en-US</dc:language>
  <cp:lastModifiedBy>Admin</cp:lastModifiedBy>
  <dcterms:modified xsi:type="dcterms:W3CDTF">2014-08-04T16:47:38Z</dcterms:modified>
  <cp:revision>28</cp:revision>
  <dc:subject/>
  <dc:title>Значення слів радикал та корінь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4000000000001024140</vt:lpwstr>
  </property>
</Properties>
</file>