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3832-9DBB-4399-9B58-38EC617EC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98BC-CB86-4412-AA82-9F4F6CC4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CE6BA4-9C1C-4087-AF32-4E0523FAD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29553E-B77E-4B95-AB8F-D609B3CB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391A30-EED8-4CD5-8FA4-437A229B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0C2E365-56E9-4D09-94C5-0D8ADAA03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5EFF0B-F491-48BF-917A-2CAB4EA78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D07B2-7FF3-4FCB-9CEA-631BD8E03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671DFB2-1925-4904-8131-B13AC894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CB69F3-DC79-41F6-A879-1144A216A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0F84CD-AD5B-439C-9469-4249C5CC3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E1CD74E-FF84-4984-A945-3642ED2C6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0802-91D1-4DC1-AD19-AF8355F39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A53458-66BA-43EA-8430-5E4A64ED9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16FE1AB-AE3A-4AFA-86FB-DD45B6F95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7796ED-8310-4261-AA6F-35C8FB2AE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713C0-E179-46E9-93D4-CAF4113C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EFA9D-351D-4C0F-9012-A4B9F473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B8343B-99F7-4A44-8AD2-0748A1D3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7EF03-2F9A-4AE1-B876-99A3E5D0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A83452F-27A7-4BDB-95BE-188B8E9F3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42E013B-9A99-45A4-8B06-1CA92F7B0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7B3271A-C809-4201-8EE9-CF7FCE71D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0F2E-6494-4F21-97C3-569E9004F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26CF73-E233-43B6-ABC2-A93342CB0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579CF8-1536-4F0E-9434-440BD478B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AE45F-AAFB-4056-9A36-DD7055832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03AFAB-FC2A-46DD-83E7-91A714A1B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D65548-6767-4D23-B89B-B09AA281C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0A0AEC-14D6-40DE-B3E4-9529994B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EAF1E4-CD4F-4BE3-86C1-AD6240D7B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396B1E-0634-4A7D-A116-088189BE8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CBAC0A-4FD4-4BC4-A37C-3DBE79E3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3035D-311C-4E68-9FD9-86671F37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2E5D-C1A8-4F1F-8C4B-826222460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AFFACF-CABE-43CF-B919-94FE4440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C64A53-2CA0-4AFD-94FA-1BA9BEB2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E17F6-9459-423F-AEE8-6E0768C38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AA90A8-AAF2-4951-B763-D085486F0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F39F5-5717-4D16-9BAD-3B1EA2A1E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152030-9739-48E8-8594-61FC2B3E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3C0FB-1DF4-446D-BF51-3FD8F1D9B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3D158F-DA1E-4F19-AC1D-DCE56008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25335F-8B2C-4206-AED7-8A7DDE3C8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65C496-7D0F-47C1-A622-6F13512B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C41FF-BC28-4A7E-9B70-D166B569E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DF5816-7AAC-4908-863D-CAD367E2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AB78BEE-0138-48F3-B412-CE68D4296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943BC0-0E4F-4A9F-8DE6-310F2C84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8871C-B4B5-4653-9B76-78174CDAE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ED5052-8812-4210-B511-1F6766E41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BD63-502F-4C85-AF9C-6F40FEED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C991D-FB55-4FB4-90F1-095F0F85B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8336E-85FC-42BE-B896-83B98F554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3B674-F742-4BB9-9301-C259BF6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26F2A-2913-4F02-B373-E0B60627C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AC69-F351-4545-ADED-6D593FA51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78D4D-574A-4A2D-8A47-B6BAB76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7B316-8670-4A39-B524-65AE2E913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77B3A-26BE-435B-AAD5-0C3E6491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C151-325F-41BD-BEAF-6F8EDA65B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25652-2D73-460F-9036-C44FDCB13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B1ACD2-C163-4530-A25E-C8BF1F393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CE70F-A7DB-4007-9027-C00C7EFD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6B349-961E-48FE-B629-097C028DC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D08F8-51F1-4B43-8C51-EBAADD2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6E63A-0318-45A0-8E53-9F10356C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1B9FC-6D2E-4763-AEA0-02B4CBCE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7D9B9-1311-47FF-AEA2-F8E3E48C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E71CD-BA7C-4A10-9F27-80756F01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2571-4C5D-42E0-997F-FA1A622B5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9E6FA-5AC9-433D-9487-65F99C7A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6FA0C-A924-49BC-B4DF-F9A440E3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8D63E-5328-424E-AF67-02616A4A1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C0907-5E64-4D39-911D-7764399E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AABA61-1D53-4346-9549-B9AC1A71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28F90C-B5CC-4740-8B46-30280C1DA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250FCD-DEFB-41BE-BAB2-5C7279D2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3479-4085-44E1-8AA6-5ED74500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FA13A-5E6E-42DD-8736-D609AA2D8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97FC0-0C57-44A5-8E21-CBE530E85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39AD7-071E-4150-BDE3-20A9B68B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B8F56-E28D-41CA-8FC3-6813A87C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D650C-CE49-4CEB-B9FC-736CB958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29D59-1FB1-4B77-A881-7F4F2165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DC6830-4A4C-4E80-A670-FD9894D4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DB2F23-1A2A-4E18-8B87-9D750BC7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E53CE2-4943-4D9A-8086-B9768C221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84092-5C26-45A6-B642-634F1CC0C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597E-DA71-4DBB-B61F-F8C8F958D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C3457-3511-4155-899D-8D6C59AF4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50A0C5-1580-4325-9846-1BC544A64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2E311-5003-4916-96D2-2B1D90AC4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366C2-CCE1-4C27-939F-28B0472D1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434638-B97E-4BC1-8D30-8429EF9F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6CEAF-3D51-4162-A42D-ED6BC0D6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A2A51B-9958-4369-B1AA-F16708AD4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B5749-6DB5-4D83-B3D9-7BD0B35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F1ED3-8808-469A-A88F-B0568417D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37B29A-480F-4F02-9685-F3E726689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D8C7-BE4F-4CAF-81C1-59964EC6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8AEAD7-6D71-4CF9-AE99-D57E23DB9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B44B26-F730-4DB2-B06A-C5245FA65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494F2-B828-4419-A90F-CD2A5CE67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F9D400-1A37-46F5-A05B-370E91B6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CA313-83E2-4C9A-B667-C54EA8D45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ED6988-50FF-4FFC-ADE3-A3FC5BB2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1794EC-066D-4BF2-97A8-A2CA3150B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7EDE9-3FB8-4B78-8999-B43BC9B1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8455A-87ED-4BAB-950F-A650A7F75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AE5798-6DBA-4BEC-AA69-C8DEA086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63AD-E140-4450-B9AC-4AA5A5022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4B331F-DC3E-466D-91C7-48B00F4B4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48FC05-02C7-40FE-A0A0-938AD24F6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66DE9C-5FA6-496B-9FEE-EE59C7CEA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91D17B-5661-4D21-8CE8-23072529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0F0D99-94EB-48DF-815F-1A2D4AD3D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84BEF-C995-4B7D-B0EC-A211E7B2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05517F-3965-48CC-B6DC-8702CD10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FFE8A-CE6B-44E1-895A-EA767ECF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3CE4B-B3D4-4B7E-8D43-87F0048F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D187A7-7238-44C9-A087-EE35E0A7C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E9C1-163D-4C0B-BD4D-C67D32EA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54A565-A810-4E80-9F21-87A33058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80B71C-6453-46C3-B988-7D3123CC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476CF-B339-4FC1-94E5-76D3B91F3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1F57C-FD79-4D83-A67F-6C8F81473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A6A0BE-9D6D-4238-9F05-1B3506496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1DF782-F4AB-49AA-B0FE-41BD9983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E9D643-7BDB-4CAB-94CE-0099CD05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05521-3B98-4D10-A589-4E837EA5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A4230-018A-4E1C-9BFA-F849C877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C3745B-A781-4D84-9482-063CA74D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EE532-BD4A-4B3E-8A3A-E22508F2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A0447-135D-4AF8-ABEA-2B8935DE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F32042-8DAB-4B0C-A2BD-475DEBF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43BF8-2695-47D0-988D-8FAAC96E0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D985B-4CB6-46D2-8B23-AAC4841B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A20609-D909-40DC-88E5-21EC5D83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6C95F5-E262-40DA-B621-F098DA140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2DA5AC-A6BA-4610-9011-B231F3FF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E6EF2C-FB6C-42FB-A91C-4249702C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3E6945-9A9C-46DA-9212-C483EF6F3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0494D4-6908-44D3-810D-A71371EE1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5D3-8B58-417A-B73B-CBF96CF15AB0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 сполучна лінія 20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кутник 1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кутник 16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кутник 19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кутник 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кутник 1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11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12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кутник 2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A701-8A7D-4084-800C-AF9F16ED5AEE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32F0-252D-4329-A90A-267086D70C12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кутник 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кутник 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кутник 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кутник 1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кутник 1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 сполучна лінія 1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1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1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2A7C0-A975-48F4-8D9F-EFE08BE24CBA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кутник 18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кутник 15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кутник 1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 сполучна лінія 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кутник 9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C32-EF5A-44DD-A641-566C8D83415A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77F07-20FE-4E52-BCFC-5480128EED7D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кутник 15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кутник 17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кутник 18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кутник 1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кутник 1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кутник 1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 сполучна лінія 7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231AB-318E-4DEB-A404-33232177BC33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 сполучна лінія 7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3463-D965-49B2-A031-F2F9F583E327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 сполучна лінія 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04617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кутник 19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кутник 1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кутник 2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кут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кутник 1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кут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 сполучна лінія 14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кутник 1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4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1EA3-1F3D-46EB-A34D-C168CDCAA23A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кут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кут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кут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кут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кут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кут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 сполучна ліні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E71E5-59AF-4115-9186-DBE076F54F23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кутник 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кутник 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кутник 9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кутник 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кутник 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кутник 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EDE7-CB1B-4489-9978-53999BCFD916}" type="slidenum">
              <a:rPr b="0" lang="en-US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кутник 18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кутник 14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кутник 17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кутник 15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кутник 1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кутник 1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0f6f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кутник 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 сполучна лінія 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08b7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1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08b7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кутник 2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0bd0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009dd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0bd0d9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10cf9b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7cca62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8b7b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A27C-0ACF-43CE-8D22-01E15E019CC9}" type="slidenum">
              <a:rPr b="0" lang="en-US" sz="1600" spc="-1" strike="noStrike">
                <a:solidFill>
                  <a:srgbClr val="08b7b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4355640" y="4508640"/>
            <a:ext cx="431964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4617b"/>
                </a:solidFill>
                <a:latin typeface="Georgia"/>
              </a:rPr>
              <a:t>ПРОЕКТ ПІДГОТУВАЛИ УЧЕНИЦІ 8 КЛАСУ КОСАРСЬКОЇ ЗОШ ПЕРЕПЕЛИЦЯ ВІКТОРІЯ ТА БОЙКО ОЛЬГА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11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f6fc6"/>
                </a:solidFill>
                <a:latin typeface="Georgia"/>
              </a:rPr>
              <a:t>Значення слів радикал та корінь</a:t>
            </a:r>
            <a:r>
              <a:rPr b="0" lang="en-US" sz="4200" spc="-1" strike="noStrike">
                <a:solidFill>
                  <a:srgbClr val="0f6fc6"/>
                </a:solidFill>
                <a:latin typeface="Georgia"/>
              </a:rPr>
              <a:t> </a:t>
            </a:r>
            <a:endParaRPr b="0" lang="en-US" sz="4200" spc="-1" strike="noStrike">
              <a:solidFill>
                <a:srgbClr val="08b7bf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3600"/>
                            </p:stCondLst>
                            <p:childTnLst>
                              <p:par>
                                <p:cTn id="1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біолог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1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Це прихована, заглиблена частина основи чого-небудь, наприклад органу живого організму (волосини, зуба і т. п.)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5" name="Picture 2" descr="http://www.oniko.ua/images/products_watermark/model/1416_j010bcopy.jpg"/>
          <p:cNvPicPr/>
          <p:nvPr/>
        </p:nvPicPr>
        <p:blipFill>
          <a:blip r:embed="rId1"/>
          <a:stretch/>
        </p:blipFill>
        <p:spPr>
          <a:xfrm>
            <a:off x="4643280" y="1214280"/>
            <a:ext cx="2943360" cy="285444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4" descr="http://lib.mdpu.org.ua/e-book/anatomiya/ANATOM1.files/image515.jpg"/>
          <p:cNvPicPr/>
          <p:nvPr/>
        </p:nvPicPr>
        <p:blipFill>
          <a:blip r:embed="rId2"/>
          <a:stretch/>
        </p:blipFill>
        <p:spPr>
          <a:xfrm>
            <a:off x="6227640" y="3786120"/>
            <a:ext cx="267840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500"/>
                            </p:stCondLst>
                            <p:childTnLst>
                              <p:par>
                                <p:cTn id="25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Висновок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01680" y="1371600"/>
            <a:ext cx="419904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Ми дослідили значення слів радикал та корінь.</a:t>
            </a:r>
            <a:r>
              <a:rPr b="0" lang="en-US" sz="25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9" name=""/>
          <p:cNvSpPr txBox="1"/>
          <p:nvPr/>
        </p:nvSpPr>
        <p:spPr>
          <a:xfrm>
            <a:off x="4787640" y="4508640"/>
            <a:ext cx="4051080" cy="129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Дякуємо за увагу!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40" name="Picture 2" descr="http://4.bp.blogspot.com/_3CS8bulT1OA/S2gXendP_-I/AAAAAAAAAGk/7cMQP6fCMd4/s320/610.gif"/>
          <p:cNvPicPr/>
          <p:nvPr/>
        </p:nvPicPr>
        <p:blipFill>
          <a:blip r:embed="rId1"/>
          <a:stretch/>
        </p:blipFill>
        <p:spPr>
          <a:xfrm>
            <a:off x="4788000" y="1557360"/>
            <a:ext cx="3960720" cy="280836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4" descr="http://i.ytimg.com/vi/2lMnP89qeMU/0.jpg"/>
          <p:cNvPicPr/>
          <p:nvPr/>
        </p:nvPicPr>
        <p:blipFill>
          <a:blip r:embed="rId2"/>
          <a:stretch/>
        </p:blipFill>
        <p:spPr>
          <a:xfrm>
            <a:off x="611280" y="3429000"/>
            <a:ext cx="3708360" cy="2637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9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1000"/>
                            </p:stCondLst>
                            <p:childTnLst>
                              <p:par>
                                <p:cTn id="2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6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3000"/>
                            </p:stCondLst>
                            <p:childTnLst>
                              <p:par>
                                <p:cTn id="28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4000"/>
                            </p:stCondLst>
                            <p:childTnLst>
                              <p:par>
                                <p:cTn id="29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8b7bf"/>
                </a:solidFill>
                <a:latin typeface="Georgia"/>
              </a:rPr>
              <a:t>План (радикал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1. Значення слова радикал в хім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2. Значення слова радикал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3. Значення слова радикал в суспільств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4. Значення слова радикал у лінгвіс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6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6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1128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456840" y="1600200"/>
            <a:ext cx="353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математичний знак для позначення дії добування кореня, а також результат цієї д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rcRect l="425" t="18646" r="36268" b="24315"/>
          <a:stretch/>
        </p:blipFill>
        <p:spPr>
          <a:xfrm>
            <a:off x="3949560" y="1643040"/>
            <a:ext cx="5059440" cy="342900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50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хімії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56760" y="1928520"/>
            <a:ext cx="4000680" cy="38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14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Радикал – це стійка група атомів у молекулі, яка у процесі хімічного перетворення переходить без зміни з однієї сполуки в іншу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5" name="Picture 4" descr="C:\Users\Учень\Desktop\клас 8\Квадратні корені\На презентацію\12677.gif.jpg"/>
          <p:cNvPicPr/>
          <p:nvPr/>
        </p:nvPicPr>
        <p:blipFill>
          <a:blip r:embed="rId1"/>
          <a:stretch/>
        </p:blipFill>
        <p:spPr>
          <a:xfrm>
            <a:off x="4714920" y="3571920"/>
            <a:ext cx="3556080" cy="26668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Users\Учень\Desktop\клас 8\Квадратні корені\На презентацію\1274799330.jpg"/>
          <p:cNvPicPr/>
          <p:nvPr/>
        </p:nvPicPr>
        <p:blipFill>
          <a:blip r:embed="rId2"/>
          <a:stretch/>
        </p:blipFill>
        <p:spPr>
          <a:xfrm>
            <a:off x="6000840" y="1500120"/>
            <a:ext cx="2539800" cy="1968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8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0"/>
                            </p:stCondLst>
                            <p:childTnLst>
                              <p:par>
                                <p:cTn id="9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суспільств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680" y="1527120"/>
            <a:ext cx="4341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прихильник радикалізму, тобто безкомпромісний виразник будь-яких поглядів, як правило - пов'язаних з глибокими перетвореннями в суспільному устрої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Georgia"/>
              </a:rPr>
              <a:t>Радикал - член якої-небудь Радикальної партії.</a:t>
            </a: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9" name="Picture 2" descr="http://blog.leonidv.com.ua/wp-content/uploads/CivilSociety.jpg"/>
          <p:cNvPicPr/>
          <p:nvPr/>
        </p:nvPicPr>
        <p:blipFill>
          <a:blip r:embed="rId1"/>
          <a:stretch/>
        </p:blipFill>
        <p:spPr>
          <a:xfrm>
            <a:off x="5003640" y="1628640"/>
            <a:ext cx="3313440" cy="39610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6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53416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300" spc="-1" strike="noStrike">
                <a:solidFill>
                  <a:srgbClr val="08b7bf"/>
                </a:solidFill>
                <a:latin typeface="Georgia"/>
              </a:rPr>
              <a:t>У лінгвіс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213840" y="1857240"/>
            <a:ext cx="43578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Радикал - те ж, що ієрогліфічний ключ (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ієрогліф, який є складовою частиною іншого ієрогліфа і який часто дозволяє пояснити його значення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2" name="Picture 4" descr="keys1_1"/>
          <p:cNvPicPr/>
          <p:nvPr/>
        </p:nvPicPr>
        <p:blipFill>
          <a:blip r:embed="rId1"/>
          <a:stretch/>
        </p:blipFill>
        <p:spPr>
          <a:xfrm>
            <a:off x="4643280" y="1413000"/>
            <a:ext cx="4348440" cy="49687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План (корінь)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1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у природ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2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математиці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3.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uk-UA" sz="2700" spc="-1" strike="noStrike">
                <a:solidFill>
                  <a:srgbClr val="000000"/>
                </a:solidFill>
                <a:latin typeface="Georgia"/>
              </a:rPr>
              <a:t>Значення слова корінь в біології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transition spd="med">
    <p:pull dir="r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57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6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природ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-360" y="1642680"/>
            <a:ext cx="4143240" cy="31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1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Це розгалужена підземна частина рослини або гриба, орган, який забезпечує закріплення (укорінення) у ґрунті, підживлення водою та іншими 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4" descr="http://school.xvatit.com/images/0/01/%D0%9C%D0%B0%D0%BB._200._%D0%92%D0%B7%D0%B0%D1%94%D0%BC%D0%BE%D0%B2%D0%B8%D0%B3%D1%96%D0%B4%D0%BD%D0%B5_%D1%81%D0%BF%D1%96%D0%B2%D0%B6%D0%B8%D1%82%D1%82%D1%8F_%D1%80%D0%BE%D1%81%D0%BB%D0%B8%D0%BD_%D1%96_%D0%B3%D1%80%D0%B8%D0%B1%D1%96%D0%B2.jpg"/>
          <p:cNvPicPr/>
          <p:nvPr/>
        </p:nvPicPr>
        <p:blipFill>
          <a:blip r:embed="rId1"/>
          <a:stretch/>
        </p:blipFill>
        <p:spPr>
          <a:xfrm>
            <a:off x="4143240" y="1643040"/>
            <a:ext cx="4643640" cy="3021120"/>
          </a:xfrm>
          <a:prstGeom prst="rect">
            <a:avLst/>
          </a:prstGeom>
          <a:ln w="0">
            <a:noFill/>
          </a:ln>
        </p:spPr>
      </p:pic>
      <p:sp>
        <p:nvSpPr>
          <p:cNvPr id="628" name="Місце для вмісту 2"/>
          <p:cNvSpPr/>
          <p:nvPr/>
        </p:nvSpPr>
        <p:spPr>
          <a:xfrm>
            <a:off x="0" y="4714920"/>
            <a:ext cx="8858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14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речовинами, а в окремих випадках і для вегетативного розмноження.</a:t>
            </a:r>
            <a:br>
              <a:rPr sz="25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r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500"/>
                            </p:stCondLst>
                            <p:childTnLst>
                              <p:par>
                                <p:cTn id="1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6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8b7bf"/>
                </a:solidFill>
                <a:latin typeface="Georgia"/>
              </a:rPr>
              <a:t>У математиці:</a:t>
            </a:r>
            <a:endParaRPr b="0" lang="en-US" sz="3300" spc="-1" strike="noStrike">
              <a:solidFill>
                <a:srgbClr val="08b7bf"/>
              </a:solidFill>
              <a:latin typeface="Georgia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539280" y="1483920"/>
            <a:ext cx="3683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вадратний корін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з числ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— це таке число, квадрат якого дорівнює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інь рівняння – </a:t>
            </a:r>
            <a:r>
              <a:rPr b="0" lang="uk-UA" sz="2800" spc="-1" strike="noStrike">
                <a:solidFill>
                  <a:srgbClr val="000000"/>
                </a:solidFill>
                <a:latin typeface="Times New Roman"/>
              </a:rPr>
              <a:t>це  число, яке при підстановці в рівняння дає тотожність; при підстановці в многочлен дає 0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1" name="Picture 2" descr="C:\Users\Учень\Desktop\клас 8\Квадратні корені\Картинки\square-root-day.jpg"/>
          <p:cNvPicPr/>
          <p:nvPr/>
        </p:nvPicPr>
        <p:blipFill>
          <a:blip r:embed="rId1"/>
          <a:stretch/>
        </p:blipFill>
        <p:spPr>
          <a:xfrm>
            <a:off x="5651640" y="1341360"/>
            <a:ext cx="2838240" cy="295128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5" descr="0003-003-Reshenie-uravnenij"/>
          <p:cNvPicPr/>
          <p:nvPr/>
        </p:nvPicPr>
        <p:blipFill>
          <a:blip r:embed="rId2"/>
          <a:srcRect l="0" t="0" r="58" b="128"/>
          <a:stretch/>
        </p:blipFill>
        <p:spPr>
          <a:xfrm>
            <a:off x="3924360" y="3860640"/>
            <a:ext cx="4680000" cy="23781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50"/>
                            </p:stCondLst>
                            <p:childTnLst>
                              <p:par>
                                <p:cTn id="2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3050"/>
                            </p:stCondLst>
                            <p:childTnLst>
                              <p:par>
                                <p:cTn id="22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0:35:04Z</dcterms:created>
  <dc:creator>Учень</dc:creator>
  <dc:description/>
  <dc:language>en-US</dc:language>
  <cp:lastModifiedBy>Admin</cp:lastModifiedBy>
  <dcterms:modified xsi:type="dcterms:W3CDTF">2014-08-04T16:47:38Z</dcterms:modified>
  <cp:revision>28</cp:revision>
  <dc:subject/>
  <dc:title>Значення слів радикал та корінь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214000000000001024140</vt:lpwstr>
  </property>
</Properties>
</file>