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20.jpeg" ContentType="image/jpeg"/>
  <Override PartName="/ppt/media/image9.wmf" ContentType="image/x-wmf"/>
  <Override PartName="/ppt/media/image13.png" ContentType="image/png"/>
  <Override PartName="/ppt/media/image11.jpeg" ContentType="image/jpeg"/>
  <Override PartName="/ppt/media/image19.png" ContentType="image/png"/>
  <Override PartName="/ppt/media/image18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B373-79EA-4E7C-AC7D-ABED9AD80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841A-47E3-4D3E-A51B-8325A461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7F1A7-5EB5-4CD5-8BF8-550D64B7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C912D-D902-4970-9111-81D301BA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E41CE-9CAF-4B43-A264-BC040381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49E8B-FB7E-4CB0-8F80-B265745E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CF74D-CC57-46F4-9AFF-23E45D53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6DAD1-8957-4BFA-8A15-D2473239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95EA1-CD28-4F3F-BD68-B6FC25DD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F43DC-C9A1-4256-A8AA-E1EC88533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32702-5B7F-48FA-A69F-B0BE06096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7409-AF2C-45D3-B711-4A3866DB7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9EB7-52D5-4C75-84C7-66DE4D015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0CED-48F4-48ED-9223-304CD4D87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1485-E90F-4511-98C2-56F0925F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E2F6-1FD0-40CD-9A60-1817BBA1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A92D-EDDF-4166-B480-B8764AAD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A78A-E7BC-4A50-9018-74934298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2CCC-024A-44CC-84D2-A4DA314D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0851-EB0F-459E-9AE4-DC46293E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7F4E-044C-43D8-A777-E6AD0593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33E4-BB23-4F66-9847-AA9FC4C9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3781-89FA-43F0-B928-61AAB2B8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B4F6-92F5-4EEC-9326-AF4799B3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A859-D3FA-4BA9-A5BE-95863AADC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CA43-A504-497E-90D4-C598ECFB9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9076F-B523-4D53-80C1-BB476652E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C992D-6FA8-4D26-8D44-C00E46A7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B7A18-7D2F-4291-882D-23F8FCAC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B9EFF-52B0-422E-BF86-04830F3A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C2083-626A-4FBB-8E29-DC83A19C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0D47-9426-48A1-8C28-D5986E8F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A6F44-7517-4FE6-86F4-A04C1A57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E2A21-6F89-47E1-8727-552A43BF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98AA8-7246-4D51-B794-B29781FD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499C5-0FF5-4887-98B3-D733DCBA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2D877-0ACB-411D-8005-BD2F999D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ED7D6-1F68-4C2D-8686-F29EBCD03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326DD-34DE-48A1-AAE2-5603E565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64759-576B-4498-9577-71AFA0B8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82045-6F8B-497C-AB6F-7A1ECA5A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1B494-8351-4CA3-ACC4-9D5484EC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2733-D575-4473-8259-A641FC79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4C341-58E3-4C5E-8298-A1133A3C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33B5A-3048-469A-A0D3-D7FB4F3B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61E04-C902-4628-84C0-F124FAFD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06CEF-EB60-4A5B-8311-23A78467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926BF-9C85-4136-958E-8DDFF5DE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165BD-8479-4FF6-AC6B-358B47D1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1CBD0-0659-4AD0-B31E-57566BB3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B4548-293D-4174-ADB6-389F8766A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DD034-DBF3-491D-B500-C28587B10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0D479-50BC-457D-97A3-2526C2B03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4969-ACC3-48BD-96BC-1DF3F0E6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16362-EBF7-496F-8495-0AA0EC7D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0AA06-AC71-4D0C-B861-1CF2ABCC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C6E84-6B12-4C7E-BF32-9D3134D2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D163A-7BC7-4710-BDEA-C08626D3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8775D-B782-4725-9476-C290EAFE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8AA23-4E74-4EDD-86C8-D17F2E88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5D2CC-E84E-45C6-8B6B-5BA8059A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E5F94-F157-49CB-8656-F4442360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FA719-05F1-4850-8237-761EC753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124E7-BF72-4100-A6B1-3491CCA35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4D46-AB08-441C-9B45-D16A33DF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77EB3-A6FF-473B-816E-816A11CA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F2F85-B56F-4D4B-A260-97A58C35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175DF-2AA0-4273-B078-B3BED498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101EF-2FA3-47C2-9F1F-2DE70571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638D1-9E50-4716-811D-EE9D87B7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3DDF7-F3AB-4457-8649-E44EE094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C8820-1F36-4D81-98A4-CB6AD62D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EAD9B-FF5A-409F-92DA-30197862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362F3-36D2-4892-A4DC-54A14FF7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FC316-6EBF-43E1-BDAB-E5D7236A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1621-45F4-4D30-A806-DD1B07B5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27896-4C1A-416C-8266-A4508F45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D7FD1-5430-4B24-A22F-BF5D7FC1E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E9B9D-9A0F-423B-80F5-B2233172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F9239-71DB-4B6B-8A3C-7CC07D282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B093D-B0EE-406A-934C-B3383BE5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94F6D-8487-4E25-9750-A6ED329A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555CE-A834-4BE4-A196-239A6988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9C2F8-D733-434A-BC4C-A3AA2BB3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2BB16-0E6D-4DC3-8F3D-81AC52A4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06A7E-FD96-4F0F-A4CE-D12EA01B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BBC9-F245-4D32-8F3F-D4034F68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30AD4-906C-4EE5-B112-9EE913CE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10418-8624-4765-8E12-DB3F43B1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5F38B-C708-4775-93E2-60472AFD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B4212-010F-4BA8-89F7-C9B2BC232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9D97F-9AE4-49FC-9C74-AC324882B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896A3-DA53-4FC3-97E0-FD90B64B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33202-0E70-4115-80CB-D5CC9CC5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91FDD-2544-45B9-8D1A-57F2C71D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5B4AA-7BFF-4263-921F-A8F261BC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883AE-6D0F-40DC-839F-A6C6E45C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B2A9-9EEC-4469-80D5-40C6358C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96349-4695-4A9A-ADB0-CA87F94D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4FE10-CC9F-4B64-8F4B-9D170996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82BBE-333D-46C5-AB20-F2796D4C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561AF-C26B-470B-9B3D-BB0ADF57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56B28-1854-4C7D-9D75-682C7B45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0CF29-CDDB-4E73-9B3C-0741C6E60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8EAC7-ACBE-4FA1-BCB9-1EB38520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04341-AD3B-4ECB-8FD8-53D26967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3A91F-5051-4075-8929-6724CBCD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1953F-CDDE-425C-9D8F-3695129F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 сполучна ліні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 сполучна ліні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5FC4-5651-4D20-A1EB-309EA55A5AC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 сполучна ліні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 сполучна ліні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 сполучна ліні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 сполучна ліні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 сполучна ліні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8B15-7A6C-45C8-A7DE-CC094413029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 сполучна ліні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 сполучна ліні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 сполучна ліні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 сполучна ліні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 сполучна ліні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 сполучна ліні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37B3-4568-4716-8D72-02F9051AB9E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 сполучна ліні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0E3F-F47A-4858-B69F-79EC05E44DE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 сполучна ліні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E85C-897F-43C4-929E-C3AACED3A7C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7A58-0B26-4038-A38D-679CB10CA26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 сполучна ліні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FC6B-C6CA-40E0-A497-FED70656B98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1132-EB12-445E-8E83-5A946B91959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AB86-5BE7-43ED-A2B4-73A457799E2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wm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7.wm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2"/>
          <a:stretch/>
        </p:blipFill>
        <p:spPr>
          <a:xfrm>
            <a:off x="152280" y="4005360"/>
            <a:ext cx="8972640" cy="18777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190760" y="563868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r>
              <a:rPr b="0" lang="uk-UA" sz="2000" spc="-1" strike="noStrike">
                <a:solidFill>
                  <a:srgbClr val="443329"/>
                </a:solidFill>
                <a:latin typeface="Franklin Gothic Demi"/>
              </a:rPr>
              <a:t>Дослідження учнів 8 класу</a:t>
            </a:r>
            <a:r>
              <a:rPr b="0" lang="en-US" sz="2000" spc="-1" strike="noStrike">
                <a:solidFill>
                  <a:srgbClr val="443329"/>
                </a:solidFill>
                <a:latin typeface="Franklin Gothic Demi"/>
              </a:rPr>
              <a:t>:</a:t>
            </a:r>
            <a:r>
              <a:rPr b="0" lang="uk-UA" sz="2000" spc="-1" strike="noStrike">
                <a:solidFill>
                  <a:srgbClr val="443329"/>
                </a:solidFill>
                <a:latin typeface="Franklin Gothic Demi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43329"/>
                </a:solidFill>
                <a:latin typeface="Franklin Gothic Demi"/>
              </a:rPr>
              <a:t>Скічко І., Ткаченко В., Масич І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228600" y="5335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r>
              <a:rPr b="0" lang="uk-UA" sz="2000" spc="-1" strike="noStrike">
                <a:solidFill>
                  <a:srgbClr val="443329"/>
                </a:solidFill>
                <a:latin typeface="Arial"/>
              </a:rPr>
              <a:t>Косарська загальноосвітня школа І-ІІІ ступен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474040" cy="11527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Виникнення знака корен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Чому корінь називають радикалом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Еволюція знака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Перше використання знака кореня в математичній літературі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Видозміна знака корен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Знак кореня від Рене Декарт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4" name="Object 7" descr=""/>
          <p:cNvPicPr/>
          <p:nvPr/>
        </p:nvPicPr>
        <p:blipFill>
          <a:blip r:embed="rId3"/>
          <a:stretch/>
        </p:blipFill>
        <p:spPr>
          <a:xfrm>
            <a:off x="3505320" y="2666880"/>
            <a:ext cx="83808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Еволюція знака радикала продовжувалась більше 500 рокі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Починаючи з ХІІІ ст. італійські та інші європейські математики позначали корінь латинським словом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adix </a:t>
            </a: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(корінь) або скорочено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</a:t>
            </a: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, потім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</a:t>
            </a:r>
            <a:r>
              <a:rPr b="0" lang="en-US" sz="3200" spc="-1" strike="noStrike" baseline="-25000">
                <a:solidFill>
                  <a:srgbClr val="4e3b30"/>
                </a:solidFill>
                <a:latin typeface="Franklin Gothic Book"/>
              </a:rPr>
              <a:t>x</a:t>
            </a: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В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XV</a:t>
            </a: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 ст. Н.Шюке писав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</a:t>
            </a:r>
            <a:r>
              <a:rPr b="0" lang="uk-UA" sz="3200" spc="-1" strike="noStrike" baseline="30000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12 замість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Object 4" descr=""/>
          <p:cNvPicPr/>
          <p:nvPr/>
        </p:nvPicPr>
        <p:blipFill>
          <a:blip r:embed="rId3"/>
          <a:stretch/>
        </p:blipFill>
        <p:spPr>
          <a:xfrm>
            <a:off x="7162920" y="4572000"/>
            <a:ext cx="83808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900432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2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4e3b30"/>
                </a:solidFill>
                <a:latin typeface="Franklin Gothic Book"/>
              </a:rPr>
              <a:t>У Стародавній Індії невідоме іменувалося «мула», що означає «початок», «основа», «корінь (дерева)». Араби для цих цілей використовували слово «джізр» з тим же значенням. Європейці переклали його на латину як radix - «корінь». Так виник математичний термін «радикал».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72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2" descr="\\Vchitel\вчителі2\Скічко Т.М\Для учнів\8 клас\Алгебра\На презентацію\Застосування кореня\156.jpg"/>
          <p:cNvPicPr/>
          <p:nvPr/>
        </p:nvPicPr>
        <p:blipFill>
          <a:blip r:embed="rId3"/>
          <a:stretch/>
        </p:blipFill>
        <p:spPr>
          <a:xfrm>
            <a:off x="5006880" y="1600200"/>
            <a:ext cx="3625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2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8542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228240" y="1554120"/>
            <a:ext cx="518148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16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4e3b30"/>
                </a:solidFill>
                <a:latin typeface="Franklin Gothic Book"/>
              </a:rPr>
              <a:t>Деякі математики 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XV</a:t>
            </a:r>
            <a:r>
              <a:rPr b="0" lang="uk-UA" sz="3000" spc="-1" strike="noStrike">
                <a:solidFill>
                  <a:srgbClr val="4e3b30"/>
                </a:solidFill>
                <a:latin typeface="Franklin Gothic Book"/>
              </a:rPr>
              <a:t> ст. позначали квадратний корінь точкою перед числом чи виразом; корені вищих степенів – декількома точками. Ті точки, що ставились перед підкореневим виразом, перейшли в скоропису в рисочки, і, можливо, з них і виник знак кореня 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V</a:t>
            </a:r>
            <a:r>
              <a:rPr b="0" lang="uk-UA" sz="3000" spc="-1" strike="noStrike">
                <a:solidFill>
                  <a:srgbClr val="4e3b30"/>
                </a:solidFill>
                <a:latin typeface="Franklin Gothic Book"/>
              </a:rPr>
              <a:t> (без верхньої риски сучасного знака       )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Object 4" descr=""/>
          <p:cNvPicPr/>
          <p:nvPr/>
        </p:nvPicPr>
        <p:blipFill>
          <a:blip r:embed="rId3"/>
          <a:stretch/>
        </p:blipFill>
        <p:spPr>
          <a:xfrm>
            <a:off x="1676520" y="5943600"/>
            <a:ext cx="609480" cy="457200"/>
          </a:xfrm>
          <a:prstGeom prst="rect">
            <a:avLst/>
          </a:prstGeom>
          <a:ln w="0">
            <a:noFill/>
          </a:ln>
        </p:spPr>
      </p:pic>
      <p:sp>
        <p:nvSpPr>
          <p:cNvPr id="416" name="Полілінія 7"/>
          <p:cNvSpPr/>
          <p:nvPr/>
        </p:nvSpPr>
        <p:spPr>
          <a:xfrm>
            <a:off x="5791320" y="1905120"/>
            <a:ext cx="2670120" cy="3776400"/>
          </a:xfrm>
          <a:prstGeom prst="pie">
            <a:avLst/>
          </a:prstGeom>
          <a:noFill/>
          <a:ln w="8892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кутник 8"/>
          <p:cNvSpPr/>
          <p:nvPr/>
        </p:nvSpPr>
        <p:spPr>
          <a:xfrm>
            <a:off x="914400" y="533520"/>
            <a:ext cx="47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волюція зна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Object 8" descr=""/>
          <p:cNvPicPr/>
          <p:nvPr/>
        </p:nvPicPr>
        <p:blipFill>
          <a:blip r:embed="rId4"/>
          <a:stretch/>
        </p:blipFill>
        <p:spPr>
          <a:xfrm>
            <a:off x="4038480" y="438120"/>
            <a:ext cx="83844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2"/>
          <a:stretch/>
        </p:blipFill>
        <p:spPr>
          <a:xfrm>
            <a:off x="133200" y="-36360"/>
            <a:ext cx="8864640" cy="1487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228600" y="1523880"/>
            <a:ext cx="4648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3b30"/>
                </a:solidFill>
                <a:latin typeface="Franklin Gothic Book"/>
              </a:rPr>
              <a:t>Цей знак вперше зустрічається в німецькій книзі з алгебри, виданій в 1525 р. в Страсбурзі. Автором цієї книги був уродженець Чехії, вчитель математики з Відня, Криштоф Рудольф. Знаком кореня користувались в Х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V</a:t>
            </a:r>
            <a:r>
              <a:rPr b="0" lang="uk-UA" sz="2800" spc="-1" strike="noStrike">
                <a:solidFill>
                  <a:srgbClr val="4e3b30"/>
                </a:solidFill>
                <a:latin typeface="Franklin Gothic Book"/>
              </a:rPr>
              <a:t>І ст. М.Штифель, С.Стевін та ін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1" name="Picture 2" descr="C:\Users\Учень\Pictures\текст.jpg"/>
          <p:cNvPicPr/>
          <p:nvPr/>
        </p:nvPicPr>
        <p:blipFill>
          <a:blip r:embed="rId3"/>
          <a:srcRect l="0" t="0" r="9" b="-67"/>
          <a:stretch/>
        </p:blipFill>
        <p:spPr>
          <a:xfrm>
            <a:off x="4952880" y="1359000"/>
            <a:ext cx="391968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2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547120" cy="11527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04920" y="1371240"/>
            <a:ext cx="5486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16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В 1626 р. нідерландський математик А.Жирар, поєднуючи  знак Рудольфа з показниками Шюке, ввів близьке до сучасного позначення            .. Це позначення стало витісняти знак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</a:t>
            </a: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. Але довгий час писали, наприклад              ,  (замість сучасного          )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4" name="Picture 6" descr=""/>
          <p:cNvPicPr/>
          <p:nvPr/>
        </p:nvPicPr>
        <p:blipFill>
          <a:blip r:embed="rId3"/>
          <a:srcRect l="0" t="0" r="82377" b="46286"/>
          <a:stretch/>
        </p:blipFill>
        <p:spPr>
          <a:xfrm>
            <a:off x="2819520" y="3886200"/>
            <a:ext cx="1143000" cy="4381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" descr=""/>
          <p:cNvPicPr/>
          <p:nvPr/>
        </p:nvPicPr>
        <p:blipFill>
          <a:blip r:embed="rId4"/>
          <a:srcRect l="76151" t="46462" r="-44" b="-44"/>
          <a:stretch/>
        </p:blipFill>
        <p:spPr>
          <a:xfrm>
            <a:off x="4114800" y="5410080"/>
            <a:ext cx="1295280" cy="44460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Object 8" descr=""/>
          <p:cNvPicPr/>
          <p:nvPr/>
        </p:nvPicPr>
        <p:blipFill>
          <a:blip r:embed="rId5"/>
          <a:stretch/>
        </p:blipFill>
        <p:spPr>
          <a:xfrm>
            <a:off x="4038480" y="5867280"/>
            <a:ext cx="914400" cy="4572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" descr="\\Vchitel\вчителі2\Скічко Т.М\Для учнів\8 клас\Квадратні корені\Картинки\square-root-day.jpg"/>
          <p:cNvPicPr/>
          <p:nvPr/>
        </p:nvPicPr>
        <p:blipFill>
          <a:blip r:embed="rId6"/>
          <a:stretch/>
        </p:blipFill>
        <p:spPr>
          <a:xfrm>
            <a:off x="5846760" y="2266920"/>
            <a:ext cx="292572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0" y="1523880"/>
            <a:ext cx="5029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1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Тільки в 1637 р. Рене Декарт з’єднав знак кореня з горизонтальною рискою, застосувавши в своїй «Геометрії» сучасний знак кореня      Цей знак став загальновживаним лише на початку  Х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V</a:t>
            </a: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ІІІ ст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Object 4" descr=""/>
          <p:cNvPicPr/>
          <p:nvPr/>
        </p:nvPicPr>
        <p:blipFill>
          <a:blip r:embed="rId3"/>
          <a:stretch/>
        </p:blipFill>
        <p:spPr>
          <a:xfrm>
            <a:off x="4375080" y="4087800"/>
            <a:ext cx="466920" cy="380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2" descr="\\Vchitel\вчителі2\Скічко Т.М\Для учнів\8 клас\Алгебра\На презентацію\Походження кореня\250px-Frans_Hals_-_Portret_van_René_Descartes.jpg"/>
          <p:cNvPicPr/>
          <p:nvPr/>
        </p:nvPicPr>
        <p:blipFill>
          <a:blip r:embed="rId4"/>
          <a:stretch/>
        </p:blipFill>
        <p:spPr>
          <a:xfrm>
            <a:off x="5334120" y="1752480"/>
            <a:ext cx="3174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Г.І.Глейзер Історія математики в школі. «Просвещение». М.1964 р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c4b3b"/>
                </a:solidFill>
                <a:latin typeface="Franklin Gothic Book"/>
              </a:rPr>
              <a:t>http://shkolnik.in.ua/index.php?option=com_co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c4b3b"/>
                </a:solidFill>
                <a:latin typeface="Franklin Gothic Book"/>
              </a:rPr>
              <a:t>ntent&amp;view=category&amp;layout=blog&amp;id=9&amp;Itemid=26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c4b3b"/>
                </a:solidFill>
                <a:latin typeface="Franklin Gothic Book"/>
              </a:rPr>
              <a:t>http://ru.wikipedia.org/wiki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Прямокутник 8"/>
          <p:cNvSpPr/>
          <p:nvPr/>
        </p:nvSpPr>
        <p:spPr>
          <a:xfrm>
            <a:off x="914400" y="533520"/>
            <a:ext cx="47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користані джерел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8-04T16:46:5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c18000000000001024140</vt:lpwstr>
  </property>
  <property fmtid="{D5CDD505-2E9C-101B-9397-08002B2CF9AE}" pid="3" name="Version">
    <vt:r8>1</vt:r8>
  </property>
</Properties>
</file>