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9.wmf" ContentType="image/x-wmf"/>
  <Override PartName="/ppt/media/image13.png" ContentType="image/png"/>
  <Override PartName="/ppt/media/image11.jpeg" ContentType="image/jpeg"/>
  <Override PartName="/ppt/media/image19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F00A-6CA8-4AE5-8076-48E8BCCE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FC0-8AB7-41EF-AB33-E3302E90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E4DEE-2F58-40EC-9A57-753FD30C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366F8-D3FA-4D2A-91E3-97ED6ED7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3525A-C7AB-4A3B-A027-17D5C626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0A605-4129-4100-ADEC-70FB4BE6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C7F8C-9F5A-475D-B1C4-0B691CCA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30C6D-E677-4F8D-B35D-0B52F83E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54D5C-EFC0-4011-A195-BCE2A6F9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CB925-7F16-4FDF-88B6-3BC36779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F8E56-EDA3-46D6-8EF0-55D9E367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37E-39A0-4B17-998D-3897324B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1D5-822F-453B-BDE3-50072ED0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E631-B3F6-4221-B395-23883745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791D-7890-4C24-AF90-DEB3B5F0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517A-6749-4E4B-BC5D-8F1539A9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DE1A-0919-42EA-9F89-F4404BAA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62D6-E77E-41BD-A76B-C719CFC2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6407-41EC-4D4B-ABF5-5F0190B2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3837-9046-484B-A83F-D3B49D86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A73-B42D-49D1-9BF6-2714D21D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793D-6736-49DA-AB28-475FA67D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3B43-046F-40AD-A0F4-515A71BF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AA0D-351B-460E-8F6F-0574DBA4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15B1-2AD0-478D-9B75-EFBBF82A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7A3E-67F6-4154-AF6A-D4EEA93F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4529C-435C-43A1-B823-478C8161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29DBA-C512-465D-B5BE-F68531C2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5CA13-FC3C-4D45-9797-4F75FB1B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7936-CFD2-4302-8F52-5D61DF36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A72A-F3C7-480E-92FE-91ACA740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1B0-64BD-457B-9B61-FE7A872B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24425-8F72-45C4-866F-E6C6B89C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51847-FADF-42C6-A95A-62C0DCC8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18FB5-7C58-4EE4-B4EB-2BE16B46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25B1A-9452-4B6A-9264-433B60EA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CFE53-FF6A-4367-9693-791C7A39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59663-62E6-499D-8058-85FCB2F0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E41B7-7734-47B2-8D09-E9173C91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35ECB-2518-42E5-90A8-65CBEC6A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73AF2-1ABE-4286-81D0-27EBEBFA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D740E-47B3-4652-8FE0-30A89275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F5E-FCFD-4616-805C-59563E63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147B0-4A8A-4E34-9513-0D26915E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6285D-563C-428C-8033-16869AE8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A9854-C5B0-451F-87B6-E385C6E1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CCB44-02DC-4362-B7A4-608D24DF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A9F88-D749-40DA-9193-0BBF50D6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1BF3E-F8DB-4F87-A9ED-1D62CAA8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27326-4741-45E0-A75E-1941865F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D0BE2-3FB9-4543-89C8-9D57FA5B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9D078-7B1F-4240-BE6F-7BEE37DC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7C437-37A1-4693-9549-05F5C681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D6C-530B-4BEB-8C23-D849061E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0E69A-3D7B-457E-BB36-7D466B58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98D0B-A858-4E63-BC10-01E8F35C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88575-C587-45D6-9C2C-9A4687B7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AC222-72E4-4E0A-BB6F-C54BC7E0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13380-2F3A-4B36-BDFD-D75B4000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13E0C-21AF-486F-80F7-EE388A18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4DF11-E56B-4E43-842B-0BE6B5C7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E21F5-C476-4F9C-84A1-AD957FD8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8974D-939A-4459-B15E-C3D9A614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00F5A-E71D-467A-967E-FEEF88C1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2B6-13BA-4880-B99B-11BBF0C3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E5308-0DFC-4FD5-B09E-14D0E6A5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422D9-A986-4C88-9C01-188F43AC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62F98-5257-4A23-AE42-B1C875C5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857F0-C1C6-4CC5-8FF3-43E4746D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7C815-D04A-40E1-91D7-D97F77F2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C68B0-ABC3-4D4C-A9D6-3A086284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47770-E57D-4B0B-96D4-0BF08538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20E91-AF49-4AFD-8359-FEA9CE52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6E8A1-6DE0-47E1-AB79-35B214E7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B72EF-54DF-4C91-9660-46DECB38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AA5-236C-4457-BD3A-FA405AFB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EE474-B53E-4B3E-99A6-161D9EAF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5F45B-153C-4810-8823-F33E7A0A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C2FFA-6166-4D8C-8DAE-C30264E8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BB5AF-0FA9-49EB-B5CA-6DA7875B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14304-4D11-4A88-8EF4-891558DD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F243A-68A2-4E9F-BA74-B0791EC3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65A11-147E-4B37-9CF8-660DEFDC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89A05-6552-4FBB-BEE7-73A795A8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A5B8E-E68A-434F-B7B9-E73C1C35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4D614-C2BC-417C-A3EF-B669ED6A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05E-F830-4C26-94F8-13B89029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EC1B6-9A01-4519-A11A-C296BCC8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3638C-4379-4B54-86D8-CE862BEF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75966-289C-4EAC-BF2A-A7E54C62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A417A-F953-4BA4-B979-7431C12C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6E064-A949-4079-93D8-6B267C47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5D641-16C6-4BD8-B569-CFAD7BD5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72E98-458F-4376-8F11-11EB5989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9971B-2013-4F28-99B5-740EA0C1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E367E-1FAA-492B-831F-56A19F4D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5D71D-59A4-43D1-A810-29F29D39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878-7E0C-49A9-9D47-A6CF199A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4D997-D249-46F0-9ABE-C6ABDAD1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90BBD-169D-473F-B0EC-C33B30CB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12B5B-70F6-40AA-8AB6-006610B8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3120F-D07E-4777-A343-58D56E7B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46877-090D-49B7-8AD3-6D1E75E3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649CE-445F-4941-819A-7628C079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17FB8-5CAE-458F-89E3-B7A76783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9B688-7347-45AC-BF3C-411323A9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55A3A-E16A-42D1-9B2B-A4FE8909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D9E30-465B-41DB-98BD-FFB271AA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 сполучна ліні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2F45-1CE0-4191-9D35-F62E31D19DC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 сполучна ліні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 сполучна ліні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 сполучна ліні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8373-C276-465F-B624-931B6BF142B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 сполучна ліні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 сполучна ліні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 сполучна ліні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E3D3-32CF-4FE6-938B-A2712AEE269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 сполучна ліні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24A4-66A1-4846-8295-560A3225436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 сполучна ліні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8F6B-8015-4787-9355-8D9FB9F93E5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550B-D822-4755-9716-AD1C5B13002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 сполучна ліні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028C-6A0D-4F8F-AB06-F92D04D8E85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C560-6455-4C8D-8A5C-9546B6F3A55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B080-84DC-4E78-A125-75F22897963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7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2"/>
          <a:stretch/>
        </p:blipFill>
        <p:spPr>
          <a:xfrm>
            <a:off x="152280" y="4005360"/>
            <a:ext cx="8972640" cy="18777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190760" y="563868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uk-UA" sz="2000" spc="-1" strike="noStrike">
                <a:solidFill>
                  <a:srgbClr val="443329"/>
                </a:solidFill>
                <a:latin typeface="Franklin Gothic Demi"/>
              </a:rPr>
              <a:t>Дослідження учнів 8 класу</a:t>
            </a:r>
            <a:r>
              <a:rPr b="0" lang="en-US" sz="2000" spc="-1" strike="noStrike">
                <a:solidFill>
                  <a:srgbClr val="443329"/>
                </a:solidFill>
                <a:latin typeface="Franklin Gothic Demi"/>
              </a:rPr>
              <a:t>:</a:t>
            </a:r>
            <a:r>
              <a:rPr b="0" lang="uk-UA" sz="2000" spc="-1" strike="noStrike">
                <a:solidFill>
                  <a:srgbClr val="443329"/>
                </a:solidFill>
                <a:latin typeface="Franklin Gothic Demi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43329"/>
                </a:solidFill>
                <a:latin typeface="Franklin Gothic Demi"/>
              </a:rPr>
              <a:t>Скічко І., Ткаченко В., Масич І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28600" y="5335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uk-UA" sz="2000" spc="-1" strike="noStrike">
                <a:solidFill>
                  <a:srgbClr val="443329"/>
                </a:solidFill>
                <a:latin typeface="Arial"/>
              </a:rPr>
              <a:t>Косарська загальноосвітня школа І-ІІІ ступен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47404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Виникнення знака корен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Чому корінь називають радикалом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Еволюція знак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Перше використання знака кореня в математичній літературі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Видозміна знака корен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Знак кореня від Рене Декар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Object 7" descr=""/>
          <p:cNvPicPr/>
          <p:nvPr/>
        </p:nvPicPr>
        <p:blipFill>
          <a:blip r:embed="rId3"/>
          <a:stretch/>
        </p:blipFill>
        <p:spPr>
          <a:xfrm>
            <a:off x="3505320" y="2666880"/>
            <a:ext cx="83808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Еволюція знака радикала продовжувалась більше 500 рокі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Починаючи з ХІІІ ст. італійські та інші європейські математики позначали корінь латинським словом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adix 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(корінь) або скорочено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, потім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</a:t>
            </a:r>
            <a:r>
              <a:rPr b="0" lang="en-US" sz="3200" spc="-1" strike="noStrike" baseline="-25000">
                <a:solidFill>
                  <a:srgbClr val="4e3b30"/>
                </a:solidFill>
                <a:latin typeface="Franklin Gothic Book"/>
              </a:rPr>
              <a:t>x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В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XV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 ст. Н.Шюке писав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</a:t>
            </a:r>
            <a:r>
              <a:rPr b="0" lang="uk-UA" sz="3200" spc="-1" strike="noStrike" baseline="30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12 замість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Object 4" descr=""/>
          <p:cNvPicPr/>
          <p:nvPr/>
        </p:nvPicPr>
        <p:blipFill>
          <a:blip r:embed="rId3"/>
          <a:stretch/>
        </p:blipFill>
        <p:spPr>
          <a:xfrm>
            <a:off x="7162920" y="4572000"/>
            <a:ext cx="8380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90043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4e3b30"/>
                </a:solidFill>
                <a:latin typeface="Franklin Gothic Book"/>
              </a:rPr>
              <a:t>У Стародавній Індії невідоме іменувалося «мула», що означає «початок», «основа», «корінь (дерева)». Араби для цих цілей використовували слово «джізр» з тим же значенням. Європейці переклали його на латину як radix - «корінь». Так виник математичний термін «радикал»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72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\\Vchitel\вчителі2\Скічко Т.М\Для учнів\8 клас\Алгебра\На презентацію\Застосування кореня\156.jpg"/>
          <p:cNvPicPr/>
          <p:nvPr/>
        </p:nvPicPr>
        <p:blipFill>
          <a:blip r:embed="rId3"/>
          <a:stretch/>
        </p:blipFill>
        <p:spPr>
          <a:xfrm>
            <a:off x="5006880" y="1600200"/>
            <a:ext cx="3625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228240" y="1554120"/>
            <a:ext cx="51814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16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4e3b30"/>
                </a:solidFill>
                <a:latin typeface="Franklin Gothic Book"/>
              </a:rPr>
              <a:t>Деякі математики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XV</a:t>
            </a:r>
            <a:r>
              <a:rPr b="0" lang="uk-UA" sz="3000" spc="-1" strike="noStrike">
                <a:solidFill>
                  <a:srgbClr val="4e3b30"/>
                </a:solidFill>
                <a:latin typeface="Franklin Gothic Book"/>
              </a:rPr>
              <a:t> ст. позначали квадратний корінь точкою перед числом чи виразом; корені вищих степенів – декількома точками. Ті точки, що ставились перед підкореневим виразом, перейшли в скоропису в рисочки, і, можливо, з них і виник знак кореня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uk-UA" sz="3000" spc="-1" strike="noStrike">
                <a:solidFill>
                  <a:srgbClr val="4e3b30"/>
                </a:solidFill>
                <a:latin typeface="Franklin Gothic Book"/>
              </a:rPr>
              <a:t> (без верхньої риски сучасного знака       )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ject 4" descr=""/>
          <p:cNvPicPr/>
          <p:nvPr/>
        </p:nvPicPr>
        <p:blipFill>
          <a:blip r:embed="rId3"/>
          <a:stretch/>
        </p:blipFill>
        <p:spPr>
          <a:xfrm>
            <a:off x="1676520" y="594360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416" name="Полілінія 7"/>
          <p:cNvSpPr/>
          <p:nvPr/>
        </p:nvSpPr>
        <p:spPr>
          <a:xfrm>
            <a:off x="5791320" y="1905120"/>
            <a:ext cx="2670120" cy="3776400"/>
          </a:xfrm>
          <a:prstGeom prst="pie">
            <a:avLst/>
          </a:prstGeom>
          <a:noFill/>
          <a:ln w="8892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кутник 8"/>
          <p:cNvSpPr/>
          <p:nvPr/>
        </p:nvSpPr>
        <p:spPr>
          <a:xfrm>
            <a:off x="914400" y="533520"/>
            <a:ext cx="47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волюція зна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Object 8" descr=""/>
          <p:cNvPicPr/>
          <p:nvPr/>
        </p:nvPicPr>
        <p:blipFill>
          <a:blip r:embed="rId4"/>
          <a:stretch/>
        </p:blipFill>
        <p:spPr>
          <a:xfrm>
            <a:off x="4038480" y="438120"/>
            <a:ext cx="83844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2"/>
          <a:stretch/>
        </p:blipFill>
        <p:spPr>
          <a:xfrm>
            <a:off x="133200" y="-36360"/>
            <a:ext cx="8864640" cy="1487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228600" y="15238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Цей знак вперше зустрічається в німецькій книзі з алгебри, виданій в 1525 р. в Страсбурзі. Автором цієї книги був уродженець Чехії, вчитель математики з Відня, Криштоф Рудольф. Знаком кореня користувались в Х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І ст. М.Штифель, С.Стевін та ін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Picture 2" descr="C:\Users\Учень\Pictures\текст.jpg"/>
          <p:cNvPicPr/>
          <p:nvPr/>
        </p:nvPicPr>
        <p:blipFill>
          <a:blip r:embed="rId3"/>
          <a:srcRect l="0" t="0" r="9" b="-67"/>
          <a:stretch/>
        </p:blipFill>
        <p:spPr>
          <a:xfrm>
            <a:off x="4952880" y="1359000"/>
            <a:ext cx="39196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5471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371240"/>
            <a:ext cx="5486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16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В 1626 р. нідерландський математик А.Жирар, поєднуючи  знак Рудольфа з показниками Шюке, ввів близьке до сучасного позначення            .. Це позначення стало витісняти знак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. Але довгий час писали, наприклад              ,  (замість сучасного          )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Picture 6" descr=""/>
          <p:cNvPicPr/>
          <p:nvPr/>
        </p:nvPicPr>
        <p:blipFill>
          <a:blip r:embed="rId3"/>
          <a:srcRect l="0" t="0" r="82377" b="46286"/>
          <a:stretch/>
        </p:blipFill>
        <p:spPr>
          <a:xfrm>
            <a:off x="2819520" y="3886200"/>
            <a:ext cx="1143000" cy="438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"/>
          <p:cNvPicPr/>
          <p:nvPr/>
        </p:nvPicPr>
        <p:blipFill>
          <a:blip r:embed="rId4"/>
          <a:srcRect l="76151" t="46462" r="-44" b="-44"/>
          <a:stretch/>
        </p:blipFill>
        <p:spPr>
          <a:xfrm>
            <a:off x="4114800" y="5410080"/>
            <a:ext cx="1295280" cy="4446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Object 8" descr=""/>
          <p:cNvPicPr/>
          <p:nvPr/>
        </p:nvPicPr>
        <p:blipFill>
          <a:blip r:embed="rId5"/>
          <a:stretch/>
        </p:blipFill>
        <p:spPr>
          <a:xfrm>
            <a:off x="4038480" y="586728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\\Vchitel\вчителі2\Скічко Т.М\Для учнів\8 клас\Квадратні корені\Картинки\square-root-day.jpg"/>
          <p:cNvPicPr/>
          <p:nvPr/>
        </p:nvPicPr>
        <p:blipFill>
          <a:blip r:embed="rId6"/>
          <a:stretch/>
        </p:blipFill>
        <p:spPr>
          <a:xfrm>
            <a:off x="5846760" y="2266920"/>
            <a:ext cx="29257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0" y="152388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Тільки в 1637 р. Рене Декарт з’єднав знак кореня з горизонтальною рискою, застосувавши в своїй «Геометрії» сучасний знак кореня      Цей знак став загальновживаним лише на початку  Х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ІІІ с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Object 4" descr=""/>
          <p:cNvPicPr/>
          <p:nvPr/>
        </p:nvPicPr>
        <p:blipFill>
          <a:blip r:embed="rId3"/>
          <a:stretch/>
        </p:blipFill>
        <p:spPr>
          <a:xfrm>
            <a:off x="4375080" y="4087800"/>
            <a:ext cx="466920" cy="380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\\Vchitel\вчителі2\Скічко Т.М\Для учнів\8 клас\Алгебра\На презентацію\Походження кореня\250px-Frans_Hals_-_Portret_van_René_Descartes.jpg"/>
          <p:cNvPicPr/>
          <p:nvPr/>
        </p:nvPicPr>
        <p:blipFill>
          <a:blip r:embed="rId4"/>
          <a:stretch/>
        </p:blipFill>
        <p:spPr>
          <a:xfrm>
            <a:off x="5334120" y="1752480"/>
            <a:ext cx="3174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Г.І.Глейзер Історія математики в школі. «Просвещение». М.1964 р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c4b3b"/>
                </a:solidFill>
                <a:latin typeface="Franklin Gothic Book"/>
              </a:rPr>
              <a:t>http://shkolnik.in.ua/index.php?option=com_c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c4b3b"/>
                </a:solidFill>
                <a:latin typeface="Franklin Gothic Book"/>
              </a:rPr>
              <a:t>ntent&amp;view=category&amp;layout=blog&amp;id=9&amp;Itemid=26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c4b3b"/>
                </a:solidFill>
                <a:latin typeface="Franklin Gothic Book"/>
              </a:rPr>
              <a:t>http://ru.wikipedia.org/wik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Прямокутник 8"/>
          <p:cNvSpPr/>
          <p:nvPr/>
        </p:nvSpPr>
        <p:spPr>
          <a:xfrm>
            <a:off x="914400" y="533520"/>
            <a:ext cx="47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ані джере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8-04T16:46:5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18000000000001024140</vt:lpwstr>
  </property>
  <property fmtid="{D5CDD505-2E9C-101B-9397-08002B2CF9AE}" pid="3" name="Version">
    <vt:r8>1</vt:r8>
  </property>
</Properties>
</file>