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png" ContentType="image/png"/>
  <Override PartName="/ppt/media/image22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4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7.wmf" ContentType="image/x-wmf"/>
  <Override PartName="/ppt/media/image10.wmf" ContentType="image/x-wmf"/>
  <Override PartName="/ppt/media/image11.wmf" ContentType="image/x-wmf"/>
  <Override PartName="/ppt/media/image33.gif" ContentType="image/gif"/>
  <Override PartName="/ppt/media/image26.png" ContentType="image/png"/>
  <Override PartName="/ppt/media/image25.png" ContentType="image/png"/>
  <Override PartName="/ppt/media/image32.gif" ContentType="image/gif"/>
  <Override PartName="/ppt/media/image30.wmf" ContentType="image/x-wmf"/>
  <Override PartName="/ppt/media/image34.gif" ContentType="image/gif"/>
  <Override PartName="/ppt/media/image9.gif" ContentType="image/gif"/>
  <Override PartName="/ppt/media/image13.gif" ContentType="image/gif"/>
  <Override PartName="/ppt/media/image37.gif" ContentType="image/gif"/>
  <Override PartName="/ppt/media/image39.png" ContentType="image/png"/>
  <Override PartName="/ppt/media/image41.png" ContentType="image/png"/>
  <Override PartName="/ppt/media/image2.wmf" ContentType="image/x-wmf"/>
  <Override PartName="/ppt/media/image36.gif" ContentType="image/gif"/>
  <Override PartName="/ppt/media/image6.wmf" ContentType="image/x-wmf"/>
  <Override PartName="/ppt/media/image29.wmf" ContentType="image/x-wmf"/>
  <Override PartName="/ppt/media/image40.png" ContentType="image/png"/>
  <Override PartName="/ppt/media/image8.wmf" ContentType="image/x-wmf"/>
  <Override PartName="/ppt/media/image4.wmf" ContentType="image/x-wmf"/>
  <Override PartName="/ppt/media/image27.wmf" ContentType="image/x-wmf"/>
  <Override PartName="/ppt/media/image15.png" ContentType="image/png"/>
  <Override PartName="/ppt/media/image1.wmf" ContentType="image/x-wmf"/>
  <Override PartName="/ppt/media/image31.wmf" ContentType="image/x-wmf"/>
  <Override PartName="/ppt/media/image35.gif" ContentType="image/gif"/>
  <Override PartName="/ppt/media/image38.jpeg" ContentType="image/jpeg"/>
  <Override PartName="/ppt/media/image5.gif" ContentType="image/gif"/>
  <Override PartName="/ppt/media/image16.gif" ContentType="image/gi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091-B8D6-4AFD-AF31-9E5B87A5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CCC-3C66-42D3-8F44-6F3EF1EE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10C-F5F2-4FB0-881A-F48F932A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993-AA3B-4EAF-B8F4-9BB4F728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9DC-51BB-49A0-9147-0567FD91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180-D285-47D1-A371-31FB8107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92F-3B01-4F33-95D7-EAADF32F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F78-9084-48B3-B9C0-C9F326CE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CEB-B084-4A70-9620-F25AF881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6B7-057E-463C-AE64-61A0029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5F6-BE62-4203-84A9-C42B5AE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075-BC7B-42F3-935E-1615EA53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1C2-33D5-46B0-BD48-34D273488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0280"/>
            <a:ext cx="777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п'янський НВК "ШКОЛА-ГІМНАЗІЯ №3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2205000"/>
            <a:ext cx="835344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866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Інтегрований урок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 математики та інформатики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6 клас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5229360"/>
            <a:ext cx="540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читель: Голік Ірина анатоліївна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уалізація опорних знань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8000" y="198900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067920"/>
            <a:ext cx="856296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AutoNum type="arabicPeriod"/>
              <a:tabLst>
                <a:tab algn="l" pos="9064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Для чого використовують діаграм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48000" y="4869000"/>
            <a:ext cx="2701800" cy="154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851920"/>
            <a:ext cx="770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2. Які діаграми ви знає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2628720" cy="1501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8640"/>
            <a:ext cx="828036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3. За допомогою якої  програми можна будувати діаграми не в зошитах,  а при роботі з комп’ютеро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59640" y="1052640"/>
            <a:ext cx="212400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2275920"/>
            <a:ext cx="799128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4. Наведіть приклади використання діаграм в сучасному житті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03640" y="4653000"/>
            <a:ext cx="22701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772640"/>
            <a:ext cx="8137440" cy="314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5. Як ви гадаєте,  у яких випадках зручно подавати інформацію у вигляді кругових діаграм, а в яких  у вигляді стовпчастих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87640" y="5229360"/>
            <a:ext cx="212580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тивація вивчення даної теми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70028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м, мабуть, неодноразово доводилося чути вислів „діаграми зростання”. Якщо хочуть продемонструвати, як з плином часу змінюється деяка величина, то наочнішими є стовпчасті діаграми. Зверніть увагу на різноманіття оформлення діаграм у задачах. Наприклад, стовпчаста діаграма може складатися не тільки з вертикальних стовпчиків, а й з горизонтальних смуж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277320" cy="20476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p:transition spd="slow">
    <p:cover dir="l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329080" cy="304020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5665680" cy="3095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p:transition spd="slow">
    <p:cover dir="l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на робота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24360" y="2060640"/>
            <a:ext cx="2895840" cy="324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2400840"/>
            <a:ext cx="52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Сьогодні ми з вами на практиці ознайомимося зі стовпчастими діагра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Для цього виконаємо практичну робо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361080"/>
            <a:ext cx="7632720" cy="199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вантажити табличний процесор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icrosoft Excel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к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/Програми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/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808000" cy="1082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684072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434520"/>
            <a:ext cx="4032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5400000"/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Уважно прочитати умову задачі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00"/>
                </a:solidFill>
                <a:latin typeface="Arial"/>
              </a:rPr>
              <a:t>Користуючись таблицею середніх температур повітря в окремих регіонах України, побудуйте відповідну стовпчасту діагра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1614240" cy="17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572000" y="1989000"/>
          <a:ext cx="4030560" cy="4577040"/>
        </p:xfrm>
        <a:graphic>
          <a:graphicData uri="http://schemas.openxmlformats.org/drawingml/2006/table">
            <a:tbl>
              <a:tblPr/>
              <a:tblGrid>
                <a:gridCol w="2016000"/>
                <a:gridCol w="20145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с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ьв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жг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ї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к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т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нець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гансь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л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slow">
    <p:cover dir="l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0920" y="1052640"/>
            <a:ext cx="8353440" cy="31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а уроку: 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Стовпчасті діаграми"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3409920"/>
            <a:ext cx="3676680" cy="1814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3789360"/>
            <a:ext cx="3809880" cy="2170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over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05440"/>
            <a:ext cx="34560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00"/>
                </a:solidFill>
                <a:latin typeface="Arial"/>
              </a:rPr>
              <a:t>Побудуйте таблицю, що відображає середню річну температуру повітря ва окремих регіонах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5003640" cy="486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362160"/>
            <a:ext cx="3456000" cy="2014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стовпчасту діагра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допомогою курсору виділити область таблиці – діапазон комір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457080"/>
            <a:ext cx="3456000" cy="11912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 панелі інструментів натиснути на кнопку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а диаграмм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/ тип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аграм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249228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3960720" cy="301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5516640"/>
            <a:ext cx="1074960" cy="963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19280" y="4869000"/>
            <a:ext cx="649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059280" y="5157360"/>
            <a:ext cx="649080" cy="1513080"/>
          </a:xfrm>
          <a:prstGeom prst="downArrow">
            <a:avLst>
              <a:gd name="adj1" fmla="val 50000"/>
              <a:gd name="adj2" fmla="val 582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412128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692640"/>
            <a:ext cx="4464000" cy="1008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 типі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грамм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оберіть тип :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нейчата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натисніть кнопку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5561280" cy="421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24000" y="335772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3141720"/>
            <a:ext cx="11541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6237360"/>
            <a:ext cx="1224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025640" cy="10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719280"/>
            <a:ext cx="3456000" cy="22284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діалоговому вік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тера диаграмм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’явиться приклад необхідної нам діаграми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оберіть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яды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 строках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Натисні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лее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1052640"/>
            <a:ext cx="5032440" cy="518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3640" y="414972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573408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48848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498600"/>
            <a:ext cx="5688000" cy="916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тер диаграмм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/ параметри діаграм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головок - ввести назву діагр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пис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да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х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поставити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67280" y="126828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176720" cy="362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00720" y="2852640"/>
            <a:ext cx="4460760" cy="360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242100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852640"/>
            <a:ext cx="1584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3429000"/>
            <a:ext cx="237636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221000"/>
            <a:ext cx="93672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609300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380360" y="620640"/>
            <a:ext cx="116820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000"/>
                            </p:stCondLst>
                            <p:childTnLst>
                              <p:par>
                                <p:cTn id="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217080"/>
            <a:ext cx="5688000" cy="916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 диаграмм / размещение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местить диаграмму на листе /имеющимся.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Натиснути /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отово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256360" cy="232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2708280"/>
            <a:ext cx="1439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28464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249080"/>
            <a:ext cx="3457440" cy="642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 повинні отримати наступний результа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24360" y="3789360"/>
            <a:ext cx="4883040" cy="2879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164360" y="1052640"/>
            <a:ext cx="1239840" cy="123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309960"/>
            <a:ext cx="5688000" cy="734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аналогічно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гістограм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7128000" cy="40719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311400"/>
            <a:ext cx="5688000" cy="734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аналогічно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руго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2480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432720"/>
            <a:ext cx="86407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найти суттєві відмінності кругової діаграми і стовпчастої. Зробити виснов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652760"/>
            <a:ext cx="4033800" cy="33606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248000" cy="34797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7000"/>
                            </p:stCondLst>
                            <p:childTnLst>
                              <p:par>
                                <p:cTn id="7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8000"/>
                            </p:stCondLst>
                            <p:childTnLst>
                              <p:par>
                                <p:cTn id="7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000"/>
                            </p:stCondLst>
                            <p:childTnLst>
                              <p:par>
                                <p:cTn id="7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1946520"/>
            <a:ext cx="8640720" cy="41173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 сьогоднішньому уроці ми ознайомились зі стовпчастими діаграмами, навчились будувати стовпчасті діаграми, лінійчаті, гістограми за допомогою табличного редакто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 Excel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навчилися „читати”  інформацію з діаграм. Зробили висновок про те, що кругові діаграми необхідно застосовувати, коли необхідно спів ставити частини якоїсь величини, а стовпчасті діаграми застосовують тоді, коли необхідно продемонструвати, як з плином часу змінюється деяка велич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55640" y="404640"/>
            <a:ext cx="424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 уроку: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484280"/>
            <a:ext cx="8052120" cy="283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Сформувати уявлення учнів про стовпчасті діаграм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Навчитися  будувати діаграми за відомими значеннями величини і „читати” їх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Розвивати навички роботи з інформаційно-комунікаційних технологі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4508640"/>
            <a:ext cx="2892600" cy="2170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00000" y="260280"/>
            <a:ext cx="741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340000" y="1125360"/>
            <a:ext cx="4390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флексі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3280" y="2016360"/>
            <a:ext cx="8640720" cy="459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к би ти оцінив свої здобутки на уроц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735280"/>
            <a:ext cx="619272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все розумію, я все роблю правильно.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3960360"/>
            <a:ext cx="6192720" cy="11912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ні була зрозуміла більша частина матеріалу, але я ще іноді допускаю помилки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5654520"/>
            <a:ext cx="619272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майже нічого не зрозумів, нова тема для мене дуже складна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877080" y="83664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8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0"/>
                            </p:stCondLst>
                            <p:childTnLst>
                              <p:par>
                                <p:cTn id="8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647640"/>
            <a:ext cx="568800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вте оцінку вчителю за робо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12 бальною шкалою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952720" cy="2746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348000" y="2774880"/>
            <a:ext cx="554508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вте оцінку собі за роботу  за 12 бальною шкалою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96388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71640" y="260280"/>
            <a:ext cx="74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є завдання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Скласти задачі за діаграм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-2412" t="0" r="-58" b="76"/>
          <a:stretch/>
        </p:blipFill>
        <p:spPr>
          <a:xfrm>
            <a:off x="179280" y="155736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240000" cy="211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0" t="0" r="37" b="47"/>
          <a:stretch/>
        </p:blipFill>
        <p:spPr>
          <a:xfrm>
            <a:off x="5003640" y="4437000"/>
            <a:ext cx="3924360" cy="227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003640" y="1700280"/>
            <a:ext cx="3672000" cy="268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1844640"/>
            <a:ext cx="8209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752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якую за співпрацю!</a:t>
            </a:r>
            <a:endParaRPr b="1" lang="en-US" sz="2400" spc="1" strike="noStrike">
              <a:ln w="4752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u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549360"/>
            <a:ext cx="770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вірка домашнього завдання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469880"/>
            <a:ext cx="8208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Завдання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круговій діаграмі наведено результати виборів мера Сонячного міста (у відсотках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кільки відсотків виборців брали участь у голосуванн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скільки відсотків більше виборців проголосувало за Знайку, ніж за Незнай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кільки відсотків виборців проголосувало проти Незнай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4930920" cy="282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43640" y="3860640"/>
            <a:ext cx="214776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989000"/>
          <a:ext cx="4103640" cy="2924280"/>
        </p:xfrm>
        <a:graphic>
          <a:graphicData uri="http://schemas.openxmlformats.org/drawingml/2006/table">
            <a:tbl>
              <a:tblPr/>
              <a:tblGrid>
                <a:gridCol w="3159360"/>
                <a:gridCol w="94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ували проти обох кандида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рали участь в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уванн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500720" y="1675440"/>
            <a:ext cx="421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сього виборців 100%, але не бра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часть в голосуванні 7%, тому брали участь у вибо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7%=9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Знайку проголосувало 85%, а за Незнайку 5%, тому 85%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%=80% на 80% голосів більше проголосували за Знайку ніж за Незнай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ти Незнайки проголосували: 93%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%=88% голосі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85920"/>
            <a:ext cx="856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авдання №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круговій діаграмі наведено розподіл використання учнем шостого класу Петром Іваненком вільного від навчання час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вільного часу Петро приділяє перебуванню на свіжому повітр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вільного часу Петро витрачає з користю для здоров’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кільки разів більше часу він витрачає на перегляд телевізійних програм і гру на комп’ютері, ніж на допомогу батька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и порадив ти Петру щось змінити в розподілі вільного час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4608360" cy="2629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14812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321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341360"/>
          <a:ext cx="4033800" cy="4206960"/>
        </p:xfrm>
        <a:graphic>
          <a:graphicData uri="http://schemas.openxmlformats.org/drawingml/2006/table">
            <a:tbl>
              <a:tblPr/>
              <a:tblGrid>
                <a:gridCol w="3328920"/>
                <a:gridCol w="70488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мо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ть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бування на свіжому повіт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 на комп'юте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т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пор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гля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прогр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356000" y="159516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 як весь вільний час від навчання є 100% то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(15%+35%+2%+20%+24%)=4% - перебування Петра на свіжому повітр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ас, який витрачає Петро з користю для здоров’я: перебування на свіжому повітрі, заняття спорт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%+15%=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4%+35%=59% - гра на комп’ютері і перегляд телепрогр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9% : 2% =  29,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обто у 29,5 разів більше  часу Петро витрачає на перегляд телевізійних програм і гру на комп’ютері, ніж на допомогу батьк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105480"/>
            <a:ext cx="800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авдання №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ряк Папай вважає, що найсмачніші пельмені з шпинатовою начинкою. Склад у відсотках цієї начинки подано на діаграмі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начинки становить зелена цибул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грамів шпинату міститься у 500 г начинк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752720" cy="3089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214812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916280"/>
          <a:ext cx="3600360" cy="3447720"/>
        </p:xfrm>
        <a:graphic>
          <a:graphicData uri="http://schemas.openxmlformats.org/drawingml/2006/table">
            <a:tbl>
              <a:tblPr/>
              <a:tblGrid>
                <a:gridCol w="2592360"/>
                <a:gridCol w="1008000"/>
              </a:tblGrid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и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93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92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і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79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 цибу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403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17067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 як вся начинка є 100% то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(15%+5%+65%)=15%  - становить цибу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хай 500г начинки – це 100%, а 65% - це х г, складемо пропорці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00 г – 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х г – 65%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відси маєм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4005360"/>
            <a:ext cx="2087640" cy="70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5600" y="4149000"/>
            <a:ext cx="28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г) – шпинату в начин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05:40:5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d000000000001024140</vt:lpwstr>
  </property>
</Properties>
</file>