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0.gif" ContentType="image/gif"/>
  <Override PartName="/ppt/media/image2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6.gif" ContentType="image/gif"/>
  <Override PartName="/ppt/media/image14.wmf" ContentType="image/x-wmf"/>
  <Override PartName="/ppt/media/image1.png" ContentType="image/png"/>
  <Override PartName="/ppt/media/image31.png" ContentType="image/png"/>
  <Override PartName="/ppt/media/image5.wmf" ContentType="image/x-wmf"/>
  <Override PartName="/ppt/media/image39.gif" ContentType="image/gif"/>
  <Override PartName="/ppt/media/image15.gif" ContentType="image/gif"/>
  <Override PartName="/ppt/media/image11.wmf" ContentType="image/x-wmf"/>
  <Override PartName="/ppt/media/image30.png" ContentType="image/png"/>
  <Override PartName="/ppt/media/image13.wmf" ContentType="image/x-wmf"/>
  <Override PartName="/ppt/media/image7.jpeg" ContentType="image/jpeg"/>
  <Override PartName="/ppt/media/image28.png" ContentType="image/png"/>
  <Override PartName="/ppt/media/image32.png" ContentType="image/png"/>
  <Override PartName="/ppt/media/image38.gif" ContentType="image/gif"/>
  <Override PartName="/ppt/media/image44.wmf" ContentType="image/x-wmf"/>
  <Override PartName="/ppt/media/image37.gif" ContentType="image/gif"/>
  <Override PartName="/ppt/media/image33.wmf" ContentType="image/x-wmf"/>
  <Override PartName="/ppt/media/image41.gif" ContentType="image/gif"/>
  <Override PartName="/ppt/media/image34.png" ContentType="image/png"/>
  <Override PartName="/ppt/media/image45.wmf" ContentType="image/x-wmf"/>
  <Override PartName="/ppt/media/image8.wmf" ContentType="image/x-wmf"/>
  <Override PartName="/ppt/media/image4.jpeg" ContentType="image/jpeg"/>
  <Override PartName="/ppt/media/image10.wmf" ContentType="image/x-wmf"/>
  <Override PartName="/ppt/media/image2.gif" ContentType="image/gif"/>
  <Override PartName="/ppt/media/image25.png" ContentType="image/png"/>
  <Override PartName="/ppt/media/image42.gif" ContentType="image/gif"/>
  <Override PartName="/ppt/media/image35.png" ContentType="image/png"/>
  <Override PartName="/ppt/media/image43.gif" ContentType="image/gif"/>
  <Override PartName="/ppt/media/image6.wmf" ContentType="image/x-wmf"/>
  <Override PartName="/ppt/media/image46.wmf" ContentType="image/x-wmf"/>
  <Override PartName="/ppt/media/image40.gif" ContentType="image/gif"/>
  <Override PartName="/ppt/media/image3.png" ContentType="image/png"/>
  <Override PartName="/ppt/media/image23.gif" ContentType="image/gif"/>
  <Override PartName="/ppt/media/image26.png" ContentType="image/png"/>
  <Override PartName="/ppt/media/image12.wmf" ContentType="image/x-wmf"/>
  <Override PartName="/ppt/media/image24.gif" ContentType="image/gif"/>
  <Override PartName="/ppt/media/image27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F54-89AC-48B3-B770-63ABFA1D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C14-80BC-4AEE-873B-96B8371B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F3C-8C0E-40EB-9ED1-E19C6A52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C30-5A06-45B6-B0EE-62115F7F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C8B-621C-408B-BF73-9AF9EFD7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8E9-FCAF-4124-89EB-765CBA34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3F9-FE03-4C15-A823-16BEA6C8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AFF-32E9-4C87-9E90-A3D0A027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2CA-2C9A-42DD-93CD-171B2A44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D59-772D-4F17-8341-4C94717A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1FB-4F8C-42AB-862E-DE73EAC8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756-D603-4FE1-BF0E-F9CDFB5F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F4BE-7328-4937-86F2-051F9DFDD4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484280"/>
            <a:ext cx="79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Інтегрований ур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з математики  та інформатик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Times New Roman"/>
              </a:rPr>
              <a:t>6 кла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4292640"/>
            <a:ext cx="71629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Учитель: Голік Ірина Анатоліївна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4360" y="260280"/>
            <a:ext cx="8135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Куп'янський НВК "ШКОЛА-ГІМНАЗІЯ №3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8"/>
          <a:stretch/>
        </p:blipFill>
        <p:spPr>
          <a:xfrm>
            <a:off x="7629480" y="5157720"/>
            <a:ext cx="127944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530280"/>
            <a:ext cx="5543280" cy="5730120"/>
          </a:xfrm>
          <a:prstGeom prst="rect">
            <a:avLst/>
          </a:prstGeom>
          <a:gradFill rotWithShape="0">
            <a:gsLst>
              <a:gs pos="0">
                <a:srgbClr val="ff6699"/>
              </a:gs>
              <a:gs pos="50000">
                <a:srgbClr val="ffff00"/>
              </a:gs>
              <a:gs pos="100000">
                <a:srgbClr val="ff6699"/>
              </a:gs>
            </a:gsLst>
            <a:lin ang="81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Times New Roman"/>
              </a:rPr>
              <a:t>Уважно прочитати умову задач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Учні шостих класів відвідують різні спортивні секції. Баскетбол відвідують 30 учнів, гандбол відвідують 25 учнів, футбол відвідують 78 учнів, волейбол - 30 учнів, легку атлетику 45 учні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12000" y="2852640"/>
            <a:ext cx="26668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466920"/>
            <a:ext cx="5184720" cy="2501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будуйте таблицю, що відображає відвідування учнями 6 класів спортивних секці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3357720"/>
          <a:ext cx="3961080" cy="3024000"/>
        </p:xfrm>
        <a:graphic>
          <a:graphicData uri="http://schemas.openxmlformats.org/drawingml/2006/table">
            <a:tbl>
              <a:tblPr/>
              <a:tblGrid>
                <a:gridCol w="2494080"/>
                <a:gridCol w="1467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скет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нд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т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ей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а атле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43640" y="476280"/>
            <a:ext cx="1736640" cy="1942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413568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4176720" cy="2655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56720" y="765000"/>
            <a:ext cx="50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27160"/>
            <a:ext cx="3816360" cy="2288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 даними таблиці побудувати кругову діагра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 допомогою курсору виділити область таблиці – діапазон комір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панелі інструментів натиснути на кнопк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астер диаграм/ Тип диаграм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27640" y="3500280"/>
            <a:ext cx="1074960" cy="963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372360" y="3068640"/>
            <a:ext cx="79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2781360"/>
            <a:ext cx="4105080" cy="3838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 flipV="1">
            <a:off x="4787280" y="4653000"/>
            <a:ext cx="2376360" cy="720720"/>
          </a:xfrm>
          <a:custGeom>
            <a:avLst/>
            <a:gdLst>
              <a:gd name="textAreaLeft" fmla="*/ -360 w 2376360"/>
              <a:gd name="textAreaRight" fmla="*/ 2376360 w 237636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945" stAng="10800000" swAng="5400000"/>
                <a:lnTo>
                  <a:pt x="14579" y="2215"/>
                </a:lnTo>
                <a:lnTo>
                  <a:pt x="14579" y="0"/>
                </a:lnTo>
                <a:lnTo>
                  <a:pt x="21600" y="6079"/>
                </a:lnTo>
                <a:lnTo>
                  <a:pt x="14579" y="12158"/>
                </a:lnTo>
                <a:lnTo>
                  <a:pt x="14579" y="9943"/>
                </a:lnTo>
                <a:lnTo>
                  <a:pt x="12427" y="9943"/>
                </a:lnTo>
                <a:arcTo wR="4699" hR="2217" stAng="16200000" swAng="-5400000"/>
                <a:lnTo>
                  <a:pt x="7728" y="216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76360" y="658440"/>
            <a:ext cx="7273800" cy="137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 типі діаграм оберіть тип :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угова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, натисніть кнопку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алее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689440" cy="4241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63640" y="3573360"/>
            <a:ext cx="2016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3068640"/>
            <a:ext cx="1152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6093000"/>
            <a:ext cx="2016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226800"/>
            <a:ext cx="7273800" cy="137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 діалоговому вікні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ера диаграмм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з’явиться приклад необхідної нам діаграми. Натисніть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ал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73800" cy="491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859280" y="6308640"/>
            <a:ext cx="1728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76360" y="297720"/>
            <a:ext cx="7273800" cy="947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астер диаграмм / параметри діаграм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оловок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 ввести назву діагр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6510600" cy="4633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1989000"/>
            <a:ext cx="1008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2852640"/>
            <a:ext cx="2016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19280" y="295920"/>
            <a:ext cx="7273800" cy="1922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астер диаграмм / параметри діагра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дписи дан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х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поставит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н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л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27640" y="1125360"/>
            <a:ext cx="412920" cy="412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5854680" cy="4129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79640" y="2708280"/>
            <a:ext cx="129708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789360"/>
            <a:ext cx="108108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6021360"/>
            <a:ext cx="1008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439920"/>
            <a:ext cx="2808000" cy="30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астер диаграмм /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е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местить диаграмму на листе /имеющимся.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тиснути 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тово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812480"/>
            <a:ext cx="2881080" cy="1557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 повинні отримати наступний результа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11640" y="3716280"/>
            <a:ext cx="4321080" cy="2924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476360" y="371628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51280" y="404640"/>
            <a:ext cx="5094360" cy="3024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16360" y="2133720"/>
            <a:ext cx="11509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85080" y="2924280"/>
            <a:ext cx="1008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3203640" y="184428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276720" y="515736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000"/>
                            </p:stCondLst>
                            <p:childTnLst>
                              <p:par>
                                <p:cTn id="2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573480"/>
            <a:ext cx="5760720" cy="5639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користовуючи побудовану діаграму дайте відповіді на запитанн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ку секцію відвідує найбільше шестикласників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кі секції відвідує однакова кількість шестикласників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ку частину від кількості футболістів становить кількість легкоатлетів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ільки відсотків гандболістів становить від кількості баскетболістів?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202440" y="2133720"/>
            <a:ext cx="294156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692360" y="836640"/>
            <a:ext cx="518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флексія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4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584720"/>
            <a:ext cx="792000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би ти оцінив свої здобутки на уроц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71400" y="2707560"/>
            <a:ext cx="6875640" cy="52056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 все розумію, я все роблю правильно.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3739680"/>
            <a:ext cx="7201080" cy="137376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ні була зрозуміла більша частина матеріалу, але я ще іноді допускаю помилки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5464440"/>
            <a:ext cx="7417080" cy="94716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 майже нічого не зрозумів, нова тема для мене дуже складна”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24040" cy="100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885080" y="404640"/>
            <a:ext cx="976320" cy="107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11280" y="260280"/>
            <a:ext cx="741672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ідсумок уроку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50920" y="26370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24000" y="393372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324000" y="537372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21252600">
            <a:off x="539280" y="620280"/>
            <a:ext cx="4032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ема уроку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 rot="20980200">
            <a:off x="4680" y="1701360"/>
            <a:ext cx="8064720" cy="27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3366"/>
                </a:solidFill>
                <a:latin typeface="Times New Roman"/>
              </a:rPr>
              <a:t>„</a:t>
            </a: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3366"/>
                </a:solidFill>
                <a:latin typeface="Times New Roman"/>
              </a:rPr>
              <a:t>Діаграми. Кругові діаграми.”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993366"/>
              </a:solidFill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3716280"/>
            <a:ext cx="4681440" cy="23655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ransition spd="slow"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9640" y="720720"/>
            <a:ext cx="6012000" cy="1800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ставте оцінку вчителю за роботу  за 12 бальною шкалою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ставте оцінку собі за роботу  за 12 бальною шкалою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371628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95280" y="18900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Домашнє завдання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372360" y="3213000"/>
            <a:ext cx="2971800" cy="3240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728280"/>
            <a:ext cx="8353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Завдання №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уговій діаграмі наведено результати виборів мера Сонячного міста (у відсотках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відсотків виборців брали участь у голосуванні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ільки відсотків більше виборців проголосувало за Знайку, ніж за Незнайк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22574" t="3349" r="1582" b="10048"/>
          <a:stretch/>
        </p:blipFill>
        <p:spPr>
          <a:xfrm>
            <a:off x="468360" y="3284640"/>
            <a:ext cx="5473800" cy="3022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00320" y="2677320"/>
            <a:ext cx="64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відсотків виборців проголосувало проти Незнайк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95280" y="18900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Домашнє завдання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659640" y="3618000"/>
            <a:ext cx="2971800" cy="3240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0920" y="1148760"/>
            <a:ext cx="849780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вдання №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уговій діаграмі наведено розподіл використання учнем шостого класу Петром Іваненком вільного від навчання часу. Скільки відсотків вільного часу Петро приділяє перебуванню на свіжому повітрі?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відсотків вільного часу Петро витрачає з користю для здоров’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кільки разів більше часу він витрачає на перегляд телевізійних програм і гру на комп’ютері, ніж на допомогу батькам?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5327640" cy="3097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2989440"/>
            <a:ext cx="52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порадив ти Петру щось змінити в розподілі вільного часу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1005120"/>
            <a:ext cx="849636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вдання №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як Папай вважає, що найсмачніші пельмені з шпинатовою начинкою. Склад у відсотках цієї начинки подано на діаграмі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відсотків начинки становить зелена цибул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ільки грамів шпинату міститься у 500 г начинк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2836800"/>
            <a:ext cx="5761080" cy="3795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311040" y="252288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8900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Домашнє завдання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659640" y="3618000"/>
            <a:ext cx="297180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71640" y="2060640"/>
            <a:ext cx="7345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Дякую за </a:t>
            </a:r>
            <a:endParaRPr b="1" i="1" lang="en-US" sz="2400" spc="1" strike="noStrike">
              <a:ln w="1584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півпрацю!</a:t>
            </a:r>
            <a:endParaRPr b="1" i="1" lang="en-US" sz="2400" spc="1" strike="noStrike">
              <a:ln w="1584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ircl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24000" y="620640"/>
            <a:ext cx="525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МЕТА УРОКУ:</a:t>
            </a:r>
            <a:endParaRPr b="1" lang="en-US" sz="24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830960"/>
            <a:ext cx="8051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Ознайомитися з поняттям діаграми, кругові діагр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Навчитися  будувати діаграми за відомими значеннями величини і „читати” ї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51640" y="4292640"/>
            <a:ext cx="3162240" cy="2219400"/>
          </a:xfrm>
          <a:prstGeom prst="rect">
            <a:avLst/>
          </a:prstGeom>
          <a:ln w="57240">
            <a:solidFill>
              <a:srgbClr val="ff99cc"/>
            </a:solidFill>
            <a:miter/>
          </a:ln>
        </p:spPr>
      </p:pic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95640" y="3213000"/>
            <a:ext cx="4249800" cy="3176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419040"/>
            <a:ext cx="4103640" cy="367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859280" y="476280"/>
            <a:ext cx="396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отивація 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ивчення 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еми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55640" y="4653000"/>
            <a:ext cx="1905120" cy="1581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3814560" cy="3011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743280" cy="30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889440" cy="2879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859280" y="3687840"/>
            <a:ext cx="3673440" cy="29811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spd="slow">
    <p:circl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680000" cy="324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4032360" cy="2976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00720" y="1125360"/>
            <a:ext cx="4321080" cy="338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867280" y="4221000"/>
            <a:ext cx="1957680" cy="234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24160" cy="2879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92720" cy="295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076720" y="3429000"/>
            <a:ext cx="381636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3357720"/>
            <a:ext cx="466740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26920" y="549360"/>
            <a:ext cx="756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актична робота</a:t>
            </a:r>
            <a:endParaRPr b="1" i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105440" cy="342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00720" y="1556280"/>
            <a:ext cx="443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Сьогодні ми з вами на практиці ознайомимося з круговими діаграм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Для цього виконаємо практичну робот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41520" y="2781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2808360" cy="1082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764640"/>
            <a:ext cx="763272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вантажити табличний процесор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crosoft Excel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уск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Програми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684072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8-04T05:39:29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11000000000001024140</vt:lpwstr>
  </property>
</Properties>
</file>