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4.png" ContentType="image/png"/>
  <Override PartName="/ppt/media/image22.png" ContentType="image/png"/>
  <Override PartName="/ppt/media/image20.png" ContentType="image/png"/>
  <Override PartName="/ppt/media/image23.png" ContentType="image/png"/>
  <Override PartName="/ppt/media/image18.gif" ContentType="image/gif"/>
  <Override PartName="/ppt/media/image14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7.wmf" ContentType="image/x-wmf"/>
  <Override PartName="/ppt/media/image10.wmf" ContentType="image/x-wmf"/>
  <Override PartName="/ppt/media/image11.wmf" ContentType="image/x-wmf"/>
  <Override PartName="/ppt/media/image33.gif" ContentType="image/gif"/>
  <Override PartName="/ppt/media/image26.png" ContentType="image/png"/>
  <Override PartName="/ppt/media/image25.png" ContentType="image/png"/>
  <Override PartName="/ppt/media/image32.gif" ContentType="image/gif"/>
  <Override PartName="/ppt/media/image30.wmf" ContentType="image/x-wmf"/>
  <Override PartName="/ppt/media/image34.gif" ContentType="image/gif"/>
  <Override PartName="/ppt/media/image9.gif" ContentType="image/gif"/>
  <Override PartName="/ppt/media/image13.gif" ContentType="image/gif"/>
  <Override PartName="/ppt/media/image37.gif" ContentType="image/gif"/>
  <Override PartName="/ppt/media/image39.png" ContentType="image/png"/>
  <Override PartName="/ppt/media/image41.png" ContentType="image/png"/>
  <Override PartName="/ppt/media/image2.wmf" ContentType="image/x-wmf"/>
  <Override PartName="/ppt/media/image36.gif" ContentType="image/gif"/>
  <Override PartName="/ppt/media/image6.wmf" ContentType="image/x-wmf"/>
  <Override PartName="/ppt/media/image29.wmf" ContentType="image/x-wmf"/>
  <Override PartName="/ppt/media/image40.png" ContentType="image/png"/>
  <Override PartName="/ppt/media/image8.wmf" ContentType="image/x-wmf"/>
  <Override PartName="/ppt/media/image4.wmf" ContentType="image/x-wmf"/>
  <Override PartName="/ppt/media/image27.wmf" ContentType="image/x-wmf"/>
  <Override PartName="/ppt/media/image15.png" ContentType="image/png"/>
  <Override PartName="/ppt/media/image1.wmf" ContentType="image/x-wmf"/>
  <Override PartName="/ppt/media/image31.wmf" ContentType="image/x-wmf"/>
  <Override PartName="/ppt/media/image35.gif" ContentType="image/gif"/>
  <Override PartName="/ppt/media/image38.jpeg" ContentType="image/jpeg"/>
  <Override PartName="/ppt/media/image5.gif" ContentType="image/gif"/>
  <Override PartName="/ppt/media/image16.gif" ContentType="image/gif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C895-4F75-43F4-8FCC-162F2C452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3F56-843B-4530-9235-14AFD3D7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54CC-3BEE-43A4-A4CF-C86593DC4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9409-1FBE-4BB6-ADF6-C5B86CB3A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DBCD-843A-407D-B528-EF78A009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5B5F-D219-4E17-8C8D-72C0CA0A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E98A-DB21-4DE2-86FA-06AB1477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D9A9-C45D-49CD-8B06-421224A3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EFBD-7B7A-4FAE-890C-A205F306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16E6-B622-43CB-A724-497B844C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AFA2-1CFE-48F8-8F5F-95465410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4A82-1596-40CE-A01D-8FB51FE4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2CD0-E939-450B-A8C3-F0B81FACF0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image" Target="../media/image34.gif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260280"/>
            <a:ext cx="777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уп'янський НВК "ШКОЛА-ГІМНАЗІЯ №3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8360" y="2205000"/>
            <a:ext cx="8353440" cy="1019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866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Інтегрований урок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з математики та інформатики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6 клас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556000" y="5229360"/>
            <a:ext cx="5400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Учитель: Голік Ірина анатоліївна</a:t>
            </a:r>
            <a:endParaRPr b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971640" y="620640"/>
            <a:ext cx="741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ктуалізація опорних знань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908000" y="1989000"/>
            <a:ext cx="5400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ронтальне опитування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3067920"/>
            <a:ext cx="8562960" cy="13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AutoNum type="arabicPeriod"/>
              <a:tabLst>
                <a:tab algn="l" pos="906480"/>
                <a:tab algn="l" pos="261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6600"/>
                </a:solidFill>
                <a:latin typeface="Arial"/>
              </a:rPr>
              <a:t>Для чого використовують діаграми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348000" y="4869000"/>
            <a:ext cx="2701800" cy="1544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692360" y="907920"/>
            <a:ext cx="5400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ронтальне опитування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2851920"/>
            <a:ext cx="770400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261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6600"/>
                </a:solidFill>
                <a:latin typeface="Arial"/>
              </a:rPr>
              <a:t>2. Які діаграми ви знаєте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419640" y="4292640"/>
            <a:ext cx="2628720" cy="1501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692360" y="907920"/>
            <a:ext cx="5400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ронтальне опитування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2348640"/>
            <a:ext cx="8280360" cy="2531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261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6600"/>
                </a:solidFill>
                <a:latin typeface="Arial"/>
              </a:rPr>
              <a:t>3. За допомогою якої  програми можна будувати діаграми не в зошитах,  а при роботі з комп’ютером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659640" y="1052640"/>
            <a:ext cx="2124000" cy="1214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692360" y="907920"/>
            <a:ext cx="5400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ронтальне опитування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2275920"/>
            <a:ext cx="7991280" cy="1922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6600"/>
                </a:solidFill>
                <a:latin typeface="Arial"/>
              </a:rPr>
              <a:t>4. Наведіть приклади використання діаграм в сучасному житті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03640" y="4653000"/>
            <a:ext cx="2270160" cy="1297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692360" y="907920"/>
            <a:ext cx="5400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ронтальне опитування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1772640"/>
            <a:ext cx="8137440" cy="314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261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6600"/>
                </a:solidFill>
                <a:latin typeface="Arial"/>
              </a:rPr>
              <a:t>5. Як ви гадаєте,  у яких випадках зручно подавати інформацію у вигляді кругових діаграм, а в яких  у вигляді стовпчастих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987640" y="5229360"/>
            <a:ext cx="2125800" cy="1214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971640" y="620640"/>
            <a:ext cx="741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тивація вивчення даної теми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1700280"/>
            <a:ext cx="77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ам, мабуть, неодноразово доводилося чути вислів „діаграми зростання”. Якщо хочуть продемонструвати, як з плином часу змінюється деяка величина, то наочнішими є стовпчасті діаграми. Зверніть увагу на різноманіття оформлення діаграм у задачах. Наприклад, стовпчаста діаграма може складатися не тільки з вертикальних стовпчиків, а й з горизонтальних смужок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87280" y="4005360"/>
            <a:ext cx="6277320" cy="2047680"/>
          </a:xfrm>
          <a:prstGeom prst="rect">
            <a:avLst/>
          </a:prstGeom>
          <a:ln w="57240">
            <a:solidFill>
              <a:srgbClr val="00cc00"/>
            </a:solidFill>
            <a:miter/>
          </a:ln>
        </p:spPr>
      </p:pic>
    </p:spTree>
  </p:cSld>
  <p:transition spd="slow">
    <p:cover dir="lu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3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6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6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6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5329080" cy="3040200"/>
          </a:xfrm>
          <a:prstGeom prst="rect">
            <a:avLst/>
          </a:prstGeom>
          <a:ln w="57240">
            <a:solidFill>
              <a:srgbClr val="00cc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843280" y="3573360"/>
            <a:ext cx="5665680" cy="309564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</p:spTree>
  </p:cSld>
  <p:transition spd="slow">
    <p:cover dir="lu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6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971640" y="620640"/>
            <a:ext cx="741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ктична робота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724360" y="2060640"/>
            <a:ext cx="2895840" cy="3240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68360" y="2400840"/>
            <a:ext cx="525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</a:rPr>
              <a:t>Сьогодні ми з вами на практиці ознайомимося зі стовпчастими діаграм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006600"/>
                </a:solidFill>
                <a:latin typeface="Times New Roman"/>
              </a:rPr>
              <a:t>Для цього виконаємо практичну роботу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u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500"/>
                            </p:stCondLst>
                            <p:childTnLst>
                              <p:par>
                                <p:cTn id="3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50920" y="361080"/>
            <a:ext cx="7632720" cy="199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</a:rPr>
              <a:t>1. </a:t>
            </a:r>
            <a:r>
              <a:rPr b="1" lang="uk-UA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вантажити табличний процесор 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Microsoft Excel</a:t>
            </a:r>
            <a:r>
              <a:rPr b="1" lang="uk-UA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уск</a:t>
            </a:r>
            <a:r>
              <a:rPr b="1" lang="uk-UA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/Програми</a:t>
            </a:r>
            <a:r>
              <a:rPr b="1" lang="uk-UA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/</a:t>
            </a:r>
            <a:r>
              <a:rPr b="1" lang="uk-UA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419640" y="1341360"/>
            <a:ext cx="2808000" cy="1082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26920" y="2637000"/>
            <a:ext cx="6840720" cy="3673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9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24000" y="434520"/>
            <a:ext cx="4032000" cy="4786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00"/>
              </a:gs>
              <a:gs pos="100000">
                <a:srgbClr val="00cc00"/>
              </a:gs>
            </a:gsLst>
            <a:lin ang="5400000"/>
          </a:gra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Уважно прочитати умову задачі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6600"/>
                </a:solidFill>
                <a:latin typeface="Arial"/>
              </a:rPr>
              <a:t>Користуючись таблицею середніх температур повітря в окремих регіонах України, побудуйте відповідну стовпчасту діагра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659640" y="0"/>
            <a:ext cx="1614240" cy="1700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4572000" y="1989000"/>
          <a:ext cx="4030560" cy="4577040"/>
        </p:xfrm>
        <a:graphic>
          <a:graphicData uri="http://schemas.openxmlformats.org/drawingml/2006/table">
            <a:tbl>
              <a:tblPr/>
              <a:tblGrid>
                <a:gridCol w="2016000"/>
                <a:gridCol w="20145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с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мпера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ьв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</a:tr>
              <a:tr h="49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жгор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иї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у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де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еркас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та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нець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</a:tr>
              <a:tr h="49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угансь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л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 spd="slow">
    <p:cover dir="lu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4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50920" y="1052640"/>
            <a:ext cx="8353440" cy="316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ема уроку: </a:t>
            </a:r>
            <a:endParaRPr b="1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"Стовпчасті діаграми"</a:t>
            </a:r>
            <a:endParaRPr b="1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8360" y="3409920"/>
            <a:ext cx="3676680" cy="18144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0" y="3789360"/>
            <a:ext cx="3809880" cy="21700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 spd="slow">
    <p:cover dir="l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000"/>
                            </p:stCondLst>
                            <p:childTnLst>
                              <p:par>
                                <p:cTn id="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9000"/>
                            </p:stCondLst>
                            <p:childTnLst>
                              <p:par>
                                <p:cTn id="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6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7000"/>
                            </p:stCondLst>
                            <p:childTnLst>
                              <p:par>
                                <p:cTn id="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9000"/>
                            </p:stCondLst>
                            <p:childTnLst>
                              <p:par>
                                <p:cTn id="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0920" y="505440"/>
            <a:ext cx="3456000" cy="3506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00"/>
              </a:gs>
              <a:gs pos="100000">
                <a:srgbClr val="00cc00"/>
              </a:gs>
            </a:gsLst>
            <a:lin ang="81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6600"/>
                </a:solidFill>
                <a:latin typeface="Arial"/>
              </a:rPr>
              <a:t>Побудуйте таблицю, що відображає середню річну температуру повітря ва окремих регіонах Украї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24360" y="981000"/>
            <a:ext cx="5003640" cy="4861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258920" y="494172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50920" y="362160"/>
            <a:ext cx="3456000" cy="20142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00"/>
              </a:gs>
              <a:gs pos="100000">
                <a:srgbClr val="00cc00"/>
              </a:gs>
            </a:gsLst>
            <a:lin ang="81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За даними таблиці побудувати стовпчасту діаграму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За допомогою курсору виділити область таблиці – діапазон комірок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3457080"/>
            <a:ext cx="3456000" cy="119124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00"/>
              </a:gs>
              <a:gs pos="100000">
                <a:srgbClr val="00cc00"/>
              </a:gs>
            </a:gsLst>
            <a:lin ang="81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На панелі інструментів натиснути на кнопку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астера диаграмм</a:t>
            </a:r>
            <a:r>
              <a:rPr b="1" i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/ тип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иаграм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19280" y="2492280"/>
            <a:ext cx="720720" cy="863640"/>
          </a:xfrm>
          <a:prstGeom prst="downArrow">
            <a:avLst>
              <a:gd name="adj1" fmla="val 50000"/>
              <a:gd name="adj2" fmla="val 2995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00720" y="189000"/>
            <a:ext cx="3960720" cy="301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03280" y="5516640"/>
            <a:ext cx="1074960" cy="963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619280" y="4869000"/>
            <a:ext cx="64908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3059280" y="5157360"/>
            <a:ext cx="649080" cy="1513080"/>
          </a:xfrm>
          <a:prstGeom prst="downArrow">
            <a:avLst>
              <a:gd name="adj1" fmla="val 50000"/>
              <a:gd name="adj2" fmla="val 5827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356000" y="3500280"/>
            <a:ext cx="4121280" cy="3125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000"/>
                            </p:stCondLst>
                            <p:childTnLst>
                              <p:par>
                                <p:cTn id="4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8000"/>
                            </p:stCondLst>
                            <p:childTnLst>
                              <p:par>
                                <p:cTn id="4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9000"/>
                            </p:stCondLst>
                            <p:childTnLst>
                              <p:par>
                                <p:cTn id="4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68360" y="692640"/>
            <a:ext cx="4464000" cy="10087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00"/>
              </a:gs>
              <a:gs pos="100000">
                <a:srgbClr val="00cc00"/>
              </a:gs>
            </a:gsLst>
            <a:lin ang="81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В типі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аграмм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оберіть тип :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линейчатая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 натисніть кнопку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але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050920" y="2421000"/>
            <a:ext cx="5561280" cy="4216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124000" y="3357720"/>
            <a:ext cx="201636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56000" y="3141720"/>
            <a:ext cx="1154160" cy="79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92720" y="6237360"/>
            <a:ext cx="122400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451640" y="333360"/>
            <a:ext cx="1025640" cy="1025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500"/>
                            </p:stCondLst>
                            <p:childTnLst>
                              <p:par>
                                <p:cTn id="5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3500"/>
                            </p:stCondLst>
                            <p:childTnLst>
                              <p:par>
                                <p:cTn id="5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5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24000" y="719280"/>
            <a:ext cx="3456000" cy="22284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00"/>
              </a:gs>
              <a:gs pos="100000">
                <a:srgbClr val="00cc00"/>
              </a:gs>
            </a:gsLst>
            <a:lin ang="81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У діалоговому вікні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тера диаграмм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з’явиться приклад необхідної нам діаграми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оберіть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яды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в строках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 Натисні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алее.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851280" y="1052640"/>
            <a:ext cx="5032440" cy="5184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003640" y="4149720"/>
            <a:ext cx="93672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04000" y="5734080"/>
            <a:ext cx="93672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26920" y="4884840"/>
            <a:ext cx="1152720" cy="1152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000"/>
                            </p:stCondLst>
                            <p:childTnLst>
                              <p:par>
                                <p:cTn id="5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500"/>
                            </p:stCondLst>
                            <p:childTnLst>
                              <p:par>
                                <p:cTn id="5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4500"/>
                            </p:stCondLst>
                            <p:childTnLst>
                              <p:par>
                                <p:cTn id="59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0920" y="498600"/>
            <a:ext cx="5688000" cy="9169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00"/>
              </a:gs>
              <a:gs pos="100000">
                <a:srgbClr val="00cc00"/>
              </a:gs>
            </a:gsLst>
            <a:lin ang="81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стер диаграмм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/ параметри діаграм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аголовок - ввести назву діагр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писи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дан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х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поставити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ч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067280" y="1268280"/>
            <a:ext cx="268200" cy="268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4176720" cy="3629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500720" y="2852640"/>
            <a:ext cx="4460760" cy="3600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24000" y="2421000"/>
            <a:ext cx="93636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2852640"/>
            <a:ext cx="158400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00720" y="3429000"/>
            <a:ext cx="2376360" cy="21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4221000"/>
            <a:ext cx="936720" cy="28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08720" y="6093000"/>
            <a:ext cx="93672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380360" y="620640"/>
            <a:ext cx="1168200" cy="1168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000"/>
                            </p:stCondLst>
                            <p:childTnLst>
                              <p:par>
                                <p:cTn id="61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4000"/>
                            </p:stCondLst>
                            <p:childTnLst>
                              <p:par>
                                <p:cTn id="6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0"/>
                            </p:stCondLst>
                            <p:childTnLst>
                              <p:par>
                                <p:cTn id="6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6000"/>
                            </p:stCondLst>
                            <p:childTnLst>
                              <p:par>
                                <p:cTn id="6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7000"/>
                            </p:stCondLst>
                            <p:childTnLst>
                              <p:par>
                                <p:cTn id="6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7500"/>
                            </p:stCondLst>
                            <p:childTnLst>
                              <p:par>
                                <p:cTn id="65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79280" y="217080"/>
            <a:ext cx="5688000" cy="9169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00"/>
              </a:gs>
              <a:gs pos="100000">
                <a:srgbClr val="00cc00"/>
              </a:gs>
            </a:gsLst>
            <a:lin ang="81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астер диаграмм / размещение 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местить диаграмму на листе /имеющимся.</a:t>
            </a:r>
            <a:r>
              <a:rPr b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 Натиснути /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готово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5256360" cy="2320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971640" y="2708280"/>
            <a:ext cx="143964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00720" y="3284640"/>
            <a:ext cx="93636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4249080"/>
            <a:ext cx="3457440" cy="6426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00"/>
              </a:gs>
              <a:gs pos="100000">
                <a:srgbClr val="00cc00"/>
              </a:gs>
            </a:gsLst>
            <a:lin ang="81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и повинні отримати наступний результа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924360" y="3789360"/>
            <a:ext cx="4883040" cy="287964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7164360" y="1052640"/>
            <a:ext cx="1239840" cy="1239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9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2000"/>
                            </p:stCondLst>
                            <p:childTnLst>
                              <p:par>
                                <p:cTn id="6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3000"/>
                            </p:stCondLst>
                            <p:childTnLst>
                              <p:par>
                                <p:cTn id="6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4000"/>
                            </p:stCondLst>
                            <p:childTnLst>
                              <p:par>
                                <p:cTn id="6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9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79280" y="309960"/>
            <a:ext cx="5688000" cy="73404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00"/>
              </a:gs>
              <a:gs pos="100000">
                <a:srgbClr val="00cc00"/>
              </a:gs>
            </a:gsLst>
            <a:lin ang="81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а даними таблиці побудувати аналогічно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гістограму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7128000" cy="407196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</p:spTree>
  </p:cSld>
  <p:transition spd="slow">
    <p:cover dir="lu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9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311400"/>
            <a:ext cx="5688000" cy="73404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00"/>
              </a:gs>
              <a:gs pos="100000">
                <a:srgbClr val="00cc00"/>
              </a:gs>
            </a:gsLst>
            <a:lin ang="81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а даними таблиці побудувати аналогічно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кругов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200720" cy="424800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</p:spTree>
  </p:cSld>
  <p:transition spd="slow">
    <p:cover dir="lu"/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0920" y="432720"/>
            <a:ext cx="8640720" cy="947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00"/>
              </a:gs>
              <a:gs pos="100000">
                <a:srgbClr val="00cc00"/>
              </a:gs>
            </a:gsLst>
            <a:lin ang="81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Знайти суттєві відмінності кругової діаграми і стовпчастої. Зробити висново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9280" y="1652760"/>
            <a:ext cx="4033800" cy="336060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572000" y="2637000"/>
            <a:ext cx="4248000" cy="347976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</p:spTree>
  </p:cSld>
  <p:transition spd="slow">
    <p:cover dir="lu"/>
  </p:transition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2000"/>
                            </p:stCondLst>
                            <p:childTnLst>
                              <p:par>
                                <p:cTn id="7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7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7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7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7000"/>
                            </p:stCondLst>
                            <p:childTnLst>
                              <p:par>
                                <p:cTn id="78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8000"/>
                            </p:stCondLst>
                            <p:childTnLst>
                              <p:par>
                                <p:cTn id="78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9000"/>
                            </p:stCondLst>
                            <p:childTnLst>
                              <p:par>
                                <p:cTn id="79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1000"/>
                            </p:stCondLst>
                            <p:childTnLst>
                              <p:par>
                                <p:cTn id="79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3000"/>
                            </p:stCondLst>
                            <p:childTnLst>
                              <p:par>
                                <p:cTn id="80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4000"/>
                            </p:stCondLst>
                            <p:childTnLst>
                              <p:par>
                                <p:cTn id="81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971640" y="620640"/>
            <a:ext cx="741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ідсумок уроку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1946520"/>
            <a:ext cx="8640720" cy="411732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ffcc"/>
              </a:gs>
              <a:gs pos="100000">
                <a:srgbClr val="ff0066"/>
              </a:gs>
            </a:gsLst>
            <a:lin ang="13500000"/>
          </a:gra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На сьогоднішньому уроці ми ознайомились зі стовпчастими діаграмами, навчились будувати стовпчасті діаграми, лінійчаті, гістограми за допомогою табличного редактор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soft Excel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, навчилися „читати”  інформацію з діаграм. Зробили висновок про те, що кругові діаграми необхідно застосовувати, коли необхідно спів ставити частини якоїсь величини, а стовпчасті діаграми застосовують тоді, коли необхідно продемонструвати, як з плином часу змінюється деяка величи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u"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0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755640" y="404640"/>
            <a:ext cx="42498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а уроку: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1484280"/>
            <a:ext cx="8052120" cy="283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0000ff"/>
                </a:solidFill>
                <a:latin typeface="Times New Roman"/>
              </a:rPr>
              <a:t>Сформувати уявлення учнів про стовпчасті діаграми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uk-UA" sz="3000" spc="-1" strike="noStrike">
                <a:solidFill>
                  <a:srgbClr val="0000ff"/>
                </a:solidFill>
                <a:latin typeface="Times New Roman"/>
              </a:rPr>
              <a:t>Навчитися  будувати діаграми за відомими значеннями величини і „читати” їх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0000ff"/>
                </a:solidFill>
                <a:latin typeface="Times New Roman"/>
              </a:rPr>
              <a:t>Розвивати навички роботи з інформаційно-комунікаційних технологі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92720" y="4508640"/>
            <a:ext cx="2892600" cy="21700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p:transition spd="slow">
    <p:cover dir="l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900000" y="260280"/>
            <a:ext cx="7417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ідсумок уроку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340000" y="1125360"/>
            <a:ext cx="43909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флексі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3280" y="2016360"/>
            <a:ext cx="8640720" cy="45972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ffcc"/>
              </a:gs>
              <a:gs pos="100000">
                <a:srgbClr val="ff0066"/>
              </a:gs>
            </a:gsLst>
            <a:lin ang="13500000"/>
          </a:gra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Як би ти оцінив свої здобутки на уроці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27280" y="2735280"/>
            <a:ext cx="6192720" cy="82548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ffcc"/>
              </a:gs>
              <a:gs pos="100000">
                <a:srgbClr val="ff0066"/>
              </a:gs>
            </a:gsLst>
            <a:lin ang="13500000"/>
          </a:gra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Я все розумію, я все роблю правильно.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27280" y="3960360"/>
            <a:ext cx="6192720" cy="119124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ffcc"/>
              </a:gs>
              <a:gs pos="100000">
                <a:srgbClr val="ff0066"/>
              </a:gs>
            </a:gsLst>
            <a:lin ang="13500000"/>
          </a:gra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ені була зрозуміла більша частина матеріалу, але я ще іноді допускаю помилки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27280" y="5654520"/>
            <a:ext cx="6192720" cy="82548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ffcc"/>
              </a:gs>
              <a:gs pos="100000">
                <a:srgbClr val="ff0066"/>
              </a:gs>
            </a:gsLst>
            <a:lin ang="13500000"/>
          </a:gra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Я майже нічого не зрозумів, нова тема для мене дуже складна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11280" y="278136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84360" y="544500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611280" y="407664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6877080" y="83664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0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000"/>
                            </p:stCondLst>
                            <p:childTnLst>
                              <p:par>
                                <p:cTn id="83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4000"/>
                            </p:stCondLst>
                            <p:childTnLst>
                              <p:par>
                                <p:cTn id="8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9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5000"/>
                            </p:stCondLst>
                            <p:childTnLst>
                              <p:par>
                                <p:cTn id="8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9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6000"/>
                            </p:stCondLst>
                            <p:childTnLst>
                              <p:par>
                                <p:cTn id="8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9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7000"/>
                            </p:stCondLst>
                            <p:childTnLst>
                              <p:par>
                                <p:cTn id="8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9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24000" y="647640"/>
            <a:ext cx="5688000" cy="82548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ffcc"/>
              </a:gs>
              <a:gs pos="100000">
                <a:srgbClr val="ff0066"/>
              </a:gs>
            </a:gsLst>
            <a:lin ang="13500000"/>
          </a:gra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оставте оцінку вчителю за робот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 12 бальною шкалою 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2952720" cy="27464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348000" y="2774880"/>
            <a:ext cx="5545080" cy="82548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ffcc"/>
              </a:gs>
              <a:gs pos="100000">
                <a:srgbClr val="ff0066"/>
              </a:gs>
            </a:gsLst>
            <a:lin ang="13500000"/>
          </a:gra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оставте оцінку собі за роботу  за 12 бальною шкалою 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427640" y="3789360"/>
            <a:ext cx="2963880" cy="2712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0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000"/>
                            </p:stCondLst>
                            <p:childTnLst>
                              <p:par>
                                <p:cTn id="8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0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971640" y="260280"/>
            <a:ext cx="7416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машнє завдання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Скласти задачі за діаграмам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-2412" t="0" r="-58" b="76"/>
          <a:stretch/>
        </p:blipFill>
        <p:spPr>
          <a:xfrm>
            <a:off x="179280" y="1557360"/>
            <a:ext cx="4176720" cy="2663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68360" y="4365720"/>
            <a:ext cx="3240000" cy="21175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rcRect l="0" t="0" r="37" b="47"/>
          <a:stretch/>
        </p:blipFill>
        <p:spPr>
          <a:xfrm>
            <a:off x="5003640" y="4437000"/>
            <a:ext cx="3924360" cy="2276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5003640" y="1700280"/>
            <a:ext cx="3672000" cy="2689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0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95280" y="1844640"/>
            <a:ext cx="820908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47520">
                  <a:solidFill>
                    <a:srgbClr val="990033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Дякую за співпрацю!</a:t>
            </a:r>
            <a:endParaRPr b="1" lang="en-US" sz="2400" spc="1" strike="noStrike">
              <a:ln w="47520">
                <a:solidFill>
                  <a:srgbClr val="990033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cover dir="lu"/>
  </p:transition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0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55640" y="549360"/>
            <a:ext cx="7705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ревірка домашнього завдання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469880"/>
            <a:ext cx="82087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Times New Roman"/>
              </a:rPr>
              <a:t>Завдання №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На круговій діаграмі наведено результати виборів мера Сонячного міста (у відсотках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Скільки відсотків виборців брали участь у голосуванні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На скільки відсотків більше виборців проголосувало за Знайку, ніж за Незнайку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Скільки відсотків виборців проголосувало проти Незнайка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5280" y="3645000"/>
            <a:ext cx="4930920" cy="28256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443640" y="3860640"/>
            <a:ext cx="2147760" cy="2090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Times New Roman"/>
              </a:rPr>
              <a:t>Розв’язанн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50920" y="1989000"/>
          <a:ext cx="4103640" cy="2924280"/>
        </p:xfrm>
        <a:graphic>
          <a:graphicData uri="http://schemas.openxmlformats.org/drawingml/2006/table">
            <a:tbl>
              <a:tblPr/>
              <a:tblGrid>
                <a:gridCol w="3159360"/>
                <a:gridCol w="944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 </a:t>
                      </a: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йк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3cc"/>
                      </a:solidFill>
                    </a:lnL>
                    <a:lnR w="28080">
                      <a:solidFill>
                        <a:srgbClr val="0033cc"/>
                      </a:solidFill>
                    </a:lnR>
                    <a:lnT w="28080">
                      <a:solidFill>
                        <a:srgbClr val="0033cc"/>
                      </a:solidFill>
                    </a:lnT>
                    <a:lnB w="28080">
                      <a:solidFill>
                        <a:srgbClr val="0033cc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b8f6fe"/>
                        </a:gs>
                        <a:gs pos="100000">
                          <a:srgbClr val="ffff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3cc"/>
                      </a:solidFill>
                    </a:lnL>
                    <a:lnR w="28080">
                      <a:solidFill>
                        <a:srgbClr val="0033cc"/>
                      </a:solidFill>
                    </a:lnR>
                    <a:lnT w="28080">
                      <a:solidFill>
                        <a:srgbClr val="0033cc"/>
                      </a:solidFill>
                    </a:lnT>
                    <a:lnB w="28080">
                      <a:solidFill>
                        <a:srgbClr val="0033cc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cc"/>
                        </a:gs>
                        <a:gs pos="100000">
                          <a:srgbClr val="ccccff"/>
                        </a:gs>
                      </a:gsLst>
                      <a:lin ang="81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 </a:t>
                      </a: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знайк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3cc"/>
                      </a:solidFill>
                    </a:lnL>
                    <a:lnR w="28080">
                      <a:solidFill>
                        <a:srgbClr val="0033cc"/>
                      </a:solidFill>
                    </a:lnR>
                    <a:lnT w="28080">
                      <a:solidFill>
                        <a:srgbClr val="0033cc"/>
                      </a:solidFill>
                    </a:lnT>
                    <a:lnB w="28080">
                      <a:solidFill>
                        <a:srgbClr val="0033cc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b8f6fe"/>
                        </a:gs>
                        <a:gs pos="100000">
                          <a:srgbClr val="ffff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3cc"/>
                      </a:solidFill>
                    </a:lnL>
                    <a:lnR w="28080">
                      <a:solidFill>
                        <a:srgbClr val="0033cc"/>
                      </a:solidFill>
                    </a:lnR>
                    <a:lnT w="28080">
                      <a:solidFill>
                        <a:srgbClr val="0033cc"/>
                      </a:solidFill>
                    </a:lnT>
                    <a:lnB w="28080">
                      <a:solidFill>
                        <a:srgbClr val="0033cc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cc"/>
                        </a:gs>
                        <a:gs pos="100000">
                          <a:srgbClr val="ccccff"/>
                        </a:gs>
                      </a:gsLst>
                      <a:lin ang="8100000"/>
                    </a:gra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лосували проти обох кандидаті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3cc"/>
                      </a:solidFill>
                    </a:lnL>
                    <a:lnR w="28080">
                      <a:solidFill>
                        <a:srgbClr val="0033cc"/>
                      </a:solidFill>
                    </a:lnR>
                    <a:lnT w="28080">
                      <a:solidFill>
                        <a:srgbClr val="0033cc"/>
                      </a:solidFill>
                    </a:lnT>
                    <a:lnB w="28080">
                      <a:solidFill>
                        <a:srgbClr val="0033cc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b8f6fe"/>
                        </a:gs>
                        <a:gs pos="100000">
                          <a:srgbClr val="ffff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3cc"/>
                      </a:solidFill>
                    </a:lnL>
                    <a:lnR w="28080">
                      <a:solidFill>
                        <a:srgbClr val="0033cc"/>
                      </a:solidFill>
                    </a:lnR>
                    <a:lnT w="28080">
                      <a:solidFill>
                        <a:srgbClr val="0033cc"/>
                      </a:solidFill>
                    </a:lnT>
                    <a:lnB w="28080">
                      <a:solidFill>
                        <a:srgbClr val="0033cc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cc"/>
                        </a:gs>
                        <a:gs pos="100000">
                          <a:srgbClr val="ccccff"/>
                        </a:gs>
                      </a:gsLst>
                      <a:lin ang="8100000"/>
                    </a:gra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брали участь в </a:t>
                      </a: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лосуванн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3cc"/>
                      </a:solidFill>
                    </a:lnL>
                    <a:lnR w="28080">
                      <a:solidFill>
                        <a:srgbClr val="0033cc"/>
                      </a:solidFill>
                    </a:lnR>
                    <a:lnT w="28080">
                      <a:solidFill>
                        <a:srgbClr val="0033cc"/>
                      </a:solidFill>
                    </a:lnT>
                    <a:lnB w="28080">
                      <a:solidFill>
                        <a:srgbClr val="0033cc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b8f6fe"/>
                        </a:gs>
                        <a:gs pos="100000">
                          <a:srgbClr val="ffff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3cc"/>
                      </a:solidFill>
                    </a:lnL>
                    <a:lnR w="28080">
                      <a:solidFill>
                        <a:srgbClr val="0033cc"/>
                      </a:solidFill>
                    </a:lnR>
                    <a:lnT w="28080">
                      <a:solidFill>
                        <a:srgbClr val="0033cc"/>
                      </a:solidFill>
                    </a:lnT>
                    <a:lnB w="28080">
                      <a:solidFill>
                        <a:srgbClr val="0033cc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cc"/>
                        </a:gs>
                        <a:gs pos="100000">
                          <a:srgbClr val="ccccff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4500720" y="1675440"/>
            <a:ext cx="4214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сього виборців 100%, але не бра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участь в голосуванні 7%, тому брали участь у вибора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00%-7%=9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а Знайку проголосувало 85%, а за Незнайку 5%, тому 85%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5%=80% на 80% голосів більше проголосували за Знайку ніж за Незнайк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оти Незнайки проголосували: 93%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5%=88% голосів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u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385920"/>
            <a:ext cx="856908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Завдання №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а круговій діаграмі наведено розподіл використання учнем шостого класу Петром Іваненком вільного від навчання час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кільки відсотків вільного часу Петро приділяє перебуванню на свіжому повітрі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кільки відсотків вільного часу Петро витрачає з користю для здоров’я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У скільки разів більше часу він витрачає на перегляд телевізійних програм і гру на комп’ютері, ніж на допомогу батькам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Чи порадив ти Петру щось змінити в розподілі вільного часу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8360" y="3933720"/>
            <a:ext cx="4608360" cy="26290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300720" y="3933720"/>
            <a:ext cx="2148120" cy="2090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432144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Times New Roman"/>
              </a:rPr>
              <a:t>Розв’язанн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50920" y="1341360"/>
          <a:ext cx="4033800" cy="4206960"/>
        </p:xfrm>
        <a:graphic>
          <a:graphicData uri="http://schemas.openxmlformats.org/drawingml/2006/table">
            <a:tbl>
              <a:tblPr/>
              <a:tblGrid>
                <a:gridCol w="3328920"/>
                <a:gridCol w="704880"/>
              </a:tblGrid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омог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батьк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b8f6fe"/>
                        </a:gs>
                        <a:gs pos="100000">
                          <a:srgbClr val="ccc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50000">
                          <a:srgbClr val="ffffcc"/>
                        </a:gs>
                        <a:gs pos="100000">
                          <a:srgbClr val="00ffff"/>
                        </a:gs>
                      </a:gsLst>
                      <a:lin ang="8100000"/>
                    </a:gradFill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та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b8f6fe"/>
                        </a:gs>
                        <a:gs pos="100000">
                          <a:srgbClr val="ccc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50000">
                          <a:srgbClr val="ffffcc"/>
                        </a:gs>
                        <a:gs pos="100000">
                          <a:srgbClr val="00ffff"/>
                        </a:gs>
                      </a:gsLst>
                      <a:lin ang="8100000"/>
                    </a:gra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бування на свіжому повітр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b8f6fe"/>
                        </a:gs>
                        <a:gs pos="100000">
                          <a:srgbClr val="ccc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50000">
                          <a:srgbClr val="ffffcc"/>
                        </a:gs>
                        <a:gs pos="100000">
                          <a:srgbClr val="00ffff"/>
                        </a:gs>
                      </a:gsLst>
                      <a:lin ang="8100000"/>
                    </a:gradFill>
                  </a:tcPr>
                </a:tc>
              </a:tr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а на комп'ютер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b8f6fe"/>
                        </a:gs>
                        <a:gs pos="100000">
                          <a:srgbClr val="ccc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50000">
                          <a:srgbClr val="ffffcc"/>
                        </a:gs>
                        <a:gs pos="100000">
                          <a:srgbClr val="00ffff"/>
                        </a:gs>
                      </a:gsLst>
                      <a:lin ang="8100000"/>
                    </a:gradFill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няття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спорт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b8f6fe"/>
                        </a:gs>
                        <a:gs pos="100000">
                          <a:srgbClr val="ccc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50000">
                          <a:srgbClr val="ffffcc"/>
                        </a:gs>
                        <a:gs pos="100000">
                          <a:srgbClr val="00ffff"/>
                        </a:gs>
                      </a:gsLst>
                      <a:lin ang="8100000"/>
                    </a:gra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гляд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лепрогр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b8f6fe"/>
                        </a:gs>
                        <a:gs pos="100000">
                          <a:srgbClr val="ccc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50000">
                          <a:srgbClr val="ffffcc"/>
                        </a:gs>
                        <a:gs pos="100000">
                          <a:srgbClr val="00ffff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4356000" y="1595160"/>
            <a:ext cx="460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Так як весь вільний час від навчання є 100% тому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00%-(15%+35%+2%+20%+24%)=4% - перебування Петра на свіжому повітр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Час, який витрачає Петро з користю для здоров’я: перебування на свіжому повітрі, заняття спортом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4%+15%=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24%+35%=59% - гра на комп’ютері і перегляд телепрогр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59% : 2% =  29,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Тобто у 29,5 разів більше  часу Петро витрачає на перегляд телевізійних програм і гру на комп’ютері, ніж на допомогу батька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u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4360" y="105480"/>
            <a:ext cx="8003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Завдання №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оряк Папай вважає, що найсмачніші пельмені з шпинатовою начинкою. Склад у відсотках цієї начинки подано на діаграмі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кільки відсотків начинки становить зелена цибуля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кільки грамів шпинату міститься у 500 г начинки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4752720" cy="30895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300720" y="3213000"/>
            <a:ext cx="2148120" cy="2090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8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2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6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0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9000"/>
                            </p:stCondLst>
                            <p:childTnLst>
                              <p:par>
                                <p:cTn id="2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50920" y="1916280"/>
          <a:ext cx="3600360" cy="3447720"/>
        </p:xfrm>
        <a:graphic>
          <a:graphicData uri="http://schemas.openxmlformats.org/drawingml/2006/table">
            <a:tbl>
              <a:tblPr/>
              <a:tblGrid>
                <a:gridCol w="2592360"/>
                <a:gridCol w="1008000"/>
              </a:tblGrid>
              <a:tr h="792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пин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00ffff"/>
                        </a:gs>
                        <a:gs pos="100000">
                          <a:srgbClr val="ffffc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cc"/>
                        </a:gs>
                        <a:gs pos="100000">
                          <a:srgbClr val="ccccff"/>
                        </a:gs>
                      </a:gsLst>
                      <a:lin ang="13500000"/>
                    </a:gradFill>
                  </a:tcPr>
                </a:tc>
              </a:tr>
              <a:tr h="934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лі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00ffff"/>
                        </a:gs>
                        <a:gs pos="100000">
                          <a:srgbClr val="ffffc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cc"/>
                        </a:gs>
                        <a:gs pos="100000">
                          <a:srgbClr val="ccccff"/>
                        </a:gs>
                      </a:gsLst>
                      <a:lin ang="13500000"/>
                    </a:gradFill>
                  </a:tcPr>
                </a:tc>
              </a:tr>
              <a:tr h="922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і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00ffff"/>
                        </a:gs>
                        <a:gs pos="100000">
                          <a:srgbClr val="ffffc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cc"/>
                        </a:gs>
                        <a:gs pos="100000">
                          <a:srgbClr val="ccccff"/>
                        </a:gs>
                      </a:gsLst>
                      <a:lin ang="13500000"/>
                    </a:gradFill>
                  </a:tcPr>
                </a:tc>
              </a:tr>
              <a:tr h="798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а цибу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00ffff"/>
                        </a:gs>
                        <a:gs pos="100000">
                          <a:srgbClr val="ffffc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cc"/>
                        </a:gs>
                        <a:gs pos="100000">
                          <a:srgbClr val="cccc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4033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Times New Roman"/>
              </a:rPr>
              <a:t>Розв’язанн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51280" y="1706760"/>
            <a:ext cx="52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61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Так як вся начинка є 100% тому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1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00%-(15%+5%+65%)=15%  - становить цибу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1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ехай 500г начинки – це 100%, а 65% - це х г, складемо пропорці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1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500 г – 1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1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х г – 65%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1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відси маємо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95640" y="4005360"/>
            <a:ext cx="2087640" cy="707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015600" y="4149000"/>
            <a:ext cx="28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1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(г) – шпинату в начинці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8-04T05:40:55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0d000000000001024140</vt:lpwstr>
  </property>
</Properties>
</file>