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png" ContentType="image/png"/>
  <Override PartName="/ppt/media/image22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4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7.wmf" ContentType="image/x-wmf"/>
  <Override PartName="/ppt/media/image10.wmf" ContentType="image/x-wmf"/>
  <Override PartName="/ppt/media/image11.wmf" ContentType="image/x-wmf"/>
  <Override PartName="/ppt/media/image33.gif" ContentType="image/gif"/>
  <Override PartName="/ppt/media/image26.png" ContentType="image/png"/>
  <Override PartName="/ppt/media/image25.png" ContentType="image/png"/>
  <Override PartName="/ppt/media/image32.gif" ContentType="image/gif"/>
  <Override PartName="/ppt/media/image30.wmf" ContentType="image/x-wmf"/>
  <Override PartName="/ppt/media/image34.gif" ContentType="image/gif"/>
  <Override PartName="/ppt/media/image9.gif" ContentType="image/gif"/>
  <Override PartName="/ppt/media/image13.gif" ContentType="image/gif"/>
  <Override PartName="/ppt/media/image37.gif" ContentType="image/gif"/>
  <Override PartName="/ppt/media/image39.png" ContentType="image/png"/>
  <Override PartName="/ppt/media/image41.png" ContentType="image/png"/>
  <Override PartName="/ppt/media/image2.wmf" ContentType="image/x-wmf"/>
  <Override PartName="/ppt/media/image36.gif" ContentType="image/gif"/>
  <Override PartName="/ppt/media/image6.wmf" ContentType="image/x-wmf"/>
  <Override PartName="/ppt/media/image29.wmf" ContentType="image/x-wmf"/>
  <Override PartName="/ppt/media/image40.png" ContentType="image/png"/>
  <Override PartName="/ppt/media/image8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1.wmf" ContentType="image/x-wmf"/>
  <Override PartName="/ppt/media/image31.wmf" ContentType="image/x-wmf"/>
  <Override PartName="/ppt/media/image35.gif" ContentType="image/gif"/>
  <Override PartName="/ppt/media/image38.jpeg" ContentType="image/jpeg"/>
  <Override PartName="/ppt/media/image5.gif" ContentType="image/gif"/>
  <Override PartName="/ppt/media/image16.gif" ContentType="image/gi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A1C-0952-4256-B81D-F76E1D7A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923-390E-4F64-A431-1E838DA4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AEA-06A4-4983-B558-E94EF1A5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C7D-8D44-4F1B-B76B-F95D09FB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85A-4DDA-4B9C-9FF3-04F43EC0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E38-C70F-4C3F-97D6-CDBC2FF6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0DF-6327-47F3-9657-449C343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DE3-2747-46FA-9577-8F96DA2B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049-6943-477E-9B56-05ACB4CA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4AE-AC69-41CE-B3A3-2F2388BF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3DB-3A8E-435A-B682-56E4DD1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7E9-D8A3-4487-BA23-76C7CFE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806-E685-4E55-B9DA-A6FE2E766B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0280"/>
            <a:ext cx="777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п'янський НВК "ШКОЛА-ГІМНАЗІЯ №3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2205000"/>
            <a:ext cx="835344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866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Інтегрований урок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 математики та інформатики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6 клас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5229360"/>
            <a:ext cx="54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уалізація опорних знань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8000" y="198900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067920"/>
            <a:ext cx="856296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AutoNum type="arabicPeriod"/>
              <a:tabLst>
                <a:tab algn="l" pos="9064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Для чого використовують діаграм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4869000"/>
            <a:ext cx="2701800" cy="154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851920"/>
            <a:ext cx="770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2. Які діаграми ви знає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628720" cy="1501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8640"/>
            <a:ext cx="828036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3. За допомогою якої  програми можна будувати діаграми не в зошитах,  а при роботі з комп’ютеро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59640" y="1052640"/>
            <a:ext cx="21240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2275920"/>
            <a:ext cx="799128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4. Наведіть приклади використання діаграм в сучасному житті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03640" y="4653000"/>
            <a:ext cx="22701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92360" y="90792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е опитування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772640"/>
            <a:ext cx="8137440" cy="314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Arial"/>
              </a:rPr>
              <a:t>5. Як ви гадаєте,  у яких випадках зручно подавати інформацію у вигляді кругових діаграм, а в яких  у вигляді стовпчастих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87640" y="5229360"/>
            <a:ext cx="212580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тивація вивчення даної теми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70028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м, мабуть, неодноразово доводилося чути вислів „діаграми зростання”. Якщо хочуть продемонструвати, як з плином часу змінюється деяка величина, то наочнішими є стовпчасті діаграми. Зверніть увагу на різноманіття оформлення діаграм у задачах. Наприклад, стовпчаста діаграма може складатися не тільки з вертикальних стовпчиків, а й з горизонтальних смуж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277320" cy="20476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p:transition spd="slow">
    <p:cover dir="l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29080" cy="304020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5665680" cy="3095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p:transition spd="slow">
    <p:cover dir="l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24360" y="2060640"/>
            <a:ext cx="289584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2400840"/>
            <a:ext cx="52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Сьогодні ми з вами на практиці ознайомимося зі стовпчаст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361080"/>
            <a:ext cx="7632720" cy="199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808000" cy="1082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434520"/>
            <a:ext cx="4032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Уважно прочитати умову задачі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Користуючись таблицею середніх температур повітря в окремих регіонах України, побудуйте відповідну стовпчасту діагра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1614240" cy="17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572000" y="1989000"/>
          <a:ext cx="4030560" cy="4577040"/>
        </p:xfrm>
        <a:graphic>
          <a:graphicData uri="http://schemas.openxmlformats.org/drawingml/2006/table">
            <a:tbl>
              <a:tblPr/>
              <a:tblGrid>
                <a:gridCol w="2016000"/>
                <a:gridCol w="20145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ьв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ж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ї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к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т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нец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гансь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100000">
                          <a:srgbClr val="b8f6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slow">
    <p:cover dir="l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920" y="1052640"/>
            <a:ext cx="8353440" cy="31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 уроку: 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Стовпчасті діаграми"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3409920"/>
            <a:ext cx="3676680" cy="1814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3809880" cy="2170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05440"/>
            <a:ext cx="34560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00"/>
                </a:solidFill>
                <a:latin typeface="Arial"/>
              </a:rPr>
              <a:t>Побудуйте таблицю, що відображає середню річну температуру повітря ва окремих регіонах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5003640" cy="486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62160"/>
            <a:ext cx="3456000" cy="2014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стовпчаст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457080"/>
            <a:ext cx="3456000" cy="11912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 панелі інструментів натиснути на кнопку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а диаграмм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/ тип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аграм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2492280"/>
            <a:ext cx="720720" cy="863640"/>
          </a:xfrm>
          <a:prstGeom prst="downArrow">
            <a:avLst>
              <a:gd name="adj1" fmla="val 50000"/>
              <a:gd name="adj2" fmla="val 2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3960720" cy="301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5516640"/>
            <a:ext cx="1074960" cy="96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4869000"/>
            <a:ext cx="649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059280" y="5157360"/>
            <a:ext cx="649080" cy="1513080"/>
          </a:xfrm>
          <a:prstGeom prst="downArrow">
            <a:avLst>
              <a:gd name="adj1" fmla="val 50000"/>
              <a:gd name="adj2" fmla="val 582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412128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692640"/>
            <a:ext cx="4464000" cy="1008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 типі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аграмм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оберіть тип :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нейчата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натисніть кнопку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561280" cy="421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24000" y="335772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141720"/>
            <a:ext cx="11541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6237360"/>
            <a:ext cx="1224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025640" cy="10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719280"/>
            <a:ext cx="3456000" cy="2228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діалоговому вік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тера диаграмм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’явиться приклад необхідної нам діаграми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оберіть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яды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 строках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Натисні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лее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5032440" cy="518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3640" y="414972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573408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48848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9860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 диаграмм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/ параметри діагра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головок - ввести назву діагр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пис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да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х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поставити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62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00720" y="2852640"/>
            <a:ext cx="4460760" cy="360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242100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852640"/>
            <a:ext cx="158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3429000"/>
            <a:ext cx="237636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221000"/>
            <a:ext cx="93672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609300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380360" y="620640"/>
            <a:ext cx="116820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00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17080"/>
            <a:ext cx="5688000" cy="916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 диаграмм / размещение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местить диаграмму на листе /имеющимся.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Натиснути 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отово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256360" cy="232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2708280"/>
            <a:ext cx="1439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28464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249080"/>
            <a:ext cx="3457440" cy="642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 повинні отримати наступний результа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4883040" cy="2879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1052640"/>
            <a:ext cx="1239840" cy="123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30996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гістограм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28000" cy="40719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311400"/>
            <a:ext cx="5688000" cy="734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даними таблиці побудувати аналогічно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руго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2480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432720"/>
            <a:ext cx="86407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00"/>
              </a:gs>
              <a:gs pos="100000">
                <a:srgbClr val="00cc00"/>
              </a:gs>
            </a:gsLst>
            <a:lin ang="81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найти суттєві відмінності кругової діаграми і стовпчастої. Зробити виснов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652760"/>
            <a:ext cx="4033800" cy="33606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248000" cy="34797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 spd="slow">
    <p:cover dir="lu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000"/>
                            </p:stCondLst>
                            <p:childTnLst>
                              <p:par>
                                <p:cTn id="7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8000"/>
                            </p:stCondLst>
                            <p:childTnLst>
                              <p:par>
                                <p:cTn id="7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000"/>
                            </p:stCondLst>
                            <p:childTnLst>
                              <p:par>
                                <p:cTn id="7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1640" y="620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946520"/>
            <a:ext cx="8640720" cy="41173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сьогоднішньому уроці ми ознайомились зі стовпчастими діаграмами, навчились будувати стовпчасті діаграми, лінійчаті, гістограми за допомогою табличного редакто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навчилися „читати”  інформацію з діаграм. Зробили висновок про те, що кругові діаграми необхідно застосовувати, коли необхідно спів ставити частини якоїсь величини, а стовпчасті діаграми застосовують тоді, коли необхідно продемонструвати, як з плином часу змінюється деяка велич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40464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484280"/>
            <a:ext cx="8052120" cy="283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Сформувати уявлення учнів про стовпчасті діаграм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ff"/>
                </a:solidFill>
                <a:latin typeface="Times New Roman"/>
              </a:rPr>
              <a:t>Розвивати навички роботи з інформаційно-комунікаційних технологі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4508640"/>
            <a:ext cx="2892600" cy="2170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00000" y="260280"/>
            <a:ext cx="741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1125360"/>
            <a:ext cx="4390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3280" y="2016360"/>
            <a:ext cx="8640720" cy="459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к би ти оцінив свої здобутки на уроц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73528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все розумію, я все роблю правильно.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3960360"/>
            <a:ext cx="6192720" cy="11912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ні була зрозуміла більша частина матеріалу, але я ще іноді допускаю помилки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5654520"/>
            <a:ext cx="619272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 майже нічого не зрозумів, нова тема для мене дуже складна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877080" y="8366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0"/>
                            </p:stCondLst>
                            <p:childTnLst>
                              <p:par>
                                <p:cTn id="8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647640"/>
            <a:ext cx="568800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вчителю за робо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952720" cy="2746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2774880"/>
            <a:ext cx="5545080" cy="8254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cc"/>
              </a:gs>
              <a:gs pos="100000">
                <a:srgbClr val="ff0066"/>
              </a:gs>
            </a:gsLst>
            <a:lin ang="13500000"/>
          </a:gra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вте оцінку собі за роботу  за 12 бальною шкалою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96388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71640" y="260280"/>
            <a:ext cx="74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є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Скласти задачі за діаграм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-2412" t="0" r="-58" b="76"/>
          <a:stretch/>
        </p:blipFill>
        <p:spPr>
          <a:xfrm>
            <a:off x="179280" y="155736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1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37" b="47"/>
          <a:stretch/>
        </p:blipFill>
        <p:spPr>
          <a:xfrm>
            <a:off x="5003640" y="4437000"/>
            <a:ext cx="3924360" cy="227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003640" y="1700280"/>
            <a:ext cx="3672000" cy="268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1844640"/>
            <a:ext cx="820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752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якую за співпрацю!</a:t>
            </a:r>
            <a:endParaRPr b="1" lang="en-US" sz="2400" spc="1" strike="noStrike">
              <a:ln w="4752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u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549360"/>
            <a:ext cx="770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вірка домашнього завдання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469880"/>
            <a:ext cx="8208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круговій діаграмі наведено результати виборів мера Сонячного міста (у відсотках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4930920" cy="282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43640" y="3860640"/>
            <a:ext cx="214776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989000"/>
          <a:ext cx="4103640" cy="2924280"/>
        </p:xfrm>
        <a:graphic>
          <a:graphicData uri="http://schemas.openxmlformats.org/drawingml/2006/table">
            <a:tbl>
              <a:tblPr/>
              <a:tblGrid>
                <a:gridCol w="3159360"/>
                <a:gridCol w="94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й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ли проти обох кандида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рали участь в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уванн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b8f6fe"/>
                        </a:gs>
                        <a:gs pos="100000">
                          <a:srgbClr val="ff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3cc"/>
                      </a:solidFill>
                    </a:lnL>
                    <a:lnR w="28080">
                      <a:solidFill>
                        <a:srgbClr val="0033cc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500720" y="1675440"/>
            <a:ext cx="42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сього виборців 100%, але не бра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часть в голосуванні 7%, тому брали участь у вибо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7%=9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Знайку проголосувало 85%, а за Незнайку 5%, тому 85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0% на 80% голосів більше проголосували за Знайку ніж за Незнай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ти Незнайки проголосували: 93%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%=88% голосі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85920"/>
            <a:ext cx="85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круговій діаграмі наведено розподіл використання учнем шостого класу Петром Іваненком вільного від навчання час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приділяє перебуванню на свіжому повітр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вільного часу Петро витрачає з користю для здоров’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и порадив ти Петру щось змінити в розподілі вільного час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4608360" cy="2629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321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341360"/>
          <a:ext cx="4033800" cy="4206960"/>
        </p:xfrm>
        <a:graphic>
          <a:graphicData uri="http://schemas.openxmlformats.org/drawingml/2006/table">
            <a:tbl>
              <a:tblPr/>
              <a:tblGrid>
                <a:gridCol w="3328920"/>
                <a:gridCol w="70488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мо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ть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бування на свіжому повіт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 на комп'юте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т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пор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ля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прогр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b8f6fe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fffcc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356000" y="159516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есь вільний час від навчання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35%+2%+20%+24%)=4% - перебування Петра на свіжому повітр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, який витрачає Петро з користю для здоров’я: перебування на свіжому повітрі, заняття спорт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%+15%=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4%+35%=59% - гра на комп’ютері і перегляд телепрогр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9% : 2% =  29,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обто у 29,5 разів більше  часу Петро витрачає на перегляд телевізійних програм і гру на комп’ютері, ніж на допомогу бать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105480"/>
            <a:ext cx="800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авдання №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ряк Папай вважає, що найсмачніші пельмені з шпинатовою начинкою. Склад у відсотках цієї начинки подано на діаграмі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відсотків начинки становить зелена цибул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ільки грамів шпинату міститься у 500 г начинк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752720" cy="3089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14812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916280"/>
          <a:ext cx="3600360" cy="3447720"/>
        </p:xfrm>
        <a:graphic>
          <a:graphicData uri="http://schemas.openxmlformats.org/drawingml/2006/table">
            <a:tbl>
              <a:tblPr/>
              <a:tblGrid>
                <a:gridCol w="2592360"/>
                <a:gridCol w="1008000"/>
              </a:tblGrid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и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3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92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і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  <a:tr h="79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 цибу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00ffff"/>
                        </a:gs>
                        <a:gs pos="100000">
                          <a:srgbClr val="ffff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cc"/>
                        </a:gs>
                        <a:gs pos="100000">
                          <a:srgbClr val="cccc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403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Розв’яз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17067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 як вся начинка є 100% то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-(15%+5%+65%)=15%  - становить цибу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хай 500г начинки – це 100%, а 65% - це х г, складемо пропорці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00 г – 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 г – 65%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ідси маєм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4005360"/>
            <a:ext cx="208764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5600" y="4149000"/>
            <a:ext cx="28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1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г) – шпинату в начин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40:5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d000000000001024140</vt:lpwstr>
  </property>
</Properties>
</file>