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gif" ContentType="image/gif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6.gif" ContentType="image/gif"/>
  <Override PartName="/ppt/media/image14.wmf" ContentType="image/x-wmf"/>
  <Override PartName="/ppt/media/image1.png" ContentType="image/png"/>
  <Override PartName="/ppt/media/image31.png" ContentType="image/png"/>
  <Override PartName="/ppt/media/image5.wmf" ContentType="image/x-wmf"/>
  <Override PartName="/ppt/media/image39.gif" ContentType="image/gif"/>
  <Override PartName="/ppt/media/image15.gif" ContentType="image/gif"/>
  <Override PartName="/ppt/media/image11.wmf" ContentType="image/x-wmf"/>
  <Override PartName="/ppt/media/image30.png" ContentType="image/png"/>
  <Override PartName="/ppt/media/image13.wmf" ContentType="image/x-wmf"/>
  <Override PartName="/ppt/media/image7.jpeg" ContentType="image/jpeg"/>
  <Override PartName="/ppt/media/image28.png" ContentType="image/png"/>
  <Override PartName="/ppt/media/image32.png" ContentType="image/png"/>
  <Override PartName="/ppt/media/image38.gif" ContentType="image/gif"/>
  <Override PartName="/ppt/media/image44.wmf" ContentType="image/x-wmf"/>
  <Override PartName="/ppt/media/image37.gif" ContentType="image/gif"/>
  <Override PartName="/ppt/media/image33.wmf" ContentType="image/x-wmf"/>
  <Override PartName="/ppt/media/image41.gif" ContentType="image/gif"/>
  <Override PartName="/ppt/media/image34.png" ContentType="image/png"/>
  <Override PartName="/ppt/media/image45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2.gif" ContentType="image/gif"/>
  <Override PartName="/ppt/media/image25.png" ContentType="image/png"/>
  <Override PartName="/ppt/media/image42.gif" ContentType="image/gif"/>
  <Override PartName="/ppt/media/image35.png" ContentType="image/png"/>
  <Override PartName="/ppt/media/image43.gif" ContentType="image/gif"/>
  <Override PartName="/ppt/media/image6.wmf" ContentType="image/x-wmf"/>
  <Override PartName="/ppt/media/image46.wmf" ContentType="image/x-wmf"/>
  <Override PartName="/ppt/media/image40.gif" ContentType="image/gif"/>
  <Override PartName="/ppt/media/image3.png" ContentType="image/png"/>
  <Override PartName="/ppt/media/image23.gif" ContentType="image/gif"/>
  <Override PartName="/ppt/media/image26.png" ContentType="image/png"/>
  <Override PartName="/ppt/media/image12.wmf" ContentType="image/x-wmf"/>
  <Override PartName="/ppt/media/image24.gif" ContentType="image/gif"/>
  <Override PartName="/ppt/media/image27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69E-7382-4E97-9D28-D525C27E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870-ED88-4408-94B9-96D4D93C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68A-F2AA-4A96-9C1D-826D9F5B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78E-B5B1-4D50-B490-6982E4CE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5F1-7761-4E6D-8C1D-D6B33211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5A1-D157-4F18-8D7E-8F57C08E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00B-DB80-4EA6-B01E-7FC303D1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E84-6881-4BCA-8BA0-EAC6ED4D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E7A-3BFB-46F1-9A42-99DA92C9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1C1-E9E9-4A33-9B95-78EA0721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FAF-4A0A-450E-9C0D-EAD58FD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13A-4B86-43A3-85B9-08A1494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6A8B-0A41-4A2B-9FE7-895433ADD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484280"/>
            <a:ext cx="79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Інтегрований ур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з математики  та інформати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6 кла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4292640"/>
            <a:ext cx="71629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Учитель: Голік Ірина Анатоліївна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360" y="260280"/>
            <a:ext cx="813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Куп'янський НВК "ШКОЛА-ГІМНАЗІЯ №3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7629480" y="5157720"/>
            <a:ext cx="127944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530280"/>
            <a:ext cx="5543280" cy="573012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50000">
                <a:srgbClr val="ffff00"/>
              </a:gs>
              <a:gs pos="100000">
                <a:srgbClr val="ff6699"/>
              </a:gs>
            </a:gsLst>
            <a:lin ang="81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imes New Roman"/>
              </a:rPr>
              <a:t>Уважно прочитати умову задач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Учні шостих класів відвідують різні спортивні секції. Баскетбол відвідують 30 учнів, гандбол відвідують 25 учнів, футбол відвідують 78 учнів, волейбол - 30 учнів, легку атлетику 45 учн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6668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66920"/>
            <a:ext cx="5184720" cy="2501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будуйте таблицю, що відображає відвідування учнями 6 класів спортивних секці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3357720"/>
          <a:ext cx="3961080" cy="3024000"/>
        </p:xfrm>
        <a:graphic>
          <a:graphicData uri="http://schemas.openxmlformats.org/drawingml/2006/table">
            <a:tbl>
              <a:tblPr/>
              <a:tblGrid>
                <a:gridCol w="2494080"/>
                <a:gridCol w="1467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ке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нд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ей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а атле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1736640" cy="1942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41356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76720" cy="2655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56720" y="765000"/>
            <a:ext cx="50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27160"/>
            <a:ext cx="3816360" cy="2288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даними таблиці побудувати кругову діагра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допомогою курсору виділити область таблиці – діапазон комір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панелі інструментів натиснути на кнопк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астер диаграм/ Тип диаграм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1074960" cy="96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72360" y="3068640"/>
            <a:ext cx="79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4105080" cy="3838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4787280" y="4653000"/>
            <a:ext cx="2376360" cy="720720"/>
          </a:xfrm>
          <a:custGeom>
            <a:avLst/>
            <a:gdLst>
              <a:gd name="textAreaLeft" fmla="*/ -360 w 2376360"/>
              <a:gd name="textAreaRight" fmla="*/ 2376360 w 2376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945" stAng="10800000" swAng="5400000"/>
                <a:lnTo>
                  <a:pt x="14579" y="2215"/>
                </a:lnTo>
                <a:lnTo>
                  <a:pt x="14579" y="0"/>
                </a:lnTo>
                <a:lnTo>
                  <a:pt x="21600" y="6079"/>
                </a:lnTo>
                <a:lnTo>
                  <a:pt x="14579" y="12158"/>
                </a:lnTo>
                <a:lnTo>
                  <a:pt x="14579" y="9943"/>
                </a:lnTo>
                <a:lnTo>
                  <a:pt x="12427" y="9943"/>
                </a:lnTo>
                <a:arcTo wR="4699" hR="2217" stAng="16200000" swAng="-5400000"/>
                <a:lnTo>
                  <a:pt x="7728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6360" y="658440"/>
            <a:ext cx="7273800" cy="137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 типі діаграм оберіть тип :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угова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, натисніть кнопку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алее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689440" cy="424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357336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068640"/>
            <a:ext cx="1152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6093000"/>
            <a:ext cx="2016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226800"/>
            <a:ext cx="7273800" cy="137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 діалоговому вікні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а диаграмм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з’явиться приклад необхідної нам діаграми. Натисніть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ал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73800" cy="491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59280" y="630864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6360" y="297720"/>
            <a:ext cx="7273800" cy="94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стер диаграмм / параметри діагр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оловок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ввести назву діагр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6510600" cy="4633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1989000"/>
            <a:ext cx="1008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85264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295920"/>
            <a:ext cx="7273800" cy="1922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тер диаграмм / параметри діагра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дписи да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х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поставит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л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27640" y="1125360"/>
            <a:ext cx="412920" cy="41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5854680" cy="41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79640" y="2708280"/>
            <a:ext cx="129708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789360"/>
            <a:ext cx="1081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6021360"/>
            <a:ext cx="1008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439920"/>
            <a:ext cx="2808000" cy="30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тер диаграмм /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естить диаграмму на листе /имеющимся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тиснути 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812480"/>
            <a:ext cx="2881080" cy="155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 повинні отримати наступний результа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4321080" cy="2924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476360" y="371628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094360" cy="3024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16360" y="213372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2924280"/>
            <a:ext cx="1008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203640" y="184428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276720" y="515736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573480"/>
            <a:ext cx="5760720" cy="5639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користовуючи побудовану діаграму дайте відповіді на запитанн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у секцію відвідує найбільше шестикласник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і секції відвідує однакова кількість шестикласник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у частину від кількості футболістів становить кількість легкоатлет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ільки відсотків гандболістів становить від кількості баскетболістів?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202440" y="2133720"/>
            <a:ext cx="294156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692360" y="836640"/>
            <a:ext cx="518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флексія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584720"/>
            <a:ext cx="79200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би ти оцінив свої здобутки на уроц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1400" y="2707560"/>
            <a:ext cx="6875640" cy="5205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 все розумію, я все роблю правильно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739680"/>
            <a:ext cx="7201080" cy="13737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ні була зрозуміла більша частина матеріалу, але я ще іноді допускаю помилки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5464440"/>
            <a:ext cx="7417080" cy="9471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 майже нічого не зрозумів, нова тема для мене дуже складна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24040" cy="100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885080" y="404640"/>
            <a:ext cx="976320" cy="107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260280"/>
            <a:ext cx="741672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1252600">
            <a:off x="539280" y="620280"/>
            <a:ext cx="40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ма уроку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20980200">
            <a:off x="4680" y="1701360"/>
            <a:ext cx="8064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„</a:t>
            </a: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Діаграми. Кругові діаграми.”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4681440" cy="2365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720720"/>
            <a:ext cx="6012000" cy="1800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ставте оцінку вчителю за роботу  за 12 бальною шкалою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ставте оцінку собі за роботу  за 12 бальною шкалою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7162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72360" y="3213000"/>
            <a:ext cx="2971800" cy="324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728280"/>
            <a:ext cx="8353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Завдання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уговій діаграмі наведено результати виборів мера Сонячного міста (у відсотках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иборців брали участь у голосуванн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ільки відсотків більше виборців проголосувало за Знайку, ніж за Незнай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2574" t="3349" r="1582" b="10048"/>
          <a:stretch/>
        </p:blipFill>
        <p:spPr>
          <a:xfrm>
            <a:off x="468360" y="3284640"/>
            <a:ext cx="5473800" cy="3022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00320" y="2677320"/>
            <a:ext cx="64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иборців проголосувало проти Незнай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59640" y="3618000"/>
            <a:ext cx="2971800" cy="3240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1148760"/>
            <a:ext cx="84978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вдання 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уговій діаграмі наведено розподіл використання учнем шостого класу Петром Іваненком вільного від навчання часу. Скільки відсотків вільного часу Петро приділяє перебуванню на свіжому повітрі?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ільного часу Петро витрачає з користю для здоров’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кільки разів більше часу він витрачає на перегляд телевізійних програм і гру на комп’ютері, ніж на допомогу батькам?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5327640" cy="309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989440"/>
            <a:ext cx="52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порадив ти Петру щось змінити в розподілі вільного часу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1005120"/>
            <a:ext cx="849636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вдання №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як Папай вважає, що найсмачніші пельмені з шпинатовою начинкою. Склад у відсотках цієї начинки подано на діаграмі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начинки становить зелена цибул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грамів шпинату міститься у 500 г начин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2836800"/>
            <a:ext cx="5761080" cy="3795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11040" y="25228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659640" y="3618000"/>
            <a:ext cx="29718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71640" y="2060640"/>
            <a:ext cx="7345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Дякую за </a:t>
            </a:r>
            <a:endParaRPr b="1" i="1" lang="en-US" sz="2400" spc="1" strike="noStrike">
              <a:ln w="1584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івпрацю!</a:t>
            </a:r>
            <a:endParaRPr b="1" i="1" lang="en-US" sz="2400" spc="1" strike="noStrike">
              <a:ln w="1584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24000" y="620640"/>
            <a:ext cx="52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МЕТА УРОКУ: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830960"/>
            <a:ext cx="805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Ознайомитися з поняттям діаграми, кругові діагр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Навчитися  будувати діаграми за відомими значеннями величини і „читати” ї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51640" y="4292640"/>
            <a:ext cx="3162240" cy="2219400"/>
          </a:xfrm>
          <a:prstGeom prst="rect">
            <a:avLst/>
          </a:prstGeom>
          <a:ln w="57240">
            <a:solidFill>
              <a:srgbClr val="ff99cc"/>
            </a:solidFill>
            <a:miter/>
          </a:ln>
        </p:spPr>
      </p:pic>
    </p:spTree>
  </p:cSld>
  <p:transition spd="slow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4249800" cy="317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419040"/>
            <a:ext cx="4103640" cy="367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859280" y="476280"/>
            <a:ext cx="396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отивація 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ивчення 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еми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1905120" cy="158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3814560" cy="301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74328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88944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59280" y="3687840"/>
            <a:ext cx="3673440" cy="2981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0000" cy="324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03236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00720" y="1125360"/>
            <a:ext cx="432108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4221000"/>
            <a:ext cx="195768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24160" cy="287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9272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466740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ктична робота</a:t>
            </a:r>
            <a:endParaRPr b="1" i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105440" cy="342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1556280"/>
            <a:ext cx="443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Сьогодні ми з вами на практиці ознайомимося з круговими діагра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Для цього виконаємо практичну робо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41520" y="2781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2808360" cy="1082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764640"/>
            <a:ext cx="763272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вантажити табличний процесор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crosoft Excel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уск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Програми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684072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05:39:2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11000000000001024140</vt:lpwstr>
  </property>
</Properties>
</file>