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153-1F62-4F6B-8C7D-59DB68F1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666-53EE-4A91-B30A-FD5477F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A67-1568-4219-B492-AEFE6293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9FD-CA57-47BD-A1C3-D42B7351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FC2E-7C8A-4494-B45A-ADF350D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5F0E4-55F9-4D40-97CD-67B262B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E70AC-AD93-4733-AD30-970B1B9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AED99-22FC-40D9-B400-F8CB570B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E7EF6-844C-43DD-88D1-A8CA3B7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3F0D9-AA9B-4D5E-90CA-DBFCE8F2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0B0F3-B9D2-4CF0-A030-3C97952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B96-1A6E-4B54-9B36-4CB7999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BFDF-91DE-4A7B-9987-5E1B1FF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30AB-5984-40D5-8EDB-71FC659B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C7810-C2D5-4C13-BF87-8230D56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091A-D46C-45FE-922E-0FF4D2B9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33231-9229-4562-8576-34A7D85A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CD66-4DE8-4C72-8953-F0C16753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025F-2109-459D-8965-2C3CFFAA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D874-90FD-442E-91D1-14C4054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F850-BF7B-4217-9B80-83E4417E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AD0A-B616-41CA-B4C3-BA7B4166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F00-7558-4D9B-A27E-7448767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32D7-D0A0-4BCA-B0CA-2C6599E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B6D4-E1D3-43C6-8660-8F4B403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E4F7-31FE-4724-A3BB-2352855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C743-C1CC-43E3-9B6B-C7CFBC6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6F79-4FA7-4CD6-B13D-D79D545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C0E3-4FA1-43FA-B807-5E182C92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5AA5-18E3-43EE-A253-67EA4224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9DC67-7899-41D2-BA24-5DC9F816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E2C8B-6BF0-4754-9648-81133B0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7E02B-C6D3-48FE-951B-329AD49D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F42-3FB5-4C8E-8DAB-9220C08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01721-E462-41D2-9ECE-2CABF716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B3333-0806-44DF-BE3B-08781F3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B8BF2-493A-4312-AED4-00D47B23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46D4A-37CD-43F8-B076-0450E1B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FFBC5-CC8D-4F6E-B709-8A60423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1A49F-6D32-4237-AE33-0746741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E8D0A-5337-4CF3-BA7F-464FA40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13416-6597-4F62-AAC9-8F4D8A01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7740D-6B33-47AB-A4C8-E8590C3E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6EDF7-2118-4E50-A327-D0EE9B38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C41-AF74-42BC-AF6A-48E16267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4DACA-7EEC-4168-B009-EF1E419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EF63E-B1C9-498D-93B8-32EF21D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9CCC7-CD03-4679-A274-D65F175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C2FD9-095D-4E99-A661-D58EDAB4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48246-494E-4C4C-805F-D6B010C3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E313D-6332-4390-8E12-D63B72E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76DC4-2459-4F66-AC88-2A471DD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9D027-CAD1-498E-9B7F-72C2F11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DE189-FBA2-4CFF-A78B-A38D780E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DA811-380D-4AC1-A502-757A8F2C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7BB-911B-415A-9372-F33D99C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3D717-5AA5-404C-943B-EAEA210D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A4316-0B08-41F1-8A43-7EDD0FE9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0987D-017A-423A-8011-D962C704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01D67-B5E8-4A75-B1BB-E47F4703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401B4-8833-47D9-8775-EFE557F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C41FE-B3DE-48B8-B51D-03A16B89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04D41-3477-425E-9BF7-7AEC050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0D70E-AD3E-4C4D-B0F5-B5B4931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653F7-7D85-4A22-84F3-CE91E57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DE0F8-C6D2-4BFF-BBDE-0E56F70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5F9-B290-4979-9460-B1E70A0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8DF68-5DED-4FC2-8E68-D9A2D2D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A10E0-464B-4894-9977-A84C8EBB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9057A-4116-420A-913F-3C412AB7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3B7-DE17-4CB5-9616-90C8D40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202-57A9-4888-B4D2-EBDF6FA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3BA-F1CA-46FB-B5B2-67117D8C057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B561-3F42-469C-B30A-45CF18CB533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E0C-4DEC-4702-A0F3-32CBAC03D25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E35B-40D6-4E85-BB6B-CC5F67169E0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E9E-BACA-4CD8-BE94-98907FC83EB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17E-B383-4F5B-B857-B53231CAAF5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4038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Тепло своїх долоньок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друзям віддає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Урок новий, цікав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onstantia"/>
              </a:rPr>
              <a:t>Ми з радістю почне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2" descr="https://encrypted-tbn3.gstatic.com/images?q=tbn:ANd9GcTBhZDhfpFaLZSlAaSWPMV9eNEvRoRh8hKweLFoMzkYwUP8JHuA"/>
          <p:cNvPicPr/>
          <p:nvPr/>
        </p:nvPicPr>
        <p:blipFill>
          <a:blip r:embed="rId1"/>
          <a:stretch/>
        </p:blipFill>
        <p:spPr>
          <a:xfrm>
            <a:off x="533520" y="228600"/>
            <a:ext cx="525780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s://encrypted-tbn1.gstatic.com/images?q=tbn:ANd9GcTt78-119dtMpF8lHD3yP2KZFpTvTZo2uLP6JSvGUCy4hcVL_-LhQ"/>
          <p:cNvPicPr/>
          <p:nvPr/>
        </p:nvPicPr>
        <p:blipFill>
          <a:blip r:embed="rId2"/>
          <a:stretch/>
        </p:blipFill>
        <p:spPr>
          <a:xfrm>
            <a:off x="5029200" y="3505320"/>
            <a:ext cx="39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609480" y="1116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28600" y="2133720"/>
            <a:ext cx="76201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 ( 25,36 – 20,06 ) + ( 14,9 + 5,1 ) · 4,2 =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Ромашки - нежные цветы (35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533520" y="228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йте д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·( 25,36 – 20,06 )+( 14,9 + 5,1 )· 4,2= 96,19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http://os1.i.ua/1/101/5323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0" y="76680"/>
            <a:ext cx="3200400" cy="3508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6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да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у ді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 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    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   0,3  =  37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6477120" y="4436280"/>
            <a:ext cx="2666880" cy="241092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3  =  8,7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,5  =  9,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,4  =  1,4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,4  = 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7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  =  3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=  0,18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7" name="Picture 20" descr="http://image.tsn.ua/media/images2/original/Apr2008/640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2"/>
          <a:stretch/>
        </p:blipFill>
        <p:spPr>
          <a:xfrm>
            <a:off x="255600" y="-23760"/>
            <a:ext cx="84866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-590400" y="1901880"/>
            <a:ext cx="9496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4" name="Picture 17" descr="C:\Documents and Settings\Администратор\Рабочий стол\800px-Smiley_pomaranch.jpg"/>
          <p:cNvPicPr/>
          <p:nvPr/>
        </p:nvPicPr>
        <p:blipFill>
          <a:blip r:embed="rId1"/>
          <a:stretch/>
        </p:blipFill>
        <p:spPr>
          <a:xfrm>
            <a:off x="6705720" y="342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C:\Documents and Settings\Администратор\Рабочий стол\800px-Smiley_red.jpg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C:\Documents and Settings\Администратор\Рабочий стол\800px-Smiley_blue.jpg"/>
          <p:cNvPicPr/>
          <p:nvPr/>
        </p:nvPicPr>
        <p:blipFill>
          <a:blip r:embed="rId3"/>
          <a:stretch/>
        </p:blipFill>
        <p:spPr>
          <a:xfrm>
            <a:off x="457200" y="23623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0" descr="C:\Documents and Settings\Администратор\Рабочий стол\800px-Smiley_grean.jpg"/>
          <p:cNvPicPr/>
          <p:nvPr/>
        </p:nvPicPr>
        <p:blipFill>
          <a:blip r:embed="rId4"/>
          <a:stretch/>
        </p:blipFill>
        <p:spPr>
          <a:xfrm>
            <a:off x="3808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1" descr="C:\Documents and Settings\Администратор\Рабочий стол\800px-Smiley_rozovuy.jpg"/>
          <p:cNvPicPr/>
          <p:nvPr/>
        </p:nvPicPr>
        <p:blipFill>
          <a:blip r:embed="rId5"/>
          <a:stretch/>
        </p:blipFill>
        <p:spPr>
          <a:xfrm>
            <a:off x="6705720" y="990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4"/>
          <p:cNvSpPr/>
          <p:nvPr/>
        </p:nvSpPr>
        <p:spPr>
          <a:xfrm>
            <a:off x="2405160" y="8380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мені урок дуже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подобав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321640" y="3124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полишаю 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чудовим настроє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2173320" y="5345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доволений (задоволена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своєю оцінкою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505320" y="167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урок сподобався, але деяк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завдання не зрозумів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6354360" y="18399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4528800" y="411480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я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взнав багат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цікавого на уроці  –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bc29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0" descr="http://yak-prosto.com/images/9/e/yak-mnozhiti-desyatkovi-drobi.jpg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01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Множення десяткових дробі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2382840" y="476280"/>
            <a:ext cx="6310440" cy="981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s://encrypted-tbn1.gstatic.com/images?q=tbn:ANd9GcQqPQK4fG-iRvSOWffZNRUPE5Z8HtHOvCe6NlioJHlBLDB3OCD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s://encrypted-tbn0.gstatic.com/images?q=tbn:ANd9GcRzcihyCn_PHqUcu_pA5-q1JfSefvYpy61HOwgtwfAj_nRsQ1HUnw"/>
          <p:cNvPicPr/>
          <p:nvPr/>
        </p:nvPicPr>
        <p:blipFill>
          <a:blip r:embed="rId3"/>
          <a:stretch/>
        </p:blipFill>
        <p:spPr>
          <a:xfrm>
            <a:off x="0" y="2666880"/>
            <a:ext cx="4724280" cy="4191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-360"/>
            <a:ext cx="6781680" cy="106668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Свої знання сплетемо у вінок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Досягнемо вершин, майнемо до зі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Цвіт яблуні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0" y="304560"/>
            <a:ext cx="495288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    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Цвіт яблуні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0" y="304920"/>
            <a:ext cx="5334120" cy="4343400"/>
          </a:xfrm>
          <a:prstGeom prst="rect">
            <a:avLst/>
          </a:prstGeom>
          <a:solidFill>
            <a:srgbClr val="cc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авдання 1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сний рахунок.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числіт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7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  = 3,9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= 60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5 = 2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0          3579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1 = 35,7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3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 7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волошки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4190760"/>
            <a:ext cx="4038480" cy="2361960"/>
          </a:xfrm>
          <a:prstGeom prst="rect">
            <a:avLst/>
          </a:prstGeom>
          <a:solidFill>
            <a:srgbClr val="fffd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lang="uk-UA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 = 15,8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Х : 8 = 120,83</a:t>
            </a:r>
            <a:r>
              <a:rPr b="0" lang="uk-U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6705720" y="373392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14" descr="http://os1.i.ua/3/6/3019932_8fdeeee0.jpg"/>
          <p:cNvPicPr/>
          <p:nvPr/>
        </p:nvPicPr>
        <p:blipFill>
          <a:blip r:embed="rId3"/>
          <a:stretch/>
        </p:blipFill>
        <p:spPr>
          <a:xfrm>
            <a:off x="0" y="43434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Picture 16" descr="Хатинка біла край села"/>
          <p:cNvPicPr/>
          <p:nvPr/>
        </p:nvPicPr>
        <p:blipFill>
          <a:blip r:embed="rId4"/>
          <a:stretch/>
        </p:blipFill>
        <p:spPr>
          <a:xfrm>
            <a:off x="5410080" y="15238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2" descr="http://img1.liveinternet.ru/images/attach/c/9/107/399/107399675_kozak.png"/>
          <p:cNvPicPr/>
          <p:nvPr/>
        </p:nvPicPr>
        <p:blipFill>
          <a:blip r:embed="rId5"/>
          <a:stretch/>
        </p:blipFill>
        <p:spPr>
          <a:xfrm>
            <a:off x="2819520" y="388620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5029200" y="44956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8e7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4" descr="http://upload.wikimedia.org/wikipedia/uk/d/dc/%D0%9A%D0%BE%D0%B7%D0%B0%D0%BA_%D0%93%D1%80%D0%B0%D0%B9.png"/>
          <p:cNvPicPr/>
          <p:nvPr/>
        </p:nvPicPr>
        <p:blipFill>
          <a:blip r:embed="rId1"/>
          <a:stretch/>
        </p:blipFill>
        <p:spPr>
          <a:xfrm>
            <a:off x="5486400" y="4876920"/>
            <a:ext cx="152388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6840" y="1828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к –5,6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 к – 4,8 км/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руху – 2,5 год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тань - ? К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посіб:                                                                                      ІІ спосіб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6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4(км) – пройшов перший козак.                        1) 5,6+4,9=10,5(км) – швидкість, з якою коза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0" lang="uk-UA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=12,25 (км) – пройшов другий козак.                                                 рухалися назустріч один одному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+12,25=26,25 (км) – відстань між селами.                     2) 10,5 </a:t>
            </a:r>
            <a:r>
              <a:rPr b="0" lang="uk-UA" sz="15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25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м) – відстань між селам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26,25 км.                                                                  Відповідь: 26,25 к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401760" y="-49320"/>
            <a:ext cx="8291520" cy="14274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16" descr="Хатинка біла край села"/>
          <p:cNvPicPr/>
          <p:nvPr/>
        </p:nvPicPr>
        <p:blipFill>
          <a:blip r:embed="rId3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2" descr="http://img1.liveinternet.ru/images/attach/c/9/107/399/107399675_kozak.png"/>
          <p:cNvPicPr/>
          <p:nvPr/>
        </p:nvPicPr>
        <p:blipFill>
          <a:blip r:embed="rId4"/>
          <a:stretch/>
        </p:blipFill>
        <p:spPr>
          <a:xfrm>
            <a:off x="1981080" y="48769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http://os1.i.ua/3/6/3019932_8fdeeee0.jpg"/>
          <p:cNvPicPr/>
          <p:nvPr/>
        </p:nvPicPr>
        <p:blipFill>
          <a:blip r:embed="rId5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s-sad.com/yagidni/kalyna/img/kl-2.jpg"/>
          <p:cNvPicPr/>
          <p:nvPr/>
        </p:nvPicPr>
        <p:blipFill>
          <a:blip r:embed="rId6"/>
          <a:stretch/>
        </p:blipFill>
        <p:spPr>
          <a:xfrm>
            <a:off x="3657600" y="4876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620e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228600" y="457200"/>
            <a:ext cx="4876920" cy="5943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дання 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     чи ні             </a:t>
            </a:r>
            <a:r>
              <a:rPr b="0" lang="uk-UA" sz="32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+17=43,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1,08=4,08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7  - 0,04 = 5,3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7 </a:t>
            </a:r>
            <a:r>
              <a:rPr b="0" lang="uk-U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175,3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=5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,6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=786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85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=128,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32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=63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Picture 11" descr="http://usiter.com/uploads/20120610/tcveti+maki+10600352868.jpg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7"/>
          <p:cNvSpPr/>
          <p:nvPr/>
        </p:nvSpPr>
        <p:spPr>
          <a:xfrm>
            <a:off x="1828800" y="1600200"/>
            <a:ext cx="30492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29T06:28:15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31000000000001024140</vt:lpwstr>
  </property>
</Properties>
</file>