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3.png" ContentType="image/png"/>
  <Override PartName="/ppt/media/image13.jpeg" ContentType="image/jpeg"/>
  <Override PartName="/ppt/media/image20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13B-D59A-47EC-AC33-FE522E57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CDA-E02E-48BD-9B32-CF5DF9FF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464-ADEF-405D-8D6C-AB711E15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D25-E414-4517-A649-7DFE2EBD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ACC31-DBF4-4C5D-873E-68689971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7042A-F16B-49C2-9CAF-0EB61DDD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0ED2A-D54E-4D23-AC01-68D020C9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5C919-4844-4695-9253-350ABFF2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05C95-7031-45E5-91BA-3EC4F085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D1B46-F5D6-4301-9397-02041463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729AE-CDDD-4450-89D4-919B48AF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BF5-406C-4987-ABAF-54AF2EF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CBA91-726C-44C7-BE75-7F1EAADD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EC604-E83C-401F-AE3F-1457DB0F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2505D-DCC6-41BB-A48F-7650E9DE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8FA5E-C0B9-4E2C-A8A7-4505605D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9FB4D-828F-41A4-A1E8-350CB184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17A9-981B-427F-8A32-8567616E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794A-C03E-4AF4-BCD5-0ECC7630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8D72-06D6-4AB4-9EA8-A1E89524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8DAF-056F-48AD-9FAD-24341004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37C9-6A0C-41EF-B7FA-93759984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5C2-7399-48AB-97A8-639E942A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F4C77-084E-48C1-B612-2AD900CC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06888-A5DD-473D-870B-E4217A95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3685-B464-4F0A-B709-C59C351D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3D3D-D93F-4D76-97A1-FAEFF77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58D1-31E5-4E8D-8CB9-65021BCD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C59A-D256-4183-A8F9-69DC80EB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A8084-9F76-4BCD-B1D2-1341A41E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0FDA10-3244-49F6-B04A-F092A8E4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2DADCF-93AD-4CA8-8B7C-8CC6AF38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FA8204-34A4-4707-8238-369C6F68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6C0-3278-48B7-84E3-1DF92E7A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041726-EB09-44BD-978C-4C39ADB6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B9E54-DE0F-43AA-B96E-FBF5B2EB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1E4A93-FF1D-490A-8F97-C726FB67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06EA5-478E-41FD-B600-D6078B68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31677-C9A2-488D-B850-BCED897C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8713A-C1ED-40FC-BAD7-480DF756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1EE0C-FAD0-4138-A9E2-C0DF7936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DA3A0-5DF8-43E5-B059-EA86562E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CC209-1012-450D-AE04-3C4D2DE7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9A471-3F1D-41ED-8962-FEFCA603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B04-D02C-4562-BAAA-E484F661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8196E-CC22-4B6D-A94B-8AABC6BC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A88BD-47BE-4DB7-82A5-CB821EC0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096C9-2B6F-4810-BC38-027344BC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2D12B-F8D2-4F49-887A-6C3028D9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A53F9-E399-41CB-808D-5F041B66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07806-7610-4047-8909-1EFE39C7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8C8AF-03D6-4309-9FAF-2C30B275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4F2BF-4B7C-40A7-9D4F-3C1D41DB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683CC-7ED0-49C9-B90F-F5AAD51C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D6CF3-7571-4DE8-B63C-B6217A6A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D62-F56B-4F15-8C8F-33F304BF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0A0B7-BAF0-45B4-8C8C-946F574F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417DA-D989-4A4A-8298-6FD9B2D7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B7F29-C252-4FE4-B850-DC54626F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54AB4-64E5-4AAC-8501-CC367E16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8E8ED-BECA-4B76-AEEF-A1DE753F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85768-0718-473D-8D41-F6B6EBE2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522D6-B29C-49B1-B305-C27BF5EA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6A9DF-F67F-4DD0-A624-E65B384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9F325-AE42-41F0-A1BD-3391F525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2989A-AEE6-4363-B04D-4D4B0F4D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99D-ED1C-4DBC-BFDD-F788261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96AE1-5402-4D00-809F-BA54A3E9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277B3-4519-441D-8511-F5B64825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9CEF7-D2A4-4699-A8F8-F867CC30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0EB-00FD-4EF5-99DE-0FB1D2BB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44D-2689-4140-9E12-741B8861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D342-0C0A-4D61-BF7F-3BA8BE45DE3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A44F-4CF7-400D-B8F0-3CD4ACF7C03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A550-038D-4E66-9EEA-EDA4536621A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FCD3-6F65-49A2-A956-B819C23696C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DBA0-CABD-492C-B5E2-61CF462F3B9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AC53-4E01-456C-87F7-6B2463A9C8C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3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4038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Тепло своїх долоньок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Ми друзям віддаєм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Урок новий, цікав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Ми з радістю почне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Picture 2" descr="https://encrypted-tbn3.gstatic.com/images?q=tbn:ANd9GcTBhZDhfpFaLZSlAaSWPMV9eNEvRoRh8hKweLFoMzkYwUP8JHuA"/>
          <p:cNvPicPr/>
          <p:nvPr/>
        </p:nvPicPr>
        <p:blipFill>
          <a:blip r:embed="rId1"/>
          <a:stretch/>
        </p:blipFill>
        <p:spPr>
          <a:xfrm>
            <a:off x="533520" y="228600"/>
            <a:ext cx="5257800" cy="2895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s://encrypted-tbn1.gstatic.com/images?q=tbn:ANd9GcTt78-119dtMpF8lHD3yP2KZFpTvTZo2uLP6JSvGUCy4hcVL_-LhQ"/>
          <p:cNvPicPr/>
          <p:nvPr/>
        </p:nvPicPr>
        <p:blipFill>
          <a:blip r:embed="rId2"/>
          <a:stretch/>
        </p:blipFill>
        <p:spPr>
          <a:xfrm>
            <a:off x="5029200" y="3505320"/>
            <a:ext cx="39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Ромашки - нежные цветы (35 фото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"/>
          <p:cNvSpPr/>
          <p:nvPr/>
        </p:nvSpPr>
        <p:spPr>
          <a:xfrm>
            <a:off x="609480" y="11160"/>
            <a:ext cx="54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5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йте дії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228600" y="2133720"/>
            <a:ext cx="762012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· ( 25,36 – 20,06 ) + ( 14,9 + 5,1 ) · 4,2 =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Ромашки - нежные цветы (35 фото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533520" y="2286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5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йте дії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0" y="1905120"/>
            <a:ext cx="91440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·( 25,36 – 20,06 )+( 14,9 + 5,1 )· 4,2= 96,19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http://os1.i.ua/1/101/5323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"/>
          <p:cNvSpPr/>
          <p:nvPr/>
        </p:nvSpPr>
        <p:spPr>
          <a:xfrm>
            <a:off x="0" y="76680"/>
            <a:ext cx="3200400" cy="350892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6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а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гадай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ну дію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3  =  8,7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     0,5  =  9,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8       2,4  =  1,4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      0,4  = 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7     0,3  =  37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 =  0,18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6477120" y="4436280"/>
            <a:ext cx="2666880" cy="241092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3  =  8,7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0,5  =  9,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8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,4  =  1,4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0,4  = 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7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3  =  3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 =  0,18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7" name="Picture 20" descr="http://image.tsn.ua/media/images2/original/Apr2008/640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2"/>
          <a:stretch/>
        </p:blipFill>
        <p:spPr>
          <a:xfrm>
            <a:off x="255600" y="-23760"/>
            <a:ext cx="848664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2"/>
          <a:stretch/>
        </p:blipFill>
        <p:spPr>
          <a:xfrm>
            <a:off x="-590400" y="1901880"/>
            <a:ext cx="94964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4" name="Picture 17" descr="C:\Documents and Settings\Администратор\Рабочий стол\800px-Smiley_pomaranch.jpg"/>
          <p:cNvPicPr/>
          <p:nvPr/>
        </p:nvPicPr>
        <p:blipFill>
          <a:blip r:embed="rId1"/>
          <a:stretch/>
        </p:blipFill>
        <p:spPr>
          <a:xfrm>
            <a:off x="6705720" y="342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8" descr="C:\Documents and Settings\Администратор\Рабочий стол\800px-Smiley_red.jpg"/>
          <p:cNvPicPr/>
          <p:nvPr/>
        </p:nvPicPr>
        <p:blipFill>
          <a:blip r:embed="rId2"/>
          <a:stretch/>
        </p:blipFill>
        <p:spPr>
          <a:xfrm>
            <a:off x="53352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C:\Documents and Settings\Администратор\Рабочий стол\800px-Smiley_blue.jpg"/>
          <p:cNvPicPr/>
          <p:nvPr/>
        </p:nvPicPr>
        <p:blipFill>
          <a:blip r:embed="rId3"/>
          <a:stretch/>
        </p:blipFill>
        <p:spPr>
          <a:xfrm>
            <a:off x="457200" y="236232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0" descr="C:\Documents and Settings\Администратор\Рабочий стол\800px-Smiley_grean.jpg"/>
          <p:cNvPicPr/>
          <p:nvPr/>
        </p:nvPicPr>
        <p:blipFill>
          <a:blip r:embed="rId4"/>
          <a:stretch/>
        </p:blipFill>
        <p:spPr>
          <a:xfrm>
            <a:off x="38088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1" descr="C:\Documents and Settings\Администратор\Рабочий стол\800px-Smiley_rozovuy.jpg"/>
          <p:cNvPicPr/>
          <p:nvPr/>
        </p:nvPicPr>
        <p:blipFill>
          <a:blip r:embed="rId5"/>
          <a:stretch/>
        </p:blipFill>
        <p:spPr>
          <a:xfrm>
            <a:off x="6705720" y="9907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14"/>
          <p:cNvSpPr/>
          <p:nvPr/>
        </p:nvSpPr>
        <p:spPr>
          <a:xfrm>
            <a:off x="2405160" y="8380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мені урок дуже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сподобавс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321640" y="31240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урок полишаю з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чудовим настроєм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2173320" y="5345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задоволений (задоволена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своєю оцінкою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505320" y="1676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урок сподобався, але деякі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завдання не зрозумів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6354360" y="18399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4528800" y="411480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я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взнав багат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цікавого на уроці  –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bc29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0" descr="http://yak-prosto.com/images/9/e/yak-mnozhiti-desyatkovi-drobi.jpg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6019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Множення десяткових дробі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2382840" y="476280"/>
            <a:ext cx="6310440" cy="9810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https://encrypted-tbn1.gstatic.com/images?q=tbn:ANd9GcQqPQK4fG-iRvSOWffZNRUPE5Z8HtHOvCe6NlioJHlBLDB3OCD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s://encrypted-tbn0.gstatic.com/images?q=tbn:ANd9GcRzcihyCn_PHqUcu_pA5-q1JfSefvYpy61HOwgtwfAj_nRsQ1HUnw"/>
          <p:cNvPicPr/>
          <p:nvPr/>
        </p:nvPicPr>
        <p:blipFill>
          <a:blip r:embed="rId3"/>
          <a:stretch/>
        </p:blipFill>
        <p:spPr>
          <a:xfrm>
            <a:off x="0" y="2666880"/>
            <a:ext cx="4724280" cy="4191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0" y="-360"/>
            <a:ext cx="6781680" cy="106668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Свої знання сплетемо у вінок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Досягнемо вершин, майнемо до зіро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8e7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Цвіт яблуні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0" y="304560"/>
            <a:ext cx="4952880" cy="434340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Завдання 1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сний рахунок.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числіть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7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3 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5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              3579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01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 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Цвіт яблуні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69" name="Содержимое 2"/>
          <p:cNvSpPr/>
          <p:nvPr/>
        </p:nvSpPr>
        <p:spPr>
          <a:xfrm>
            <a:off x="0" y="304920"/>
            <a:ext cx="5334120" cy="434340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Завдання 1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сний рахунок.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числіть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7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3  = 3,9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= 60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5 = 2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=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10          3579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01 = 35,7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 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3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= 7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волошки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4190760"/>
            <a:ext cx="4038480" cy="2361960"/>
          </a:xfrm>
          <a:prstGeom prst="rect">
            <a:avLst/>
          </a:prstGeom>
          <a:solidFill>
            <a:srgbClr val="fffd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0" lang="uk-UA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5 = 15,8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Х : 8 = 120,83</a:t>
            </a:r>
            <a:r>
              <a:rPr b="0" lang="uk-UA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1" descr=""/>
          <p:cNvPicPr/>
          <p:nvPr/>
        </p:nvPicPr>
        <p:blipFill>
          <a:blip r:embed="rId3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8e7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4" descr="http://upload.wikimedia.org/wikipedia/uk/d/dc/%D0%9A%D0%BE%D0%B7%D0%B0%D0%BA_%D0%93%D1%80%D0%B0%D0%B9.png"/>
          <p:cNvPicPr/>
          <p:nvPr/>
        </p:nvPicPr>
        <p:blipFill>
          <a:blip r:embed="rId1"/>
          <a:stretch/>
        </p:blipFill>
        <p:spPr>
          <a:xfrm>
            <a:off x="6705720" y="3733920"/>
            <a:ext cx="2438280" cy="3124080"/>
          </a:xfrm>
          <a:prstGeom prst="rect">
            <a:avLst/>
          </a:prstGeom>
          <a:ln w="0">
            <a:noFill/>
          </a:ln>
        </p:spPr>
      </p:pic>
      <p:pic>
        <p:nvPicPr>
          <p:cNvPr id="274" name="Заголовок 1" descr=""/>
          <p:cNvPicPr/>
          <p:nvPr/>
        </p:nvPicPr>
        <p:blipFill>
          <a:blip r:embed="rId2"/>
          <a:stretch/>
        </p:blipFill>
        <p:spPr>
          <a:xfrm>
            <a:off x="401760" y="-49320"/>
            <a:ext cx="8291520" cy="14274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Picture 14" descr="http://os1.i.ua/3/6/3019932_8fdeeee0.jpg"/>
          <p:cNvPicPr/>
          <p:nvPr/>
        </p:nvPicPr>
        <p:blipFill>
          <a:blip r:embed="rId3"/>
          <a:stretch/>
        </p:blipFill>
        <p:spPr>
          <a:xfrm>
            <a:off x="0" y="434340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Picture 16" descr="Хатинка біла край села"/>
          <p:cNvPicPr/>
          <p:nvPr/>
        </p:nvPicPr>
        <p:blipFill>
          <a:blip r:embed="rId4"/>
          <a:stretch/>
        </p:blipFill>
        <p:spPr>
          <a:xfrm>
            <a:off x="5410080" y="1523880"/>
            <a:ext cx="3353040" cy="2286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2" descr="http://img1.liveinternet.ru/images/attach/c/9/107/399/107399675_kozak.png"/>
          <p:cNvPicPr/>
          <p:nvPr/>
        </p:nvPicPr>
        <p:blipFill>
          <a:blip r:embed="rId5"/>
          <a:stretch/>
        </p:blipFill>
        <p:spPr>
          <a:xfrm>
            <a:off x="2819520" y="388620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http://s-sad.com/yagidni/kalyna/img/kl-2.jpg"/>
          <p:cNvPicPr/>
          <p:nvPr/>
        </p:nvPicPr>
        <p:blipFill>
          <a:blip r:embed="rId6"/>
          <a:stretch/>
        </p:blipFill>
        <p:spPr>
          <a:xfrm>
            <a:off x="5029200" y="4495680"/>
            <a:ext cx="1676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8e7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4" descr="http://upload.wikimedia.org/wikipedia/uk/d/dc/%D0%9A%D0%BE%D0%B7%D0%B0%D0%BA_%D0%93%D1%80%D0%B0%D0%B9.png"/>
          <p:cNvPicPr/>
          <p:nvPr/>
        </p:nvPicPr>
        <p:blipFill>
          <a:blip r:embed="rId1"/>
          <a:stretch/>
        </p:blipFill>
        <p:spPr>
          <a:xfrm>
            <a:off x="5486400" y="4876920"/>
            <a:ext cx="1523880" cy="1981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6840" y="18288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к –5,6 км/год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І к – 4,8 км/год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руху – 2,5 год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тань - ? К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спосіб:                                                                                      ІІ спосіб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6</a:t>
            </a:r>
            <a:r>
              <a:rPr b="0" lang="uk-UA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=14(км) – пройшов перший козак.                        1) 5,6+4,9=10,5(км) – швидкість, з якою козак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9</a:t>
            </a:r>
            <a:r>
              <a:rPr b="0" lang="uk-UA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=12,25 (км) – пройшов другий козак.                                                 рухалися назустріч один одному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+12,25=26,25 (км) – відстань між селами.                     2) 10,5 </a:t>
            </a:r>
            <a:r>
              <a:rPr b="0" lang="uk-UA" sz="15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25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м) – відстань між селами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 26,25 км.                                                                  Відповідь: 26,25 км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Заголовок 1" descr=""/>
          <p:cNvPicPr/>
          <p:nvPr/>
        </p:nvPicPr>
        <p:blipFill>
          <a:blip r:embed="rId2"/>
          <a:stretch/>
        </p:blipFill>
        <p:spPr>
          <a:xfrm>
            <a:off x="401760" y="-49320"/>
            <a:ext cx="8291520" cy="142740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8" name="Picture 16" descr="Хатинка біла край села"/>
          <p:cNvPicPr/>
          <p:nvPr/>
        </p:nvPicPr>
        <p:blipFill>
          <a:blip r:embed="rId3"/>
          <a:stretch/>
        </p:blipFill>
        <p:spPr>
          <a:xfrm>
            <a:off x="7010280" y="487692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2" descr="http://img1.liveinternet.ru/images/attach/c/9/107/399/107399675_kozak.png"/>
          <p:cNvPicPr/>
          <p:nvPr/>
        </p:nvPicPr>
        <p:blipFill>
          <a:blip r:embed="rId4"/>
          <a:stretch/>
        </p:blipFill>
        <p:spPr>
          <a:xfrm>
            <a:off x="1981080" y="487692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http://os1.i.ua/3/6/3019932_8fdeeee0.jpg"/>
          <p:cNvPicPr/>
          <p:nvPr/>
        </p:nvPicPr>
        <p:blipFill>
          <a:blip r:embed="rId5"/>
          <a:stretch/>
        </p:blipFill>
        <p:spPr>
          <a:xfrm>
            <a:off x="0" y="48769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http://s-sad.com/yagidni/kalyna/img/kl-2.jpg"/>
          <p:cNvPicPr/>
          <p:nvPr/>
        </p:nvPicPr>
        <p:blipFill>
          <a:blip r:embed="rId6"/>
          <a:stretch/>
        </p:blipFill>
        <p:spPr>
          <a:xfrm>
            <a:off x="3657600" y="48769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620e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228600" y="457200"/>
            <a:ext cx="4876920" cy="5943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4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     чи ні             </a:t>
            </a:r>
            <a:r>
              <a:rPr b="0" lang="uk-UA" sz="3200" spc="-1" strike="noStrike" u="sng">
                <a:solidFill>
                  <a:srgbClr val="bfbfb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+17=43,7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1,08=4,08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7  - 0,04 = 5,3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7 </a:t>
            </a:r>
            <a:r>
              <a:rPr b="0" lang="uk-U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175,3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=5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,62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=786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85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=128,5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32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=63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Picture 11" descr="http://usiter.com/uploads/20120610/tcveti+maki+10600352868.jpg"/>
          <p:cNvPicPr/>
          <p:nvPr/>
        </p:nvPicPr>
        <p:blipFill>
          <a:blip r:embed="rId1"/>
          <a:stretch/>
        </p:blipFill>
        <p:spPr>
          <a:xfrm>
            <a:off x="434340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7"/>
          <p:cNvSpPr/>
          <p:nvPr/>
        </p:nvSpPr>
        <p:spPr>
          <a:xfrm>
            <a:off x="1828800" y="1600200"/>
            <a:ext cx="30492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3200400" y="1600200"/>
            <a:ext cx="304920" cy="30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29T06:28:15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31000000000001024140</vt:lpwstr>
  </property>
</Properties>
</file>