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23.png" ContentType="image/png"/>
  <Override PartName="/ppt/media/image13.jpeg" ContentType="image/jpeg"/>
  <Override PartName="/ppt/media/image20.jpeg" ContentType="image/jpeg"/>
  <Override PartName="/ppt/media/image12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63D2-E4DF-4E1F-A926-1DE2889B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AAC6-C9B6-40C2-B570-DF8F7E3E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D93-0483-41BC-BDBB-02060244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369-9908-4A72-B7D1-8FFE6FCE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5A4D8-4E47-4F05-B0CF-124ADF7C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8F790-F395-4BB4-BEAC-F223ADCD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9A7FA-B65F-4597-A5D1-ADB0F802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F01F6-01CC-4992-8F08-F27D0247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45990-EB73-4EE2-BD9C-99B89BFE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812B2-C7D0-48AB-8DC7-C06D9483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35633-AB42-482C-8B27-B2A755A5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C283-C96B-4A71-BD29-0215305B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7C489-2E20-412F-A9E4-D1007BA9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28817-6E44-4D98-BFF6-5AB03E28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C97BF-B921-4F6A-9551-EB1827D6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95593-B53F-420E-88DE-AF550939E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2C245-9435-4AED-A605-E6CD8BF5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CA722-795C-424D-9AFA-AF3833BE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191C3-7177-41C3-BAB6-E3DF561C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B2C5E-E056-45B8-B6E0-F9C41957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4F546-D7B3-430B-B609-6DF83FB0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88419-CE58-4638-B7BF-B2549A11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459E-FFB9-45E4-A2F5-BFDBCD26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77D4A-7750-4892-9B7B-6C49351E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73C1B-6090-4999-B17F-60871C6B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01A69-4BB0-4D37-B124-18938742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3C9A6-DF8F-4DC8-9A1F-23AFD849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D13D2-7041-4861-9F04-6D348DD3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13E94-ED87-4582-B19C-DF74B557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7A31D-4B5D-4280-853E-A644CE40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D9EB58-B64A-4FCE-A32C-B5F5FC91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A6B859-1C42-4916-9295-17FE449D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E902A1-CEE9-48A1-B502-5DDB852B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2CCE-E732-451B-8DEB-D7E57362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5631AB-FFF8-493A-9FDE-0517C8B7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CA3196-5437-4CA1-976F-1CD035ED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A2E04F-42C1-410A-8E9A-DF2CBC6C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91DE5F-BC24-4316-B24B-270D0FB7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F79A8A-ABE6-467F-8993-F58EFAF0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E9AC73-7C5B-4735-80E7-1CAF7C27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EBFA8A-F10C-469D-A9ED-8AD7314A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90815C-720F-4F7D-AD55-CBEE2EA5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C24C00-09DE-49B5-A0B0-A0F09460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638E5B-D225-4668-8A3F-76DA3390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D8BA-2D47-472C-84CA-4D04FEC6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7E2A1F-9859-4F18-8A0E-7796E450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0422A6-F82D-4345-BCCA-08319491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40D1BA-6160-4B13-A177-3E7CE32A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576E75-1DF6-413B-B18E-704BAD44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3BBA57-BA35-4676-98B5-CE5A99A9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3053FB-7C94-4AAE-A03A-790BA9EE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603242-5FE4-4D4C-AE5B-887006A1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83804F-72F5-4E0E-9567-DAAAD47F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D6D01D-6949-46FC-91B2-BB2DE49D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BBA5E4-372F-478A-8844-D4A7458D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14DF-F8B1-4E3C-B1EB-CB85F5F9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9A309F-59C8-4055-B2D5-0D6E741A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FA92EF-3391-4B4F-B0C0-599DC814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22C5EF-967A-4A99-B87E-08E9507E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E989CF-EB77-4198-A141-2AEDE23C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5C0791-0568-407A-982A-67FDBA48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DB0892-A4C9-43A6-878E-DCA28DA0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5A65BB-5ADE-4229-BB71-D8D5AB31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B4769D-A86D-47D2-AD1C-8797A852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9F4FCE-C4B5-4528-845D-344B04C6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DF233F-AED9-474D-A1B4-872C93AC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B297-DE36-4B77-90FB-2882D4E4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949511-1B0B-45C7-8C4B-356E9267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2B3B78-03BB-4396-AC57-9F6BC7A2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C7E907-A3E9-4A0E-81A1-7D72C083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C424-29D1-462F-93DE-79D003FC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2B85-7BF6-47A4-9BD2-B69E8471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FB81-2F8C-45E8-8469-62294742ADE4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78C7-047B-455F-9515-0B5AE176E016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589C-48C7-474F-8B51-16EF0012DF30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72FF-5CFF-4C4B-8939-99191C6B2ED5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B80F-9B50-4A32-B513-13C0E6EA9647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0230-1BFA-41E3-8D0B-DFD783265A9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3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4038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Constantia"/>
              </a:rPr>
              <a:t>Тепло своїх долоньок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Constantia"/>
              </a:rPr>
              <a:t>Ми друзям віддаєм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Constantia"/>
              </a:rPr>
              <a:t>Урок новий, цікавий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Constantia"/>
              </a:rPr>
              <a:t>Ми з радістю почнем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Picture 2" descr="https://encrypted-tbn3.gstatic.com/images?q=tbn:ANd9GcTBhZDhfpFaLZSlAaSWPMV9eNEvRoRh8hKweLFoMzkYwUP8JHuA"/>
          <p:cNvPicPr/>
          <p:nvPr/>
        </p:nvPicPr>
        <p:blipFill>
          <a:blip r:embed="rId1"/>
          <a:stretch/>
        </p:blipFill>
        <p:spPr>
          <a:xfrm>
            <a:off x="533520" y="228600"/>
            <a:ext cx="5257800" cy="28954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https://encrypted-tbn1.gstatic.com/images?q=tbn:ANd9GcTt78-119dtMpF8lHD3yP2KZFpTvTZo2uLP6JSvGUCy4hcVL_-LhQ"/>
          <p:cNvPicPr/>
          <p:nvPr/>
        </p:nvPicPr>
        <p:blipFill>
          <a:blip r:embed="rId2"/>
          <a:stretch/>
        </p:blipFill>
        <p:spPr>
          <a:xfrm>
            <a:off x="5029200" y="3505320"/>
            <a:ext cx="3933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3" descr="Ромашки - нежные цветы (35 фото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"/>
          <p:cNvSpPr/>
          <p:nvPr/>
        </p:nvSpPr>
        <p:spPr>
          <a:xfrm>
            <a:off x="609480" y="11160"/>
            <a:ext cx="548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</a:t>
            </a:r>
            <a:r>
              <a:rPr b="1" lang="uk-UA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дання 5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йте дії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2" name="Прямоугольник 3"/>
          <p:cNvSpPr/>
          <p:nvPr/>
        </p:nvSpPr>
        <p:spPr>
          <a:xfrm>
            <a:off x="228600" y="2133720"/>
            <a:ext cx="762012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 · ( 25,36 – 20,06 ) + ( 14,9 + 5,1 ) · 4,2 =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Ромашки - нежные цветы (35 фото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533520" y="22860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дання 5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йте дії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Прямоугольник 4"/>
          <p:cNvSpPr/>
          <p:nvPr/>
        </p:nvSpPr>
        <p:spPr>
          <a:xfrm>
            <a:off x="0" y="1905120"/>
            <a:ext cx="914400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 ·( 25,36 – 20,06 )+( 14,9 + 5,1 )· 4,2= 96,19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3" descr="http://os1.i.ua/1/101/53238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"/>
          <p:cNvSpPr/>
          <p:nvPr/>
        </p:nvSpPr>
        <p:spPr>
          <a:xfrm>
            <a:off x="0" y="76680"/>
            <a:ext cx="3200400" cy="3508920"/>
          </a:xfrm>
          <a:prstGeom prst="rect">
            <a:avLst/>
          </a:prstGeom>
          <a:solidFill>
            <a:srgbClr val="ccd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дання 6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ава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гадай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ну дію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3  =  8,7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      0,5  =  9,5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8       2,4  =  1,4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       0,4  = 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,7     0,3  =  37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6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  =  0,18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6477120" y="4436280"/>
            <a:ext cx="2666880" cy="2410920"/>
          </a:xfrm>
          <a:prstGeom prst="rect">
            <a:avLst/>
          </a:prstGeom>
          <a:solidFill>
            <a:srgbClr val="ccd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3  =  8,7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0,5  =  9,5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8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2,4  =  1,4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 </a:t>
            </a:r>
            <a:r>
              <a:rPr b="0" lang="uk-UA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0,4  = 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,7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3  =  3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6 </a:t>
            </a:r>
            <a:r>
              <a:rPr b="0" lang="uk-UA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  =  0,18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37" name="Picture 20" descr="http://image.tsn.ua/media/images2/original/Apr2008/6401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2"/>
          <a:stretch/>
        </p:blipFill>
        <p:spPr>
          <a:xfrm>
            <a:off x="255600" y="-23760"/>
            <a:ext cx="848664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1" descr=""/>
          <p:cNvPicPr/>
          <p:nvPr/>
        </p:nvPicPr>
        <p:blipFill>
          <a:blip r:embed="rId2"/>
          <a:stretch/>
        </p:blipFill>
        <p:spPr>
          <a:xfrm>
            <a:off x="-590400" y="1901880"/>
            <a:ext cx="94964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3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4" name="Picture 17" descr="C:\Documents and Settings\Администратор\Рабочий стол\800px-Smiley_pomaranch.jpg"/>
          <p:cNvPicPr/>
          <p:nvPr/>
        </p:nvPicPr>
        <p:blipFill>
          <a:blip r:embed="rId1"/>
          <a:stretch/>
        </p:blipFill>
        <p:spPr>
          <a:xfrm>
            <a:off x="6705720" y="3429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8" descr="C:\Documents and Settings\Администратор\Рабочий стол\800px-Smiley_red.jpg"/>
          <p:cNvPicPr/>
          <p:nvPr/>
        </p:nvPicPr>
        <p:blipFill>
          <a:blip r:embed="rId2"/>
          <a:stretch/>
        </p:blipFill>
        <p:spPr>
          <a:xfrm>
            <a:off x="533520" y="228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9" descr="C:\Documents and Settings\Администратор\Рабочий стол\800px-Smiley_blue.jpg"/>
          <p:cNvPicPr/>
          <p:nvPr/>
        </p:nvPicPr>
        <p:blipFill>
          <a:blip r:embed="rId3"/>
          <a:stretch/>
        </p:blipFill>
        <p:spPr>
          <a:xfrm>
            <a:off x="457200" y="2362320"/>
            <a:ext cx="1873080" cy="18730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0" descr="C:\Documents and Settings\Администратор\Рабочий стол\800px-Smiley_grean.jpg"/>
          <p:cNvPicPr/>
          <p:nvPr/>
        </p:nvPicPr>
        <p:blipFill>
          <a:blip r:embed="rId4"/>
          <a:stretch/>
        </p:blipFill>
        <p:spPr>
          <a:xfrm>
            <a:off x="380880" y="4572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1" descr="C:\Documents and Settings\Администратор\Рабочий стол\800px-Smiley_rozovuy.jpg"/>
          <p:cNvPicPr/>
          <p:nvPr/>
        </p:nvPicPr>
        <p:blipFill>
          <a:blip r:embed="rId5"/>
          <a:stretch/>
        </p:blipFill>
        <p:spPr>
          <a:xfrm>
            <a:off x="6705720" y="99072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14"/>
          <p:cNvSpPr/>
          <p:nvPr/>
        </p:nvSpPr>
        <p:spPr>
          <a:xfrm>
            <a:off x="2405160" y="838080"/>
            <a:ext cx="21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мені урок дуже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сподобався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0" name="Прямоугольник 15"/>
          <p:cNvSpPr/>
          <p:nvPr/>
        </p:nvSpPr>
        <p:spPr>
          <a:xfrm>
            <a:off x="2321640" y="3124080"/>
            <a:ext cx="23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урок полишаю з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чудовим настроєм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1" name="Прямоугольник 16"/>
          <p:cNvSpPr/>
          <p:nvPr/>
        </p:nvSpPr>
        <p:spPr>
          <a:xfrm>
            <a:off x="2173320" y="5345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задоволений (задоволена)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своєю оцінкою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2" name="Прямоугольник 17"/>
          <p:cNvSpPr/>
          <p:nvPr/>
        </p:nvSpPr>
        <p:spPr>
          <a:xfrm>
            <a:off x="3505320" y="1676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урок сподобався, але деякі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завдання не зрозумів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3" name="Прямоугольник 18"/>
          <p:cNvSpPr/>
          <p:nvPr/>
        </p:nvSpPr>
        <p:spPr>
          <a:xfrm>
            <a:off x="6354360" y="183996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4" name="Прямоугольник 19"/>
          <p:cNvSpPr/>
          <p:nvPr/>
        </p:nvSpPr>
        <p:spPr>
          <a:xfrm>
            <a:off x="4528800" y="4114800"/>
            <a:ext cx="251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я </a:t>
            </a: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взнав багато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цікавого на уроці  –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bc29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10" descr="http://yak-prosto.com/images/9/e/yak-mnozhiti-desyatkovi-drobi.jpg"/>
          <p:cNvPicPr/>
          <p:nvPr/>
        </p:nvPicPr>
        <p:blipFill>
          <a:blip r:embed="rId1"/>
          <a:stretch/>
        </p:blipFill>
        <p:spPr>
          <a:xfrm>
            <a:off x="762120" y="228600"/>
            <a:ext cx="7696080" cy="6019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0" lang="uk-UA" sz="3600" spc="-1" strike="noStrike">
                <a:solidFill>
                  <a:srgbClr val="ffffff"/>
                </a:solidFill>
                <a:latin typeface="Constantia"/>
              </a:rPr>
              <a:t>Множення десяткових дробів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Заголовок 1" descr=""/>
          <p:cNvPicPr/>
          <p:nvPr/>
        </p:nvPicPr>
        <p:blipFill>
          <a:blip r:embed="rId2"/>
          <a:stretch/>
        </p:blipFill>
        <p:spPr>
          <a:xfrm>
            <a:off x="2382840" y="476280"/>
            <a:ext cx="6310440" cy="98100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6" descr="https://encrypted-tbn1.gstatic.com/images?q=tbn:ANd9GcQqPQK4fG-iRvSOWffZNRUPE5Z8HtHOvCe6NlioJHlBLDB3OCD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https://encrypted-tbn0.gstatic.com/images?q=tbn:ANd9GcRzcihyCn_PHqUcu_pA5-q1JfSefvYpy61HOwgtwfAj_nRsQ1HUnw"/>
          <p:cNvPicPr/>
          <p:nvPr/>
        </p:nvPicPr>
        <p:blipFill>
          <a:blip r:embed="rId3"/>
          <a:stretch/>
        </p:blipFill>
        <p:spPr>
          <a:xfrm>
            <a:off x="0" y="2666880"/>
            <a:ext cx="4724280" cy="41911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0" y="-360"/>
            <a:ext cx="6781680" cy="1066680"/>
          </a:xfrm>
          <a:prstGeom prst="rect">
            <a:avLst/>
          </a:prstGeom>
          <a:solidFill>
            <a:srgbClr val="b3c5da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c00000"/>
                </a:solidFill>
                <a:latin typeface="Constantia"/>
              </a:rPr>
              <a:t>Свої знання сплетемо у вінок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c00000"/>
                </a:solidFill>
                <a:latin typeface="Constantia"/>
              </a:rPr>
              <a:t>Досягнемо вершин, майнемо до зірок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d8e7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Цвіт яблуні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0" y="304560"/>
            <a:ext cx="4952880" cy="4343400"/>
          </a:xfrm>
          <a:prstGeom prst="rect">
            <a:avLst/>
          </a:prstGeom>
          <a:solidFill>
            <a:srgbClr val="ccd8e7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onstantia"/>
              </a:rPr>
              <a:t>Завдання 1.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Усний рахунок.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бчисліть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=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,7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1 =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3  =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 =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 5 =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8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=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=               3579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 01 =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 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=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5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 =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Цвіт яблуні"/>
          <p:cNvPicPr/>
          <p:nvPr/>
        </p:nvPicPr>
        <p:blipFill>
          <a:blip r:embed="rId2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269" name="Содержимое 2"/>
          <p:cNvSpPr/>
          <p:nvPr/>
        </p:nvSpPr>
        <p:spPr>
          <a:xfrm>
            <a:off x="0" y="304920"/>
            <a:ext cx="5334120" cy="4343400"/>
          </a:xfrm>
          <a:prstGeom prst="rect">
            <a:avLst/>
          </a:prstGeom>
          <a:solidFill>
            <a:srgbClr val="ccd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onstantia"/>
              </a:rPr>
              <a:t>Завдання 1.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Усний рахунок.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бчисліть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,7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1 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3  = 3,9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 = 60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 5 = 2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8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= 4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= 10          3579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 01 = 35,79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 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= 3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5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 = 7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волошки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4190760"/>
            <a:ext cx="4038480" cy="2361960"/>
          </a:xfrm>
          <a:prstGeom prst="rect">
            <a:avLst/>
          </a:prstGeom>
          <a:solidFill>
            <a:srgbClr val="fffde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ffffff"/>
                </a:solidFill>
                <a:latin typeface="Constantia"/>
              </a:rPr>
              <a:t>11</a:t>
            </a:r>
            <a:r>
              <a:rPr b="0" lang="uk-UA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Х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5 = 15,8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Х : 8 = 120,83</a:t>
            </a:r>
            <a:r>
              <a:rPr b="0" lang="uk-UA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2" name="Заголовок 1" descr=""/>
          <p:cNvPicPr/>
          <p:nvPr/>
        </p:nvPicPr>
        <p:blipFill>
          <a:blip r:embed="rId3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d8e7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4" descr="http://upload.wikimedia.org/wikipedia/uk/d/dc/%D0%9A%D0%BE%D0%B7%D0%B0%D0%BA_%D0%93%D1%80%D0%B0%D0%B9.png"/>
          <p:cNvPicPr/>
          <p:nvPr/>
        </p:nvPicPr>
        <p:blipFill>
          <a:blip r:embed="rId1"/>
          <a:stretch/>
        </p:blipFill>
        <p:spPr>
          <a:xfrm>
            <a:off x="6705720" y="3733920"/>
            <a:ext cx="2438280" cy="3124080"/>
          </a:xfrm>
          <a:prstGeom prst="rect">
            <a:avLst/>
          </a:prstGeom>
          <a:ln w="0">
            <a:noFill/>
          </a:ln>
        </p:spPr>
      </p:pic>
      <p:pic>
        <p:nvPicPr>
          <p:cNvPr id="274" name="Заголовок 1" descr=""/>
          <p:cNvPicPr/>
          <p:nvPr/>
        </p:nvPicPr>
        <p:blipFill>
          <a:blip r:embed="rId2"/>
          <a:stretch/>
        </p:blipFill>
        <p:spPr>
          <a:xfrm>
            <a:off x="401760" y="-49320"/>
            <a:ext cx="8291520" cy="142740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1" name="Picture 14" descr="http://os1.i.ua/3/6/3019932_8fdeeee0.jpg"/>
          <p:cNvPicPr/>
          <p:nvPr/>
        </p:nvPicPr>
        <p:blipFill>
          <a:blip r:embed="rId3"/>
          <a:stretch/>
        </p:blipFill>
        <p:spPr>
          <a:xfrm>
            <a:off x="0" y="4343400"/>
            <a:ext cx="2971800" cy="251460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AutoShape 2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AutoShape 2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AutoShape 2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AutoShape 3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9" name="Picture 16" descr="Хатинка біла край села"/>
          <p:cNvPicPr/>
          <p:nvPr/>
        </p:nvPicPr>
        <p:blipFill>
          <a:blip r:embed="rId4"/>
          <a:stretch/>
        </p:blipFill>
        <p:spPr>
          <a:xfrm>
            <a:off x="5410080" y="1523880"/>
            <a:ext cx="3353040" cy="22860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2" descr="http://img1.liveinternet.ru/images/attach/c/9/107/399/107399675_kozak.png"/>
          <p:cNvPicPr/>
          <p:nvPr/>
        </p:nvPicPr>
        <p:blipFill>
          <a:blip r:embed="rId5"/>
          <a:stretch/>
        </p:blipFill>
        <p:spPr>
          <a:xfrm>
            <a:off x="2819520" y="3886200"/>
            <a:ext cx="2666880" cy="29718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http://s-sad.com/yagidni/kalyna/img/kl-2.jpg"/>
          <p:cNvPicPr/>
          <p:nvPr/>
        </p:nvPicPr>
        <p:blipFill>
          <a:blip r:embed="rId6"/>
          <a:stretch/>
        </p:blipFill>
        <p:spPr>
          <a:xfrm>
            <a:off x="5029200" y="4495680"/>
            <a:ext cx="16765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d8e7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34" descr="http://upload.wikimedia.org/wikipedia/uk/d/dc/%D0%9A%D0%BE%D0%B7%D0%B0%D0%BA_%D0%93%D1%80%D0%B0%D0%B9.png"/>
          <p:cNvPicPr/>
          <p:nvPr/>
        </p:nvPicPr>
        <p:blipFill>
          <a:blip r:embed="rId1"/>
          <a:stretch/>
        </p:blipFill>
        <p:spPr>
          <a:xfrm>
            <a:off x="5486400" y="4876920"/>
            <a:ext cx="1523880" cy="19810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456840" y="1828800"/>
            <a:ext cx="8381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к –5,6 км/год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І к – 4,8 км/год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 руху – 2,5 год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стань - ? Км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спосіб:                                                                                      ІІ спосіб: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6</a:t>
            </a:r>
            <a:r>
              <a:rPr b="0" lang="uk-UA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=14(км) – пройшов перший козак.                        1) 5,6+4,9=10,5(км) – швидкість, з якою козаки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9</a:t>
            </a:r>
            <a:r>
              <a:rPr b="0" lang="uk-UA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=12,25 (км) – пройшов другий козак.                                                 рухалися назустріч один одному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+12,25=26,25 (км) – відстань між селами.                     2) 10,5 </a:t>
            </a:r>
            <a:r>
              <a:rPr b="0" lang="uk-UA" sz="15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</a:t>
            </a: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,25</a:t>
            </a: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м) – відстань між селами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ь: 26,25 км.                                                                  Відповідь: 26,25 км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4" name="Заголовок 1" descr=""/>
          <p:cNvPicPr/>
          <p:nvPr/>
        </p:nvPicPr>
        <p:blipFill>
          <a:blip r:embed="rId2"/>
          <a:stretch/>
        </p:blipFill>
        <p:spPr>
          <a:xfrm>
            <a:off x="401760" y="-49320"/>
            <a:ext cx="8291520" cy="1427400"/>
          </a:xfrm>
          <a:prstGeom prst="rect">
            <a:avLst/>
          </a:prstGeom>
          <a:ln w="0">
            <a:noFill/>
          </a:ln>
        </p:spPr>
      </p:pic>
      <p:sp>
        <p:nvSpPr>
          <p:cNvPr id="29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1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3" name="AutoShape 2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5" name="AutoShape 2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AutoShape 2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7" name="AutoShape 3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8" name="Picture 16" descr="Хатинка біла край села"/>
          <p:cNvPicPr/>
          <p:nvPr/>
        </p:nvPicPr>
        <p:blipFill>
          <a:blip r:embed="rId3"/>
          <a:stretch/>
        </p:blipFill>
        <p:spPr>
          <a:xfrm>
            <a:off x="7010280" y="4876920"/>
            <a:ext cx="2133720" cy="1981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2" descr="http://img1.liveinternet.ru/images/attach/c/9/107/399/107399675_kozak.png"/>
          <p:cNvPicPr/>
          <p:nvPr/>
        </p:nvPicPr>
        <p:blipFill>
          <a:blip r:embed="rId4"/>
          <a:stretch/>
        </p:blipFill>
        <p:spPr>
          <a:xfrm>
            <a:off x="1981080" y="487692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4" descr="http://os1.i.ua/3/6/3019932_8fdeeee0.jpg"/>
          <p:cNvPicPr/>
          <p:nvPr/>
        </p:nvPicPr>
        <p:blipFill>
          <a:blip r:embed="rId5"/>
          <a:stretch/>
        </p:blipFill>
        <p:spPr>
          <a:xfrm>
            <a:off x="0" y="4876920"/>
            <a:ext cx="2057400" cy="1981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http://s-sad.com/yagidni/kalyna/img/kl-2.jpg"/>
          <p:cNvPicPr/>
          <p:nvPr/>
        </p:nvPicPr>
        <p:blipFill>
          <a:blip r:embed="rId6"/>
          <a:stretch/>
        </p:blipFill>
        <p:spPr>
          <a:xfrm>
            <a:off x="3657600" y="4876920"/>
            <a:ext cx="1828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620e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Прямоугольник 4"/>
          <p:cNvSpPr/>
          <p:nvPr/>
        </p:nvSpPr>
        <p:spPr>
          <a:xfrm>
            <a:off x="228600" y="457200"/>
            <a:ext cx="4876920" cy="594324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               </a:t>
            </a: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дання 4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ак     чи ні             </a:t>
            </a:r>
            <a:r>
              <a:rPr b="0" lang="uk-UA" sz="3200" spc="-1" strike="noStrike" u="sng">
                <a:solidFill>
                  <a:srgbClr val="bfbfbf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+17=43,7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+1,08=4,08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7  - 0,04 = 5,3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,7 </a:t>
            </a:r>
            <a:r>
              <a:rPr b="0" lang="uk-UA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–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= 175,3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2</a:t>
            </a:r>
            <a:r>
              <a:rPr b="0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=52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,62</a:t>
            </a:r>
            <a:r>
              <a:rPr b="0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=7862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85</a:t>
            </a:r>
            <a:r>
              <a:rPr b="0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=128,5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632</a:t>
            </a:r>
            <a:r>
              <a:rPr b="0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=632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6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7" name="Picture 11" descr="http://usiter.com/uploads/20120610/tcveti+maki+10600352868.jpg"/>
          <p:cNvPicPr/>
          <p:nvPr/>
        </p:nvPicPr>
        <p:blipFill>
          <a:blip r:embed="rId1"/>
          <a:stretch/>
        </p:blipFill>
        <p:spPr>
          <a:xfrm>
            <a:off x="4343400" y="18288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318" name="Прямоугольник 7"/>
          <p:cNvSpPr/>
          <p:nvPr/>
        </p:nvSpPr>
        <p:spPr>
          <a:xfrm>
            <a:off x="1828800" y="1600200"/>
            <a:ext cx="304920" cy="304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Прямоугольник 8"/>
          <p:cNvSpPr/>
          <p:nvPr/>
        </p:nvSpPr>
        <p:spPr>
          <a:xfrm>
            <a:off x="3200400" y="1600200"/>
            <a:ext cx="304920" cy="304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5-29T06:28:15Z</dcterms:modified>
  <cp:revision>5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31000000000001024140</vt:lpwstr>
  </property>
</Properties>
</file>