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1AB-4C6E-4E22-8C2C-AA4FEE00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865-95E2-443A-A47D-30BE6AE4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8FA-8EBA-4FAB-AD81-1B78A1E8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136-7B54-4D9A-8F06-F87AC64E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434-BD3B-49DF-B103-8A47E44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AD1-C305-4F01-BF94-63680B4A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97A-77D2-4A5D-A176-DE82668A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C0A-43D2-410F-928C-F18F6572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602-A2DA-44FB-BFBC-40D902DA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35E-00FC-4ABE-8F12-5312624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2A9-DDF1-4CFB-B65C-4C33CC0A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80F-4EE5-4107-A12C-9098AC2C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EC6-757B-4CA8-A12D-97145C67B8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55700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7030a0"/>
                </a:solidFill>
                <a:latin typeface="Times New Roman"/>
              </a:rPr>
              <a:t>Множення та ділення десяткових дробі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3860640"/>
            <a:ext cx="4816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Рафальська Оксана Дмитрі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читель математик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щої категорії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читель - метод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овобузької ЗОШ І – ІІ ст. №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овобузької районної ра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иколаївської област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7030a0"/>
                </a:solidFill>
                <a:latin typeface="Times New Roman"/>
              </a:rPr>
              <a:t>Стародавній спосіб діле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OV0BB стародавній спосіб ділення 2.MOD" descr=""/>
          <p:cNvPicPr/>
          <p:nvPr/>
        </p:nvPicPr>
        <p:blipFill>
          <a:blip r:embed="rId1"/>
          <a:stretch/>
        </p:blipFill>
        <p:spPr>
          <a:xfrm>
            <a:off x="928800" y="971640"/>
            <a:ext cx="735804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9596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uk-UA" sz="3200" spc="-1" strike="noStrike">
                <a:solidFill>
                  <a:srgbClr val="7030a0"/>
                </a:solidFill>
                <a:latin typeface="Times New Roman"/>
              </a:rPr>
              <a:t>Прочитай назву книги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981000"/>
            <a:ext cx="8642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І група         ІІ група          ІІІ група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V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гру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7,6 • 9,9              7,9 • 9,8               9,8 • 7,3               7,5•9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9,2 : 28             39,2 : 14              34,3 : 1,4             35,1 : 1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1" i="1" lang="uk-UA" sz="2000" spc="-1" strike="noStrike">
                <a:solidFill>
                  <a:srgbClr val="ff0000"/>
                </a:solidFill>
                <a:latin typeface="Times New Roman"/>
              </a:rPr>
              <a:t>(1548 - 16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Правильна відповідь: Десят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8360" y="3141720"/>
          <a:ext cx="8280360" cy="743040"/>
        </p:xfrm>
        <a:graphic>
          <a:graphicData uri="http://schemas.openxmlformats.org/drawingml/2006/table">
            <a:tbl>
              <a:tblPr/>
              <a:tblGrid>
                <a:gridCol w="826920"/>
                <a:gridCol w="828720"/>
                <a:gridCol w="827280"/>
                <a:gridCol w="828720"/>
                <a:gridCol w="828360"/>
                <a:gridCol w="827280"/>
                <a:gridCol w="828720"/>
                <a:gridCol w="828720"/>
                <a:gridCol w="826920"/>
                <a:gridCol w="82872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,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pic>
        <p:nvPicPr>
          <p:cNvPr id="80" name="Рисунок 4" descr="Симон Стевін.bmp"/>
          <p:cNvPicPr/>
          <p:nvPr/>
        </p:nvPicPr>
        <p:blipFill>
          <a:blip r:embed="rId1"/>
          <a:stretch/>
        </p:blipFill>
        <p:spPr>
          <a:xfrm>
            <a:off x="7236000" y="260280"/>
            <a:ext cx="1512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uk-UA" sz="4400" spc="-1" strike="noStrike">
                <a:solidFill>
                  <a:srgbClr val="7030a0"/>
                </a:solidFill>
                <a:latin typeface="Times New Roman"/>
              </a:rPr>
              <a:t>Хвилинка – цікавин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ука Пачіолі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Готфрід Лейбні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Герберт Орійяксь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4" descr="Лейбніц.jpg"/>
          <p:cNvPicPr/>
          <p:nvPr/>
        </p:nvPicPr>
        <p:blipFill>
          <a:blip r:embed="rId1"/>
          <a:stretch/>
        </p:blipFill>
        <p:spPr>
          <a:xfrm>
            <a:off x="5651640" y="1125360"/>
            <a:ext cx="1512720" cy="2403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1556_or.jpg"/>
          <p:cNvPicPr/>
          <p:nvPr/>
        </p:nvPicPr>
        <p:blipFill>
          <a:blip r:embed="rId2"/>
          <a:stretch/>
        </p:blipFill>
        <p:spPr>
          <a:xfrm>
            <a:off x="1187280" y="981000"/>
            <a:ext cx="1870200" cy="2595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загруженное (1).jpg"/>
          <p:cNvPicPr/>
          <p:nvPr/>
        </p:nvPicPr>
        <p:blipFill>
          <a:blip r:embed="rId3"/>
          <a:stretch/>
        </p:blipFill>
        <p:spPr>
          <a:xfrm>
            <a:off x="3276720" y="3933720"/>
            <a:ext cx="1998720" cy="1989360"/>
          </a:xfrm>
          <a:prstGeom prst="rect">
            <a:avLst/>
          </a:prstGeom>
          <a:ln w="0">
            <a:noFill/>
          </a:ln>
        </p:spPr>
      </p:pic>
      <p:pic>
        <p:nvPicPr>
          <p:cNvPr id="86" name="Мелодія для реферату.mp3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8510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Задача підвищеної складност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 яку цифру потрібно замінити літеру А для того, щоб рівність була правильно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,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7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ая соединительная линия 4"/>
          <p:cNvSpPr/>
          <p:nvPr/>
        </p:nvSpPr>
        <p:spPr>
          <a:xfrm>
            <a:off x="3780000" y="4653000"/>
            <a:ext cx="1008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5" descr="загруженное (2).jpg"/>
          <p:cNvPicPr/>
          <p:nvPr/>
        </p:nvPicPr>
        <p:blipFill>
          <a:blip r:embed="rId1"/>
          <a:stretch/>
        </p:blipFill>
        <p:spPr>
          <a:xfrm>
            <a:off x="588960" y="1052640"/>
            <a:ext cx="1373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Задача підвищеної складност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чень написав на дошці приклад на множення чисел. Потім стер всі цифри і замінив їх буквами. Вийшла рівніст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MNKS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. Доведіть, що учень помилив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7030a0"/>
                </a:solidFill>
                <a:latin typeface="Times New Roman"/>
              </a:rPr>
              <a:t>Метод евристичних запитань за Квінтіліано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8000" y="1413000"/>
            <a:ext cx="6778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Що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Що корисного ви дізналися сьогодні на уроці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Хто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Хто з вчених  ввів знак множення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ли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Коли з’явилися перші відомості про діленн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Навіщо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Для чого нам потрібні дані знанн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е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Де ми зможемо застосувати дані знанн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Чим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Чим традиційний спосіб ділення відрізняється від нетрадиційног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Як?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ий нетрадиційний спосіб множення вам сподобався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76360" y="981000"/>
            <a:ext cx="7416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конати множення трьома способами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,6•9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9,1•9,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9,1•9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. Виконати ділення двома способ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4,5 :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51,2 : 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67,2 :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7030a0"/>
                </a:solidFill>
                <a:latin typeface="Times New Roman"/>
              </a:rPr>
              <a:t>Ви молодці! Дякую за урок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030a0"/>
                </a:solidFill>
                <a:latin typeface="Times New Roman"/>
              </a:rPr>
              <a:t>Епіграф уро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6000" spc="-1" strike="noStrike">
                <a:solidFill>
                  <a:srgbClr val="000000"/>
                </a:solidFill>
                <a:latin typeface="Monotype Corsiva"/>
              </a:rPr>
              <a:t>Без знання дробів ніхто не може сказати, що він знає математик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Monotype Corsiva"/>
              </a:rPr>
              <a:t>Римський оратор Цице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Запам'ятай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м'ять - це мідна дошка, вкрита буквами, які час непомітно згладжує, якщо іноді їх не поновляти різцем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Джон Лок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27280" y="2924280"/>
          <a:ext cx="3648240" cy="490320"/>
        </p:xfrm>
        <a:graphic>
          <a:graphicData uri="http://schemas.openxmlformats.org/drawingml/2006/table">
            <a:tbl>
              <a:tblPr/>
              <a:tblGrid>
                <a:gridCol w="1216080"/>
                <a:gridCol w="1216080"/>
                <a:gridCol w="121608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627280" y="3716280"/>
          <a:ext cx="3672000" cy="981000"/>
        </p:xfrm>
        <a:graphic>
          <a:graphicData uri="http://schemas.openxmlformats.org/drawingml/2006/table">
            <a:tbl>
              <a:tblPr/>
              <a:tblGrid>
                <a:gridCol w="1224000"/>
                <a:gridCol w="1224000"/>
                <a:gridCol w="12240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627280" y="4869000"/>
          <a:ext cx="3745080" cy="1471320"/>
        </p:xfrm>
        <a:graphic>
          <a:graphicData uri="http://schemas.openxmlformats.org/drawingml/2006/table">
            <a:tbl>
              <a:tblPr/>
              <a:tblGrid>
                <a:gridCol w="1247760"/>
                <a:gridCol w="1247760"/>
                <a:gridCol w="124956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0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Знайди помилку в обчисленн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х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6,9     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19,5 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77,77  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,3           0,6             174      6,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507         1170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38           195                   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,887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31,20                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7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4"/>
          <p:cNvSpPr/>
          <p:nvPr/>
        </p:nvSpPr>
        <p:spPr>
          <a:xfrm>
            <a:off x="971640" y="2276640"/>
            <a:ext cx="10792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6"/>
          <p:cNvSpPr/>
          <p:nvPr/>
        </p:nvSpPr>
        <p:spPr>
          <a:xfrm>
            <a:off x="826920" y="3429000"/>
            <a:ext cx="1224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8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11"/>
          <p:cNvSpPr/>
          <p:nvPr/>
        </p:nvSpPr>
        <p:spPr>
          <a:xfrm>
            <a:off x="2700360" y="3429000"/>
            <a:ext cx="10796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13"/>
          <p:cNvSpPr/>
          <p:nvPr/>
        </p:nvSpPr>
        <p:spPr>
          <a:xfrm>
            <a:off x="6012000" y="1268280"/>
            <a:ext cx="0" cy="100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ая соединительная линия 15"/>
          <p:cNvSpPr/>
          <p:nvPr/>
        </p:nvSpPr>
        <p:spPr>
          <a:xfrm>
            <a:off x="6012000" y="1700280"/>
            <a:ext cx="1008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>
            <a:off x="4859280" y="2276640"/>
            <a:ext cx="9367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9"/>
          <p:cNvSpPr/>
          <p:nvPr/>
        </p:nvSpPr>
        <p:spPr>
          <a:xfrm>
            <a:off x="5076720" y="3429000"/>
            <a:ext cx="93528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21"/>
          <p:cNvSpPr/>
          <p:nvPr/>
        </p:nvSpPr>
        <p:spPr>
          <a:xfrm>
            <a:off x="5508720" y="4581360"/>
            <a:ext cx="7189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OV006 відеозадача.MOD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798984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948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Розв'яжи задач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дитячого організму шкідливою є втрата 0,16 гр. кальцію за добу. Скільки чашок кави, випитих за добу можуть нанести шкоду організму, якщо одна чашка кави вимиває з організму 40 мг  кальці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3" descr="images (1).jpg"/>
          <p:cNvPicPr/>
          <p:nvPr/>
        </p:nvPicPr>
        <p:blipFill>
          <a:blip r:embed="rId1"/>
          <a:stretch/>
        </p:blipFill>
        <p:spPr>
          <a:xfrm>
            <a:off x="2195640" y="3860640"/>
            <a:ext cx="239400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images.jpg"/>
          <p:cNvPicPr/>
          <p:nvPr/>
        </p:nvPicPr>
        <p:blipFill>
          <a:blip r:embed="rId2"/>
          <a:stretch/>
        </p:blipFill>
        <p:spPr>
          <a:xfrm>
            <a:off x="5003640" y="4076640"/>
            <a:ext cx="30718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Усний раху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∙ 10         0,5∙ 2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0,8 ∙ 3             3,5 : 5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4,5 : 0,9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1,3 : 10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6,5∙ 2              1,2 ∙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3,5∙ 0              0,9 •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7030a0"/>
                </a:solidFill>
                <a:latin typeface="Times New Roman"/>
              </a:rPr>
              <a:t>Гра “Світлофор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95280" y="907560"/>
            <a:ext cx="6769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Чи правда, що дріб 5,7 є десятковим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б помножити десятковий дріб на 10 треба в цьому дробі  перенести кому вправо на дві цифр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б поділити десятковий дріб на 100 треба в цьому дробі перенести кому вправо на дві цифр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б помножити десятковий дріб на 0,1 достатньо в цьому дробі перенести кому вліво на одну цифр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б помножити десятковий дріб на десятковий дріб, достатньо перемножити їх як натуральні числа, не звертаючи уваги на коми, а в отриманому добутку відокремити комою справа скільки цифр, скільки їх було після коми в першому множник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б поділити десятковий дріб на натуральне число, досить поділити їх як натуральні числа не звертаючи уваги на коми, а в отриманому результаті поставити ком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3" descr="загруженное.jpg"/>
          <p:cNvPicPr/>
          <p:nvPr/>
        </p:nvPicPr>
        <p:blipFill>
          <a:blip r:embed="rId1"/>
          <a:stretch/>
        </p:blipFill>
        <p:spPr>
          <a:xfrm>
            <a:off x="0" y="1268280"/>
            <a:ext cx="220032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uk-UA" sz="4400" spc="-1" strike="noStrike">
                <a:solidFill>
                  <a:srgbClr val="7030a0"/>
                </a:solidFill>
                <a:latin typeface="Times New Roman"/>
              </a:rPr>
              <a:t>Фізхвилинка «Буратіно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C:\Documents and Settings\1\Мои документы\Мои рисунки\imagesCAVW62ID.jpg"/>
          <p:cNvPicPr/>
          <p:nvPr/>
        </p:nvPicPr>
        <p:blipFill>
          <a:blip r:embed="rId1"/>
          <a:stretch/>
        </p:blipFill>
        <p:spPr>
          <a:xfrm>
            <a:off x="2857680" y="1357200"/>
            <a:ext cx="3447720" cy="4913280"/>
          </a:xfrm>
          <a:prstGeom prst="rect">
            <a:avLst/>
          </a:prstGeom>
          <a:ln w="0">
            <a:noFill/>
          </a:ln>
        </p:spPr>
      </p:pic>
      <p:pic>
        <p:nvPicPr>
          <p:cNvPr id="74" name="Фізхвилинка.mp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491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Master</cp:lastModifiedBy>
  <dcterms:modified xsi:type="dcterms:W3CDTF">2014-04-09T17:12:07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07000000000001024140</vt:lpwstr>
  </property>
</Properties>
</file>