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F35-B7FB-4275-98BF-40C428D8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F5C-769A-4E8A-A928-6111C2D9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483-C8EA-4ACC-BA68-9BCCF43B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138-7A28-4130-B00C-9FB4738E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6810-A80E-4B80-9D18-3861537D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8E4A-AC67-4879-BD87-46277F92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0D5F-3872-4AC6-B403-E39FF82C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1E58-4509-4FCA-AE40-0A3F59AD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9223-794B-40D6-A75C-4DC3E539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CBAE-9D26-4F1B-9442-6E58EAF7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0FB5-BA6B-4B28-8390-506FA47A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07E-57DE-4E3D-BF20-9B734E33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632B-DA97-43A6-9A01-C415E4E7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6ED2-437F-4773-9293-5B38C7D3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59A4-3EA9-4AC4-AC11-506B411B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1146-D911-43B2-B838-BDCC4684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738E-3397-44E3-B5E0-31795A5F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AFA1-6C58-46B3-9EFC-4016D9A5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680F-BCC2-49ED-A38E-5607531B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D4E5-BCE5-4785-84EB-21B61873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F694-8049-4D57-BAB2-F1E148ED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B9D8-F2E4-4B81-96F9-F52927B9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0E3-B599-4725-AC2F-EFB6F475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51B6-DB68-47E8-8F65-302B1909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7AAC-16BD-414A-9659-209826A9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062D-EC33-436C-BAA9-1378614C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DA4C-FABB-4B20-87C9-9F8F6C99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392C-B1B2-4F59-ADB9-4359A710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B1E4-8108-4E72-9756-15D660B6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B61C-23EA-47DE-940F-64CABC0E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57B9-0A8B-4EC0-BED2-4A94B3AF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7BC00-CEBC-43D2-8290-47288E75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AB1F-0F27-4F1C-BF8D-3D7F67D0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E22-2870-45D5-927C-9BB4A8CA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9A58-9508-4243-A5B8-6CD074AD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09E6-DF04-433A-BE79-5534415B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8A62-E42D-4883-A8B5-31B4C676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CB84-B5FC-4972-866D-951FEEAE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56AE-C331-4DBA-9149-8AA41DDE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FD1A-1897-4709-986E-AF5FC87A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26E4-084F-492C-B6AC-166B59DF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9DB51-EC1B-42EB-A355-8751855C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05818-3859-4408-B970-1A2C6E13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110AC-683F-4A62-ABAD-A4065A83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EF1-C156-47BA-86A6-1AB1B6BD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C1121-17DA-4881-8C0F-E36D8C49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85D2-A5C4-471A-ABE7-36EBA1A8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D4DC3-610A-4E4E-AE48-050B64C7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B83D3-127E-483E-B0A2-CCC82672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F0632-1B7E-49BE-89C1-7435793C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0F85-3881-41CF-AD1D-4FBE2BA9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73D4B-7810-46C0-9E49-B00B9B5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7B083-FDC4-4B16-9ECC-B272E688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97180-67DB-47D0-B57C-6553637C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FC37-44D7-48D5-873A-B3734241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CAF-04C7-46E9-94F6-6AFAB25F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7A20E-6A02-45EC-839B-F57F9EA1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A0C5-5D28-4E8C-8771-E09FE9E8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B0CC5-5893-4EA1-9D2E-B5C7CEAF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237A2-71FD-47DD-B6F8-698B25DF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2DE3D-778F-4C3A-AC44-351EAF10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DA2DE-0752-427C-82FB-E70744F3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AFA29-2E9B-4E2B-97E4-F3A26B27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64250-C737-4C1D-B96C-AA6371C6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A3DCF-A767-4D49-8A24-0578634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815C-4FD6-4389-93E1-60ADD02F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2B3-B703-4D39-A3AF-2D22CC92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AF578-17EF-471A-93C7-62BA62C9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5EEBD-732A-4976-9FED-6F543585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4EF99-E5D9-4000-BB18-AE581136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F41DE-7437-4A83-8D41-09FFA4E6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6713-1982-4057-9964-F0033CB1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A8B98-74F2-42D1-AD78-B33FA0D1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43C02-0789-45BB-BB5D-DE81F572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85378-6FF6-45EF-B320-83E11B9C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6A3F7-7065-465D-AF24-67C80751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3622E-37FC-4623-BF57-F8EEB49A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047-2015-4BE2-AE0D-2EEBBB57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E790-1B8B-43E6-89ED-9675842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BA2CC-18C9-493A-AF15-A6FAF3B9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AAC36-E4EB-4C33-BEE3-2EF6C4CE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E4DC6-C9D8-4B13-A868-C9AC030B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0BE79-E241-41B7-A4A8-F0446F13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B17-2A95-4A66-99D5-97C0ABF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1BAC-E5D0-4676-AC24-F1C580EBF3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9F32-6E78-4234-8E3A-D21FF2307A8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CB9-265F-4538-B680-C4CF02B2965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F2CE-397D-4F73-A205-66F79DFF91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8AD2-3E76-4378-85CF-FEB7834F77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F9EF-27F9-4066-A001-ABC81078FC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1A22-0F94-4901-ACEC-8F492C95D2E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14288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</a:rPr>
              <a:t>Тема:  «Прямокутний  трикутник</a:t>
            </a:r>
            <a:br>
              <a:rPr sz="3900"/>
            </a:br>
            <a:r>
              <a:rPr b="1" lang="ru-RU" sz="3900" spc="-1" strike="noStrike">
                <a:solidFill>
                  <a:srgbClr val="0070c0"/>
                </a:solidFill>
                <a:latin typeface="Corbel"/>
              </a:rPr>
              <a:t>   та  його властивості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572314"/>
                </a:solidFill>
                <a:latin typeface="Corbel"/>
              </a:rPr>
              <a:t>1. Знайти невідомий кут трикутник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Прямоугольный треугольник 2"/>
          <p:cNvSpPr/>
          <p:nvPr/>
        </p:nvSpPr>
        <p:spPr>
          <a:xfrm>
            <a:off x="1500120" y="1214280"/>
            <a:ext cx="1428840" cy="257184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Дуга 3"/>
          <p:cNvSpPr/>
          <p:nvPr/>
        </p:nvSpPr>
        <p:spPr>
          <a:xfrm rot="13520400">
            <a:off x="2598480" y="3168360"/>
            <a:ext cx="571680" cy="714600"/>
          </a:xfrm>
          <a:custGeom>
            <a:avLst/>
            <a:gdLst>
              <a:gd name="textAreaLeft" fmla="*/ 285840 w 571680"/>
              <a:gd name="textAreaRight" fmla="*/ 572040 w 571680"/>
              <a:gd name="textAreaTop" fmla="*/ 0 h 714600"/>
              <a:gd name="textAreaBottom" fmla="*/ 357480 h 714600"/>
            </a:gdLst>
            <a:ahLst/>
            <a:rect l="textAreaLeft" t="textAreaTop" r="textAreaRight" b="textAreaBottom"/>
            <a:pathLst>
              <a:path stroke="0" w="571504" h="714380">
                <a:moveTo>
                  <a:pt x="285752" y="0"/>
                </a:moveTo>
                <a:lnTo>
                  <a:pt x="285752" y="0"/>
                </a:lnTo>
                <a:arcTo wR="285752" hR="357190" stAng="-5400000" swAng="5400012"/>
                <a:lnTo>
                  <a:pt x="285752" y="357190"/>
                </a:lnTo>
                <a:close/>
              </a:path>
              <a:path fill="none" w="571504" h="714380">
                <a:moveTo>
                  <a:pt x="285752" y="0"/>
                </a:moveTo>
                <a:lnTo>
                  <a:pt x="285752" y="0"/>
                </a:lnTo>
                <a:arcTo wR="285752" hR="357190" stAng="-5400000" swAng="5400012"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Дуга 4"/>
          <p:cNvSpPr/>
          <p:nvPr/>
        </p:nvSpPr>
        <p:spPr>
          <a:xfrm rot="7133400">
            <a:off x="1307880" y="1279080"/>
            <a:ext cx="571320" cy="714600"/>
          </a:xfrm>
          <a:custGeom>
            <a:avLst/>
            <a:gdLst>
              <a:gd name="textAreaLeft" fmla="*/ 377640 w 571320"/>
              <a:gd name="textAreaRight" fmla="*/ 571680 w 571320"/>
              <a:gd name="textAreaTop" fmla="*/ 18720 h 714600"/>
              <a:gd name="textAreaBottom" fmla="*/ 357480 h 714600"/>
            </a:gdLst>
            <a:ahLst/>
            <a:rect l="textAreaLeft" t="textAreaTop" r="textAreaRight" b="textAreaBottom"/>
            <a:pathLst>
              <a:path stroke="0" w="571504" h="714380">
                <a:moveTo>
                  <a:pt x="377672" y="18985"/>
                </a:moveTo>
                <a:lnTo>
                  <a:pt x="377672" y="18985"/>
                </a:lnTo>
                <a:arcTo wR="285752" hR="357190" stAng="-4487700" swAng="4487712"/>
                <a:lnTo>
                  <a:pt x="285752" y="357190"/>
                </a:lnTo>
                <a:close/>
              </a:path>
              <a:path fill="none" w="571504" h="714380">
                <a:moveTo>
                  <a:pt x="377672" y="18985"/>
                </a:moveTo>
                <a:lnTo>
                  <a:pt x="377672" y="18985"/>
                </a:lnTo>
                <a:arcTo wR="285752" hR="357190" stAng="-4487700" swAng="448771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1505160" y="21430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4879800" y="1571760"/>
            <a:ext cx="165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50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     20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     70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оугольник 8"/>
          <p:cNvSpPr/>
          <p:nvPr/>
        </p:nvSpPr>
        <p:spPr>
          <a:xfrm>
            <a:off x="1500120" y="3571920"/>
            <a:ext cx="14292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. Чим являється відрізок СК 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629000" y="3452760"/>
            <a:ext cx="1104480" cy="110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Прямая соединительная линия 5"/>
          <p:cNvSpPr/>
          <p:nvPr/>
        </p:nvSpPr>
        <p:spPr>
          <a:xfrm flipV="1">
            <a:off x="1434960" y="3929040"/>
            <a:ext cx="1565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1075320" y="10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2932200" y="35719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3646800" y="450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932400" y="4500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TextBox 11"/>
          <p:cNvSpPr/>
          <p:nvPr/>
        </p:nvSpPr>
        <p:spPr>
          <a:xfrm>
            <a:off x="4923720" y="1571760"/>
            <a:ext cx="293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то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сектрисо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но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13"/>
          <p:cNvSpPr/>
          <p:nvPr/>
        </p:nvSpPr>
        <p:spPr>
          <a:xfrm>
            <a:off x="2785320" y="4071960"/>
            <a:ext cx="1429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14"/>
          <p:cNvSpPr/>
          <p:nvPr/>
        </p:nvSpPr>
        <p:spPr>
          <a:xfrm flipV="1">
            <a:off x="2928960" y="4143240"/>
            <a:ext cx="212760" cy="1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 Чому дорівнює кут А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597680" y="3284640"/>
            <a:ext cx="925560" cy="101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360960" y="4143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932400" y="114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932400" y="4143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TextBox 7"/>
          <p:cNvSpPr/>
          <p:nvPr/>
        </p:nvSpPr>
        <p:spPr>
          <a:xfrm>
            <a:off x="1861920" y="442908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2361960" y="285768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4867920" y="1571760"/>
            <a:ext cx="166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     60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      45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     30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Прямоугольник 10"/>
          <p:cNvSpPr/>
          <p:nvPr/>
        </p:nvSpPr>
        <p:spPr>
          <a:xfrm>
            <a:off x="1428840" y="4357800"/>
            <a:ext cx="21420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 Сторона МР є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Прямоугольный треугольник 3"/>
          <p:cNvSpPr/>
          <p:nvPr/>
        </p:nvSpPr>
        <p:spPr>
          <a:xfrm>
            <a:off x="1643040" y="1714680"/>
            <a:ext cx="1928880" cy="2928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TextBox 4"/>
          <p:cNvSpPr/>
          <p:nvPr/>
        </p:nvSpPr>
        <p:spPr>
          <a:xfrm>
            <a:off x="1146240" y="13572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3647160" y="42861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TextBox 8"/>
          <p:cNvSpPr/>
          <p:nvPr/>
        </p:nvSpPr>
        <p:spPr>
          <a:xfrm>
            <a:off x="1074600" y="421488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Прямоугольник 9"/>
          <p:cNvSpPr/>
          <p:nvPr/>
        </p:nvSpPr>
        <p:spPr>
          <a:xfrm>
            <a:off x="1643040" y="4357800"/>
            <a:ext cx="35712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TextBox 10"/>
          <p:cNvSpPr/>
          <p:nvPr/>
        </p:nvSpPr>
        <p:spPr>
          <a:xfrm>
            <a:off x="4875480" y="1571760"/>
            <a:ext cx="372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чною стороно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потенузо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. Знайти довжину відрізка СМ, якщо АВ=8см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654200" y="3704760"/>
            <a:ext cx="1247040" cy="124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1428840" y="4929120"/>
            <a:ext cx="2858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Прямая соединительная линия 6"/>
          <p:cNvSpPr/>
          <p:nvPr/>
        </p:nvSpPr>
        <p:spPr>
          <a:xfrm flipV="1">
            <a:off x="1428120" y="3357360"/>
            <a:ext cx="1214280" cy="19285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4003920" y="4857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2646360" y="292896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1004040" y="121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TextBox 12"/>
          <p:cNvSpPr/>
          <p:nvPr/>
        </p:nvSpPr>
        <p:spPr>
          <a:xfrm>
            <a:off x="932400" y="485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Прямая соединительная линия 14"/>
          <p:cNvSpPr/>
          <p:nvPr/>
        </p:nvSpPr>
        <p:spPr>
          <a:xfrm flipH="1">
            <a:off x="1928520" y="2285280"/>
            <a:ext cx="2142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Прямая соединительная линия 15"/>
          <p:cNvSpPr/>
          <p:nvPr/>
        </p:nvSpPr>
        <p:spPr>
          <a:xfrm flipH="1">
            <a:off x="3071520" y="4071240"/>
            <a:ext cx="2142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5655600" y="1857240"/>
            <a:ext cx="175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     4 с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     8 с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)      6 с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72314"/>
                </a:solidFill>
                <a:latin typeface="Corbel"/>
              </a:rPr>
              <a:t>6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742040" y="3536640"/>
            <a:ext cx="1747440" cy="115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Прямоугольник 4"/>
          <p:cNvSpPr/>
          <p:nvPr/>
        </p:nvSpPr>
        <p:spPr>
          <a:xfrm>
            <a:off x="1428840" y="4643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Прямая соединительная линия 6"/>
          <p:cNvSpPr/>
          <p:nvPr/>
        </p:nvSpPr>
        <p:spPr>
          <a:xfrm>
            <a:off x="1285920" y="3143160"/>
            <a:ext cx="357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Прямая соединительная линия 9"/>
          <p:cNvSpPr/>
          <p:nvPr/>
        </p:nvSpPr>
        <p:spPr>
          <a:xfrm>
            <a:off x="2571840" y="4859280"/>
            <a:ext cx="0" cy="3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Дуга 13"/>
          <p:cNvSpPr/>
          <p:nvPr/>
        </p:nvSpPr>
        <p:spPr>
          <a:xfrm rot="6781800">
            <a:off x="1285200" y="1463400"/>
            <a:ext cx="500040" cy="64296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642960"/>
              <a:gd name="textAreaBottom" fmla="*/ 321480 h 642960"/>
            </a:gdLst>
            <a:ahLst/>
            <a:rect l="textAreaLeft" t="textAreaTop" r="textAreaRight" b="textAreaBottom"/>
            <a:pathLst>
              <a:path stroke="0" w="500066" h="642942">
                <a:moveTo>
                  <a:pt x="250033" y="0"/>
                </a:moveTo>
                <a:lnTo>
                  <a:pt x="250033" y="0"/>
                </a:lnTo>
                <a:arcTo wR="250033" hR="321471" stAng="-5400000" swAng="5400014"/>
                <a:lnTo>
                  <a:pt x="250033" y="321471"/>
                </a:lnTo>
                <a:close/>
              </a:path>
              <a:path fill="none" w="500066" h="642942">
                <a:moveTo>
                  <a:pt x="250033" y="0"/>
                </a:moveTo>
                <a:lnTo>
                  <a:pt x="250033" y="0"/>
                </a:lnTo>
                <a:arcTo wR="250033" hR="321471" stAng="-5400000" swAng="5400014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TextBox 14"/>
          <p:cNvSpPr/>
          <p:nvPr/>
        </p:nvSpPr>
        <p:spPr>
          <a:xfrm>
            <a:off x="157428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5726880" y="2214720"/>
            <a:ext cx="16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)     60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     45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     30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7. Чи є   АВС прямокутним, якщо кути А і В – гострі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Равнобедренный треугольник 3"/>
          <p:cNvSpPr/>
          <p:nvPr/>
        </p:nvSpPr>
        <p:spPr>
          <a:xfrm>
            <a:off x="2428920" y="785880"/>
            <a:ext cx="142920" cy="142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Прямая соединительная линия 6"/>
          <p:cNvSpPr/>
          <p:nvPr/>
        </p:nvSpPr>
        <p:spPr>
          <a:xfrm>
            <a:off x="2071800" y="2143080"/>
            <a:ext cx="0" cy="18576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Прямая соединительная линия 8"/>
          <p:cNvSpPr/>
          <p:nvPr/>
        </p:nvSpPr>
        <p:spPr>
          <a:xfrm>
            <a:off x="2071800" y="2143080"/>
            <a:ext cx="3143160" cy="8571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Прямая соединительная линия 10"/>
          <p:cNvSpPr/>
          <p:nvPr/>
        </p:nvSpPr>
        <p:spPr>
          <a:xfrm flipH="1">
            <a:off x="2071440" y="2999520"/>
            <a:ext cx="3143160" cy="1429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500120" y="1785600"/>
            <a:ext cx="5270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Содержимое 12"/>
          <p:cNvSpPr/>
          <p:nvPr/>
        </p:nvSpPr>
        <p:spPr>
          <a:xfrm>
            <a:off x="5007240" y="271476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TextBox 14"/>
          <p:cNvSpPr/>
          <p:nvPr/>
        </p:nvSpPr>
        <p:spPr>
          <a:xfrm>
            <a:off x="1500120" y="29289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Дуга 15"/>
          <p:cNvSpPr/>
          <p:nvPr/>
        </p:nvSpPr>
        <p:spPr>
          <a:xfrm rot="5551200">
            <a:off x="1902240" y="2904120"/>
            <a:ext cx="428400" cy="500040"/>
          </a:xfrm>
          <a:custGeom>
            <a:avLst/>
            <a:gdLst>
              <a:gd name="textAreaLeft" fmla="*/ 214200 w 428400"/>
              <a:gd name="textAreaRight" fmla="*/ 428760 w 42840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428628" h="500066">
                <a:moveTo>
                  <a:pt x="214314" y="0"/>
                </a:moveTo>
                <a:lnTo>
                  <a:pt x="214314" y="0"/>
                </a:lnTo>
                <a:arcTo wR="214314" hR="250033" stAng="-5400000" swAng="5400000"/>
                <a:lnTo>
                  <a:pt x="214314" y="250033"/>
                </a:lnTo>
                <a:close/>
              </a:path>
              <a:path fill="none" w="428628" h="500066">
                <a:moveTo>
                  <a:pt x="214314" y="0"/>
                </a:moveTo>
                <a:lnTo>
                  <a:pt x="214314" y="0"/>
                </a:lnTo>
                <a:arcTo wR="214314" hR="250033" stAng="-5400000" swAng="5400000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TextBox 16"/>
          <p:cNvSpPr/>
          <p:nvPr/>
        </p:nvSpPr>
        <p:spPr>
          <a:xfrm>
            <a:off x="2214720" y="3214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TextBox 17"/>
          <p:cNvSpPr/>
          <p:nvPr/>
        </p:nvSpPr>
        <p:spPr>
          <a:xfrm>
            <a:off x="3729600" y="4071960"/>
            <a:ext cx="45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ити не можлив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ый треугольник 1"/>
          <p:cNvSpPr/>
          <p:nvPr/>
        </p:nvSpPr>
        <p:spPr>
          <a:xfrm rot="7389000">
            <a:off x="2774160" y="1794240"/>
            <a:ext cx="1928520" cy="289224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Прямая соединительная линия 3"/>
          <p:cNvSpPr/>
          <p:nvPr/>
        </p:nvSpPr>
        <p:spPr>
          <a:xfrm flipH="1">
            <a:off x="1071360" y="3256920"/>
            <a:ext cx="928440" cy="28440"/>
          </a:xfrm>
          <a:prstGeom prst="line">
            <a:avLst/>
          </a:prstGeom>
          <a:ln w="381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Дуга 6"/>
          <p:cNvSpPr/>
          <p:nvPr/>
        </p:nvSpPr>
        <p:spPr>
          <a:xfrm rot="16719600">
            <a:off x="1789560" y="3070800"/>
            <a:ext cx="571680" cy="500040"/>
          </a:xfrm>
          <a:custGeom>
            <a:avLst/>
            <a:gdLst>
              <a:gd name="textAreaLeft" fmla="*/ 285840 w 571680"/>
              <a:gd name="textAreaRight" fmla="*/ 572040 w 57168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571504" h="500066">
                <a:moveTo>
                  <a:pt x="285752" y="0"/>
                </a:moveTo>
                <a:lnTo>
                  <a:pt x="285752" y="0"/>
                </a:lnTo>
                <a:arcTo wR="285752" hR="250033" stAng="-5400000" swAng="5400012"/>
                <a:lnTo>
                  <a:pt x="285752" y="250033"/>
                </a:lnTo>
                <a:close/>
              </a:path>
              <a:path fill="none" w="571504" h="500066">
                <a:moveTo>
                  <a:pt x="285752" y="0"/>
                </a:moveTo>
                <a:lnTo>
                  <a:pt x="285752" y="0"/>
                </a:lnTo>
                <a:arcTo wR="285752" hR="250033" stAng="-5400000" swAng="5400012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Прямая соединительная линия 8"/>
          <p:cNvSpPr/>
          <p:nvPr/>
        </p:nvSpPr>
        <p:spPr>
          <a:xfrm>
            <a:off x="2928960" y="1857240"/>
            <a:ext cx="2142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Прямая соединительная линия 9"/>
          <p:cNvSpPr/>
          <p:nvPr/>
        </p:nvSpPr>
        <p:spPr>
          <a:xfrm flipV="1">
            <a:off x="3142440" y="1785960"/>
            <a:ext cx="14292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Дуга 14"/>
          <p:cNvSpPr/>
          <p:nvPr/>
        </p:nvSpPr>
        <p:spPr>
          <a:xfrm rot="16719600">
            <a:off x="4718880" y="2998800"/>
            <a:ext cx="571320" cy="500040"/>
          </a:xfrm>
          <a:custGeom>
            <a:avLst/>
            <a:gdLst>
              <a:gd name="textAreaLeft" fmla="*/ 285840 w 571320"/>
              <a:gd name="textAreaRight" fmla="*/ 571680 w 57132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571504" h="500066">
                <a:moveTo>
                  <a:pt x="285752" y="0"/>
                </a:moveTo>
                <a:lnTo>
                  <a:pt x="285752" y="0"/>
                </a:lnTo>
                <a:arcTo wR="285752" hR="250033" stAng="-5400000" swAng="5400012"/>
                <a:lnTo>
                  <a:pt x="285752" y="250033"/>
                </a:lnTo>
                <a:close/>
              </a:path>
              <a:path fill="none" w="571504" h="500066">
                <a:moveTo>
                  <a:pt x="285752" y="0"/>
                </a:moveTo>
                <a:lnTo>
                  <a:pt x="285752" y="0"/>
                </a:lnTo>
                <a:arcTo wR="285752" hR="250033" stAng="-5400000" swAng="5400012"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TextBox 15"/>
          <p:cNvSpPr/>
          <p:nvPr/>
        </p:nvSpPr>
        <p:spPr>
          <a:xfrm>
            <a:off x="1362240" y="27147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4360320" y="271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215040" y="1857240"/>
            <a:ext cx="171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)     25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     35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)      55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TextBox 10"/>
          <p:cNvSpPr/>
          <p:nvPr/>
        </p:nvSpPr>
        <p:spPr>
          <a:xfrm>
            <a:off x="1428840" y="214200"/>
            <a:ext cx="17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8</a:t>
            </a:r>
            <a:r>
              <a:rPr b="1" lang="uk-UA" sz="28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"/>
          <p:cNvPicPr/>
          <p:nvPr/>
        </p:nvPicPr>
        <p:blipFill>
          <a:blip r:embed="rId2"/>
          <a:stretch/>
        </p:blipFill>
        <p:spPr>
          <a:xfrm>
            <a:off x="1101600" y="0"/>
            <a:ext cx="8042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000160" y="1214280"/>
          <a:ext cx="6096240" cy="7668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2000160" y="3000240"/>
          <a:ext cx="6096240" cy="4572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ашнє завдання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§15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'язати задачу № 457,  №468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 завдання: порахувати скільки днів, місяців та років село перебувало в окупації і скласти задачі, які б при розв’язанні вказували на ці чис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Corbel"/>
              </a:rPr>
              <a:t>Основні завдання на уроці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Узагальнити та систематизувати знання про прямокутний трикутник та його властивост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Розвивати вміння та навички в застосуванні набутих знань на практиц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ригадати історичні події які відбулися в нашому селі 70 років том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3920" indent="-243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dventure"/>
              </a:rPr>
              <a:t>“</a:t>
            </a:r>
            <a:r>
              <a:rPr b="1" lang="uk-UA" sz="6000" spc="-1" strike="noStrike">
                <a:solidFill>
                  <a:srgbClr val="000000"/>
                </a:solidFill>
                <a:latin typeface="Adventure"/>
              </a:rPr>
              <a:t>Хто не знає свого минулого, 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Adventure"/>
              </a:rPr>
              <a:t>той не вартий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Adventure"/>
              </a:rPr>
              <a:t>свого майбутнього</a:t>
            </a:r>
            <a:r>
              <a:rPr b="1" lang="uk-UA" sz="6000" spc="-1" strike="noStrike">
                <a:solidFill>
                  <a:srgbClr val="002060"/>
                </a:solidFill>
                <a:latin typeface="Adventure"/>
              </a:rPr>
              <a:t>’’</a:t>
            </a: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    </a:t>
            </a:r>
            <a:br>
              <a:rPr sz="6000"/>
            </a:b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</a:t>
            </a:r>
            <a:br>
              <a:rPr sz="6000"/>
            </a:b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                   М. Рильський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ый треугольник 3"/>
          <p:cNvSpPr/>
          <p:nvPr/>
        </p:nvSpPr>
        <p:spPr>
          <a:xfrm>
            <a:off x="1500120" y="857160"/>
            <a:ext cx="1714680" cy="257184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93720" y="2381760"/>
            <a:ext cx="857520" cy="87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ый треугольник 6"/>
          <p:cNvSpPr/>
          <p:nvPr/>
        </p:nvSpPr>
        <p:spPr>
          <a:xfrm>
            <a:off x="6786720" y="928800"/>
            <a:ext cx="1714320" cy="257148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Дуга 7"/>
          <p:cNvSpPr/>
          <p:nvPr/>
        </p:nvSpPr>
        <p:spPr>
          <a:xfrm rot="13520400">
            <a:off x="2813040" y="2811240"/>
            <a:ext cx="571680" cy="714240"/>
          </a:xfrm>
          <a:custGeom>
            <a:avLst/>
            <a:gdLst>
              <a:gd name="textAreaLeft" fmla="*/ 285840 w 571680"/>
              <a:gd name="textAreaRight" fmla="*/ 572040 w 571680"/>
              <a:gd name="textAreaTop" fmla="*/ 0 h 714240"/>
              <a:gd name="textAreaBottom" fmla="*/ 357120 h 714240"/>
            </a:gdLst>
            <a:ahLst/>
            <a:rect l="textAreaLeft" t="textAreaTop" r="textAreaRight" b="textAreaBottom"/>
            <a:pathLst>
              <a:path stroke="0" w="571504" h="714380">
                <a:moveTo>
                  <a:pt x="285752" y="0"/>
                </a:moveTo>
                <a:lnTo>
                  <a:pt x="285752" y="0"/>
                </a:lnTo>
                <a:arcTo wR="285752" hR="357190" stAng="-5400000" swAng="5400012"/>
                <a:lnTo>
                  <a:pt x="285752" y="357190"/>
                </a:lnTo>
                <a:close/>
              </a:path>
              <a:path fill="none" w="571504" h="714380">
                <a:moveTo>
                  <a:pt x="285752" y="0"/>
                </a:moveTo>
                <a:lnTo>
                  <a:pt x="285752" y="0"/>
                </a:lnTo>
                <a:arcTo wR="285752" hR="357190" stAng="-5400000" swAng="5400012"/>
              </a:path>
            </a:pathLst>
          </a:custGeom>
          <a:noFill/>
          <a:ln w="381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Дуга 8"/>
          <p:cNvSpPr/>
          <p:nvPr/>
        </p:nvSpPr>
        <p:spPr>
          <a:xfrm rot="13520400">
            <a:off x="2916720" y="2935440"/>
            <a:ext cx="453960" cy="556920"/>
          </a:xfrm>
          <a:custGeom>
            <a:avLst/>
            <a:gdLst>
              <a:gd name="textAreaLeft" fmla="*/ 227160 w 453960"/>
              <a:gd name="textAreaRight" fmla="*/ 454320 w 453960"/>
              <a:gd name="textAreaTop" fmla="*/ 0 h 556920"/>
              <a:gd name="textAreaBottom" fmla="*/ 278640 h 556920"/>
            </a:gdLst>
            <a:ahLst/>
            <a:rect l="textAreaLeft" t="textAreaTop" r="textAreaRight" b="textAreaBottom"/>
            <a:pathLst>
              <a:path stroke="0" w="454517" h="556408">
                <a:moveTo>
                  <a:pt x="227259" y="0"/>
                </a:moveTo>
                <a:lnTo>
                  <a:pt x="227259" y="0"/>
                </a:lnTo>
                <a:arcTo wR="227259" hR="278204" stAng="-5400000" swAng="5400015"/>
                <a:lnTo>
                  <a:pt x="227259" y="278204"/>
                </a:lnTo>
                <a:close/>
              </a:path>
              <a:path fill="none" w="454517" h="556408">
                <a:moveTo>
                  <a:pt x="227259" y="0"/>
                </a:moveTo>
                <a:lnTo>
                  <a:pt x="227259" y="0"/>
                </a:lnTo>
                <a:arcTo wR="227259" hR="278204" stAng="-5400000" swAng="5400015"/>
              </a:path>
            </a:pathLst>
          </a:custGeom>
          <a:noFill/>
          <a:ln w="381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Дуга 9"/>
          <p:cNvSpPr/>
          <p:nvPr/>
        </p:nvSpPr>
        <p:spPr>
          <a:xfrm rot="8370600">
            <a:off x="1449000" y="1063440"/>
            <a:ext cx="603360" cy="507960"/>
          </a:xfrm>
          <a:custGeom>
            <a:avLst/>
            <a:gdLst>
              <a:gd name="textAreaLeft" fmla="*/ 301680 w 603360"/>
              <a:gd name="textAreaRight" fmla="*/ 603720 w 603360"/>
              <a:gd name="textAreaTop" fmla="*/ 0 h 507960"/>
              <a:gd name="textAreaBottom" fmla="*/ 254160 h 507960"/>
            </a:gdLst>
            <a:ahLst/>
            <a:rect l="textAreaLeft" t="textAreaTop" r="textAreaRight" b="textAreaBottom"/>
            <a:pathLst>
              <a:path stroke="0" w="603514" h="507234">
                <a:moveTo>
                  <a:pt x="301757" y="0"/>
                </a:moveTo>
                <a:lnTo>
                  <a:pt x="301757" y="0"/>
                </a:lnTo>
                <a:arcTo wR="301757" hR="253617" stAng="-5400000" swAng="5400011"/>
                <a:lnTo>
                  <a:pt x="301757" y="253617"/>
                </a:lnTo>
                <a:close/>
              </a:path>
              <a:path fill="none" w="603514" h="507234">
                <a:moveTo>
                  <a:pt x="301757" y="0"/>
                </a:moveTo>
                <a:lnTo>
                  <a:pt x="301757" y="0"/>
                </a:lnTo>
                <a:arcTo wR="301757" hR="253617" stAng="-5400000" swAng="5400011"/>
              </a:path>
            </a:pathLst>
          </a:custGeom>
          <a:noFill/>
          <a:ln w="381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10"/>
          <p:cNvSpPr/>
          <p:nvPr/>
        </p:nvSpPr>
        <p:spPr>
          <a:xfrm>
            <a:off x="2214720" y="2928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1645560" y="16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861560" y="45007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Дуга 13"/>
          <p:cNvSpPr/>
          <p:nvPr/>
        </p:nvSpPr>
        <p:spPr>
          <a:xfrm rot="8370600">
            <a:off x="4092120" y="1063440"/>
            <a:ext cx="603360" cy="507960"/>
          </a:xfrm>
          <a:custGeom>
            <a:avLst/>
            <a:gdLst>
              <a:gd name="textAreaLeft" fmla="*/ 301680 w 603360"/>
              <a:gd name="textAreaRight" fmla="*/ 603720 w 603360"/>
              <a:gd name="textAreaTop" fmla="*/ 0 h 507960"/>
              <a:gd name="textAreaBottom" fmla="*/ 254160 h 507960"/>
            </a:gdLst>
            <a:ahLst/>
            <a:rect l="textAreaLeft" t="textAreaTop" r="textAreaRight" b="textAreaBottom"/>
            <a:pathLst>
              <a:path stroke="0" w="603514" h="507234">
                <a:moveTo>
                  <a:pt x="301757" y="0"/>
                </a:moveTo>
                <a:lnTo>
                  <a:pt x="301757" y="0"/>
                </a:lnTo>
                <a:arcTo wR="301757" hR="253617" stAng="-5400000" swAng="5400011"/>
                <a:lnTo>
                  <a:pt x="301757" y="253617"/>
                </a:lnTo>
                <a:close/>
              </a:path>
              <a:path fill="none" w="603514" h="507234">
                <a:moveTo>
                  <a:pt x="301757" y="0"/>
                </a:moveTo>
                <a:lnTo>
                  <a:pt x="301757" y="0"/>
                </a:lnTo>
                <a:arcTo wR="301757" hR="253617" stAng="-5400000" swAng="5400011"/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4147560" y="16430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4363200" y="342900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 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TextBox 18"/>
          <p:cNvSpPr/>
          <p:nvPr/>
        </p:nvSpPr>
        <p:spPr>
          <a:xfrm>
            <a:off x="5003280" y="1714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20"/>
          <p:cNvSpPr/>
          <p:nvPr/>
        </p:nvSpPr>
        <p:spPr>
          <a:xfrm flipV="1">
            <a:off x="6786000" y="2214360"/>
            <a:ext cx="857160" cy="128556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721640" y="1714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м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TextBox 22"/>
          <p:cNvSpPr/>
          <p:nvPr/>
        </p:nvSpPr>
        <p:spPr>
          <a:xfrm>
            <a:off x="7074720" y="2428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24"/>
          <p:cNvSpPr/>
          <p:nvPr/>
        </p:nvSpPr>
        <p:spPr>
          <a:xfrm flipH="1">
            <a:off x="7857720" y="2571120"/>
            <a:ext cx="2142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26"/>
          <p:cNvSpPr/>
          <p:nvPr/>
        </p:nvSpPr>
        <p:spPr>
          <a:xfrm flipH="1">
            <a:off x="7286400" y="1785960"/>
            <a:ext cx="223560" cy="13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TextBox 28"/>
          <p:cNvSpPr/>
          <p:nvPr/>
        </p:nvSpPr>
        <p:spPr>
          <a:xfrm>
            <a:off x="4433040" y="442908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TextBox 29"/>
          <p:cNvSpPr/>
          <p:nvPr/>
        </p:nvSpPr>
        <p:spPr>
          <a:xfrm>
            <a:off x="7078680" y="4500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м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Катет, протилежний куту 60°, дорівнює 23,8 см. Знайти висоту трикутника, проведену до гіпотенуз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11,9 с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У прямокутному трикутнику гострий кут дорівнює 60°, а сума гіпотенузи та меншого катета дорівнює 24 см.  Знайти довжину гіпотенуз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1143000" y="936360"/>
            <a:ext cx="755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прямокутному трикутнику гіпотенуза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івнює 12 см.  Знайти кути трикутника,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кщо висота, проведена до гіпотенузи дорівнює 3с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оугольный треугольник 2"/>
          <p:cNvSpPr/>
          <p:nvPr/>
        </p:nvSpPr>
        <p:spPr>
          <a:xfrm>
            <a:off x="1285920" y="3071880"/>
            <a:ext cx="6572160" cy="171432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861120" y="2643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7932960" y="4429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789840" y="4643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1860840" y="26431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Прямая соединительная линия 15"/>
          <p:cNvSpPr/>
          <p:nvPr/>
        </p:nvSpPr>
        <p:spPr>
          <a:xfrm>
            <a:off x="1714680" y="3571920"/>
            <a:ext cx="2854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Прямая соединительная линия 16"/>
          <p:cNvSpPr/>
          <p:nvPr/>
        </p:nvSpPr>
        <p:spPr>
          <a:xfrm flipV="1">
            <a:off x="1999440" y="3286080"/>
            <a:ext cx="133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4575240" y="3500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оугольник 40"/>
          <p:cNvSpPr/>
          <p:nvPr/>
        </p:nvSpPr>
        <p:spPr>
          <a:xfrm>
            <a:off x="1285920" y="4429080"/>
            <a:ext cx="28584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24"/>
          <p:cNvSpPr/>
          <p:nvPr/>
        </p:nvSpPr>
        <p:spPr>
          <a:xfrm flipV="1">
            <a:off x="1285200" y="3214440"/>
            <a:ext cx="571320" cy="157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9"/>
          <p:cNvSpPr/>
          <p:nvPr/>
        </p:nvSpPr>
        <p:spPr>
          <a:xfrm flipV="1">
            <a:off x="1285920" y="3928680"/>
            <a:ext cx="3286080" cy="857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TextBox 41"/>
          <p:cNvSpPr/>
          <p:nvPr/>
        </p:nvSpPr>
        <p:spPr>
          <a:xfrm rot="20717400">
            <a:off x="1764720" y="416088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TextBox 42"/>
          <p:cNvSpPr/>
          <p:nvPr/>
        </p:nvSpPr>
        <p:spPr>
          <a:xfrm rot="17287200">
            <a:off x="1102680" y="356040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43"/>
          <p:cNvSpPr/>
          <p:nvPr/>
        </p:nvSpPr>
        <p:spPr>
          <a:xfrm flipV="1">
            <a:off x="5428440" y="4000680"/>
            <a:ext cx="133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44"/>
          <p:cNvSpPr/>
          <p:nvPr/>
        </p:nvSpPr>
        <p:spPr>
          <a:xfrm flipV="1">
            <a:off x="2428920" y="3214800"/>
            <a:ext cx="13320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45"/>
          <p:cNvSpPr/>
          <p:nvPr/>
        </p:nvSpPr>
        <p:spPr>
          <a:xfrm flipH="1" flipV="1">
            <a:off x="3357720" y="4071960"/>
            <a:ext cx="7128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Дуга 47"/>
          <p:cNvSpPr/>
          <p:nvPr/>
        </p:nvSpPr>
        <p:spPr>
          <a:xfrm rot="13436400">
            <a:off x="3898440" y="3650400"/>
            <a:ext cx="430200" cy="500040"/>
          </a:xfrm>
          <a:custGeom>
            <a:avLst/>
            <a:gdLst>
              <a:gd name="textAreaLeft" fmla="*/ 215280 w 430200"/>
              <a:gd name="textAreaRight" fmla="*/ 430560 w 43020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428628" h="500066">
                <a:moveTo>
                  <a:pt x="214314" y="0"/>
                </a:moveTo>
                <a:lnTo>
                  <a:pt x="214314" y="0"/>
                </a:lnTo>
                <a:arcTo wR="214314" hR="250033" stAng="-5400000" swAng="5400000"/>
                <a:lnTo>
                  <a:pt x="214314" y="250033"/>
                </a:lnTo>
                <a:close/>
              </a:path>
              <a:path fill="none" w="428628" h="500066">
                <a:moveTo>
                  <a:pt x="214314" y="0"/>
                </a:moveTo>
                <a:lnTo>
                  <a:pt x="214314" y="0"/>
                </a:lnTo>
                <a:arcTo wR="214314" hR="250033" stAng="-5400000" swAng="5400000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3290400" y="36432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Дуга 49"/>
          <p:cNvSpPr/>
          <p:nvPr/>
        </p:nvSpPr>
        <p:spPr>
          <a:xfrm rot="7724400">
            <a:off x="4390200" y="3764520"/>
            <a:ext cx="291960" cy="325440"/>
          </a:xfrm>
          <a:custGeom>
            <a:avLst/>
            <a:gdLst>
              <a:gd name="textAreaLeft" fmla="*/ 127440 w 291960"/>
              <a:gd name="textAreaRight" fmla="*/ 292320 w 291960"/>
              <a:gd name="textAreaTop" fmla="*/ 0 h 325440"/>
              <a:gd name="textAreaBottom" fmla="*/ 186120 h 325440"/>
            </a:gdLst>
            <a:ahLst/>
            <a:rect l="textAreaLeft" t="textAreaTop" r="textAreaRight" b="textAreaBottom"/>
            <a:pathLst>
              <a:path stroke="0" w="291944" h="325793">
                <a:moveTo>
                  <a:pt x="127503" y="1309"/>
                </a:moveTo>
                <a:lnTo>
                  <a:pt x="127503" y="1309"/>
                </a:lnTo>
                <a:arcTo wR="145972" hR="162897" stAng="-5791226" swAng="6346870"/>
                <a:lnTo>
                  <a:pt x="145972" y="162897"/>
                </a:lnTo>
                <a:close/>
              </a:path>
              <a:path fill="none" w="291944" h="325793">
                <a:moveTo>
                  <a:pt x="127503" y="1309"/>
                </a:moveTo>
                <a:lnTo>
                  <a:pt x="127503" y="1309"/>
                </a:lnTo>
                <a:arcTo wR="145972" hR="162897" stAng="-5791226" swAng="6346870"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TextBox 51"/>
          <p:cNvSpPr/>
          <p:nvPr/>
        </p:nvSpPr>
        <p:spPr>
          <a:xfrm>
            <a:off x="4217040" y="4071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Дуга 55"/>
          <p:cNvSpPr/>
          <p:nvPr/>
        </p:nvSpPr>
        <p:spPr>
          <a:xfrm rot="14520600">
            <a:off x="6296760" y="4418280"/>
            <a:ext cx="642960" cy="571680"/>
          </a:xfrm>
          <a:custGeom>
            <a:avLst/>
            <a:gdLst>
              <a:gd name="textAreaLeft" fmla="*/ 391680 w 642960"/>
              <a:gd name="textAreaRight" fmla="*/ 643320 w 642960"/>
              <a:gd name="textAreaTop" fmla="*/ 6840 h 571680"/>
              <a:gd name="textAreaBottom" fmla="*/ 285840 h 571680"/>
            </a:gdLst>
            <a:ahLst/>
            <a:rect l="textAreaLeft" t="textAreaTop" r="textAreaRight" b="textAreaBottom"/>
            <a:pathLst>
              <a:path stroke="0" w="642942" h="571504">
                <a:moveTo>
                  <a:pt x="391478" y="6858"/>
                </a:moveTo>
                <a:lnTo>
                  <a:pt x="391478" y="6858"/>
                </a:lnTo>
                <a:arcTo wR="321471" hR="285752" stAng="-4554537" swAng="4554548"/>
                <a:lnTo>
                  <a:pt x="321471" y="285752"/>
                </a:lnTo>
                <a:close/>
              </a:path>
              <a:path fill="none" w="642942" h="571504">
                <a:moveTo>
                  <a:pt x="391478" y="6858"/>
                </a:moveTo>
                <a:lnTo>
                  <a:pt x="391478" y="6858"/>
                </a:lnTo>
                <a:arcTo wR="321471" hR="285752" stAng="-4554537" swAng="4554548"/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TextBox 56"/>
          <p:cNvSpPr/>
          <p:nvPr/>
        </p:nvSpPr>
        <p:spPr>
          <a:xfrm>
            <a:off x="5789160" y="43578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1163880" y="728280"/>
            <a:ext cx="766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омо, що найбільша дальність польоту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наряда буде,  якщо вистріл провести з гармати,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л якої розміщений під кутом 45° до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изонту.  Як за допомогою підручних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обів виставити гармату, щоб влучити в ціль,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а знаходиться на найбільшій  відстані,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яку може долетіти снаряд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1643040" y="357120"/>
            <a:ext cx="7245360" cy="50007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Прямая соединительная линия 10"/>
          <p:cNvSpPr/>
          <p:nvPr/>
        </p:nvSpPr>
        <p:spPr>
          <a:xfrm>
            <a:off x="1714680" y="5357880"/>
            <a:ext cx="5929200" cy="71280"/>
          </a:xfrm>
          <a:prstGeom prst="line">
            <a:avLst/>
          </a:prstGeom>
          <a:ln w="7632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11"/>
          <p:cNvSpPr/>
          <p:nvPr/>
        </p:nvSpPr>
        <p:spPr>
          <a:xfrm flipH="1">
            <a:off x="1714680" y="357120"/>
            <a:ext cx="1440" cy="5000760"/>
          </a:xfrm>
          <a:prstGeom prst="line">
            <a:avLst/>
          </a:prstGeom>
          <a:ln w="76320">
            <a:solidFill>
              <a:srgbClr val="6116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17"/>
          <p:cNvSpPr/>
          <p:nvPr/>
        </p:nvSpPr>
        <p:spPr>
          <a:xfrm>
            <a:off x="1714680" y="357120"/>
            <a:ext cx="5857560" cy="5072040"/>
          </a:xfrm>
          <a:prstGeom prst="line">
            <a:avLst/>
          </a:prstGeom>
          <a:ln w="76320">
            <a:solidFill>
              <a:srgbClr val="6116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Прямая соединительная линия 22"/>
          <p:cNvSpPr/>
          <p:nvPr/>
        </p:nvSpPr>
        <p:spPr>
          <a:xfrm>
            <a:off x="1714680" y="5500800"/>
            <a:ext cx="5929200" cy="71280"/>
          </a:xfrm>
          <a:prstGeom prst="line">
            <a:avLst/>
          </a:prstGeom>
          <a:ln w="7632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0:40:48Z</dcterms:created>
  <dc:creator>Admin</dc:creator>
  <dc:description/>
  <dc:language>en-US</dc:language>
  <cp:lastModifiedBy>Admin</cp:lastModifiedBy>
  <dcterms:modified xsi:type="dcterms:W3CDTF">2014-03-31T10:23:09Z</dcterms:modified>
  <cp:revision>46</cp:revision>
  <dc:subject/>
  <dc:title>Тема:  «Прямокутний  трикутник    та  його властивості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b000000000001024140</vt:lpwstr>
  </property>
</Properties>
</file>