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599-C865-4229-933A-B468637C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5E7-E866-48E9-8DB7-34961FB7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219-BEE7-42E4-A9FD-53E3C21A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7ED-10FD-4B31-9AAF-ADCEC224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DE27-7834-4900-A801-7248F056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AD11-2D50-4385-9C47-B8050DD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F44E-CA31-400A-9C2E-4DCFDE2D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463D-786F-4914-8014-DA5B1FEE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6B69-3ADB-4106-898C-4883383E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92B8-1CE5-4F02-BE80-48E9A8C5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0CC7-C8E9-49DD-9E37-A8C01DB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4BD-C312-421A-ABD6-B7341AE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0B2F-B449-4B17-AD2D-E54DBFBC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842-46E7-43B9-8436-91BE551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2796-B546-40ED-BA50-E72E94D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62D6-165A-47B6-9C8F-30C5B15B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095B-4B5F-4E7B-B720-453A2475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2F3F9-9119-4F56-875E-56C0E22A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DB4A-1CBA-4BA4-813D-8BD4073C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306D-1FB6-43D8-BA93-47984EB4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13F6-773A-40E0-BA31-5C16E1AE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AB49-CBC6-41E6-8E6E-B21B99F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484-19DD-4790-86A1-54874BA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C72E-D491-4A2F-8BE8-9727C0E2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8193-4103-482E-919D-23EE95A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D479-3AE1-4BFE-BBD2-41AC9AF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6BB5-F312-4AFB-9BF7-7C077B9A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DD88-7E87-49E4-8052-2986B57D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873A-4636-463A-A740-6AF2417D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9AC7-4AEC-44AC-BF7A-3542A5E7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B150-B4DB-4BA8-B22A-771A8868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FBBA-1037-4840-9B65-DF6279F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34D8D-7F86-489C-B641-1322F308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63D-0CD1-4648-900D-3A887122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5BF34-6513-495C-AFC2-17D64E24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AD4E-6B0E-41B2-A4A5-AFEC65CF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FFE9-BE1C-4989-AEE2-B5E9CBCD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365B2-C31F-41BD-B675-7D8C284A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327E1-2362-4000-834E-AC7C2AA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C61E-0F0D-434C-B1C6-1AA03BFB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764E-C0E1-4E67-BFD7-5542BC2F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0E8F-2A3F-479B-9A8D-1C6ED143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DCE9D-0E2F-4A6D-9A58-F90D68D4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069E-6AB3-47D9-AB1D-94A1F13D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1A8-CF99-4059-BAFB-DFF99DB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2E5A-836C-4F29-8A09-67595B00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CF8C-D618-41E6-93AD-EF671E95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8A12-A333-4D1F-BB81-B9A544C0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18A5-177C-4C85-A936-33244FC8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A46A-0500-4F1C-AEE2-C74EEA5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71410-AE44-484E-BFF3-1E8630C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766F5-11E7-4FC7-AA1E-6871DDD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84CCD-9112-445F-9B68-55E2C89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879D4-DD54-4BDD-97CA-59DCDC4A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BEF31-944E-4158-957E-B3C6C503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AD3-0A7B-4008-8025-D5619AA2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DB32A-FE24-417C-874A-DC9D4369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82A9-BCF8-43EE-9601-78A633B5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87FE-38FE-4BC7-9D65-9B171DCC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16F2D-1513-41D2-AFF0-F60D3AE8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DCCF-9731-423B-8006-0CE7A56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A38C-DF09-4911-B255-0F311113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1129-0012-44ED-B81C-5F589034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97FB1-0345-499A-A818-5A5DD73C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A452-A8B2-4716-AE91-041D34EA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7366E-E69D-4B65-B32D-2219FCB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9A9-7959-4460-84DA-FE1F73AA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43E3-3D2D-4E04-B309-877CCE88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6093-2B15-4D02-B77D-1646A2F3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127D6-EBBB-4D42-B90B-B7751420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97244-AC72-448F-BF6F-4E6EBE71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232C-D8AA-4A03-8CA6-9D5A8E79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651DB-4612-4357-882D-EEE5F074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CAEB-8FA3-4906-ADD2-F02EC8B3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C7E6A-DB21-4EE8-B0A3-45A63800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D96DD-9E9B-4BA7-8AAE-66BCF8C0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DF28F-C749-4F60-ADA9-A0644B3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777-3FFE-4EAF-9914-107A3368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DD1E-0D50-46CE-9EEA-DD6F830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CC777-FDC6-43B3-9E39-4597682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65E36-34D1-4375-B97C-F49DED63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5643-0E90-4621-9623-F3EB2557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FB04-011A-484E-9DF7-5A855F60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5F4-DA38-46DF-BF2B-59F3122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1751-0D33-44CB-954E-1125C9917F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02AE-3CFE-474B-9348-0192D369A0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5D7A-5292-4620-B485-5F9E5AD6EA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5CAC-1A9D-4732-BADB-1FC111A1F78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A2F-834C-45D6-85A1-346A7C8A843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1208-B037-473D-87C8-D170DD77BD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F44B-9CF5-4138-8930-CDE3D640B38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14288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</a:rPr>
              <a:t>Тема:  «Прямокутний  трикутник</a:t>
            </a:r>
            <a:br>
              <a:rPr sz="3900"/>
            </a:br>
            <a:r>
              <a:rPr b="1" lang="ru-RU" sz="3900" spc="-1" strike="noStrike">
                <a:solidFill>
                  <a:srgbClr val="0070c0"/>
                </a:solidFill>
                <a:latin typeface="Corbel"/>
              </a:rPr>
              <a:t>   та  його властивості»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572314"/>
                </a:solidFill>
                <a:latin typeface="Corbel"/>
              </a:rPr>
              <a:t>1. Знайти невідомий кут трикутник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Прямоугольный треугольник 2"/>
          <p:cNvSpPr/>
          <p:nvPr/>
        </p:nvSpPr>
        <p:spPr>
          <a:xfrm>
            <a:off x="1500120" y="1214280"/>
            <a:ext cx="1428840" cy="257184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Дуга 3"/>
          <p:cNvSpPr/>
          <p:nvPr/>
        </p:nvSpPr>
        <p:spPr>
          <a:xfrm rot="13520400">
            <a:off x="2598480" y="3168360"/>
            <a:ext cx="571680" cy="714600"/>
          </a:xfrm>
          <a:custGeom>
            <a:avLst/>
            <a:gdLst>
              <a:gd name="textAreaLeft" fmla="*/ 285840 w 571680"/>
              <a:gd name="textAreaRight" fmla="*/ 572040 w 571680"/>
              <a:gd name="textAreaTop" fmla="*/ 0 h 714600"/>
              <a:gd name="textAreaBottom" fmla="*/ 357480 h 714600"/>
            </a:gdLst>
            <a:ahLst/>
            <a:rect l="textAreaLeft" t="textAreaTop" r="textAreaRight" b="textAreaBottom"/>
            <a:pathLst>
              <a:path stroke="0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  <a:lnTo>
                  <a:pt x="285752" y="357190"/>
                </a:lnTo>
                <a:close/>
              </a:path>
              <a:path fill="none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Дуга 4"/>
          <p:cNvSpPr/>
          <p:nvPr/>
        </p:nvSpPr>
        <p:spPr>
          <a:xfrm rot="7133400">
            <a:off x="1307880" y="1279080"/>
            <a:ext cx="571320" cy="714600"/>
          </a:xfrm>
          <a:custGeom>
            <a:avLst/>
            <a:gdLst>
              <a:gd name="textAreaLeft" fmla="*/ 377640 w 571320"/>
              <a:gd name="textAreaRight" fmla="*/ 571680 w 571320"/>
              <a:gd name="textAreaTop" fmla="*/ 18720 h 714600"/>
              <a:gd name="textAreaBottom" fmla="*/ 357480 h 714600"/>
            </a:gdLst>
            <a:ahLst/>
            <a:rect l="textAreaLeft" t="textAreaTop" r="textAreaRight" b="textAreaBottom"/>
            <a:pathLst>
              <a:path stroke="0" w="571504" h="714380">
                <a:moveTo>
                  <a:pt x="377672" y="18985"/>
                </a:moveTo>
                <a:lnTo>
                  <a:pt x="377672" y="18985"/>
                </a:lnTo>
                <a:arcTo wR="285752" hR="357190" stAng="-4487700" swAng="4487712"/>
                <a:lnTo>
                  <a:pt x="285752" y="357190"/>
                </a:lnTo>
                <a:close/>
              </a:path>
              <a:path fill="none" w="571504" h="714380">
                <a:moveTo>
                  <a:pt x="377672" y="18985"/>
                </a:moveTo>
                <a:lnTo>
                  <a:pt x="377672" y="18985"/>
                </a:lnTo>
                <a:arcTo wR="285752" hR="357190" stAng="-4487700" swAng="4487712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1505160" y="21430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4879800" y="1571760"/>
            <a:ext cx="165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5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     2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     70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оугольник 8"/>
          <p:cNvSpPr/>
          <p:nvPr/>
        </p:nvSpPr>
        <p:spPr>
          <a:xfrm>
            <a:off x="1500120" y="3571920"/>
            <a:ext cx="14292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Чим являється відрізок СК 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629000" y="3452760"/>
            <a:ext cx="1104480" cy="110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Прямая соединительная линия 5"/>
          <p:cNvSpPr/>
          <p:nvPr/>
        </p:nvSpPr>
        <p:spPr>
          <a:xfrm flipV="1">
            <a:off x="1434960" y="3929040"/>
            <a:ext cx="1565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1075320" y="10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2932200" y="35719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TextBox 9"/>
          <p:cNvSpPr/>
          <p:nvPr/>
        </p:nvSpPr>
        <p:spPr>
          <a:xfrm>
            <a:off x="3646800" y="45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TextBox 10"/>
          <p:cNvSpPr/>
          <p:nvPr/>
        </p:nvSpPr>
        <p:spPr>
          <a:xfrm>
            <a:off x="932400" y="450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TextBox 11"/>
          <p:cNvSpPr/>
          <p:nvPr/>
        </p:nvSpPr>
        <p:spPr>
          <a:xfrm>
            <a:off x="4923720" y="1571760"/>
            <a:ext cx="293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т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сектрис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н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13"/>
          <p:cNvSpPr/>
          <p:nvPr/>
        </p:nvSpPr>
        <p:spPr>
          <a:xfrm>
            <a:off x="2785320" y="4071960"/>
            <a:ext cx="14292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14"/>
          <p:cNvSpPr/>
          <p:nvPr/>
        </p:nvSpPr>
        <p:spPr>
          <a:xfrm flipV="1">
            <a:off x="2928960" y="4143240"/>
            <a:ext cx="212760" cy="1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 Чому дорівнює кут А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97680" y="3284640"/>
            <a:ext cx="925560" cy="101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360960" y="4143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932400" y="114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932400" y="4143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1861920" y="44290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2361960" y="28576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4867920" y="1571760"/>
            <a:ext cx="166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     6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     4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    30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Прямоугольник 10"/>
          <p:cNvSpPr/>
          <p:nvPr/>
        </p:nvSpPr>
        <p:spPr>
          <a:xfrm>
            <a:off x="1428840" y="4357800"/>
            <a:ext cx="21420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Сторона МР є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Прямоугольный треугольник 3"/>
          <p:cNvSpPr/>
          <p:nvPr/>
        </p:nvSpPr>
        <p:spPr>
          <a:xfrm>
            <a:off x="1643040" y="1714680"/>
            <a:ext cx="1928880" cy="2928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1146240" y="13572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3647160" y="4286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TextBox 8"/>
          <p:cNvSpPr/>
          <p:nvPr/>
        </p:nvSpPr>
        <p:spPr>
          <a:xfrm>
            <a:off x="1074600" y="421488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рямоугольник 9"/>
          <p:cNvSpPr/>
          <p:nvPr/>
        </p:nvSpPr>
        <p:spPr>
          <a:xfrm>
            <a:off x="1643040" y="4357800"/>
            <a:ext cx="35712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TextBox 10"/>
          <p:cNvSpPr/>
          <p:nvPr/>
        </p:nvSpPr>
        <p:spPr>
          <a:xfrm>
            <a:off x="4875480" y="1571760"/>
            <a:ext cx="372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т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чною сторон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іпотенузо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Знайти довжину відрізка СМ, якщо АВ=8см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654200" y="3704760"/>
            <a:ext cx="1247040" cy="124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1428840" y="4929120"/>
            <a:ext cx="2858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Прямая соединительная линия 6"/>
          <p:cNvSpPr/>
          <p:nvPr/>
        </p:nvSpPr>
        <p:spPr>
          <a:xfrm flipV="1">
            <a:off x="1428120" y="3357360"/>
            <a:ext cx="1214280" cy="1928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TextBox 9"/>
          <p:cNvSpPr/>
          <p:nvPr/>
        </p:nvSpPr>
        <p:spPr>
          <a:xfrm>
            <a:off x="4003920" y="485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TextBox 10"/>
          <p:cNvSpPr/>
          <p:nvPr/>
        </p:nvSpPr>
        <p:spPr>
          <a:xfrm>
            <a:off x="2646360" y="29289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1004040" y="121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932400" y="485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Прямая соединительная линия 14"/>
          <p:cNvSpPr/>
          <p:nvPr/>
        </p:nvSpPr>
        <p:spPr>
          <a:xfrm flipH="1">
            <a:off x="1928520" y="228528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Прямая соединительная линия 15"/>
          <p:cNvSpPr/>
          <p:nvPr/>
        </p:nvSpPr>
        <p:spPr>
          <a:xfrm flipH="1">
            <a:off x="3071520" y="407124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5655600" y="1857240"/>
            <a:ext cx="175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     4 с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     8 с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)      6 с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572314"/>
                </a:solidFill>
                <a:latin typeface="Corbel"/>
              </a:rPr>
              <a:t>6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42040" y="3536640"/>
            <a:ext cx="1747440" cy="115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Прямоугольник 4"/>
          <p:cNvSpPr/>
          <p:nvPr/>
        </p:nvSpPr>
        <p:spPr>
          <a:xfrm>
            <a:off x="1428840" y="4643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Прямая соединительная линия 6"/>
          <p:cNvSpPr/>
          <p:nvPr/>
        </p:nvSpPr>
        <p:spPr>
          <a:xfrm>
            <a:off x="1285920" y="3143160"/>
            <a:ext cx="357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Прямая соединительная линия 9"/>
          <p:cNvSpPr/>
          <p:nvPr/>
        </p:nvSpPr>
        <p:spPr>
          <a:xfrm>
            <a:off x="2571840" y="4859280"/>
            <a:ext cx="0" cy="35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Дуга 13"/>
          <p:cNvSpPr/>
          <p:nvPr/>
        </p:nvSpPr>
        <p:spPr>
          <a:xfrm rot="6781800">
            <a:off x="1285200" y="1463400"/>
            <a:ext cx="500040" cy="642960"/>
          </a:xfrm>
          <a:custGeom>
            <a:avLst/>
            <a:gdLst>
              <a:gd name="textAreaLeft" fmla="*/ 250200 w 500040"/>
              <a:gd name="textAreaRight" fmla="*/ 500400 w 500040"/>
              <a:gd name="textAreaTop" fmla="*/ 0 h 642960"/>
              <a:gd name="textAreaBottom" fmla="*/ 321480 h 642960"/>
            </a:gdLst>
            <a:ahLst/>
            <a:rect l="textAreaLeft" t="textAreaTop" r="textAreaRight" b="textAreaBottom"/>
            <a:pathLst>
              <a:path stroke="0" w="500066" h="642942">
                <a:moveTo>
                  <a:pt x="250033" y="0"/>
                </a:moveTo>
                <a:lnTo>
                  <a:pt x="250033" y="0"/>
                </a:lnTo>
                <a:arcTo wR="250033" hR="321471" stAng="-5400000" swAng="5400014"/>
                <a:lnTo>
                  <a:pt x="250033" y="321471"/>
                </a:lnTo>
                <a:close/>
              </a:path>
              <a:path fill="none" w="500066" h="642942">
                <a:moveTo>
                  <a:pt x="250033" y="0"/>
                </a:moveTo>
                <a:lnTo>
                  <a:pt x="250033" y="0"/>
                </a:lnTo>
                <a:arcTo wR="250033" hR="321471" stAng="-5400000" swAng="5400014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TextBox 14"/>
          <p:cNvSpPr/>
          <p:nvPr/>
        </p:nvSpPr>
        <p:spPr>
          <a:xfrm>
            <a:off x="157428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5726880" y="2214720"/>
            <a:ext cx="16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)     60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     4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     30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7. Чи є   АВС прямокутним, якщо кути А і В – гострі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Равнобедренный треугольник 3"/>
          <p:cNvSpPr/>
          <p:nvPr/>
        </p:nvSpPr>
        <p:spPr>
          <a:xfrm>
            <a:off x="2428920" y="785880"/>
            <a:ext cx="142920" cy="142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Прямая соединительная линия 6"/>
          <p:cNvSpPr/>
          <p:nvPr/>
        </p:nvSpPr>
        <p:spPr>
          <a:xfrm>
            <a:off x="2071800" y="2143080"/>
            <a:ext cx="0" cy="18576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Прямая соединительная линия 8"/>
          <p:cNvSpPr/>
          <p:nvPr/>
        </p:nvSpPr>
        <p:spPr>
          <a:xfrm>
            <a:off x="2071800" y="2143080"/>
            <a:ext cx="3143160" cy="8571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Прямая соединительная линия 10"/>
          <p:cNvSpPr/>
          <p:nvPr/>
        </p:nvSpPr>
        <p:spPr>
          <a:xfrm flipH="1">
            <a:off x="2071440" y="2999520"/>
            <a:ext cx="3143160" cy="1429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500120" y="1785600"/>
            <a:ext cx="5270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Содержимое 12"/>
          <p:cNvSpPr/>
          <p:nvPr/>
        </p:nvSpPr>
        <p:spPr>
          <a:xfrm>
            <a:off x="5007240" y="27147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TextBox 14"/>
          <p:cNvSpPr/>
          <p:nvPr/>
        </p:nvSpPr>
        <p:spPr>
          <a:xfrm>
            <a:off x="1500120" y="2928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Дуга 15"/>
          <p:cNvSpPr/>
          <p:nvPr/>
        </p:nvSpPr>
        <p:spPr>
          <a:xfrm rot="5551200">
            <a:off x="1902240" y="2904120"/>
            <a:ext cx="428400" cy="500040"/>
          </a:xfrm>
          <a:custGeom>
            <a:avLst/>
            <a:gdLst>
              <a:gd name="textAreaLeft" fmla="*/ 214200 w 428400"/>
              <a:gd name="textAreaRight" fmla="*/ 428760 w 42840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  <a:lnTo>
                  <a:pt x="214314" y="250033"/>
                </a:lnTo>
                <a:close/>
              </a:path>
              <a:path fill="none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2214720" y="3214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TextBox 17"/>
          <p:cNvSpPr/>
          <p:nvPr/>
        </p:nvSpPr>
        <p:spPr>
          <a:xfrm>
            <a:off x="3729600" y="4071960"/>
            <a:ext cx="45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ити не можлив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ый треугольник 1"/>
          <p:cNvSpPr/>
          <p:nvPr/>
        </p:nvSpPr>
        <p:spPr>
          <a:xfrm rot="7389000">
            <a:off x="2774160" y="1794240"/>
            <a:ext cx="1928520" cy="289224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Прямая соединительная линия 3"/>
          <p:cNvSpPr/>
          <p:nvPr/>
        </p:nvSpPr>
        <p:spPr>
          <a:xfrm flipH="1">
            <a:off x="1071360" y="3256920"/>
            <a:ext cx="928440" cy="28440"/>
          </a:xfrm>
          <a:prstGeom prst="line">
            <a:avLst/>
          </a:prstGeom>
          <a:ln w="381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Дуга 6"/>
          <p:cNvSpPr/>
          <p:nvPr/>
        </p:nvSpPr>
        <p:spPr>
          <a:xfrm rot="16719600">
            <a:off x="1789560" y="3070800"/>
            <a:ext cx="571680" cy="500040"/>
          </a:xfrm>
          <a:custGeom>
            <a:avLst/>
            <a:gdLst>
              <a:gd name="textAreaLeft" fmla="*/ 285840 w 571680"/>
              <a:gd name="textAreaRight" fmla="*/ 572040 w 57168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  <a:lnTo>
                  <a:pt x="285752" y="250033"/>
                </a:lnTo>
                <a:close/>
              </a:path>
              <a:path fill="none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Прямая соединительная линия 8"/>
          <p:cNvSpPr/>
          <p:nvPr/>
        </p:nvSpPr>
        <p:spPr>
          <a:xfrm>
            <a:off x="2928960" y="185724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Прямая соединительная линия 9"/>
          <p:cNvSpPr/>
          <p:nvPr/>
        </p:nvSpPr>
        <p:spPr>
          <a:xfrm flipV="1">
            <a:off x="3142440" y="1785960"/>
            <a:ext cx="14292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Дуга 14"/>
          <p:cNvSpPr/>
          <p:nvPr/>
        </p:nvSpPr>
        <p:spPr>
          <a:xfrm rot="16719600">
            <a:off x="4718880" y="2998800"/>
            <a:ext cx="571320" cy="500040"/>
          </a:xfrm>
          <a:custGeom>
            <a:avLst/>
            <a:gdLst>
              <a:gd name="textAreaLeft" fmla="*/ 285840 w 571320"/>
              <a:gd name="textAreaRight" fmla="*/ 571680 w 57132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  <a:lnTo>
                  <a:pt x="285752" y="250033"/>
                </a:lnTo>
                <a:close/>
              </a:path>
              <a:path fill="none" w="571504" h="500066">
                <a:moveTo>
                  <a:pt x="285752" y="0"/>
                </a:moveTo>
                <a:lnTo>
                  <a:pt x="285752" y="0"/>
                </a:lnTo>
                <a:arcTo wR="285752" hR="250033" stAng="-5400000" swAng="5400012"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TextBox 15"/>
          <p:cNvSpPr/>
          <p:nvPr/>
        </p:nvSpPr>
        <p:spPr>
          <a:xfrm>
            <a:off x="1362240" y="27147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4360320" y="271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215040" y="1857240"/>
            <a:ext cx="171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)     2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     35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)      55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TextBox 10"/>
          <p:cNvSpPr/>
          <p:nvPr/>
        </p:nvSpPr>
        <p:spPr>
          <a:xfrm>
            <a:off x="1428840" y="21420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35e01"/>
                </a:solidFill>
                <a:latin typeface="Times New Roman"/>
                <a:ea typeface="Times New Roman"/>
              </a:rPr>
              <a:t>8</a:t>
            </a:r>
            <a:r>
              <a:rPr b="1" lang="uk-UA" sz="28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>
            <a:off x="1101600" y="0"/>
            <a:ext cx="80424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000160" y="1214280"/>
          <a:ext cx="6096240" cy="7668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2000160" y="3000240"/>
          <a:ext cx="6096240" cy="457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омашнє завдання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§15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'язати задачу № 457,  №468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 завдання: порахувати скільки днів, місяців та років село перебувало в окупації і скласти задачі, які б при розв’язанні вказували на ці чис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Основні завдання на уроці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Узагальнити та систематизувати знання про прямокутний трикутник та його властивост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Розвивати вміння та навички в застосуванні набутих знань на практиці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Пригадати історичні події які відбулися в нашому селі 70 років том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3920" indent="-243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“</a:t>
            </a: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Хто не знає свого минулого, 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той не вартий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dventure"/>
              </a:rPr>
              <a:t>свого майбутнього</a:t>
            </a:r>
            <a:r>
              <a:rPr b="1" lang="uk-UA" sz="6000" spc="-1" strike="noStrike">
                <a:solidFill>
                  <a:srgbClr val="002060"/>
                </a:solidFill>
                <a:latin typeface="Adventure"/>
              </a:rPr>
              <a:t>’’</a:t>
            </a: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    </a:t>
            </a:r>
            <a:br>
              <a:rPr sz="6000"/>
            </a:b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</a:t>
            </a:r>
            <a:br>
              <a:rPr sz="6000"/>
            </a:b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                   М. Рильський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ый треугольник 3"/>
          <p:cNvSpPr/>
          <p:nvPr/>
        </p:nvSpPr>
        <p:spPr>
          <a:xfrm>
            <a:off x="1500120" y="857160"/>
            <a:ext cx="1714680" cy="257184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93720" y="2381760"/>
            <a:ext cx="857520" cy="87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c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ый треугольник 6"/>
          <p:cNvSpPr/>
          <p:nvPr/>
        </p:nvSpPr>
        <p:spPr>
          <a:xfrm>
            <a:off x="6786720" y="928800"/>
            <a:ext cx="1714320" cy="257148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Дуга 7"/>
          <p:cNvSpPr/>
          <p:nvPr/>
        </p:nvSpPr>
        <p:spPr>
          <a:xfrm rot="13520400">
            <a:off x="2813040" y="2811240"/>
            <a:ext cx="571680" cy="714240"/>
          </a:xfrm>
          <a:custGeom>
            <a:avLst/>
            <a:gdLst>
              <a:gd name="textAreaLeft" fmla="*/ 285840 w 571680"/>
              <a:gd name="textAreaRight" fmla="*/ 572040 w 571680"/>
              <a:gd name="textAreaTop" fmla="*/ 0 h 714240"/>
              <a:gd name="textAreaBottom" fmla="*/ 357120 h 714240"/>
            </a:gdLst>
            <a:ahLst/>
            <a:rect l="textAreaLeft" t="textAreaTop" r="textAreaRight" b="textAreaBottom"/>
            <a:pathLst>
              <a:path stroke="0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  <a:lnTo>
                  <a:pt x="285752" y="357190"/>
                </a:lnTo>
                <a:close/>
              </a:path>
              <a:path fill="none" w="571504" h="714380">
                <a:moveTo>
                  <a:pt x="285752" y="0"/>
                </a:moveTo>
                <a:lnTo>
                  <a:pt x="285752" y="0"/>
                </a:lnTo>
                <a:arcTo wR="285752" hR="357190" stAng="-5400000" swAng="5400012"/>
              </a:path>
            </a:pathLst>
          </a:custGeom>
          <a:noFill/>
          <a:ln w="381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Дуга 8"/>
          <p:cNvSpPr/>
          <p:nvPr/>
        </p:nvSpPr>
        <p:spPr>
          <a:xfrm rot="13520400">
            <a:off x="2916720" y="2935440"/>
            <a:ext cx="453960" cy="556920"/>
          </a:xfrm>
          <a:custGeom>
            <a:avLst/>
            <a:gdLst>
              <a:gd name="textAreaLeft" fmla="*/ 227160 w 453960"/>
              <a:gd name="textAreaRight" fmla="*/ 454320 w 453960"/>
              <a:gd name="textAreaTop" fmla="*/ 0 h 556920"/>
              <a:gd name="textAreaBottom" fmla="*/ 278640 h 556920"/>
            </a:gdLst>
            <a:ahLst/>
            <a:rect l="textAreaLeft" t="textAreaTop" r="textAreaRight" b="textAreaBottom"/>
            <a:pathLst>
              <a:path stroke="0" w="454517" h="556408">
                <a:moveTo>
                  <a:pt x="227259" y="0"/>
                </a:moveTo>
                <a:lnTo>
                  <a:pt x="227259" y="0"/>
                </a:lnTo>
                <a:arcTo wR="227259" hR="278204" stAng="-5400000" swAng="5400015"/>
                <a:lnTo>
                  <a:pt x="227259" y="278204"/>
                </a:lnTo>
                <a:close/>
              </a:path>
              <a:path fill="none" w="454517" h="556408">
                <a:moveTo>
                  <a:pt x="227259" y="0"/>
                </a:moveTo>
                <a:lnTo>
                  <a:pt x="227259" y="0"/>
                </a:lnTo>
                <a:arcTo wR="227259" hR="278204" stAng="-5400000" swAng="5400015"/>
              </a:path>
            </a:pathLst>
          </a:custGeom>
          <a:noFill/>
          <a:ln w="381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Дуга 9"/>
          <p:cNvSpPr/>
          <p:nvPr/>
        </p:nvSpPr>
        <p:spPr>
          <a:xfrm rot="8370600">
            <a:off x="1449000" y="1063440"/>
            <a:ext cx="603360" cy="507960"/>
          </a:xfrm>
          <a:custGeom>
            <a:avLst/>
            <a:gdLst>
              <a:gd name="textAreaLeft" fmla="*/ 301680 w 603360"/>
              <a:gd name="textAreaRight" fmla="*/ 603720 w 603360"/>
              <a:gd name="textAreaTop" fmla="*/ 0 h 507960"/>
              <a:gd name="textAreaBottom" fmla="*/ 254160 h 507960"/>
            </a:gdLst>
            <a:ahLst/>
            <a:rect l="textAreaLeft" t="textAreaTop" r="textAreaRight" b="textAreaBottom"/>
            <a:pathLst>
              <a:path stroke="0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  <a:lnTo>
                  <a:pt x="301757" y="253617"/>
                </a:lnTo>
                <a:close/>
              </a:path>
              <a:path fill="none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</a:path>
            </a:pathLst>
          </a:custGeom>
          <a:noFill/>
          <a:ln w="38160">
            <a:solidFill>
              <a:srgbClr val="3891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10"/>
          <p:cNvSpPr/>
          <p:nvPr/>
        </p:nvSpPr>
        <p:spPr>
          <a:xfrm>
            <a:off x="2214720" y="2928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1645560" y="16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12"/>
          <p:cNvSpPr/>
          <p:nvPr/>
        </p:nvSpPr>
        <p:spPr>
          <a:xfrm>
            <a:off x="1861560" y="45007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Дуга 13"/>
          <p:cNvSpPr/>
          <p:nvPr/>
        </p:nvSpPr>
        <p:spPr>
          <a:xfrm rot="8370600">
            <a:off x="4092120" y="1063440"/>
            <a:ext cx="603360" cy="507960"/>
          </a:xfrm>
          <a:custGeom>
            <a:avLst/>
            <a:gdLst>
              <a:gd name="textAreaLeft" fmla="*/ 301680 w 603360"/>
              <a:gd name="textAreaRight" fmla="*/ 603720 w 603360"/>
              <a:gd name="textAreaTop" fmla="*/ 0 h 507960"/>
              <a:gd name="textAreaBottom" fmla="*/ 254160 h 507960"/>
            </a:gdLst>
            <a:ahLst/>
            <a:rect l="textAreaLeft" t="textAreaTop" r="textAreaRight" b="textAreaBottom"/>
            <a:pathLst>
              <a:path stroke="0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  <a:lnTo>
                  <a:pt x="301757" y="253617"/>
                </a:lnTo>
                <a:close/>
              </a:path>
              <a:path fill="none" w="603514" h="507234">
                <a:moveTo>
                  <a:pt x="301757" y="0"/>
                </a:moveTo>
                <a:lnTo>
                  <a:pt x="301757" y="0"/>
                </a:lnTo>
                <a:arcTo wR="301757" hR="253617" stAng="-5400000" swAng="5400011"/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4147560" y="16430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4363200" y="342900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5003280" y="171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20"/>
          <p:cNvSpPr/>
          <p:nvPr/>
        </p:nvSpPr>
        <p:spPr>
          <a:xfrm flipV="1">
            <a:off x="6786000" y="2214360"/>
            <a:ext cx="857160" cy="128556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21640" y="1714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м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7074720" y="242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24"/>
          <p:cNvSpPr/>
          <p:nvPr/>
        </p:nvSpPr>
        <p:spPr>
          <a:xfrm flipH="1">
            <a:off x="7857720" y="2571120"/>
            <a:ext cx="2142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26"/>
          <p:cNvSpPr/>
          <p:nvPr/>
        </p:nvSpPr>
        <p:spPr>
          <a:xfrm flipH="1">
            <a:off x="7286400" y="1785960"/>
            <a:ext cx="223560" cy="13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TextBox 28"/>
          <p:cNvSpPr/>
          <p:nvPr/>
        </p:nvSpPr>
        <p:spPr>
          <a:xfrm>
            <a:off x="4433040" y="442908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TextBox 29"/>
          <p:cNvSpPr/>
          <p:nvPr/>
        </p:nvSpPr>
        <p:spPr>
          <a:xfrm>
            <a:off x="7078680" y="4500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м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Катет, протилежний куту 60°, дорівнює 23,8 см. Знайти висоту трикутника, проведену до гіпотенуз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11,9 с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У прямокутному трикутнику гострий кут дорівнює 60°, а сума гіпотенузи та меншого катета дорівнює 24 см.  Знайти довжину гіпотенуз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1143000" y="936360"/>
            <a:ext cx="755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прямокутному трикутнику гіпотенуза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івнює 12 см.  Знайти кути трикутника,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кщо висота, проведена до гіпотенузи дорівнює 3с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оугольный треугольник 2"/>
          <p:cNvSpPr/>
          <p:nvPr/>
        </p:nvSpPr>
        <p:spPr>
          <a:xfrm>
            <a:off x="1285920" y="3071880"/>
            <a:ext cx="6572160" cy="171432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861120" y="26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7932960" y="4429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789840" y="4643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1860840" y="2643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Прямая соединительная линия 15"/>
          <p:cNvSpPr/>
          <p:nvPr/>
        </p:nvSpPr>
        <p:spPr>
          <a:xfrm>
            <a:off x="1714680" y="3571920"/>
            <a:ext cx="28548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ая соединительная линия 16"/>
          <p:cNvSpPr/>
          <p:nvPr/>
        </p:nvSpPr>
        <p:spPr>
          <a:xfrm flipV="1">
            <a:off x="1999440" y="3286080"/>
            <a:ext cx="133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4575240" y="3500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оугольник 40"/>
          <p:cNvSpPr/>
          <p:nvPr/>
        </p:nvSpPr>
        <p:spPr>
          <a:xfrm>
            <a:off x="1285920" y="4429080"/>
            <a:ext cx="28584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24"/>
          <p:cNvSpPr/>
          <p:nvPr/>
        </p:nvSpPr>
        <p:spPr>
          <a:xfrm flipV="1">
            <a:off x="1285200" y="3214440"/>
            <a:ext cx="571320" cy="157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9"/>
          <p:cNvSpPr/>
          <p:nvPr/>
        </p:nvSpPr>
        <p:spPr>
          <a:xfrm flipV="1">
            <a:off x="1285920" y="3928680"/>
            <a:ext cx="3286080" cy="857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TextBox 41"/>
          <p:cNvSpPr/>
          <p:nvPr/>
        </p:nvSpPr>
        <p:spPr>
          <a:xfrm rot="20717400">
            <a:off x="1764720" y="416088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TextBox 42"/>
          <p:cNvSpPr/>
          <p:nvPr/>
        </p:nvSpPr>
        <p:spPr>
          <a:xfrm rot="17287200">
            <a:off x="1102680" y="356040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43"/>
          <p:cNvSpPr/>
          <p:nvPr/>
        </p:nvSpPr>
        <p:spPr>
          <a:xfrm flipV="1">
            <a:off x="5428440" y="4000680"/>
            <a:ext cx="133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44"/>
          <p:cNvSpPr/>
          <p:nvPr/>
        </p:nvSpPr>
        <p:spPr>
          <a:xfrm flipV="1">
            <a:off x="2428920" y="3214800"/>
            <a:ext cx="13320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45"/>
          <p:cNvSpPr/>
          <p:nvPr/>
        </p:nvSpPr>
        <p:spPr>
          <a:xfrm flipH="1" flipV="1">
            <a:off x="3357720" y="4071960"/>
            <a:ext cx="7128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Дуга 47"/>
          <p:cNvSpPr/>
          <p:nvPr/>
        </p:nvSpPr>
        <p:spPr>
          <a:xfrm rot="13436400">
            <a:off x="3898440" y="3650400"/>
            <a:ext cx="430200" cy="500040"/>
          </a:xfrm>
          <a:custGeom>
            <a:avLst/>
            <a:gdLst>
              <a:gd name="textAreaLeft" fmla="*/ 215280 w 430200"/>
              <a:gd name="textAreaRight" fmla="*/ 430560 w 43020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stroke="0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  <a:lnTo>
                  <a:pt x="214314" y="250033"/>
                </a:lnTo>
                <a:close/>
              </a:path>
              <a:path fill="none" w="428628" h="500066">
                <a:moveTo>
                  <a:pt x="214314" y="0"/>
                </a:moveTo>
                <a:lnTo>
                  <a:pt x="214314" y="0"/>
                </a:lnTo>
                <a:arcTo wR="214314" hR="250033" stAng="-5400000" swAng="5400000"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3290400" y="36432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Дуга 49"/>
          <p:cNvSpPr/>
          <p:nvPr/>
        </p:nvSpPr>
        <p:spPr>
          <a:xfrm rot="7724400">
            <a:off x="4390200" y="3764520"/>
            <a:ext cx="291960" cy="325440"/>
          </a:xfrm>
          <a:custGeom>
            <a:avLst/>
            <a:gdLst>
              <a:gd name="textAreaLeft" fmla="*/ 127440 w 291960"/>
              <a:gd name="textAreaRight" fmla="*/ 292320 w 291960"/>
              <a:gd name="textAreaTop" fmla="*/ 0 h 325440"/>
              <a:gd name="textAreaBottom" fmla="*/ 186120 h 325440"/>
            </a:gdLst>
            <a:ahLst/>
            <a:rect l="textAreaLeft" t="textAreaTop" r="textAreaRight" b="textAreaBottom"/>
            <a:pathLst>
              <a:path stroke="0" w="291944" h="325793">
                <a:moveTo>
                  <a:pt x="127503" y="1309"/>
                </a:moveTo>
                <a:lnTo>
                  <a:pt x="127503" y="1309"/>
                </a:lnTo>
                <a:arcTo wR="145972" hR="162897" stAng="-5791226" swAng="6346870"/>
                <a:lnTo>
                  <a:pt x="145972" y="162897"/>
                </a:lnTo>
                <a:close/>
              </a:path>
              <a:path fill="none" w="291944" h="325793">
                <a:moveTo>
                  <a:pt x="127503" y="1309"/>
                </a:moveTo>
                <a:lnTo>
                  <a:pt x="127503" y="1309"/>
                </a:lnTo>
                <a:arcTo wR="145972" hR="162897" stAng="-5791226" swAng="6346870"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TextBox 51"/>
          <p:cNvSpPr/>
          <p:nvPr/>
        </p:nvSpPr>
        <p:spPr>
          <a:xfrm>
            <a:off x="4217040" y="4071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Дуга 55"/>
          <p:cNvSpPr/>
          <p:nvPr/>
        </p:nvSpPr>
        <p:spPr>
          <a:xfrm rot="14520600">
            <a:off x="6296760" y="4418280"/>
            <a:ext cx="642960" cy="571680"/>
          </a:xfrm>
          <a:custGeom>
            <a:avLst/>
            <a:gdLst>
              <a:gd name="textAreaLeft" fmla="*/ 391680 w 642960"/>
              <a:gd name="textAreaRight" fmla="*/ 643320 w 642960"/>
              <a:gd name="textAreaTop" fmla="*/ 6840 h 571680"/>
              <a:gd name="textAreaBottom" fmla="*/ 285840 h 571680"/>
            </a:gdLst>
            <a:ahLst/>
            <a:rect l="textAreaLeft" t="textAreaTop" r="textAreaRight" b="textAreaBottom"/>
            <a:pathLst>
              <a:path stroke="0" w="642942" h="571504">
                <a:moveTo>
                  <a:pt x="391478" y="6858"/>
                </a:moveTo>
                <a:lnTo>
                  <a:pt x="391478" y="6858"/>
                </a:lnTo>
                <a:arcTo wR="321471" hR="285752" stAng="-4554537" swAng="4554548"/>
                <a:lnTo>
                  <a:pt x="321471" y="285752"/>
                </a:lnTo>
                <a:close/>
              </a:path>
              <a:path fill="none" w="642942" h="571504">
                <a:moveTo>
                  <a:pt x="391478" y="6858"/>
                </a:moveTo>
                <a:lnTo>
                  <a:pt x="391478" y="6858"/>
                </a:lnTo>
                <a:arcTo wR="321471" hR="285752" stAng="-4554537" swAng="4554548"/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TextBox 56"/>
          <p:cNvSpPr/>
          <p:nvPr/>
        </p:nvSpPr>
        <p:spPr>
          <a:xfrm>
            <a:off x="5789160" y="43578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1"/>
          <p:cNvSpPr/>
          <p:nvPr/>
        </p:nvSpPr>
        <p:spPr>
          <a:xfrm>
            <a:off x="1163880" y="728280"/>
            <a:ext cx="766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мо, що найбільша дальність польоту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наряда буде,  якщо вистріл провести з гармати,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вол якої розміщений під кутом 45° до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изонту.  Як за допомогою підручних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собів виставити гармату, щоб влучити в ціль,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а знаходиться на найбільшій  відстані,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яку може долетіти снаряд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1643040" y="357120"/>
            <a:ext cx="7245360" cy="50007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Прямая соединительная линия 10"/>
          <p:cNvSpPr/>
          <p:nvPr/>
        </p:nvSpPr>
        <p:spPr>
          <a:xfrm>
            <a:off x="1714680" y="5357880"/>
            <a:ext cx="5929200" cy="71280"/>
          </a:xfrm>
          <a:prstGeom prst="line">
            <a:avLst/>
          </a:prstGeom>
          <a:ln w="7632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11"/>
          <p:cNvSpPr/>
          <p:nvPr/>
        </p:nvSpPr>
        <p:spPr>
          <a:xfrm flipH="1">
            <a:off x="1714680" y="357120"/>
            <a:ext cx="1440" cy="5000760"/>
          </a:xfrm>
          <a:prstGeom prst="line">
            <a:avLst/>
          </a:prstGeom>
          <a:ln w="7632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17"/>
          <p:cNvSpPr/>
          <p:nvPr/>
        </p:nvSpPr>
        <p:spPr>
          <a:xfrm>
            <a:off x="1714680" y="357120"/>
            <a:ext cx="5857560" cy="5072040"/>
          </a:xfrm>
          <a:prstGeom prst="line">
            <a:avLst/>
          </a:prstGeom>
          <a:ln w="76320">
            <a:solidFill>
              <a:srgbClr val="6116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Прямая соединительная линия 22"/>
          <p:cNvSpPr/>
          <p:nvPr/>
        </p:nvSpPr>
        <p:spPr>
          <a:xfrm>
            <a:off x="1714680" y="5500800"/>
            <a:ext cx="5929200" cy="71280"/>
          </a:xfrm>
          <a:prstGeom prst="line">
            <a:avLst/>
          </a:prstGeom>
          <a:ln w="7632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0:40:48Z</dcterms:created>
  <dc:creator>Admin</dc:creator>
  <dc:description/>
  <dc:language>en-US</dc:language>
  <cp:lastModifiedBy>Admin</cp:lastModifiedBy>
  <dcterms:modified xsi:type="dcterms:W3CDTF">2014-03-31T10:23:09Z</dcterms:modified>
  <cp:revision>46</cp:revision>
  <dc:subject/>
  <dc:title>Тема:  «Прямокутний  трикутник    та  його властивості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b000000000001024140</vt:lpwstr>
  </property>
</Properties>
</file>