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757-8F02-450F-995C-C0ACDB25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E41-DA36-4E0B-A025-C5D7A1A0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B9F-56B4-4264-8E5A-2E5D1E98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71E-F92D-4C63-8653-B39D6A2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7343-64F1-4905-AC22-26964442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51A6-22DB-4478-94A5-AD974B6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97BA-6E6F-4A03-9A59-C326F974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236E-47BD-4058-A875-F5822CFE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CAD7-574E-4571-A16E-974FE1C6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745F-A672-4147-B074-A2C8D541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DC43-64E4-4870-8169-59B8FD8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ADA-A5DE-474C-9B30-275BBD49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D385-FFCC-471A-9C04-8461872B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8AA2-2E79-4E2E-8302-E739AC60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DE78-F1EF-4504-A792-9CE9501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4CB2-60A0-4D6C-B914-005E8072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D804-79C3-4BF8-B3BE-7BAE0606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F4B3-9905-40EC-8A65-C6D88179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5DF8-68B6-4952-B3E8-59A9B059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ABF1-AF54-417F-8CB5-AA583D30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FB32-C91C-4392-9A8E-A3A5ACF9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DF13-6EC2-4333-9895-598062CC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31E-455E-459F-9620-A70C58B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F48C-2F5A-4087-9C56-0B405F51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AB40-A6EB-4823-97CC-D869CD1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90DF-6A83-42AA-AD17-1496C16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DC0F-1CEE-46FE-BD7B-1336E56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D693-E698-4F0E-A925-EEA8AD07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7A31-6587-4E9B-BC96-AE2A721A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A962-5E99-4994-B073-406E10B6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1B78-DDEB-49B8-893B-7D2B0021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57667-B3CA-48EE-9349-F32C1F93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456E-5D18-411B-A489-6021946C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8A8-FF9D-4AAB-AAF9-93DE18B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09D5-2EA0-4F60-8B73-83CF0CCC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A295-055F-4E1D-84FF-1C8E7851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C20A-76F7-4264-B5DB-BB129DD1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A36B-F3E5-4AE1-9C91-286FACA0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DE3E-EE49-480C-BF0D-FD81941F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AC7D-217F-41B8-B9AA-CF933AC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9F2E-7CEC-49F2-A26A-A7B6B3EB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66BE-8FB3-4B80-B04F-5858506C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3D30-584C-4E52-8462-BEE32CDB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4D28-408E-43C6-B6C3-D9BA5623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C18-EBEE-4A35-9267-83A5718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32F9C-DC73-46AC-A823-7B682FAD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4DF2-DC4E-4B68-8AF9-0A2CB92B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5266-C2A8-4288-A382-03AA412B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A628-E441-4695-935F-33C53624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6727-8CC0-4DB0-8E37-C5526D21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0E17-141D-4CAF-9F13-C7F4249E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817AB-BAE8-4E26-A3FE-37DE5E5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C083-1D96-4E72-9093-2D0ABAE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B65B8-A326-4373-9C7C-A4DA0F9D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B1BF-1305-48AB-854A-820976C5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5EE-FEED-40D7-94E0-E34CFC88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421CB-BBCC-42A2-8F3D-0CFBEA5B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466FD-894E-40F3-9856-48310BB5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1C6D-4672-4B97-B94D-448BEEC1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5BE48-E849-470E-A2EA-424EE971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F35E-86F0-4260-819D-0D1E8442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0B78C-19D8-4DEF-ACAC-1BC0F671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75782-D66F-48FC-9C6E-563058C7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D2D6-DC6D-46A1-82CF-6932CC9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33314-54D8-4AF8-BC10-6AF8ADEF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76531-0598-48ED-8F88-8AC6629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431-BC56-4FEA-9111-97F67E1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199FA-5111-4EF8-811E-7CEFB87D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38CA-9FAF-4133-A180-EB1F832F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6955C-A9C4-438D-8798-5D8DAAE7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970E-0B36-4F40-A94B-D2A4592D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2F906-2538-4617-9200-65282E85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2FCA5-2902-448C-8D19-E303C52D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F9795-1EF7-40E7-A002-13021FB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67A9B-2341-4BD6-A433-8025501D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68FD7-D7B3-42C3-8830-7B955006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7D7C7-DB1A-47D2-B98C-1A995CF9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D15-98F3-4070-8757-9F1A2AB3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CCE9-A487-4450-AEB0-47A5F2A8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705B7-8DE4-43FF-82BD-A55244E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6CB8-CE94-4AD3-8C62-E4B85838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B17F-0E67-4D24-B3B0-4A33819C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003F-AFA9-4E5B-8285-81166D63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5DB95-716B-4C06-9490-738ECEDE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01B2B-55D4-4382-AC18-6DCDBC9E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87D4F-4C4B-4798-B430-7DB2136E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A8C3-9363-4C9B-94EA-5A5DE03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1578A-5D89-4504-ACD1-67E83F06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774-10B0-40BD-AC6D-90A4A2CA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E590D-7E1C-4E9C-B4D8-B23C756B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99D11-994C-4F6A-89ED-2DF0513F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D664B-56BC-407D-BE3E-841F7DC4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F896F-5571-469F-B8CA-43261C0C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8776-54EF-45AE-988D-5C54E1D2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EA11-4703-453C-8566-A686367B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16097-08B2-41D6-B77A-837CB915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2083-67F6-4673-ABD4-2BC56321A58F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C961-3BDD-4B16-BAF3-ED86F3BE6C9E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4B6C-16DB-4DD3-8D79-4439340EA157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6971-EEFF-498B-87CE-55D49D7ED750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4568-FEE5-482A-B9E8-12754C51F218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9ACC-BA47-47A9-BB6C-32053DF86921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7577-35DA-4EA2-BE2A-27692FE205AE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F994-34F4-4785-A9F6-E4635AA9EFFC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720" y="856800"/>
            <a:ext cx="760392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572314"/>
                </a:solidFill>
                <a:latin typeface="Corbel"/>
              </a:rPr>
              <a:t>Застосування подібності трикутників. </a:t>
            </a:r>
            <a:br>
              <a:rPr sz="4800"/>
            </a:br>
            <a:r>
              <a:rPr b="1" lang="uk-UA" sz="4800" spc="-1" strike="noStrike">
                <a:solidFill>
                  <a:srgbClr val="572314"/>
                </a:solidFill>
                <a:latin typeface="Corbel"/>
              </a:rPr>
              <a:t>Теорема Піфагор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31640" y="3789360"/>
            <a:ext cx="7240680" cy="1969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320e04"/>
                </a:solidFill>
                <a:latin typeface="Bookman Old Style"/>
              </a:rPr>
              <a:t>“</a:t>
            </a:r>
            <a:r>
              <a:rPr b="0" i="1" lang="uk-UA" sz="2800" spc="-1" strike="noStrike">
                <a:solidFill>
                  <a:srgbClr val="320e04"/>
                </a:solidFill>
                <a:latin typeface="Bookman Old Style"/>
              </a:rPr>
              <a:t>Узагальнення – це, мабуть, найлегший і найочевидніший шлях розширення математичних знань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20e04"/>
                </a:solidFill>
                <a:latin typeface="Bookman Old Style"/>
              </a:rPr>
              <a:t>В.Сойер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Так сказав Піфаго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99720" y="1285920"/>
            <a:ext cx="56437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Живи з людьми так, щоб твої друзі не стали недругами, а недруги стали друзя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6760" indent="-266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Твори велике, не обіцяючи велико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0" name="Picture 12" descr="http://mathem.hut1.ru/foto/Pifagor.jpg"/>
          <p:cNvPicPr/>
          <p:nvPr/>
        </p:nvPicPr>
        <p:blipFill>
          <a:blip r:embed="rId2"/>
          <a:stretch/>
        </p:blipFill>
        <p:spPr>
          <a:xfrm>
            <a:off x="6624720" y="214200"/>
            <a:ext cx="2519280" cy="292752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0"/>
          <p:cNvSpPr/>
          <p:nvPr/>
        </p:nvSpPr>
        <p:spPr>
          <a:xfrm>
            <a:off x="1000080" y="2928960"/>
            <a:ext cx="75009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Не заплющуй очей, коли хочеш спати, не проаналізувавши всіх своїх учинків за минулий ден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Тимчасова невдача краще тимчасової удачі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5. Не роби нічого ганебного ні в присутності інших, ні таємно. Першим твоїм законом має бути повага до себе самого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6.  Лише неблагородна людина здатна в очі хвалити, а поза очі злословит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7.  Роби лиш те, що в майбутньому не засмутить теб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8. </a:t>
            </a: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Усе впорядковується відповідно до чисел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2" name="Tihaya-klassika-umirotvoryayuschiy-relaks(muzofon.com)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826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619416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2314"/>
                </a:solidFill>
                <a:latin typeface="Corbel"/>
              </a:rPr>
              <a:t>Тести 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0080" y="928800"/>
            <a:ext cx="8143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І варіант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 ІІ варіа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1.        Як називаються сторони прямокутного трикутника, які утворюю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гострий кут?                                                         прямий кут?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а) катети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б) гіпотенуза і основа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в) катет і гіпотенуза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2.       Чи можуть сторони прямокутного трикутника дорівнюва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5см, 6см, 10см.                                                    10см, 6см, 8с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а) Так                   б) Ні  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в) визначити неможли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3.        Катети прямокутного трикутник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6м. і 8м.                                                               5м. і 12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Чому дорівнює гіпотенуза трикутник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а) 15м.                   б) 14м.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в) 13м.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г)10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4.        Гіпотенуза прямокутного трикутника дорівнює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15см,                                                                  10см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а один з катетів 12 см.                   а один з катетів 8см.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Чому дорівнює другий катет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а) 25см                    б) 6см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в) 5см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г) 9с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buClr>
                <a:srgbClr val="3891a7"/>
              </a:buClr>
              <a:buSzPct val="80000"/>
              <a:buFont typeface="Corbe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Чому дорівнює довжина висоти проведеної з вершини  прямого кута,  якщо проекції катетів на гіпотенузу в прямокутному трикутнику дорівнюють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2см і 8см?                                                        4 см і 16 см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а) 6см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б) 5 см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в) 8см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 г) 4см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6. Сторони трикутника дорівнюють 6см, 18см, 20см. В якому відношенні ділить сторону бісектриса, проведена з вершин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найбільшого кута?                                           найменшого кут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а) 1:3 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 б)3:5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в) 5:9       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 г) 9:1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2314"/>
                </a:solidFill>
                <a:latin typeface="Corbel"/>
              </a:rPr>
              <a:t>Перевір себ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І варіант                  ІІ варіан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.в                                   1.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2.б 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2.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3.г                                   3.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4.г                                  4.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5.г                                   5.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6.а                                  6.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а кожну правильну відповідь </a:t>
            </a:r>
            <a:r>
              <a:rPr b="1" lang="uk-UA" sz="3200" spc="-1" strike="noStrike">
                <a:solidFill>
                  <a:srgbClr val="ff0000"/>
                </a:solidFill>
                <a:latin typeface="Corbel"/>
              </a:rPr>
              <a:t>1 ба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Самооцінка уч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428840" y="1428840"/>
          <a:ext cx="6696000" cy="5230800"/>
        </p:xfrm>
        <a:graphic>
          <a:graphicData uri="http://schemas.openxmlformats.org/drawingml/2006/table">
            <a:tbl>
              <a:tblPr/>
              <a:tblGrid>
                <a:gridCol w="3243240"/>
                <a:gridCol w="844560"/>
                <a:gridCol w="846000"/>
                <a:gridCol w="84636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Критер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Я можу пояснити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. Властивість бісектриси трику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. Властивість медіан трику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. Властивість хорд 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. Метричні співвідношення в прямокутному трикутни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. Теорему Піфаг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Я вмію аналізувати задачу та визначати, яку з формул слід підібр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Я можу застосовувати теорему Піфагора при роз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’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язуванні прикладних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AutoShape 75"/>
          <p:cNvSpPr/>
          <p:nvPr/>
        </p:nvSpPr>
        <p:spPr>
          <a:xfrm>
            <a:off x="4714920" y="1500120"/>
            <a:ext cx="358560" cy="3571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AutoShape 76"/>
          <p:cNvSpPr/>
          <p:nvPr/>
        </p:nvSpPr>
        <p:spPr>
          <a:xfrm>
            <a:off x="5072040" y="1500120"/>
            <a:ext cx="358920" cy="3571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AutoShape 77"/>
          <p:cNvSpPr/>
          <p:nvPr/>
        </p:nvSpPr>
        <p:spPr>
          <a:xfrm>
            <a:off x="5786280" y="1500120"/>
            <a:ext cx="358920" cy="3571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AutoShape 78"/>
          <p:cNvSpPr/>
          <p:nvPr/>
        </p:nvSpPr>
        <p:spPr>
          <a:xfrm>
            <a:off x="6572160" y="1500120"/>
            <a:ext cx="35892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AutoShape 79"/>
          <p:cNvSpPr/>
          <p:nvPr/>
        </p:nvSpPr>
        <p:spPr>
          <a:xfrm>
            <a:off x="7715160" y="1500120"/>
            <a:ext cx="35892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AutoShape 80"/>
          <p:cNvSpPr/>
          <p:nvPr/>
        </p:nvSpPr>
        <p:spPr>
          <a:xfrm>
            <a:off x="7286760" y="1500120"/>
            <a:ext cx="35856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Домашнє завд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 параграф 11-14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52, 64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уватись до к/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Очікувані результат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Схема 5" descr=""/>
          <p:cNvPicPr/>
          <p:nvPr/>
        </p:nvPicPr>
        <p:blipFill>
          <a:blip r:embed="rId2"/>
          <a:stretch/>
        </p:blipFill>
        <p:spPr>
          <a:xfrm>
            <a:off x="-79200" y="1085760"/>
            <a:ext cx="9229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Рисунок 11" descr="3"/>
          <p:cNvPicPr/>
          <p:nvPr/>
        </p:nvPicPr>
        <p:blipFill>
          <a:blip r:embed="rId2"/>
          <a:srcRect l="0" t="0" r="0" b="55349"/>
          <a:stretch/>
        </p:blipFill>
        <p:spPr>
          <a:xfrm>
            <a:off x="1071720" y="1428840"/>
            <a:ext cx="7775280" cy="33843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21520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2314"/>
                </a:solidFill>
                <a:latin typeface="Corbel"/>
              </a:rPr>
              <a:t>Розв’язування задач за малюнками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3" name="Picture 12" descr="https://encrypted-tbn2.gstatic.com/images?q=tbn:ANd9GcRsWKR5YDbVJiolfwHZUPa0yFJ-FICs4cpCNOYXPnKss-8E53Ox"/>
          <p:cNvPicPr/>
          <p:nvPr/>
        </p:nvPicPr>
        <p:blipFill>
          <a:blip r:embed="rId3"/>
          <a:stretch/>
        </p:blipFill>
        <p:spPr>
          <a:xfrm>
            <a:off x="4786200" y="4500720"/>
            <a:ext cx="4357800" cy="235728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ая соединительная линия 6"/>
          <p:cNvSpPr/>
          <p:nvPr/>
        </p:nvSpPr>
        <p:spPr>
          <a:xfrm>
            <a:off x="1500120" y="1571760"/>
            <a:ext cx="928800" cy="242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Прямая соединительная линия 8"/>
          <p:cNvSpPr/>
          <p:nvPr/>
        </p:nvSpPr>
        <p:spPr>
          <a:xfrm flipH="1">
            <a:off x="3712680" y="2786040"/>
            <a:ext cx="1800" cy="1359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Прямая соединительная линия 10"/>
          <p:cNvSpPr/>
          <p:nvPr/>
        </p:nvSpPr>
        <p:spPr>
          <a:xfrm>
            <a:off x="6643800" y="2786040"/>
            <a:ext cx="17143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2314"/>
                </a:solidFill>
                <a:latin typeface="Corbel"/>
              </a:rPr>
              <a:t>Розв’язування задач за малюнками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8" name="Рисунок 11" descr="3"/>
          <p:cNvPicPr/>
          <p:nvPr/>
        </p:nvPicPr>
        <p:blipFill>
          <a:blip r:embed="rId2"/>
          <a:srcRect l="0" t="56710" r="71797" b="0"/>
          <a:stretch/>
        </p:blipFill>
        <p:spPr>
          <a:xfrm>
            <a:off x="500040" y="4429080"/>
            <a:ext cx="2085840" cy="2232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2" descr="https://encrypted-tbn3.gstatic.com/images?q=tbn:ANd9GcRGEal4gzIjJWIXkELM24hMCjzyrnv_IQlrDrVXczwjOjfQtGE_2A"/>
          <p:cNvPicPr/>
          <p:nvPr/>
        </p:nvPicPr>
        <p:blipFill>
          <a:blip r:embed="rId3"/>
          <a:stretch/>
        </p:blipFill>
        <p:spPr>
          <a:xfrm>
            <a:off x="4572000" y="4591080"/>
            <a:ext cx="2681280" cy="2266920"/>
          </a:xfrm>
          <a:prstGeom prst="rect">
            <a:avLst/>
          </a:prstGeom>
          <a:ln w="0">
            <a:noFill/>
          </a:ln>
        </p:spPr>
      </p:pic>
      <p:grpSp>
        <p:nvGrpSpPr>
          <p:cNvPr id="380" name="Группа 45"/>
          <p:cNvGrpSpPr/>
          <p:nvPr/>
        </p:nvGrpSpPr>
        <p:grpSpPr>
          <a:xfrm>
            <a:off x="1428840" y="785880"/>
            <a:ext cx="7358040" cy="3803040"/>
            <a:chOff x="1428840" y="785880"/>
            <a:chExt cx="7358040" cy="3803040"/>
          </a:xfrm>
        </p:grpSpPr>
        <p:grpSp>
          <p:nvGrpSpPr>
            <p:cNvPr id="381" name="Group 5"/>
            <p:cNvGrpSpPr/>
            <p:nvPr/>
          </p:nvGrpSpPr>
          <p:grpSpPr>
            <a:xfrm>
              <a:off x="1428840" y="785880"/>
              <a:ext cx="7358040" cy="3792600"/>
              <a:chOff x="1428840" y="785880"/>
              <a:chExt cx="7358040" cy="3792600"/>
            </a:xfrm>
          </p:grpSpPr>
          <p:sp>
            <p:nvSpPr>
              <p:cNvPr id="382" name="Line 6"/>
              <p:cNvSpPr/>
              <p:nvPr/>
            </p:nvSpPr>
            <p:spPr>
              <a:xfrm flipV="1">
                <a:off x="1903680" y="1971000"/>
                <a:ext cx="1186560" cy="189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" name="Line 7"/>
              <p:cNvSpPr/>
              <p:nvPr/>
            </p:nvSpPr>
            <p:spPr>
              <a:xfrm>
                <a:off x="3090240" y="1971000"/>
                <a:ext cx="2373120" cy="189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4" name="Line 8"/>
              <p:cNvSpPr/>
              <p:nvPr/>
            </p:nvSpPr>
            <p:spPr>
              <a:xfrm>
                <a:off x="1903680" y="3867480"/>
                <a:ext cx="356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" name="Line 9"/>
              <p:cNvSpPr/>
              <p:nvPr/>
            </p:nvSpPr>
            <p:spPr>
              <a:xfrm>
                <a:off x="3090240" y="1971000"/>
                <a:ext cx="474480" cy="189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" name="Freeform 10"/>
              <p:cNvSpPr/>
              <p:nvPr/>
            </p:nvSpPr>
            <p:spPr>
              <a:xfrm>
                <a:off x="2921400" y="2261880"/>
                <a:ext cx="249120" cy="150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7" name="Freeform 11"/>
              <p:cNvSpPr/>
              <p:nvPr/>
            </p:nvSpPr>
            <p:spPr>
              <a:xfrm>
                <a:off x="3183840" y="2248920"/>
                <a:ext cx="223920" cy="136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" name="Text Box 12"/>
              <p:cNvSpPr/>
              <p:nvPr/>
            </p:nvSpPr>
            <p:spPr>
              <a:xfrm>
                <a:off x="1903680" y="2445120"/>
                <a:ext cx="47448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" name="Text Box 13"/>
              <p:cNvSpPr/>
              <p:nvPr/>
            </p:nvSpPr>
            <p:spPr>
              <a:xfrm>
                <a:off x="4276800" y="2445120"/>
                <a:ext cx="47484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0" name="Oval 14"/>
              <p:cNvSpPr/>
              <p:nvPr/>
            </p:nvSpPr>
            <p:spPr>
              <a:xfrm>
                <a:off x="6175800" y="1260000"/>
                <a:ext cx="2611080" cy="260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1" name="Line 15"/>
              <p:cNvSpPr/>
              <p:nvPr/>
            </p:nvSpPr>
            <p:spPr>
              <a:xfrm flipV="1">
                <a:off x="6175800" y="1733760"/>
                <a:ext cx="2373480" cy="71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Line 16"/>
              <p:cNvSpPr/>
              <p:nvPr/>
            </p:nvSpPr>
            <p:spPr>
              <a:xfrm flipH="1">
                <a:off x="7362000" y="1260000"/>
                <a:ext cx="474840" cy="260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Text Box 17"/>
              <p:cNvSpPr/>
              <p:nvPr/>
            </p:nvSpPr>
            <p:spPr>
              <a:xfrm>
                <a:off x="5700960" y="2208240"/>
                <a:ext cx="47448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4" name="Text Box 18"/>
              <p:cNvSpPr/>
              <p:nvPr/>
            </p:nvSpPr>
            <p:spPr>
              <a:xfrm>
                <a:off x="7599960" y="785880"/>
                <a:ext cx="47448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" name="Text Box 19"/>
              <p:cNvSpPr/>
              <p:nvPr/>
            </p:nvSpPr>
            <p:spPr>
              <a:xfrm>
                <a:off x="8312040" y="1260000"/>
                <a:ext cx="47484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" name="Text Box 20"/>
              <p:cNvSpPr/>
              <p:nvPr/>
            </p:nvSpPr>
            <p:spPr>
              <a:xfrm>
                <a:off x="7125120" y="3867480"/>
                <a:ext cx="47484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7" name="Text Box 21"/>
              <p:cNvSpPr/>
              <p:nvPr/>
            </p:nvSpPr>
            <p:spPr>
              <a:xfrm>
                <a:off x="7599960" y="1971000"/>
                <a:ext cx="47448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" name="Text Box 22"/>
              <p:cNvSpPr/>
              <p:nvPr/>
            </p:nvSpPr>
            <p:spPr>
              <a:xfrm>
                <a:off x="6650640" y="1734120"/>
                <a:ext cx="47448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" name="Text Box 23"/>
              <p:cNvSpPr/>
              <p:nvPr/>
            </p:nvSpPr>
            <p:spPr>
              <a:xfrm>
                <a:off x="7837200" y="1496880"/>
                <a:ext cx="47448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" name="Text Box 24"/>
              <p:cNvSpPr/>
              <p:nvPr/>
            </p:nvSpPr>
            <p:spPr>
              <a:xfrm>
                <a:off x="7362360" y="2682360"/>
                <a:ext cx="71172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Text Box 25"/>
              <p:cNvSpPr/>
              <p:nvPr/>
            </p:nvSpPr>
            <p:spPr>
              <a:xfrm>
                <a:off x="7362360" y="1260000"/>
                <a:ext cx="47484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Text Box 26"/>
              <p:cNvSpPr/>
              <p:nvPr/>
            </p:nvSpPr>
            <p:spPr>
              <a:xfrm>
                <a:off x="1428840" y="3393360"/>
                <a:ext cx="47484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Text Box 27"/>
              <p:cNvSpPr/>
              <p:nvPr/>
            </p:nvSpPr>
            <p:spPr>
              <a:xfrm>
                <a:off x="2853000" y="1496880"/>
                <a:ext cx="47448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Text Box 28"/>
              <p:cNvSpPr/>
              <p:nvPr/>
            </p:nvSpPr>
            <p:spPr>
              <a:xfrm>
                <a:off x="5226120" y="3393360"/>
                <a:ext cx="47484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" name="Text Box 29"/>
              <p:cNvSpPr/>
              <p:nvPr/>
            </p:nvSpPr>
            <p:spPr>
              <a:xfrm>
                <a:off x="3327480" y="3867480"/>
                <a:ext cx="47484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06" name="Text Box 30"/>
            <p:cNvSpPr/>
            <p:nvPr/>
          </p:nvSpPr>
          <p:spPr>
            <a:xfrm>
              <a:off x="2786760" y="42206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AL</a:t>
              </a:r>
              <a:r>
                <a:rPr b="1" lang="uk-UA" sz="1800" spc="-1" strike="noStrike">
                  <a:solidFill>
                    <a:srgbClr val="ff0000"/>
                  </a:solidFill>
                  <a:latin typeface="Bookman Old Style"/>
                </a:rPr>
                <a:t>: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LC - 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Прямая соединительная линия 31"/>
            <p:cNvSpPr/>
            <p:nvPr/>
          </p:nvSpPr>
          <p:spPr>
            <a:xfrm flipH="1">
              <a:off x="7709760" y="1276560"/>
              <a:ext cx="169560" cy="73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Прямая соединительная линия 36"/>
            <p:cNvSpPr/>
            <p:nvPr/>
          </p:nvSpPr>
          <p:spPr>
            <a:xfrm flipV="1">
              <a:off x="1937880" y="3867480"/>
              <a:ext cx="3525840" cy="25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9" name="Прямая соединительная линия 40"/>
          <p:cNvSpPr/>
          <p:nvPr/>
        </p:nvSpPr>
        <p:spPr>
          <a:xfrm>
            <a:off x="1856520" y="4643280"/>
            <a:ext cx="714600" cy="9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0"/>
          <p:cNvGrpSpPr/>
          <p:nvPr/>
        </p:nvGrpSpPr>
        <p:grpSpPr>
          <a:xfrm>
            <a:off x="405360" y="1413000"/>
            <a:ext cx="5967000" cy="4527360"/>
            <a:chOff x="405360" y="1413000"/>
            <a:chExt cx="5967000" cy="4527360"/>
          </a:xfrm>
        </p:grpSpPr>
        <p:sp>
          <p:nvSpPr>
            <p:cNvPr id="411" name="AutoShape 4"/>
            <p:cNvSpPr/>
            <p:nvPr/>
          </p:nvSpPr>
          <p:spPr>
            <a:xfrm rot="9330600">
              <a:off x="683640" y="2420280"/>
              <a:ext cx="5396040" cy="2514600"/>
            </a:xfrm>
            <a:prstGeom prst="rtTriangl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5292720" y="1413000"/>
              <a:ext cx="0" cy="22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Text Box 6"/>
            <p:cNvSpPr/>
            <p:nvPr/>
          </p:nvSpPr>
          <p:spPr>
            <a:xfrm>
              <a:off x="5508720" y="3716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3059280" y="371664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932360" y="220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6" name="Group 17"/>
          <p:cNvGrpSpPr/>
          <p:nvPr/>
        </p:nvGrpSpPr>
        <p:grpSpPr>
          <a:xfrm>
            <a:off x="2987640" y="4149720"/>
            <a:ext cx="5586480" cy="4130280"/>
            <a:chOff x="2987640" y="4149720"/>
            <a:chExt cx="5586480" cy="4130280"/>
          </a:xfrm>
        </p:grpSpPr>
        <p:sp>
          <p:nvSpPr>
            <p:cNvPr id="417" name="AutoShape 11"/>
            <p:cNvSpPr/>
            <p:nvPr/>
          </p:nvSpPr>
          <p:spPr>
            <a:xfrm flipV="1" rot="1438800">
              <a:off x="3240000" y="5100480"/>
              <a:ext cx="5099040" cy="2240280"/>
            </a:xfrm>
            <a:prstGeom prst="rtTriangl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3924360" y="414972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Text Box 13"/>
            <p:cNvSpPr/>
            <p:nvPr/>
          </p:nvSpPr>
          <p:spPr>
            <a:xfrm>
              <a:off x="3276720" y="62373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Text Box 14"/>
            <p:cNvSpPr/>
            <p:nvPr/>
          </p:nvSpPr>
          <p:spPr>
            <a:xfrm>
              <a:off x="5651640" y="6237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>
              <a:off x="2987640" y="4149720"/>
              <a:ext cx="93672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Text Box 16"/>
            <p:cNvSpPr/>
            <p:nvPr/>
          </p:nvSpPr>
          <p:spPr>
            <a:xfrm>
              <a:off x="2987640" y="4653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2314"/>
                </a:solidFill>
                <a:latin typeface="Corbel"/>
              </a:rPr>
              <a:t>Розв’язування задач за малюнками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9" name="Picture 30" descr="https://encrypted-tbn0.gstatic.com/images?q=tbn:ANd9GcQgp0Op2SicWtW6HnkgLH9Je5XSwN6jJSHeseIUvltVKJ2CjNkoog"/>
          <p:cNvPicPr/>
          <p:nvPr/>
        </p:nvPicPr>
        <p:blipFill>
          <a:blip r:embed="rId2"/>
          <a:stretch/>
        </p:blipFill>
        <p:spPr>
          <a:xfrm>
            <a:off x="6715080" y="2071800"/>
            <a:ext cx="2241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Задача про спор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142640" y="1999800"/>
            <a:ext cx="7497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а протилежних берегах річки стоять двоє стрільців. Зріст одного — 180см, другого — 120см. Ширина річки 500см. Обидва стрільці одночасно випускають стрілу з лука, влучаючи в один момент у мішень на поверхні води, що лежить на прямій, яка сполучає ступні стрільців. Знайти довжини шляхів стріл та місце знаходження мішені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330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2" name="Picture 11" descr="https://encrypted-tbn0.gstatic.com/images?q=tbn:ANd9GcQ6Q86qLt7W8xshw8hZ-V7bkGDyuKGToiKDVQ4SKhz1CMo6k6nP"/>
          <p:cNvPicPr/>
          <p:nvPr/>
        </p:nvPicPr>
        <p:blipFill>
          <a:blip r:embed="rId2"/>
          <a:stretch/>
        </p:blipFill>
        <p:spPr>
          <a:xfrm>
            <a:off x="6657840" y="14292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5684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Задача стародавніх індійців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285920" y="1499760"/>
            <a:ext cx="7648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д озером тихи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полфута размер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сился лотоса цв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н рос одиноко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ветер порыв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нёс его в сторону. Не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е цветка над вод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шёл же рыбак е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нней весно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двух футах от места, где р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так, предложу я вопрос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Как озера вода здесь глубока?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5" name="Picture 8" descr="http://www.marian2000.org.uk/images/practitioner-right-lotus-flower.jpg"/>
          <p:cNvPicPr/>
          <p:nvPr/>
        </p:nvPicPr>
        <p:blipFill>
          <a:blip r:embed="rId2"/>
          <a:stretch/>
        </p:blipFill>
        <p:spPr>
          <a:xfrm>
            <a:off x="5214960" y="1000080"/>
            <a:ext cx="3357720" cy="2878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http://www.marian2000.org.uk/images/practitioner-right-lotus-flower.jpg"/>
          <p:cNvPicPr/>
          <p:nvPr/>
        </p:nvPicPr>
        <p:blipFill>
          <a:blip r:embed="rId3"/>
          <a:stretch/>
        </p:blipFill>
        <p:spPr>
          <a:xfrm>
            <a:off x="6819840" y="5072040"/>
            <a:ext cx="20844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http://www.marian2000.org.uk/images/practitioner-right-lotus-flower.jpg"/>
          <p:cNvPicPr/>
          <p:nvPr/>
        </p:nvPicPr>
        <p:blipFill>
          <a:blip r:embed="rId4"/>
          <a:stretch/>
        </p:blipFill>
        <p:spPr>
          <a:xfrm>
            <a:off x="5429160" y="4143240"/>
            <a:ext cx="1617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http://do.gendocs.ru/pars_docs/tw_refs/194/193400/193400_html_m723278e0.png"/>
          <p:cNvPicPr/>
          <p:nvPr/>
        </p:nvPicPr>
        <p:blipFill>
          <a:blip r:embed="rId2"/>
          <a:stretch/>
        </p:blipFill>
        <p:spPr>
          <a:xfrm>
            <a:off x="1081080" y="1071720"/>
            <a:ext cx="8062920" cy="535752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4"/>
          <p:cNvSpPr/>
          <p:nvPr/>
        </p:nvSpPr>
        <p:spPr>
          <a:xfrm>
            <a:off x="1714680" y="2142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1 фут = 30,48 см = 0,3048 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оугольник 12"/>
          <p:cNvGrpSpPr/>
          <p:nvPr/>
        </p:nvGrpSpPr>
        <p:grpSpPr>
          <a:xfrm>
            <a:off x="133200" y="1017720"/>
            <a:ext cx="4730760" cy="3157560"/>
            <a:chOff x="133200" y="1017720"/>
            <a:chExt cx="4730760" cy="3157560"/>
          </a:xfrm>
        </p:grpSpPr>
        <p:pic>
          <p:nvPicPr>
            <p:cNvPr id="441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133200" y="1017720"/>
              <a:ext cx="473076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214200" y="1071720"/>
              <a:ext cx="457200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3" name="Прямоугольник 11"/>
          <p:cNvGrpSpPr/>
          <p:nvPr/>
        </p:nvGrpSpPr>
        <p:grpSpPr>
          <a:xfrm>
            <a:off x="4853160" y="1017720"/>
            <a:ext cx="3584520" cy="3157560"/>
            <a:chOff x="4853160" y="1017720"/>
            <a:chExt cx="3584520" cy="3157560"/>
          </a:xfrm>
        </p:grpSpPr>
        <p:pic>
          <p:nvPicPr>
            <p:cNvPr id="444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3160" y="1017720"/>
              <a:ext cx="358452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929120" y="1071720"/>
              <a:ext cx="342900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6" name="Прямоугольник 10"/>
          <p:cNvGrpSpPr/>
          <p:nvPr/>
        </p:nvGrpSpPr>
        <p:grpSpPr>
          <a:xfrm>
            <a:off x="2494080" y="4230720"/>
            <a:ext cx="6516720" cy="2590920"/>
            <a:chOff x="2494080" y="4230720"/>
            <a:chExt cx="6516720" cy="2590920"/>
          </a:xfrm>
        </p:grpSpPr>
        <p:pic>
          <p:nvPicPr>
            <p:cNvPr id="447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494080" y="4230720"/>
              <a:ext cx="65167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571840" y="4286160"/>
              <a:ext cx="635796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Робота в груп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TextBox 7"/>
          <p:cNvSpPr/>
          <p:nvPr/>
        </p:nvSpPr>
        <p:spPr>
          <a:xfrm>
            <a:off x="285840" y="1214280"/>
            <a:ext cx="2500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654c"/>
                </a:solidFill>
                <a:latin typeface="Comic Sans MS"/>
              </a:rPr>
              <a:t>І груп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Дах будинку має форму рівнобедреного трикутника  (АВС) АВ=ВС=50 м., основа трикутника АС=28 м., ВК – висота даху. Знайти висоту дах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2786040" y="4429080"/>
            <a:ext cx="60721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654c"/>
                </a:solidFill>
                <a:latin typeface="Comic Sans MS"/>
              </a:rPr>
              <a:t>І</a:t>
            </a:r>
            <a:r>
              <a:rPr b="1" lang="uk-UA" sz="2800" spc="-1" strike="noStrike">
                <a:solidFill>
                  <a:srgbClr val="c0654c"/>
                </a:solidFill>
                <a:latin typeface="Arial"/>
              </a:rPr>
              <a:t>ІІ</a:t>
            </a:r>
            <a:r>
              <a:rPr b="1" lang="uk-UA" sz="2800" spc="-1" strike="noStrike">
                <a:solidFill>
                  <a:srgbClr val="c0654c"/>
                </a:solidFill>
                <a:latin typeface="Comic Sans MS"/>
              </a:rPr>
              <a:t> груп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На березі струмка, ширина якого 4 фути, ріс тополь. Порив вітру зломив його на висоті 3 фути від землі так, що його верхній кінець торкнувся другого берега струмка (стовбур направлений перпендикулярно течії). Визначити висоту топо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Box 9"/>
          <p:cNvSpPr/>
          <p:nvPr/>
        </p:nvSpPr>
        <p:spPr>
          <a:xfrm>
            <a:off x="4929120" y="1071720"/>
            <a:ext cx="2428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654c"/>
                </a:solidFill>
                <a:latin typeface="Comic Sans MS"/>
              </a:rPr>
              <a:t>ІІ груп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Драбину довжиною 13 м., приставили до стіни так, що відстань нижнього кінця драбини до стіни 5 м. На якій висоті від землі знаходиться кінець драбини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3" name="Picture 10" descr="http://festival.1september.ru/articles/534443/img2.jpg"/>
          <p:cNvPicPr/>
          <p:nvPr/>
        </p:nvPicPr>
        <p:blipFill>
          <a:blip r:embed="rId5"/>
          <a:stretch/>
        </p:blipFill>
        <p:spPr>
          <a:xfrm>
            <a:off x="285840" y="4357800"/>
            <a:ext cx="2112840" cy="233496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1"/>
          <p:cNvGrpSpPr/>
          <p:nvPr/>
        </p:nvGrpSpPr>
        <p:grpSpPr>
          <a:xfrm>
            <a:off x="6929280" y="2714760"/>
            <a:ext cx="2073600" cy="1642680"/>
            <a:chOff x="6929280" y="2714760"/>
            <a:chExt cx="2073600" cy="1642680"/>
          </a:xfrm>
        </p:grpSpPr>
        <p:sp>
          <p:nvSpPr>
            <p:cNvPr id="455" name="Text Box 12"/>
            <p:cNvSpPr/>
            <p:nvPr/>
          </p:nvSpPr>
          <p:spPr>
            <a:xfrm>
              <a:off x="6929280" y="4078800"/>
              <a:ext cx="28296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456" name="Рисунок 1" descr=""/>
            <p:cNvPicPr/>
            <p:nvPr/>
          </p:nvPicPr>
          <p:blipFill>
            <a:blip r:embed="rId6"/>
            <a:stretch/>
          </p:blipFill>
          <p:spPr>
            <a:xfrm>
              <a:off x="7590240" y="2714760"/>
              <a:ext cx="1412640" cy="142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Рисунок 1" descr=""/>
            <p:cNvPicPr/>
            <p:nvPr/>
          </p:nvPicPr>
          <p:blipFill>
            <a:blip r:embed="rId7"/>
            <a:srcRect l="0" t="0" r="344" b="0"/>
            <a:stretch/>
          </p:blipFill>
          <p:spPr>
            <a:xfrm>
              <a:off x="7055640" y="3024000"/>
              <a:ext cx="605520" cy="111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AutoShape 21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AutoShape 23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AutoShape 25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1" name="Picture 27" descr="http://www.metallprofil.ru/images/content/speed%20house/acerija/01.jpg"/>
          <p:cNvPicPr/>
          <p:nvPr/>
        </p:nvPicPr>
        <p:blipFill>
          <a:blip r:embed="rId8"/>
          <a:stretch/>
        </p:blipFill>
        <p:spPr>
          <a:xfrm>
            <a:off x="2639880" y="1206360"/>
            <a:ext cx="2097360" cy="1573200"/>
          </a:xfrm>
          <a:prstGeom prst="rect">
            <a:avLst/>
          </a:prstGeom>
          <a:ln w="0">
            <a:noFill/>
          </a:ln>
        </p:spPr>
      </p:pic>
      <p:sp>
        <p:nvSpPr>
          <p:cNvPr id="462" name="Равнобедренный треугольник 17"/>
          <p:cNvSpPr/>
          <p:nvPr/>
        </p:nvSpPr>
        <p:spPr>
          <a:xfrm>
            <a:off x="2571840" y="1428840"/>
            <a:ext cx="1571400" cy="1214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Прямоугольный треугольник 18"/>
          <p:cNvSpPr/>
          <p:nvPr/>
        </p:nvSpPr>
        <p:spPr>
          <a:xfrm flipH="1">
            <a:off x="6857280" y="2857680"/>
            <a:ext cx="785880" cy="1214280"/>
          </a:xfrm>
          <a:prstGeom prst="rtTriangl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Прямоугольный треугольник 19"/>
          <p:cNvSpPr/>
          <p:nvPr/>
        </p:nvSpPr>
        <p:spPr>
          <a:xfrm>
            <a:off x="785880" y="5643720"/>
            <a:ext cx="1428840" cy="571320"/>
          </a:xfrm>
          <a:prstGeom prst="rtTriangl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09:10:45Z</dcterms:created>
  <dc:creator>Admin</dc:creator>
  <dc:description/>
  <dc:language>en-US</dc:language>
  <cp:lastModifiedBy>Admin</cp:lastModifiedBy>
  <dcterms:modified xsi:type="dcterms:W3CDTF">2013-02-20T07:04:31Z</dcterms:modified>
  <cp:revision>34</cp:revision>
  <dc:subject/>
  <dc:title>Застосування подібності трикутників. Теорема Піфаго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1a000000000001024140</vt:lpwstr>
  </property>
</Properties>
</file>