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F55-AF7C-4CDE-A2AF-BD6CFA99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1C6-0D39-463D-BFCD-CCE909F0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583-C229-4ABA-B71D-CA07C209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97E-2351-40A8-A0A0-D83DC56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B66-800D-4F97-AF94-A3D457A4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377-4BB5-42D0-A616-6BF3E38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5192-7921-494D-B1DF-956C86F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C4E1-D0C0-4F71-B4BA-FBF2FD5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1C5-F117-4D6A-B592-9F5C96BB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0430-678F-4C18-966C-E50A6569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BC90-9433-4A1D-8AAA-47D0272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C2E-0DB3-429D-A727-A71F0BED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54CC-E426-4932-974C-649C02EC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FDE4-47A6-42B5-B852-04CB0D2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17D3-42EA-4741-9301-38458B6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81D9-5507-40C5-8EDE-43577B7A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F83-8C7F-4512-8025-706571AA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C0C-89DE-4C01-A79E-7B483569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F96-F537-4752-B3A4-8525B553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697-3670-4589-BE11-936DBA09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49C-CF92-4524-9D72-3E8A1438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B7B-87C5-40E7-B614-45A126B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BB2-047C-4A08-8762-F7B8796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365-3F28-4FC6-9B03-486A5CF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F3D3-2A64-46DD-93A9-7A2FC9EAF6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2D62-E899-45ED-B09F-705155012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машнє завдання:</a:t>
            </a:r>
            <a:br>
              <a:rPr sz="4400"/>
            </a:b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35 ( 2, 5, 9 ):  6,1;  4,98;  9,1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37 ( 2, 5, 8 ):  31,6;  0,6; 0, 03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51 ( 3 ): 16,74; 27,9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67( 3 ):  ( 15,2 + 7.8 ) + ( 3,71 + 4,29)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= 23 + 8 =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74 (3 ): 11,83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1838 році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Карл Брюллов намалював портрет Василя Жуковського, який розіграли в лотереї, з участю царської родини і Шевченка викупили з кріпацтв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74960" y="1981080"/>
            <a:ext cx="3586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арас Григорович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аписав багато віршів, поем, які є улюбленими творами мільйонів українців. «Кобзар» - книга, у якій зібрані найкращі його твори. Колись у давнину, це була рідкісна книга. Сім’я, яка мала « Кобзар», дуже цим пишалася. Вечорами до них сходилися люди і слухали  вірші поета.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4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Розв’язати задачу:</a:t>
            </a:r>
            <a:br>
              <a:rPr sz="4400"/>
            </a:b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Першого дня автомобіль проїхав 586,6 км, другого на 80,2 км менше, ніж першого, а третього на 240,6 км більше, ніж другого. Скільки всього кілометрів проїхав автомобіль за три дні?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Розв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яжіть рівняння:</a:t>
            </a:r>
            <a:r>
              <a:rPr b="1" lang="uk-UA" sz="4000" spc="-1" strike="noStrike">
                <a:solidFill>
                  <a:srgbClr val="c0c0c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) 2019,24 – ( х + 332,33 ) = 22,84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2) х – 28,43 = 150,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йдіть суму знайдених корені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Одним із найвідоміших творів Т. Г. Шевченка є «Заповіт». 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остав замість зірочок  цифри: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19040" y="2093760"/>
            <a:ext cx="55674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- 7,85*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ff99"/>
                </a:solidFill>
                <a:uFillTx/>
                <a:latin typeface="Arial"/>
              </a:rPr>
              <a:t>  </a:t>
            </a:r>
            <a:r>
              <a:rPr b="1" lang="uk-UA" sz="4400" spc="-1" strike="noStrike" u="sng">
                <a:solidFill>
                  <a:srgbClr val="ffff99"/>
                </a:solidFill>
                <a:uFillTx/>
                <a:latin typeface="Arial"/>
              </a:rPr>
              <a:t>2,*93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*,9*87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 останніх днів</a:t>
            </a:r>
            <a:r>
              <a:rPr b="1" lang="uk-UA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свого життя поет перебував під таємним наглядом поліції. Важко прожиті роки, сум за рідною землею, 10 років в засланнях підірвали здоров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я Тараса Григоровича. 10 березня 1861 року  Шевченко помер  в Петербурзі. Спочатку його там і поховали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« Заповіті» Шевченко писав: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Як умру, то похов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Мене на моги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Серед степу широ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а Вкраїні милій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0920" y="1447920"/>
            <a:ext cx="4213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 часом його заповіт було здійснено. Його перепоховали на Чернечій горі у Каневі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ial"/>
              </a:rPr>
              <a:t>Тема 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91440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5400" spc="-1" strike="noStrike">
                <a:solidFill>
                  <a:srgbClr val="ffff99"/>
                </a:solidFill>
                <a:latin typeface="Arial"/>
              </a:rPr>
              <a:t>Додавання та віднімання десяткових дробі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2286000"/>
            <a:ext cx="53337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 мене в сім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ї велик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В сім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ї вольній, нові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е забудьте пом’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яну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Незлим тихим сло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мистецької спадщини Т. Г. Шевченк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збереглося 835 творів живопису і графі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-15" b="0"/>
          <a:stretch/>
        </p:blipFill>
        <p:spPr>
          <a:xfrm>
            <a:off x="0" y="1981080"/>
            <a:ext cx="7238880" cy="4876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629400" cy="486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105000" y="609480"/>
            <a:ext cx="6039000" cy="497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24280" y="0"/>
            <a:ext cx="3803760" cy="4989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000840" y="0"/>
            <a:ext cx="3143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9 березня 2014 року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Виповнюється 200 років від дня народження видатного українського письменника, поета, художника Т.Г.Шевч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51  (3 ), №1255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64 ( достатній рівень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№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292 ( 3 ) ( високий рівень).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057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99"/>
                </a:solidFill>
                <a:latin typeface="Arial"/>
              </a:rPr>
              <a:t>Дякую всім за урок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Очікувані результати: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Узагальнимо і систематизуємо знання і вміння про: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520" y="23619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есяткові дроби, читання т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апис ї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закони додав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одавання і віднім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десяткових дроб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нтерактивна вправа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кінчити речення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Для того, щоб записати звичайний дріб, знаменник дробової частини якого є одиниця з кількома нулями у вигляді десяткового дробу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Розряди десяткового дробу (праворуч від коми) називаються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Переставна властивість додавання формулюється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Допишіть формули  ( а + в ) – с =  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                               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а – ( в + с ) = 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Якщо справа до десяткового дробу приписати нулі, то дріб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Щоб додати або відняти десяткові дроби потрібно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1. Прочитати десяткові дроб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3,4; 56,04; 23,004; 0,45; 0,006; 18,608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,088; 5,41;  104,43;   999,9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. До якого розряду належить підкреслена цифра в числі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12,38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6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5; 5,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4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; 1,845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6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9; 7,2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8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3; 76,0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9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6; 0,32</a:t>
            </a:r>
            <a:r>
              <a:rPr b="1" lang="uk-UA" sz="2800" spc="-1" strike="noStrike" u="sng">
                <a:solidFill>
                  <a:srgbClr val="ffff99"/>
                </a:solidFill>
                <a:uFillTx/>
                <a:latin typeface="Arial"/>
              </a:rPr>
              <a:t>1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8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3. Який з десяткових дробів більш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0,07 чи 20,7;  4,567 чи 4,64;  0,234 чи 0,24;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0,3 чи 0,301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. Обчисл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5 + 0,6;  0,34 + 0,45;  6,2 + 3,5;  2,8 + 7,2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4,32 + 3,5; 12 + 7,9;   0,5 + 0,2; 3,42 + 5, 58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7,02 + 1,4;  2,4 + 5,24;  0,1 + 0,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Гра</a:t>
            </a:r>
            <a:br>
              <a:rPr sz="4400"/>
            </a:br>
            <a:r>
              <a:rPr b="0" lang="uk-UA" sz="4000" spc="-1" strike="noStrike">
                <a:solidFill>
                  <a:srgbClr val="c1ff83"/>
                </a:solidFill>
                <a:latin typeface="Arial"/>
              </a:rPr>
              <a:t>«Відгадай задумане слово»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 – команда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10,8 + 0,306;  42,6 – 7,84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4,67 + 8,7; 76,4 – 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ІІ – команда: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9 + 2,43; 32 – 5,64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                      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86,6 + 3,41; 5,48 – 3,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найдіть пропущені числа у ланцюжку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Народився 9 березня 1814року в селі Моринцях на Київщині в родині кріпака. В цьому році Україна відзнача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200-річчя з дня народження Т.Г. Шевч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Незабаром їхня сім’я переїхала до сусіднього села Кирилівки. Нині це село Шевченково на Черкащин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57880" y="1295280"/>
            <a:ext cx="3786120" cy="47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0"/>
            <a:ext cx="8385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. Г. Шевчен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23920" y="228240"/>
            <a:ext cx="39625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 Кирилівці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в убогій хатині й минуло дитинство поета. Саме тут прокинулась у нього любов до книжки, малювання. Досить рано не стає батьків Тараса і хлопчик йде у найми до дяка: носить дрова; опалює школу, навчається і малює, а в 14 років він стає дворовим  слугою у поміщика Енгельгард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На Родину Т. Г. Шевченко."/>
          <p:cNvPicPr/>
          <p:nvPr/>
        </p:nvPicPr>
        <p:blipFill>
          <a:blip r:embed="rId1"/>
          <a:stretch/>
        </p:blipFill>
        <p:spPr>
          <a:xfrm>
            <a:off x="0" y="609480"/>
            <a:ext cx="4876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6T10:03:2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8000000000001024140</vt:lpwstr>
  </property>
  <property fmtid="{D5CDD505-2E9C-101B-9397-08002B2CF9AE}" pid="3" name="Version">
    <vt:r8>1</vt:r8>
  </property>
</Properties>
</file>