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15F-89FE-467D-BB29-9AD4BC18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D30-C4F7-4CD2-8568-81E78E15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AA0-32C0-4E50-BCC6-8524669A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3A3-9BA0-496B-845D-A2E06B1D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EAEA-0046-4E75-99DC-FA5EB5BA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93C3-9B85-48E4-AEF9-5A0A4AF5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4B5B-8373-4062-9071-C79299CF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2A2D-4C01-4317-AE48-8573C63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7D72-E0C2-4754-B03A-37583FA7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3E50-0867-4ABB-8889-DAAA8AE3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80FB-5B17-4A22-9C98-9DA4F530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96D-AF74-44FA-A7F6-AA393A7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7BE8-B975-411E-965A-BB06666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7E0-E279-4D90-8A0A-AC6AF3C6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45BF-9B86-4AD4-8131-478597D0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8D7B-2E7B-45E8-AB7B-081D9568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C98A-CB4A-4124-B213-F802CC56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2FA-9420-406B-8042-22507A74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2EB-4B49-49F6-AB97-662016BE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4FE-F6FC-4B29-B2E0-661908AD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DB6-0B47-4610-89CA-C45159E9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979-1B7B-47FF-83F7-4ED902B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5C2-B5AF-49BC-836A-B1626876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E25-34F7-4312-8132-8DD6672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28E0-EEBB-43D5-B612-0484DA628E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D350-5593-4A4F-8E29-CE2D6DC5DC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омашнє завдання:</a:t>
            </a:r>
            <a:br>
              <a:rPr sz="4400"/>
            </a:b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35 ( 2, 5, 9 ):  6,1;  4,98;  9,1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37 ( 2, 5, 8 ):  31,6;  0,6; 0, 03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51 ( 3 ): 16,74; 27,92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67( 3 ):  ( 15,2 + 7.8 ) + ( 3,71 + 4,29)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= 23 + 8 = 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74 (3 ): 11,8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 1838 році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Карл Брюллов намалював портрет Василя Жуковського, який розіграли в лотереї, з участю царської родини і Шевченка викупили з кріпацтв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74960" y="1981080"/>
            <a:ext cx="3586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Тарас Григорович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написав багато віршів, поем, які є улюбленими творами мільйонів українців. «Кобзар» - книга, у якій зібрані найкращі його твори. Колись у давнину, це була рідкісна книга. Сім’я, яка мала « Кобзар», дуже цим пишалася. Вечорами до них сходилися люди і слухали  вірші поета.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Розв’язати задачу:</a:t>
            </a:r>
            <a:br>
              <a:rPr sz="4400"/>
            </a:b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Першого дня автомобіль проїхав 586,6 км, другого на 80,2 км менше, ніж першого, а третього на 240,6 км більше, ніж другого. Скільки всього кілометрів проїхав автомобіль за три дні?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Роз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яжіть рівняння:</a:t>
            </a:r>
            <a:r>
              <a:rPr b="1" lang="uk-UA" sz="4000" spc="-1" strike="noStrike">
                <a:solidFill>
                  <a:srgbClr val="c0c0c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) 2019,24 – ( х + 332,33 ) = 22,84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2) х – 28,43 = 150,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йдіть суму знайдених корені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Одним із найвідоміших творів Т. Г. Шевченка є «Заповіт». 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остав замість зірочок  цифри: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19040" y="2093760"/>
            <a:ext cx="55674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- 7,85*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ff99"/>
                </a:solidFill>
                <a:uFillTx/>
                <a:latin typeface="Arial"/>
              </a:rPr>
              <a:t>  </a:t>
            </a:r>
            <a:r>
              <a:rPr b="1" lang="uk-UA" sz="4400" spc="-1" strike="noStrike" u="sng">
                <a:solidFill>
                  <a:srgbClr val="ffff99"/>
                </a:solidFill>
                <a:uFillTx/>
                <a:latin typeface="Arial"/>
              </a:rPr>
              <a:t>2,*93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*,9*8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о останніх днів</a:t>
            </a:r>
            <a:r>
              <a:rPr b="1" lang="uk-UA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свого життя поет перебував під таємним наглядом поліції. Важко прожиті роки, сум за рідною землею, 10 років в засланнях підірвали здоров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’я Тараса Григоровича. 10 березня 1861 року  Шевченко помер  в Петербурзі. Спочатку його там і поховали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 « Заповіті» Шевченко писав: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800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Як умру, то похов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Мене на моги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Серед степу широ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На Вкраїні милій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0920" y="1447920"/>
            <a:ext cx="4213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З часом його заповіт було здійснено. Його перепоховали на Чернечій горі у Каневі.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99"/>
                </a:solidFill>
                <a:latin typeface="Arial"/>
              </a:rPr>
              <a:t>Тема 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33720"/>
            <a:ext cx="91440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uk-UA" sz="5400" spc="-1" strike="noStrike">
                <a:solidFill>
                  <a:srgbClr val="ffff99"/>
                </a:solidFill>
                <a:latin typeface="Arial"/>
              </a:rPr>
              <a:t>Додавання та віднімання десяткових дробі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53337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І мене в сім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ї велик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В сім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ї вольній, нові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Не забудьте пом’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яну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Незлим тихим сло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 мистецької спадщини Т. Г. Шевченк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збереглося 835 творів живопису і графі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-15" b="0"/>
          <a:stretch/>
        </p:blipFill>
        <p:spPr>
          <a:xfrm>
            <a:off x="0" y="1981080"/>
            <a:ext cx="7238880" cy="4876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629400" cy="4867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105000" y="609480"/>
            <a:ext cx="6039000" cy="4972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3803760" cy="4989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000840" y="0"/>
            <a:ext cx="3143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9 березня 2014 року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Виповнюється 200 років від дня народження видатного українського письменника, поета, художника Т.Г.Шевч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51  (3 ), №1255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64 ( достатній рівень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92 ( 3 ) ( високий рівень).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99"/>
                </a:solidFill>
                <a:latin typeface="Arial"/>
              </a:rPr>
              <a:t>Дякую всім за урок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Очікувані результати: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Узагальнимо і систематизуємо знання і вміння про: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76520" y="23619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десяткові дроби, читання т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запис ї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закони додав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додавання і відніма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десяткових дроб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нтерактивна вправа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кінчити речення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Для того, щоб записати звичайний дріб, знаменник дробової частини якого є одиниця з кількома нулями у вигляді десяткового дробу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Розряди десяткового дробу (праворуч від коми) називаються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Переставна властивість додавання формулюєть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Допишіть формули  ( а + в ) – с =  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                               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а – ( в + с ) = 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Якщо справа до десяткового дробу приписати нулі, то дріб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Щоб додати або відняти десяткові дроби потрібно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1. Прочитати десяткові дроб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3,4; 56,04; 23,004; 0,45; 0,006; 18,608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6,088; 5,41;  104,43;   999,999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2. До якого розряду належить підкреслена цифра в числі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12,38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6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5; 5,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4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6; 1,845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6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9; 7,2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8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43; 76,0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9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6; 0,32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1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87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3. Який з десяткових дробів більш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20,07 чи 20,7;  4,567 чи 4,64;  0,234 чи 0,24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0,3 чи 0,301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4. Обчисли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5 + 0,6;  0,34 + 0,45;  6,2 + 3,5;  2,8 + 7,2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4,32 + 3,5; 12 + 7,9;   0,5 + 0,2; 3,42 + 5, 58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7,02 + 1,4;  2,4 + 5,24;  0,1 + 0,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Гра</a:t>
            </a:r>
            <a:br>
              <a:rPr sz="4400"/>
            </a:br>
            <a:r>
              <a:rPr b="0" lang="uk-UA" sz="4000" spc="-1" strike="noStrike">
                <a:solidFill>
                  <a:srgbClr val="c1ff83"/>
                </a:solidFill>
                <a:latin typeface="Arial"/>
              </a:rPr>
              <a:t>«Відгадай задумане слово»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І – команда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0,8 + 0,306;  42,6 – 7,84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4,67 + 8,7; 76,4 – 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ІІ – команда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9 + 2,43; 32 – 5,64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86,6 + 3,41; 5,48 – 3,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найдіть пропущені числа у ланцюжку: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5257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Народився 9 березня 1814року в селі Моринцях на Київщині в родині кріпака. В цьому році Україна відзнача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200-річчя з дня народження Т.Г. Шевч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Незабаром їхня сім’я переїхала до сусіднього села Кирилівки. Нині це село Шевченково на Черкащин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57880" y="1295280"/>
            <a:ext cx="3786120" cy="4724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0"/>
            <a:ext cx="83851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Т. Г. Шевчен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23920" y="228240"/>
            <a:ext cx="39625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 Кирилівці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в убогій хатині й минуло дитинство поета. Саме тут прокинулась у нього любов до книжки, малювання. Досить рано не стає батьків Тараса і хлопчик йде у найми до дяка: носить дрова; опалює школу, навчається і малює, а в 14 років він стає дворовим  слугою у поміщика Енгельгард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На Родину Т. Г. Шевченко."/>
          <p:cNvPicPr/>
          <p:nvPr/>
        </p:nvPicPr>
        <p:blipFill>
          <a:blip r:embed="rId1"/>
          <a:stretch/>
        </p:blipFill>
        <p:spPr>
          <a:xfrm>
            <a:off x="0" y="609480"/>
            <a:ext cx="4876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26T10:03:2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8000000000001024140</vt:lpwstr>
  </property>
  <property fmtid="{D5CDD505-2E9C-101B-9397-08002B2CF9AE}" pid="3" name="Version">
    <vt:r8>1</vt:r8>
  </property>
</Properties>
</file>