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9.jpeg" ContentType="image/jpeg"/>
  <Override PartName="/ppt/media/image44.wmf" ContentType="image/x-wmf"/>
  <Override PartName="/ppt/media/image43.wmf" ContentType="image/x-wmf"/>
  <Override PartName="/ppt/media/image15.png" ContentType="image/png"/>
  <Override PartName="/ppt/media/image55.wmf" ContentType="image/x-wmf"/>
  <Override PartName="/ppt/media/image29.wmf" ContentType="image/x-wmf"/>
  <Override PartName="/ppt/media/image3.jpeg" ContentType="image/jpeg"/>
  <Override PartName="/ppt/media/image28.wmf" ContentType="image/x-wmf"/>
  <Override PartName="/ppt/media/image16.png" ContentType="image/png"/>
  <Override PartName="/ppt/media/image56.wmf" ContentType="image/x-wmf"/>
  <Override PartName="/ppt/media/image18.wmf" ContentType="image/x-wmf"/>
  <Override PartName="/ppt/media/image2.jpeg" ContentType="image/jpeg"/>
  <Override PartName="/ppt/media/image60.wmf" ContentType="image/x-wmf"/>
  <Override PartName="/ppt/media/image17.png" ContentType="image/png"/>
  <Override PartName="/ppt/media/image57.wmf" ContentType="image/x-wmf"/>
  <Override PartName="/ppt/media/image20.wmf" ContentType="image/x-wmf"/>
  <Override PartName="/ppt/media/image63.png" ContentType="image/png"/>
  <Override PartName="/ppt/media/image67.png" ContentType="image/png"/>
  <Override PartName="/ppt/media/image24.wmf" ContentType="image/x-wmf"/>
  <Override PartName="/ppt/media/image6.jpeg" ContentType="image/jpeg"/>
  <Override PartName="/ppt/media/image58.wmf" ContentType="image/x-wmf"/>
  <Override PartName="/ppt/media/image66.png" ContentType="image/png"/>
  <Override PartName="/ppt/media/image27.wmf" ContentType="image/x-wmf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2.wmf" ContentType="image/x-wmf"/>
  <Override PartName="/ppt/media/image26.wmf" ContentType="image/x-wmf"/>
  <Override PartName="/ppt/media/image31.wmf" ContentType="image/x-wmf"/>
  <Override PartName="/ppt/media/image23.png" ContentType="image/png"/>
  <Override PartName="/ppt/media/image65.png" ContentType="image/png"/>
  <Override PartName="/ppt/media/image22.wmf" ContentType="image/x-wmf"/>
  <Override PartName="/ppt/media/image59.wmf" ContentType="image/x-wmf"/>
  <Override PartName="/ppt/media/image61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.wmf" ContentType="image/x-wmf"/>
  <Override PartName="/ppt/media/image13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12.jpeg" ContentType="image/jpe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png" ContentType="image/png"/>
  <Override PartName="/ppt/media/image3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EA2B-9A72-4E6A-91D1-E1E0F9FC6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D59-0EB1-47BD-B077-728D172E8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21D-116C-477F-95A6-A33BB0B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473-8274-4F31-AEDE-08AD1CD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86F-D128-4FE4-9131-CC540098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855-DB61-4789-A9F3-885E46B4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AF44-43BA-442E-BB22-B9E85EA2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EFAD-DA96-472D-BAD0-C17D408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0A34-F67E-40CB-8F64-47EECA2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7836-FC9B-42BB-B3FB-F3E5733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04E-C5C9-465B-B45A-4968819A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5B71-DADE-4971-9BDF-B90C9D1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AD7-D463-453D-B669-36C32C9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679-18C9-4760-A520-2809A89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87C-8E0D-4925-AF81-7CE3F52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C994-F1DA-4715-9466-4EDF31B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97D-2B58-4004-8B66-FA67A7A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E515-2ABD-4B4D-9A4A-C253B2F9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988-04D6-4305-AC24-2A4CA7F3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58A7-4A76-4868-A602-C7571451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5023-3DBA-42A4-8124-9714D094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5C4B-0CA1-4457-A13D-053D9F7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8768-2AB8-41C8-A279-ECD05B4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D72C-444D-442F-B66D-7E55ECE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B87-97D3-4E08-8753-B7F2AB0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3CC2-2501-4741-A200-3799D4E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29CC-4142-4ECF-8FC5-071D3CD1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38F8-2FE1-47E2-A5C3-E9CE817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75FD-E88E-4CE3-901E-B901625F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F27C-33FA-4F06-8D3B-DC0DF86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B473-2988-44D6-94E0-68922D49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EEE8-972B-4ABB-B9D8-47D5F32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9DD4-A08A-413C-A24D-6F430138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2450-4BC4-4170-B4DC-17F78F0B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B0B7-0209-4DFD-94FE-83A1448F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402-9E49-48D7-868D-B091409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74F2-10FD-4DEC-8FC9-AA27935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972B-A582-4945-9A66-F781B863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4BE1-B2D2-4450-8BDE-AFB6E3A6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3F69-53D1-4CEE-BD7F-0F00906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F756-A41D-47CE-AC9E-1EDDCB4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4A94-5D6E-45C4-96B2-362ADBC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29CB-A9AB-4BFC-99C5-16F55436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3CB5-F3F0-4DFB-BEA7-FFAAC3A5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3BFA-1AB9-43BD-8428-5EAF39D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054-AC64-4D9C-A895-F7619E48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D41-F0DB-4053-AFF4-12A8BB2A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0CF-F100-47BC-ABA5-BC8C9A2E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46A-0316-4B65-AE40-6CED7BC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0CB-88C5-4966-9B79-A301D59B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CA88-7E9B-4474-BBC4-6B0C28B45FC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E2E-AF8C-4F28-81AD-B4E369C08A5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BBD-CAEA-44F2-ADB1-DA288118B5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DDE8-086A-4A25-89E0-9653D98B8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rabota.ua/Info/Employer/post/2009/12/07/vam-neobhodim-buhgalter.aspx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4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Що 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2160360" cy="109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128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елект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напруг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 струм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ктричному колі з активним опоро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47ed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плануваль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для розраху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антаження верстаті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будівельник:</a:t>
            </a:r>
            <a:r>
              <a:rPr b="0" lang="ru-RU" sz="2400" spc="-1" strike="noStrike">
                <a:solidFill>
                  <a:srgbClr val="5347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, як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казу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ок між сил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деформацією будівельної конструкції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механі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рівноваги си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и важелів і пружи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Математик:</a:t>
            </a:r>
            <a:r>
              <a:rPr b="0" lang="ru-RU" sz="2400" spc="-1" strike="noStrike">
                <a:solidFill>
                  <a:srgbClr val="5347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 система двох лінійних рівня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 двома змінними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l_fi" descr=""/>
          <p:cNvPicPr/>
          <p:nvPr/>
        </p:nvPicPr>
        <p:blipFill>
          <a:blip r:embed="rId2"/>
          <a:stretch/>
        </p:blipFill>
        <p:spPr>
          <a:xfrm>
            <a:off x="6300720" y="5283360"/>
            <a:ext cx="1871640" cy="1574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8064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0" y="525096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32720" y="3284640"/>
            <a:ext cx="168732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0" y="4199040"/>
          <a:ext cx="1333440" cy="366480"/>
        </p:xfrm>
        <a:graphic>
          <a:graphicData uri="http://schemas.openxmlformats.org/drawingml/2006/table">
            <a:tbl>
              <a:tblPr/>
              <a:tblGrid>
                <a:gridCol w="679320"/>
                <a:gridCol w="6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1728720" cy="104436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6"/>
          </p:cNvPr>
          <p:cNvSpPr/>
          <p:nvPr/>
        </p:nvSpPr>
        <p:spPr>
          <a:xfrm>
            <a:off x="0" y="52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486480" y="907920"/>
            <a:ext cx="2657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е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йде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ідповід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6048360" cy="589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6048360" cy="5884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840280" y="2825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94836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576360" cy="34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692360" y="3933720"/>
            <a:ext cx="5760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озв'язати систему рівнянь графічним спосо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4248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23640" y="620640"/>
            <a:ext cx="85899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Графічний спосіб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ання системи рівнянь громіздкий і дає, як правило, наближені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ки. Тому частіше системи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ru-RU" sz="4400" spc="-1" strike="noStrike">
                <a:solidFill>
                  <a:srgbClr val="003399"/>
                </a:solidFill>
                <a:latin typeface="Calibri"/>
              </a:rPr>
              <a:t>язують іншими способами, зокрема способом підстановки</a:t>
            </a:r>
            <a:r>
              <a:rPr b="0" lang="ru-RU" sz="44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Алгоритм розв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`</a:t>
            </a: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язування системи рівнянь способом підстанов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1)Виразити з якого-небудь рівняння системи одну змінну через інш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2)Підставити в інше рівняння системи замість цієї змінної здобутий вир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Розв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язати утворене рівняння з однією змінно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4)Знайти відповідне значення другої змінно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5)Записати відповідь типу(х;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0000"/>
                </a:solidFill>
                <a:latin typeface="Calibri"/>
              </a:rPr>
              <a:t>Маємо систему рівнян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 першого рівняння виразимо у через х.                                 підставимо в друге рівняння системи замість у вираз 3-2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в'яжемо рівняння з однією змінно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йти з рівняння у=3-2х значення 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ідповідь: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657440" cy="91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519280" cy="963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2016360" cy="392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1081080" cy="387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2843280" y="3789360"/>
            <a:ext cx="576360" cy="39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1258920" y="4221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1187280" y="5229360"/>
            <a:ext cx="3168720" cy="444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1835280" y="5877000"/>
            <a:ext cx="79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Цим способом можна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ати будь-яку систему рівнянь з двома змінним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Найзручніше, коли  коефіцієнт при будь-якій змінній у рівнянні дорівнює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7859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озв'язати систему рівнянь способом підстан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Текст 2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2448000" cy="1258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476360" y="3860640"/>
            <a:ext cx="4535640" cy="129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782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Спосіб додаванн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При розв’язуванні системи рівнянь способом додавання треб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581f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81f7b"/>
                </a:solidFill>
                <a:latin typeface="Calibri"/>
              </a:rPr>
              <a:t>1) помножити обидві частини рівнянь системи на такі числа, щоб коефіцієнти при одному з невідомих стали протилежними (або рівними) числа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Calibri"/>
              </a:rPr>
              <a:t>2) почленно додати (або відняти) відповідно ліві й праві частини рівнян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3) розв’язати одержане рівняння з одним невідоми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b2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b252a"/>
                </a:solidFill>
                <a:latin typeface="Calibri"/>
              </a:rPr>
              <a:t>4) знайти відповідне значення іншого невідомого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33"/>
                </a:solidFill>
                <a:latin typeface="Calibri"/>
              </a:rPr>
              <a:t>5) Записати відповідь: (х;у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6439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Етапи розв'язання </a:t>
            </a:r>
            <a:r>
              <a:rPr b="0" lang="ru-RU" sz="3600" spc="-1" strike="noStrike">
                <a:solidFill>
                  <a:srgbClr val="5347ed"/>
                </a:solidFill>
                <a:latin typeface="Calibri"/>
              </a:rPr>
              <a:t>способ</a:t>
            </a: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ом додаванн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46836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Розв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язати систему рівня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1. Помножимо обидві частини рівнянь системи на такі числа, щоб коефіцієнти при одній зі змінних стали протилежними числами (перше рівняння помножимо на 4, друге - на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                                     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Маємо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 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2.Додати почл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рівняння систем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щоб в результаті дода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отримати одне рівня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з однією змінн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Calibri"/>
              </a:rPr>
              <a:t> 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7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1295280" cy="3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15127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356000" y="2781360"/>
            <a:ext cx="2160720" cy="93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826920" y="2852640"/>
            <a:ext cx="2089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2. Знайдіть корінь отриманого рівняння, тобто значення однієї з невідомих систе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3. Підставити здобуте значення однієї з невідомих в будь-яке з рівнянь системи: в результаті знову отримаємо рівняння з однією змінно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Підстановка в перше рівняння дає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Calibri"/>
              </a:rPr>
              <a:t>4.Знайти корені цього рівняння, тобто відповідні значення другої невідомої части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Calibri"/>
              </a:rPr>
              <a:t>5. Записати відповід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Calibri"/>
              </a:rPr>
              <a:t>Відповідь: (1;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9144000" y="4010040"/>
            <a:ext cx="46080" cy="750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647640" cy="3700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1547640" y="3645000"/>
            <a:ext cx="36673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151280" cy="473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55640" y="5084640"/>
            <a:ext cx="1297080" cy="451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4643280" y="1125360"/>
            <a:ext cx="100836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900000" y="5516640"/>
            <a:ext cx="792360" cy="45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826920" y="3429000"/>
            <a:ext cx="1657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11280" y="836640"/>
            <a:ext cx="763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зв'язування систем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х лінійних рівнянь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 двома змінним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84360" y="476280"/>
            <a:ext cx="39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 уроку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" y="5300640"/>
            <a:ext cx="91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Презентацію підготували вчитель ШЗШ №11 м. Шо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Сумської області Медвєдь Т.Г. та учні 7-Б класу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озв'язати систему рівнянь способом додав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943280" cy="971280"/>
          </a:xfrm>
          <a:prstGeom prst="rect">
            <a:avLst/>
          </a:prstGeom>
          <a:ln w="0">
            <a:noFill/>
          </a:ln>
        </p:spPr>
      </p:pic>
      <p:pic>
        <p:nvPicPr>
          <p:cNvPr id="303" name="Текст 2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1873440" cy="1816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435640" y="2349360"/>
            <a:ext cx="25718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Зрозумів! Уроком задоволений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1b0967"/>
                </a:solidFill>
                <a:latin typeface="Calibri"/>
              </a:rPr>
              <a:t>Не зовсім зрозумів, але хочу зрозумі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932968"/>
                </a:solidFill>
                <a:latin typeface="Calibri"/>
              </a:rPr>
              <a:t>Нічого не зрозумів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І не хочу розуміт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252440" cy="1295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282680" cy="136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287360" cy="1295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68360" y="4724280"/>
            <a:ext cx="1316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Повторити </a:t>
            </a:r>
            <a:r>
              <a:rPr b="1" lang="en-US" sz="3200" spc="-1" strike="noStrike">
                <a:solidFill>
                  <a:srgbClr val="5347ed"/>
                </a:solidFill>
                <a:latin typeface="Calibri"/>
              </a:rPr>
              <a:t>§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 26-28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№ 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1067(г), № 1106(б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№ 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1145(а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повторит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Calibri"/>
              </a:rPr>
              <a:t>§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 9,10 № 34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648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71640" y="2781360"/>
            <a:ext cx="7632720" cy="424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48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Дякуємо 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за увагу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1557360"/>
            <a:ext cx="7642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закріпити знання алгоритмів розв’язування систем лінійних рівнянь з двома змінними графічним способом, способом підстановки і дода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відпрацювати вміння і навички використання цих алгоритмів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систематизувати та узагальнити знання про різні способи розв’язування систем рівня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ацювати з програмою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ower Point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езентувати свою роботу зрозуміло і чітк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ацювати самостійно і в колектив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підготуватися до вивчення наступ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3616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 Unicode MS"/>
              </a:rPr>
              <a:t>Мета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840" y="40464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1. Розв’язком якої з систем рівнянь є пара чисел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40720" y="404640"/>
            <a:ext cx="865080" cy="452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120" y="860400"/>
            <a:ext cx="2187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А)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Б)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В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1511280" cy="1008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1584360" cy="939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151272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55640" y="4292640"/>
            <a:ext cx="1657440" cy="981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572000" y="2852640"/>
            <a:ext cx="290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26028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2. На якому з рисунків схематично зображ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графік рівняння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                                               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38520" y="658800"/>
            <a:ext cx="1295280" cy="45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2198520" cy="2232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93760" y="357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619280" y="3645000"/>
            <a:ext cx="210168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10520" y="35733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867280" y="3789360"/>
            <a:ext cx="212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3480" y="333360"/>
            <a:ext cx="8198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3. Знайдіть значення функції      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що відповідає значенню аргументу 3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 2;       Б) 2,5;      В) -2;      Г) -2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4. На рисунку зображено графік лінійної функції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Які знаки мають коефіцієнти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і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Г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087640" cy="554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1655640" cy="439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116000" y="3645000"/>
            <a:ext cx="1728720" cy="458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116000" y="4365720"/>
            <a:ext cx="1728720" cy="458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116000" y="5084640"/>
            <a:ext cx="1700280" cy="459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3492360" y="3141720"/>
            <a:ext cx="3167280" cy="29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5148360" y="2608200"/>
            <a:ext cx="311040" cy="35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5724360" y="2513160"/>
            <a:ext cx="2955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11280" y="0"/>
            <a:ext cx="8353440" cy="2736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пособи розв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зання систем лінійн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 рівнянь з двома змінн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3213000"/>
            <a:ext cx="3167280" cy="180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Граф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4724280"/>
            <a:ext cx="3166920" cy="180036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посі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ід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77080" y="3068640"/>
            <a:ext cx="3166920" cy="18003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Спосі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дода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2637000"/>
            <a:ext cx="50328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050560" y="2637000"/>
            <a:ext cx="28908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852640"/>
            <a:ext cx="0" cy="18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рафічний спосіб розв'язування систем рівня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будувати в одній системі координат графік кожного з рівнянь систем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виразити    через     у кожному рівнян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обудувати і заповнити таблицю знач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означити на координатній площині дві т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провести через них пряму - це графік рівня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найти координати точки перетину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Записати відповідь:                        або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588000" y="5516640"/>
            <a:ext cx="936720" cy="517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067280" y="5661000"/>
            <a:ext cx="1873080" cy="39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476360" y="3357720"/>
            <a:ext cx="325440" cy="358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328320" cy="360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403280" y="3860640"/>
            <a:ext cx="365040" cy="43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2268360" y="2421000"/>
            <a:ext cx="304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258920" y="37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300720" y="5157720"/>
            <a:ext cx="86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зв'язати систему рівнянь графічни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разимо у через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овнимо таблиц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чимо точки на координатній прям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мо графіки рівня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йдемо точку пере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1224000" cy="435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1441440" cy="824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00720" y="1508040"/>
            <a:ext cx="14396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332000" y="3141720"/>
          <a:ext cx="1942920" cy="1035000"/>
        </p:xfrm>
        <a:graphic>
          <a:graphicData uri="http://schemas.openxmlformats.org/drawingml/2006/table">
            <a:tbl>
              <a:tblPr/>
              <a:tblGrid>
                <a:gridCol w="647280"/>
                <a:gridCol w="64800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3280" y="3141720"/>
          <a:ext cx="2089440" cy="103500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4788000" y="3284640"/>
            <a:ext cx="32688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4788000" y="3716280"/>
            <a:ext cx="304560" cy="36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476360" y="371628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0:16:07Z</dcterms:created>
  <dc:creator>Home</dc:creator>
  <dc:description/>
  <dc:language>en-US</dc:language>
  <cp:lastModifiedBy>Home</cp:lastModifiedBy>
  <dcterms:modified xsi:type="dcterms:W3CDTF">2014-03-24T20:24:03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a000000000001024140</vt:lpwstr>
  </property>
</Properties>
</file>