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9.jpeg" ContentType="image/jpeg"/>
  <Override PartName="/ppt/media/image44.wmf" ContentType="image/x-wmf"/>
  <Override PartName="/ppt/media/image43.wmf" ContentType="image/x-wmf"/>
  <Override PartName="/ppt/media/image15.png" ContentType="image/png"/>
  <Override PartName="/ppt/media/image55.wmf" ContentType="image/x-wmf"/>
  <Override PartName="/ppt/media/image29.wmf" ContentType="image/x-wmf"/>
  <Override PartName="/ppt/media/image3.jpeg" ContentType="image/jpeg"/>
  <Override PartName="/ppt/media/image28.wmf" ContentType="image/x-wmf"/>
  <Override PartName="/ppt/media/image16.png" ContentType="image/png"/>
  <Override PartName="/ppt/media/image56.wmf" ContentType="image/x-wmf"/>
  <Override PartName="/ppt/media/image18.wmf" ContentType="image/x-wmf"/>
  <Override PartName="/ppt/media/image2.jpeg" ContentType="image/jpeg"/>
  <Override PartName="/ppt/media/image60.wmf" ContentType="image/x-wmf"/>
  <Override PartName="/ppt/media/image17.png" ContentType="image/png"/>
  <Override PartName="/ppt/media/image57.wmf" ContentType="image/x-wmf"/>
  <Override PartName="/ppt/media/image20.wmf" ContentType="image/x-wmf"/>
  <Override PartName="/ppt/media/image63.png" ContentType="image/png"/>
  <Override PartName="/ppt/media/image67.png" ContentType="image/png"/>
  <Override PartName="/ppt/media/image24.wmf" ContentType="image/x-wmf"/>
  <Override PartName="/ppt/media/image6.jpeg" ContentType="image/jpeg"/>
  <Override PartName="/ppt/media/image58.wmf" ContentType="image/x-wmf"/>
  <Override PartName="/ppt/media/image66.png" ContentType="image/png"/>
  <Override PartName="/ppt/media/image27.wmf" ContentType="image/x-wmf"/>
  <Override PartName="/ppt/media/image68.png" ContentType="image/png"/>
  <Override PartName="/ppt/media/image25.wmf" ContentType="image/x-wmf"/>
  <Override PartName="/ppt/media/image21.wmf" ContentType="image/x-wmf"/>
  <Override PartName="/ppt/media/image64.png" ContentType="image/png"/>
  <Override PartName="/ppt/media/image62.wmf" ContentType="image/x-wmf"/>
  <Override PartName="/ppt/media/image26.wmf" ContentType="image/x-wmf"/>
  <Override PartName="/ppt/media/image31.wmf" ContentType="image/x-wmf"/>
  <Override PartName="/ppt/media/image23.png" ContentType="image/png"/>
  <Override PartName="/ppt/media/image65.png" ContentType="image/png"/>
  <Override PartName="/ppt/media/image22.wmf" ContentType="image/x-wmf"/>
  <Override PartName="/ppt/media/image59.wmf" ContentType="image/x-wmf"/>
  <Override PartName="/ppt/media/image61.wmf" ContentType="image/x-wmf"/>
  <Override PartName="/ppt/media/image5.jpeg" ContentType="image/jpeg"/>
  <Override PartName="/ppt/media/image11.wmf" ContentType="image/x-wmf"/>
  <Override PartName="/ppt/media/image48.wmf" ContentType="image/x-wmf"/>
  <Override PartName="/ppt/media/image14.png" ContentType="image/png"/>
  <Override PartName="/ppt/media/image54.wmf" ContentType="image/x-wmf"/>
  <Override PartName="/ppt/media/image9.wmf" ContentType="image/x-wmf"/>
  <Override PartName="/ppt/media/image39.wmf" ContentType="image/x-wmf"/>
  <Override PartName="/ppt/media/image19.wmf" ContentType="image/x-wmf"/>
  <Override PartName="/ppt/media/image7.wmf" ContentType="image/x-wmf"/>
  <Override PartName="/ppt/media/image1.wmf" ContentType="image/x-wmf"/>
  <Override PartName="/ppt/media/image13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12.jpeg" ContentType="image/jpeg"/>
  <Override PartName="/ppt/media/image30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png" ContentType="image/png"/>
  <Override PartName="/ppt/media/image36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3CCD-A243-4EC0-97E9-27C45FA174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3CAC-D313-43F9-B409-20225A2739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257-8A35-49A4-8C37-61F3E1DC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D45-201D-4437-B83D-27F5DDF8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CAF4-1FF5-4317-95DB-4D6F63A8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E0AF-E590-41A6-9AE5-F3AB1836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2048-A689-41C2-88BD-1B19A09C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C49A-655B-4620-A8DE-E100581F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A5D1-A885-4A51-B591-50B35D39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3DF7-8D40-4E16-88D3-137907A0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4618-7338-494B-85C5-209859A7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6B37-B734-4FEF-8D6C-F47B7A07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B4C4-39DC-4DC7-9CD5-F2B85543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4B00-245C-4096-B783-3E7F9B68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1E10-179E-46BB-821D-500FD40F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E478-29C5-42B0-B350-BD0A9342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8778-F29A-4DB4-90E8-C7A17C7E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F18B-8CDC-4687-9036-3C92D296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896D-01B3-4272-BF58-92386AC0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80066-47B6-4CB4-9679-DE48239F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55F89-D73A-41A9-A121-4E4F4025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D84F4-095D-4FD1-B38E-92566223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A2CBD-01A2-4BB3-B5E2-735B6619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D1DB1-962A-45DD-9003-114CFB84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B45D-CD00-412D-8FE0-E02CE73D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C583E-E69E-4CF6-9C67-968D8203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2C8DA-0D92-42BA-8CCF-B22F48A5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5AFBC-4A7D-4D27-A23C-15CEB79C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BFC8C-928A-4023-9904-F474EB0D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65744-0445-403D-91FC-C295BCA1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EA8DC-4FDB-4A7A-A495-30525D76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308AB-78CB-44BC-89AE-4502EBCD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2D5EF-5B47-4C92-AC0D-2CD74491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0CFC2-B6A2-462A-89DD-955F8140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FD195-7E54-4787-93A1-6D37CE46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F18-3752-4878-97FD-899133AF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9524C-0384-4ADC-BF4E-CFE63CAB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E5791-01AC-4712-92F8-EFA7C9FD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4F918-12E2-4611-8489-7BC4ADE3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58E9A-AC70-4947-9686-E47351F4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7563A-5005-45B9-924F-5459B8EB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2FAED-35B3-46E8-ADFE-1D5BA090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89001-147A-4E1A-9441-1FA30E40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C6FF3-9C0D-4618-A8E6-E4C65AA7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7A674-9413-465D-9055-6E1C18A0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828-5533-4297-8365-2D5FC4A0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FD1-76E6-4141-8FCB-0E56B93D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817-735E-436C-B095-AE377E19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4AE-879C-40D1-BF46-329BD434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E78-D367-4D77-8477-0D0EB518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07B8-65AF-4F64-AAE8-B903F275CBDF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C123-1CF6-4273-909E-85EF5B66E0DC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0160-13F1-474C-B426-905A4D529B2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2277-DBDB-42DD-94D5-CA6D8DB0C0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http://rabota.ua/Info/Employer/post/2009/12/07/vam-neobhodim-buhgalter.aspx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2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4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image" Target="../media/image59.wmf"/><Relationship Id="rId7" Type="http://schemas.openxmlformats.org/officeDocument/2006/relationships/image" Target="../media/image60.wmf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3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2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Що ц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2160360" cy="1095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9280" y="128916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47ed"/>
                </a:solidFill>
                <a:latin typeface="Arial"/>
              </a:rPr>
              <a:t>Інженер-електр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Це рівняння напруг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бо струму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лектричному колі з активним опором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347ed"/>
                </a:solidFill>
                <a:latin typeface="Arial"/>
              </a:rPr>
              <a:t>                       </a:t>
            </a:r>
            <a:r>
              <a:rPr b="1" lang="ru-RU" sz="2400" spc="-1" strike="noStrike">
                <a:solidFill>
                  <a:srgbClr val="5347ed"/>
                </a:solidFill>
                <a:latin typeface="Arial"/>
              </a:rPr>
              <a:t>Інженер-планувальн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Це рівняння для розрахун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антаження верстатів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47ed"/>
                </a:solidFill>
                <a:latin typeface="Arial"/>
              </a:rPr>
              <a:t>Інженер-будівельник:</a:t>
            </a:r>
            <a:r>
              <a:rPr b="0" lang="ru-RU" sz="2400" spc="-1" strike="noStrike">
                <a:solidFill>
                  <a:srgbClr val="5347e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Це рівняння, яке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казу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ок між сило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 деформацією будівельної конструкції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47ed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5347ed"/>
                </a:solidFill>
                <a:latin typeface="Arial"/>
              </a:rPr>
              <a:t>Інженер-механі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Це рівняння рівноваги си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и важелів і пружин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47ed"/>
                </a:solidFill>
                <a:latin typeface="Arial"/>
              </a:rPr>
              <a:t>Математик:</a:t>
            </a:r>
            <a:r>
              <a:rPr b="0" lang="ru-RU" sz="2400" spc="-1" strike="noStrike">
                <a:solidFill>
                  <a:srgbClr val="5347e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Це  система двох лінійних рівня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 двома змінними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l_fi" descr=""/>
          <p:cNvPicPr/>
          <p:nvPr/>
        </p:nvPicPr>
        <p:blipFill>
          <a:blip r:embed="rId2"/>
          <a:stretch/>
        </p:blipFill>
        <p:spPr>
          <a:xfrm>
            <a:off x="6300720" y="5283360"/>
            <a:ext cx="1871640" cy="1574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39640" y="4653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18064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0" y="525096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732720" y="3284640"/>
            <a:ext cx="1687320" cy="154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0" y="4199040"/>
          <a:ext cx="1333440" cy="366480"/>
        </p:xfrm>
        <a:graphic>
          <a:graphicData uri="http://schemas.openxmlformats.org/drawingml/2006/table">
            <a:tbl>
              <a:tblPr/>
              <a:tblGrid>
                <a:gridCol w="679320"/>
                <a:gridCol w="654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250920" y="2421000"/>
            <a:ext cx="1728720" cy="104436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rId6"/>
          </p:cNvPr>
          <p:cNvSpPr/>
          <p:nvPr/>
        </p:nvSpPr>
        <p:spPr>
          <a:xfrm>
            <a:off x="0" y="52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6486480" y="907920"/>
            <a:ext cx="265752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"/>
                                        <p:tgtEl>
                                          <p:spTgt spid="1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де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фі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івня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йде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т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ідповідь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6048360" cy="5894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771640" y="476280"/>
            <a:ext cx="6048360" cy="5884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840280" y="2825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948360" y="285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826920" y="3645000"/>
            <a:ext cx="576360" cy="34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1692360" y="3933720"/>
            <a:ext cx="57600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Розв'язати систему рівнянь графічним способ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42483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23640" y="620640"/>
            <a:ext cx="858996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3399"/>
                </a:solidFill>
                <a:latin typeface="Calibri"/>
              </a:rPr>
              <a:t>Графічний спосіб розв</a:t>
            </a:r>
            <a:r>
              <a:rPr b="0" i="1" lang="en-US" sz="4400" spc="-1" strike="noStrike">
                <a:solidFill>
                  <a:srgbClr val="003399"/>
                </a:solidFill>
                <a:latin typeface="Calibri"/>
              </a:rPr>
              <a:t>`</a:t>
            </a:r>
            <a:r>
              <a:rPr b="0" i="1" lang="uk-UA" sz="4400" spc="-1" strike="noStrike">
                <a:solidFill>
                  <a:srgbClr val="003399"/>
                </a:solidFill>
                <a:latin typeface="Calibri"/>
              </a:rPr>
              <a:t>язання системи рівнянь громіздкий і дає, як правило, наближені розв</a:t>
            </a:r>
            <a:r>
              <a:rPr b="0" i="1" lang="en-US" sz="4400" spc="-1" strike="noStrike">
                <a:solidFill>
                  <a:srgbClr val="003399"/>
                </a:solidFill>
                <a:latin typeface="Calibri"/>
              </a:rPr>
              <a:t>`</a:t>
            </a:r>
            <a:r>
              <a:rPr b="0" i="1" lang="uk-UA" sz="4400" spc="-1" strike="noStrike">
                <a:solidFill>
                  <a:srgbClr val="003399"/>
                </a:solidFill>
                <a:latin typeface="Calibri"/>
              </a:rPr>
              <a:t>язки. Тому частіше системи розв</a:t>
            </a:r>
            <a:r>
              <a:rPr b="0" i="1" lang="en-US" sz="4400" spc="-1" strike="noStrike">
                <a:solidFill>
                  <a:srgbClr val="003399"/>
                </a:solidFill>
                <a:latin typeface="Calibri"/>
              </a:rPr>
              <a:t>`</a:t>
            </a:r>
            <a:r>
              <a:rPr b="0" i="1" lang="ru-RU" sz="4400" spc="-1" strike="noStrike">
                <a:solidFill>
                  <a:srgbClr val="003399"/>
                </a:solidFill>
                <a:latin typeface="Calibri"/>
              </a:rPr>
              <a:t>язують іншими способами, зокрема способом підстановки</a:t>
            </a:r>
            <a:r>
              <a:rPr b="0" lang="ru-RU" sz="4400" spc="-1" strike="noStrike">
                <a:solidFill>
                  <a:srgbClr val="003399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Алгоритм розв</a:t>
            </a:r>
            <a:r>
              <a:rPr b="0" i="1" lang="en-US" sz="4000" spc="-1" strike="noStrike">
                <a:solidFill>
                  <a:srgbClr val="ff0000"/>
                </a:solidFill>
                <a:latin typeface="Calibri"/>
              </a:rPr>
              <a:t>`</a:t>
            </a: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язування системи рівнянь способом підстановк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1)Виразити з якого-небудь рівняння системи одну змінну через інш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2)Підставити в інше рівняння системи замість цієї змінної здобутий вираз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3)Розв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язати утворене рівняння з однією змінно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4)Знайти відповідне значення другої змінно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5)Записати відповідь типу(х;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0000"/>
                </a:solidFill>
                <a:latin typeface="Calibri"/>
              </a:rPr>
              <a:t>Маємо систему рівнян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 першого рівняння виразимо у через х.                                 підставимо в друге рівняння системи замість у вираз 3-2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зв'яжемо рівняння з однією змінно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йти з рівняння у=3-2х значення у п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=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7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ідповідь: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1657440" cy="917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2519280" cy="963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1187280" y="3357720"/>
            <a:ext cx="2016360" cy="392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1187280" y="3789360"/>
            <a:ext cx="1081080" cy="387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2843280" y="3789360"/>
            <a:ext cx="576360" cy="399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6"/>
          <a:stretch/>
        </p:blipFill>
        <p:spPr>
          <a:xfrm>
            <a:off x="1258920" y="422100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7"/>
          <a:stretch/>
        </p:blipFill>
        <p:spPr>
          <a:xfrm>
            <a:off x="1187280" y="5229360"/>
            <a:ext cx="3168720" cy="444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8"/>
          <a:stretch/>
        </p:blipFill>
        <p:spPr>
          <a:xfrm>
            <a:off x="1835280" y="5877000"/>
            <a:ext cx="79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68360" y="836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3399"/>
                </a:solidFill>
                <a:latin typeface="Calibri"/>
              </a:rPr>
              <a:t>Цим способом можна розв</a:t>
            </a:r>
            <a:r>
              <a:rPr b="0" i="1" lang="en-US" sz="4400" spc="-1" strike="noStrike">
                <a:solidFill>
                  <a:srgbClr val="003399"/>
                </a:solidFill>
                <a:latin typeface="Calibri"/>
              </a:rPr>
              <a:t>`</a:t>
            </a:r>
            <a:r>
              <a:rPr b="0" i="1" lang="uk-UA" sz="4400" spc="-1" strike="noStrike">
                <a:solidFill>
                  <a:srgbClr val="003399"/>
                </a:solidFill>
                <a:latin typeface="Calibri"/>
              </a:rPr>
              <a:t>язати будь-яку систему рівнянь з двома змінними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3399"/>
                </a:solidFill>
                <a:latin typeface="Calibri"/>
              </a:rPr>
              <a:t>Найзручніше, коли  коефіцієнт при будь-якій змінній у рівнянні дорівнює 1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78598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Розв'язати систему рівнянь способом підстанов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Текст 2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2448000" cy="1258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1476360" y="3860640"/>
            <a:ext cx="4535640" cy="1295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2782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10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Calibri"/>
              </a:rPr>
              <a:t>Спосіб додавання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uk-UA" sz="2800" spc="-1" strike="noStrike">
                <a:solidFill>
                  <a:srgbClr val="002060"/>
                </a:solidFill>
                <a:latin typeface="Calibri"/>
              </a:rPr>
              <a:t>При розв’язуванні системи рівнянь способом додавання треба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581f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581f7b"/>
                </a:solidFill>
                <a:latin typeface="Calibri"/>
              </a:rPr>
              <a:t>1) помножити обидві частини рівнянь системи на такі числа, щоб коефіцієнти при одному з невідомих стали протилежними (або рівними) числами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d0d0d"/>
                </a:solidFill>
                <a:latin typeface="Calibri"/>
              </a:rPr>
              <a:t>2) почленно додати (або відняти) відповідно ліві й праві частини рівнянь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alibri"/>
              </a:rPr>
              <a:t>3) розв’язати одержане рівняння з одним невідомим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2b2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b252a"/>
                </a:solidFill>
                <a:latin typeface="Calibri"/>
              </a:rPr>
              <a:t>4) знайти відповідне значення іншого невідомого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0033"/>
                </a:solidFill>
                <a:latin typeface="Calibri"/>
              </a:rPr>
              <a:t>5) Записати відповідь: (х;у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5" dur="1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6439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347ed"/>
                </a:solidFill>
                <a:latin typeface="Calibri"/>
              </a:rPr>
              <a:t>Етапи розв'язання </a:t>
            </a:r>
            <a:r>
              <a:rPr b="0" lang="ru-RU" sz="3600" spc="-1" strike="noStrike">
                <a:solidFill>
                  <a:srgbClr val="5347ed"/>
                </a:solidFill>
                <a:latin typeface="Calibri"/>
              </a:rPr>
              <a:t>способ</a:t>
            </a:r>
            <a:r>
              <a:rPr b="0" lang="uk-UA" sz="3600" spc="-1" strike="noStrike">
                <a:solidFill>
                  <a:srgbClr val="5347ed"/>
                </a:solidFill>
                <a:latin typeface="Calibri"/>
              </a:rPr>
              <a:t>ом додавання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Содержимое 2"/>
          <p:cNvSpPr/>
          <p:nvPr/>
        </p:nvSpPr>
        <p:spPr>
          <a:xfrm>
            <a:off x="46836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Розв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язати систему рівня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1. Помножимо обидві частини рівнянь системи на такі числа, щоб коефіцієнти при одній зі змінних стали протилежними числами (перше рівняння помножимо на 4, друге - на 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                                      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Маємо: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 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2.Додати почл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рівняння системи т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щоб в результаті додав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отримати одне рівня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з однією змінно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Calibri"/>
              </a:rPr>
              <a:t> 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pic>
        <p:nvPicPr>
          <p:cNvPr id="288" name="Содержимое 7" descr=""/>
          <p:cNvPicPr/>
          <p:nvPr/>
        </p:nvPicPr>
        <p:blipFill>
          <a:blip r:embed="rId2"/>
          <a:stretch/>
        </p:blipFill>
        <p:spPr>
          <a:xfrm>
            <a:off x="4500720" y="3716280"/>
            <a:ext cx="1295280" cy="3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4572000" y="765000"/>
            <a:ext cx="1512720" cy="7779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356000" y="2781360"/>
            <a:ext cx="2160720" cy="9367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>
            <a:off x="826920" y="2852640"/>
            <a:ext cx="208944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5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5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5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534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347ed"/>
                </a:solidFill>
                <a:latin typeface="Calibri"/>
              </a:rPr>
              <a:t>2. Знайдіть корінь отриманого рівняння, тобто значення однієї з невідомих систем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534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534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347ed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5347ed"/>
                </a:solidFill>
                <a:latin typeface="Calibri"/>
              </a:rPr>
              <a:t>3. Підставити здобуте значення однієї з невідомих в будь-яке з рівнянь системи: в результаті знову отримаємо рівняння з однією змінною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347ed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5347ed"/>
                </a:solidFill>
                <a:latin typeface="Calibri"/>
              </a:rPr>
              <a:t>Підстановка в перше рівняння дає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00080"/>
                </a:solidFill>
                <a:latin typeface="Calibri"/>
              </a:rPr>
              <a:t>4.Знайти корені цього рівняння, тобто відповідні значення другої невідомої частин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60093"/>
                </a:solidFill>
                <a:latin typeface="Calibri"/>
              </a:rPr>
              <a:t>5. Записати відповід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60093"/>
                </a:solidFill>
                <a:latin typeface="Calibri"/>
              </a:rPr>
              <a:t>Відповідь: (1;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3" name="Object 2" descr=""/>
          <p:cNvPicPr/>
          <p:nvPr/>
        </p:nvPicPr>
        <p:blipFill>
          <a:blip r:embed="rId1"/>
          <a:stretch/>
        </p:blipFill>
        <p:spPr>
          <a:xfrm>
            <a:off x="9144000" y="4010040"/>
            <a:ext cx="46080" cy="750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647640" cy="3700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4"/>
          <p:cNvSpPr/>
          <p:nvPr/>
        </p:nvSpPr>
        <p:spPr>
          <a:xfrm>
            <a:off x="1547640" y="3645000"/>
            <a:ext cx="366732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826920" y="4581360"/>
            <a:ext cx="1151280" cy="4734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755640" y="5084640"/>
            <a:ext cx="1297080" cy="4510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4643280" y="1125360"/>
            <a:ext cx="1008360" cy="3286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900000" y="5516640"/>
            <a:ext cx="792360" cy="4507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7"/>
          <a:stretch/>
        </p:blipFill>
        <p:spPr>
          <a:xfrm>
            <a:off x="826920" y="3429000"/>
            <a:ext cx="1657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11280" y="836640"/>
            <a:ext cx="763272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зв'язування систем 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вох лінійних рівнянь 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 двома змінними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484360" y="476280"/>
            <a:ext cx="3959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ема уроку: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120" y="5300640"/>
            <a:ext cx="915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Презентацію підготували вчитель ШЗШ №11 м. Шос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Сумської області Медвєдь Т.Г. та учні 7-Б класу</a:t>
            </a:r>
            <a:r>
              <a:rPr b="1" lang="uk-UA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Розв'язати систему рівнянь способом додаванн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а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б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1943280" cy="971280"/>
          </a:xfrm>
          <a:prstGeom prst="rect">
            <a:avLst/>
          </a:prstGeom>
          <a:ln w="0">
            <a:noFill/>
          </a:ln>
        </p:spPr>
      </p:pic>
      <p:pic>
        <p:nvPicPr>
          <p:cNvPr id="303" name="Текст 2" descr=""/>
          <p:cNvPicPr/>
          <p:nvPr/>
        </p:nvPicPr>
        <p:blipFill>
          <a:blip r:embed="rId2"/>
          <a:stretch/>
        </p:blipFill>
        <p:spPr>
          <a:xfrm>
            <a:off x="1403280" y="3429000"/>
            <a:ext cx="1873440" cy="18162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435640" y="2349360"/>
            <a:ext cx="25718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Зрозумів! Уроком задоволений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r>
              <a:rPr b="1" lang="en-US" sz="2400" spc="-1" strike="noStrike">
                <a:solidFill>
                  <a:srgbClr val="1b0967"/>
                </a:solidFill>
                <a:latin typeface="Calibri"/>
              </a:rPr>
              <a:t>Не зовсім зрозумів, але хочу зрозуміт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r>
              <a:rPr b="1" lang="en-US" sz="2400" spc="-1" strike="noStrike">
                <a:solidFill>
                  <a:srgbClr val="932968"/>
                </a:solidFill>
                <a:latin typeface="Calibri"/>
              </a:rPr>
              <a:t>Нічого не зрозумів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І не хочу розуміти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1252440" cy="12952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1282680" cy="1368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68360" y="3284640"/>
            <a:ext cx="1287360" cy="12952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468360" y="4724280"/>
            <a:ext cx="13161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34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347ed"/>
                </a:solidFill>
                <a:latin typeface="Calibri"/>
              </a:rPr>
              <a:t>Повторити </a:t>
            </a:r>
            <a:r>
              <a:rPr b="1" lang="en-US" sz="3200" spc="-1" strike="noStrike">
                <a:solidFill>
                  <a:srgbClr val="5347ed"/>
                </a:solidFill>
                <a:latin typeface="Calibri"/>
              </a:rPr>
              <a:t>§</a:t>
            </a:r>
            <a:r>
              <a:rPr b="1" lang="uk-UA" sz="3200" spc="-1" strike="noStrike">
                <a:solidFill>
                  <a:srgbClr val="5347ed"/>
                </a:solidFill>
                <a:latin typeface="Calibri"/>
              </a:rPr>
              <a:t> 26-28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347ed"/>
                </a:solidFill>
                <a:latin typeface="Calibri"/>
              </a:rPr>
              <a:t>№ </a:t>
            </a:r>
            <a:r>
              <a:rPr b="1" lang="uk-UA" sz="3200" spc="-1" strike="noStrike">
                <a:solidFill>
                  <a:srgbClr val="5347ed"/>
                </a:solidFill>
                <a:latin typeface="Calibri"/>
              </a:rPr>
              <a:t>1067(г), № 1106(б)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347ed"/>
                </a:solidFill>
                <a:latin typeface="Calibri"/>
              </a:rPr>
              <a:t>№ </a:t>
            </a:r>
            <a:r>
              <a:rPr b="1" lang="uk-UA" sz="3200" spc="-1" strike="noStrike">
                <a:solidFill>
                  <a:srgbClr val="5347ed"/>
                </a:solidFill>
                <a:latin typeface="Calibri"/>
              </a:rPr>
              <a:t>1145(а)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347ed"/>
                </a:solidFill>
                <a:latin typeface="Calibri"/>
              </a:rPr>
              <a:t>повторити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47ed"/>
                </a:solidFill>
                <a:latin typeface="Calibri"/>
              </a:rPr>
              <a:t>§</a:t>
            </a:r>
            <a:r>
              <a:rPr b="1" lang="uk-UA" sz="3200" spc="-1" strike="noStrike">
                <a:solidFill>
                  <a:srgbClr val="5347ed"/>
                </a:solidFill>
                <a:latin typeface="Calibri"/>
              </a:rPr>
              <a:t> 9,10 № 345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36482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3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6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2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5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971640" y="2781360"/>
            <a:ext cx="7632720" cy="424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548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Дякуємо </a:t>
            </a:r>
            <a:endParaRPr b="1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за увагу</a:t>
            </a:r>
            <a:endParaRPr b="1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26920" y="1557360"/>
            <a:ext cx="7642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закріпити знання алгоритмів розв’язування систем лінійних рівнянь з двома змінними графічним способом, способом підстановки і додава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відпрацювати вміння і навички використання цих алгоритмів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систематизувати та узагальнити знання про різні способи розв’язування систем рівня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навчитися працювати з програмою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Power Point</a:t>
            </a: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навчитися презентувати свою роботу зрозуміло і чітк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навчитися працювати самостійно і в колективі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підготуватися до вивчення наступної те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36160" y="189000"/>
            <a:ext cx="475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 Unicode MS"/>
              </a:rPr>
              <a:t>Мета уро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840" y="404640"/>
            <a:ext cx="90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1. Розв’язком якої з систем рівнянь є пара чисел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740720" y="404640"/>
            <a:ext cx="865080" cy="452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3120" y="860400"/>
            <a:ext cx="2187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 Unicode MS"/>
              </a:rPr>
              <a:t>А)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 Unicode MS"/>
              </a:rPr>
              <a:t>Б)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 Unicode MS"/>
              </a:rPr>
              <a:t>В)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 Unicode MS"/>
              </a:rPr>
              <a:t>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1511280" cy="1008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755640" y="2060640"/>
            <a:ext cx="1584360" cy="9396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55640" y="3141720"/>
            <a:ext cx="1512720" cy="100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755640" y="4292640"/>
            <a:ext cx="1657440" cy="981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4572000" y="2852640"/>
            <a:ext cx="2905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79280" y="26028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2. На якому з рисунків схематично зображе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графік рівняння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А)                                               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738520" y="658800"/>
            <a:ext cx="1295280" cy="450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2122560" cy="2160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148360" y="1052640"/>
            <a:ext cx="2198520" cy="2232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193760" y="35733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1619280" y="3645000"/>
            <a:ext cx="2101680" cy="2158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510520" y="357336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5867280" y="3789360"/>
            <a:ext cx="2122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3480" y="333360"/>
            <a:ext cx="8198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3. Знайдіть значення функції                        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що відповідає значенню аргументу 3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А) 2;       Б) 2,5;      В) -2;      Г) -2,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4. На рисунку зображено графік лінійної функції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Які знаки мають коефіцієнти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і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Unicode MS"/>
              </a:rPr>
              <a:t>Г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148360" y="333360"/>
            <a:ext cx="2087640" cy="5540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116000" y="2924280"/>
            <a:ext cx="1655640" cy="439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116000" y="3645000"/>
            <a:ext cx="1728720" cy="458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116000" y="4365720"/>
            <a:ext cx="1728720" cy="458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1116000" y="5084640"/>
            <a:ext cx="1700280" cy="459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3492360" y="3141720"/>
            <a:ext cx="3167280" cy="2909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5148360" y="2608200"/>
            <a:ext cx="311040" cy="358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5724360" y="2513160"/>
            <a:ext cx="2955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11280" y="0"/>
            <a:ext cx="8353440" cy="2736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пособи розв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зання систем лінійн</a:t>
            </a: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х рівнянь з двома змінни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80" y="3213000"/>
            <a:ext cx="3167280" cy="1800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47ed"/>
                </a:solidFill>
                <a:latin typeface="Arial"/>
              </a:rPr>
              <a:t>Графіч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4724280"/>
            <a:ext cx="3166920" cy="180036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посі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ід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77080" y="3068640"/>
            <a:ext cx="3166920" cy="18003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47ed"/>
                </a:solidFill>
                <a:latin typeface="Arial"/>
              </a:rPr>
              <a:t>Спосі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47ed"/>
                </a:solidFill>
                <a:latin typeface="Arial"/>
              </a:rPr>
              <a:t>дода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32720" y="2637000"/>
            <a:ext cx="50328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050560" y="2637000"/>
            <a:ext cx="289080" cy="57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16360" y="2852640"/>
            <a:ext cx="0" cy="18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Графічний спосіб розв'язування систем рівня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1844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обудувати в одній системі координат графік кожного з рівнянь системи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виразити    через     у кожному рівнянн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побудувати і заповнити таблицю значе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позначити на координатній площині дві точ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) провести через них пряму - це графік рівня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Знайти координати точки перетину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Записати відповідь:                        або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588000" y="5516640"/>
            <a:ext cx="936720" cy="5173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067280" y="5661000"/>
            <a:ext cx="1873080" cy="398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476360" y="3357720"/>
            <a:ext cx="325440" cy="3585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3419640" y="2421000"/>
            <a:ext cx="328320" cy="360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1403280" y="3860640"/>
            <a:ext cx="365040" cy="432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6"/>
          <a:stretch/>
        </p:blipFill>
        <p:spPr>
          <a:xfrm>
            <a:off x="2268360" y="2421000"/>
            <a:ext cx="304920" cy="3603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258920" y="37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0036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300720" y="5157720"/>
            <a:ext cx="8636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Розв'язати систему рівнянь графічним способ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разимо у через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повнимо таблиц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значимо точки на координатній прям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демо графіки рівня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йдемо точку перет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1224000" cy="4352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588000" y="476280"/>
            <a:ext cx="1441440" cy="8240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500720" y="1508040"/>
            <a:ext cx="143964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1332000" y="3141720"/>
          <a:ext cx="1942920" cy="1035000"/>
        </p:xfrm>
        <a:graphic>
          <a:graphicData uri="http://schemas.openxmlformats.org/drawingml/2006/table">
            <a:tbl>
              <a:tblPr/>
              <a:tblGrid>
                <a:gridCol w="647280"/>
                <a:gridCol w="648000"/>
                <a:gridCol w="64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4643280" y="3141720"/>
          <a:ext cx="2089440" cy="1035000"/>
        </p:xfrm>
        <a:graphic>
          <a:graphicData uri="http://schemas.openxmlformats.org/drawingml/2006/table">
            <a:tbl>
              <a:tblPr/>
              <a:tblGrid>
                <a:gridCol w="696960"/>
                <a:gridCol w="695520"/>
                <a:gridCol w="69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1476360" y="3213000"/>
            <a:ext cx="328680" cy="360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4788000" y="3284640"/>
            <a:ext cx="326880" cy="360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4788000" y="3716280"/>
            <a:ext cx="304560" cy="360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1476360" y="3716280"/>
            <a:ext cx="3049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20:16:07Z</dcterms:created>
  <dc:creator>Home</dc:creator>
  <dc:description/>
  <dc:language>en-US</dc:language>
  <cp:lastModifiedBy>Home</cp:lastModifiedBy>
  <dcterms:modified xsi:type="dcterms:W3CDTF">2014-03-24T20:24:03Z</dcterms:modified>
  <cp:revision>6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a000000000001024140</vt:lpwstr>
  </property>
</Properties>
</file>