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0.wmf" ContentType="image/x-wmf"/>
  <Override PartName="/ppt/media/image8.jpeg" ContentType="image/jpeg"/>
  <Override PartName="/ppt/media/image13.wmf" ContentType="image/x-wmf"/>
  <Override PartName="/ppt/media/image30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31.png" ContentType="image/png"/>
  <Override PartName="/ppt/media/image32.png" ContentType="image/png"/>
  <Override PartName="/ppt/media/image4.gif" ContentType="image/gif"/>
  <Override PartName="/ppt/media/image15.wmf" ContentType="image/x-wmf"/>
  <Override PartName="/ppt/media/image34.png" ContentType="image/png"/>
  <Override PartName="/ppt/media/image6.wmf" ContentType="image/x-wmf"/>
  <Override PartName="/ppt/media/image36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9.jpeg" ContentType="image/jpeg"/>
  <Override PartName="/ppt/media/image27.gif" ContentType="image/gif"/>
  <Override PartName="/ppt/media/image23.wmf" ContentType="image/x-wmf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media/image14.gif" ContentType="image/gi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771-9C85-482F-A60B-95AC95137A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1D4-D0EA-4AA6-891D-66FEB47C28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DF8-0F98-4629-9DA5-386B863C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F02-785F-47B0-85B3-A8EDC63F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27C-C09C-43D5-8E64-70F18E98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D9B-A944-454F-A203-C80B19D0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900-A405-447F-BDBE-D6C25BB7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5D5-4F9E-4261-AF12-A42000BA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975-986A-4766-AF28-A717A43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7A7-54AB-4F27-BF5C-87AC18A0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5AF-D0A3-458B-A1F8-A9506891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743-53D2-447F-833A-8F170DB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C11-E93B-4D8A-956C-3AB6FCA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AC7-5DEF-4DF1-B9C1-56065754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4C12-0BA0-49C7-8514-6866D57B3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давання і віднімання многочлені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500040" y="1428840"/>
            <a:ext cx="8643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Розкрийте дуж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1500120" y="1214280"/>
            <a:ext cx="6715080" cy="14576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5" descr=""/>
          <p:cNvPicPr/>
          <p:nvPr/>
        </p:nvPicPr>
        <p:blipFill>
          <a:blip r:embed="rId2"/>
          <a:stretch/>
        </p:blipFill>
        <p:spPr>
          <a:xfrm>
            <a:off x="1285920" y="2428920"/>
            <a:ext cx="7086600" cy="1536480"/>
          </a:xfrm>
          <a:prstGeom prst="rect">
            <a:avLst/>
          </a:prstGeom>
          <a:ln w="0">
            <a:noFill/>
          </a:ln>
        </p:spPr>
      </p:pic>
      <p:pic>
        <p:nvPicPr>
          <p:cNvPr id="76" name="Object 6" descr=""/>
          <p:cNvPicPr/>
          <p:nvPr/>
        </p:nvPicPr>
        <p:blipFill>
          <a:blip r:embed="rId3"/>
          <a:stretch/>
        </p:blipFill>
        <p:spPr>
          <a:xfrm>
            <a:off x="857160" y="3786120"/>
            <a:ext cx="8286840" cy="14065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7" descr=""/>
          <p:cNvPicPr/>
          <p:nvPr/>
        </p:nvPicPr>
        <p:blipFill>
          <a:blip r:embed="rId4"/>
          <a:stretch/>
        </p:blipFill>
        <p:spPr>
          <a:xfrm>
            <a:off x="1279440" y="5167440"/>
            <a:ext cx="7132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00723427"/>
          <p:cNvPicPr/>
          <p:nvPr/>
        </p:nvPicPr>
        <p:blipFill>
          <a:blip r:embed="rId1"/>
          <a:stretch/>
        </p:blipFill>
        <p:spPr>
          <a:xfrm>
            <a:off x="7937640" y="0"/>
            <a:ext cx="1206360" cy="1447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Назвати подібні члени многочл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71680" y="2786040"/>
            <a:ext cx="781200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Object 5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8184960" cy="1214280"/>
          </a:xfrm>
          <a:prstGeom prst="rect">
            <a:avLst/>
          </a:prstGeom>
          <a:ln w="0">
            <a:noFill/>
          </a:ln>
        </p:spPr>
      </p:pic>
      <p:pic>
        <p:nvPicPr>
          <p:cNvPr id="82" name="Object 6" descr=""/>
          <p:cNvPicPr/>
          <p:nvPr/>
        </p:nvPicPr>
        <p:blipFill>
          <a:blip r:embed="rId4"/>
          <a:stretch/>
        </p:blipFill>
        <p:spPr>
          <a:xfrm>
            <a:off x="571680" y="3963960"/>
            <a:ext cx="7929360" cy="11095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7" descr=""/>
          <p:cNvPicPr/>
          <p:nvPr/>
        </p:nvPicPr>
        <p:blipFill>
          <a:blip r:embed="rId5"/>
          <a:stretch/>
        </p:blipFill>
        <p:spPr>
          <a:xfrm>
            <a:off x="285840" y="5000760"/>
            <a:ext cx="8153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Встановіть  відповідні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76360" y="1197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3а+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76360" y="515772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c+3d-11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76360" y="278136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n-3+5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76360" y="595008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+x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8-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6360" y="3573360"/>
            <a:ext cx="25956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+b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436572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6360" y="1989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+2х-3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684360" y="119700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684360" y="198900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84360" y="278136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684360" y="357336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84360" y="436572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684360" y="515772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684360" y="595008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bject 18" descr=""/>
          <p:cNvPicPr/>
          <p:nvPr/>
        </p:nvPicPr>
        <p:blipFill>
          <a:blip r:embed="rId1"/>
          <a:stretch/>
        </p:blipFill>
        <p:spPr>
          <a:xfrm>
            <a:off x="5070600" y="1179360"/>
            <a:ext cx="1593720" cy="395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20" descr=""/>
          <p:cNvPicPr/>
          <p:nvPr/>
        </p:nvPicPr>
        <p:blipFill>
          <a:blip r:embed="rId2"/>
          <a:stretch/>
        </p:blipFill>
        <p:spPr>
          <a:xfrm>
            <a:off x="6645240" y="1916280"/>
            <a:ext cx="1038240" cy="453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22" descr=""/>
          <p:cNvPicPr/>
          <p:nvPr/>
        </p:nvPicPr>
        <p:blipFill>
          <a:blip r:embed="rId3"/>
          <a:stretch/>
        </p:blipFill>
        <p:spPr>
          <a:xfrm>
            <a:off x="4735440" y="2378160"/>
            <a:ext cx="1114560" cy="404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Object 24" descr=""/>
          <p:cNvPicPr/>
          <p:nvPr/>
        </p:nvPicPr>
        <p:blipFill>
          <a:blip r:embed="rId4"/>
          <a:stretch/>
        </p:blipFill>
        <p:spPr>
          <a:xfrm>
            <a:off x="6572160" y="3143160"/>
            <a:ext cx="89064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7215120" y="5800680"/>
            <a:ext cx="1049400" cy="42696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5072040" y="4071960"/>
            <a:ext cx="147816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8" descr=""/>
          <p:cNvPicPr/>
          <p:nvPr/>
        </p:nvPicPr>
        <p:blipFill>
          <a:blip r:embed="rId7"/>
          <a:stretch/>
        </p:blipFill>
        <p:spPr>
          <a:xfrm>
            <a:off x="4643280" y="5214960"/>
            <a:ext cx="309600" cy="42876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29"/>
          <p:cNvSpPr/>
          <p:nvPr/>
        </p:nvSpPr>
        <p:spPr>
          <a:xfrm>
            <a:off x="3468600" y="1481040"/>
            <a:ext cx="1044720" cy="10731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30"/>
          <p:cNvSpPr/>
          <p:nvPr/>
        </p:nvSpPr>
        <p:spPr>
          <a:xfrm>
            <a:off x="3708360" y="2276640"/>
            <a:ext cx="965160" cy="29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31"/>
          <p:cNvSpPr/>
          <p:nvPr/>
        </p:nvSpPr>
        <p:spPr>
          <a:xfrm>
            <a:off x="3635280" y="1407960"/>
            <a:ext cx="2867040" cy="1660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32"/>
          <p:cNvSpPr/>
          <p:nvPr/>
        </p:nvSpPr>
        <p:spPr>
          <a:xfrm>
            <a:off x="3635280" y="2147760"/>
            <a:ext cx="2706840" cy="16416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33"/>
          <p:cNvSpPr/>
          <p:nvPr/>
        </p:nvSpPr>
        <p:spPr>
          <a:xfrm>
            <a:off x="3708360" y="4653000"/>
            <a:ext cx="2909880" cy="12985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34"/>
          <p:cNvSpPr/>
          <p:nvPr/>
        </p:nvSpPr>
        <p:spPr>
          <a:xfrm>
            <a:off x="3635280" y="4340160"/>
            <a:ext cx="1241640" cy="11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3708360" y="3411360"/>
            <a:ext cx="2720880" cy="27543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36"/>
          <p:cNvSpPr txBox="1"/>
          <p:nvPr/>
        </p:nvSpPr>
        <p:spPr>
          <a:xfrm>
            <a:off x="39528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8" name="Прямоугольник 37" descr=""/>
          <p:cNvPicPr/>
          <p:nvPr/>
        </p:nvPicPr>
        <p:blipFill>
          <a:blip r:embed="rId8"/>
          <a:stretch/>
        </p:blipFill>
        <p:spPr>
          <a:xfrm>
            <a:off x="-585720" y="1609560"/>
            <a:ext cx="90964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43353E-006 C 0.05416 -0.02358 0.1085 -0.04716 0.13489 -0.06982 C 0.16128 -0.09248 0.16562 -0.11676 0.15868 -0.13548 C 0.15173 -0.15421 0.1269 -0.17849 0.09357 -0.18196 C 0.06024 -0.18543 -0.01667 -0.16138 -0.04132 -0.15652 C -0.06598 -0.15167 -0.06007 -0.15213 -0.054 -0.15236 E">
                                      <p:cBhvr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0508 C -0.07084 -0.00485 0.06562 -0.00208 0.20208 0.00116 E">
                                      <p:cBhvr>
                                        <p:cTn id="18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-0.01665 C 0.11163 -0.03699 0.1967 -0.05711 0.25208 -0.07376 C 0.30746 -0.0904 0.34132 -0.09133 0.35833 -0.11607 C 0.37535 -0.14081 0.36267 -0.19168 0.35469 -0.2222 C 0.3467 -0.25272 0.34826 -0.27561 0.31076 -0.29988 C 0.27326 -0.32416 0.18906 -0.3422 0.12986 -0.36763 C 0.07066 -0.39306 -0.01597 -0.43792 -0.04479 -0.45202 E">
                                      <p:cBhvr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389 -0.00185 C 0.23368 0.01549 0.33142 0.06266 0.33142 0.10174 C 0.33142 0.14081 0.27968 0.20879 0.21389 0.23283 C 0.14809 0.25688 -0.00608 0.24301 -0.06389 0.24555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463 C 0.01111 -0.01919 0.02361 -0.03376 0.03993 -0.03861 C 0.05625 -0.04347 0.07934 -0.04046 0.09705 -0.03422 C 0.11475 -0.02798 0.13767 -0.02451 0.1467 -0.00139 C 0.15573 0.02173 0.16041 0.06821 0.15139 0.10428 C 0.14236 0.14035 0.12604 0.1926 0.09236 0.21526 C 0.05868 0.23792 0.00416 0.23514 -0.05052 0.24046 C -0.10521 0.24578 -0.17084 0.24624 -0.23629 0.24694 E">
                                      <p:cBhvr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35838E-007 C -0.0257 0.01873 -0.05139 0.03769 -0.06667 0.03584 C -0.08195 0.03399 -0.09653 0.00763 -0.09202 -0.01064 C -0.0875 -0.0289 -0.06389 -0.06173 -0.03976 -0.07399 C -0.01563 -0.08624 0.02535 -0.07746 0.05243 -0.08462 C 0.07951 -0.09179 0.11232 -0.0948 0.12326 -0.11723 C 0.1342 -0.13965 0.1335 -0.20301 0.11857 -0.21873 C 0.10364 -0.23445 0.06302 -0.21873 0.03333 -0.21156 C 0.00364 -0.20439 -0.02552 -0.18289 -0.06025 -0.17549 C -0.09497 -0.16809 -0.13542 -0.16254 -0.17465 -0.16717 C -0.21389 -0.17179 -0.25469 -0.18752 -0.29531 -0.20301 E">
                                      <p:cBhvr>
                                        <p:cTn id="23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86127E-006 C 0.02327 0.00693 0.0467 0.0141 0.07309 0.02543 C 0.09948 0.03676 0.13698 0.04832 0.15886 0.06774 C 0.18073 0.08716 0.2467 0.12601 0.20486 0.14173 C 0.16302 0.15745 0.03542 0.15999 -0.09201 0.16277 E">
                                      <p:cBhvr>
                                        <p:cTn id="2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6069E-006 C 0.01459 -0.02358 0.02917 -0.04693 0.04132 -0.04878 C 0.05348 -0.05063 0.06702 -0.03075 0.07309 -0.01063 C 0.07917 0.00948 0.07431 0.04717 0.07778 0.07168 C 0.08125 0.09619 0.08438 0.13457 0.09358 0.13734 C 0.10278 0.14012 0.12379 0.09041 0.13334 0.08879 C 0.14289 0.08717 0.14584 0.10613 0.15087 0.12694 C 0.15591 0.14775 0.16094 0.19098 0.16355 0.21364 C 0.16615 0.2363 0.16806 0.23885 0.16684 0.26243 C 0.16563 0.28601 0.16233 0.32763 0.15573 0.35538 C 0.14914 0.38312 0.14566 0.40856 0.12709 0.42937 C 0.10851 0.45017 0.07466 0.48116 0.04445 0.47977 C 0.01424 0.47838 -0.0026 0.43052 -0.05399 0.42058 C -0.10538 0.41064 -0.18454 0.41549 -0.26354 0.42058 E">
                                      <p:cBhvr>
                                        <p:cTn id="2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Arial"/>
              </a:rPr>
              <a:t>Алгоритм додавання і віднімання многочле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Розкрити дуж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вести подібні чл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Записати відпові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864592113"/>
          <p:cNvPicPr/>
          <p:nvPr/>
        </p:nvPicPr>
        <p:blipFill>
          <a:blip r:embed="rId1"/>
          <a:stretch/>
        </p:blipFill>
        <p:spPr>
          <a:xfrm>
            <a:off x="8072280" y="5334120"/>
            <a:ext cx="12700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Arial"/>
              </a:rPr>
              <a:t>Відповіді до тес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57160" y="1571760"/>
            <a:ext cx="3043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29160" y="150012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57120" y="521496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ЗНАННЯ-ЦЕ </a:t>
            </a:r>
            <a:r>
              <a:rPr b="0" lang="uk-UA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СИЛ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1424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440"/>
                <a:gridCol w="154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1496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080"/>
                <a:gridCol w="154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3160" y="214200"/>
            <a:ext cx="4500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 ст. 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57720" y="107172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785880" y="541188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00ff"/>
                </a:solidFill>
                <a:latin typeface="Times New Roman"/>
              </a:rPr>
              <a:t>Магічний квадрат при будь-яких змінних а, с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071880" y="42876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6"/>
          <p:cNvSpPr/>
          <p:nvPr/>
        </p:nvSpPr>
        <p:spPr>
          <a:xfrm>
            <a:off x="428760" y="47862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Магічний квадрат –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квадратна таблиця заповнена  числами таким чином, що сума чисел у кожному рядку, кожному стовпчику і на обох діагоналях однак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643800" y="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643040" y="741240"/>
            <a:ext cx="6156360" cy="5854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адач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орова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Вівця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виня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обака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іт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Качка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Зозуля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Віслю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– 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івен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9560" y="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Делу время, потехе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8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508400" cy="117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7" name="Picture 78" descr=""/>
          <p:cNvPicPr/>
          <p:nvPr/>
        </p:nvPicPr>
        <p:blipFill>
          <a:blip r:embed="rId2"/>
          <a:stretch/>
        </p:blipFill>
        <p:spPr>
          <a:xfrm>
            <a:off x="7500960" y="3143160"/>
            <a:ext cx="1295280" cy="112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8" name="Picture 71" descr=""/>
          <p:cNvPicPr/>
          <p:nvPr/>
        </p:nvPicPr>
        <p:blipFill>
          <a:blip r:embed="rId3"/>
          <a:stretch/>
        </p:blipFill>
        <p:spPr>
          <a:xfrm>
            <a:off x="2071800" y="4786200"/>
            <a:ext cx="1255680" cy="126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9" name="Picture 73" descr=""/>
          <p:cNvPicPr/>
          <p:nvPr/>
        </p:nvPicPr>
        <p:blipFill>
          <a:blip r:embed="rId4"/>
          <a:stretch/>
        </p:blipFill>
        <p:spPr>
          <a:xfrm>
            <a:off x="971640" y="765000"/>
            <a:ext cx="936360" cy="93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0" name="Picture 69" descr=""/>
          <p:cNvPicPr/>
          <p:nvPr/>
        </p:nvPicPr>
        <p:blipFill>
          <a:blip r:embed="rId5"/>
          <a:stretch/>
        </p:blipFill>
        <p:spPr>
          <a:xfrm rot="2542800">
            <a:off x="272520" y="5319360"/>
            <a:ext cx="1235160" cy="129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1" name="Picture 76" descr=""/>
          <p:cNvPicPr/>
          <p:nvPr/>
        </p:nvPicPr>
        <p:blipFill>
          <a:blip r:embed="rId6"/>
          <a:stretch/>
        </p:blipFill>
        <p:spPr>
          <a:xfrm>
            <a:off x="6000840" y="5072040"/>
            <a:ext cx="1373040" cy="1163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2" name="Picture 75" descr=""/>
          <p:cNvPicPr/>
          <p:nvPr/>
        </p:nvPicPr>
        <p:blipFill>
          <a:blip r:embed="rId7"/>
          <a:stretch/>
        </p:blipFill>
        <p:spPr>
          <a:xfrm>
            <a:off x="7072200" y="571680"/>
            <a:ext cx="1166760" cy="98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medium_607815457"/>
          <p:cNvPicPr/>
          <p:nvPr/>
        </p:nvPicPr>
        <p:blipFill>
          <a:blip r:embed="rId1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0" y="3143160"/>
            <a:ext cx="52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УРОК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786120" y="500040"/>
            <a:ext cx="535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машнє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вторити §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Розв’язати: № 424 (б, в),        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№425(а), 4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датково:  задач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medium_607815457"/>
          <p:cNvPicPr/>
          <p:nvPr/>
        </p:nvPicPr>
        <p:blipFill>
          <a:blip r:embed="rId2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631230439"/>
          <p:cNvPicPr/>
          <p:nvPr/>
        </p:nvPicPr>
        <p:blipFill>
          <a:blip r:embed="rId3"/>
          <a:stretch/>
        </p:blipFill>
        <p:spPr>
          <a:xfrm>
            <a:off x="8064360" y="5562720"/>
            <a:ext cx="1079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1006560" y="1731960"/>
            <a:ext cx="693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840" y="357120"/>
            <a:ext cx="83725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edium_607815457"/>
          <p:cNvPicPr/>
          <p:nvPr/>
        </p:nvPicPr>
        <p:blipFill>
          <a:blip r:embed="rId2"/>
          <a:stretch/>
        </p:blipFill>
        <p:spPr>
          <a:xfrm>
            <a:off x="1143000" y="357120"/>
            <a:ext cx="6807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286240" y="1214280"/>
            <a:ext cx="3357720" cy="5037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0" y="1571760"/>
            <a:ext cx="5715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400" spc="-1" strike="noStrike">
                <a:solidFill>
                  <a:srgbClr val="000000"/>
                </a:solidFill>
                <a:latin typeface="Times New Roman"/>
              </a:rPr>
              <a:t>Сокра́т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давньогрецький філософ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удрец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469 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до н. е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 399 до н.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 Афі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Arial"/>
              </a:rPr>
              <a:t>Тема уроку: </a:t>
            </a: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“Додавання і віднімання многочленів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840" y="1428840"/>
            <a:ext cx="8929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405 </a:t>
            </a:r>
            <a:r>
              <a:rPr b="1" lang="uk-UA" sz="26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 отриманий вираз підставити потрібне зна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3c+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 якщо с=2 то   </a:t>
            </a:r>
            <a:r>
              <a:rPr b="1" lang="uk-UA" sz="4800" spc="-1" strike="noStrike">
                <a:solidFill>
                  <a:srgbClr val="0d0d0d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б) 2х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+5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х=-3 то     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-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о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5643720" y="55008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6" descr=""/>
          <p:cNvPicPr/>
          <p:nvPr/>
        </p:nvPicPr>
        <p:blipFill>
          <a:blip r:embed="rId2"/>
          <a:stretch/>
        </p:blipFill>
        <p:spPr>
          <a:xfrm>
            <a:off x="7786800" y="5572080"/>
            <a:ext cx="9014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4288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413 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а)  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a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+2a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a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3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-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в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4az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z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г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6,4а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5,4а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ґ) -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n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2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86200" y="2500200"/>
            <a:ext cx="375768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Етьєн Безу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30 — 1783)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643040"/>
            <a:ext cx="4500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рл Фрідріх Га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777-18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к та фі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429160" y="642960"/>
            <a:ext cx="2381400" cy="3184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85840" y="285840"/>
            <a:ext cx="214308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306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928800"/>
            <a:ext cx="82155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22268"/>
                </a:solidFill>
                <a:latin typeface="Arial"/>
              </a:rPr>
              <a:t>1.</a:t>
            </a:r>
            <a:r>
              <a:rPr b="1" i="1" lang="uk-UA" sz="2600" spc="-1" strike="noStrike">
                <a:solidFill>
                  <a:srgbClr val="222268"/>
                </a:solidFill>
                <a:latin typeface="Arial"/>
              </a:rPr>
              <a:t>Суму кількох одночленів називають </a:t>
            </a:r>
            <a:r>
              <a:rPr b="1" i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многочлен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a643"/>
                </a:solidFill>
                <a:latin typeface="Arial"/>
              </a:rPr>
              <a:t>2. Якщо многочлен містить два доданки, то він називається </a:t>
            </a:r>
            <a:r>
              <a:rPr b="1" i="1" lang="ru-RU" sz="2600" spc="-1" strike="noStrike" u="sng">
                <a:solidFill>
                  <a:srgbClr val="16a643"/>
                </a:solidFill>
                <a:uFillTx/>
                <a:latin typeface="Arial"/>
              </a:rPr>
              <a:t>двочлен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3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міну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, а знаки доданків , які були в дужках, змінити на протилежні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4. Щоб знайти </a:t>
            </a:r>
            <a:r>
              <a:rPr b="1" i="1" lang="ru-RU" sz="2600" spc="-1" strike="noStrike" u="sng">
                <a:solidFill>
                  <a:srgbClr val="7030a0"/>
                </a:solidFill>
                <a:uFillTx/>
                <a:latin typeface="Arial"/>
              </a:rPr>
              <a:t>різницю</a:t>
            </a: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 двох многочленів, треба від першого з них відняти друг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ff"/>
                </a:solidFill>
                <a:latin typeface="Arial"/>
              </a:rPr>
              <a:t>5. Найпростіші вирази – числа, змінні, їх степені й добутки називають </a:t>
            </a:r>
            <a:r>
              <a:rPr b="1" i="1" lang="ru-RU" sz="2600" spc="-1" strike="noStrike" u="sng">
                <a:solidFill>
                  <a:srgbClr val="0099ff"/>
                </a:solidFill>
                <a:uFillTx/>
                <a:latin typeface="Arial"/>
              </a:rPr>
              <a:t>одночлен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4240" y="1357200"/>
            <a:ext cx="81439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6. Щоб додати два многочлени, тобто знайти суму многочленів, достатньо сполучити їх </a:t>
            </a: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знаком «плюс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7. Многочлен, може мати подібні члени, тобто такі доданки, які відрізняються тільки </a:t>
            </a:r>
            <a:r>
              <a:rPr b="1" i="1" lang="ru-RU" sz="2600" spc="-1" strike="noStrike" u="sng">
                <a:solidFill>
                  <a:srgbClr val="00ffff"/>
                </a:solidFill>
                <a:uFillTx/>
                <a:latin typeface="Arial"/>
              </a:rPr>
              <a:t>коефіцієнтом.</a:t>
            </a: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8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плю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9. Суму показників змінних в одночлені називають </a:t>
            </a:r>
            <a:r>
              <a:rPr b="1" i="1" lang="ru-RU" sz="2600" spc="-1" strike="noStrike" u="sng">
                <a:solidFill>
                  <a:srgbClr val="cc3300"/>
                </a:solidFill>
                <a:uFillTx/>
                <a:latin typeface="Arial"/>
              </a:rPr>
              <a:t>степенем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одночлена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51:36Z</dcterms:created>
  <dc:creator>роман</dc:creator>
  <dc:description/>
  <dc:language>en-US</dc:language>
  <cp:lastModifiedBy>Наташенька</cp:lastModifiedBy>
  <dcterms:modified xsi:type="dcterms:W3CDTF">2013-11-12T17:50:01Z</dcterms:modified>
  <cp:revision>152</cp:revision>
  <dc:subject/>
  <dc:title>19.01.2007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a000000000001024140</vt:lpwstr>
  </property>
  <property fmtid="{D5CDD505-2E9C-101B-9397-08002B2CF9AE}" pid="3" name="_TemplateID">
    <vt:lpwstr>TC010690641049</vt:lpwstr>
  </property>
</Properties>
</file>