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7AD-B892-48F2-8224-43E1A4C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666-D90D-472A-8B40-0330627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4CF-14D4-4996-8A51-31C4877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3DB-0AAD-4529-A627-879698B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D73-1C30-4E75-AC13-25AEBEF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EDD-A754-4390-A1A2-9834C81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5DF-E172-482D-B7FE-4CC62C7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1C9-D0FB-4FB7-ADE2-7DF1F47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90-E1C8-4AC0-B300-5F750023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44B-7E77-47D1-896D-9B678D9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8A4-CA4E-4040-9DB4-1F55DE1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683-A392-4EEE-A895-16047B6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168-DFDC-4B62-B072-A2CAE3E14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742840" y="1447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ння – це скарб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Йому ціни не зложи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збируй же йог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е тільки зможеш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О. Хай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У парку росло 575 лип і беріз. Лип було у 4 рази більше, ніж беріз. Скільки беріз і л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к роз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язати цю задачу рівнянням,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 вивчимо на наступному уроц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97,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датково: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) 13х+12х+15=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-2y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:17-2=3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є завдан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4611600"/>
            <a:ext cx="2438280" cy="22464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Тема: Розв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язування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івнян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Урок-каз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276800"/>
            <a:ext cx="373392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64440" y="3352680"/>
            <a:ext cx="2779560" cy="35053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Мет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удосконалювати 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івняння, використовуючи залежност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компонентами дій, форм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міння роз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зувати рівняння, в яких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відоме число входить до буквенного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аз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ль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формувати вміння застосовува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ння в нових ситуаці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н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ховувати наполегливість і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целюбні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800600" y="1294920"/>
            <a:ext cx="411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6:Х-8=0  Х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-25=30  Х=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10:Х=10  Х=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Х+7Х=50  Х=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+125=250  Х=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600" y="12952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. 10:Х=10    Х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. (Х-1)(Х-8)=0  Х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. 2Х+5=15    Х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0 Х:10-3=47  Х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666880" y="228600"/>
            <a:ext cx="36813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96240" y="4829040"/>
            <a:ext cx="1247760" cy="20289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5791320" y="2209680"/>
            <a:ext cx="2170080" cy="2210040"/>
            <a:chOff x="5791320" y="2209680"/>
            <a:chExt cx="2170080" cy="2210040"/>
          </a:xfrm>
        </p:grpSpPr>
        <p:pic>
          <p:nvPicPr>
            <p:cNvPr id="55" name="Текст 2" descr=""/>
            <p:cNvPicPr/>
            <p:nvPr/>
          </p:nvPicPr>
          <p:blipFill>
            <a:blip r:embed="rId2"/>
            <a:stretch/>
          </p:blipFill>
          <p:spPr>
            <a:xfrm>
              <a:off x="5791320" y="2209680"/>
              <a:ext cx="21700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5791320" y="2209680"/>
              <a:ext cx="217008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74160" y="496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-371)+146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5960" y="1523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7+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)-98=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6320" y="5029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289-а)-45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927680"/>
            <a:ext cx="327672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62120" y="304920"/>
            <a:ext cx="3276360" cy="5867280"/>
            <a:chOff x="762120" y="304920"/>
            <a:chExt cx="3276360" cy="5867280"/>
          </a:xfrm>
        </p:grpSpPr>
        <p:sp>
          <p:nvSpPr>
            <p:cNvPr id="64" name=""/>
            <p:cNvSpPr/>
            <p:nvPr/>
          </p:nvSpPr>
          <p:spPr>
            <a:xfrm>
              <a:off x="762120" y="3049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6880" y="3049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6094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1143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1143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1981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198108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2286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2819520"/>
              <a:ext cx="914400" cy="76176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281952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36576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43200" y="36576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457200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080" y="4572000"/>
              <a:ext cx="76212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8769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5410080"/>
              <a:ext cx="914400" cy="76212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5410080"/>
              <a:ext cx="761760" cy="685800"/>
            </a:xfrm>
            <a:prstGeom prst="rect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0" y="5715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54520" y="1143000"/>
            <a:ext cx="348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. 1. А:2+35=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59+2Х=1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.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(58-27)=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. 8Х+2Х-15=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ІІ. 3. 2Х+3Х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.342-4Х=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220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35-х=441: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20:2х-4)=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750(3х+7)-10=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533520"/>
            <a:ext cx="5867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ійна ро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828800"/>
            <a:ext cx="3276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арі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еред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72х=21*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статні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2(4х+3)=1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сокий рі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325:6х-5)+12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61960" y="1142640"/>
            <a:ext cx="510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) 450:3х+2х+х-4)=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) (16+х+8х-5х):25=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(ІІІ) 32(6х-х-2х-27)=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31316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844800"/>
            <a:ext cx="3809880" cy="30132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Татьяна</dc:creator>
  <dc:description/>
  <dc:language>en-US</dc:language>
  <cp:lastModifiedBy>dep</cp:lastModifiedBy>
  <dcterms:modified xsi:type="dcterms:W3CDTF">2014-02-23T17:07:42Z</dcterms:modified>
  <cp:revision>24</cp:revision>
  <dc:subject/>
  <dc:title>Интерактивные  методы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3000000000001024140</vt:lpwstr>
  </property>
</Properties>
</file>