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EE0-48CC-4778-8043-0A1C3E7D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C03-F2DD-4CA3-A002-A755A9FE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B1E-2DDC-4F0E-8B04-4C908642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7EB-8860-4C54-A6BC-17F15F69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0D8-4389-45F4-B1E8-4A2A3925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6FC-9231-41DC-953D-1E599896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D21-CBBA-4BAE-AD31-7392C0C4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AF1-91BA-48D7-8E13-EEC35B3C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891-F461-40D8-BBA2-C9F03576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EE2-B505-42C8-865F-C5BA5C67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74B-468C-48B7-8930-42576D68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B23-93A3-4C98-B228-FEC319B5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5C80-50D2-4C56-AC29-92B6BBB12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742840" y="144756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нання – це скарб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Йому ціни не зложиш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Визбируй же його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Де тільки зможеш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О. Хайя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У парку росло 575 лип і беріз. Лип було у 4 рази більше, ніж беріз. Скільки беріз і ли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Як роз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язати цю задачу рівнянням,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и вивчимо на наступному уроц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23880" y="533520"/>
            <a:ext cx="5867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2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497,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Додатково: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) 13х+12х+15=2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-2y)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:17-2=3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3880" y="533520"/>
            <a:ext cx="5867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є завдан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05720" y="4611600"/>
            <a:ext cx="2438280" cy="22464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6212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Тема: Розв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язування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рівнян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Урок-каз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276800"/>
            <a:ext cx="3733920" cy="2581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64440" y="3352680"/>
            <a:ext cx="2779560" cy="3505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Мета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авчальн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удосконалювати вміння роз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зувати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івняння, використовуючи залежності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іж компонентами дій, формувати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міння роз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зувати рівняння, в яких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евідоме число входить до буквенного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раз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озвивальн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формувати вміння застосовувати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нання в нових ситуаці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ховн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ховувати наполегливість і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ацелюбні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800600" y="1294920"/>
            <a:ext cx="4114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6:Х-8=0  Х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-25=30  Х=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10:Х=10  Х=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Х+7Х=50  Х=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+125=250  Х=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666880" y="228600"/>
            <a:ext cx="36813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ні вправ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896240" y="4829040"/>
            <a:ext cx="1247760" cy="20289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600" y="12952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6. 10:Х=10    Х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7. (Х-1)(Х-8)=0  Х=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7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9. 2Х+5=15    Х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0 Х:10-3=47  Х=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666880" y="228600"/>
            <a:ext cx="36813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ні вправ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896240" y="4829040"/>
            <a:ext cx="1247760" cy="20289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5791320" y="2209680"/>
            <a:ext cx="2170080" cy="2210040"/>
            <a:chOff x="5791320" y="2209680"/>
            <a:chExt cx="2170080" cy="2210040"/>
          </a:xfrm>
        </p:grpSpPr>
        <p:pic>
          <p:nvPicPr>
            <p:cNvPr id="55" name="Текст 2" descr=""/>
            <p:cNvPicPr/>
            <p:nvPr/>
          </p:nvPicPr>
          <p:blipFill>
            <a:blip r:embed="rId2"/>
            <a:stretch/>
          </p:blipFill>
          <p:spPr>
            <a:xfrm>
              <a:off x="5791320" y="2209680"/>
              <a:ext cx="217008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5791320" y="2209680"/>
              <a:ext cx="2170080" cy="221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864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74160" y="49680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-371)+146=2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5960" y="152388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7+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)-98=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6320" y="50292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289-а)-45=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4927680"/>
            <a:ext cx="3276720" cy="19303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762120" y="304920"/>
            <a:ext cx="3276360" cy="5867280"/>
            <a:chOff x="762120" y="304920"/>
            <a:chExt cx="3276360" cy="5867280"/>
          </a:xfrm>
        </p:grpSpPr>
        <p:sp>
          <p:nvSpPr>
            <p:cNvPr id="64" name=""/>
            <p:cNvSpPr/>
            <p:nvPr/>
          </p:nvSpPr>
          <p:spPr>
            <a:xfrm>
              <a:off x="762120" y="304920"/>
              <a:ext cx="914400" cy="76176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6880" y="30492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6520" y="60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8080" y="114300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114300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52480" y="1447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080" y="198108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198108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2480" y="2286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2819520"/>
              <a:ext cx="914400" cy="76176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281952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52480" y="3124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8080" y="365760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43200" y="365760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457200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24080" y="457200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48769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1600" y="541008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6720" y="5410080"/>
              <a:ext cx="76176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0" y="5715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654520" y="1143000"/>
            <a:ext cx="3489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. 1. А:2+35=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4. 59+2Х=1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І.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(58-27)=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5. 8Х+2Х-15=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ІІ. 3. 2Х+3Х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6.342-4Х=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2207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5280" y="1752480"/>
            <a:ext cx="3276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аріант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еред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35-х=441: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стат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20:2х-4)=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соки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750(3х+7)-10=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533520"/>
            <a:ext cx="5867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тійна ро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828800"/>
            <a:ext cx="3276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аріант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еред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272х=21*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стат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52(4х+3)=1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соки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325:6х-5)+12=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361960" y="1142640"/>
            <a:ext cx="510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(І) 450:3х+2х+х-4)=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(ІІ) (16+х+8х-5х):25=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(ІІІ) 32(6х-х-2х-27)=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72200" y="4313160"/>
            <a:ext cx="2971800" cy="2544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3844800"/>
            <a:ext cx="3809880" cy="30132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Татьяна</dc:creator>
  <dc:description/>
  <dc:language>en-US</dc:language>
  <cp:lastModifiedBy>dep</cp:lastModifiedBy>
  <dcterms:modified xsi:type="dcterms:W3CDTF">2014-02-23T17:07:42Z</dcterms:modified>
  <cp:revision>24</cp:revision>
  <dc:subject/>
  <dc:title>Интерактивные  методы обу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3000000000001024140</vt:lpwstr>
  </property>
</Properties>
</file>