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BE21-CEDF-4879-A94A-06CB9C9A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37C-03DB-4A06-A652-71DC307C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ACC-6D04-4B0D-8F24-73A917AC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8E6B-3097-4865-A51E-9DF255FA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132-F604-4367-A6EB-1445C468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713-8E1F-463D-851C-577BC802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7FC5-0DD5-4859-B1AD-0218CD04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EA5-0BDE-4DD4-9145-76817281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C9F-59C4-4314-B8C6-F499B618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556F-2383-4F34-BC64-CC11C762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8530-46ED-4121-9B0E-ECDD253C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2E92-FF2D-4438-822A-1CB4D171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697A-A4B1-4807-A807-2776EF9AE7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742840" y="144756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Знання – це скарб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Йому ціни не зложиш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Визбируй же його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Де тільки зможеш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О. Хайя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У парку росло 575 лип і беріз. Лип було у 4 рази більше, ніж беріз. Скільки беріз і лип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Як роз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язати цю задачу рівнянням,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ми вивчимо на наступному уроці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23880" y="533520"/>
            <a:ext cx="586764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2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4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497,4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Додатково: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1) 13х+12х+15=2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-2y)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:17-2=3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3880" y="533520"/>
            <a:ext cx="586764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є завданн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05720" y="4611600"/>
            <a:ext cx="2438280" cy="22464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62120" y="2133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Тема: Розв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язування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рівнян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Урок-каз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276800"/>
            <a:ext cx="3733920" cy="2581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364440" y="3352680"/>
            <a:ext cx="2779560" cy="35053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Мета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Навчальн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удосконалювати вміння роз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язувати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івняння, використовуючи залежності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іж компонентами дій, формувати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міння роз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язувати рівняння, в яких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евідоме число входить до буквенного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раз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озвивальн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формувати вміння застосовувати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нання в нових ситуаці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ховн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ховувати наполегливість і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ацелюбні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800600" y="1294920"/>
            <a:ext cx="4114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6:Х-8=0  Х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Х-25=30  Х=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810:Х=10  Х=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Х+7Х=50  Х=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Х+125=250  Х=1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666880" y="228600"/>
            <a:ext cx="368136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ні вправ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896240" y="4829040"/>
            <a:ext cx="1247760" cy="20289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0600" y="129528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6. 10:Х=10    Х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7. (Х-1)(Х-8)=0  Х=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7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9. 2Х+5=15    Х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0 Х:10-3=47  Х=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666880" y="228600"/>
            <a:ext cx="368136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ні вправ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896240" y="4829040"/>
            <a:ext cx="1247760" cy="20289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5791320" y="2209680"/>
            <a:ext cx="2170080" cy="2210040"/>
            <a:chOff x="5791320" y="2209680"/>
            <a:chExt cx="2170080" cy="2210040"/>
          </a:xfrm>
        </p:grpSpPr>
        <p:pic>
          <p:nvPicPr>
            <p:cNvPr id="55" name="Текст 2" descr=""/>
            <p:cNvPicPr/>
            <p:nvPr/>
          </p:nvPicPr>
          <p:blipFill>
            <a:blip r:embed="rId2"/>
            <a:stretch/>
          </p:blipFill>
          <p:spPr>
            <a:xfrm>
              <a:off x="5791320" y="2209680"/>
              <a:ext cx="217008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 txBox="1"/>
            <p:nvPr/>
          </p:nvSpPr>
          <p:spPr>
            <a:xfrm>
              <a:off x="5791320" y="2209680"/>
              <a:ext cx="2170080" cy="221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609480" indent="-60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8640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74160" y="49680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-371)+146=2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5960" y="152388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7+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)-98=1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6320" y="50292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(289-а)-45=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4927680"/>
            <a:ext cx="3276720" cy="193032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762120" y="304920"/>
            <a:ext cx="3276360" cy="5867280"/>
            <a:chOff x="762120" y="304920"/>
            <a:chExt cx="3276360" cy="5867280"/>
          </a:xfrm>
        </p:grpSpPr>
        <p:sp>
          <p:nvSpPr>
            <p:cNvPr id="64" name=""/>
            <p:cNvSpPr/>
            <p:nvPr/>
          </p:nvSpPr>
          <p:spPr>
            <a:xfrm>
              <a:off x="762120" y="304920"/>
              <a:ext cx="914400" cy="76176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66880" y="304920"/>
              <a:ext cx="762120" cy="68580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Arial"/>
                </a:rPr>
                <a:t>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76520" y="60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8080" y="1143000"/>
              <a:ext cx="914400" cy="76212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1143000"/>
              <a:ext cx="762120" cy="68580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52480" y="14479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8080" y="1981080"/>
              <a:ext cx="914400" cy="76212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Arial"/>
                </a:rPr>
                <a:t>5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43200" y="1981080"/>
              <a:ext cx="762120" cy="68580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Arial"/>
                </a:rPr>
                <a:t>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52480" y="22860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8080" y="2819520"/>
              <a:ext cx="914400" cy="76176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2819520"/>
              <a:ext cx="762120" cy="68580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52480" y="31240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8080" y="3657600"/>
              <a:ext cx="914400" cy="76212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43200" y="3657600"/>
              <a:ext cx="762120" cy="68580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52480" y="3962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9320" y="4572000"/>
              <a:ext cx="914400" cy="76212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24080" y="4572000"/>
              <a:ext cx="762120" cy="68580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3720" y="48769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71600" y="5410080"/>
              <a:ext cx="914400" cy="76212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76720" y="5410080"/>
              <a:ext cx="761760" cy="68580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Arial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6000" y="57150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654520" y="1143000"/>
            <a:ext cx="3489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. 1. А:2+35=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4. 59+2Х=1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І. 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(58-27)=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5. 8Х+2Х-15=1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ІІ. 3. 2Х+3Х=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6.342-4Х=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2207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295280" y="1752480"/>
            <a:ext cx="3276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аріант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ередній рі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435-х=441: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остатній рі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420:2х-4)=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сокий рі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750(3х+7)-10=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23880" y="533520"/>
            <a:ext cx="586764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стійна ро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828800"/>
            <a:ext cx="3276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аріант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ередній рі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272х=21*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остатній рі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52(4х+3)=11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сокий рі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325:6х-5)+12=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361960" y="1142640"/>
            <a:ext cx="510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(І) 450:3х+2х+х-4)=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(ІІ) (16+х+8х-5х):25=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(ІІІ) 32(6х-х-2х-27)=9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72200" y="4313160"/>
            <a:ext cx="2971800" cy="2544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3844800"/>
            <a:ext cx="3809880" cy="30132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0:16:19Z</dcterms:created>
  <dc:creator>Татьяна</dc:creator>
  <dc:description/>
  <dc:language>en-US</dc:language>
  <cp:lastModifiedBy>dep</cp:lastModifiedBy>
  <dcterms:modified xsi:type="dcterms:W3CDTF">2014-02-23T17:07:42Z</dcterms:modified>
  <cp:revision>24</cp:revision>
  <dc:subject/>
  <dc:title>Интерактивные  методы обуч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3000000000001024140</vt:lpwstr>
  </property>
</Properties>
</file>