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gif" ContentType="image/gif"/>
  <Override PartName="/ppt/media/image12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7BFA-8684-48AD-8B73-2CC9370800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D0F4-F509-40AB-8CDF-EB9EE4AE94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21E-CC6C-4119-B09C-24E535AC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0F2-CE9D-4CC1-8ECE-A641B7F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58AB1-E1B3-497C-AC25-4F1EEE95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3FB71-008E-4683-B3FA-68188012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33DC6-7D28-4B44-AF80-6BFA7C5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4C33A-7BE6-4D2D-8492-EA9D7A8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20755-FE6C-4792-BF6E-63E06BDE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8C34C-AD91-41D5-BBD0-3AC72A9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C3163-EF9C-4442-90A2-2E9ADCF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2B5EB-F000-44BB-B05E-A01BF7C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D413C-FA2B-4FBD-9A9C-C7FC25C8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408-F2B6-45E1-A8C8-81DBBBE3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3AC-51F4-4163-96F4-ABE09A57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B93-8199-4785-BC3C-6C532922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D89-9674-408C-8343-AA65921D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6915-648E-4FCD-AB3F-C4E1C23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01F-072E-49D6-9771-1A7D909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D2E2-5112-42F7-A643-A9086DE5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DED6-8F5C-46A8-8AA3-F6E890D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8B6-F1C4-41AE-815A-D75AEB0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FAB-2436-42D7-BC42-1E34A208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8D2B-DC4D-4185-BD73-55F5BC6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546E-4259-4159-8732-81BF5CE5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3CD5-C6D9-4348-AECB-C1A4EEB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880-E2CF-4EDF-9557-55A28A2C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6552-60A1-4FED-B36A-B23C0211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D98F-BAEF-458A-81C8-43586D3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C48C-7C14-4374-BACB-E601661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4BE1-4052-4954-BB87-99A2B851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A79B-6971-435D-ACC9-2C4E6EF7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1213-C113-401E-9AF2-3C9B450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F2B-784D-4857-ABE4-0944ACE2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48B0-9DE8-4B60-B9C9-6D92A25A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0D3C-7573-4C90-9C20-B2BE46A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B0A7-FD9E-4E5D-A3A8-24AA3CE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F880-D0E0-45B2-8C5F-723F80D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7164-9C9C-4863-91D6-123A0AD0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1418-2F3B-46B3-81BF-EDF50520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EA39-0C53-4F44-98CC-C2C21795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A1BE-3822-4A64-9DC0-5C5FE743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ED60-0BDA-469C-8F4F-760D23B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0C5B-4354-44FA-B0E6-E1B722F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7F3-A601-431F-8C79-BB99DEA8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595D-BF04-4C19-A421-70A6EF5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3580-087F-48BD-9FA7-0DB259D3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6093-97FB-4AF4-9126-07277DBF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6970-BA30-4590-9F95-18BA43D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5934-E99B-4A25-B1A6-E42C755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0BAB-97B7-44DB-BE24-68D3975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3304-C3D3-4ADE-B65E-7857F42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CFF8-BF7D-479E-BD7D-73880A69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23EC-6F63-41A5-95DA-6F99DBFD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69A7-DFE0-4ECD-9F19-C60E0E9E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597-0992-4FD6-9304-0A101DD0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7BE5-487A-4216-B8F9-0C33AFF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0FE5-0303-437A-9365-79769FA2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5DF2-0D30-49DE-A1BE-1E56D1E6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78FE-0FA5-44AD-A01C-87AD21E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7192-90F2-4044-B5CF-F4D42E62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6C15-D3F1-4CDB-AEEF-C91E05C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D87D-7D36-4BA8-A664-0EE33B5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966D-BBC0-4833-93A4-421C21A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6975-D298-44BA-8E3F-4BF6ED9A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22DD-41B1-43A0-8F8D-989D7BB4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E1F-EF5C-42C3-BC32-65A9FD2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8EE98-4B95-4ADD-9F0A-64AFBF60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4E40-7C59-4FF6-A27B-2D5464E8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01C96-DC45-421A-9592-A2AB53B1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E5D4-5E45-41BE-87BE-1083EBC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C200-2901-45D1-A52D-CF2CF7F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1C252-CB81-483B-8015-6D173C0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D466-C234-4293-B1C7-E40F879D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77A6B-5F98-4439-AB13-F2D4085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DEA4-C288-4298-AAE9-2773B82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FA6E-3929-4A8C-9727-C8FE99F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DF4-742C-4020-9F84-6918EDD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9222-269F-49DF-B95D-81DA36A2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46A4-A8B2-4BB4-882E-1231E12B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AD41-16DF-45F5-93A1-BB3A6927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2DF8-7DFD-4EFF-AAFE-47E7677F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C23E-8C1D-4EB6-8D38-261CA3B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4BB5-247A-45E4-8CB0-D3909A3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8F85-1440-4493-B566-D04BF146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38A65-0A30-40D4-BC62-D7272C00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9B93-093D-4BA6-97D8-3F5341DC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61BF-D4D2-4CB6-8C9E-CFC488D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2A4-ADBD-4184-B6E2-187020C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1C52-12B3-40DD-9D8D-DB433EF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395D-3BF9-4193-9AF4-897320D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C128-D8A5-4389-A074-4F25D4A2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F56A-9795-4FFA-966E-78B32CBF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1A370-9795-4482-BFEA-189A8407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94225-45E7-4445-AD56-8457ADD5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C8EE-3E71-443B-84F4-1306D1D5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0C7B-EBEE-4C21-A5D1-FA2E93B1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0FD1-A1D2-42A0-B5CD-6F941195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850A5-38EF-4C51-BF92-4945D73A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B66-C937-4033-8BC3-AC842E7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7204-2524-495D-970D-CB328AE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F96B-3D85-4F49-B864-741B95A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8BFE-4149-461C-90A5-1969644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BC10-D47D-40FA-9CE6-FEBCF22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F5BD-DA22-42D5-9D7B-CCCDCB19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37EE2-B3C9-491F-8868-4F238559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DEB0-B71D-48CC-A5F0-05472373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16A07-0958-45FC-9A10-A0D5FDF2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0737F-FCE2-450C-9ACE-559AD8C8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3CA0-ED05-45B5-9B67-5E9EDBE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5A3-E160-46F9-B4DD-F3075544E6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615-82CD-4C50-A9E5-0120E6F6C1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B957-048D-4B4A-A7CC-E25808409F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78E-E4CB-4F67-808F-F76B55602A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2C9A-4E55-4173-A6C3-C9A5CF5F66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ACE-8E4B-4E7E-9896-4BEC07A6E2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D3D-48B7-4168-9497-350102CB15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D523-6D47-47F0-B51D-68EFF04E84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782-7BD3-4961-A959-C20119589C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17520" y="4322880"/>
            <a:ext cx="5473800" cy="1962000"/>
          </a:xfrm>
          <a:prstGeom prst="rect">
            <a:avLst/>
          </a:prstGeom>
          <a:ln w="0">
            <a:noFill/>
          </a:ln>
        </p:spPr>
      </p:pic>
      <p:pic>
        <p:nvPicPr>
          <p:cNvPr id="407" name="Подзаголовок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466120" cy="4522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8" descr="237.gif"/>
          <p:cNvPicPr/>
          <p:nvPr/>
        </p:nvPicPr>
        <p:blipFill>
          <a:blip r:embed="rId3"/>
          <a:stretch/>
        </p:blipFill>
        <p:spPr>
          <a:xfrm>
            <a:off x="6429240" y="4500720"/>
            <a:ext cx="211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ніколи не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обов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зково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) Подія А – вода в річці замерзла при температурі +25 градус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) Подія В – при киданні гральної кості випало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) Подія С – після четверга наступила п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тниц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) Подія Н – при киданні гральної кості випало менше ніж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ї, які мають рівні шанс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ють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рівноймовірни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8918640" cy="1135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е завтра запитають на уроці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ітом у меня будуть канікул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і сьогодні зустрінеться чорна кішка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нь народження мого друга – число, менше за 32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Із шкільного вікна видно мор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втра буде неділя, якщо сьогодні субо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брали навмання слово з підручника, і в ньому є буква о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мінь, кинутий у воду, потоне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ли ти станеш дорослим, тебе оберуть  Президентом Україн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ступний рік буде високосним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285840" y="328680"/>
            <a:ext cx="8467560" cy="12873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489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зеленого 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або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56000" y="1557360"/>
            <a:ext cx="27003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падко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ірогід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можли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AutoShape 7"/>
          <p:cNvSpPr/>
          <p:nvPr/>
        </p:nvSpPr>
        <p:spPr>
          <a:xfrm rot="641400">
            <a:off x="5508720" y="2276280"/>
            <a:ext cx="1081080" cy="201600"/>
          </a:xfrm>
          <a:prstGeom prst="rightArrow">
            <a:avLst>
              <a:gd name="adj1" fmla="val 50000"/>
              <a:gd name="adj2" fmla="val 1340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AutoShape 8"/>
          <p:cNvSpPr/>
          <p:nvPr/>
        </p:nvSpPr>
        <p:spPr>
          <a:xfrm rot="20605800">
            <a:off x="4719600" y="2734920"/>
            <a:ext cx="1768680" cy="216000"/>
          </a:xfrm>
          <a:prstGeom prst="rightArrow">
            <a:avLst>
              <a:gd name="adj1" fmla="val 50000"/>
              <a:gd name="adj2" fmla="val 2047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AutoShape 10"/>
          <p:cNvSpPr/>
          <p:nvPr/>
        </p:nvSpPr>
        <p:spPr>
          <a:xfrm rot="700800">
            <a:off x="4284360" y="4152960"/>
            <a:ext cx="2238480" cy="216000"/>
          </a:xfrm>
          <a:prstGeom prst="rightArrow">
            <a:avLst>
              <a:gd name="adj1" fmla="val 50000"/>
              <a:gd name="adj2" fmla="val 259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AutoShape 11"/>
          <p:cNvSpPr/>
          <p:nvPr/>
        </p:nvSpPr>
        <p:spPr>
          <a:xfrm rot="19795200">
            <a:off x="3320640" y="4419720"/>
            <a:ext cx="3745080" cy="287280"/>
          </a:xfrm>
          <a:prstGeom prst="rightArrow">
            <a:avLst>
              <a:gd name="adj1" fmla="val 50000"/>
              <a:gd name="adj2" fmla="val 3259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5" name="Рисунок 8" descr="237.gif"/>
          <p:cNvPicPr/>
          <p:nvPr/>
        </p:nvPicPr>
        <p:blipFill>
          <a:blip r:embed="rId2"/>
          <a:stretch/>
        </p:blipFill>
        <p:spPr>
          <a:xfrm>
            <a:off x="5867280" y="5097600"/>
            <a:ext cx="19558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КЛАСИФІКАЦІЯ ПОДІ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обо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зково має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 подіє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 від 1 до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 вірогідн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не може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 подією</a:t>
            </a:r>
            <a:r>
              <a:rPr b="0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му прикладі такою подією є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я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и 7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може відбутися,а може і не відбутися в даному випробуванні називається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 подією</a:t>
            </a:r>
            <a:r>
              <a:rPr b="1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и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наступити, а може і не наступи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Рисунок 8" descr="237.gif"/>
          <p:cNvPicPr/>
          <p:nvPr/>
        </p:nvPicPr>
        <p:blipFill>
          <a:blip r:embed="rId1"/>
          <a:stretch/>
        </p:blipFill>
        <p:spPr>
          <a:xfrm>
            <a:off x="7191360" y="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. Прочитать п. 21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2. Виконати № 635, 637, 640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3. Придумати свої приклади для кажної категорії подій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Рисунок 8" descr="237.gif"/>
          <p:cNvPicPr/>
          <p:nvPr/>
        </p:nvPicPr>
        <p:blipFill>
          <a:blip r:embed="rId2"/>
          <a:stretch/>
        </p:blipFill>
        <p:spPr>
          <a:xfrm>
            <a:off x="3429000" y="421488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993600"/>
            <a:ext cx="6669360" cy="320688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8" descr="237.gif"/>
          <p:cNvPicPr/>
          <p:nvPr/>
        </p:nvPicPr>
        <p:blipFill>
          <a:blip r:embed="rId3"/>
          <a:stretch/>
        </p:blipFill>
        <p:spPr>
          <a:xfrm>
            <a:off x="4500720" y="3002040"/>
            <a:ext cx="37861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тематику багато люблять за її вічні істини: при множенні два на два - завжди чотири, сума непарних чисел непарна, а площа прямокутника дорівнює добутку його суміжних сторін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е життя не таке просте і однозначне. В оточуючому нас житті ми часто зустрічаємось з випадковими подіями: випадкова зустріч, випадкова знахідка, випадкова помилка, випадковий набір  виграшних  номерів у тиражі лотереї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214280"/>
            <a:ext cx="8686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ількість сонячних днів в даній місцевості змінюється з року в рік випадковим чин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падковість не дозволяє передбачувати навіть найближче майбутнє, не кажучи вже про більш далекі прогноз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ще буває випадковість корисна, бажана, щасли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з поганими випадковостями людина завжди бореть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840" y="785520"/>
            <a:ext cx="86868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юди давно вже підмітили, що випадковість має свої властивості, тобто випадковість можна і потрібно досліджува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ука про випадковості має назву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орії імовірності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дання грального кубика можна вважати дослідом, експерименто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навіть грою, забавою), а одержаний результат – </a:t>
            </a: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ПОДІЄЮ</a:t>
            </a:r>
            <a:r>
              <a:rPr b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8" descr="237.gif"/>
          <p:cNvPicPr/>
          <p:nvPr/>
        </p:nvPicPr>
        <p:blipFill>
          <a:blip r:embed="rId1"/>
          <a:stretch/>
        </p:blipFill>
        <p:spPr>
          <a:xfrm>
            <a:off x="6643800" y="4952880"/>
            <a:ext cx="2114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я,яка в одних і тих же умов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може статися, а може і не стати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8" descr="237.gif"/>
          <p:cNvPicPr/>
          <p:nvPr/>
        </p:nvPicPr>
        <p:blipFill>
          <a:blip r:embed="rId2"/>
          <a:stretch/>
        </p:blipFill>
        <p:spPr>
          <a:xfrm>
            <a:off x="3571920" y="407196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идаємо монет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могла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тися і цифр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е, що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 –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0" descr="BD05036_"/>
          <p:cNvPicPr/>
          <p:nvPr/>
        </p:nvPicPr>
        <p:blipFill>
          <a:blip r:embed="rId2"/>
          <a:stretch/>
        </p:blipFill>
        <p:spPr>
          <a:xfrm>
            <a:off x="3857760" y="3929040"/>
            <a:ext cx="1600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4"/>
          <p:cNvSpPr/>
          <p:nvPr/>
        </p:nvSpPr>
        <p:spPr>
          <a:xfrm>
            <a:off x="714240" y="1285920"/>
            <a:ext cx="771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рілок влучає в  ціль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ле міг і не влучити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лучення-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подія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ень вийшов погулят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в трьох товариш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ч теж </a:t>
            </a:r>
            <a:r>
              <a:rPr b="1" lang="ru-RU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99680" y="1571760"/>
            <a:ext cx="26240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00040" y="28576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571680" y="40719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С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571680" y="54291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3143160" y="14288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черво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14800" y="26431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еле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214800" y="38577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жовт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214800" y="51436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16" descr="&amp;Kcy;&amp;acy;&amp;rcy;&amp;tcy;&amp;icy;&amp;ncy;&amp;kcy;&amp;acy; 1 &amp;icy;&amp;zcy; 122982"/>
          <p:cNvPicPr/>
          <p:nvPr/>
        </p:nvPicPr>
        <p:blipFill>
          <a:blip r:embed="rId1"/>
          <a:stretch/>
        </p:blipFill>
        <p:spPr>
          <a:xfrm>
            <a:off x="7429680" y="1071720"/>
            <a:ext cx="1250640" cy="1166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&amp;Kcy;&amp;acy;&amp;rcy;&amp;tcy;&amp;icy;&amp;ncy;&amp;kcy;&amp;acy; 3 &amp;icy;&amp;zcy; 127600"/>
          <p:cNvPicPr/>
          <p:nvPr/>
        </p:nvPicPr>
        <p:blipFill>
          <a:blip r:embed="rId2"/>
          <a:stretch/>
        </p:blipFill>
        <p:spPr>
          <a:xfrm>
            <a:off x="7429680" y="2428920"/>
            <a:ext cx="1319040" cy="1230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i?id=118406736-67-72&amp;n=17"/>
          <p:cNvPicPr/>
          <p:nvPr/>
        </p:nvPicPr>
        <p:blipFill>
          <a:blip r:embed="rId3"/>
          <a:stretch/>
        </p:blipFill>
        <p:spPr>
          <a:xfrm>
            <a:off x="7429680" y="3786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i?id=429282771-39-72&amp;n=17"/>
          <p:cNvPicPr/>
          <p:nvPr/>
        </p:nvPicPr>
        <p:blipFill>
          <a:blip r:embed="rId4"/>
          <a:stretch/>
        </p:blipFill>
        <p:spPr>
          <a:xfrm>
            <a:off x="7429680" y="5276880"/>
            <a:ext cx="135720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7:29:24Z</dcterms:created>
  <dc:creator>!</dc:creator>
  <dc:description/>
  <dc:language>en-US</dc:language>
  <cp:lastModifiedBy>!</cp:lastModifiedBy>
  <dcterms:modified xsi:type="dcterms:W3CDTF">2014-02-19T18:37:10Z</dcterms:modified>
  <cp:revision>18</cp:revision>
  <dc:subject/>
  <dc:title>Вчитель математики  Зеленогайської загальноосвітньої школи І-ІІІ ступенів  Харківської районної ради харківської області сова Олена Анатолії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e000000000001024140</vt:lpwstr>
  </property>
</Properties>
</file>