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7.gif" ContentType="image/gif"/>
  <Override PartName="/ppt/media/image12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3FE3-A3DE-46B4-9F5A-837B7AFF6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D17A-5F58-4313-8206-3A22CC42A6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D1D-2B2F-4C00-8998-BA683CD6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813-2120-4BF2-8690-FED6D53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5FFEA-4B64-48AC-966B-5B16C3A7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6F90C-E2BF-4274-934C-638F4E5D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011C-3297-43E3-95E2-E937779A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03253-7B3F-40B1-8E5A-717BDB9D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F3F27-A4BB-4B40-AE08-AF21679D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1F714-6A28-4CFC-A816-2E2B3AE7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65A96-CE8B-446D-A65B-60724C2E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7C8A1-D9C0-4700-B4FB-E975D129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D3209-1259-4F9A-B403-78CAA920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D40-E2AC-4116-8C4C-C470B905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EBC-EC5D-4586-897F-9CE3862B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1FAD-6EE3-4BE7-99BE-564A3BC4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25B8-A7E6-4EC2-9B2F-FDE935F8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89F2-9D83-483B-B8ED-896ADF6D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97CB-ED50-46CB-B8E9-3D8E5EC5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4ACB-50B6-4BC1-87F2-44EF51AA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8E16-0273-40E2-BED3-9F70389A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54CC-77BB-48B1-81A1-FAA9BCEC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B18-7B58-4D79-BB1E-903BD829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0A38-634A-4013-A5C4-11DC5AF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F5A9-3D59-4196-B2B8-A4D5A08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DEA-B44C-42FD-AFBB-5FE65011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137A-3D2B-4086-AAE3-B87BA47C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A274-37CE-4A5A-A73E-7772D54B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B7D1-D694-4ABD-A467-0754D0C2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FB00-FCC9-4B4A-8548-E1C81A91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3F62-294E-4FA5-8F1C-247887E9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5B25-07E0-4137-85A2-BD1FA3A9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5B7E-37D6-48E3-BC22-961D5D72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B0F-5E81-4BE3-A03B-730646FC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60BB-DE0F-4874-ADB1-A3430CC6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377A7-FC1A-48F5-ABDB-50997590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9352-42EE-4DEC-A358-F377B49F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CE5C-58CA-448B-AD68-D62764C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E8B0-8254-4196-B61F-3416BCC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B7B13-BEC4-4C67-89F7-30601DB6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3D38-C227-4B13-8950-E63C4A82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E0DD6-E69D-4530-8AEC-2B31D288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4C4E-F9D5-46E9-AB04-F8172B86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29F9-60A3-4E9C-9956-1DF347DD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8AD-49D6-4D4B-B559-F545E8FB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888DB-4430-48E4-9D2A-8B6B5A15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C7D79-9F6C-4D61-8ADD-898CE0B8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C45F-33D5-4E30-9C51-58E848E5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F5E8-AF12-4051-BAA1-2523C19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CCC4-9133-445A-A5B5-449438A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5CF2D-0A86-4465-9A78-6F73E6F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9783-B41B-4A81-9D9B-F71C45A8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0AE5-F6AC-45BF-9D13-94CEB5A7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45A5-2FBA-4E20-9576-BEDB98B4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CA9B-A09D-416D-9597-D6B2FE1B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2AE-9CD1-4542-8B72-C4027ABC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51CE-305E-41FB-8C59-05E39C0B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FD57-4D0C-401D-A249-712C95B1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BCCE-AA08-47FC-A6F6-BEBBE556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167E-7571-4B26-8161-EFCAA2C0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B0D4D-FDD2-4FD9-BB6F-DA69FC78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F0367-5CA2-4BF7-A8C9-653B9F46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BA36-51AD-4DB5-B857-EE81227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38E5F-4FA4-4A9C-A0B2-D78BDF5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4FCF-4C53-4F25-AC19-7DA87B36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7969-7D8A-483A-9DCE-423EA58B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153-9E39-42E8-9648-4A13DF1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138C5-F7C0-4F98-A049-3B62E1AC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40D26-2162-4E5B-85D0-E1627057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735CB-E6FE-486F-A4C0-3AFA57E2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ED087-FE55-4A7C-A5A7-A471DCBA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8893D-3F6A-430C-A185-F75F29EA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12632-6159-46C6-BC59-238E07F1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F111-6FDA-4197-AA39-28EF07FA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CDA7-3937-47DA-AB5E-CAB1DE81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77716-F165-4093-9558-F1B54014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E565-A278-4D62-96BC-8FD5BA70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CF9-2A3A-4A1A-82D1-8B4AD77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00BDF-121F-4D73-9455-D9FC3AB1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2509-90CE-477C-94FB-9A02A9F3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147F9-E468-4F64-96BD-6DBD6A1C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7ACD8-8140-4CC8-A01F-C9082512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8FBF-80B6-4164-AC14-714590E2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6B03-F1CF-4DB4-B5CD-592558C2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97A40-FEF4-443E-A2FD-144C25AA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71027-FC99-477E-9316-FDD0CB2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F0C1-1462-4449-AE3D-4FBF4466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709B-4614-4C7B-BFC0-446C9B6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F17-4F88-40A4-BF48-460F06D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7B78-EEB7-4E8C-A121-7F2F374F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14C96-92B7-4EDA-A53C-90588A6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956F-7FE4-4EB6-8A5D-D1F96A0A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314E-50D7-446C-97CB-744EB9E6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02902-DBAF-41B2-A402-21ADC6EF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69DE3-A2F3-4E98-8E21-C4338941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DA3C9-8BF5-4B6F-90A4-C93E9ABA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F572F-0934-4B7D-B761-993A7211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DF54F-16EB-44BD-A501-CCE12216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9FC1A-06B5-4081-B9E7-87284458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519-84F8-4CA6-8600-E4E2B884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FDFD4-536B-40CF-ACE8-99B2AA68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B10A9-456E-45AD-907B-7597FDC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5BCB6-1C6E-4AF9-B63F-AD355F43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EF08C-8693-49CD-9C74-E0F2D5E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EA85E-8F1D-41F5-A94E-CD4B90A5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AD71-E79E-4FAA-9751-1ED5BCD1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6759-3164-4428-9DF4-D55FDD63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0EA28-1792-45FD-85C0-A7FC0492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82EAF-7AAA-453D-95ED-07408BA2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DE02F-A995-47F7-88FE-D1FA1370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3643-6DC7-4BAC-9D8F-A9B35BDA59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C5D6-CC8B-4BF3-9296-BFEECFD792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741D-BFF3-4B5C-B79E-5E0693177E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BA93-35E5-466D-9A79-B447F8D477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BD3F-4542-468C-8B30-2B18DB7345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686-4B5B-43CA-9F90-787A535EAB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5C3-2118-4C03-855F-CA607805DF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BF92-F796-44FA-B1EB-59A0417D78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B1E8-F528-49E9-B290-A9B29D5BC1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17520" y="4322880"/>
            <a:ext cx="5473800" cy="1962000"/>
          </a:xfrm>
          <a:prstGeom prst="rect">
            <a:avLst/>
          </a:prstGeom>
          <a:ln w="0">
            <a:noFill/>
          </a:ln>
        </p:spPr>
      </p:pic>
      <p:pic>
        <p:nvPicPr>
          <p:cNvPr id="407" name="Подзаголовок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466120" cy="4522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8" descr="237.gif"/>
          <p:cNvPicPr/>
          <p:nvPr/>
        </p:nvPicPr>
        <p:blipFill>
          <a:blip r:embed="rId3"/>
          <a:stretch/>
        </p:blipFill>
        <p:spPr>
          <a:xfrm>
            <a:off x="6429240" y="4500720"/>
            <a:ext cx="2114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ія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а в даних умовах ніколи не станеться, 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неможливо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ія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а в даних умовах обов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зково станеться, 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ірогідною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) Подія А – вода в річці замерзла при температурі +25 градус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) Подія В – при киданні гральної кості випало 7 оч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8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) Подія С – після четверга наступила п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тниц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) Подія Н – при киданні гральної кості випало менше ніж 7 оч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одії, які мають рівні шанс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зивають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рівноймовірни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4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8918640" cy="1135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не завтра запитають на уроці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ітом у меня будуть канікули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ні сьогодні зустрінеться чорна кішка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нь народження мого друга – число, менше за 32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Із шкільного вікна видно мор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втра буде неділя, якщо сьогодні субот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брали навмання слово з підручника, і в ньому є буква о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мінь, кинутий у воду, потоне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ли ти станеш дорослим, тебе оберуть  Президентом Україн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ступний рік буде високосним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Рисунок 8" descr="237.gif"/>
          <p:cNvPicPr/>
          <p:nvPr/>
        </p:nvPicPr>
        <p:blipFill>
          <a:blip r:embed="rId2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1"/>
          <a:stretch/>
        </p:blipFill>
        <p:spPr>
          <a:xfrm>
            <a:off x="285840" y="328680"/>
            <a:ext cx="8467560" cy="128736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4895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біл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чорн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зеленого 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чорного або біл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56000" y="1557360"/>
            <a:ext cx="27003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падко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ірогід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можли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AutoShape 7"/>
          <p:cNvSpPr/>
          <p:nvPr/>
        </p:nvSpPr>
        <p:spPr>
          <a:xfrm rot="641400">
            <a:off x="5508720" y="2276280"/>
            <a:ext cx="1081080" cy="201600"/>
          </a:xfrm>
          <a:prstGeom prst="rightArrow">
            <a:avLst>
              <a:gd name="adj1" fmla="val 50000"/>
              <a:gd name="adj2" fmla="val 1340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AutoShape 8"/>
          <p:cNvSpPr/>
          <p:nvPr/>
        </p:nvSpPr>
        <p:spPr>
          <a:xfrm rot="20605800">
            <a:off x="4719600" y="2734920"/>
            <a:ext cx="1768680" cy="216000"/>
          </a:xfrm>
          <a:prstGeom prst="rightArrow">
            <a:avLst>
              <a:gd name="adj1" fmla="val 50000"/>
              <a:gd name="adj2" fmla="val 20470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AutoShape 10"/>
          <p:cNvSpPr/>
          <p:nvPr/>
        </p:nvSpPr>
        <p:spPr>
          <a:xfrm rot="700800">
            <a:off x="4284360" y="4152960"/>
            <a:ext cx="2238480" cy="216000"/>
          </a:xfrm>
          <a:prstGeom prst="rightArrow">
            <a:avLst>
              <a:gd name="adj1" fmla="val 50000"/>
              <a:gd name="adj2" fmla="val 2590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AutoShape 11"/>
          <p:cNvSpPr/>
          <p:nvPr/>
        </p:nvSpPr>
        <p:spPr>
          <a:xfrm rot="19795200">
            <a:off x="3320640" y="4419720"/>
            <a:ext cx="3745080" cy="287280"/>
          </a:xfrm>
          <a:prstGeom prst="rightArrow">
            <a:avLst>
              <a:gd name="adj1" fmla="val 50000"/>
              <a:gd name="adj2" fmla="val 32590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5" name="Рисунок 8" descr="237.gif"/>
          <p:cNvPicPr/>
          <p:nvPr/>
        </p:nvPicPr>
        <p:blipFill>
          <a:blip r:embed="rId2"/>
          <a:stretch/>
        </p:blipFill>
        <p:spPr>
          <a:xfrm>
            <a:off x="5867280" y="5097600"/>
            <a:ext cx="19558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02b"/>
                </a:solidFill>
                <a:uFillTx/>
                <a:latin typeface="Times New Roman"/>
                <a:ea typeface="Times New Roman"/>
              </a:rPr>
              <a:t>КЛАСИФІКАЦІЯ ПОДІ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обо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зково має відбутися в даному випробуванні, називаєтьс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ірогідною подіє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підкидання грального кубик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цифр від 1 до 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є вірогідно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не може відбутися в даному випробуванні, називаєтьс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Неможливою подією</a:t>
            </a:r>
            <a:r>
              <a:rPr b="0" lang="ru-RU" sz="20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му прикладі такою подією є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яв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и 7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може відбутися,а може і не відбутися в даному випробуванні називається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ою подією</a:t>
            </a:r>
            <a:r>
              <a:rPr b="1" lang="ru-RU" sz="20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кидання грального кубик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цифри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наступити, а може і не наступи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Рисунок 8" descr="237.gif"/>
          <p:cNvPicPr/>
          <p:nvPr/>
        </p:nvPicPr>
        <p:blipFill>
          <a:blip r:embed="rId1"/>
          <a:stretch/>
        </p:blipFill>
        <p:spPr>
          <a:xfrm>
            <a:off x="7191360" y="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1. Прочитать п. 21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2. Виконати № 635, 637, 640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3. Придумати свої приклади для кажної категорії подій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Рисунок 8" descr="237.gif"/>
          <p:cNvPicPr/>
          <p:nvPr/>
        </p:nvPicPr>
        <p:blipFill>
          <a:blip r:embed="rId2"/>
          <a:stretch/>
        </p:blipFill>
        <p:spPr>
          <a:xfrm>
            <a:off x="3429000" y="421488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" descr=""/>
          <p:cNvPicPr/>
          <p:nvPr/>
        </p:nvPicPr>
        <p:blipFill>
          <a:blip r:embed="rId2"/>
          <a:stretch/>
        </p:blipFill>
        <p:spPr>
          <a:xfrm>
            <a:off x="633240" y="993600"/>
            <a:ext cx="6669360" cy="320688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8" descr="237.gif"/>
          <p:cNvPicPr/>
          <p:nvPr/>
        </p:nvPicPr>
        <p:blipFill>
          <a:blip r:embed="rId3"/>
          <a:stretch/>
        </p:blipFill>
        <p:spPr>
          <a:xfrm>
            <a:off x="4500720" y="3002040"/>
            <a:ext cx="37861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тематику багато люблять за її вічні істини: при множенні два на два - завжди чотири, сума непарних чисел непарна, а площа прямокутника дорівнює добутку його суміжних сторін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е життя не таке просте і однозначне. В оточуючому нас житті ми часто зустрічаємось з випадковими подіями: випадкова зустріч, випадкова знахідка, випадкова помилка, випадковий набір  виграшних  номерів у тиражі лотереї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214280"/>
            <a:ext cx="8686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ількість сонячних днів в даній місцевості змінюється з року в рік випадковим чин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падковість не дозволяє передбачувати навіть найближче майбутнє, не кажучи вже про більш далекі прогноз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ще буває випадковість корисна, бажана, щасли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з поганими випадковостями людина завжди бореть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840" y="785520"/>
            <a:ext cx="86868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юди давно вже підмітили, що випадковість має свої властивості, тобто випадковість можна і потрібно досліджува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ука про випадковості має назву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орії імовірності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к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дання грального кубика можна вважати дослідом, експерименто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 навіть грою, забавою), а одержаний результат – </a:t>
            </a:r>
            <a:r>
              <a:rPr b="1" lang="ru-RU" sz="2800" spc="-1" strike="noStrike" u="sng">
                <a:solidFill>
                  <a:srgbClr val="00602b"/>
                </a:solidFill>
                <a:uFillTx/>
                <a:latin typeface="Times New Roman"/>
                <a:ea typeface="Times New Roman"/>
              </a:rPr>
              <a:t>ПОДІЄЮ</a:t>
            </a:r>
            <a:r>
              <a:rPr b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8" descr="237.gif"/>
          <p:cNvPicPr/>
          <p:nvPr/>
        </p:nvPicPr>
        <p:blipFill>
          <a:blip r:embed="rId1"/>
          <a:stretch/>
        </p:blipFill>
        <p:spPr>
          <a:xfrm>
            <a:off x="6643800" y="4952880"/>
            <a:ext cx="2114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одія,яка в одних і тих же умов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може статися, а може і не стати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о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8" descr="237.gif"/>
          <p:cNvPicPr/>
          <p:nvPr/>
        </p:nvPicPr>
        <p:blipFill>
          <a:blip r:embed="rId2"/>
          <a:stretch/>
        </p:blipFill>
        <p:spPr>
          <a:xfrm>
            <a:off x="3571920" y="407196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кидаємо монет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вся герб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могла 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тися і цифр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е, що 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вся герб –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под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0" descr="BD05036_"/>
          <p:cNvPicPr/>
          <p:nvPr/>
        </p:nvPicPr>
        <p:blipFill>
          <a:blip r:embed="rId2"/>
          <a:stretch/>
        </p:blipFill>
        <p:spPr>
          <a:xfrm>
            <a:off x="3857760" y="3929040"/>
            <a:ext cx="1600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57200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4"/>
          <p:cNvSpPr/>
          <p:nvPr/>
        </p:nvSpPr>
        <p:spPr>
          <a:xfrm>
            <a:off x="714240" y="1285920"/>
            <a:ext cx="771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рілок влучає в  ціль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Але міг і не влучити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Влучення-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подія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ень вийшов погулят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устрів трьох товариш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устріч теж </a:t>
            </a:r>
            <a:r>
              <a:rPr b="1" lang="ru-RU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под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Рисунок 8" descr="237.gif"/>
          <p:cNvPicPr/>
          <p:nvPr/>
        </p:nvPicPr>
        <p:blipFill>
          <a:blip r:embed="rId2"/>
          <a:stretch/>
        </p:blipFill>
        <p:spPr>
          <a:xfrm>
            <a:off x="6572160" y="457200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99680" y="1571760"/>
            <a:ext cx="26240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00040" y="28576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В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571680" y="407196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С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571680" y="542916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3143160" y="14288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червон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214800" y="26431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елен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3214800" y="38577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жовт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214800" y="51436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16" descr="&amp;Kcy;&amp;acy;&amp;rcy;&amp;tcy;&amp;icy;&amp;ncy;&amp;kcy;&amp;acy; 1 &amp;icy;&amp;zcy; 122982"/>
          <p:cNvPicPr/>
          <p:nvPr/>
        </p:nvPicPr>
        <p:blipFill>
          <a:blip r:embed="rId1"/>
          <a:stretch/>
        </p:blipFill>
        <p:spPr>
          <a:xfrm>
            <a:off x="7429680" y="1071720"/>
            <a:ext cx="1250640" cy="1166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&amp;Kcy;&amp;acy;&amp;rcy;&amp;tcy;&amp;icy;&amp;ncy;&amp;kcy;&amp;acy; 3 &amp;icy;&amp;zcy; 127600"/>
          <p:cNvPicPr/>
          <p:nvPr/>
        </p:nvPicPr>
        <p:blipFill>
          <a:blip r:embed="rId2"/>
          <a:stretch/>
        </p:blipFill>
        <p:spPr>
          <a:xfrm>
            <a:off x="7429680" y="2428920"/>
            <a:ext cx="1319040" cy="1230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0" descr="i?id=118406736-67-72&amp;n=17"/>
          <p:cNvPicPr/>
          <p:nvPr/>
        </p:nvPicPr>
        <p:blipFill>
          <a:blip r:embed="rId3"/>
          <a:stretch/>
        </p:blipFill>
        <p:spPr>
          <a:xfrm>
            <a:off x="7429680" y="3786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i?id=429282771-39-72&amp;n=17"/>
          <p:cNvPicPr/>
          <p:nvPr/>
        </p:nvPicPr>
        <p:blipFill>
          <a:blip r:embed="rId4"/>
          <a:stretch/>
        </p:blipFill>
        <p:spPr>
          <a:xfrm>
            <a:off x="7429680" y="5276880"/>
            <a:ext cx="135720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7:29:24Z</dcterms:created>
  <dc:creator>!</dc:creator>
  <dc:description/>
  <dc:language>en-US</dc:language>
  <cp:lastModifiedBy>!</cp:lastModifiedBy>
  <dcterms:modified xsi:type="dcterms:W3CDTF">2014-02-19T18:37:10Z</dcterms:modified>
  <cp:revision>18</cp:revision>
  <dc:subject/>
  <dc:title>Вчитель математики  Зеленогайської загальноосвітньої школи І-ІІІ ступенів  Харківської районної ради харківської області сова Олена Анатолії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e000000000001024140</vt:lpwstr>
  </property>
</Properties>
</file>