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wmf" ContentType="image/x-wmf"/>
  <Override PartName="/ppt/media/image14.png" ContentType="image/png"/>
  <Override PartName="/ppt/media/image11.jpeg" ContentType="image/jpeg"/>
  <Override PartName="/ppt/media/image8.png" ContentType="image/png"/>
  <Override PartName="/ppt/media/image7.gif" ContentType="image/gif"/>
  <Override PartName="/ppt/media/image12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7CEA-A0E7-442E-9805-E715E6BEA8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9162-1923-475A-8734-2280FD1634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126D-F586-40BB-8337-59CBA1D63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27C8-A021-457C-8DE6-00815E0D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A362C-D51B-4DAA-84FA-46FC3622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F84C8B-E698-4A47-88CD-011F1CF9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3AE81-AA9D-4538-A907-477101A4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28EE5-B465-44C1-BB34-A19C390A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59CB3-A6D2-4B81-8B03-EA505D92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B4A636-C122-44F5-B163-B5ACCC9D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C888D-70FE-4D10-94A2-D8D1D8F0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8960FD-FB32-4CC1-A3F2-93C9C230B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AC803-132E-4AF9-B834-638BDCFFB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1AA9-0A9B-413C-ACC8-0E47958A8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4A84-9164-4CA1-B0C1-31E116922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ADF0-3212-4239-AA15-58329301D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FDF6-419E-448F-81DA-50997E75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8A6A-ADAB-4A37-88E2-0CED8003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7BC0-31CE-4B83-909C-E9B19D61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31E4-420D-4304-B532-6EFA6DF3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2FE2-DF04-4561-B04D-F43C17EF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9694-C1C4-44AC-8AD9-0F5DE4C1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7389-D226-48D9-91BB-E222E8A1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D79B-50F8-402E-BFCA-05D8894D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EAD8-9827-452E-86F5-92565AEF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FAE4-6BF9-44AF-A111-E2AF8631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7C8B-B3D5-4006-AE32-DFAD3AA0E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ACD2-733D-4B8B-80B5-D51D465E3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54A90-0A84-4235-9D72-7B6BE3C8E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138B8-A196-4A97-8F3D-17F23BAB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A7556-311D-493A-ABA8-F9D3ACCB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D5D0E-A9CF-4D1E-84F0-2714ABF5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7F1B3-9219-44D9-9C36-DA81466A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B998-4200-49CF-8536-4A879E35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58F0D-DF01-4AEC-A163-73D84BD8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E35FC-E951-4220-B304-FE034648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56090-EE05-49D3-BCE4-6058E618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89AE0-DDDF-439B-ADB9-7FE68BA7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CCB4E-C511-4B52-BDE6-56633FCD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84116-482E-4707-81E5-3F674F737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101EA-BD06-4C2F-8BE1-39B60DB1C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6DFA6-0E87-4FD9-9656-2023A7CC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DDF64-2A3F-440A-89D1-C62B1D2E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DD2F8-CFD7-4C50-A014-5420D1AA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72A6-8796-4630-A598-F7420CC6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36734-5062-42FE-8457-B863FE67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F4296-F668-459C-A9A3-42F14F1E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26AC4-65BB-4593-97F1-7EE4C0C5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7B664-2700-4346-8368-E520CC42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625C2-5A25-4160-931A-1072B8BF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E57BF-1A5E-4D75-B3BB-C965BEC7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2BD43-DEE3-4118-A8EB-0ADD040B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7793E-4DAB-42D1-8B39-317A8B114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0E946-2123-4367-8014-21D372DBA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A18DF-F89D-438E-90FE-88182029C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2A9B-1ABF-4B99-A745-28713637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D947A-59F1-47A3-93ED-C18F603A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50242-6137-4F10-B5A1-1AC72879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6125D-2982-4D7F-A319-322D15E7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08152-28D4-46B2-9E9A-FAF6981E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26EEA-5EAC-4619-9120-3405FD1E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FF3BD-97D9-475E-AF95-FCF75C6C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2214A-ACDE-40E6-B4BD-B17B6213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BC1CF-44F1-47EF-BCFA-152D4EC8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C0C45-0030-4DEC-82B8-84D9D01C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B3850-4016-4354-B0F0-E9EE3D97B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BC93-DDD6-44A4-B50A-76DAED82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8EA47-0B10-4E26-81F6-2CEA6BDF9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4FC1D-6622-42C0-90CB-BC44DF627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38067-ADF3-41FE-AAE3-B17F2DCA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D41F7-657C-40BF-B494-27EB5C9D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A1F4F-0D0C-45E2-A81D-692FF397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95D1F-C2AA-429C-B11D-C4CA351A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5BE3A-5C72-400D-AF97-C47888DD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9E2B0-820A-4F80-ABD8-BC964DC2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C3A0B-2CFD-4129-9C5C-3DF88D86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AFEBF-8F7C-490D-B1AF-0D7319D8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494A-41AE-401D-A8B8-916358E8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0BC4A-87AE-4F73-9FED-93D6B790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011BB-F62F-4FB1-BA9B-E497AC6D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A01DD-651A-4937-8561-7C202E2E5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95B3C-9C44-4A14-A111-38AE78C1B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F1215-4D62-4DDC-8EAF-1D30EB63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97234-2A94-4EB3-997C-F360B4F9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315D6-4BE6-4CD3-B46B-98CF7D68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06107-BD14-4846-B4BA-F7F8A845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65E73-4598-4E41-A643-FF6E330C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51416-10F9-4E7B-A2E1-0576DA59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98E8-B1B3-4862-9C7F-61BA921F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8F70D-58A4-48CA-8064-6E138253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44A51-0028-4023-AF12-93824CFB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7F9C9-0F89-4137-9143-C2AA09CC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00C14-A04C-4445-A913-A4467B62C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93B12-EDD2-4B55-9ECC-92BEB6B5B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0CCC4-9E04-4369-B752-3D8D967F2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2D9DD-5136-4EF8-9415-5BB2E019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C0FFF-0D77-4934-81FF-8EDDA3B2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1D6CB-8AF2-4CA6-B0A5-8F081281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D1672-3CCD-4052-ABBB-45F6EB04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3DEF-41B0-4E10-9BDF-2AEDACEB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3B582-4691-433C-AAE4-1CE2EAC5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00DD8-BA18-4000-998C-526D55FE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6C7D9-B5F8-4655-93CF-1AD6E79B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B3B68-B535-40D3-BE90-D8F7E7FB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D1F6B-89BD-449F-A95E-BFEE0F17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19EBB-CF72-47A8-AF0D-71D005EC1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F7A9C-8173-45FE-B770-66BC2BF78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DE48F-6487-48EF-BA49-92A256927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2961A-CFA4-4BC5-AA3D-97B5B1D8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6F33C0-F239-42C1-A12B-9DFFA785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F224-C80D-44A1-974A-E1A825DB769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F555-A579-4B16-ABBA-906953E82E3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70E0-8E0B-4039-8871-EA8F7A62116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0815-5E95-42BA-B6AA-3AE007CDC83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6080-5D61-4F8F-BC0F-5EB84A1D791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F911-6053-49AA-80D7-705FF61293E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2B1E-CC10-4D13-BD00-A5B8E885799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89E5-A87A-47E7-AAF6-3DC1EF51CAA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3C38-F971-4D51-BCCB-8E41E6357B2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317520" y="4322880"/>
            <a:ext cx="5473800" cy="1962000"/>
          </a:xfrm>
          <a:prstGeom prst="rect">
            <a:avLst/>
          </a:prstGeom>
          <a:ln w="0">
            <a:noFill/>
          </a:ln>
        </p:spPr>
      </p:pic>
      <p:pic>
        <p:nvPicPr>
          <p:cNvPr id="407" name="Подзаголовок 2" descr=""/>
          <p:cNvPicPr/>
          <p:nvPr/>
        </p:nvPicPr>
        <p:blipFill>
          <a:blip r:embed="rId2"/>
          <a:stretch/>
        </p:blipFill>
        <p:spPr>
          <a:xfrm>
            <a:off x="281160" y="420840"/>
            <a:ext cx="8466120" cy="452268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8" descr="237.gif"/>
          <p:cNvPicPr/>
          <p:nvPr/>
        </p:nvPicPr>
        <p:blipFill>
          <a:blip r:embed="rId3"/>
          <a:stretch/>
        </p:blipFill>
        <p:spPr>
          <a:xfrm>
            <a:off x="6429240" y="4500720"/>
            <a:ext cx="21146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дія,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яка в даних умовах ніколи не станеться, називається </a:t>
            </a:r>
            <a:r>
              <a:rPr b="1" lang="uk-UA" sz="32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неможливою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2" name="Рисунок 8" descr="237.gif"/>
          <p:cNvPicPr/>
          <p:nvPr/>
        </p:nvPicPr>
        <p:blipFill>
          <a:blip r:embed="rId2"/>
          <a:stretch/>
        </p:blipFill>
        <p:spPr>
          <a:xfrm>
            <a:off x="3643200" y="4429080"/>
            <a:ext cx="2114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дія,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яка в даних умовах обов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’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язково станеться, називається </a:t>
            </a:r>
            <a:r>
              <a:rPr b="1" lang="uk-UA" sz="32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вірогідною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5" name="Рисунок 8" descr="237.gif"/>
          <p:cNvPicPr/>
          <p:nvPr/>
        </p:nvPicPr>
        <p:blipFill>
          <a:blip r:embed="rId2"/>
          <a:stretch/>
        </p:blipFill>
        <p:spPr>
          <a:xfrm>
            <a:off x="3643200" y="4429080"/>
            <a:ext cx="2114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) Подія А – вода в річці замерзла при температурі +25 градусів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) Подія В – при киданні гральної кості випало 7 очок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8" name="Рисунок 8" descr="237.gif"/>
          <p:cNvPicPr/>
          <p:nvPr/>
        </p:nvPicPr>
        <p:blipFill>
          <a:blip r:embed="rId2"/>
          <a:stretch/>
        </p:blipFill>
        <p:spPr>
          <a:xfrm>
            <a:off x="3643200" y="4429080"/>
            <a:ext cx="2114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3) Подія С – після четверга наступила п</a:t>
            </a:r>
            <a:r>
              <a:rPr b="1" lang="en-US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’</a:t>
            </a:r>
            <a:r>
              <a:rPr b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ятниц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4) Подія Н – при киданні гральної кості випало менше ніж 7 очок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1" name="Рисунок 8" descr="237.gif"/>
          <p:cNvPicPr/>
          <p:nvPr/>
        </p:nvPicPr>
        <p:blipFill>
          <a:blip r:embed="rId2"/>
          <a:stretch/>
        </p:blipFill>
        <p:spPr>
          <a:xfrm>
            <a:off x="3643200" y="4429080"/>
            <a:ext cx="2114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Події, які мають рівні шанси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називають </a:t>
            </a:r>
            <a:r>
              <a:rPr b="1" lang="uk-UA" sz="32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рівноймовірним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4" name="Рисунок 8" descr="237.gif"/>
          <p:cNvPicPr/>
          <p:nvPr/>
        </p:nvPicPr>
        <p:blipFill>
          <a:blip r:embed="rId2"/>
          <a:stretch/>
        </p:blipFill>
        <p:spPr>
          <a:xfrm>
            <a:off x="3643200" y="4429080"/>
            <a:ext cx="2114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1" descr=""/>
          <p:cNvPicPr/>
          <p:nvPr/>
        </p:nvPicPr>
        <p:blipFill>
          <a:blip r:embed="rId1"/>
          <a:stretch/>
        </p:blipFill>
        <p:spPr>
          <a:xfrm>
            <a:off x="225360" y="212760"/>
            <a:ext cx="8918640" cy="11350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ене завтра запитають на уроці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Літом у меня будуть канікули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ені сьогодні зустрінеться чорна кішка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ень народження мого друга – число, менше за 32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Із шкільного вікна видно море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Завтра буде неділя, якщо сьогодні субота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ибрали навмання слово з підручника, і в ньому є буква о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амінь, кинутий у воду, потоне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оли ти станеш дорослим, тебе оберуть  Президентом України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ступний рік буде високосним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7" name="Рисунок 8" descr="237.gif"/>
          <p:cNvPicPr/>
          <p:nvPr/>
        </p:nvPicPr>
        <p:blipFill>
          <a:blip r:embed="rId2"/>
          <a:stretch/>
        </p:blipFill>
        <p:spPr>
          <a:xfrm>
            <a:off x="6572160" y="4952880"/>
            <a:ext cx="2114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Rectangle 4" descr=""/>
          <p:cNvPicPr/>
          <p:nvPr/>
        </p:nvPicPr>
        <p:blipFill>
          <a:blip r:embed="rId1"/>
          <a:stretch/>
        </p:blipFill>
        <p:spPr>
          <a:xfrm>
            <a:off x="285840" y="328680"/>
            <a:ext cx="8467560" cy="128736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684000" y="1844280"/>
            <a:ext cx="48956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ийнята куля білого кольору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ийнята куля чорного кольору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ийнята куля зеленого  кольору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ийнята куля чорного або білого кольору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56000" y="1557360"/>
            <a:ext cx="270036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ипадков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ірогідн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Неможлив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1" name="AutoShape 7"/>
          <p:cNvSpPr/>
          <p:nvPr/>
        </p:nvSpPr>
        <p:spPr>
          <a:xfrm rot="641400">
            <a:off x="5508720" y="2276280"/>
            <a:ext cx="1081080" cy="201600"/>
          </a:xfrm>
          <a:prstGeom prst="rightArrow">
            <a:avLst>
              <a:gd name="adj1" fmla="val 50000"/>
              <a:gd name="adj2" fmla="val 13406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2" name="AutoShape 8"/>
          <p:cNvSpPr/>
          <p:nvPr/>
        </p:nvSpPr>
        <p:spPr>
          <a:xfrm rot="20605800">
            <a:off x="4719600" y="2734920"/>
            <a:ext cx="1768680" cy="216000"/>
          </a:xfrm>
          <a:prstGeom prst="rightArrow">
            <a:avLst>
              <a:gd name="adj1" fmla="val 50000"/>
              <a:gd name="adj2" fmla="val 20470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3" name="AutoShape 10"/>
          <p:cNvSpPr/>
          <p:nvPr/>
        </p:nvSpPr>
        <p:spPr>
          <a:xfrm rot="700800">
            <a:off x="4284360" y="4152960"/>
            <a:ext cx="2238480" cy="216000"/>
          </a:xfrm>
          <a:prstGeom prst="rightArrow">
            <a:avLst>
              <a:gd name="adj1" fmla="val 50000"/>
              <a:gd name="adj2" fmla="val 25908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AutoShape 11"/>
          <p:cNvSpPr/>
          <p:nvPr/>
        </p:nvSpPr>
        <p:spPr>
          <a:xfrm rot="19795200">
            <a:off x="3320640" y="4419720"/>
            <a:ext cx="3745080" cy="287280"/>
          </a:xfrm>
          <a:prstGeom prst="rightArrow">
            <a:avLst>
              <a:gd name="adj1" fmla="val 50000"/>
              <a:gd name="adj2" fmla="val 32590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65" name="Рисунок 8" descr="237.gif"/>
          <p:cNvPicPr/>
          <p:nvPr/>
        </p:nvPicPr>
        <p:blipFill>
          <a:blip r:embed="rId2"/>
          <a:stretch/>
        </p:blipFill>
        <p:spPr>
          <a:xfrm>
            <a:off x="5867280" y="5097600"/>
            <a:ext cx="195588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02b"/>
                </a:solidFill>
                <a:uFillTx/>
                <a:latin typeface="Times New Roman"/>
                <a:ea typeface="Times New Roman"/>
              </a:rPr>
              <a:t>КЛАСИФІКАЦІЯ ПОДІЙ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дія, яка обо</a:t>
            </a: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’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язково має відбутися в даному випробуванні, називається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8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Вірогідною подією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клад, підкидання грального кубика: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а цифр від 1 до 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є вірогідною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дія, яка не може відбутися в даному випробуванні, називається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8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Неможливою подією</a:t>
            </a:r>
            <a:r>
              <a:rPr b="0" lang="ru-RU" sz="20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beec9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шому прикладі такою подією є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оява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ифри 7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дія, яка може відбутися,а може і не відбутися в даному випробуванні називається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8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Випадковою подією</a:t>
            </a:r>
            <a:r>
              <a:rPr b="1" lang="ru-RU" sz="20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кидання грального кубика: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а цифри 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е наступити, а може і не наступит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7" name="Рисунок 8" descr="237.gif"/>
          <p:cNvPicPr/>
          <p:nvPr/>
        </p:nvPicPr>
        <p:blipFill>
          <a:blip r:embed="rId1"/>
          <a:stretch/>
        </p:blipFill>
        <p:spPr>
          <a:xfrm>
            <a:off x="7191360" y="0"/>
            <a:ext cx="17272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4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4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1. Прочитать п. 21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2. Виконати № 635, 637, 640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3. Придумати свої приклади для кажної категорії подій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70" name="Рисунок 8" descr="237.gif"/>
          <p:cNvPicPr/>
          <p:nvPr/>
        </p:nvPicPr>
        <p:blipFill>
          <a:blip r:embed="rId2"/>
          <a:stretch/>
        </p:blipFill>
        <p:spPr>
          <a:xfrm>
            <a:off x="3429000" y="4214880"/>
            <a:ext cx="17272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72" name="Прямоугольник 3" descr=""/>
          <p:cNvPicPr/>
          <p:nvPr/>
        </p:nvPicPr>
        <p:blipFill>
          <a:blip r:embed="rId2"/>
          <a:stretch/>
        </p:blipFill>
        <p:spPr>
          <a:xfrm>
            <a:off x="633240" y="993600"/>
            <a:ext cx="6669360" cy="3206880"/>
          </a:xfrm>
          <a:prstGeom prst="rect">
            <a:avLst/>
          </a:prstGeom>
          <a:ln w="0">
            <a:noFill/>
          </a:ln>
        </p:spPr>
      </p:pic>
      <p:pic>
        <p:nvPicPr>
          <p:cNvPr id="473" name="Рисунок 8" descr="237.gif"/>
          <p:cNvPicPr/>
          <p:nvPr/>
        </p:nvPicPr>
        <p:blipFill>
          <a:blip r:embed="rId3"/>
          <a:stretch/>
        </p:blipFill>
        <p:spPr>
          <a:xfrm>
            <a:off x="4500720" y="3002040"/>
            <a:ext cx="378612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04920" y="1143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атематику багато люблять за її вічні істини: при множенні два на два - завжди чотири, сума непарних чисел непарна, а площа прямокутника дорівнює добутку його суміжних сторін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еальне життя не таке просте і однозначне. В оточуючому нас житті ми часто зустрічаємось з випадковими подіями: випадкова зустріч, випадкова знахідка, випадкова помилка, випадковий набір  виграшних  номерів у тиражі лотереї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Рисунок 8" descr="237.gif"/>
          <p:cNvPicPr/>
          <p:nvPr/>
        </p:nvPicPr>
        <p:blipFill>
          <a:blip r:embed="rId1"/>
          <a:stretch/>
        </p:blipFill>
        <p:spPr>
          <a:xfrm>
            <a:off x="6572160" y="4952880"/>
            <a:ext cx="2114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04920" y="1214280"/>
            <a:ext cx="86868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ількість сонячних днів в даній місцевості змінюється з року в рік випадковим чином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ипадковість не дозволяє передбачувати навіть найближче майбутнє, не кажучи вже про більш далекі прогнози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 ще буває випадковість корисна, бажана, щаслив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 з поганими випадковостями людина завжди боретьс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2" name="Рисунок 8" descr="237.gif"/>
          <p:cNvPicPr/>
          <p:nvPr/>
        </p:nvPicPr>
        <p:blipFill>
          <a:blip r:embed="rId1"/>
          <a:stretch/>
        </p:blipFill>
        <p:spPr>
          <a:xfrm>
            <a:off x="6572160" y="4952880"/>
            <a:ext cx="2114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285840" y="785520"/>
            <a:ext cx="868680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Люди давно вже підмітили, що випадковість має свої властивості, тобто випадковість можна і потрібно досліджуват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ука про випадковості має назву </a:t>
            </a:r>
            <a:r>
              <a:rPr b="1" i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еорії імовірності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ідк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дання грального кубика можна вважати дослідом, експериментом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( навіть грою, забавою), а одержаний результат – </a:t>
            </a:r>
            <a:r>
              <a:rPr b="1" lang="ru-RU" sz="2800" spc="-1" strike="noStrike" u="sng">
                <a:solidFill>
                  <a:srgbClr val="00602b"/>
                </a:solidFill>
                <a:uFillTx/>
                <a:latin typeface="Times New Roman"/>
                <a:ea typeface="Times New Roman"/>
              </a:rPr>
              <a:t>ПОДІЄЮ</a:t>
            </a:r>
            <a:r>
              <a:rPr b="1" lang="ru-RU" sz="28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4" name="Рисунок 8" descr="237.gif"/>
          <p:cNvPicPr/>
          <p:nvPr/>
        </p:nvPicPr>
        <p:blipFill>
          <a:blip r:embed="rId1"/>
          <a:stretch/>
        </p:blipFill>
        <p:spPr>
          <a:xfrm>
            <a:off x="6643800" y="4952880"/>
            <a:ext cx="21142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Подія,яка в одних і тих же умовах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може статися, а може і не статися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називається </a:t>
            </a:r>
            <a:r>
              <a:rPr b="1" lang="uk-UA" sz="32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випадковою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Рисунок 8" descr="237.gif"/>
          <p:cNvPicPr/>
          <p:nvPr/>
        </p:nvPicPr>
        <p:blipFill>
          <a:blip r:embed="rId2"/>
          <a:stretch/>
        </p:blipFill>
        <p:spPr>
          <a:xfrm>
            <a:off x="3571920" y="4071960"/>
            <a:ext cx="2114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ідкидаємо монету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З</a:t>
            </a:r>
            <a:r>
              <a:rPr b="1" lang="en-US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’</a:t>
            </a:r>
            <a:r>
              <a:rPr b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явився герб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 могла з</a:t>
            </a:r>
            <a:r>
              <a:rPr b="1" lang="en-US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’</a:t>
            </a:r>
            <a:r>
              <a:rPr b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явитися і цифра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Те, що з</a:t>
            </a:r>
            <a:r>
              <a:rPr b="1" lang="en-US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’</a:t>
            </a:r>
            <a:r>
              <a:rPr b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явився герб – </a:t>
            </a:r>
            <a:r>
              <a:rPr b="1" lang="uk-UA" sz="32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випадкова поді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0" descr="BD05036_"/>
          <p:cNvPicPr/>
          <p:nvPr/>
        </p:nvPicPr>
        <p:blipFill>
          <a:blip r:embed="rId2"/>
          <a:stretch/>
        </p:blipFill>
        <p:spPr>
          <a:xfrm>
            <a:off x="3857760" y="3929040"/>
            <a:ext cx="16002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04920" y="1285560"/>
            <a:ext cx="86868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2" name="Рисунок 8" descr="237.gif"/>
          <p:cNvPicPr/>
          <p:nvPr/>
        </p:nvPicPr>
        <p:blipFill>
          <a:blip r:embed="rId1"/>
          <a:stretch/>
        </p:blipFill>
        <p:spPr>
          <a:xfrm>
            <a:off x="6572160" y="4572000"/>
            <a:ext cx="2114640" cy="1905120"/>
          </a:xfrm>
          <a:prstGeom prst="rect">
            <a:avLst/>
          </a:prstGeom>
          <a:ln w="0">
            <a:noFill/>
          </a:ln>
        </p:spPr>
      </p:pic>
      <p:sp>
        <p:nvSpPr>
          <p:cNvPr id="423" name="Прямоугольник 4"/>
          <p:cNvSpPr/>
          <p:nvPr/>
        </p:nvSpPr>
        <p:spPr>
          <a:xfrm>
            <a:off x="714240" y="1285920"/>
            <a:ext cx="7715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Стрілок влучає в  ціль.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Але міг і не влучити.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Влучення-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випадкова 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подія.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4" name="Заголовок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чень вийшов погуляти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Зустрів трьох товаришів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Зустріч теж </a:t>
            </a:r>
            <a:r>
              <a:rPr b="1" lang="ru-RU" sz="32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випадкова поді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7" name="Рисунок 8" descr="237.gif"/>
          <p:cNvPicPr/>
          <p:nvPr/>
        </p:nvPicPr>
        <p:blipFill>
          <a:blip r:embed="rId2"/>
          <a:stretch/>
        </p:blipFill>
        <p:spPr>
          <a:xfrm>
            <a:off x="6572160" y="4572000"/>
            <a:ext cx="2114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99680" y="1571760"/>
            <a:ext cx="26240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дія 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Text Box 10"/>
          <p:cNvSpPr/>
          <p:nvPr/>
        </p:nvSpPr>
        <p:spPr>
          <a:xfrm>
            <a:off x="500040" y="2857680"/>
            <a:ext cx="262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дія В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0" name="Text Box 10"/>
          <p:cNvSpPr/>
          <p:nvPr/>
        </p:nvSpPr>
        <p:spPr>
          <a:xfrm>
            <a:off x="571680" y="4071960"/>
            <a:ext cx="262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дія С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1" name="Text Box 10"/>
          <p:cNvSpPr/>
          <p:nvPr/>
        </p:nvSpPr>
        <p:spPr>
          <a:xfrm>
            <a:off x="571680" y="5429160"/>
            <a:ext cx="262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дія </a:t>
            </a:r>
            <a:r>
              <a:rPr b="0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Text Box 6"/>
          <p:cNvSpPr/>
          <p:nvPr/>
        </p:nvSpPr>
        <p:spPr>
          <a:xfrm>
            <a:off x="3143160" y="1428840"/>
            <a:ext cx="43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Вийнято</a:t>
            </a:r>
            <a:r>
              <a:rPr b="0" i="1" lang="ru-RU" sz="3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червоне яблуко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3214800" y="264312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Вийнято</a:t>
            </a:r>
            <a:r>
              <a:rPr b="0" i="1" lang="ru-RU" sz="3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зелене яблуко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Text Box 6"/>
          <p:cNvSpPr/>
          <p:nvPr/>
        </p:nvSpPr>
        <p:spPr>
          <a:xfrm>
            <a:off x="3214800" y="385776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Вийнято</a:t>
            </a:r>
            <a:r>
              <a:rPr b="0" i="1" lang="ru-RU" sz="3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жовте яблуко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3214800" y="514368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Вийнято</a:t>
            </a:r>
            <a:r>
              <a:rPr b="0" i="1" lang="ru-RU" sz="3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яблуко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6" name="Picture 16" descr="&amp;Kcy;&amp;acy;&amp;rcy;&amp;tcy;&amp;icy;&amp;ncy;&amp;kcy;&amp;acy; 1 &amp;icy;&amp;zcy; 122982"/>
          <p:cNvPicPr/>
          <p:nvPr/>
        </p:nvPicPr>
        <p:blipFill>
          <a:blip r:embed="rId1"/>
          <a:stretch/>
        </p:blipFill>
        <p:spPr>
          <a:xfrm>
            <a:off x="7429680" y="1071720"/>
            <a:ext cx="1250640" cy="11667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8" descr="&amp;Kcy;&amp;acy;&amp;rcy;&amp;tcy;&amp;icy;&amp;ncy;&amp;kcy;&amp;acy; 3 &amp;icy;&amp;zcy; 127600"/>
          <p:cNvPicPr/>
          <p:nvPr/>
        </p:nvPicPr>
        <p:blipFill>
          <a:blip r:embed="rId2"/>
          <a:stretch/>
        </p:blipFill>
        <p:spPr>
          <a:xfrm>
            <a:off x="7429680" y="2428920"/>
            <a:ext cx="1319040" cy="12301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20" descr="i?id=118406736-67-72&amp;n=17"/>
          <p:cNvPicPr/>
          <p:nvPr/>
        </p:nvPicPr>
        <p:blipFill>
          <a:blip r:embed="rId3"/>
          <a:stretch/>
        </p:blipFill>
        <p:spPr>
          <a:xfrm>
            <a:off x="7429680" y="378612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4" descr="i?id=429282771-39-72&amp;n=17"/>
          <p:cNvPicPr/>
          <p:nvPr/>
        </p:nvPicPr>
        <p:blipFill>
          <a:blip r:embed="rId4"/>
          <a:stretch/>
        </p:blipFill>
        <p:spPr>
          <a:xfrm>
            <a:off x="7429680" y="5276880"/>
            <a:ext cx="135720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9T17:29:24Z</dcterms:created>
  <dc:creator>!</dc:creator>
  <dc:description/>
  <dc:language>en-US</dc:language>
  <cp:lastModifiedBy>!</cp:lastModifiedBy>
  <dcterms:modified xsi:type="dcterms:W3CDTF">2014-02-19T18:37:10Z</dcterms:modified>
  <cp:revision>18</cp:revision>
  <dc:subject/>
  <dc:title>Вчитель математики  Зеленогайської загальноосвітньої школи І-ІІІ ступенів  Харківської районної ради харківської області сова Олена Анатоліїв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61e000000000001024140</vt:lpwstr>
  </property>
</Properties>
</file>