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7.gif" ContentType="image/gif"/>
  <Override PartName="/ppt/media/image12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00E5-8BDC-4524-99BE-6CE3BBCB7F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90E2-F1B2-4C45-8228-DA1CD39175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673-BB8D-4551-8522-77685D4A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28A-1264-4ADB-B8B1-ADC7EF46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0A6F1-0A30-4A20-B655-09DE2835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2F04F-E27A-4445-9CA3-7097CE22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BEFB8-052D-4354-A7CB-8DE4D6AD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79EB0-1798-404B-B1DB-3DFF0176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ED281-C951-4FAC-BA4C-978DFD5B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224E2-06CF-49DF-B141-BAE08724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E92FD-F48B-4AE5-8672-E54821BF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EC73F-3C9D-4E61-BEB7-F17F0EA0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5B9C3-BC68-40A0-961F-57242A48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944-DAB4-488A-8496-E4238F8C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100-D14A-4C0D-8934-7F346067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216D-EB74-4557-B8AA-B3984A4D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7C37-D77C-4874-B5C7-401C884C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A85D-7B1A-4CE0-8FB2-063ABEA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6DB3-C14B-4E5C-A33F-DBFD8375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B29D-FD0F-403A-BA11-FC64F17B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8CC4-B2D7-4F31-89D8-C3141650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AD40-42C8-4715-ACAF-BEAFD930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76F-9AB6-4849-AC83-5B7CD9D3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9F04-6409-4B7E-8160-406A7415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EFC8-28E4-4AE8-9DD9-E5F3A945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A16C-4745-4376-AEFA-BA069466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7723-445E-4F96-A721-EC576544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162F-7BE3-4A95-94A9-269C16FD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BCF1-ED24-4DE7-8584-B0C35746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E8C7-5271-420F-BFF4-7267624B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1EE1-A117-489A-BBB4-715402B6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F21F5-8991-443F-85B4-74EE565D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384B5-9A1D-4F4A-833E-30B5C8B2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B1B-83AE-4ED4-9206-CE36C282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F1D0-3E67-4E62-89B1-E0BE79F6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1B90-1F3F-4984-A711-B3071929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BE2B-94E3-42CC-AF2B-7E559B5C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3DFD-E6EF-47B0-BC1F-7477A146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775BD-ECD2-47D1-84DA-5E5B54FB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5AAE1-C068-4871-AFBA-51BCEA13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252E-CBC8-4891-AAFF-0791049F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FB61-1BCC-4791-9E4A-C6924854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9853-1DB0-4CB4-852B-0CCDB7BF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94EA-E72E-46AE-81C3-4A3080EA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860-63E3-4F5D-8F7E-FE49B998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3B9B2-FDF7-49CD-903F-ADEF68DA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01102-A270-41C8-94CC-234C2479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1AC7B-7B67-4F2D-A210-7A5CAA13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CAE7-E0C0-463F-9D19-BF9BC796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94707-3A62-49D5-9809-5D990040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F3AE-F95D-4661-B681-D11A180C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AA0E1-B6CE-47A9-8E05-56B37F16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4E66-ADA5-4740-B0B7-4CB26DC4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D7DB-6968-4B88-B1E9-B2B07C4D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6F3F3-2EEF-48CF-98BA-74C6F6C7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1D0-42A0-4AF9-AD60-7339482F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7E02F-87F4-4361-929A-80F9F542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8A847-25AC-43D8-B507-1A2C5FAA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41D50-8EB9-4192-8F60-EAD8223B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F89FA-F0C9-4CCB-A905-BCF7A975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429C7-5876-4E60-AA16-9F44E2DE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58E4F-5C87-4649-9D5F-5C825190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BC120-4D0A-4B93-9D0E-262D9C3A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340F0-9047-48C6-9B5B-5CD2F15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95BF7-E638-4DD1-ABD5-3D64C010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FE0C9-98EB-4E27-9125-841F75E4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723-C2AB-429F-A8E1-FA86B555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9685F-4296-4BEB-A7DF-FE158BEE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C1800-A7BA-4F6F-918D-DC218B24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19DAE-0D8A-4E7A-A602-19F19689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E2B49-B389-40C1-B2BE-7848EB36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5511-2919-4547-BB15-867E58EE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13E49-BD98-44A0-B8B0-679943E4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AF778-EED9-4A3F-A377-6E21D237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C3E39-AAE7-42B1-AFCF-0B42CA77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EE17A-B1A0-4732-8FBE-E0A0101E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817A4-54CA-4F66-91EE-E66E8DAC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BD5-746E-40B3-8A27-C2F04BD0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58812-91AE-46CF-9A09-5F81FA91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6FC8A-AF3F-4D61-AD65-3367AF63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F4F0C-CB00-4BBA-A70C-D9F2F915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FD116-4B52-418B-A98A-CE168224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23C52-1C6C-4E2A-9F89-A2EBC219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CD924-C080-484D-B87C-D41F95BD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0D6DE-6B69-47AD-A6C1-B8DC2728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00BC5-D46E-4609-BC78-B8F83D48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E7022-F273-462B-B89A-61FB62F6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5EFBD-1F20-4052-9672-F48EB474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B4F-D247-4F4C-9F10-A54DCCCF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ED489-E259-48EB-AE9F-C87AD4FC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451C1-B7F4-4DC4-8CED-052F0740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640D8-35BC-43A2-AD21-74CCA871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F4F16-28A1-41D9-90F0-DD071A38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F7A90-2130-446E-A83E-BA0EF1B9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75358-364A-48BB-A520-F4FAD597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1E031-32DC-4AB0-B94F-178C3625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CC7BD-A506-4087-939D-BEFDC16D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B4745-BA6F-422B-8ED2-459BD454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05B6B-532D-4350-988C-472E5442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68F-7DA1-41AB-8B27-641EDE81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6EC44-57A4-4985-92D0-ADBF1D35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898C4-20B3-4BD0-9FF6-AAD61A1A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440DE-C0DC-4C9E-8719-2521926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811AD-445B-42F0-A579-5E777B7C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CBD74-9EBD-4E0D-BF11-1551501A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20DB8-64DF-4C48-BCBA-F17D0794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4CAD9-C011-4490-8726-5D2FBD52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EFE18-232A-4DC7-9783-CA6F2B97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5516D-2E6C-4F95-927A-89F88235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6A240-F8D5-48E7-8251-7D5D265E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2909-FBD0-44C2-87BA-DE89E1324E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6C6A-924C-4C99-AB6E-8FFC91A9409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BBB2-20FE-4042-A245-D50363233C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6415-938E-4598-8C9E-5B7E4D8C21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9337-9A13-455C-9D03-90EA865D7D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0813-DE5D-456A-A852-11241D09B0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CF84-C3E0-41D4-BF2C-12F469D129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312D-6980-4EB4-8570-96C34C57A8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B63A-35BA-44CF-BDEA-DD5D416ECC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17520" y="4322880"/>
            <a:ext cx="5473800" cy="1962000"/>
          </a:xfrm>
          <a:prstGeom prst="rect">
            <a:avLst/>
          </a:prstGeom>
          <a:ln w="0">
            <a:noFill/>
          </a:ln>
        </p:spPr>
      </p:pic>
      <p:pic>
        <p:nvPicPr>
          <p:cNvPr id="407" name="Подзаголовок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466120" cy="45226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8" descr="237.gif"/>
          <p:cNvPicPr/>
          <p:nvPr/>
        </p:nvPicPr>
        <p:blipFill>
          <a:blip r:embed="rId3"/>
          <a:stretch/>
        </p:blipFill>
        <p:spPr>
          <a:xfrm>
            <a:off x="6429240" y="4500720"/>
            <a:ext cx="2114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ія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ка в даних умовах ніколи не станеться, 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неможливо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ія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ка в даних умовах обов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зково станеться, 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ірогідною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5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) Подія А – вода в річці замерзла при температурі +25 градус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) Подія В – при киданні гральної кості випало 7 оч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8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) Подія С – після четверга наступила п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тниц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) Подія Н – при киданні гральної кості випало менше ніж 7 очо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1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одії, які мають рівні шанси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азивають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рівноймовірни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4" name="Рисунок 8" descr="237.gif"/>
          <p:cNvPicPr/>
          <p:nvPr/>
        </p:nvPicPr>
        <p:blipFill>
          <a:blip r:embed="rId2"/>
          <a:stretch/>
        </p:blipFill>
        <p:spPr>
          <a:xfrm>
            <a:off x="3643200" y="44290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225360" y="212760"/>
            <a:ext cx="8918640" cy="1135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не завтра запитають на уроці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ітом у меня будуть канікули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ні сьогодні зустрінеться чорна кішка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ень народження мого друга – число, менше за 32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Із шкільного вікна видно море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автра буде неділя, якщо сьогодні субот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брали навмання слово з підручника, і в ньому є буква о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мінь, кинутий у воду, потоне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ли ти станеш дорослим, тебе оберуть  Президентом України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ступний рік буде високосним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Рисунок 8" descr="237.gif"/>
          <p:cNvPicPr/>
          <p:nvPr/>
        </p:nvPicPr>
        <p:blipFill>
          <a:blip r:embed="rId2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4" descr=""/>
          <p:cNvPicPr/>
          <p:nvPr/>
        </p:nvPicPr>
        <p:blipFill>
          <a:blip r:embed="rId1"/>
          <a:stretch/>
        </p:blipFill>
        <p:spPr>
          <a:xfrm>
            <a:off x="285840" y="328680"/>
            <a:ext cx="8467560" cy="128736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4000" y="1844280"/>
            <a:ext cx="4895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біл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чорн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зеленого 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йнята куля чорного або білого кольор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56000" y="1557360"/>
            <a:ext cx="270036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ипадко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ірогід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можли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AutoShape 7"/>
          <p:cNvSpPr/>
          <p:nvPr/>
        </p:nvSpPr>
        <p:spPr>
          <a:xfrm rot="641400">
            <a:off x="5508720" y="2276280"/>
            <a:ext cx="1081080" cy="201600"/>
          </a:xfrm>
          <a:prstGeom prst="rightArrow">
            <a:avLst>
              <a:gd name="adj1" fmla="val 50000"/>
              <a:gd name="adj2" fmla="val 13406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AutoShape 8"/>
          <p:cNvSpPr/>
          <p:nvPr/>
        </p:nvSpPr>
        <p:spPr>
          <a:xfrm rot="20605800">
            <a:off x="4719600" y="2734920"/>
            <a:ext cx="1768680" cy="216000"/>
          </a:xfrm>
          <a:prstGeom prst="rightArrow">
            <a:avLst>
              <a:gd name="adj1" fmla="val 50000"/>
              <a:gd name="adj2" fmla="val 20470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AutoShape 10"/>
          <p:cNvSpPr/>
          <p:nvPr/>
        </p:nvSpPr>
        <p:spPr>
          <a:xfrm rot="700800">
            <a:off x="4284360" y="4152960"/>
            <a:ext cx="2238480" cy="216000"/>
          </a:xfrm>
          <a:prstGeom prst="rightArrow">
            <a:avLst>
              <a:gd name="adj1" fmla="val 50000"/>
              <a:gd name="adj2" fmla="val 25908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AutoShape 11"/>
          <p:cNvSpPr/>
          <p:nvPr/>
        </p:nvSpPr>
        <p:spPr>
          <a:xfrm rot="19795200">
            <a:off x="3320640" y="4419720"/>
            <a:ext cx="3745080" cy="287280"/>
          </a:xfrm>
          <a:prstGeom prst="rightArrow">
            <a:avLst>
              <a:gd name="adj1" fmla="val 50000"/>
              <a:gd name="adj2" fmla="val 32590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5" name="Рисунок 8" descr="237.gif"/>
          <p:cNvPicPr/>
          <p:nvPr/>
        </p:nvPicPr>
        <p:blipFill>
          <a:blip r:embed="rId2"/>
          <a:stretch/>
        </p:blipFill>
        <p:spPr>
          <a:xfrm>
            <a:off x="5867280" y="5097600"/>
            <a:ext cx="19558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02b"/>
                </a:solidFill>
                <a:uFillTx/>
                <a:latin typeface="Times New Roman"/>
                <a:ea typeface="Times New Roman"/>
              </a:rPr>
              <a:t>КЛАСИФІКАЦІЯ ПОДІ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обо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зково має відбутися в даному випробуванні, називаєтьс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ірогідною подіє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клад, підкидання грального кубик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а цифр від 1 до 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є вірогідно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не може відбутися в даному випробуванні, називається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Неможливою подією</a:t>
            </a:r>
            <a:r>
              <a:rPr b="0" lang="ru-RU" sz="20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beec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шому прикладі такою подією є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яв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и 7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, яка може відбутися,а може і не відбутися в даному випробуванні називається</a:t>
            </a:r>
            <a:r>
              <a:rPr b="0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ою подією</a:t>
            </a:r>
            <a:r>
              <a:rPr b="1" lang="ru-RU" sz="20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кидання грального кубик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а цифри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наступити, а може і не наступи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Рисунок 8" descr="237.gif"/>
          <p:cNvPicPr/>
          <p:nvPr/>
        </p:nvPicPr>
        <p:blipFill>
          <a:blip r:embed="rId1"/>
          <a:stretch/>
        </p:blipFill>
        <p:spPr>
          <a:xfrm>
            <a:off x="7191360" y="0"/>
            <a:ext cx="1727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1. Прочитать п. 21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2. Виконати № 635, 637, 640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3. Придумати свої приклади для кажної категорії подій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0" name="Рисунок 8" descr="237.gif"/>
          <p:cNvPicPr/>
          <p:nvPr/>
        </p:nvPicPr>
        <p:blipFill>
          <a:blip r:embed="rId2"/>
          <a:stretch/>
        </p:blipFill>
        <p:spPr>
          <a:xfrm>
            <a:off x="3429000" y="4214880"/>
            <a:ext cx="1727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72" name="Прямоугольник 3" descr=""/>
          <p:cNvPicPr/>
          <p:nvPr/>
        </p:nvPicPr>
        <p:blipFill>
          <a:blip r:embed="rId2"/>
          <a:stretch/>
        </p:blipFill>
        <p:spPr>
          <a:xfrm>
            <a:off x="633240" y="993600"/>
            <a:ext cx="6669360" cy="320688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8" descr="237.gif"/>
          <p:cNvPicPr/>
          <p:nvPr/>
        </p:nvPicPr>
        <p:blipFill>
          <a:blip r:embed="rId3"/>
          <a:stretch/>
        </p:blipFill>
        <p:spPr>
          <a:xfrm>
            <a:off x="4500720" y="3002040"/>
            <a:ext cx="37861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тематику багато люблять за її вічні істини: при множенні два на два - завжди чотири, сума непарних чисел непарна, а площа прямокутника дорівнює добутку його суміжних сторін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альне життя не таке просте і однозначне. В оточуючому нас житті ми часто зустрічаємось з випадковими подіями: випадкова зустріч, випадкова знахідка, випадкова помилка, випадковий набір  виграшних  номерів у тиражі лотереї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214280"/>
            <a:ext cx="8686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ількість сонячних днів в даній місцевості змінюється з року в рік випадковим чино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падковість не дозволяє передбачувати навіть найближче майбутнє, не кажучи вже про більш далекі прогноз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ще буває випадковість корисна, бажана, щасли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з поганими випадковостями людина завжди бореть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95288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85840" y="785520"/>
            <a:ext cx="86868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юди давно вже підмітили, що випадковість має свої властивості, тобто випадковість можна і потрібно досліджуват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ука про випадковості має назву 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орії імовірності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к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дання грального кубика можна вважати дослідом, експерименто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 навіть грою, забавою), а одержаний результат – </a:t>
            </a:r>
            <a:r>
              <a:rPr b="1" lang="ru-RU" sz="2800" spc="-1" strike="noStrike" u="sng">
                <a:solidFill>
                  <a:srgbClr val="00602b"/>
                </a:solidFill>
                <a:uFillTx/>
                <a:latin typeface="Times New Roman"/>
                <a:ea typeface="Times New Roman"/>
              </a:rPr>
              <a:t>ПОДІЄЮ</a:t>
            </a:r>
            <a:r>
              <a:rPr b="1" lang="ru-RU" sz="28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Рисунок 8" descr="237.gif"/>
          <p:cNvPicPr/>
          <p:nvPr/>
        </p:nvPicPr>
        <p:blipFill>
          <a:blip r:embed="rId1"/>
          <a:stretch/>
        </p:blipFill>
        <p:spPr>
          <a:xfrm>
            <a:off x="6643800" y="4952880"/>
            <a:ext cx="2114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одія,яка в одних і тих же умова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може статися, а може і не статис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азивається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о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Рисунок 8" descr="237.gif"/>
          <p:cNvPicPr/>
          <p:nvPr/>
        </p:nvPicPr>
        <p:blipFill>
          <a:blip r:embed="rId2"/>
          <a:stretch/>
        </p:blipFill>
        <p:spPr>
          <a:xfrm>
            <a:off x="3571920" y="407196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кидаємо монет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вся герб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 могла 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тися і цифр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е, що з</a:t>
            </a:r>
            <a:r>
              <a:rPr b="1" lang="en-US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ився герб – </a:t>
            </a:r>
            <a:r>
              <a:rPr b="1" lang="uk-UA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под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0" descr="BD05036_"/>
          <p:cNvPicPr/>
          <p:nvPr/>
        </p:nvPicPr>
        <p:blipFill>
          <a:blip r:embed="rId2"/>
          <a:stretch/>
        </p:blipFill>
        <p:spPr>
          <a:xfrm>
            <a:off x="3857760" y="3929040"/>
            <a:ext cx="16002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2855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Рисунок 8" descr="237.gif"/>
          <p:cNvPicPr/>
          <p:nvPr/>
        </p:nvPicPr>
        <p:blipFill>
          <a:blip r:embed="rId1"/>
          <a:stretch/>
        </p:blipFill>
        <p:spPr>
          <a:xfrm>
            <a:off x="6572160" y="457200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4"/>
          <p:cNvSpPr/>
          <p:nvPr/>
        </p:nvSpPr>
        <p:spPr>
          <a:xfrm>
            <a:off x="714240" y="1285920"/>
            <a:ext cx="771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трілок влучає в  ціль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Але міг і не влучити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Влучення-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подія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ень вийшов погулят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устрів трьох товариш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устріч теж </a:t>
            </a:r>
            <a:r>
              <a:rPr b="1" lang="ru-RU" sz="3200" spc="-1" strike="noStrike">
                <a:solidFill>
                  <a:srgbClr val="00602b"/>
                </a:solidFill>
                <a:latin typeface="Times New Roman"/>
                <a:ea typeface="Times New Roman"/>
              </a:rPr>
              <a:t>випадкова под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Рисунок 8" descr="237.gif"/>
          <p:cNvPicPr/>
          <p:nvPr/>
        </p:nvPicPr>
        <p:blipFill>
          <a:blip r:embed="rId2"/>
          <a:stretch/>
        </p:blipFill>
        <p:spPr>
          <a:xfrm>
            <a:off x="6572160" y="4572000"/>
            <a:ext cx="2114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99680" y="1571760"/>
            <a:ext cx="262404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500040" y="285768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В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571680" y="407196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С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571680" y="5429160"/>
            <a:ext cx="26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ія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3143160" y="142884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червон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214800" y="26431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зелен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3214800" y="38577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жовте 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214800" y="51436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Вийнято</a:t>
            </a:r>
            <a:r>
              <a:rPr b="0" i="1" lang="ru-RU" sz="3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яблуко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6" name="Picture 16" descr="&amp;Kcy;&amp;acy;&amp;rcy;&amp;tcy;&amp;icy;&amp;ncy;&amp;kcy;&amp;acy; 1 &amp;icy;&amp;zcy; 122982"/>
          <p:cNvPicPr/>
          <p:nvPr/>
        </p:nvPicPr>
        <p:blipFill>
          <a:blip r:embed="rId1"/>
          <a:stretch/>
        </p:blipFill>
        <p:spPr>
          <a:xfrm>
            <a:off x="7429680" y="1071720"/>
            <a:ext cx="1250640" cy="11667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8" descr="&amp;Kcy;&amp;acy;&amp;rcy;&amp;tcy;&amp;icy;&amp;ncy;&amp;kcy;&amp;acy; 3 &amp;icy;&amp;zcy; 127600"/>
          <p:cNvPicPr/>
          <p:nvPr/>
        </p:nvPicPr>
        <p:blipFill>
          <a:blip r:embed="rId2"/>
          <a:stretch/>
        </p:blipFill>
        <p:spPr>
          <a:xfrm>
            <a:off x="7429680" y="2428920"/>
            <a:ext cx="1319040" cy="1230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0" descr="i?id=118406736-67-72&amp;n=17"/>
          <p:cNvPicPr/>
          <p:nvPr/>
        </p:nvPicPr>
        <p:blipFill>
          <a:blip r:embed="rId3"/>
          <a:stretch/>
        </p:blipFill>
        <p:spPr>
          <a:xfrm>
            <a:off x="7429680" y="3786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4" descr="i?id=429282771-39-72&amp;n=17"/>
          <p:cNvPicPr/>
          <p:nvPr/>
        </p:nvPicPr>
        <p:blipFill>
          <a:blip r:embed="rId4"/>
          <a:stretch/>
        </p:blipFill>
        <p:spPr>
          <a:xfrm>
            <a:off x="7429680" y="5276880"/>
            <a:ext cx="135720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7:29:24Z</dcterms:created>
  <dc:creator>!</dc:creator>
  <dc:description/>
  <dc:language>en-US</dc:language>
  <cp:lastModifiedBy>!</cp:lastModifiedBy>
  <dcterms:modified xsi:type="dcterms:W3CDTF">2014-02-19T18:37:10Z</dcterms:modified>
  <cp:revision>18</cp:revision>
  <dc:subject/>
  <dc:title>Вчитель математики  Зеленогайської загальноосвітньої школи І-ІІІ ступенів  Харківської районної ради харківської області сова Олена Анатолії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e000000000001024140</vt:lpwstr>
  </property>
</Properties>
</file>