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ED0-82E3-4AF6-8D33-07D45FA5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47D-E033-4D97-B7EC-293E154B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93A-7D12-43ED-A6BC-E5F2396E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B13-82B4-43CF-8D55-2F35561B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FC76-FF4F-43A2-8E10-66E2E9F9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3DA3-575E-4697-8D55-0F85C553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345E-DE77-4FD4-9202-44F771F8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A2F1-5EBF-4213-87B2-93DE17E4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3622-15A3-4417-8453-E71D0D24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6CB6-362A-4F3D-BF29-485DA7E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F226-1E5C-4A09-9E58-4A7D813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80B-2B96-4A9A-A19C-CCCA420D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513-7B72-48BD-86E2-BC0DB5FE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1DED-199C-4D89-8EB4-4B7FFA4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25C5-AA35-491C-88BC-516E6DD4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686-4E47-4F47-8591-4CE59BEE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2D3E-9215-44DA-90F6-D4E52451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1B6BD-1A42-4085-B16F-E743C642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B2C1-418F-490B-B0A3-08A49869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95B9-D1E2-49EF-95A0-F1F3601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63D4-4EBC-4E33-8277-4972221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CA69-70D4-4B09-9C4B-990B2816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5D3-2797-4F8E-AD45-1B2F7F8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D2DD-8A87-4AD1-8CD7-5E533ADB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377B-FF5F-4DFF-AB00-29512AD8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92A3-44F5-446B-AC65-87F4769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34ED-0533-4757-A1DA-1634476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F79E-42E2-496D-8615-46FCA5D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2CEF-A4BE-4447-A1C3-0140F70C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3938-AF49-4446-BE79-930B664A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D0273-07E4-46F3-ACCB-8EF53B68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34EF-4071-40D5-9D5E-F4856669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9134-98CE-485D-A253-8B746778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620-E56F-4C4D-9469-06DFC109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412C-E616-4411-B8B3-3A3C0C6E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6877-348E-4E84-A10F-1B633193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C022-1C08-4E35-8FE4-1E8DFD92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40C3-BC35-4CC8-B0DB-52D38B8D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3CFC-C908-4912-8D9B-6BF061D7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2C57-6E7B-48A7-A016-131A6E5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D9AB-05AE-4AFE-A86B-8FFF8C9D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38C5-9C3B-4C28-90D4-B80B688F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608B-B60C-491E-A57B-22098C06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429E-3C9A-4A55-946A-8147F3F8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3FF-99C9-44AB-98A5-589E9F6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74970-E014-463A-A3DF-8AD9386D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08AA-47D4-4F08-9DC8-993D14E3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303DF-5F1E-42F6-ACBD-BE8F5FF2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C0EC-306A-4CE8-82E5-BA8F640B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D712-8555-4591-8C0B-5577C8E0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6C6B-E079-4B44-819E-69DA66E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ED992-C3CD-42A4-9911-CC6B7A2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BE05-E17A-4873-A0FE-A94E769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F290-0082-43B7-8D5B-5542AC86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8CDE-18B1-4C86-A2F5-075B6352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E48-9457-462B-9AFB-8F665F17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882E-BCBD-41D3-84BA-1C67A467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D3D7E-B728-48AB-9174-3EFD6ADB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B25B-EB69-48BB-81A3-0F797157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7268-E1FC-43A1-A95E-720435A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48DCB-584C-4B86-AE07-9BE34AC6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F5F2-E2C2-46FB-8EFB-D1A17FA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2505-A9FD-43DE-8DC2-43B7E40B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199BA-FB99-472C-8ABF-0627A78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93AD-9E76-42CC-AF12-67333BA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F98E-4202-4D53-80EC-B56E8A56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43D-7611-44CC-8D4C-087E196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33FEE-FC29-45F5-ACA1-7F8B26F0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5FF1F-F714-4739-8028-91A8223E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1F5F-9B9D-459F-8E61-DAF909A8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485C5-7DC3-4698-95AE-95BE3C41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43FF-0768-4BC2-BBBB-9AD921C3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A996-0A08-400C-9314-B355A0A9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630E-1D15-4900-8564-F6E9A6A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681C-B023-495B-8DD4-24170A50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AB17B-AFB0-4F1C-BBE3-3011A0F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7C82E-7BE6-4270-8A2D-3D1E451A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EFE-1150-4F6D-9C72-2ED39464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4743-288C-4B7E-8077-F96DDC9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AC1C-11B8-436B-B5DA-2604F0A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D9BF-40F5-4296-A805-05B2947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23B1-6963-4B81-BE30-8F8601D6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03F8A-AC5C-4AD6-84DF-2BDBC636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A75-7983-489E-9B22-132C99C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B52-F32B-4273-98D7-E3569F1E3E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6EB2-FE76-49C3-B6F4-1A743A042E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773-95AA-4721-BE2A-B7CBDFB9489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A6A4-6F7B-4FE9-B90E-A082D7F00C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7853-9F00-4523-A4CF-F811014799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98B3-14DB-4C76-B8A0-570DBCCDDA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CDE-EC10-4BEA-80CB-821345BA33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2.jpeg"/><Relationship Id="rId4" Type="http://schemas.openxmlformats.org/officeDocument/2006/relationships/image" Target="../media/image17.jpeg"/><Relationship Id="rId5" Type="http://schemas.openxmlformats.org/officeDocument/2006/relationships/image" Target="../media/image22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1356840"/>
            <a:ext cx="6843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2060"/>
                </a:solidFill>
                <a:latin typeface="Corbel"/>
              </a:rPr>
              <a:t>Тема уроку</a:t>
            </a:r>
            <a:r>
              <a:rPr b="0" lang="en-US" sz="59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ru-RU" sz="5900" spc="-1" strike="noStrike">
                <a:solidFill>
                  <a:srgbClr val="002060"/>
                </a:solidFill>
                <a:latin typeface="Corbel"/>
              </a:rPr>
              <a:t> </a:t>
            </a:r>
            <a:br>
              <a:rPr sz="5900"/>
            </a:br>
            <a:r>
              <a:rPr b="0" lang="ru-RU" sz="5900" spc="-1" strike="noStrike">
                <a:solidFill>
                  <a:srgbClr val="ff0000"/>
                </a:solidFill>
                <a:latin typeface="Corbel"/>
              </a:rPr>
              <a:t>Д</a:t>
            </a:r>
            <a:r>
              <a:rPr b="0" lang="uk-UA" sz="5900" spc="-1" strike="noStrike">
                <a:solidFill>
                  <a:srgbClr val="ff0000"/>
                </a:solidFill>
                <a:latin typeface="Corbel"/>
              </a:rPr>
              <a:t>ії з многочленами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2" descr="сонечко.jpg"/>
          <p:cNvPicPr/>
          <p:nvPr/>
        </p:nvPicPr>
        <p:blipFill>
          <a:blip r:embed="rId1"/>
          <a:stretch/>
        </p:blipFill>
        <p:spPr>
          <a:xfrm>
            <a:off x="6786720" y="214200"/>
            <a:ext cx="1857240" cy="21416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3" descr=""/>
          <p:cNvPicPr/>
          <p:nvPr/>
        </p:nvPicPr>
        <p:blipFill>
          <a:blip r:embed="rId2"/>
          <a:srcRect l="0" t="0" r="0" b="10002"/>
          <a:stretch/>
        </p:blipFill>
        <p:spPr>
          <a:xfrm>
            <a:off x="1714680" y="3357720"/>
            <a:ext cx="62150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3920" y="274680"/>
            <a:ext cx="7472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ння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br>
              <a:rPr sz="3600"/>
            </a:br>
            <a:r>
              <a:rPr b="0" lang="uk-U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помножити</a:t>
            </a:r>
            <a:br>
              <a:rPr sz="3600"/>
            </a:b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многочлен на многочлен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43000" y="1856880"/>
            <a:ext cx="5757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помножити многочлен на многочлен, треба кожний член першого многочлена помножити на кожний член другого многочлена і одержані добутки дода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б помножити многочлен на многочлен, треба перший член першого многочлена помножити на кожний член другого многочлена і одержані добутки дода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б помножити многочлен на многочлен, треба перший член першого многочлена помножити на другий член другого многочлена і одержані добутки дода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3" descr="images (10).jpg"/>
          <p:cNvPicPr/>
          <p:nvPr/>
        </p:nvPicPr>
        <p:blipFill>
          <a:blip r:embed="rId1"/>
          <a:stretch/>
        </p:blipFill>
        <p:spPr>
          <a:xfrm>
            <a:off x="6572160" y="1714680"/>
            <a:ext cx="2071800" cy="140328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гамак.jpg"/>
          <p:cNvPicPr/>
          <p:nvPr/>
        </p:nvPicPr>
        <p:blipFill>
          <a:blip r:embed="rId2"/>
          <a:stretch/>
        </p:blipFill>
        <p:spPr>
          <a:xfrm>
            <a:off x="6715080" y="3357720"/>
            <a:ext cx="1928880" cy="11444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5" descr="лыжко.jpg"/>
          <p:cNvPicPr/>
          <p:nvPr/>
        </p:nvPicPr>
        <p:blipFill>
          <a:blip r:embed="rId3"/>
          <a:stretch/>
        </p:blipFill>
        <p:spPr>
          <a:xfrm>
            <a:off x="6715080" y="5072040"/>
            <a:ext cx="216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13920" y="4142880"/>
            <a:ext cx="7572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 відповіли на всі запитання й зібрали артефакти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вам знадобляться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 уроці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 заняттях у музичній школі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ід час відвідування музею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туристичному поході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 обраних артефактів маєте бажання замінити на інші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ом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14280" y="285840"/>
          <a:ext cx="7500960" cy="3786120"/>
        </p:xfrm>
        <a:graphic>
          <a:graphicData uri="http://schemas.openxmlformats.org/drawingml/2006/table">
            <a:tbl>
              <a:tblPr/>
              <a:tblGrid>
                <a:gridCol w="766800"/>
                <a:gridCol w="2244960"/>
                <a:gridCol w="2244600"/>
                <a:gridCol w="2244600"/>
              </a:tblGrid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4" name="Рисунок 1" descr="images (12).jpg"/>
          <p:cNvPicPr/>
          <p:nvPr/>
        </p:nvPicPr>
        <p:blipFill>
          <a:blip r:embed="rId1"/>
          <a:stretch/>
        </p:blipFill>
        <p:spPr>
          <a:xfrm>
            <a:off x="2571840" y="285840"/>
            <a:ext cx="923760" cy="5619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2" descr="images (15).jpg"/>
          <p:cNvPicPr/>
          <p:nvPr/>
        </p:nvPicPr>
        <p:blipFill>
          <a:blip r:embed="rId2"/>
          <a:srcRect l="0" t="0" r="-456" b="283"/>
          <a:stretch/>
        </p:blipFill>
        <p:spPr>
          <a:xfrm>
            <a:off x="5072040" y="285840"/>
            <a:ext cx="609480" cy="5522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4" descr="images (20).jpg"/>
          <p:cNvPicPr/>
          <p:nvPr/>
        </p:nvPicPr>
        <p:blipFill>
          <a:blip r:embed="rId3"/>
          <a:stretch/>
        </p:blipFill>
        <p:spPr>
          <a:xfrm>
            <a:off x="2714760" y="857160"/>
            <a:ext cx="609480" cy="4478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9" descr="заплычник.jpg"/>
          <p:cNvPicPr/>
          <p:nvPr/>
        </p:nvPicPr>
        <p:blipFill>
          <a:blip r:embed="rId4"/>
          <a:stretch/>
        </p:blipFill>
        <p:spPr>
          <a:xfrm>
            <a:off x="7215120" y="1428840"/>
            <a:ext cx="819360" cy="48564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0" descr="намет.jpg"/>
          <p:cNvPicPr/>
          <p:nvPr/>
        </p:nvPicPr>
        <p:blipFill>
          <a:blip r:embed="rId5"/>
          <a:stretch/>
        </p:blipFill>
        <p:spPr>
          <a:xfrm>
            <a:off x="2357280" y="2000160"/>
            <a:ext cx="1247760" cy="44784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3" descr="сірники.jpg"/>
          <p:cNvPicPr/>
          <p:nvPr/>
        </p:nvPicPr>
        <p:blipFill>
          <a:blip r:embed="rId6"/>
          <a:stretch/>
        </p:blipFill>
        <p:spPr>
          <a:xfrm>
            <a:off x="2500200" y="2500200"/>
            <a:ext cx="1067040" cy="4669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4" descr="газова_плита.jpg"/>
          <p:cNvPicPr/>
          <p:nvPr/>
        </p:nvPicPr>
        <p:blipFill>
          <a:blip r:embed="rId7"/>
          <a:stretch/>
        </p:blipFill>
        <p:spPr>
          <a:xfrm>
            <a:off x="4929120" y="2500200"/>
            <a:ext cx="943200" cy="4669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6" descr="термос.jpg"/>
          <p:cNvPicPr/>
          <p:nvPr/>
        </p:nvPicPr>
        <p:blipFill>
          <a:blip r:embed="rId8"/>
          <a:stretch/>
        </p:blipFill>
        <p:spPr>
          <a:xfrm>
            <a:off x="2571840" y="3000240"/>
            <a:ext cx="1028520" cy="5335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9" descr="images (10).jpg"/>
          <p:cNvPicPr/>
          <p:nvPr/>
        </p:nvPicPr>
        <p:blipFill>
          <a:blip r:embed="rId9"/>
          <a:stretch/>
        </p:blipFill>
        <p:spPr>
          <a:xfrm>
            <a:off x="2428920" y="3643200"/>
            <a:ext cx="13143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" dur="2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285920" y="872280"/>
            <a:ext cx="75722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Виконайте ді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(25а-4в)-(18а + 10в) = 7а - 14в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4у(5-2х) = 20у - 8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2х + 3)(х-4) = 2х</a:t>
            </a:r>
            <a:r>
              <a:rPr b="0" lang="uk-UA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5х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Знайдіть поми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5720040" y="25002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7648920" y="192888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+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6863400" y="300024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8" descr="балки 005"/>
          <p:cNvPicPr/>
          <p:nvPr/>
        </p:nvPicPr>
        <p:blipFill>
          <a:blip r:embed="rId1"/>
          <a:srcRect l="19617" t="0" r="33" b="56813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143000" y="1000080"/>
          <a:ext cx="7643880" cy="5715000"/>
        </p:xfrm>
        <a:graphic>
          <a:graphicData uri="http://schemas.openxmlformats.org/drawingml/2006/table">
            <a:tbl>
              <a:tblPr/>
              <a:tblGrid>
                <a:gridCol w="4492800"/>
                <a:gridCol w="3151080"/>
              </a:tblGrid>
              <a:tr h="4683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18а – 15а – 3а = ..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) 3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а + 18а – 4а=…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й)2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4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5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а=…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л) 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+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7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…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) –а-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3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5а +7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а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а =…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–а+5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 rowSpan="7"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)3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2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)10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+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) -5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+2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) -10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) -2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2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)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) -5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+7а</a:t>
                      </a:r>
                      <a:r>
                        <a:rPr b="1" lang="uk-UA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1"/>
          <p:cNvSpPr/>
          <p:nvPr/>
        </p:nvSpPr>
        <p:spPr>
          <a:xfrm>
            <a:off x="1497960" y="429120"/>
            <a:ext cx="577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Представте многочлен у стандартному вигляд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Object 4" descr=""/>
          <p:cNvPicPr/>
          <p:nvPr/>
        </p:nvPicPr>
        <p:blipFill>
          <a:blip r:embed="rId1"/>
          <a:stretch/>
        </p:blipFill>
        <p:spPr>
          <a:xfrm>
            <a:off x="1714680" y="3571920"/>
            <a:ext cx="3276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214280" y="201960"/>
            <a:ext cx="72867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Зробив великий внесок в алгебру та теорію чисел, де його праці були відомі під назвою «Формули та розв'язування рівня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" descr="slide_3"/>
          <p:cNvPicPr/>
          <p:nvPr/>
        </p:nvPicPr>
        <p:blipFill>
          <a:blip r:embed="rId1"/>
          <a:stretch/>
        </p:blipFill>
        <p:spPr>
          <a:xfrm>
            <a:off x="1285920" y="1000080"/>
            <a:ext cx="7547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8" descr="балки 005"/>
          <p:cNvPicPr/>
          <p:nvPr/>
        </p:nvPicPr>
        <p:blipFill>
          <a:blip r:embed="rId1"/>
          <a:srcRect l="0" t="50840" r="12705" b="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6"/>
          <p:cNvSpPr/>
          <p:nvPr/>
        </p:nvSpPr>
        <p:spPr>
          <a:xfrm>
            <a:off x="1071720" y="428760"/>
            <a:ext cx="3500280" cy="2571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1071720" y="500040"/>
            <a:ext cx="2571480" cy="2000160"/>
          </a:xfrm>
          <a:prstGeom prst="rect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1143000" y="3015000"/>
            <a:ext cx="7715160" cy="31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Довжина ділянки, де розміщено наш табір,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10 м більша 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за його шир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Її площу потрібно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збільшити на 44 м</a:t>
            </a:r>
            <a:r>
              <a:rPr b="1" i="1" lang="uk-UA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Для цього її довжину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збільшимо на 5 м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, а ширину </a:t>
            </a:r>
            <a:r>
              <a:rPr b="1" i="1" lang="uk-UA" sz="32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2 м.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44d0b"/>
                </a:solidFill>
                <a:latin typeface="Times New Roman"/>
              </a:rPr>
              <a:t>Знайдіть площу нової ділянки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5" descr="img004.jpg"/>
          <p:cNvPicPr/>
          <p:nvPr/>
        </p:nvPicPr>
        <p:blipFill>
          <a:blip r:embed="rId1"/>
          <a:srcRect l="0" t="0" r="-44" b="0"/>
          <a:stretch/>
        </p:blipFill>
        <p:spPr>
          <a:xfrm>
            <a:off x="4683240" y="428760"/>
            <a:ext cx="3817800" cy="2571480"/>
          </a:xfrm>
          <a:prstGeom prst="rect">
            <a:avLst/>
          </a:prstGeom>
          <a:ln w="0">
            <a:noFill/>
          </a:ln>
        </p:spPr>
      </p:pic>
      <p:cxnSp>
        <p:nvCxnSpPr>
          <p:cNvPr id="389" name="Прямая со стрелкой 8"/>
          <p:cNvCxnSpPr/>
          <p:nvPr/>
        </p:nvCxnSpPr>
        <p:spPr>
          <a:xfrm flipH="1">
            <a:off x="2069280" y="249984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0" name="Прямая со стрелкой 10"/>
          <p:cNvCxnSpPr>
            <a:stCxn id="385" idx="3"/>
          </p:cNvCxnSpPr>
          <p:nvPr/>
        </p:nvCxnSpPr>
        <p:spPr>
          <a:xfrm>
            <a:off x="3643200" y="1499760"/>
            <a:ext cx="9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91" name="TextBox 17"/>
          <p:cNvSpPr/>
          <p:nvPr/>
        </p:nvSpPr>
        <p:spPr>
          <a:xfrm>
            <a:off x="400068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8"/>
          <p:cNvSpPr/>
          <p:nvPr/>
        </p:nvSpPr>
        <p:spPr>
          <a:xfrm>
            <a:off x="1785960" y="2500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428840" y="785880"/>
          <a:ext cx="7358040" cy="3500280"/>
        </p:xfrm>
        <a:graphic>
          <a:graphicData uri="http://schemas.openxmlformats.org/drawingml/2006/table">
            <a:tbl>
              <a:tblPr/>
              <a:tblGrid>
                <a:gridCol w="1778040"/>
                <a:gridCol w="3220920"/>
                <a:gridCol w="2359080"/>
              </a:tblGrid>
              <a:tr h="8748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44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щ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Прямоугольник 4"/>
          <p:cNvSpPr/>
          <p:nvPr/>
        </p:nvSpPr>
        <p:spPr>
          <a:xfrm>
            <a:off x="4431600" y="1714680"/>
            <a:ext cx="837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х +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5"/>
          <p:cNvSpPr/>
          <p:nvPr/>
        </p:nvSpPr>
        <p:spPr>
          <a:xfrm>
            <a:off x="7360560" y="1785960"/>
            <a:ext cx="837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х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6"/>
          <p:cNvSpPr/>
          <p:nvPr/>
        </p:nvSpPr>
        <p:spPr>
          <a:xfrm>
            <a:off x="4429080" y="2643120"/>
            <a:ext cx="714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7"/>
          <p:cNvSpPr/>
          <p:nvPr/>
        </p:nvSpPr>
        <p:spPr>
          <a:xfrm>
            <a:off x="7431840" y="2643120"/>
            <a:ext cx="709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х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8"/>
          <p:cNvSpPr/>
          <p:nvPr/>
        </p:nvSpPr>
        <p:spPr>
          <a:xfrm>
            <a:off x="4431600" y="3571920"/>
            <a:ext cx="1136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х(х +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9"/>
          <p:cNvSpPr/>
          <p:nvPr/>
        </p:nvSpPr>
        <p:spPr>
          <a:xfrm>
            <a:off x="6718320" y="3571920"/>
            <a:ext cx="1707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(х + 15)(х +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Загнутый угол 11"/>
          <p:cNvSpPr/>
          <p:nvPr/>
        </p:nvSpPr>
        <p:spPr>
          <a:xfrm>
            <a:off x="4970520" y="4726080"/>
            <a:ext cx="4000320" cy="871560"/>
          </a:xfrm>
          <a:prstGeom prst="foldedCorner">
            <a:avLst>
              <a:gd name="adj" fmla="val 1666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(x+15)(x+2) - x(x+10) =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7600" y="4444200"/>
            <a:ext cx="46911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Довжина ділянки, де розміщено наш табір,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на 10 м більша </a:t>
            </a: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за його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Її площу потрібно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збільшити на 44 м</a:t>
            </a:r>
            <a:r>
              <a:rPr b="1" i="1" lang="uk-UA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Для цього її довжину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збільшимо на 5 м</a:t>
            </a: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, а ширину </a:t>
            </a:r>
            <a:r>
              <a:rPr b="1" i="1" lang="uk-UA" sz="20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на 2 м.</a:t>
            </a:r>
            <a:r>
              <a:rPr b="1" i="1" lang="uk-UA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44d0b"/>
                </a:solidFill>
                <a:latin typeface="Times New Roman"/>
              </a:rPr>
              <a:t>Знайдіть площу нової ділян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843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Д</a:t>
            </a:r>
            <a:r>
              <a:rPr b="0" lang="uk-UA" sz="6600" spc="-1" strike="noStrike">
                <a:solidFill>
                  <a:srgbClr val="ff0000"/>
                </a:solidFill>
                <a:latin typeface="Corbel"/>
              </a:rPr>
              <a:t>ії з многочленами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3" name="Рисунок 2" descr="сонечко.jpg"/>
          <p:cNvPicPr/>
          <p:nvPr/>
        </p:nvPicPr>
        <p:blipFill>
          <a:blip r:embed="rId1"/>
          <a:stretch/>
        </p:blipFill>
        <p:spPr>
          <a:xfrm>
            <a:off x="6786720" y="214200"/>
            <a:ext cx="1857240" cy="21416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3" descr=""/>
          <p:cNvPicPr/>
          <p:nvPr/>
        </p:nvPicPr>
        <p:blipFill>
          <a:blip r:embed="rId2"/>
          <a:srcRect l="0" t="0" r="0" b="10002"/>
          <a:stretch/>
        </p:blipFill>
        <p:spPr>
          <a:xfrm>
            <a:off x="1714680" y="3357720"/>
            <a:ext cx="62150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1357200" y="8280"/>
            <a:ext cx="757260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віт, що оточує людину, - це, насампере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віт  природи з безмежним багатством явищ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 невичерпною крас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Times New Roman"/>
              </a:rPr>
              <a:t>В.О.Сухомлин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8" descr="DSCI0014"/>
          <p:cNvPicPr/>
          <p:nvPr/>
        </p:nvPicPr>
        <p:blipFill>
          <a:blip r:embed="rId1"/>
          <a:srcRect l="0" t="0" r="0" b="83"/>
          <a:stretch/>
        </p:blipFill>
        <p:spPr>
          <a:xfrm>
            <a:off x="285840" y="1428840"/>
            <a:ext cx="3890880" cy="242892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pic>
        <p:nvPicPr>
          <p:cNvPr id="323" name="Рисунок 4" descr="DSC01699.JPG"/>
          <p:cNvPicPr/>
          <p:nvPr/>
        </p:nvPicPr>
        <p:blipFill>
          <a:blip r:embed="rId2"/>
          <a:stretch/>
        </p:blipFill>
        <p:spPr>
          <a:xfrm>
            <a:off x="4572000" y="2571840"/>
            <a:ext cx="4254480" cy="300024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pic>
        <p:nvPicPr>
          <p:cNvPr id="324" name="Рисунок 3" descr="DSC_9488.JPG"/>
          <p:cNvPicPr/>
          <p:nvPr/>
        </p:nvPicPr>
        <p:blipFill>
          <a:blip r:embed="rId3"/>
          <a:stretch/>
        </p:blipFill>
        <p:spPr>
          <a:xfrm>
            <a:off x="285840" y="4000680"/>
            <a:ext cx="3857400" cy="256536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142640" y="2286000"/>
            <a:ext cx="77151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Corbel"/>
              </a:rPr>
              <a:t>Рухайтесь за маршрут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2060"/>
                </a:solidFill>
                <a:latin typeface="Corbel"/>
              </a:rPr>
              <a:t>Виконуйте завдан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7030a0"/>
                </a:solidFill>
                <a:latin typeface="Corbel"/>
              </a:rPr>
              <a:t>Збирайте артефак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32d2e"/>
                </a:solidFill>
                <a:latin typeface="Corbel"/>
              </a:rPr>
              <a:t>Виконайте фінальне завдан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Прямоугольник 2" descr=""/>
          <p:cNvPicPr/>
          <p:nvPr/>
        </p:nvPicPr>
        <p:blipFill>
          <a:blip r:embed="rId1"/>
          <a:stretch/>
        </p:blipFill>
        <p:spPr>
          <a:xfrm>
            <a:off x="1146240" y="944640"/>
            <a:ext cx="7948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ння 1</a:t>
            </a:r>
            <a:br>
              <a:rPr sz="3600"/>
            </a:br>
            <a:r>
              <a:rPr b="0" lang="uk-U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Що таке многочлен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14280" y="1785960"/>
            <a:ext cx="74296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 кількох многочлені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а кількох одночлені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буток кількох одночлені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images (12).jpg"/>
          <p:cNvPicPr/>
          <p:nvPr/>
        </p:nvPicPr>
        <p:blipFill>
          <a:blip r:embed="rId1"/>
          <a:stretch/>
        </p:blipFill>
        <p:spPr>
          <a:xfrm>
            <a:off x="4643280" y="1643040"/>
            <a:ext cx="1135080" cy="10717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4" descr="images (15).jpg"/>
          <p:cNvPicPr/>
          <p:nvPr/>
        </p:nvPicPr>
        <p:blipFill>
          <a:blip r:embed="rId2"/>
          <a:srcRect l="0" t="0" r="-456" b="283"/>
          <a:stretch/>
        </p:blipFill>
        <p:spPr>
          <a:xfrm>
            <a:off x="5429160" y="2928960"/>
            <a:ext cx="939960" cy="1285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" descr="images (15).jpg"/>
          <p:cNvPicPr/>
          <p:nvPr/>
        </p:nvPicPr>
        <p:blipFill>
          <a:blip r:embed="rId3"/>
          <a:srcRect l="0" t="0" r="-291" b="-291"/>
          <a:stretch/>
        </p:blipFill>
        <p:spPr>
          <a:xfrm>
            <a:off x="6357960" y="42148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i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ння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br>
              <a:rPr sz="4000"/>
            </a:br>
            <a:r>
              <a:rPr b="0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і члени многочлена називають подібними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42640" y="2356920"/>
            <a:ext cx="76438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нки, які відрізняються тільки коефіцієнтами або й зовсім не відрізняютьс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данки, які зовсім не відрізняютьс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данки, які мають однакові коефіцієнт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Рисунок 3" descr="images (18).jpg"/>
          <p:cNvPicPr/>
          <p:nvPr/>
        </p:nvPicPr>
        <p:blipFill>
          <a:blip r:embed="rId1"/>
          <a:stretch/>
        </p:blipFill>
        <p:spPr>
          <a:xfrm>
            <a:off x="6357960" y="4786200"/>
            <a:ext cx="996840" cy="11811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4" descr="images (19).jpg"/>
          <p:cNvPicPr/>
          <p:nvPr/>
        </p:nvPicPr>
        <p:blipFill>
          <a:blip r:embed="rId2"/>
          <a:stretch/>
        </p:blipFill>
        <p:spPr>
          <a:xfrm>
            <a:off x="1643040" y="3429000"/>
            <a:ext cx="819000" cy="12286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5" descr="images (20).jpg"/>
          <p:cNvPicPr/>
          <p:nvPr/>
        </p:nvPicPr>
        <p:blipFill>
          <a:blip r:embed="rId3"/>
          <a:stretch/>
        </p:blipFill>
        <p:spPr>
          <a:xfrm>
            <a:off x="7572240" y="2643120"/>
            <a:ext cx="9385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4440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ння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br>
              <a:rPr sz="3600"/>
            </a:br>
            <a:r>
              <a:rPr b="0" lang="uk-U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</a:t>
            </a: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записують многочлени в </a:t>
            </a:r>
            <a:br>
              <a:rPr sz="3600"/>
            </a:b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стандартному вигляді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642760" y="2143080"/>
            <a:ext cx="6000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лен записано в стандартному вигляді, якщо серед одночленів немає подібни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член записано в стандартному вигляді, якщо всі його члени – одночлени стандартного вигля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огочлен записано в стандартному вигляді, якщо всі його члени – одночлени стандартного вигляду і серед них немає подібни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заплычник.jpg"/>
          <p:cNvPicPr/>
          <p:nvPr/>
        </p:nvPicPr>
        <p:blipFill>
          <a:blip r:embed="rId1"/>
          <a:stretch/>
        </p:blipFill>
        <p:spPr>
          <a:xfrm>
            <a:off x="1357200" y="4714920"/>
            <a:ext cx="1373400" cy="17143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images (35).jpg"/>
          <p:cNvPicPr/>
          <p:nvPr/>
        </p:nvPicPr>
        <p:blipFill>
          <a:blip r:embed="rId2"/>
          <a:stretch/>
        </p:blipFill>
        <p:spPr>
          <a:xfrm>
            <a:off x="1357200" y="16430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5" descr="images (28).jpg"/>
          <p:cNvPicPr/>
          <p:nvPr/>
        </p:nvPicPr>
        <p:blipFill>
          <a:blip r:embed="rId3"/>
          <a:srcRect l="0" t="0" r="143" b="709"/>
          <a:stretch/>
        </p:blipFill>
        <p:spPr>
          <a:xfrm>
            <a:off x="1357200" y="3286080"/>
            <a:ext cx="1214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ння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br>
              <a:rPr sz="3600"/>
            </a:b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додають многочлени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13920" y="1928520"/>
            <a:ext cx="5257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додати многочлени достатньо сполучити їх знаком “плюс”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б додати многочлени не достатньо сполучити їх знаком “плюс”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б додати многочлени достатньо сполучити їх знаком “мінус”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4" descr="альтанка.jpg"/>
          <p:cNvPicPr/>
          <p:nvPr/>
        </p:nvPicPr>
        <p:blipFill>
          <a:blip r:embed="rId1"/>
          <a:stretch/>
        </p:blipFill>
        <p:spPr>
          <a:xfrm>
            <a:off x="5929200" y="3429000"/>
            <a:ext cx="1928880" cy="134460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5" descr="будинок.jpg"/>
          <p:cNvPicPr/>
          <p:nvPr/>
        </p:nvPicPr>
        <p:blipFill>
          <a:blip r:embed="rId2"/>
          <a:stretch/>
        </p:blipFill>
        <p:spPr>
          <a:xfrm>
            <a:off x="5929200" y="5000760"/>
            <a:ext cx="1914480" cy="12697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намет.jpg"/>
          <p:cNvPicPr/>
          <p:nvPr/>
        </p:nvPicPr>
        <p:blipFill>
          <a:blip r:embed="rId3"/>
          <a:stretch/>
        </p:blipFill>
        <p:spPr>
          <a:xfrm>
            <a:off x="5786280" y="1643040"/>
            <a:ext cx="21434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85920" y="274680"/>
            <a:ext cx="74008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ння 5</a:t>
            </a:r>
            <a:br>
              <a:rPr sz="3200"/>
            </a:br>
            <a:r>
              <a:rPr b="0" lang="uk-UA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віднімають многочлен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357200" y="1999800"/>
            <a:ext cx="540072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відняти многочлени достатньо сполучити їх знаком “мінус”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б знайти різницю многочленів, треба від першого з них відняти друг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б знайти різницю многочленів, треба від другого з них відняти перш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Рисунок 3" descr="MIS70.GIF"/>
          <p:cNvPicPr/>
          <p:nvPr/>
        </p:nvPicPr>
        <p:blipFill>
          <a:blip r:embed="rId1"/>
          <a:stretch/>
        </p:blipFill>
        <p:spPr>
          <a:xfrm>
            <a:off x="214200" y="4929120"/>
            <a:ext cx="928800" cy="11430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4" descr="сірники.jpg"/>
          <p:cNvPicPr/>
          <p:nvPr/>
        </p:nvPicPr>
        <p:blipFill>
          <a:blip r:embed="rId2"/>
          <a:stretch/>
        </p:blipFill>
        <p:spPr>
          <a:xfrm>
            <a:off x="5643720" y="1928880"/>
            <a:ext cx="1404720" cy="10713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газова_плита.jpg"/>
          <p:cNvPicPr/>
          <p:nvPr/>
        </p:nvPicPr>
        <p:blipFill>
          <a:blip r:embed="rId3"/>
          <a:stretch/>
        </p:blipFill>
        <p:spPr>
          <a:xfrm>
            <a:off x="7215120" y="2928960"/>
            <a:ext cx="16430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4280" y="274320"/>
            <a:ext cx="77155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ння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br>
              <a:rPr sz="3600"/>
            </a:b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помножити многочлен на одночлен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71360" y="1856880"/>
            <a:ext cx="5786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помножити многочлен на одночлен, потрібно кожний член многочлена помножити на даний одночлен і результати дода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Щоб помножити многочлен на одночлен, потрібно перший член многочлена помножити на даний одночлен і результати дода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Щоб помножити многочлен на одночлен, потрібно кожний член многочлена помножити на даний одночле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Рисунок 3" descr="термос.jpg"/>
          <p:cNvPicPr/>
          <p:nvPr/>
        </p:nvPicPr>
        <p:blipFill>
          <a:blip r:embed="rId1"/>
          <a:stretch/>
        </p:blipFill>
        <p:spPr>
          <a:xfrm>
            <a:off x="7143840" y="1714680"/>
            <a:ext cx="1666800" cy="15253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сервыз.jpg"/>
          <p:cNvPicPr/>
          <p:nvPr/>
        </p:nvPicPr>
        <p:blipFill>
          <a:blip r:embed="rId2"/>
          <a:stretch/>
        </p:blipFill>
        <p:spPr>
          <a:xfrm>
            <a:off x="6643800" y="3429000"/>
            <a:ext cx="2247840" cy="1432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ыграшковий.jpg"/>
          <p:cNvPicPr/>
          <p:nvPr/>
        </p:nvPicPr>
        <p:blipFill>
          <a:blip r:embed="rId3"/>
          <a:stretch/>
        </p:blipFill>
        <p:spPr>
          <a:xfrm>
            <a:off x="6786720" y="5357880"/>
            <a:ext cx="18716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8:07:52Z</dcterms:created>
  <dc:creator>Dom</dc:creator>
  <dc:description/>
  <dc:language>en-US</dc:language>
  <cp:lastModifiedBy>Dom</cp:lastModifiedBy>
  <dcterms:modified xsi:type="dcterms:W3CDTF">2013-11-28T18:02:54Z</dcterms:modified>
  <cp:revision>76</cp:revision>
  <dc:subject/>
  <dc:title>Тема. Дії з многочлен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12000000000001024140</vt:lpwstr>
  </property>
</Properties>
</file>