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43A-1D6F-4FE4-AAEC-83F05A08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7B5-C1D8-4F52-B535-25EE9321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924-41EA-44F8-BC42-F345756F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343-DE2A-4F37-AC5C-4ADA86F0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309-E224-464A-B9A5-8A169783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452-D8D0-484C-A645-A66B126E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FA7-6733-46D0-A973-82974DE4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940-04E8-41C9-85A8-734F1EF7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1F0-95BF-4F20-A6C6-780B38EC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1C5-F9F5-4B12-BC54-1ED12CB9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1EA-BAA3-47E3-B409-A33B49B3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91E-307B-41CD-95F1-2ECFA97B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4F5A-C696-43F1-9DDC-A39EC16F3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solidFill>
            <a:srgbClr val="c0504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Множення раціональних        чисе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onnected_networks"/>
          <p:cNvPicPr/>
          <p:nvPr/>
        </p:nvPicPr>
        <p:blipFill>
          <a:blip r:embed="rId1"/>
          <a:stretch/>
        </p:blipFill>
        <p:spPr>
          <a:xfrm>
            <a:off x="420840" y="4724280"/>
            <a:ext cx="2376360" cy="213372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  <p:pic>
        <p:nvPicPr>
          <p:cNvPr id="43" name="Picture 7" descr="j0301252"/>
          <p:cNvPicPr/>
          <p:nvPr/>
        </p:nvPicPr>
        <p:blipFill>
          <a:blip r:embed="rId2"/>
          <a:stretch/>
        </p:blipFill>
        <p:spPr>
          <a:xfrm>
            <a:off x="6084720" y="4280040"/>
            <a:ext cx="3059280" cy="2577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195384"/>
          <p:cNvPicPr/>
          <p:nvPr/>
        </p:nvPicPr>
        <p:blipFill>
          <a:blip r:embed="rId3"/>
          <a:stretch/>
        </p:blipFill>
        <p:spPr>
          <a:xfrm>
            <a:off x="7020000" y="0"/>
            <a:ext cx="1979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Calibri"/>
              </a:rPr>
              <a:t>Розв’яж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3733920"/>
            <a:ext cx="752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AN00790_"/>
          <p:cNvPicPr/>
          <p:nvPr/>
        </p:nvPicPr>
        <p:blipFill>
          <a:blip r:embed="rId1"/>
          <a:stretch/>
        </p:blipFill>
        <p:spPr>
          <a:xfrm>
            <a:off x="6021360" y="314172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1332000" y="1557360"/>
            <a:ext cx="633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гровий момент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 задумав два протилежних числа . Поставте тільки одне запитання , щоб дізнатись ці два чис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сні вправ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4+49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25×2        0,5×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:3                          :5             +1,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+59                      ×140       -2,5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____                ______       ____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?                               ?           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Гра : « Хто скоріш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3733920"/>
            <a:ext cx="752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AN00790_"/>
          <p:cNvPicPr/>
          <p:nvPr/>
        </p:nvPicPr>
        <p:blipFill>
          <a:blip r:embed="rId1"/>
          <a:stretch/>
        </p:blipFill>
        <p:spPr>
          <a:xfrm>
            <a:off x="0" y="2997360"/>
            <a:ext cx="3294000" cy="3435120"/>
          </a:xfrm>
          <a:prstGeom prst="rect">
            <a:avLst/>
          </a:prstGeom>
          <a:ln w="0">
            <a:noFill/>
          </a:ln>
        </p:spPr>
      </p:pic>
      <p:pic>
        <p:nvPicPr>
          <p:cNvPr id="52" name="12-конечная звезда 2" descr=""/>
          <p:cNvPicPr/>
          <p:nvPr/>
        </p:nvPicPr>
        <p:blipFill>
          <a:blip r:embed="rId2"/>
          <a:stretch/>
        </p:blipFill>
        <p:spPr>
          <a:xfrm>
            <a:off x="4181400" y="1523880"/>
            <a:ext cx="927000" cy="927360"/>
          </a:xfrm>
          <a:prstGeom prst="rect">
            <a:avLst/>
          </a:prstGeom>
          <a:ln w="0">
            <a:noFill/>
          </a:ln>
        </p:spPr>
      </p:pic>
      <p:pic>
        <p:nvPicPr>
          <p:cNvPr id="53" name="12-конечная звезда 6" descr=""/>
          <p:cNvPicPr/>
          <p:nvPr/>
        </p:nvPicPr>
        <p:blipFill>
          <a:blip r:embed="rId3"/>
          <a:stretch/>
        </p:blipFill>
        <p:spPr>
          <a:xfrm>
            <a:off x="7248600" y="2828880"/>
            <a:ext cx="925560" cy="925560"/>
          </a:xfrm>
          <a:prstGeom prst="rect">
            <a:avLst/>
          </a:prstGeom>
          <a:ln w="0">
            <a:noFill/>
          </a:ln>
        </p:spPr>
      </p:pic>
      <p:pic>
        <p:nvPicPr>
          <p:cNvPr id="54" name="12-конечная звезда 7" descr=""/>
          <p:cNvPicPr/>
          <p:nvPr/>
        </p:nvPicPr>
        <p:blipFill>
          <a:blip r:embed="rId4"/>
          <a:stretch/>
        </p:blipFill>
        <p:spPr>
          <a:xfrm>
            <a:off x="3846600" y="4863960"/>
            <a:ext cx="927000" cy="927360"/>
          </a:xfrm>
          <a:prstGeom prst="rect">
            <a:avLst/>
          </a:prstGeom>
          <a:ln w="0">
            <a:noFill/>
          </a:ln>
        </p:spPr>
      </p:pic>
      <p:pic>
        <p:nvPicPr>
          <p:cNvPr id="55" name="12-конечная звезда 8" descr=""/>
          <p:cNvPicPr/>
          <p:nvPr/>
        </p:nvPicPr>
        <p:blipFill>
          <a:blip r:embed="rId5"/>
          <a:stretch/>
        </p:blipFill>
        <p:spPr>
          <a:xfrm>
            <a:off x="6797520" y="4863960"/>
            <a:ext cx="925560" cy="927360"/>
          </a:xfrm>
          <a:prstGeom prst="rect">
            <a:avLst/>
          </a:prstGeom>
          <a:ln w="0">
            <a:noFill/>
          </a:ln>
        </p:spPr>
      </p:pic>
      <p:pic>
        <p:nvPicPr>
          <p:cNvPr id="56" name="12-конечная звезда 9" descr=""/>
          <p:cNvPicPr/>
          <p:nvPr/>
        </p:nvPicPr>
        <p:blipFill>
          <a:blip r:embed="rId6"/>
          <a:stretch/>
        </p:blipFill>
        <p:spPr>
          <a:xfrm>
            <a:off x="3286080" y="2955960"/>
            <a:ext cx="925560" cy="927000"/>
          </a:xfrm>
          <a:prstGeom prst="rect">
            <a:avLst/>
          </a:prstGeom>
          <a:ln w="0">
            <a:noFill/>
          </a:ln>
        </p:spPr>
      </p:pic>
      <p:pic>
        <p:nvPicPr>
          <p:cNvPr id="57" name="12-конечная звезда 10" descr=""/>
          <p:cNvPicPr/>
          <p:nvPr/>
        </p:nvPicPr>
        <p:blipFill>
          <a:blip r:embed="rId7"/>
          <a:stretch/>
        </p:blipFill>
        <p:spPr>
          <a:xfrm>
            <a:off x="6053040" y="1719360"/>
            <a:ext cx="927360" cy="927000"/>
          </a:xfrm>
          <a:prstGeom prst="rect">
            <a:avLst/>
          </a:prstGeom>
          <a:ln w="0">
            <a:noFill/>
          </a:ln>
        </p:spPr>
      </p:pic>
      <p:pic>
        <p:nvPicPr>
          <p:cNvPr id="58" name="12-конечная звезда 11" descr=""/>
          <p:cNvPicPr/>
          <p:nvPr/>
        </p:nvPicPr>
        <p:blipFill>
          <a:blip r:embed="rId8"/>
          <a:stretch/>
        </p:blipFill>
        <p:spPr>
          <a:xfrm>
            <a:off x="5138640" y="4883040"/>
            <a:ext cx="927360" cy="927360"/>
          </a:xfrm>
          <a:prstGeom prst="rect">
            <a:avLst/>
          </a:prstGeom>
          <a:ln w="0">
            <a:noFill/>
          </a:ln>
        </p:spPr>
      </p:pic>
      <p:sp>
        <p:nvSpPr>
          <p:cNvPr id="59" name="12-конечная звезда 12"/>
          <p:cNvSpPr/>
          <p:nvPr/>
        </p:nvSpPr>
        <p:spPr>
          <a:xfrm>
            <a:off x="5116680" y="296712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-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Прямая со стрелкой 5"/>
          <p:cNvCxnSpPr/>
          <p:nvPr/>
        </p:nvCxnSpPr>
        <p:spPr>
          <a:xfrm>
            <a:off x="4427640" y="218268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" name="Прямая со стрелкой 14"/>
          <p:cNvCxnSpPr/>
          <p:nvPr/>
        </p:nvCxnSpPr>
        <p:spPr>
          <a:xfrm flipH="1">
            <a:off x="5605200" y="2445840"/>
            <a:ext cx="91512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8"/>
          <p:cNvCxnSpPr/>
          <p:nvPr/>
        </p:nvCxnSpPr>
        <p:spPr>
          <a:xfrm>
            <a:off x="5573520" y="3645000"/>
            <a:ext cx="108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" name="Прямая со стрелкой 20"/>
          <p:cNvCxnSpPr/>
          <p:nvPr/>
        </p:nvCxnSpPr>
        <p:spPr>
          <a:xfrm flipH="1">
            <a:off x="4307760" y="3573000"/>
            <a:ext cx="112788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" name="Прямая со стрелкой 22"/>
          <p:cNvCxnSpPr/>
          <p:nvPr/>
        </p:nvCxnSpPr>
        <p:spPr>
          <a:xfrm flipH="1" flipV="1">
            <a:off x="3850560" y="3293640"/>
            <a:ext cx="1585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5" name="Прямая со стрелкой 24"/>
          <p:cNvCxnSpPr/>
          <p:nvPr/>
        </p:nvCxnSpPr>
        <p:spPr>
          <a:xfrm flipV="1">
            <a:off x="5724000" y="3424320"/>
            <a:ext cx="1801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6" name="Прямая со стрелкой 26"/>
          <p:cNvCxnSpPr>
            <a:endCxn id="55" idx="2"/>
          </p:cNvCxnSpPr>
          <p:nvPr/>
        </p:nvCxnSpPr>
        <p:spPr>
          <a:xfrm>
            <a:off x="5605560" y="3573360"/>
            <a:ext cx="2053080" cy="198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лейдоскоп цікавих фактів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отепні аналогії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10920" y="3838680"/>
            <a:ext cx="752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AN00790_"/>
          <p:cNvPicPr/>
          <p:nvPr/>
        </p:nvPicPr>
        <p:blipFill>
          <a:blip r:embed="rId1"/>
          <a:stretch/>
        </p:blipFill>
        <p:spPr>
          <a:xfrm>
            <a:off x="0" y="299736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2987640" y="1628640"/>
            <a:ext cx="523872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атематичні знаки  «+» і «-» прийшли до нас із країн Сходу. Арабські вчені , виводячи правила дії з додатними й від’ємними числами, користувались такими цікавими аналогіями:                                                                                        «Друг мого ворога – мій ворог»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« Ворог мого друга – мені ворог»                      ( Помноживши «плюс» на «мінус» і навпаки, дістанемо «мінус»).                        +  ∙ -  =  -          - ∙ + = -                                                                                                        «Ворог мого ворога – мій друг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 Помноживши « мінус» на « мінус», дістанемо « плюс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- ∙ - =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равила множення раціональних чис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AN00790_"/>
          <p:cNvPicPr/>
          <p:nvPr/>
        </p:nvPicPr>
        <p:blipFill>
          <a:blip r:embed="rId1"/>
          <a:stretch/>
        </p:blipFill>
        <p:spPr>
          <a:xfrm>
            <a:off x="6021360" y="314172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1332000" y="1557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704880" y="1595520"/>
            <a:ext cx="530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буток двох множників з різними знаками є число від’ємне, модуль якого дорівнює добутку модулів даних множни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иклади: -3×2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3|∙|2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6                      5×(-2)= 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5|∙|-2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-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бутком двох чисел з однаковими знаками є число , яке дорівнює добутку модулів цих чис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приклад:-5×(-2)= 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5|∙|-2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10;                4×3= 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4|∙|3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ля будь-якого раціонального числа а:   а∙(-1)=-а;    -1∙а=-а;    а∙1=а;   1∙а=а;     0∙а =0;      а∙0=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-360" y="3847680"/>
            <a:ext cx="752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AN00790_"/>
          <p:cNvPicPr/>
          <p:nvPr/>
        </p:nvPicPr>
        <p:blipFill>
          <a:blip r:embed="rId1"/>
          <a:stretch/>
        </p:blipFill>
        <p:spPr>
          <a:xfrm>
            <a:off x="7236000" y="4724280"/>
            <a:ext cx="2122200" cy="22845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1332000" y="1557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20680" y="1211400"/>
            <a:ext cx="7920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4.Самостійна робота перевірочного характе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аріант 1                                                                    Варіан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. Виконати дії:                                                                                                                        А)1,4∙(-12)  ;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,5∙(-0,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)(-384)∙(-3,5);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-64)∙(-5,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)(-3)∙ ⅙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(- ⅜)∙(-⅓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.Записати в вигляді добутку су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А)-х+х+х+х+х+х;                                                      -х-х-х-х-х-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)  (-8)+ (-8)+ (-8)+ (-8)                                           5х+5х+5х+5х+5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озв’яжіть рівнянн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а) 6,7х=0                                                                     х∙ 4,5-0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х+0,2)∙ (х-0,5)=0                                          (х-0,6)∙ (х+0,2)=0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-360" y="3847680"/>
            <a:ext cx="752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AN00790_"/>
          <p:cNvPicPr/>
          <p:nvPr/>
        </p:nvPicPr>
        <p:blipFill>
          <a:blip r:embed="rId1"/>
          <a:stretch/>
        </p:blipFill>
        <p:spPr>
          <a:xfrm>
            <a:off x="6588000" y="4027320"/>
            <a:ext cx="2770200" cy="29815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"/>
          <p:cNvSpPr/>
          <p:nvPr/>
        </p:nvSpPr>
        <p:spPr>
          <a:xfrm>
            <a:off x="1332000" y="1557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220680" y="12114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755640" y="476280"/>
            <a:ext cx="610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омашнє завд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очитати  параграф  26, вивчити алгоритм множення раціональних чисе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иконати вправи                                                                                                               №1072, №1079 ( Середній рівен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080, № 1087( достатній рівень)                                                                                                         №1098,   скласти 5 прикладів на дії з раціональними числами.(високий рівен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junior_present_03"/>
          <p:cNvPicPr/>
          <p:nvPr/>
        </p:nvPicPr>
        <p:blipFill>
          <a:blip r:embed="rId2"/>
          <a:stretch/>
        </p:blipFill>
        <p:spPr>
          <a:xfrm>
            <a:off x="4376880" y="3290760"/>
            <a:ext cx="4767120" cy="356724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457200" y="0"/>
            <a:ext cx="7904160" cy="3278160"/>
          </a:xfrm>
          <a:prstGeom prst="rect">
            <a:avLst/>
          </a:prstGeom>
        </p:spPr>
        <p:txBody>
          <a:bodyPr wrap="none" lIns="84600" rIns="84600" tIns="42120" bIns="4212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хочет,тот добьется,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ищет, тот всегда найдет!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587520" y="3701880"/>
            <a:ext cx="3462120" cy="2127600"/>
          </a:xfrm>
          <a:prstGeom prst="rect">
            <a:avLst/>
          </a:prstGeom>
        </p:spPr>
        <p:txBody>
          <a:bodyPr wrap="none" lIns="84600" rIns="84600" tIns="42120" bIns="421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пехов!!!</a:t>
            </a:r>
            <a:endParaRPr b="0" lang="en-US" sz="33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2-22T08:40:57Z</dcterms:modified>
  <cp:revision>25</cp:revision>
  <dc:subject/>
  <dc:title>«Множення раціональних чисел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4000000000001024140</vt:lpwstr>
  </property>
</Properties>
</file>