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C9D-4AE2-4E5F-9690-55A49106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CB9-4253-47BE-9451-0044F86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FEB-FCE2-4628-A0EB-C8003108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C58-C116-4B17-94D6-2F4A078A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157-6380-41AE-BD7C-57711D6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6E8-399B-4F93-A11D-B76D6E5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1D4-B834-4D0D-9D38-28994860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0F7-D392-4AB4-B8E6-640DAE3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2B0-DA0C-4166-8531-1DAD938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349-9D35-40A1-BA43-29CA679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514-0820-4C6E-844F-990B5E0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851-3805-4308-81D5-31429E8C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0681-FEC4-46F1-A2F8-E11DB9228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Множення раціональних       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nnected_networks"/>
          <p:cNvPicPr/>
          <p:nvPr/>
        </p:nvPicPr>
        <p:blipFill>
          <a:blip r:embed="rId1"/>
          <a:stretch/>
        </p:blipFill>
        <p:spPr>
          <a:xfrm>
            <a:off x="420840" y="4724280"/>
            <a:ext cx="2376360" cy="2133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43" name="Picture 7" descr="j0301252"/>
          <p:cNvPicPr/>
          <p:nvPr/>
        </p:nvPicPr>
        <p:blipFill>
          <a:blip r:embed="rId2"/>
          <a:stretch/>
        </p:blipFill>
        <p:spPr>
          <a:xfrm>
            <a:off x="6084720" y="4280040"/>
            <a:ext cx="3059280" cy="257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195384"/>
          <p:cNvPicPr/>
          <p:nvPr/>
        </p:nvPicPr>
        <p:blipFill>
          <a:blip r:embed="rId3"/>
          <a:stretch/>
        </p:blipFill>
        <p:spPr>
          <a:xfrm>
            <a:off x="7020000" y="0"/>
            <a:ext cx="1979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Calibri"/>
              </a:rPr>
              <a:t>Розв’яж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332000" y="1557360"/>
            <a:ext cx="633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гровий момент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 задумав два протилежних числа . Поставте тільки одне запитання , щоб дізнатись ці два чис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сні вправ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4+49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25×2        0,5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3                          :5             +1,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+59                      ×140       -2,5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____                ______       ____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?                               ?           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ра : « Хто скоріш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pic>
        <p:nvPicPr>
          <p:cNvPr id="52" name="12-конечная звезда 2" descr=""/>
          <p:cNvPicPr/>
          <p:nvPr/>
        </p:nvPicPr>
        <p:blipFill>
          <a:blip r:embed="rId2"/>
          <a:stretch/>
        </p:blipFill>
        <p:spPr>
          <a:xfrm>
            <a:off x="4181400" y="152388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3" name="12-конечная звезда 6" descr=""/>
          <p:cNvPicPr/>
          <p:nvPr/>
        </p:nvPicPr>
        <p:blipFill>
          <a:blip r:embed="rId3"/>
          <a:stretch/>
        </p:blipFill>
        <p:spPr>
          <a:xfrm>
            <a:off x="7248600" y="282888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12-конечная звезда 7" descr=""/>
          <p:cNvPicPr/>
          <p:nvPr/>
        </p:nvPicPr>
        <p:blipFill>
          <a:blip r:embed="rId4"/>
          <a:stretch/>
        </p:blipFill>
        <p:spPr>
          <a:xfrm>
            <a:off x="3846600" y="486396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5" name="12-конечная звезда 8" descr=""/>
          <p:cNvPicPr/>
          <p:nvPr/>
        </p:nvPicPr>
        <p:blipFill>
          <a:blip r:embed="rId5"/>
          <a:stretch/>
        </p:blipFill>
        <p:spPr>
          <a:xfrm>
            <a:off x="6797520" y="4863960"/>
            <a:ext cx="925560" cy="927360"/>
          </a:xfrm>
          <a:prstGeom prst="rect">
            <a:avLst/>
          </a:prstGeom>
          <a:ln w="0">
            <a:noFill/>
          </a:ln>
        </p:spPr>
      </p:pic>
      <p:pic>
        <p:nvPicPr>
          <p:cNvPr id="56" name="12-конечная звезда 9" descr=""/>
          <p:cNvPicPr/>
          <p:nvPr/>
        </p:nvPicPr>
        <p:blipFill>
          <a:blip r:embed="rId6"/>
          <a:stretch/>
        </p:blipFill>
        <p:spPr>
          <a:xfrm>
            <a:off x="3286080" y="2955960"/>
            <a:ext cx="925560" cy="927000"/>
          </a:xfrm>
          <a:prstGeom prst="rect">
            <a:avLst/>
          </a:prstGeom>
          <a:ln w="0">
            <a:noFill/>
          </a:ln>
        </p:spPr>
      </p:pic>
      <p:pic>
        <p:nvPicPr>
          <p:cNvPr id="57" name="12-конечная звезда 10" descr=""/>
          <p:cNvPicPr/>
          <p:nvPr/>
        </p:nvPicPr>
        <p:blipFill>
          <a:blip r:embed="rId7"/>
          <a:stretch/>
        </p:blipFill>
        <p:spPr>
          <a:xfrm>
            <a:off x="6053040" y="1719360"/>
            <a:ext cx="92736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12-конечная звезда 11" descr=""/>
          <p:cNvPicPr/>
          <p:nvPr/>
        </p:nvPicPr>
        <p:blipFill>
          <a:blip r:embed="rId8"/>
          <a:stretch/>
        </p:blipFill>
        <p:spPr>
          <a:xfrm>
            <a:off x="5138640" y="4883040"/>
            <a:ext cx="927360" cy="927360"/>
          </a:xfrm>
          <a:prstGeom prst="rect">
            <a:avLst/>
          </a:prstGeom>
          <a:ln w="0">
            <a:noFill/>
          </a:ln>
        </p:spPr>
      </p:pic>
      <p:sp>
        <p:nvSpPr>
          <p:cNvPr id="59" name="12-конечная звезда 12"/>
          <p:cNvSpPr/>
          <p:nvPr/>
        </p:nvSpPr>
        <p:spPr>
          <a:xfrm>
            <a:off x="5116680" y="29671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5"/>
          <p:cNvCxnSpPr/>
          <p:nvPr/>
        </p:nvCxnSpPr>
        <p:spPr>
          <a:xfrm>
            <a:off x="4427640" y="21826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 flipH="1">
            <a:off x="5605200" y="2445840"/>
            <a:ext cx="9151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8"/>
          <p:cNvCxnSpPr/>
          <p:nvPr/>
        </p:nvCxnSpPr>
        <p:spPr>
          <a:xfrm>
            <a:off x="5573520" y="3645000"/>
            <a:ext cx="108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" name="Прямая со стрелкой 20"/>
          <p:cNvCxnSpPr/>
          <p:nvPr/>
        </p:nvCxnSpPr>
        <p:spPr>
          <a:xfrm flipH="1">
            <a:off x="4307760" y="3573000"/>
            <a:ext cx="112788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Прямая со стрелкой 22"/>
          <p:cNvCxnSpPr/>
          <p:nvPr/>
        </p:nvCxnSpPr>
        <p:spPr>
          <a:xfrm flipH="1" flipV="1">
            <a:off x="3850560" y="3293640"/>
            <a:ext cx="1585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Прямая со стрелкой 24"/>
          <p:cNvCxnSpPr/>
          <p:nvPr/>
        </p:nvCxnSpPr>
        <p:spPr>
          <a:xfrm flipV="1">
            <a:off x="5724000" y="3424320"/>
            <a:ext cx="1801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Прямая со стрелкой 26"/>
          <p:cNvCxnSpPr>
            <a:endCxn id="55" idx="2"/>
          </p:cNvCxnSpPr>
          <p:nvPr/>
        </p:nvCxnSpPr>
        <p:spPr>
          <a:xfrm>
            <a:off x="5605560" y="3573360"/>
            <a:ext cx="205308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лейдоскоп цікавих фактів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тепні аналогії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0920" y="383868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2987640" y="1628640"/>
            <a:ext cx="5238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атематичні знаки  «+» і «-» прийшли до нас із країн Сходу. Арабські вчені , виводячи правила дії з додатними й від’ємними числами, користувались такими цікавими аналогіями:                                                                                        «Друг мого ворога – мій ворог»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« Ворог мого друга – мені ворог»                      ( Помноживши «плюс» на «мінус» і навпаки, дістанемо «мінус»).                        +  ∙ -  =  -          - ∙ + = -                                                                                                        «Ворог мого ворога – мій друг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 Помноживши « мінус» на « мінус», дістанемо « плюс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- ∙ - =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авила множення раціональних чис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704880" y="1595520"/>
            <a:ext cx="530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ок двох множників з різними знаками є число від’ємне, модуль якого дорівнює добутку модулів даних множ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клади: -3×2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3|∙|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6                      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ком двох чисел з однаковими знаками є число , яке дорівнює добутку модулів цих чис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приклад:-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10;                4×3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|∙|3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будь-якого раціонального числа а:   а∙(-1)=-а;    -1∙а=-а;    а∙1=а;   1∙а=а;     0∙а =0;      а∙0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AN00790_"/>
          <p:cNvPicPr/>
          <p:nvPr/>
        </p:nvPicPr>
        <p:blipFill>
          <a:blip r:embed="rId1"/>
          <a:stretch/>
        </p:blipFill>
        <p:spPr>
          <a:xfrm>
            <a:off x="7236000" y="4724280"/>
            <a:ext cx="2122200" cy="22845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20680" y="1211400"/>
            <a:ext cx="792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4.Самостійна робота перевірочного характе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аріант 1                                                                    Варіан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. Виконати дії:                                                                                                                        А)1,4∙(-12)  ;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,5∙(-0,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(-384)∙(-3,5);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-64)∙(-5,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)(-3)∙ ⅙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(- ⅜)∙(-⅓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.Записати в вигляді добутку су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-х+х+х+х+х+х;                                                      -х-х-х-х-х-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  (-8)+ (-8)+ (-8)+ (-8)                                           5х+5х+5х+5х+5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озв’яжіть рівня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 6,7х=0                                                                     х∙ 4,5-0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х+0,2)∙ (х-0,5)=0                                          (х-0,6)∙ (х+0,2)=0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AN00790_"/>
          <p:cNvPicPr/>
          <p:nvPr/>
        </p:nvPicPr>
        <p:blipFill>
          <a:blip r:embed="rId1"/>
          <a:stretch/>
        </p:blipFill>
        <p:spPr>
          <a:xfrm>
            <a:off x="6588000" y="4027320"/>
            <a:ext cx="2770200" cy="29815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20680" y="12114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755640" y="476280"/>
            <a:ext cx="610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читати  параграф  26, вивчити алгоритм множення раціональних чисе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конати вправи                                                                                                               №1072, №1079 ( Середні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80, № 1087( достатній рівень)                                                                                                         №1098,   скласти 5 прикладів на дії з раціональними числами.(високи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junior_present_03"/>
          <p:cNvPicPr/>
          <p:nvPr/>
        </p:nvPicPr>
        <p:blipFill>
          <a:blip r:embed="rId2"/>
          <a:stretch/>
        </p:blipFill>
        <p:spPr>
          <a:xfrm>
            <a:off x="4376880" y="3290760"/>
            <a:ext cx="4767120" cy="35672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457200" y="0"/>
            <a:ext cx="7904160" cy="327816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хочет,тот добьется,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ищет, тот всегда найдет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587520" y="3701880"/>
            <a:ext cx="3462120" cy="212760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!!!</a:t>
            </a:r>
            <a:endParaRPr b="0" lang="en-US" sz="33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22T08:40:57Z</dcterms:modified>
  <cp:revision>25</cp:revision>
  <dc:subject/>
  <dc:title>«Множення раціональних чисел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4000000000001024140</vt:lpwstr>
  </property>
</Properties>
</file>