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5.jpeg" ContentType="image/jpeg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9.wmf" ContentType="image/x-wmf"/>
  <Override PartName="/ppt/media/image8.jpeg" ContentType="image/jpeg"/>
  <Override PartName="/ppt/media/image13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33.jpeg" ContentType="image/jpeg"/>
  <Override PartName="/ppt/media/image34.gif" ContentType="image/gi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3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71F1-8E02-415D-978C-908E604A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AA55-D6BC-4728-B438-477A49CA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F693-061F-4DB1-99A6-4F973BBC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8D06-2F16-4CEF-90BC-DEA083B0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1F49-5D02-4E47-966E-CAAEB3338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F270-8160-4327-B0F0-6D4B31B6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24E7-A7EC-4C93-9A43-F3217423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3461-F72F-4064-955C-E58DB4E1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256A-D7F8-4BC8-A3A9-72F631F2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5768-2744-4944-82F9-9C47AC34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7BFB-38F8-4434-88B1-8856AD1B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572E-74A6-4A2F-A8AE-64787FC6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B6F1-DA9D-4751-B8BB-4AFC1C25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0661-A549-494F-BE51-986BD0CF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BAB0-8061-4447-BB58-CEA38B27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8EB2-B853-4F8E-B5C8-936E7494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4CDD-E22E-4DE3-AF69-25DECCFD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07D9-DF52-4DAA-BCE1-52FCF4DC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F049-3F5C-4DAF-BFF1-227A3AE6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5209-2DE1-4D55-8F2F-B073CAEA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2E80-C3E3-420C-85D6-18213605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F94E-5380-4F64-9A12-80AF4AC0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1405-8B5C-4C2F-AD94-64FFDE50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EA9D-FDCF-4E2F-B079-1707B8C5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9A6E-1097-4565-A28F-D2FAB64BA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AC31-931E-4013-A41B-03EFD78E3B94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Урок з алгебри у 7-Б класі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Picture 31" descr="OWLBOOK"/>
          <p:cNvPicPr/>
          <p:nvPr/>
        </p:nvPicPr>
        <p:blipFill>
          <a:blip r:embed="rId1"/>
          <a:stretch/>
        </p:blipFill>
        <p:spPr>
          <a:xfrm>
            <a:off x="324000" y="3357720"/>
            <a:ext cx="27352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684360" y="2060640"/>
          <a:ext cx="7772400" cy="4140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більш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 – 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матика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валевськ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8)(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нтазії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мага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; 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фі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 наука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619280" y="5661000"/>
            <a:ext cx="1873080" cy="433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547640" y="4724280"/>
            <a:ext cx="2233800" cy="373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619280" y="3141720"/>
            <a:ext cx="2303280" cy="4334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1"/>
          <p:cNvSpPr/>
          <p:nvPr/>
        </p:nvSpPr>
        <p:spPr>
          <a:xfrm>
            <a:off x="1258920" y="189000"/>
            <a:ext cx="76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imes New Roman"/>
              </a:rPr>
              <a:t>Математика – це наука, яка вимагає найбільше фантазії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imes New Roman"/>
              </a:rPr>
              <a:t>Софія Ковалевсь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imes New Roman"/>
              </a:rPr>
              <a:t>Гра «Еврика»</a:t>
            </a:r>
            <a:r>
              <a:rPr b="0" lang="uk-UA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. Розкласти многочлени на множник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Обчислит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Object 5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1657440" cy="3952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Object 7" descr=""/>
          <p:cNvPicPr/>
          <p:nvPr/>
        </p:nvPicPr>
        <p:blipFill>
          <a:blip r:embed="rId2"/>
          <a:stretch/>
        </p:blipFill>
        <p:spPr>
          <a:xfrm>
            <a:off x="1547640" y="2924280"/>
            <a:ext cx="3168720" cy="4395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Object 9" descr=""/>
          <p:cNvPicPr/>
          <p:nvPr/>
        </p:nvPicPr>
        <p:blipFill>
          <a:blip r:embed="rId3"/>
          <a:stretch/>
        </p:blipFill>
        <p:spPr>
          <a:xfrm>
            <a:off x="1619280" y="4221000"/>
            <a:ext cx="1584360" cy="4114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Object 11" descr=""/>
          <p:cNvPicPr/>
          <p:nvPr/>
        </p:nvPicPr>
        <p:blipFill>
          <a:blip r:embed="rId4"/>
          <a:stretch/>
        </p:blipFill>
        <p:spPr>
          <a:xfrm>
            <a:off x="1619280" y="4653000"/>
            <a:ext cx="1942920" cy="461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"/>
          <p:cNvPicPr/>
          <p:nvPr/>
        </p:nvPicPr>
        <p:blipFill>
          <a:blip r:embed="rId5"/>
          <a:stretch/>
        </p:blipFill>
        <p:spPr>
          <a:xfrm>
            <a:off x="5219640" y="3141720"/>
            <a:ext cx="3240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Times New Roman"/>
              </a:rPr>
              <a:t>3. Як піднести до квадрата будь-яке двоцифрове число, яке закінчується цифрою 5 якомога швидше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в’язанн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ехай двоцифрове число має першу цифр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 закінчується цифрою 5, тобт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іднесемо його до квадрат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= 10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+ 25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обуток 10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орівнює числу, яке закінчується двома нулями, тому число в результаті буде закінчуватися цифрами 2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тже,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щоб піднести до квадрата двоцифрове число, яке закінчується цифрою 5, достатньо знайти добуток першої цифри на цифру, що на 1 більша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 справа дописати число 25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риклад,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5²= 625; 35²=1225; 75²=562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Object 4" descr=""/>
          <p:cNvPicPr/>
          <p:nvPr/>
        </p:nvPicPr>
        <p:blipFill>
          <a:blip r:embed="rId1"/>
          <a:stretch/>
        </p:blipFill>
        <p:spPr>
          <a:xfrm>
            <a:off x="3851280" y="2637000"/>
            <a:ext cx="1655640" cy="439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2"/>
          <a:srcRect l="0" t="0" r="37469" b="0"/>
          <a:stretch/>
        </p:blipFill>
        <p:spPr>
          <a:xfrm>
            <a:off x="1187280" y="3357720"/>
            <a:ext cx="3816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9328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4. Знайти помилку і записати вирази правильно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5640" y="1989000"/>
            <a:ext cx="4181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Object 4" descr=""/>
          <p:cNvPicPr/>
          <p:nvPr/>
        </p:nvPicPr>
        <p:blipFill>
          <a:blip r:embed="rId1"/>
          <a:stretch/>
        </p:blipFill>
        <p:spPr>
          <a:xfrm>
            <a:off x="1630440" y="1989000"/>
            <a:ext cx="2784240" cy="4287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Object 6" descr=""/>
          <p:cNvPicPr/>
          <p:nvPr/>
        </p:nvPicPr>
        <p:blipFill>
          <a:blip r:embed="rId2"/>
          <a:stretch/>
        </p:blipFill>
        <p:spPr>
          <a:xfrm>
            <a:off x="1643040" y="2924280"/>
            <a:ext cx="2689200" cy="43164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Object 8" descr=""/>
          <p:cNvPicPr/>
          <p:nvPr/>
        </p:nvPicPr>
        <p:blipFill>
          <a:blip r:embed="rId3"/>
          <a:stretch/>
        </p:blipFill>
        <p:spPr>
          <a:xfrm>
            <a:off x="1641600" y="3789360"/>
            <a:ext cx="2546280" cy="41292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Object 10" descr=""/>
          <p:cNvPicPr/>
          <p:nvPr/>
        </p:nvPicPr>
        <p:blipFill>
          <a:blip r:embed="rId4"/>
          <a:stretch/>
        </p:blipFill>
        <p:spPr>
          <a:xfrm>
            <a:off x="1725480" y="4653000"/>
            <a:ext cx="2884680" cy="4125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3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5</a:t>
            </a:r>
            <a:r>
              <a:rPr b="0" lang="uk-UA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 Гра «Привітаємо з ювілеєм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16000" y="907560"/>
            <a:ext cx="77724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Кіровоградська область – ювілярка!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 років тому 10 січня 1939 року утворилася Кіровоградська область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чи знаєте ви яка кількість населенн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ійно проживає у Кіровоградській області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класти на множники такий многочлен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–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cd – 4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обчислити його значення, якщ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+ b + c – 2d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+ b – c + 2d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7" descr="http://koippo414.at.ua/75rokiv_kir_obl/kir.obl.75.jpg"/>
          <p:cNvPicPr/>
          <p:nvPr/>
        </p:nvPicPr>
        <p:blipFill>
          <a:blip r:embed="rId1"/>
          <a:stretch/>
        </p:blipFill>
        <p:spPr>
          <a:xfrm>
            <a:off x="250920" y="907920"/>
            <a:ext cx="156852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907640" y="115560"/>
            <a:ext cx="66963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’язання :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2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а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а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 (а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а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 а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000 ∙ 331 = 99300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Прямокутник 3"/>
          <p:cNvSpPr/>
          <p:nvPr/>
        </p:nvSpPr>
        <p:spPr>
          <a:xfrm>
            <a:off x="684360" y="450864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лькість людей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 проживає у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ровоградській області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вить 993 тисяч осіб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58920" y="2923920"/>
            <a:ext cx="5184720" cy="280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Times New Roman"/>
              </a:rPr>
              <a:t>Домашнє завдання:</a:t>
            </a:r>
            <a:r>
              <a:rPr b="0" lang="uk-UA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333399"/>
                </a:solidFill>
                <a:latin typeface="Times New Roman"/>
              </a:rPr>
              <a:t>- повторити формули скороченого множення, </a:t>
            </a:r>
            <a:br>
              <a:rPr sz="2800"/>
            </a:br>
            <a:r>
              <a:rPr b="0" lang="uk-UA" sz="2800" spc="-1" strike="noStrike">
                <a:solidFill>
                  <a:srgbClr val="333399"/>
                </a:solidFill>
                <a:latin typeface="Times New Roman"/>
              </a:rPr>
              <a:t>- виконати самостійну роботу за збірником варіант 1 або 2.</a:t>
            </a: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6659640" y="404640"/>
            <a:ext cx="20286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8496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333399"/>
                </a:solidFill>
                <a:latin typeface="Times New Roman"/>
              </a:rPr>
              <a:t>«Немає сили могутнішої за знання; людина, озброєна знаннями, – непереможна»</a:t>
            </a:r>
            <a:br>
              <a:rPr sz="5400"/>
            </a:br>
            <a:r>
              <a:rPr b="1" lang="uk-UA" sz="5400" spc="-1" strike="noStrike">
                <a:solidFill>
                  <a:srgbClr val="333399"/>
                </a:solidFill>
                <a:latin typeface="Times New Roman"/>
              </a:rPr>
              <a:t>                Максим Горький</a:t>
            </a:r>
            <a:r>
              <a:rPr b="0" lang="uk-UA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2349000"/>
            <a:ext cx="7793280" cy="8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Times New Roman"/>
              </a:rPr>
              <a:t>Дякую за співпрацю на уроці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Picture 13" descr="Entertainment-02"/>
          <p:cNvPicPr/>
          <p:nvPr/>
        </p:nvPicPr>
        <p:blipFill>
          <a:blip r:embed="rId1"/>
          <a:stretch/>
        </p:blipFill>
        <p:spPr>
          <a:xfrm>
            <a:off x="3492360" y="3645000"/>
            <a:ext cx="25466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Сьогодні</a:t>
            </a:r>
            <a:r>
              <a:rPr b="0" lang="uk-UA" sz="3600" spc="-1" strike="noStrike">
                <a:solidFill>
                  <a:srgbClr val="333399"/>
                </a:solidFill>
                <a:latin typeface="Times New Roman"/>
              </a:rPr>
              <a:t> ми поринемо </a:t>
            </a:r>
            <a:br>
              <a:rPr sz="3600"/>
            </a:br>
            <a:r>
              <a:rPr b="0" lang="uk-UA" sz="3600" spc="-1" strike="noStrike">
                <a:solidFill>
                  <a:srgbClr val="333399"/>
                </a:solidFill>
                <a:latin typeface="Times New Roman"/>
              </a:rPr>
              <a:t>у чудовий світ математики – </a:t>
            </a:r>
            <a:br>
              <a:rPr sz="3600"/>
            </a:br>
            <a:r>
              <a:rPr b="0" lang="uk-UA" sz="3600" spc="-1" strike="noStrike">
                <a:solidFill>
                  <a:srgbClr val="333399"/>
                </a:solidFill>
                <a:latin typeface="Times New Roman"/>
              </a:rPr>
              <a:t>у країну ФСМ  </a:t>
            </a:r>
            <a:br>
              <a:rPr sz="3600"/>
            </a:br>
            <a:r>
              <a:rPr b="0" lang="uk-UA" sz="3600" spc="-1" strike="noStrike">
                <a:solidFill>
                  <a:srgbClr val="333399"/>
                </a:solidFill>
                <a:latin typeface="Times New Roman"/>
              </a:rPr>
              <a:t>(формул скороченого множення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7772400" cy="37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тож, всім бажаю успіху і бути на уроці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міхнени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окійни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огресивни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іціативни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робри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4859280" y="3429000"/>
            <a:ext cx="345780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69501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imes New Roman"/>
              </a:rPr>
              <a:t>Тема: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 Застосування формул скороченого множення. </a:t>
            </a:r>
            <a:br>
              <a:rPr sz="3200"/>
            </a:b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Розв’язування вправ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280" y="227664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Мета: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закріпити навички  застосовувати формули скороченого множенн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uk-UA" sz="3200" spc="-1" strike="noStrike">
                <a:solidFill>
                  <a:srgbClr val="333399"/>
                </a:solidFill>
                <a:latin typeface="Times New Roman"/>
              </a:rPr>
              <a:t>Епіграф: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«Успіх – це тільки 10% таланту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а 90% – це щоденна наполеглива праця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Times New Roman"/>
              </a:rPr>
              <a:t>Перевіримо домашнє завданн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) Піднесіть до квадрата:                        3) Розв”язати рівнянн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простити вираз: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)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Object 4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2374920" cy="3985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Object 8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2879640" cy="412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Object 10" descr=""/>
          <p:cNvPicPr/>
          <p:nvPr/>
        </p:nvPicPr>
        <p:blipFill>
          <a:blip r:embed="rId3"/>
          <a:stretch/>
        </p:blipFill>
        <p:spPr>
          <a:xfrm>
            <a:off x="539640" y="4724280"/>
            <a:ext cx="3456000" cy="17463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Object 16" descr=""/>
          <p:cNvPicPr/>
          <p:nvPr/>
        </p:nvPicPr>
        <p:blipFill>
          <a:blip r:embed="rId4"/>
          <a:stretch/>
        </p:blipFill>
        <p:spPr>
          <a:xfrm>
            <a:off x="5796000" y="2421000"/>
            <a:ext cx="2643120" cy="3024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Object 18" descr=""/>
          <p:cNvPicPr/>
          <p:nvPr/>
        </p:nvPicPr>
        <p:blipFill>
          <a:blip r:embed="rId5"/>
          <a:stretch/>
        </p:blipFill>
        <p:spPr>
          <a:xfrm>
            <a:off x="826920" y="3789360"/>
            <a:ext cx="453708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imes New Roman"/>
              </a:rPr>
              <a:t>Урок–ділова гра 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uk-UA" sz="4400" spc="-1" strike="noStrike">
                <a:solidFill>
                  <a:srgbClr val="333399"/>
                </a:solidFill>
                <a:latin typeface="Times New Roman"/>
              </a:rPr>
              <a:t>Компетентність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Компетентність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– це готовність застосовувати знання, вміння та навички для виконання практичних та теоретичних завдан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Компетентний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– це той, хто володіє необхідною інформацією і вміє застосовувати набуті знанн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Встановити відповідність між лівими і правими частинами формул скороченого множення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39640" y="2637000"/>
          <a:ext cx="8137800" cy="2743200"/>
        </p:xfrm>
        <a:graphic>
          <a:graphicData uri="http://schemas.openxmlformats.org/drawingml/2006/table">
            <a:tbl>
              <a:tblPr/>
              <a:tblGrid>
                <a:gridCol w="1447920"/>
                <a:gridCol w="2685960"/>
                <a:gridCol w="1317600"/>
                <a:gridCol w="26863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(а +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(а +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+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779292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Times New Roman"/>
              </a:rPr>
              <a:t>Утворилися формули скороченого множення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2708280"/>
            <a:ext cx="820404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Г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а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обуток різниці і сум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А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а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а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різниця квадраті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Б. (а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вадрат різниці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В. (а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вадрат сум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9328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imes New Roman"/>
              </a:rPr>
              <a:t>Історична довідка</a:t>
            </a:r>
            <a:r>
              <a:rPr b="0" lang="uk-UA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3822840" y="2712960"/>
            <a:ext cx="523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822840" y="2712960"/>
            <a:ext cx="97452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3822840" y="2712960"/>
            <a:ext cx="5238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4140360" y="1265400"/>
            <a:ext cx="439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лоща квадрата, побудованого на сумі двох відрізків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орівнює сумі площ квадратів, побудованих на кожному з цих відрізків, плюс подвоєна площа прямокутника, побудованого на цих відрізках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1" descr=""/>
          <p:cNvPicPr/>
          <p:nvPr/>
        </p:nvPicPr>
        <p:blipFill>
          <a:blip r:embed="rId1"/>
          <a:stretch/>
        </p:blipFill>
        <p:spPr>
          <a:xfrm>
            <a:off x="192240" y="898560"/>
            <a:ext cx="3887640" cy="36291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Object 42" descr=""/>
          <p:cNvPicPr/>
          <p:nvPr/>
        </p:nvPicPr>
        <p:blipFill>
          <a:blip r:embed="rId2"/>
          <a:stretch/>
        </p:blipFill>
        <p:spPr>
          <a:xfrm>
            <a:off x="5148360" y="5734080"/>
            <a:ext cx="3456000" cy="5284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44" descr=""/>
          <p:cNvPicPr/>
          <p:nvPr/>
        </p:nvPicPr>
        <p:blipFill>
          <a:blip r:embed="rId3"/>
          <a:stretch/>
        </p:blipFill>
        <p:spPr>
          <a:xfrm>
            <a:off x="971640" y="4724280"/>
            <a:ext cx="7272360" cy="5144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6"/>
          <p:cNvSpPr/>
          <p:nvPr/>
        </p:nvSpPr>
        <p:spPr>
          <a:xfrm>
            <a:off x="325800" y="5445000"/>
            <a:ext cx="510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Йдеться про формулу квадрата суми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яку ми символічно записуємо так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imes New Roman"/>
              </a:rPr>
              <a:t>Командна робот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973440" y="1123560"/>
            <a:ext cx="40744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Картка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озкласти многочлен на множник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b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.                    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Картка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еретворити вираз у многочлен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.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Картка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озв’язати рівнянн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Картка 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озкласти многочлен на множник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Object 5" descr=""/>
          <p:cNvPicPr/>
          <p:nvPr/>
        </p:nvPicPr>
        <p:blipFill>
          <a:blip r:embed="rId1"/>
          <a:stretch/>
        </p:blipFill>
        <p:spPr>
          <a:xfrm>
            <a:off x="1332000" y="2060640"/>
            <a:ext cx="1152360" cy="3524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Object 7" descr=""/>
          <p:cNvPicPr/>
          <p:nvPr/>
        </p:nvPicPr>
        <p:blipFill>
          <a:blip r:embed="rId2"/>
          <a:stretch/>
        </p:blipFill>
        <p:spPr>
          <a:xfrm>
            <a:off x="1332000" y="2924280"/>
            <a:ext cx="865080" cy="3999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Object 9" descr=""/>
          <p:cNvPicPr/>
          <p:nvPr/>
        </p:nvPicPr>
        <p:blipFill>
          <a:blip r:embed="rId3"/>
          <a:stretch/>
        </p:blipFill>
        <p:spPr>
          <a:xfrm>
            <a:off x="1332000" y="3284640"/>
            <a:ext cx="1944720" cy="3729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Object 11" descr=""/>
          <p:cNvPicPr/>
          <p:nvPr/>
        </p:nvPicPr>
        <p:blipFill>
          <a:blip r:embed="rId4"/>
          <a:stretch/>
        </p:blipFill>
        <p:spPr>
          <a:xfrm>
            <a:off x="1403280" y="4221000"/>
            <a:ext cx="1297080" cy="3556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Object 13" descr=""/>
          <p:cNvPicPr/>
          <p:nvPr/>
        </p:nvPicPr>
        <p:blipFill>
          <a:blip r:embed="rId5"/>
          <a:stretch/>
        </p:blipFill>
        <p:spPr>
          <a:xfrm>
            <a:off x="1403280" y="4508640"/>
            <a:ext cx="1152720" cy="2984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Object 15" descr=""/>
          <p:cNvPicPr/>
          <p:nvPr/>
        </p:nvPicPr>
        <p:blipFill>
          <a:blip r:embed="rId6"/>
          <a:stretch/>
        </p:blipFill>
        <p:spPr>
          <a:xfrm>
            <a:off x="1403280" y="5373720"/>
            <a:ext cx="936720" cy="4017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Object 17" descr=""/>
          <p:cNvPicPr/>
          <p:nvPr/>
        </p:nvPicPr>
        <p:blipFill>
          <a:blip r:embed="rId7"/>
          <a:stretch/>
        </p:blipFill>
        <p:spPr>
          <a:xfrm>
            <a:off x="1332000" y="5734080"/>
            <a:ext cx="1079280" cy="4237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3T05:52:50Z</dcterms:created>
  <dc:creator>User</dc:creator>
  <dc:description/>
  <dc:language>en-US</dc:language>
  <cp:lastModifiedBy>User</cp:lastModifiedBy>
  <dcterms:modified xsi:type="dcterms:W3CDTF">2014-02-04T22:22:11Z</dcterms:modified>
  <cp:revision>59</cp:revision>
  <dc:subject/>
  <dc:title>Застосування формул скороченого множення.  Розв’язування впра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04000000000001024140</vt:lpwstr>
  </property>
</Properties>
</file>