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5.jpeg" ContentType="image/jpeg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8.jpeg" ContentType="image/jpeg"/>
  <Override PartName="/ppt/media/image13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34.gif" ContentType="image/gi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0B8-19FF-46C3-8CAC-C06B69E4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FA0-FB90-48DC-9B51-32A405B1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A10-D4F0-4F78-B890-B8FE0460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DEB-07EF-49D2-B638-B72AC3FF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5DCB-8971-49E6-B076-4661FAF0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98E5-C2DA-4131-A7C0-DDF4F0EF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6DE8-A563-4567-9FFD-1AE9F879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6952-780C-4269-B206-4A3B4F79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3BFB-34DC-45AD-BA58-4F738C36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3125-FB22-494D-80C0-0AF6E8B8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B1F9-E995-4C5E-96AF-A58B91E7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2D9-FFB2-4CFF-8050-96DC3D7A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6EA5-C4A8-4286-BDE4-5117932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38FA-943C-4F2D-964C-87C62D9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C54D-BFA8-4924-940B-C1B00FF0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9894-76E3-4AE6-A913-09DE3B46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A6ED-6B5C-4FA1-9F05-5F8E66B4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2F3-9D99-45CC-A3E4-EE9B8475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21B-89FD-4B33-ACDC-918E90AF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A16-AF85-4519-92DA-94341EE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86D-C42E-41B0-B2B6-8155C405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FE2-1B43-46A8-BC64-A6EFAF82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D3A-0599-4811-A630-DCDD6EA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5AE-5EBB-4FB2-867B-CE925175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B561-02EB-424F-9D5D-918FE1DE5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4658-E1D0-4DBE-BBA5-158DE1EDD81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Урок з алгебри у 7-Б класі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31" descr="OWLBOOK"/>
          <p:cNvPicPr/>
          <p:nvPr/>
        </p:nvPicPr>
        <p:blipFill>
          <a:blip r:embed="rId1"/>
          <a:stretch/>
        </p:blipFill>
        <p:spPr>
          <a:xfrm>
            <a:off x="324000" y="3357720"/>
            <a:ext cx="27352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4360" y="2060640"/>
          <a:ext cx="7772400" cy="4140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біль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– 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валевсь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8)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нтазії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ага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; 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ф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 наука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19280" y="5661000"/>
            <a:ext cx="1873080" cy="433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47640" y="4724280"/>
            <a:ext cx="2233800" cy="373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19280" y="3141720"/>
            <a:ext cx="2303280" cy="433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1"/>
          <p:cNvSpPr/>
          <p:nvPr/>
        </p:nvSpPr>
        <p:spPr>
          <a:xfrm>
            <a:off x="1258920" y="189000"/>
            <a:ext cx="76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Математика – це наука, яка вимагає найбільше фантаз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Софія Ковалевсь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Гра «Еврика»</a:t>
            </a: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. Розкласти многочлени на множник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Обчисли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5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1657440" cy="3952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Object 7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3168720" cy="439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Object 9" descr=""/>
          <p:cNvPicPr/>
          <p:nvPr/>
        </p:nvPicPr>
        <p:blipFill>
          <a:blip r:embed="rId3"/>
          <a:stretch/>
        </p:blipFill>
        <p:spPr>
          <a:xfrm>
            <a:off x="1619280" y="4221000"/>
            <a:ext cx="1584360" cy="411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Object 11" descr=""/>
          <p:cNvPicPr/>
          <p:nvPr/>
        </p:nvPicPr>
        <p:blipFill>
          <a:blip r:embed="rId4"/>
          <a:stretch/>
        </p:blipFill>
        <p:spPr>
          <a:xfrm>
            <a:off x="1619280" y="4653000"/>
            <a:ext cx="1942920" cy="46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5"/>
          <a:stretch/>
        </p:blipFill>
        <p:spPr>
          <a:xfrm>
            <a:off x="5219640" y="3141720"/>
            <a:ext cx="3240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3. Як піднести до квадрата будь-яке двоцифрове число, яке закінчується цифрою 5 якомога швидше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’язанн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хай двоцифрове число має першу цифр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 закінчується цифрою 5, тобт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іднесемо його до квадра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= 10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+ 25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буток 10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рівнює числу, яке закінчується двома нулями, тому число в результаті буде закінчуватися цифрами 2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тже,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щоб піднести до квадрата двоцифрове число, яке закінчується цифрою 5, достатньо знайти добуток першої цифри на цифру, що на 1 більш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 справа дописати число 25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риклад,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5²= 625; 35²=1225; 75²=562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3851280" y="2637000"/>
            <a:ext cx="1655640" cy="439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2"/>
          <a:srcRect l="0" t="0" r="37469" b="0"/>
          <a:stretch/>
        </p:blipFill>
        <p:spPr>
          <a:xfrm>
            <a:off x="1187280" y="3357720"/>
            <a:ext cx="3816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4. Знайти помилку і записати вирази правильно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1630440" y="1989000"/>
            <a:ext cx="2784240" cy="428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Object 6" descr=""/>
          <p:cNvPicPr/>
          <p:nvPr/>
        </p:nvPicPr>
        <p:blipFill>
          <a:blip r:embed="rId2"/>
          <a:stretch/>
        </p:blipFill>
        <p:spPr>
          <a:xfrm>
            <a:off x="1643040" y="2924280"/>
            <a:ext cx="2689200" cy="431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Object 8" descr=""/>
          <p:cNvPicPr/>
          <p:nvPr/>
        </p:nvPicPr>
        <p:blipFill>
          <a:blip r:embed="rId3"/>
          <a:stretch/>
        </p:blipFill>
        <p:spPr>
          <a:xfrm>
            <a:off x="1641600" y="3789360"/>
            <a:ext cx="2546280" cy="4129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Object 10" descr=""/>
          <p:cNvPicPr/>
          <p:nvPr/>
        </p:nvPicPr>
        <p:blipFill>
          <a:blip r:embed="rId4"/>
          <a:stretch/>
        </p:blipFill>
        <p:spPr>
          <a:xfrm>
            <a:off x="1725480" y="4653000"/>
            <a:ext cx="2884680" cy="4125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Гра «Привітаємо з ювілеєм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16000" y="90756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Кіровоградська область – ювілярка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років тому 10 січня 1939 року утворилася Кіровоградська област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и знаєте ви яка кількість населенн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о проживає у Кіровоградській області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ласти на множники такий многочлен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cd – 4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обчислити його значення, якщ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+ c – 2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– c + 2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7" descr="http://koippo414.at.ua/75rokiv_kir_obl/kir.obl.75.jpg"/>
          <p:cNvPicPr/>
          <p:nvPr/>
        </p:nvPicPr>
        <p:blipFill>
          <a:blip r:embed="rId1"/>
          <a:stretch/>
        </p:blipFill>
        <p:spPr>
          <a:xfrm>
            <a:off x="250920" y="907920"/>
            <a:ext cx="156852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907640" y="115560"/>
            <a:ext cx="6696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’язання :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2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а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а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(а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а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 а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00 ∙ 331 = 993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окутник 3"/>
          <p:cNvSpPr/>
          <p:nvPr/>
        </p:nvSpPr>
        <p:spPr>
          <a:xfrm>
            <a:off x="684360" y="450864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людей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проживає у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ровоградській області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вить 993 тисяч осіб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8920" y="2923920"/>
            <a:ext cx="5184720" cy="280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Домашнє завдання:</a:t>
            </a:r>
            <a:r>
              <a:rPr b="0" lang="uk-UA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333399"/>
                </a:solidFill>
                <a:latin typeface="Times New Roman"/>
              </a:rPr>
              <a:t>- повторити формули скороченого множення, </a:t>
            </a:r>
            <a:br>
              <a:rPr sz="2800"/>
            </a:br>
            <a:r>
              <a:rPr b="0" lang="uk-UA" sz="2800" spc="-1" strike="noStrike">
                <a:solidFill>
                  <a:srgbClr val="333399"/>
                </a:solidFill>
                <a:latin typeface="Times New Roman"/>
              </a:rPr>
              <a:t>- виконати самостійну роботу за збірником варіант 1 або 2.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028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49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3399"/>
                </a:solidFill>
                <a:latin typeface="Times New Roman"/>
              </a:rPr>
              <a:t>«Немає сили могутнішої за знання; людина, озброєна знаннями, – непереможна»</a:t>
            </a:r>
            <a:br>
              <a:rPr sz="5400"/>
            </a:br>
            <a:r>
              <a:rPr b="1" lang="uk-UA" sz="5400" spc="-1" strike="noStrike">
                <a:solidFill>
                  <a:srgbClr val="333399"/>
                </a:solidFill>
                <a:latin typeface="Times New Roman"/>
              </a:rPr>
              <a:t>                Максим Горький</a:t>
            </a: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93280" cy="8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imes New Roman"/>
              </a:rPr>
              <a:t>Дякую за співпрацю на уроці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Picture 13" descr="Entertainment-02"/>
          <p:cNvPicPr/>
          <p:nvPr/>
        </p:nvPicPr>
        <p:blipFill>
          <a:blip r:embed="rId1"/>
          <a:stretch/>
        </p:blipFill>
        <p:spPr>
          <a:xfrm>
            <a:off x="3492360" y="3645000"/>
            <a:ext cx="2546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Сьогодні</a:t>
            </a: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 ми поринемо 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у чудовий світ математики – 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у країну ФСМ  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(формул скороченого множення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тож, всім бажаю успіху і бути на уроці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міхнен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кійн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гресивн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іціативн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робри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859280" y="3429000"/>
            <a:ext cx="3457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950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Тема: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Застосування формул скороченого множення. 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Розв’язування вправ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ета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закріпити навички  застосовувати формули скороченого множенн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Епіграф: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«Успіх – це тільки 10% таланту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а 90% – це щоденна наполеглива праця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Перевіримо домашнє завданн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Піднесіть до квадрата:                        3) Розв”язати рівнянн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ростити вираз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Object 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2374920" cy="398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Object 8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2879640" cy="412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10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3456000" cy="1746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Object 16" descr=""/>
          <p:cNvPicPr/>
          <p:nvPr/>
        </p:nvPicPr>
        <p:blipFill>
          <a:blip r:embed="rId4"/>
          <a:stretch/>
        </p:blipFill>
        <p:spPr>
          <a:xfrm>
            <a:off x="5796000" y="2421000"/>
            <a:ext cx="2643120" cy="3024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Object 18" descr=""/>
          <p:cNvPicPr/>
          <p:nvPr/>
        </p:nvPicPr>
        <p:blipFill>
          <a:blip r:embed="rId5"/>
          <a:stretch/>
        </p:blipFill>
        <p:spPr>
          <a:xfrm>
            <a:off x="826920" y="3789360"/>
            <a:ext cx="45370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Урок–ділова гра 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Компетентність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Компетентність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це готовність застосовувати знання, вміння та навички для виконання практичних та теоретичних завда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Компетентний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це той, хто володіє необхідною інформацією і вміє застосовувати набуті знанн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Встановити відповідність між лівими і правими частинами формул скороченого множення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9640" y="2637000"/>
          <a:ext cx="8137800" cy="2743200"/>
        </p:xfrm>
        <a:graphic>
          <a:graphicData uri="http://schemas.openxmlformats.org/drawingml/2006/table">
            <a:tbl>
              <a:tblPr/>
              <a:tblGrid>
                <a:gridCol w="1447920"/>
                <a:gridCol w="2685960"/>
                <a:gridCol w="1317600"/>
                <a:gridCol w="2686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а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а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Утворилися формули скороченого множенн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82040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а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буток різниці і су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А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а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різниця квадрат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Б. (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вадрат різниці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В. (а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вадрат су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932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Історична довідка</a:t>
            </a: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822840" y="2712960"/>
            <a:ext cx="52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822840" y="2712960"/>
            <a:ext cx="97452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822840" y="2712960"/>
            <a:ext cx="5238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4140360" y="1265400"/>
            <a:ext cx="43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лоща квадрата, побудованого на сумі двох відрізкі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рівнює сумі площ квадратів, побудованих на кожному з цих відрізків, плюс подвоєна площа прямокутника, побудованого на цих відрізках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1" descr=""/>
          <p:cNvPicPr/>
          <p:nvPr/>
        </p:nvPicPr>
        <p:blipFill>
          <a:blip r:embed="rId1"/>
          <a:stretch/>
        </p:blipFill>
        <p:spPr>
          <a:xfrm>
            <a:off x="192240" y="898560"/>
            <a:ext cx="3887640" cy="3629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Object 42" descr=""/>
          <p:cNvPicPr/>
          <p:nvPr/>
        </p:nvPicPr>
        <p:blipFill>
          <a:blip r:embed="rId2"/>
          <a:stretch/>
        </p:blipFill>
        <p:spPr>
          <a:xfrm>
            <a:off x="5148360" y="5734080"/>
            <a:ext cx="3456000" cy="528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4" descr=""/>
          <p:cNvPicPr/>
          <p:nvPr/>
        </p:nvPicPr>
        <p:blipFill>
          <a:blip r:embed="rId3"/>
          <a:stretch/>
        </p:blipFill>
        <p:spPr>
          <a:xfrm>
            <a:off x="971640" y="4724280"/>
            <a:ext cx="7272360" cy="514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6"/>
          <p:cNvSpPr/>
          <p:nvPr/>
        </p:nvSpPr>
        <p:spPr>
          <a:xfrm>
            <a:off x="325800" y="5445000"/>
            <a:ext cx="510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Йдеться про формулу квадрата суми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у ми символічно записуємо так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Командна робо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973440" y="1123560"/>
            <a:ext cx="4074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ртка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класти многочлен на множни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b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              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ртка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творити вираз у многочлен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ртка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в’язати рівнянн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ртка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класти многочлен на множни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Object 5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1152360" cy="3524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7" descr=""/>
          <p:cNvPicPr/>
          <p:nvPr/>
        </p:nvPicPr>
        <p:blipFill>
          <a:blip r:embed="rId2"/>
          <a:stretch/>
        </p:blipFill>
        <p:spPr>
          <a:xfrm>
            <a:off x="1332000" y="2924280"/>
            <a:ext cx="865080" cy="3999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Object 9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1944720" cy="3729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Object 11" descr=""/>
          <p:cNvPicPr/>
          <p:nvPr/>
        </p:nvPicPr>
        <p:blipFill>
          <a:blip r:embed="rId4"/>
          <a:stretch/>
        </p:blipFill>
        <p:spPr>
          <a:xfrm>
            <a:off x="1403280" y="4221000"/>
            <a:ext cx="12970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Object 13" descr=""/>
          <p:cNvPicPr/>
          <p:nvPr/>
        </p:nvPicPr>
        <p:blipFill>
          <a:blip r:embed="rId5"/>
          <a:stretch/>
        </p:blipFill>
        <p:spPr>
          <a:xfrm>
            <a:off x="1403280" y="4508640"/>
            <a:ext cx="1152720" cy="2984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Object 15" descr=""/>
          <p:cNvPicPr/>
          <p:nvPr/>
        </p:nvPicPr>
        <p:blipFill>
          <a:blip r:embed="rId6"/>
          <a:stretch/>
        </p:blipFill>
        <p:spPr>
          <a:xfrm>
            <a:off x="1403280" y="5373720"/>
            <a:ext cx="936720" cy="401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Object 17" descr=""/>
          <p:cNvPicPr/>
          <p:nvPr/>
        </p:nvPicPr>
        <p:blipFill>
          <a:blip r:embed="rId7"/>
          <a:stretch/>
        </p:blipFill>
        <p:spPr>
          <a:xfrm>
            <a:off x="1332000" y="5734080"/>
            <a:ext cx="1079280" cy="423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05:52:50Z</dcterms:created>
  <dc:creator>User</dc:creator>
  <dc:description/>
  <dc:language>en-US</dc:language>
  <cp:lastModifiedBy>User</cp:lastModifiedBy>
  <dcterms:modified xsi:type="dcterms:W3CDTF">2014-02-04T22:22:11Z</dcterms:modified>
  <cp:revision>59</cp:revision>
  <dc:subject/>
  <dc:title>Застосування формул скороченого множення.  Розв’язування впра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4000000000001024140</vt:lpwstr>
  </property>
</Properties>
</file>