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526-90E2-4271-B18F-D7B834D2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AAD-827E-43EA-BA94-255AF1B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670-0EFE-48F4-BFD0-50541EA7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7C1-B53B-41A2-B1ED-646AC4C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3D0-5D42-45C4-A866-0FAC175E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BBE-D67A-4389-B097-F77BFFF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2FF-4E4A-4C3F-9E44-B676B37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D81-4976-4920-8D3E-FF2B59A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2D6-4704-42B8-B6E4-EA963B7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1CF-E9F1-4844-BD3E-1319987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E86-9E96-4F84-A813-4EB5142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BE8-8EF8-468B-8935-0C0F554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91F4-4624-4797-B449-1E574ED24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lghad.com/repository/Items/c66bcac178b5387c17946e1534a16635af4229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Оркестр Поля Мориа-Прогноз погоды программ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images.webpark.ru/uploads52/080118/grad_0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017.by/sites/017.by/files/golol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img-fotki.yandex.ru/get/52/dendrolaz.0/0_1977f_968c84cf_XL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c150.4shared.com/img/IAcNb-iF/s3/11f4bb74178/Flowering_Field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desktopwallpapers.org.ua/pic/201204/640x480/desktopwallpapers.org.ua-16095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img1.liveinternet.ru/images/attach/c/0/42/571/42571018_itpost03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g0.liveinternet.ru/images/attach/c/8/101/879/101879700_large_091fd451af2d81fb5d14190c5b45242c.jpg"/>
          <p:cNvPicPr/>
          <p:nvPr/>
        </p:nvPicPr>
        <p:blipFill>
          <a:blip r:embed="rId10"/>
          <a:srcRect l="0" t="0" r="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tat17.privet.ru/lr/0927a35d97184a2b566be142563204ac"/>
          <p:cNvPicPr/>
          <p:nvPr/>
        </p:nvPicPr>
        <p:blipFill>
          <a:blip r:embed="rId1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ap.photohost.ru/pictures/117397.jp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pda.fedpress.ru/sites/fedpress/files/viktor/news/groza_0.jpg"/>
          <p:cNvPicPr/>
          <p:nvPr/>
        </p:nvPicPr>
        <p:blipFill>
          <a:blip r:embed="rId13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g0.liveinternet.ru/images/attach/c/4/78/643/78643100_3740351_6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tutteplo.ru/images/novosti020211d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blog.magicwish.ru/angellika/files/2011/03/%D0%BC%D0%B5%D1%8C%D0%B5%D0%BB%D0%BA.jpg"/>
          <p:cNvPicPr/>
          <p:nvPr/>
        </p:nvPicPr>
        <p:blipFill>
          <a:blip r:embed="rId16"/>
          <a:stretch/>
        </p:blipFill>
        <p:spPr>
          <a:xfrm>
            <a:off x="3816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Оркестр Поля Мориа-Прогноз погоды программы.mp3" descr=""/>
          <p:cNvPicPr/>
          <p:nvPr/>
        </p:nvPicPr>
        <p:blipFill>
          <a:blip r:embed="rId1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4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3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1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3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21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67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1600"/>
                            </p:stCondLst>
                            <p:childTnLst>
                              <p:par>
                                <p:cTn id="55" nodeType="afterEffect" fill="hold" presetClass="entr" presetID="6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фоны\p_25134_1_gallerybig.jpg"/>
          <p:cNvPicPr/>
          <p:nvPr/>
        </p:nvPicPr>
        <p:blipFill>
          <a:blip r:embed="rId2"/>
          <a:stretch/>
        </p:blipFill>
        <p:spPr>
          <a:xfrm>
            <a:off x="539640" y="404640"/>
            <a:ext cx="4213440" cy="5986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4753080" y="420840"/>
            <a:ext cx="399564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VivaldiD CL"/>
              </a:rPr>
              <a:t>На Україні існує 44800 видів тварин. В Червону книгу України занесені: 41 вид ссавців, 59 видів птахів, 9 видів плазунів, 8 видів земноводних, 36 видів риб та 71 вид безхребетних. Який відсоток від загальної кількості тварин становлять ті, які занесені до Червоної кни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фоны\Green_Earth-1.jpg"/>
          <p:cNvPicPr/>
          <p:nvPr/>
        </p:nvPicPr>
        <p:blipFill>
          <a:blip r:embed="rId2"/>
          <a:stretch/>
        </p:blipFill>
        <p:spPr>
          <a:xfrm>
            <a:off x="390600" y="1547640"/>
            <a:ext cx="5016600" cy="49262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3"/>
          <a:stretch/>
        </p:blipFill>
        <p:spPr>
          <a:xfrm>
            <a:off x="3700440" y="237960"/>
            <a:ext cx="51814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017.radikal.ru/i409/1110/8d/0ae4b20cc221t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3"/>
          <a:stretch/>
        </p:blipFill>
        <p:spPr>
          <a:xfrm>
            <a:off x="353880" y="414360"/>
            <a:ext cx="8485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Урок математики у 6 клас</a:t>
            </a: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і</a:t>
            </a:r>
            <a:br>
              <a:rPr sz="4400"/>
            </a:b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0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Mon Amour Two"/>
              </a:rPr>
              <a:t>«Екологічна проблема - очима математ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1476360" y="1125360"/>
            <a:ext cx="6480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Mon Amour Two"/>
              </a:rPr>
              <a:t>Мета уроку</a:t>
            </a:r>
            <a:r>
              <a:rPr b="1" lang="uk-UA" sz="3200" spc="-1" strike="noStrike">
                <a:solidFill>
                  <a:srgbClr val="ff0000"/>
                </a:solidFill>
                <a:latin typeface="Mon Amour Two"/>
              </a:rPr>
              <a:t>: </a:t>
            </a:r>
            <a:r>
              <a:rPr b="0" lang="uk-UA" sz="2400" spc="-1" strike="noStrike">
                <a:solidFill>
                  <a:srgbClr val="007000"/>
                </a:solidFill>
                <a:latin typeface="Mon Amour Two"/>
              </a:rPr>
              <a:t>формування в учнів навички розв’язування вправ та задач; ознайомити з екологічними проблемами нашої Землі;виховувати свідоме і бережливе ставлення до природних багатств, прагнення зберігати чистоту навколишнього середовища, красу рідної землі</a:t>
            </a:r>
            <a:r>
              <a:rPr b="0" lang="uk-UA" sz="2400" spc="-1" strike="noStrike">
                <a:solidFill>
                  <a:srgbClr val="000000"/>
                </a:solidFill>
                <a:latin typeface="Mon Amour Tw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фоны\1247.jpg"/>
          <p:cNvPicPr/>
          <p:nvPr/>
        </p:nvPicPr>
        <p:blipFill>
          <a:blip r:embed="rId2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725400" y="60480"/>
            <a:ext cx="7839000" cy="1214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2571840"/>
            <a:ext cx="3511440" cy="5554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5"/>
          <a:stretch/>
        </p:blipFill>
        <p:spPr>
          <a:xfrm>
            <a:off x="5608800" y="1847880"/>
            <a:ext cx="2455560" cy="5540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6"/>
          <a:stretch/>
        </p:blipFill>
        <p:spPr>
          <a:xfrm>
            <a:off x="3859200" y="3200400"/>
            <a:ext cx="520560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8" descr=""/>
          <p:cNvPicPr/>
          <p:nvPr/>
        </p:nvPicPr>
        <p:blipFill>
          <a:blip r:embed="rId7"/>
          <a:stretch/>
        </p:blipFill>
        <p:spPr>
          <a:xfrm>
            <a:off x="1773360" y="1390680"/>
            <a:ext cx="311616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D:\motto.net.ua-157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755640" y="112068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sturia script"/>
              </a:rPr>
              <a:t>Задача №1</a:t>
            </a:r>
            <a:r>
              <a:rPr b="0" lang="uk-UA" sz="4000" spc="-1" strike="noStrike">
                <a:solidFill>
                  <a:srgbClr val="ff0000"/>
                </a:solidFill>
                <a:latin typeface="Asturia script"/>
              </a:rPr>
              <a:t>.(для усного розв’язанн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Asturia script"/>
              </a:rPr>
              <a:t>Якщо атмосфера містить 70% азоту, 2% вуглекислого газу, 9% домішок, то який відсотковий вміст кисню в повітр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D:\фоны\reWalls.com_177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127240"/>
            <a:ext cx="80535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Рослини щорічно виділяють приблиз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200 млрд.т. кисню та засвоюю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300 млрд.т. вуглекислого газ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В результаті фотосинтезу за 5500 років відбувається повне оновлення кисню планети. На долю лісу приходиться 2/3 всього кисню, який виділяється в атмосфер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фоны\wind.jpeg"/>
          <p:cNvPicPr/>
          <p:nvPr/>
        </p:nvPicPr>
        <p:blipFill>
          <a:blip r:embed="rId2"/>
          <a:stretch/>
        </p:blipFill>
        <p:spPr>
          <a:xfrm>
            <a:off x="103320" y="176040"/>
            <a:ext cx="5041800" cy="6516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3"/>
          <a:stretch/>
        </p:blipFill>
        <p:spPr>
          <a:xfrm>
            <a:off x="3992400" y="835200"/>
            <a:ext cx="46753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фоны\6549974dfe0c81728c060d4765b1589d.jpg"/>
          <p:cNvPicPr/>
          <p:nvPr/>
        </p:nvPicPr>
        <p:blipFill>
          <a:blip r:embed="rId2"/>
          <a:stretch/>
        </p:blipFill>
        <p:spPr>
          <a:xfrm>
            <a:off x="560520" y="554040"/>
            <a:ext cx="79675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02-12T07:24:5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42000000000001024140</vt:lpwstr>
  </property>
</Properties>
</file>