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0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3.png" ContentType="image/png"/>
  <Override PartName="/ppt/media/image1.jpeg" ContentType="image/jpeg"/>
  <Override PartName="/ppt/media/image28.jpeg" ContentType="image/jpeg"/>
  <Override PartName="/ppt/media/image27.gif" ContentType="image/gif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E5D0-6910-4DD4-B612-06EEFA89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8E7-0576-4311-99C8-956E6A19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9AD-BBEC-473F-81DC-C85841B6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3EE-3F58-4E32-B1CB-5B784E68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F472-5FDD-428E-8D24-D16BD0D7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E0F4-DF74-4146-A193-52903964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336E-A8C0-4AFB-B788-E2B823CC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44AE-1D5E-4CC3-BFCD-28BA0F5B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229C-4E60-4E74-82DD-946E24DA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2495-3A13-4702-A583-ACF58295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5FCC-DEDB-41CA-BEF3-20D10138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B7D-BB43-452E-BCE1-38D9C06D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6C13-FC26-4576-B63E-E7E3D2BB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F316-2FAE-4442-AA2A-B36AB65D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FB62-E65D-4AA8-925E-2019FDA4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1DD5-B3A8-451B-9145-429FC206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B80B-2C71-4210-9381-DDAAEF76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823EE-A287-45B1-97E1-B8B7195F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4F933-7372-455D-9731-87226B88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218B5-22D9-4309-8211-297DCA3D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477E5-A864-4E92-B3B9-35ED88D2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07A50-026F-4D59-A92B-400F4802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EB7-1343-4D79-B5CB-11F0DBCB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6A994-9E1A-442D-9B8A-3DAB96A9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6A02C-7819-4016-98A4-480F9CF2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19570-9E99-4C1F-A188-FEB2E83A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D0F88-574A-4871-A286-E4B7498C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D54F9-16D2-4EAB-B2AA-14D182CD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EBC61-C53F-4C47-A3F8-B9203909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62444-8B51-4148-A362-8A814A15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2C68D-C3AA-452C-B993-52E5B7F9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A230E-913E-471F-94B8-B04435EF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DE6CD-CD3C-4000-A546-0F22359D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CDC-82E8-4144-962D-7D47AAEB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25C27-610D-4946-A3C5-002E62BF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7EDA4-61D3-4C65-83D0-40CC6A22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06A1F-524C-4262-ACF5-A54CB361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0E52D-2647-4075-83AD-A55040CC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E8B0E-CF04-430B-B121-D1C5D7C2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96395-D1F2-4AF1-A691-B3FFEB01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417EA-4EE6-4B26-98F9-041E7011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82F83-447C-4C3B-9A80-D0C04EEB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35A84-2DF1-47BD-B0F4-BA93344B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AB7-F38B-4BE3-B8AB-BA36D605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62F7-F9EB-48E7-B21A-FF82FA14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270-45FD-44EA-9538-53CB63A1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E38-52FE-4A05-BBA6-1852552D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9AA-A146-4C60-B71B-D5F3F3CC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ABBB-67D9-464F-B25C-F0811176F9CF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7369-0F77-4E9F-A0C4-FCE0588336F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2A20-3040-4789-904A-0ED3E411034D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9B5D-E727-43A1-BF42-72D97F624E1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D2C3-3D8D-4A4B-82FB-FDB4449DDCE4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805D-3F27-47CC-AD03-EB641AFA1EB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9686-18AE-4481-B794-47AB95B88CD4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EEF1-6645-4645-9089-ADE8A01B37A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341280" y="-60480"/>
            <a:ext cx="8358120" cy="3267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 кла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E3E0-77D5-4F19-93FD-FAD00025853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http://im1-tub-ua.yandex.net/i?id=211330728-47-72&amp;n=21"/>
          <p:cNvPicPr/>
          <p:nvPr/>
        </p:nvPicPr>
        <p:blipFill>
          <a:blip r:embed="rId3"/>
          <a:stretch/>
        </p:blipFill>
        <p:spPr>
          <a:xfrm>
            <a:off x="419040" y="2808360"/>
            <a:ext cx="6240600" cy="3429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Острів «Везіння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7703-F22C-47FA-979B-8B2C69D08BB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http://im6-tub-ua.yandex.net/i?id=15981832-19-72&amp;n=21"/>
          <p:cNvPicPr/>
          <p:nvPr/>
        </p:nvPicPr>
        <p:blipFill>
          <a:blip r:embed="rId2"/>
          <a:stretch/>
        </p:blipFill>
        <p:spPr>
          <a:xfrm>
            <a:off x="5435640" y="512640"/>
            <a:ext cx="3344760" cy="2508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"/>
          <p:cNvPicPr/>
          <p:nvPr/>
        </p:nvPicPr>
        <p:blipFill>
          <a:blip r:embed="rId3"/>
          <a:srcRect l="0" t="0" r="-66" b="-86"/>
          <a:stretch/>
        </p:blipFill>
        <p:spPr>
          <a:xfrm>
            <a:off x="65160" y="3284640"/>
            <a:ext cx="8827920" cy="3084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Фізкультхвили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Нахились уперед, нахились назад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І направо, і наліво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Щоб нічого не боліл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дин, два, три, чотири – набираємося сили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Нахились, повернис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І до друга посміхнис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уки вгору піднесіт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альці швидко полічіть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Ліворуч – 5, праворуч – 5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кільки разом? Як сказать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уки вгору піднесіт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І почнемо всі лічит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кільки пальців на руці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Хором скажемо усі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B4CC-66BC-4925-94BB-8B49DFD45CD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http://im5-tub-ua.yandex.net/i?id=381669150-27-72&amp;n=21"/>
          <p:cNvPicPr/>
          <p:nvPr/>
        </p:nvPicPr>
        <p:blipFill>
          <a:blip r:embed="rId2"/>
          <a:stretch/>
        </p:blipFill>
        <p:spPr>
          <a:xfrm>
            <a:off x="6084720" y="2133720"/>
            <a:ext cx="2765520" cy="380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355640" y="188640"/>
            <a:ext cx="4341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Острів «Успіх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Содержимое 5" descr=""/>
          <p:cNvPicPr/>
          <p:nvPr/>
        </p:nvPicPr>
        <p:blipFill>
          <a:blip r:embed="rId2"/>
          <a:stretch/>
        </p:blipFill>
        <p:spPr>
          <a:xfrm>
            <a:off x="3492360" y="1554120"/>
            <a:ext cx="5121360" cy="4041720"/>
          </a:xfrm>
          <a:prstGeom prst="rect">
            <a:avLst/>
          </a:prstGeom>
          <a:ln w="0">
            <a:noFill/>
          </a:ln>
        </p:spPr>
      </p:pic>
      <p:sp>
        <p:nvSpPr>
          <p:cNvPr id="24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56D1-7CC8-4967-BABE-4CB7F721908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http://im6-tub-ua.yandex.net/i?id=137540964-60-72&amp;n=21"/>
          <p:cNvPicPr/>
          <p:nvPr/>
        </p:nvPicPr>
        <p:blipFill>
          <a:blip r:embed="rId3"/>
          <a:stretch/>
        </p:blipFill>
        <p:spPr>
          <a:xfrm>
            <a:off x="390600" y="255600"/>
            <a:ext cx="2822400" cy="2073240"/>
          </a:xfrm>
          <a:prstGeom prst="rect">
            <a:avLst/>
          </a:prstGeom>
          <a:ln w="0">
            <a:noFill/>
          </a:ln>
        </p:spPr>
      </p:pic>
      <p:grpSp>
        <p:nvGrpSpPr>
          <p:cNvPr id="248" name="Rectangle 3"/>
          <p:cNvGrpSpPr/>
          <p:nvPr/>
        </p:nvGrpSpPr>
        <p:grpSpPr>
          <a:xfrm>
            <a:off x="165240" y="2554200"/>
            <a:ext cx="2943000" cy="1798560"/>
            <a:chOff x="165240" y="2554200"/>
            <a:chExt cx="2943000" cy="1798560"/>
          </a:xfrm>
        </p:grpSpPr>
        <p:pic>
          <p:nvPicPr>
            <p:cNvPr id="249" name="Rectangle 3" descr=""/>
            <p:cNvPicPr/>
            <p:nvPr/>
          </p:nvPicPr>
          <p:blipFill>
            <a:blip r:embed="rId4"/>
            <a:stretch/>
          </p:blipFill>
          <p:spPr>
            <a:xfrm>
              <a:off x="165240" y="2554200"/>
              <a:ext cx="29430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50920" y="2643480"/>
              <a:ext cx="27716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2060"/>
                  </a:solidFill>
                  <a:latin typeface="Times New Roman"/>
                  <a:ea typeface="Calibri"/>
                </a:rPr>
                <a:t>0 = Е                13=Р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2060"/>
                  </a:solidFill>
                  <a:latin typeface="Times New Roman"/>
                  <a:ea typeface="Calibri"/>
                </a:rPr>
                <a:t>-5=Л                -20=И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2060"/>
                  </a:solidFill>
                  <a:latin typeface="Times New Roman"/>
                </a:rPr>
                <a:t>19=О               -71=Х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2060"/>
                  </a:solidFill>
                  <a:latin typeface="Times New Roman"/>
                </a:rPr>
                <a:t>-24=Д              -102,8=С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2060"/>
                  </a:solidFill>
                  <a:latin typeface="Times New Roman"/>
                </a:rPr>
                <a:t>14=М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51" name="Picture 5" descr="http://im0-tub-ua.yandex.net/i?id=393085382-04-72&amp;n=21"/>
          <p:cNvPicPr/>
          <p:nvPr/>
        </p:nvPicPr>
        <p:blipFill>
          <a:blip r:embed="rId5"/>
          <a:stretch/>
        </p:blipFill>
        <p:spPr>
          <a:xfrm>
            <a:off x="603360" y="4572000"/>
            <a:ext cx="2103480" cy="2103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55640" y="188640"/>
            <a:ext cx="4341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Острів «Успіх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4633-7286-4CC5-A008-339BBFFEF98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http://im6-tub-ua.yandex.net/i?id=137540964-60-72&amp;n=21"/>
          <p:cNvPicPr/>
          <p:nvPr/>
        </p:nvPicPr>
        <p:blipFill>
          <a:blip r:embed="rId2"/>
          <a:stretch/>
        </p:blipFill>
        <p:spPr>
          <a:xfrm>
            <a:off x="390600" y="255600"/>
            <a:ext cx="2822400" cy="2073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rcRect l="0" t="0" r="64" b="-44"/>
          <a:stretch/>
        </p:blipFill>
        <p:spPr>
          <a:xfrm>
            <a:off x="4500720" y="1628640"/>
            <a:ext cx="4174920" cy="4819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268200" y="2365200"/>
            <a:ext cx="3353040" cy="2225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http://im2-tub-ua.yandex.net/i?id=177560946-09-72&amp;n=21"/>
          <p:cNvPicPr/>
          <p:nvPr/>
        </p:nvPicPr>
        <p:blipFill>
          <a:blip r:embed="rId5"/>
          <a:stretch/>
        </p:blipFill>
        <p:spPr>
          <a:xfrm>
            <a:off x="1332000" y="4581360"/>
            <a:ext cx="1439640" cy="2019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372888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Тестуванн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50920" y="1052280"/>
            <a:ext cx="446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ріан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Розв’яжіть рівняння:  7,1 + у = – 1,8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у = – 5,3;              Б   у = 8,9;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у = 5,3;                 Г  у = – 8,9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в’яжіть рівняння: – 5,2 + х = – 2,5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х = – 7,7;    Б    х = 7,7;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х = – 2,7;     Г    х = 2,7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числіть:  – 5,6 + (– 3,5 + 5,6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 3,5;    Б    2,5;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– 3,5;    Г     – 2,5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найдіть суму всіх цілих чисел, розташованих між  – 5,6 и 3,5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3;    Б  – 11;    В   – 9;     Г    – 15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Швидкість човна за течією ріки 15,3 км/г. Знайдіть швидкість човна проти течії ріки та власну швидкість човна, якщо  швидкість течії ріки 4,5 км/г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6,3 км/г; 10,8 км/г;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    19,8 км/г; 10,8 км/г;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  4,5 км/г; 6,3 км/г;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    4,5 км/г; 5,4 км/г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56A6-29F9-4C90-BB6B-C0AD0EB87D7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Содержимое 2"/>
          <p:cNvSpPr/>
          <p:nvPr/>
        </p:nvSpPr>
        <p:spPr>
          <a:xfrm>
            <a:off x="4735440" y="981000"/>
            <a:ext cx="42483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варіант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озв’яжіть рівняння: 3,8 + у = – 2,7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 у = – 6,5;      Б    у = 6,5;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  у = – 1,1;       Г    у = 1,1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в’яжіть рівняння: – 2,2 + х = – 5,5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х = – 7,7;       Б   х = 3,3;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 х = 7,7;          Г    х = – 3,3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числіть: – 11,9 + (– 6,7 + 11,9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6,7;        Б   5,6;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– 6,7;      Г    – 5,6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найдіть суму всіх цілих чисел, розташованих між  – 6,3 и 4,2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2;   Б    – 20;   В    – 9;   Г    – 11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Швидкість човна проти течії ріки 0,9 км/г . Власна швидкість човна – 3,2 км/г . Знайдіть швидкість течії ріки та швидкість човна за течією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4,1 км/г; 5,2 км/г;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  2,3 км/г; 5,5 км/г;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 5,4 км/г; 2,3 км/г;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    5,2 км/г; 6,4 км/г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Ключ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404352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uk-UA" sz="3700" spc="-1" strike="noStrike">
                <a:solidFill>
                  <a:srgbClr val="000000"/>
                </a:solidFill>
                <a:latin typeface="Constantia"/>
              </a:rPr>
              <a:t> варіант: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000000"/>
                </a:solidFill>
                <a:latin typeface="Constantia"/>
              </a:rPr>
              <a:t>г, г, в, в, а            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1" lang="uk-UA" sz="3700" spc="-1" strike="noStrike">
                <a:solidFill>
                  <a:srgbClr val="000000"/>
                </a:solidFill>
                <a:latin typeface="Constantia"/>
              </a:rPr>
              <a:t> варіант: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000000"/>
                </a:solidFill>
                <a:latin typeface="Constantia"/>
              </a:rPr>
              <a:t>а, г, в, г, б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9B39-829F-4026-9B53-CDB52A12E36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2" descr="http://im4-tub-ua.yandex.net/i?id=86578227-56-72&amp;n=21"/>
          <p:cNvPicPr/>
          <p:nvPr/>
        </p:nvPicPr>
        <p:blipFill>
          <a:blip r:embed="rId2"/>
          <a:stretch/>
        </p:blipFill>
        <p:spPr>
          <a:xfrm>
            <a:off x="4427640" y="2060640"/>
            <a:ext cx="3465360" cy="3794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935000"/>
            <a:ext cx="82296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77120" indent="-1771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Оціночний лист  учня ____________________________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468E-FAA4-4EE6-991E-2B3AC7FE079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Таблица 4" descr=""/>
          <p:cNvPicPr/>
          <p:nvPr/>
        </p:nvPicPr>
        <p:blipFill>
          <a:blip r:embed="rId2"/>
          <a:stretch/>
        </p:blipFill>
        <p:spPr>
          <a:xfrm>
            <a:off x="176040" y="2620800"/>
            <a:ext cx="8571240" cy="2378160"/>
          </a:xfrm>
          <a:prstGeom prst="rect">
            <a:avLst/>
          </a:prstGeom>
          <a:ln w="0">
            <a:noFill/>
          </a:ln>
        </p:spPr>
      </p:pic>
      <p:sp>
        <p:nvSpPr>
          <p:cNvPr id="269" name="Содержимое 2"/>
          <p:cNvSpPr/>
          <p:nvPr/>
        </p:nvSpPr>
        <p:spPr>
          <a:xfrm>
            <a:off x="324000" y="5373720"/>
            <a:ext cx="8569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 кількість балів___________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Мені було на уроці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_____________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652A-00FC-45EC-BF4D-BC067E86249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Содержимое 4" descr="C:\Documents and Settings\Admin\Local Settings\Temporary Internet Files\Content.IE5\IU32TZ7E\MM900286791[1].gif"/>
          <p:cNvPicPr/>
          <p:nvPr/>
        </p:nvPicPr>
        <p:blipFill>
          <a:blip r:embed="rId2"/>
          <a:stretch/>
        </p:blipFill>
        <p:spPr>
          <a:xfrm>
            <a:off x="3851280" y="3213000"/>
            <a:ext cx="388944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3" name="Облако 5"/>
          <p:cNvSpPr/>
          <p:nvPr/>
        </p:nvSpPr>
        <p:spPr>
          <a:xfrm rot="20673600">
            <a:off x="144000" y="2162160"/>
            <a:ext cx="3129120" cy="151128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Звичайно, матеріал засвоїв частков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Солнце 6"/>
          <p:cNvSpPr/>
          <p:nvPr/>
        </p:nvSpPr>
        <p:spPr>
          <a:xfrm>
            <a:off x="3527280" y="333360"/>
            <a:ext cx="5616720" cy="3816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onstantia"/>
              </a:rPr>
              <a:t>Легко, матеріал засвоїв повністю, можу застосовува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Овальная выноска 9"/>
          <p:cNvSpPr/>
          <p:nvPr/>
        </p:nvSpPr>
        <p:spPr>
          <a:xfrm flipH="1">
            <a:off x="826200" y="3716280"/>
            <a:ext cx="2305080" cy="1549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Ох! Важко, засвоїв не весь матеріа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Picture 3" descr="http://im2-tub-ua.yandex.net/i?id=192835582-27-72&amp;n=21"/>
          <p:cNvPicPr/>
          <p:nvPr/>
        </p:nvPicPr>
        <p:blipFill>
          <a:blip r:embed="rId3"/>
          <a:stretch/>
        </p:blipFill>
        <p:spPr>
          <a:xfrm>
            <a:off x="2627280" y="5229360"/>
            <a:ext cx="762120" cy="1333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Домашнє завд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ано числа: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-1; -2; -3; -4; -5; -6; -7; -8; -9; -10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икористовуючи кожне число тільки один раз, складіть три вірних рівнянн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4164-C42C-463F-A297-AB8AE6D16E8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Picture 2" descr="http://im1-tub-ua.yandex.net/i?id=376536291-29-72&amp;n=21"/>
          <p:cNvPicPr/>
          <p:nvPr/>
        </p:nvPicPr>
        <p:blipFill>
          <a:blip r:embed="rId2"/>
          <a:stretch/>
        </p:blipFill>
        <p:spPr>
          <a:xfrm>
            <a:off x="6300720" y="4437000"/>
            <a:ext cx="1760760" cy="2276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http://im5-tub-ua.yandex.net/i?id=410777872-41-72&amp;n=21"/>
          <p:cNvPicPr/>
          <p:nvPr/>
        </p:nvPicPr>
        <p:blipFill>
          <a:blip r:embed="rId3"/>
          <a:stretch/>
        </p:blipFill>
        <p:spPr>
          <a:xfrm>
            <a:off x="395280" y="4292640"/>
            <a:ext cx="2089080" cy="2320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http://im0-tub-ua.yandex.net/i?id=111557073-56-72&amp;n=21"/>
          <p:cNvPicPr/>
          <p:nvPr/>
        </p:nvPicPr>
        <p:blipFill>
          <a:blip r:embed="rId4"/>
          <a:stretch/>
        </p:blipFill>
        <p:spPr>
          <a:xfrm>
            <a:off x="6875640" y="692280"/>
            <a:ext cx="201744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Мета уроку:</a:t>
            </a: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36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акріплення, повторення теоретичного матеріалу при розв’язанні вправ, задач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працювати вміння та навички використання правил додавання, віднімання чисел із різними зна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дальше поглиблення навичок розв’язання задач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озвивати мислення і математичне мовлення учнів, цікавість до предмету через нестандартні форми урок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ховувати працьовитість та співпрацю в колектив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76F0-FE6C-4DEC-A8F8-5C064097A4D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Інструктаж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5000"/>
            <a:ext cx="82296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77120" indent="-1771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Оціночний лист  учня ____________________________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50BA-9BF0-46C0-BC07-FC8528C6363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Таблица 4" descr=""/>
          <p:cNvPicPr/>
          <p:nvPr/>
        </p:nvPicPr>
        <p:blipFill>
          <a:blip r:embed="rId2"/>
          <a:stretch/>
        </p:blipFill>
        <p:spPr>
          <a:xfrm>
            <a:off x="176040" y="2620800"/>
            <a:ext cx="8571240" cy="2378160"/>
          </a:xfrm>
          <a:prstGeom prst="rect">
            <a:avLst/>
          </a:prstGeom>
          <a:ln w="0">
            <a:noFill/>
          </a:ln>
        </p:spPr>
      </p:pic>
      <p:sp>
        <p:nvSpPr>
          <p:cNvPr id="206" name="Содержимое 2"/>
          <p:cNvSpPr/>
          <p:nvPr/>
        </p:nvSpPr>
        <p:spPr>
          <a:xfrm>
            <a:off x="324000" y="5373720"/>
            <a:ext cx="8569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 кількість балів___________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55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Протока </a:t>
            </a:r>
            <a:br>
              <a:rPr sz="4500"/>
            </a:br>
            <a:r>
              <a:rPr b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«Головне питання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5280" y="14839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Constantia"/>
              </a:rPr>
              <a:t>Задача 1. Заповніть пусті клітинки в таблиці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A53C-EB80-420F-80D1-41F9E204D64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Таблица 4" descr=""/>
          <p:cNvPicPr/>
          <p:nvPr/>
        </p:nvPicPr>
        <p:blipFill>
          <a:blip r:embed="rId2"/>
          <a:stretch/>
        </p:blipFill>
        <p:spPr>
          <a:xfrm>
            <a:off x="176040" y="1841400"/>
            <a:ext cx="8139240" cy="5035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http://im6-tub-ua.yandex.net/i?id=69033633-14-72&amp;n=21"/>
          <p:cNvPicPr/>
          <p:nvPr/>
        </p:nvPicPr>
        <p:blipFill>
          <a:blip r:embed="rId3"/>
          <a:stretch/>
        </p:blipFill>
        <p:spPr>
          <a:xfrm>
            <a:off x="324000" y="189000"/>
            <a:ext cx="2303280" cy="1382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Протока </a:t>
            </a:r>
            <a:br>
              <a:rPr sz="4500"/>
            </a:br>
            <a:r>
              <a:rPr b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«Головне питання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5280" y="14839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Constantia"/>
              </a:rPr>
              <a:t>Задача 1. Заповніть пусті клітинки в таблиці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5701-E5E1-4C9A-9497-E6B6DA99D01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Таблица 4" descr=""/>
          <p:cNvPicPr/>
          <p:nvPr/>
        </p:nvPicPr>
        <p:blipFill>
          <a:blip r:embed="rId2"/>
          <a:stretch/>
        </p:blipFill>
        <p:spPr>
          <a:xfrm>
            <a:off x="176040" y="1841400"/>
            <a:ext cx="8139240" cy="5035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http://im6-tub-ua.yandex.net/i?id=69033633-14-72&amp;n=21"/>
          <p:cNvPicPr/>
          <p:nvPr/>
        </p:nvPicPr>
        <p:blipFill>
          <a:blip r:embed="rId3"/>
          <a:stretch/>
        </p:blipFill>
        <p:spPr>
          <a:xfrm>
            <a:off x="6156360" y="189000"/>
            <a:ext cx="2303280" cy="1382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Повторюємо правил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Щоб додати два числа з різними знаками, треба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знайти модулі цих чисел;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ід більшого модуля відняти менший;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еред одержаним числом поставити знак числа з більшим модулем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Щоб додати два від’ємних числа треб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знайти модулі доданк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дати модулі доданк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еред отриманим числом поставити знак “-”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Щоб від одного числа відняти інше, досить до зменшуваного додати число, протилежне від'ємнику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-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= а + (-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е а і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— будь-які раціональні числа. Зокрема, а - а = а + (-а) = 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93FE-2C2A-47C0-A801-B29F7207CD3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Облако 4"/>
          <p:cNvSpPr/>
          <p:nvPr/>
        </p:nvSpPr>
        <p:spPr>
          <a:xfrm>
            <a:off x="6804000" y="1773360"/>
            <a:ext cx="1706760" cy="576000"/>
          </a:xfrm>
          <a:prstGeom prst="pie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onstantia"/>
              </a:rPr>
              <a:t>-8 +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Облако 5"/>
          <p:cNvSpPr/>
          <p:nvPr/>
        </p:nvSpPr>
        <p:spPr>
          <a:xfrm>
            <a:off x="5580000" y="2492280"/>
            <a:ext cx="2232000" cy="720720"/>
          </a:xfrm>
          <a:prstGeom prst="pie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[-8]=8; [3]=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Облако 6"/>
          <p:cNvSpPr/>
          <p:nvPr/>
        </p:nvSpPr>
        <p:spPr>
          <a:xfrm rot="21301200">
            <a:off x="5754240" y="3478320"/>
            <a:ext cx="2054160" cy="792000"/>
          </a:xfrm>
          <a:prstGeom prst="pie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бо </a:t>
            </a: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8›</a:t>
            </a: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3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тод</a:t>
            </a:r>
            <a:r>
              <a:rPr b="1" lang="uk-UA" sz="1800" spc="-1" strike="noStrike">
                <a:solidFill>
                  <a:srgbClr val="002060"/>
                </a:solidFill>
                <a:latin typeface="Constantia"/>
              </a:rPr>
              <a:t>і 8-3=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Облако 7"/>
          <p:cNvSpPr/>
          <p:nvPr/>
        </p:nvSpPr>
        <p:spPr>
          <a:xfrm rot="21337200">
            <a:off x="7191360" y="4141800"/>
            <a:ext cx="1722600" cy="792000"/>
          </a:xfrm>
          <a:prstGeom prst="pie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[-8]›[3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-8+3=-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Задача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Constantia"/>
              </a:rPr>
              <a:t>Знайти суму всіх цілих чисел від -499 до 50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озвязанн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ума протилежних чисел дорівнює </a:t>
            </a: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то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99+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[-498]+[-497]+…+497+498+499+500+501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01+500+(-499+499)+(-497+497)+…+(-1+1)+0= 501+500+0+100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ідповідь: 100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E5B8-7DBD-4F59-9C56-458D3C202A7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2" descr="http://mediasubs.ru/group/uploads/bi/biznes-dlya-umnyih-i-lenivyih-glazami-opyitnyih-i-neznayuschih/image2/GUyLWEzOD.jpg"/>
          <p:cNvPicPr/>
          <p:nvPr/>
        </p:nvPicPr>
        <p:blipFill>
          <a:blip r:embed="rId2"/>
          <a:stretch/>
        </p:blipFill>
        <p:spPr>
          <a:xfrm>
            <a:off x="7236000" y="4076640"/>
            <a:ext cx="1728720" cy="230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«Розумна затока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19B3-8DE3-43D6-9C56-5233B8EEFAC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Содержимое 4" descr=""/>
          <p:cNvPicPr/>
          <p:nvPr/>
        </p:nvPicPr>
        <p:blipFill>
          <a:blip r:embed="rId2"/>
          <a:stretch/>
        </p:blipFill>
        <p:spPr>
          <a:xfrm>
            <a:off x="3486240" y="1908000"/>
            <a:ext cx="5486400" cy="4400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im4-tub-ua.yandex.net/i?id=138411902-67-72&amp;n=21"/>
          <p:cNvPicPr/>
          <p:nvPr/>
        </p:nvPicPr>
        <p:blipFill>
          <a:blip r:embed="rId3"/>
          <a:stretch/>
        </p:blipFill>
        <p:spPr>
          <a:xfrm>
            <a:off x="179280" y="2924280"/>
            <a:ext cx="3729240" cy="2797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«Розумна затока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746A-19E3-4828-9D07-D458CB18521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Содержимое 4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4340520" cy="4408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http://im4-tub-ua.yandex.net/i?id=138411902-67-72&amp;n=21"/>
          <p:cNvPicPr/>
          <p:nvPr/>
        </p:nvPicPr>
        <p:blipFill>
          <a:blip r:embed="rId3"/>
          <a:stretch/>
        </p:blipFill>
        <p:spPr>
          <a:xfrm>
            <a:off x="5003640" y="2637000"/>
            <a:ext cx="3729240" cy="2796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2-03T07:21:23Z</dcterms:modified>
  <cp:revision>13</cp:revision>
  <dc:subject/>
  <dc:title>Тема уроку  «Додавання та віднімання раціональних чисел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18000000000001024140</vt:lpwstr>
  </property>
</Properties>
</file>