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4.png" ContentType="image/png"/>
  <Override PartName="/ppt/media/image20.png" ContentType="image/png"/>
  <Override PartName="/ppt/media/image7.jpeg" ContentType="image/jpeg"/>
  <Override PartName="/ppt/media/image11.png" ContentType="image/png"/>
  <Override PartName="/ppt/media/image12.jpeg" ContentType="image/jpeg"/>
  <Override PartName="/ppt/media/image13.png" ContentType="image/png"/>
  <Override PartName="/ppt/media/image9.png" ContentType="image/png"/>
  <Override PartName="/ppt/media/image8.png" ContentType="image/png"/>
  <Override PartName="/ppt/media/image14.jpeg" ContentType="image/jpeg"/>
  <Override PartName="/ppt/media/image29.jpeg" ContentType="image/jpeg"/>
  <Override PartName="/ppt/media/image5.png" ContentType="image/png"/>
  <Override PartName="/ppt/media/image10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6.png" ContentType="image/png"/>
  <Override PartName="/ppt/media/image3.png" ContentType="image/png"/>
  <Override PartName="/ppt/media/image1.jpeg" ContentType="image/jpeg"/>
  <Override PartName="/ppt/media/image28.jpeg" ContentType="image/jpeg"/>
  <Override PartName="/ppt/media/image27.gif" ContentType="image/gif"/>
  <Override PartName="/ppt/media/image16.jpeg" ContentType="image/jpeg"/>
  <Override PartName="/ppt/media/image17.png" ContentType="image/png"/>
  <Override PartName="/ppt/media/image15.png" ContentType="image/png"/>
  <Override PartName="/ppt/media/image18.jpeg" ContentType="image/jpe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5014D-4DF8-4BC6-94B9-74672DA00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055F3-881C-4D9A-BC60-F994D0E1E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13885-40E9-4147-8F04-CA31F14FB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DF53D-9298-4F04-BF3E-7A3E6D8C5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3B017-E337-405A-BA52-DBA23C968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F52FF-DF40-4C0D-8225-57285BD76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8D825-9C2B-4EC2-B4F2-15B70812E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BA784-94D2-43C6-9397-1F7144719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BDFC5-4548-43AA-AA1E-9EB6C2927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AC185-BA39-46FE-8D7B-CD8BA6E1A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CD3BE-C6D2-48F3-804A-3D3980F5D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48E4C-F29D-40FF-B499-233F6FB1C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DDD82-828B-44E9-AE78-58AA740D4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9FBFF-1405-4CD6-87F6-4E9E2F35A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9E8A5-7687-4E6B-8F61-D9091054D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22B6C-9E7E-41D6-AC0F-F2664F94D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9B2A7-1408-4C39-8381-2A958CF2B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5E69D6-0206-4E06-A714-763696EA9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33C413-0923-4F00-A153-D95C310B5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CEF0FC-DB31-42D4-AFAF-68BECFB90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9A1948-74EB-4758-AADF-125CDFACC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B3A9AA-DCBA-45D5-8E61-4DCC1AFEF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86385-3185-4BC1-ACF3-B366D2B63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33100A-79F7-4093-BEC3-3D79A2D70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EBC575-D649-41D0-B419-E488D280B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C9D6C7-65D6-4610-B4A7-9F214AF83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F03D59-97CB-4AB0-8CB8-B02B6E865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F4E74E-3948-4109-9628-08B87C528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214288-10EB-4B6F-ABB3-1F7F58E15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A45A7F-6856-40F8-B9B7-BCBD62D4D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4045CB-3C32-4F83-A89D-646E71331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C844FD-69FE-4D5F-8D07-D96939889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289798-8C01-4C1E-BA25-C35A2DDD6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9B9C3-50AD-441C-8AF6-AB52C43BD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171448-F1B1-46FC-A296-E1E092B79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5D9A3C-6BE3-4BC7-8936-621F97322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8106AC-A5B4-4632-A00E-FE27B2125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A27206-11C2-41B3-BAA6-D62F450BD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692DE5-FD97-4120-BF80-C675DD7E0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7D8911-F847-447A-BB2C-A82E8BA9E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3D2D7A-719A-46C9-A0AC-B9AB33E4C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E9F643-703D-4562-BF6A-58B3CF51A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01C968-FCDD-4028-A47B-A4FE79A1D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690AA-22DE-4A71-9AF0-AEA1AE3BE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C9A8F-982C-40F0-A172-F1E1D0ECB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0F485-C218-4D84-8432-5C8A0BEA3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86916-098E-442C-9F79-8E4821ACF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3A916-E2D2-420F-8147-23E0E3635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27D1E-B569-49E9-9196-B61378F72FE5}" type="datetime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098BB-4275-401E-BB1C-9E4FF70EC46D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CD568-F8DD-4CD6-9A58-C5B8B506AEAE}" type="datetime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63038-6495-4E5A-B74C-EC88B4101AD6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37327-88C5-4F30-9A7D-18CC4BC9937F}" type="datetime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43499-C222-4464-8D2E-97F56F330DE8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8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Прямоугольный треугольник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Полилиния 9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Полилиния 10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D83DA-4BE5-4D96-8C64-1B5179AD68B2}" type="datetime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C6BBE-0014-4D35-8674-DEC6B0C293CA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gif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2"/>
          <a:stretch/>
        </p:blipFill>
        <p:spPr>
          <a:xfrm>
            <a:off x="341280" y="-60480"/>
            <a:ext cx="8358120" cy="326736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6 клас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7" name="Номер слайда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BBA37-4505-45EC-A7C7-1F56BDCF36F8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98" name="Picture 2" descr="http://im1-tub-ua.yandex.net/i?id=211330728-47-72&amp;n=21"/>
          <p:cNvPicPr/>
          <p:nvPr/>
        </p:nvPicPr>
        <p:blipFill>
          <a:blip r:embed="rId3"/>
          <a:stretch/>
        </p:blipFill>
        <p:spPr>
          <a:xfrm>
            <a:off x="419040" y="2808360"/>
            <a:ext cx="6240600" cy="342900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95280" y="126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000" spc="-1" strike="noStrike" u="sng">
                <a:solidFill>
                  <a:srgbClr val="04617b"/>
                </a:solidFill>
                <a:uFillTx/>
                <a:latin typeface="Calibri"/>
              </a:rPr>
              <a:t>Острів «Везіння»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7" name="Номер слайда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6EAE3-ABF1-4243-AFE2-A55244E3423F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8" name="Picture 2" descr="http://im6-tub-ua.yandex.net/i?id=15981832-19-72&amp;n=21"/>
          <p:cNvPicPr/>
          <p:nvPr/>
        </p:nvPicPr>
        <p:blipFill>
          <a:blip r:embed="rId2"/>
          <a:stretch/>
        </p:blipFill>
        <p:spPr>
          <a:xfrm>
            <a:off x="5435640" y="512640"/>
            <a:ext cx="3344760" cy="250848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13" descr=""/>
          <p:cNvPicPr/>
          <p:nvPr/>
        </p:nvPicPr>
        <p:blipFill>
          <a:blip r:embed="rId3"/>
          <a:srcRect l="0" t="0" r="-66" b="-86"/>
          <a:stretch/>
        </p:blipFill>
        <p:spPr>
          <a:xfrm>
            <a:off x="65160" y="3284640"/>
            <a:ext cx="8827920" cy="308448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000" spc="-1" strike="noStrike" u="sng">
                <a:solidFill>
                  <a:srgbClr val="04617b"/>
                </a:solidFill>
                <a:uFillTx/>
                <a:latin typeface="Calibri"/>
              </a:rPr>
              <a:t>Фізкультхвилинк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Нахились уперед, нахились назад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І направо, і наліво,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Щоб нічого не боліло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Один, два, три, чотири – набираємося сили,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Нахились, повернись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І до друга посміхнись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Руки вгору піднесіть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Пальці швидко полічіть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Ліворуч – 5, праворуч – 5,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Скільки разом? Як сказать?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Руки вгору піднесіть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І почнемо всі лічить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Скільки пальців на руці?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Хором скажемо усі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Номер слайда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673FA-33D5-4291-81EA-995672D636E6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3" name="Picture 2" descr="http://im5-tub-ua.yandex.net/i?id=381669150-27-72&amp;n=21"/>
          <p:cNvPicPr/>
          <p:nvPr/>
        </p:nvPicPr>
        <p:blipFill>
          <a:blip r:embed="rId2"/>
          <a:stretch/>
        </p:blipFill>
        <p:spPr>
          <a:xfrm>
            <a:off x="6084720" y="2133720"/>
            <a:ext cx="2765520" cy="380664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355640" y="188640"/>
            <a:ext cx="43419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000" spc="-1" strike="noStrike" u="sng">
                <a:solidFill>
                  <a:srgbClr val="04617b"/>
                </a:solidFill>
                <a:uFillTx/>
                <a:latin typeface="Calibri"/>
              </a:rPr>
              <a:t>Острів «Успіх»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45" name="Содержимое 5" descr=""/>
          <p:cNvPicPr/>
          <p:nvPr/>
        </p:nvPicPr>
        <p:blipFill>
          <a:blip r:embed="rId2"/>
          <a:stretch/>
        </p:blipFill>
        <p:spPr>
          <a:xfrm>
            <a:off x="3492360" y="1554120"/>
            <a:ext cx="5121360" cy="4041720"/>
          </a:xfrm>
          <a:prstGeom prst="rect">
            <a:avLst/>
          </a:prstGeom>
          <a:ln w="0">
            <a:noFill/>
          </a:ln>
        </p:spPr>
      </p:pic>
      <p:sp>
        <p:nvSpPr>
          <p:cNvPr id="246" name="Номер слайда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D53A9-9C06-4577-83D8-61C7BE35E1B3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7" name="Picture 2" descr="http://im6-tub-ua.yandex.net/i?id=137540964-60-72&amp;n=21"/>
          <p:cNvPicPr/>
          <p:nvPr/>
        </p:nvPicPr>
        <p:blipFill>
          <a:blip r:embed="rId3"/>
          <a:stretch/>
        </p:blipFill>
        <p:spPr>
          <a:xfrm>
            <a:off x="390600" y="255600"/>
            <a:ext cx="2822400" cy="2073240"/>
          </a:xfrm>
          <a:prstGeom prst="rect">
            <a:avLst/>
          </a:prstGeom>
          <a:ln w="0">
            <a:noFill/>
          </a:ln>
        </p:spPr>
      </p:pic>
      <p:grpSp>
        <p:nvGrpSpPr>
          <p:cNvPr id="248" name="Rectangle 3"/>
          <p:cNvGrpSpPr/>
          <p:nvPr/>
        </p:nvGrpSpPr>
        <p:grpSpPr>
          <a:xfrm>
            <a:off x="165240" y="2554200"/>
            <a:ext cx="2943000" cy="1798560"/>
            <a:chOff x="165240" y="2554200"/>
            <a:chExt cx="2943000" cy="1798560"/>
          </a:xfrm>
        </p:grpSpPr>
        <p:pic>
          <p:nvPicPr>
            <p:cNvPr id="249" name="Rectangle 3" descr=""/>
            <p:cNvPicPr/>
            <p:nvPr/>
          </p:nvPicPr>
          <p:blipFill>
            <a:blip r:embed="rId4"/>
            <a:stretch/>
          </p:blipFill>
          <p:spPr>
            <a:xfrm>
              <a:off x="165240" y="2554200"/>
              <a:ext cx="2943000" cy="179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0" name=""/>
            <p:cNvSpPr/>
            <p:nvPr/>
          </p:nvSpPr>
          <p:spPr>
            <a:xfrm>
              <a:off x="250920" y="2643480"/>
              <a:ext cx="2771640" cy="161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002060"/>
                  </a:solidFill>
                  <a:latin typeface="Times New Roman"/>
                  <a:ea typeface="Calibri"/>
                </a:rPr>
                <a:t>0 = Е                13=Р</a:t>
              </a:r>
              <a:endParaRPr b="0" lang="en-US" sz="2000" spc="-1" strike="noStrike">
                <a:solidFill>
                  <a:srgbClr val="000000"/>
                </a:solidFill>
                <a:latin typeface="Constanti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002060"/>
                  </a:solidFill>
                  <a:latin typeface="Times New Roman"/>
                  <a:ea typeface="Calibri"/>
                </a:rPr>
                <a:t>-5=Л                -20=И</a:t>
              </a:r>
              <a:endParaRPr b="0" lang="en-US" sz="2000" spc="-1" strike="noStrike">
                <a:solidFill>
                  <a:srgbClr val="000000"/>
                </a:solidFill>
                <a:latin typeface="Constanti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002060"/>
                  </a:solidFill>
                  <a:latin typeface="Times New Roman"/>
                </a:rPr>
                <a:t>19=О               -71=Х</a:t>
              </a:r>
              <a:endParaRPr b="0" lang="en-US" sz="2000" spc="-1" strike="noStrike">
                <a:solidFill>
                  <a:srgbClr val="000000"/>
                </a:solidFill>
                <a:latin typeface="Constanti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002060"/>
                  </a:solidFill>
                  <a:latin typeface="Times New Roman"/>
                </a:rPr>
                <a:t>-24=Д              -102,8=С</a:t>
              </a:r>
              <a:endParaRPr b="0" lang="en-US" sz="2000" spc="-1" strike="noStrike">
                <a:solidFill>
                  <a:srgbClr val="000000"/>
                </a:solidFill>
                <a:latin typeface="Constanti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002060"/>
                  </a:solidFill>
                  <a:latin typeface="Times New Roman"/>
                </a:rPr>
                <a:t>14=М</a:t>
              </a:r>
              <a:endParaRPr b="0" lang="en-US" sz="20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pic>
        <p:nvPicPr>
          <p:cNvPr id="251" name="Picture 5" descr="http://im0-tub-ua.yandex.net/i?id=393085382-04-72&amp;n=21"/>
          <p:cNvPicPr/>
          <p:nvPr/>
        </p:nvPicPr>
        <p:blipFill>
          <a:blip r:embed="rId5"/>
          <a:stretch/>
        </p:blipFill>
        <p:spPr>
          <a:xfrm>
            <a:off x="603360" y="4572000"/>
            <a:ext cx="2103480" cy="210348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355640" y="188640"/>
            <a:ext cx="43419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000" spc="-1" strike="noStrike" u="sng">
                <a:solidFill>
                  <a:srgbClr val="04617b"/>
                </a:solidFill>
                <a:uFillTx/>
                <a:latin typeface="Calibri"/>
              </a:rPr>
              <a:t>Острів «Успіх»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3" name="Номер слайда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59A3C-3783-4A17-80CA-FBDAF47FBF56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4" name="Picture 2" descr="http://im6-tub-ua.yandex.net/i?id=137540964-60-72&amp;n=21"/>
          <p:cNvPicPr/>
          <p:nvPr/>
        </p:nvPicPr>
        <p:blipFill>
          <a:blip r:embed="rId2"/>
          <a:stretch/>
        </p:blipFill>
        <p:spPr>
          <a:xfrm>
            <a:off x="390600" y="255600"/>
            <a:ext cx="2822400" cy="207324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5" descr=""/>
          <p:cNvPicPr/>
          <p:nvPr/>
        </p:nvPicPr>
        <p:blipFill>
          <a:blip r:embed="rId3"/>
          <a:srcRect l="0" t="0" r="64" b="-44"/>
          <a:stretch/>
        </p:blipFill>
        <p:spPr>
          <a:xfrm>
            <a:off x="4500720" y="1628640"/>
            <a:ext cx="4174920" cy="481968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6" descr=""/>
          <p:cNvPicPr/>
          <p:nvPr/>
        </p:nvPicPr>
        <p:blipFill>
          <a:blip r:embed="rId4"/>
          <a:stretch/>
        </p:blipFill>
        <p:spPr>
          <a:xfrm>
            <a:off x="268200" y="2365200"/>
            <a:ext cx="3353040" cy="222588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8" descr="http://im2-tub-ua.yandex.net/i?id=177560946-09-72&amp;n=21"/>
          <p:cNvPicPr/>
          <p:nvPr/>
        </p:nvPicPr>
        <p:blipFill>
          <a:blip r:embed="rId5"/>
          <a:stretch/>
        </p:blipFill>
        <p:spPr>
          <a:xfrm>
            <a:off x="1332000" y="4581360"/>
            <a:ext cx="1439640" cy="201960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916360" y="333000"/>
            <a:ext cx="3728880" cy="593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500" spc="-1" strike="noStrike" u="sng">
                <a:solidFill>
                  <a:srgbClr val="04617b"/>
                </a:solidFill>
                <a:uFillTx/>
                <a:latin typeface="Calibri"/>
              </a:rPr>
              <a:t>Тестування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250920" y="1052280"/>
            <a:ext cx="446544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1" i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аріант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 Розв’яжіть рівняння:  7,1 + у = – 1,8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 у = – 5,3;              Б   у = 8,9;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 у = 5,3;                 Г  у = – 8,9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Розв’яжіть рівняння: – 5,2 + х = – 2,5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  х = – 7,7;    Б    х = 7,7;  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  х = – 2,7;     Г    х = 2,7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Обчисліть:  – 5,6 + (– 3,5 + 5,6)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    3,5;    Б    2,5;  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  – 3,5;    Г     – 2,5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Знайдіть суму всіх цілих чисел, розташованих між  – 5,6 и 3,5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   3;    Б  – 11;    В   – 9;     Г    – 15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Швидкість човна за течією ріки 15,3 км/г. Знайдіть швидкість човна проти течії ріки та власну швидкість човна, якщо  швидкість течії ріки 4,5 км/г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   6,3 км/г; 10,8 км/г;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     19,8 км/г; 10,8 км/г;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    4,5 км/г; 6,3 км/г;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     4,5 км/г; 5,4 км/г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0" name="Номер слайда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0CD05-8065-42D2-8A3A-1524753BECE7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1" name="Содержимое 2"/>
          <p:cNvSpPr/>
          <p:nvPr/>
        </p:nvSpPr>
        <p:spPr>
          <a:xfrm>
            <a:off x="4735440" y="981000"/>
            <a:ext cx="4248360" cy="56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9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i="1" lang="uk-UA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 варіант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Розв’яжіть рівняння: 3,8 + у = – 2,7.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    у = – 6,5;      Б    у = 6,5;        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    у = – 1,1;       Г    у = 1,1.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Розв’яжіть рівняння: – 2,2 + х = – 5,5 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   х = – 7,7;       Б   х = 3,3;        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   х = 7,7;          Г    х = – 3,3.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Обчисліть: – 11,9 + (– 6,7 + 11,9).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  6,7;        Б   5,6;      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  – 6,7;      Г    – 5,6.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Знайдіть суму всіх цілих чисел, розташованих між  – 6,3 и 4,2.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   2;   Б    – 20;   В    – 9;   Г    – 11.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Швидкість човна проти течії ріки 0,9 км/г . Власна швидкість човна – 3,2 км/г . Знайдіть швидкість течії ріки та швидкість човна за течією. 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  4,1 км/г; 5,2 км/г;        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   2,3 км/г; 5,5 км/г;      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   5,4 км/г; 2,3 км/г;        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     5,2 км/г; 6,4 км/г.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newsflash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000" spc="-1" strike="noStrike" u="sng">
                <a:solidFill>
                  <a:srgbClr val="04617b"/>
                </a:solidFill>
                <a:uFillTx/>
                <a:latin typeface="Calibri"/>
              </a:rPr>
              <a:t>Ключ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457200" y="1934640"/>
            <a:ext cx="4043520" cy="30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Constantia"/>
              </a:rPr>
              <a:t>I</a:t>
            </a:r>
            <a:r>
              <a:rPr b="1" lang="uk-UA" sz="3700" spc="-1" strike="noStrike">
                <a:solidFill>
                  <a:srgbClr val="000000"/>
                </a:solidFill>
                <a:latin typeface="Constantia"/>
              </a:rPr>
              <a:t> варіант: </a:t>
            </a: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700" spc="-1" strike="noStrike">
                <a:solidFill>
                  <a:srgbClr val="000000"/>
                </a:solidFill>
                <a:latin typeface="Constantia"/>
              </a:rPr>
              <a:t>г, г, в, в, а             </a:t>
            </a: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Constantia"/>
              </a:rPr>
              <a:t>II</a:t>
            </a:r>
            <a:r>
              <a:rPr b="1" lang="uk-UA" sz="3700" spc="-1" strike="noStrike">
                <a:solidFill>
                  <a:srgbClr val="000000"/>
                </a:solidFill>
                <a:latin typeface="Constantia"/>
              </a:rPr>
              <a:t> варіант: </a:t>
            </a: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700" spc="-1" strike="noStrike">
                <a:solidFill>
                  <a:srgbClr val="000000"/>
                </a:solidFill>
                <a:latin typeface="Constantia"/>
              </a:rPr>
              <a:t>а, г, в, г, б</a:t>
            </a: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9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4" name="Номер слайда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A2CD7-ED53-494D-A62A-7DB4534A8A5F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5" name="Picture 2" descr="http://im4-tub-ua.yandex.net/i?id=86578227-56-72&amp;n=21"/>
          <p:cNvPicPr/>
          <p:nvPr/>
        </p:nvPicPr>
        <p:blipFill>
          <a:blip r:embed="rId2"/>
          <a:stretch/>
        </p:blipFill>
        <p:spPr>
          <a:xfrm>
            <a:off x="4427640" y="2060640"/>
            <a:ext cx="3465360" cy="379404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457200" y="1935000"/>
            <a:ext cx="82296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5000"/>
          </a:bodyPr>
          <a:p>
            <a:pPr marL="177120" indent="-17712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onstantia"/>
              </a:rPr>
              <a:t>Оціночний лист  учня ____________________________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177120" indent="-17712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7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7" name="Номер слайда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FD0EF-2640-4A6C-AB04-C85D07806672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8" name="Таблица 4" descr=""/>
          <p:cNvPicPr/>
          <p:nvPr/>
        </p:nvPicPr>
        <p:blipFill>
          <a:blip r:embed="rId2"/>
          <a:stretch/>
        </p:blipFill>
        <p:spPr>
          <a:xfrm>
            <a:off x="176040" y="2620800"/>
            <a:ext cx="8571240" cy="2378160"/>
          </a:xfrm>
          <a:prstGeom prst="rect">
            <a:avLst/>
          </a:prstGeom>
          <a:ln w="0">
            <a:noFill/>
          </a:ln>
        </p:spPr>
      </p:pic>
      <p:sp>
        <p:nvSpPr>
          <p:cNvPr id="269" name="Содержимое 2"/>
          <p:cNvSpPr/>
          <p:nvPr/>
        </p:nvSpPr>
        <p:spPr>
          <a:xfrm>
            <a:off x="324000" y="5373720"/>
            <a:ext cx="856908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onstantia"/>
              </a:rPr>
              <a:t>Загальна кількість балів___________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newsflash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500" spc="-1" strike="noStrike">
                <a:solidFill>
                  <a:srgbClr val="04617b"/>
                </a:solidFill>
                <a:latin typeface="Calibri"/>
              </a:rPr>
              <a:t>Мені було на уроці</a:t>
            </a:r>
            <a:r>
              <a:rPr b="0" lang="uk-UA" sz="4500" spc="-1" strike="noStrike">
                <a:solidFill>
                  <a:srgbClr val="04617b"/>
                </a:solidFill>
                <a:latin typeface="Calibri"/>
              </a:rPr>
              <a:t>_____________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1" name="Номер слайда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E030F-F56B-4E5D-BA94-FDC2C715252C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72" name="Содержимое 4" descr="C:\Documents and Settings\Admin\Local Settings\Temporary Internet Files\Content.IE5\IU32TZ7E\MM900286791[1].gif"/>
          <p:cNvPicPr/>
          <p:nvPr/>
        </p:nvPicPr>
        <p:blipFill>
          <a:blip r:embed="rId2"/>
          <a:stretch/>
        </p:blipFill>
        <p:spPr>
          <a:xfrm>
            <a:off x="3851280" y="3213000"/>
            <a:ext cx="3889440" cy="3311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73" name="Облако 5"/>
          <p:cNvSpPr/>
          <p:nvPr/>
        </p:nvSpPr>
        <p:spPr>
          <a:xfrm rot="20673600">
            <a:off x="144000" y="2162160"/>
            <a:ext cx="3129120" cy="1511280"/>
          </a:xfrm>
          <a:prstGeom prst="pi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Constantia"/>
              </a:rPr>
              <a:t>Звичайно, матеріал засвоїв частково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4" name="Солнце 6"/>
          <p:cNvSpPr/>
          <p:nvPr/>
        </p:nvSpPr>
        <p:spPr>
          <a:xfrm>
            <a:off x="3527280" y="333360"/>
            <a:ext cx="5616720" cy="381636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2060"/>
                </a:solidFill>
                <a:latin typeface="Constantia"/>
              </a:rPr>
              <a:t>Легко, матеріал засвоїв повністю, можу застосовувати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5" name="Овальная выноска 9"/>
          <p:cNvSpPr/>
          <p:nvPr/>
        </p:nvSpPr>
        <p:spPr>
          <a:xfrm flipH="1">
            <a:off x="826200" y="3716280"/>
            <a:ext cx="2305080" cy="154944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ff0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onstantia"/>
              </a:rPr>
              <a:t>Ох! Важко, засвоїв не весь матеріал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76" name="Picture 3" descr="http://im2-tub-ua.yandex.net/i?id=192835582-27-72&amp;n=21"/>
          <p:cNvPicPr/>
          <p:nvPr/>
        </p:nvPicPr>
        <p:blipFill>
          <a:blip r:embed="rId3"/>
          <a:stretch/>
        </p:blipFill>
        <p:spPr>
          <a:xfrm>
            <a:off x="2627280" y="5229360"/>
            <a:ext cx="762120" cy="133344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 u="sng">
                <a:solidFill>
                  <a:srgbClr val="04617b"/>
                </a:solidFill>
                <a:uFillTx/>
                <a:latin typeface="Calibri"/>
              </a:rPr>
              <a:t>Домашнє завдання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Дано числа: 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-1; -2; -3; -4; -5; -6; -7; -8; -9; -10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Використовуючи кожне число тільки один раз, складіть три вірних рівняння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9" name="Номер слайда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C83FB-C09F-4D49-9981-877C3A58A49D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80" name="Picture 2" descr="http://im1-tub-ua.yandex.net/i?id=376536291-29-72&amp;n=21"/>
          <p:cNvPicPr/>
          <p:nvPr/>
        </p:nvPicPr>
        <p:blipFill>
          <a:blip r:embed="rId2"/>
          <a:stretch/>
        </p:blipFill>
        <p:spPr>
          <a:xfrm>
            <a:off x="6300720" y="4437000"/>
            <a:ext cx="1760760" cy="227664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4" descr="http://im5-tub-ua.yandex.net/i?id=410777872-41-72&amp;n=21"/>
          <p:cNvPicPr/>
          <p:nvPr/>
        </p:nvPicPr>
        <p:blipFill>
          <a:blip r:embed="rId3"/>
          <a:stretch/>
        </p:blipFill>
        <p:spPr>
          <a:xfrm>
            <a:off x="395280" y="4292640"/>
            <a:ext cx="2089080" cy="232092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6" descr="http://im0-tub-ua.yandex.net/i?id=111557073-56-72&amp;n=21"/>
          <p:cNvPicPr/>
          <p:nvPr/>
        </p:nvPicPr>
        <p:blipFill>
          <a:blip r:embed="rId4"/>
          <a:stretch/>
        </p:blipFill>
        <p:spPr>
          <a:xfrm>
            <a:off x="6875640" y="692280"/>
            <a:ext cx="2017440" cy="220824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000" spc="-1" strike="noStrike" u="sng">
                <a:solidFill>
                  <a:srgbClr val="04617b"/>
                </a:solidFill>
                <a:uFillTx/>
                <a:latin typeface="Calibri"/>
              </a:rPr>
              <a:t>Мета уроку:</a:t>
            </a:r>
            <a:r>
              <a:rPr b="1" lang="uk-UA" sz="5000" spc="-1" strike="noStrike">
                <a:solidFill>
                  <a:srgbClr val="04617b"/>
                </a:solidFill>
                <a:latin typeface="Calibri"/>
              </a:rPr>
              <a:t>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68360" y="1557360"/>
            <a:ext cx="8229600" cy="43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закріплення, повторення теоретичного матеріалу при розв’язанні вправ, задач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відпрацювати вміння та навички використання правил додавання, віднімання чисел із різними знаками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подальше поглиблення навичок розв’язання задач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розвивати мислення і математичне мовлення учнів, цікавість до предмету через нестандартні форми уроку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виховувати працьовитість та співпрацю в колективі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1" name="Номер слайда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4FB87-45E7-44DB-8E39-EAA27BC92AF9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000" spc="-1" strike="noStrike" u="sng">
                <a:solidFill>
                  <a:srgbClr val="04617b"/>
                </a:solidFill>
                <a:uFillTx/>
                <a:latin typeface="Calibri"/>
              </a:rPr>
              <a:t>Інструктаж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935000"/>
            <a:ext cx="82296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5000"/>
          </a:bodyPr>
          <a:p>
            <a:pPr marL="177120" indent="-17712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onstantia"/>
              </a:rPr>
              <a:t>Оціночний лист  учня ____________________________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177120" indent="-17712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7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4" name="Номер слайда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EDBC3-7E5D-4678-8ECC-2AF4F055EFA8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5" name="Таблица 4" descr=""/>
          <p:cNvPicPr/>
          <p:nvPr/>
        </p:nvPicPr>
        <p:blipFill>
          <a:blip r:embed="rId2"/>
          <a:stretch/>
        </p:blipFill>
        <p:spPr>
          <a:xfrm>
            <a:off x="176040" y="2620800"/>
            <a:ext cx="8571240" cy="2378160"/>
          </a:xfrm>
          <a:prstGeom prst="rect">
            <a:avLst/>
          </a:prstGeom>
          <a:ln w="0">
            <a:noFill/>
          </a:ln>
        </p:spPr>
      </p:pic>
      <p:sp>
        <p:nvSpPr>
          <p:cNvPr id="206" name="Содержимое 2"/>
          <p:cNvSpPr/>
          <p:nvPr/>
        </p:nvSpPr>
        <p:spPr>
          <a:xfrm>
            <a:off x="324000" y="5373720"/>
            <a:ext cx="856908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onstantia"/>
              </a:rPr>
              <a:t>Загальна кількість балів___________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347640" y="259920"/>
            <a:ext cx="55659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500" spc="-1" strike="noStrike" u="sng">
                <a:solidFill>
                  <a:srgbClr val="04617b"/>
                </a:solidFill>
                <a:uFillTx/>
                <a:latin typeface="Calibri"/>
              </a:rPr>
              <a:t>Протока </a:t>
            </a:r>
            <a:br>
              <a:rPr sz="4500"/>
            </a:br>
            <a:r>
              <a:rPr b="1" lang="uk-UA" sz="4500" spc="-1" strike="noStrike" u="sng">
                <a:solidFill>
                  <a:srgbClr val="04617b"/>
                </a:solidFill>
                <a:uFillTx/>
                <a:latin typeface="Calibri"/>
              </a:rPr>
              <a:t>«Головне питання»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95280" y="1483920"/>
            <a:ext cx="82296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2060"/>
                </a:solidFill>
                <a:latin typeface="Constantia"/>
              </a:rPr>
              <a:t>Задача 1. Заповніть пусті клітинки в таблиці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9" name="Номер слайда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D1D25-5754-4CAE-863A-51CFA6A67EA3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0" name="Таблица 4" descr=""/>
          <p:cNvPicPr/>
          <p:nvPr/>
        </p:nvPicPr>
        <p:blipFill>
          <a:blip r:embed="rId2"/>
          <a:stretch/>
        </p:blipFill>
        <p:spPr>
          <a:xfrm>
            <a:off x="176040" y="1841400"/>
            <a:ext cx="8139240" cy="503568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2" descr="http://im6-tub-ua.yandex.net/i?id=69033633-14-72&amp;n=21"/>
          <p:cNvPicPr/>
          <p:nvPr/>
        </p:nvPicPr>
        <p:blipFill>
          <a:blip r:embed="rId3"/>
          <a:stretch/>
        </p:blipFill>
        <p:spPr>
          <a:xfrm>
            <a:off x="324000" y="189000"/>
            <a:ext cx="2303280" cy="138276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53276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500" spc="-1" strike="noStrike" u="sng">
                <a:solidFill>
                  <a:srgbClr val="04617b"/>
                </a:solidFill>
                <a:uFillTx/>
                <a:latin typeface="Calibri"/>
              </a:rPr>
              <a:t>Протока </a:t>
            </a:r>
            <a:br>
              <a:rPr sz="4500"/>
            </a:br>
            <a:r>
              <a:rPr b="1" lang="uk-UA" sz="4500" spc="-1" strike="noStrike" u="sng">
                <a:solidFill>
                  <a:srgbClr val="04617b"/>
                </a:solidFill>
                <a:uFillTx/>
                <a:latin typeface="Calibri"/>
              </a:rPr>
              <a:t>«Головне питання»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95280" y="1483920"/>
            <a:ext cx="82296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2060"/>
                </a:solidFill>
                <a:latin typeface="Constantia"/>
              </a:rPr>
              <a:t>Задача 1. Заповніть пусті клітинки в таблиці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4" name="Номер слайда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45B7A-C3D5-416D-ABE6-E922922E2EBC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5" name="Таблица 4" descr=""/>
          <p:cNvPicPr/>
          <p:nvPr/>
        </p:nvPicPr>
        <p:blipFill>
          <a:blip r:embed="rId2"/>
          <a:stretch/>
        </p:blipFill>
        <p:spPr>
          <a:xfrm>
            <a:off x="176040" y="1841400"/>
            <a:ext cx="8139240" cy="503568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2" descr="http://im6-tub-ua.yandex.net/i?id=69033633-14-72&amp;n=21"/>
          <p:cNvPicPr/>
          <p:nvPr/>
        </p:nvPicPr>
        <p:blipFill>
          <a:blip r:embed="rId3"/>
          <a:stretch/>
        </p:blipFill>
        <p:spPr>
          <a:xfrm>
            <a:off x="6156360" y="189000"/>
            <a:ext cx="2303280" cy="138276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000" spc="-1" strike="noStrike" u="sng">
                <a:solidFill>
                  <a:srgbClr val="04617b"/>
                </a:solidFill>
                <a:uFillTx/>
                <a:latin typeface="Calibri"/>
              </a:rPr>
              <a:t>Повторюємо правило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64600" indent="-2646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Constantia"/>
              </a:rPr>
              <a:t>Щоб додати два числа з різними знаками, треба: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знайти модулі цих чисел;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від більшого модуля відняти менший;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перед одержаним числом поставити знак числа з більшим модулем.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Constantia"/>
              </a:rPr>
              <a:t>Щоб додати два від’ємних числа треба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знайти модулі доданків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додати модулі доданків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перед отриманим числом поставити знак “-”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Constantia"/>
              </a:rPr>
              <a:t>Щоб від одного числа відняти інше, досить до зменшуваного додати число, протилежне від'ємнику</a:t>
            </a: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а -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b</a:t>
            </a: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 = а + (-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b</a:t>
            </a: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),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де а і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b</a:t>
            </a: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 — будь-які раціональні числа. Зокрема, а - а = а + (-а) = 0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9" name="Номер слайда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58DE4-D75D-4DE6-99ED-BED036EA59A1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Облако 4"/>
          <p:cNvSpPr/>
          <p:nvPr/>
        </p:nvSpPr>
        <p:spPr>
          <a:xfrm>
            <a:off x="6804000" y="1773360"/>
            <a:ext cx="1706760" cy="576000"/>
          </a:xfrm>
          <a:prstGeom prst="pie">
            <a:avLst/>
          </a:prstGeom>
          <a:solidFill>
            <a:srgbClr val="b5edfd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2060"/>
                </a:solidFill>
                <a:latin typeface="Constantia"/>
              </a:rPr>
              <a:t>-8 + 3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Облако 5"/>
          <p:cNvSpPr/>
          <p:nvPr/>
        </p:nvSpPr>
        <p:spPr>
          <a:xfrm>
            <a:off x="5580000" y="2492280"/>
            <a:ext cx="2232000" cy="720720"/>
          </a:xfrm>
          <a:prstGeom prst="pie">
            <a:avLst/>
          </a:prstGeom>
          <a:solidFill>
            <a:srgbClr val="b5edfd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Constantia"/>
              </a:rPr>
              <a:t>[-8]=8; [3]=3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2" name="Облако 6"/>
          <p:cNvSpPr/>
          <p:nvPr/>
        </p:nvSpPr>
        <p:spPr>
          <a:xfrm rot="21301200">
            <a:off x="5754240" y="3478320"/>
            <a:ext cx="2054160" cy="792000"/>
          </a:xfrm>
          <a:prstGeom prst="pie">
            <a:avLst/>
          </a:prstGeom>
          <a:solidFill>
            <a:srgbClr val="b5edfd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onstantia"/>
              </a:rPr>
              <a:t>бо </a:t>
            </a:r>
            <a:r>
              <a:rPr b="1" lang="en-US" sz="1800" spc="-1" strike="noStrike">
                <a:solidFill>
                  <a:srgbClr val="002060"/>
                </a:solidFill>
                <a:latin typeface="Constantia"/>
              </a:rPr>
              <a:t>8›</a:t>
            </a:r>
            <a:r>
              <a:rPr b="1" lang="ru-RU" sz="1800" spc="-1" strike="noStrike">
                <a:solidFill>
                  <a:srgbClr val="002060"/>
                </a:solidFill>
                <a:latin typeface="Constantia"/>
              </a:rPr>
              <a:t>3,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onstantia"/>
              </a:rPr>
              <a:t>тод</a:t>
            </a:r>
            <a:r>
              <a:rPr b="1" lang="uk-UA" sz="1800" spc="-1" strike="noStrike">
                <a:solidFill>
                  <a:srgbClr val="002060"/>
                </a:solidFill>
                <a:latin typeface="Constantia"/>
              </a:rPr>
              <a:t>і 8-3=5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3" name="Облако 7"/>
          <p:cNvSpPr/>
          <p:nvPr/>
        </p:nvSpPr>
        <p:spPr>
          <a:xfrm rot="21337200">
            <a:off x="7191360" y="4141800"/>
            <a:ext cx="1722600" cy="792000"/>
          </a:xfrm>
          <a:prstGeom prst="pie">
            <a:avLst/>
          </a:prstGeom>
          <a:solidFill>
            <a:srgbClr val="b5edfd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Constantia"/>
              </a:rPr>
              <a:t>[-8]›[3]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Constantia"/>
              </a:rPr>
              <a:t>-8+3=-5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5000" spc="-1" strike="noStrike" u="sng">
                <a:solidFill>
                  <a:srgbClr val="04617b"/>
                </a:solidFill>
                <a:uFillTx/>
                <a:latin typeface="Calibri"/>
              </a:rPr>
              <a:t>Задача 2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934640"/>
            <a:ext cx="8686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2060"/>
                </a:solidFill>
                <a:latin typeface="Constantia"/>
              </a:rPr>
              <a:t>Знайти суму всіх цілих чисел від -499 до 501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Розвязання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Сума протилежних чисел дорівнює </a:t>
            </a:r>
            <a:r>
              <a:rPr b="0" lang="uk-UA" sz="4000" spc="-1" strike="noStrike">
                <a:solidFill>
                  <a:srgbClr val="000000"/>
                </a:solidFill>
                <a:latin typeface="Constantia"/>
              </a:rPr>
              <a:t>0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, то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– 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499+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[-498]+[-497]+…+497+498+499+500+501=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501+500+(-499+499)+(-497+497)+…+(-1+1)+0= 501+500+0+1001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ідповідь: 1001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6" name="Номер слайда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A3BA0-3B8F-4020-B562-A1BB66651DA3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7" name="Picture 2" descr="http://mediasubs.ru/group/uploads/bi/biznes-dlya-umnyih-i-lenivyih-glazami-opyitnyih-i-neznayuschih/image2/GUyLWEzOD.jpg"/>
          <p:cNvPicPr/>
          <p:nvPr/>
        </p:nvPicPr>
        <p:blipFill>
          <a:blip r:embed="rId2"/>
          <a:stretch/>
        </p:blipFill>
        <p:spPr>
          <a:xfrm>
            <a:off x="7236000" y="4076640"/>
            <a:ext cx="1728720" cy="230508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 u="sng">
                <a:solidFill>
                  <a:srgbClr val="04617b"/>
                </a:solidFill>
                <a:uFillTx/>
                <a:latin typeface="Calibri"/>
              </a:rPr>
              <a:t>«Розумна затока»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9" name="Номер слайда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1E7EB-C485-4B47-AD14-694B65BA1932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0" name="Содержимое 4" descr=""/>
          <p:cNvPicPr/>
          <p:nvPr/>
        </p:nvPicPr>
        <p:blipFill>
          <a:blip r:embed="rId2"/>
          <a:stretch/>
        </p:blipFill>
        <p:spPr>
          <a:xfrm>
            <a:off x="3486240" y="1908000"/>
            <a:ext cx="5486400" cy="440064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2" descr="http://im4-tub-ua.yandex.net/i?id=138411902-67-72&amp;n=21"/>
          <p:cNvPicPr/>
          <p:nvPr/>
        </p:nvPicPr>
        <p:blipFill>
          <a:blip r:embed="rId3"/>
          <a:stretch/>
        </p:blipFill>
        <p:spPr>
          <a:xfrm>
            <a:off x="179280" y="2924280"/>
            <a:ext cx="3729240" cy="279720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 u="sng">
                <a:solidFill>
                  <a:srgbClr val="04617b"/>
                </a:solidFill>
                <a:uFillTx/>
                <a:latin typeface="Calibri"/>
              </a:rPr>
              <a:t>«Розумна затока»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3" name="Номер слайда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7065D-C3E6-43C2-A468-185672BFCA0B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4" name="Содержимое 4" descr=""/>
          <p:cNvPicPr/>
          <p:nvPr/>
        </p:nvPicPr>
        <p:blipFill>
          <a:blip r:embed="rId2"/>
          <a:stretch/>
        </p:blipFill>
        <p:spPr>
          <a:xfrm>
            <a:off x="450720" y="1925640"/>
            <a:ext cx="4340520" cy="440856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2" descr="http://im4-tub-ua.yandex.net/i?id=138411902-67-72&amp;n=21"/>
          <p:cNvPicPr/>
          <p:nvPr/>
        </p:nvPicPr>
        <p:blipFill>
          <a:blip r:embed="rId3"/>
          <a:stretch/>
        </p:blipFill>
        <p:spPr>
          <a:xfrm>
            <a:off x="5003640" y="2637000"/>
            <a:ext cx="3729240" cy="279684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4-02-03T07:21:23Z</dcterms:modified>
  <cp:revision>13</cp:revision>
  <dc:subject/>
  <dc:title>Тема уроку  «Додавання та віднімання раціональних чисел»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5618000000000001024140</vt:lpwstr>
  </property>
</Properties>
</file>