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0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3.png" ContentType="image/png"/>
  <Override PartName="/ppt/media/image1.jpeg" ContentType="image/jpeg"/>
  <Override PartName="/ppt/media/image28.jpeg" ContentType="image/jpeg"/>
  <Override PartName="/ppt/media/image27.gif" ContentType="image/gif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2AA-F0D1-4480-9A8C-61CBAFC9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096-88B4-415E-85B7-05ECA87A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30B3-861A-468B-91EA-5CF79051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CFE-D970-42F9-B2C9-2326ACBB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062F-2742-4751-ABB8-709D5425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1E1B-AF2E-48CC-B1EE-6A9EBF9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B265-D777-4F72-8CFE-E2C1A616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3157-C4E5-4807-8814-1C212D08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7836-CA99-4F78-8D5C-C0B35D8E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D94-E72A-4A13-B3E1-708FE6C9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D1C7-7500-45BB-9AB3-F030EF95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BE7-3554-4286-96A9-359CB270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33E-6983-4F63-B60E-E341B281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C8A2-DCD6-46BD-84AD-4BF5773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B525-ED22-4916-AB25-3E70D6F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2875-98E6-4649-9402-D69E9E17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E7C8-1EE5-42D0-96E3-2C7AA84F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707D-31CD-4011-B53F-9644D137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96F0-87AE-4058-90F3-12C9190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2975-0479-4FCF-A602-8C7DB99E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4C1A1-DCEF-42CA-BB0C-5A366D9D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8239-CB2A-41A6-8335-1B5A7CA6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0A4-2AC2-4A40-9272-309E6BD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2E2E-477A-4667-A560-4F07544C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BDD3-2A6E-49CD-9F62-471CFB4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D545E-D7EB-42EC-AD04-431A273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E5D2-3EE4-4114-BB8D-43DCBC5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48C5-614B-4134-8A50-33C7F744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F0C3-424E-47F4-8A89-9A6FCB88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A057-5D15-4DA3-9631-A3677D40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132A6-F02D-42AB-9CA7-3EAF9FC1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E0A8-0A0D-4B5D-A66E-78C2836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794A-A4EC-4DEB-BDE1-25C032FF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C17-7B19-4403-B1CC-07391F4C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B2B3-C1D0-49AD-8C54-CF653950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DF7D-6454-4563-9942-AFB787B4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1256-C919-42AA-AC72-93D83FC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3701-CAB2-4F4F-A2A4-96FBBD9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536E9-A52D-4182-A6BD-F6914DF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406F-DEF3-4AA5-A902-6E73816C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0135-480C-4BA0-A313-1F50F14A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D76E-57B2-4CB2-A4B1-85F06914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89D46-58E5-4B4B-B56B-EF347AC7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D9C-9E46-4AB6-AD2E-5D4D46A9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63F-E25C-41E8-8634-FC359C9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C20-0BBD-45B7-91FF-C090342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333-47A8-4755-907D-723A6842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69F-877F-4452-8CCD-DEEFE80E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03D7-7969-462E-9A05-ABA6EEEFA860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A493-72D8-4A17-8911-FD8F4FD119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29B1-1634-406A-AABE-6F9167EC11DE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303B-65EE-43A3-819C-289A062B0C0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86D-D534-4AEC-BFA1-E163B01910EA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EF4E-319E-4087-9959-0ECFBC63BB9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7AC8-4FB6-4311-865C-AE2C81B8273E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7B8-919D-4CC3-8F8C-DD22237F062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341280" y="-60480"/>
            <a:ext cx="835812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 кла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AFC2-680D-4FF6-A84A-BCF085C027C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http://im1-tub-ua.yandex.net/i?id=211330728-47-72&amp;n=21"/>
          <p:cNvPicPr/>
          <p:nvPr/>
        </p:nvPicPr>
        <p:blipFill>
          <a:blip r:embed="rId3"/>
          <a:stretch/>
        </p:blipFill>
        <p:spPr>
          <a:xfrm>
            <a:off x="419040" y="2808360"/>
            <a:ext cx="624060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Везіння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6CA-7746-4D6E-AFA9-67F6DE017A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2" descr="http://im6-tub-ua.yandex.net/i?id=15981832-19-72&amp;n=21"/>
          <p:cNvPicPr/>
          <p:nvPr/>
        </p:nvPicPr>
        <p:blipFill>
          <a:blip r:embed="rId2"/>
          <a:stretch/>
        </p:blipFill>
        <p:spPr>
          <a:xfrm>
            <a:off x="5435640" y="512640"/>
            <a:ext cx="3344760" cy="2508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/>
          <p:cNvPicPr/>
          <p:nvPr/>
        </p:nvPicPr>
        <p:blipFill>
          <a:blip r:embed="rId3"/>
          <a:srcRect l="0" t="0" r="-66" b="-86"/>
          <a:stretch/>
        </p:blipFill>
        <p:spPr>
          <a:xfrm>
            <a:off x="65160" y="3284640"/>
            <a:ext cx="8827920" cy="308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Фізкультхвили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Нахились уперед, нахились назад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направо, і налів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Щоб нічого не боліл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Один, два, три, чотири – набираємося сил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Нахились, повернис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до друга посміхнис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уки вгору піднесі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альці швидко полічі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Ліворуч – 5, праворуч – 5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кільки разом? Як сказать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Руки вгору піднесіт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І почнемо всі лічи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Скільки пальців на руці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Хором скажемо усі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6A5-62B3-44FF-A5C4-E87753C985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2" descr="http://im5-tub-ua.yandex.net/i?id=381669150-27-72&amp;n=21"/>
          <p:cNvPicPr/>
          <p:nvPr/>
        </p:nvPicPr>
        <p:blipFill>
          <a:blip r:embed="rId2"/>
          <a:stretch/>
        </p:blipFill>
        <p:spPr>
          <a:xfrm>
            <a:off x="6084720" y="2133720"/>
            <a:ext cx="2765520" cy="380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34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Успіх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5" name="Содержимое 5" descr=""/>
          <p:cNvPicPr/>
          <p:nvPr/>
        </p:nvPicPr>
        <p:blipFill>
          <a:blip r:embed="rId2"/>
          <a:stretch/>
        </p:blipFill>
        <p:spPr>
          <a:xfrm>
            <a:off x="3492360" y="1554120"/>
            <a:ext cx="5121360" cy="40417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87C-6BDB-4091-822D-70384450932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http://im6-tub-ua.yandex.net/i?id=137540964-60-72&amp;n=21"/>
          <p:cNvPicPr/>
          <p:nvPr/>
        </p:nvPicPr>
        <p:blipFill>
          <a:blip r:embed="rId3"/>
          <a:stretch/>
        </p:blipFill>
        <p:spPr>
          <a:xfrm>
            <a:off x="390600" y="255600"/>
            <a:ext cx="2822400" cy="2073240"/>
          </a:xfrm>
          <a:prstGeom prst="rect">
            <a:avLst/>
          </a:prstGeom>
          <a:ln w="0">
            <a:noFill/>
          </a:ln>
        </p:spPr>
      </p:pic>
      <p:grpSp>
        <p:nvGrpSpPr>
          <p:cNvPr id="248" name="Rectangle 3"/>
          <p:cNvGrpSpPr/>
          <p:nvPr/>
        </p:nvGrpSpPr>
        <p:grpSpPr>
          <a:xfrm>
            <a:off x="165240" y="2554200"/>
            <a:ext cx="2943000" cy="1798560"/>
            <a:chOff x="165240" y="2554200"/>
            <a:chExt cx="2943000" cy="1798560"/>
          </a:xfrm>
        </p:grpSpPr>
        <p:pic>
          <p:nvPicPr>
            <p:cNvPr id="249" name="Rectangle 3" descr=""/>
            <p:cNvPicPr/>
            <p:nvPr/>
          </p:nvPicPr>
          <p:blipFill>
            <a:blip r:embed="rId4"/>
            <a:stretch/>
          </p:blipFill>
          <p:spPr>
            <a:xfrm>
              <a:off x="165240" y="2554200"/>
              <a:ext cx="2943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0920" y="2643480"/>
              <a:ext cx="2771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  <a:ea typeface="Calibri"/>
                </a:rPr>
                <a:t>0 = Е                13=Р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  <a:ea typeface="Calibri"/>
                </a:rPr>
                <a:t>-5=Л                -20=И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19=О               -71=Х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-24=Д              -102,8=С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2060"/>
                  </a:solidFill>
                  <a:latin typeface="Times New Roman"/>
                </a:rPr>
                <a:t>14=М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251" name="Picture 5" descr="http://im0-tub-ua.yandex.net/i?id=393085382-04-72&amp;n=21"/>
          <p:cNvPicPr/>
          <p:nvPr/>
        </p:nvPicPr>
        <p:blipFill>
          <a:blip r:embed="rId5"/>
          <a:stretch/>
        </p:blipFill>
        <p:spPr>
          <a:xfrm>
            <a:off x="603360" y="4572000"/>
            <a:ext cx="2103480" cy="210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34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Острів «Успіх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7E86-073C-4209-A38F-DB26B14FE30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http://im6-tub-ua.yandex.net/i?id=137540964-60-72&amp;n=21"/>
          <p:cNvPicPr/>
          <p:nvPr/>
        </p:nvPicPr>
        <p:blipFill>
          <a:blip r:embed="rId2"/>
          <a:stretch/>
        </p:blipFill>
        <p:spPr>
          <a:xfrm>
            <a:off x="390600" y="255600"/>
            <a:ext cx="2822400" cy="2073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rcRect l="0" t="0" r="64" b="-44"/>
          <a:stretch/>
        </p:blipFill>
        <p:spPr>
          <a:xfrm>
            <a:off x="4500720" y="1628640"/>
            <a:ext cx="4174920" cy="4819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268200" y="2365200"/>
            <a:ext cx="3353040" cy="2225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im2-tub-ua.yandex.net/i?id=177560946-09-72&amp;n=21"/>
          <p:cNvPicPr/>
          <p:nvPr/>
        </p:nvPicPr>
        <p:blipFill>
          <a:blip r:embed="rId5"/>
          <a:stretch/>
        </p:blipFill>
        <p:spPr>
          <a:xfrm>
            <a:off x="1332000" y="4581360"/>
            <a:ext cx="1439640" cy="201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3728880" cy="59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Тестуванн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0920" y="1052280"/>
            <a:ext cx="446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іан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Розв’яжіть рівняння:  7,1 + у = – 1,8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у = – 5,3;              Б   у = 8,9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у = 5,3;                 Г  у = – 8,9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в’яжіть рівняння: – 5,2 + х = – 2,5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х = – 7,7;    Б    х = 7,7;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х = – 2,7;     Г    х = 2,7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числіть:  – 5,6 + (– 3,5 + 5,6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3,5;    Б    2,5;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– 3,5;    Г     – 2,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найдіть суму всіх цілих чисел, розташованих між  – 5,6 и 3,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3;    Б  – 11;    В   – 9;     Г    – 15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Швидкість човна за течією ріки 15,3 км/г. Знайдіть швидкість човна проти течії ріки та власну швидкість човна, якщо  швидкість течії ріки 4,5 км/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6,3 км/г; 10,8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  19,8 км/г; 10,8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4,5 км/г; 6,3 км/г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4,5 км/г; 5,4 км/г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8808-5089-4E51-9340-4B47843B519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Содержимое 2"/>
          <p:cNvSpPr/>
          <p:nvPr/>
        </p:nvSpPr>
        <p:spPr>
          <a:xfrm>
            <a:off x="4735440" y="981000"/>
            <a:ext cx="424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аріант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озв’яжіть рівняння: 3,8 + у = – 2,7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у = – 6,5;      Б    у = 6,5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у = – 1,1;       Г    у = 1,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в’яжіть рівняння: – 2,2 + х = – 5,5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х = – 7,7;       Б   х = 3,3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х = 7,7;          Г    х = – 3,3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числіть: – 11,9 + (– 6,7 + 11,9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6,7;        Б   5,6;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– 6,7;      Г    – 5,6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найдіть суму всіх цілих чисел, розташованих між  – 6,3 и 4,2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2;   Б    – 20;   В    – 9;   Г    – 1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Швидкість човна проти течії ріки 0,9 км/г . Власна швидкість човна – 3,2 км/г . Знайдіть швидкість течії ріки та швидкість човна за течією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4,1 км/г; 5,2 км/г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  2,3 км/г; 5,5 км/г;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5,4 км/г; 2,3 км/г;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    5,2 км/г; 6,4 км/г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Ключ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40435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 варіант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г, г, в, в, а           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 варіант: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onstantia"/>
              </a:rPr>
              <a:t>а, г, в, г, б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78C4-7127-4775-82B2-7E2DBCDEC27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im4-tub-ua.yandex.net/i?id=86578227-56-72&amp;n=21"/>
          <p:cNvPicPr/>
          <p:nvPr/>
        </p:nvPicPr>
        <p:blipFill>
          <a:blip r:embed="rId2"/>
          <a:stretch/>
        </p:blipFill>
        <p:spPr>
          <a:xfrm>
            <a:off x="4427640" y="2060640"/>
            <a:ext cx="3465360" cy="379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93500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77120" indent="-177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Оціночний лист  учня _________________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0351-B83D-4E02-BBD1-E22B228045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Таблица 4" descr=""/>
          <p:cNvPicPr/>
          <p:nvPr/>
        </p:nvPicPr>
        <p:blipFill>
          <a:blip r:embed="rId2"/>
          <a:stretch/>
        </p:blipFill>
        <p:spPr>
          <a:xfrm>
            <a:off x="176040" y="2620800"/>
            <a:ext cx="8571240" cy="2378160"/>
          </a:xfrm>
          <a:prstGeom prst="rect">
            <a:avLst/>
          </a:prstGeom>
          <a:ln w="0">
            <a:noFill/>
          </a:ln>
        </p:spPr>
      </p:pic>
      <p:sp>
        <p:nvSpPr>
          <p:cNvPr id="269" name="Содержимое 2"/>
          <p:cNvSpPr/>
          <p:nvPr/>
        </p:nvSpPr>
        <p:spPr>
          <a:xfrm>
            <a:off x="324000" y="5373720"/>
            <a:ext cx="856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 кількість балів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04617b"/>
                </a:solidFill>
                <a:latin typeface="Calibri"/>
              </a:rPr>
              <a:t>Мені було на уроці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_____________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252E-8B73-4AC4-AB4E-4BB98DB67FA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Содержимое 4" descr="C:\Documents and Settings\Admin\Local Settings\Temporary Internet Files\Content.IE5\IU32TZ7E\MM900286791[1].gif"/>
          <p:cNvPicPr/>
          <p:nvPr/>
        </p:nvPicPr>
        <p:blipFill>
          <a:blip r:embed="rId2"/>
          <a:stretch/>
        </p:blipFill>
        <p:spPr>
          <a:xfrm>
            <a:off x="3851280" y="3213000"/>
            <a:ext cx="38894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" name="Облако 5"/>
          <p:cNvSpPr/>
          <p:nvPr/>
        </p:nvSpPr>
        <p:spPr>
          <a:xfrm rot="20673600">
            <a:off x="144000" y="2162160"/>
            <a:ext cx="3129120" cy="151128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onstantia"/>
              </a:rPr>
              <a:t>Звичайно, матеріал засвоїв частков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Солнце 6"/>
          <p:cNvSpPr/>
          <p:nvPr/>
        </p:nvSpPr>
        <p:spPr>
          <a:xfrm>
            <a:off x="3527280" y="333360"/>
            <a:ext cx="5616720" cy="381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Легко, матеріал засвоїв повністю, можу застосовува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Овальная выноска 9"/>
          <p:cNvSpPr/>
          <p:nvPr/>
        </p:nvSpPr>
        <p:spPr>
          <a:xfrm flipH="1">
            <a:off x="826200" y="3716280"/>
            <a:ext cx="2305080" cy="1549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Ох! Важко, засвоїв не весь матеріа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3" descr="http://im2-tub-ua.yandex.net/i?id=192835582-27-72&amp;n=21"/>
          <p:cNvPicPr/>
          <p:nvPr/>
        </p:nvPicPr>
        <p:blipFill>
          <a:blip r:embed="rId3"/>
          <a:stretch/>
        </p:blipFill>
        <p:spPr>
          <a:xfrm>
            <a:off x="2627280" y="5229360"/>
            <a:ext cx="762120" cy="1333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ано числа: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-1; -2; -3; -4; -5; -6; -7; -8; -9; -10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Використовуючи кожне число тільки один раз, складіть три вірних рівнянн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27F-F8A8-47BD-A49E-D6ED61ECABF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2" descr="http://im1-tub-ua.yandex.net/i?id=376536291-29-72&amp;n=21"/>
          <p:cNvPicPr/>
          <p:nvPr/>
        </p:nvPicPr>
        <p:blipFill>
          <a:blip r:embed="rId2"/>
          <a:stretch/>
        </p:blipFill>
        <p:spPr>
          <a:xfrm>
            <a:off x="6300720" y="4437000"/>
            <a:ext cx="1760760" cy="2276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im5-tub-ua.yandex.net/i?id=410777872-41-72&amp;n=21"/>
          <p:cNvPicPr/>
          <p:nvPr/>
        </p:nvPicPr>
        <p:blipFill>
          <a:blip r:embed="rId3"/>
          <a:stretch/>
        </p:blipFill>
        <p:spPr>
          <a:xfrm>
            <a:off x="395280" y="4292640"/>
            <a:ext cx="2089080" cy="2320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http://im0-tub-ua.yandex.net/i?id=111557073-56-72&amp;n=21"/>
          <p:cNvPicPr/>
          <p:nvPr/>
        </p:nvPicPr>
        <p:blipFill>
          <a:blip r:embed="rId4"/>
          <a:stretch/>
        </p:blipFill>
        <p:spPr>
          <a:xfrm>
            <a:off x="6875640" y="692280"/>
            <a:ext cx="2017440" cy="2208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Мета уроку:</a:t>
            </a: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закріплення, повторення теоретичного матеріалу при розв’язанні вправ, зада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працювати вміння та навички використання правил додавання, віднімання чисел із різними зна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одальше поглиблення навичок розв’язання задач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озвивати мислення і математичне мовлення учнів, цікавість до предмету через нестандартні форми уро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ховувати працьовитість та співпрацю в колектив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9084-321F-438E-A0E0-BBCA069B129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Інструкта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500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177120" indent="-1771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Оціночний лист  учня _________________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649-B786-403E-BB1F-7299691166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Таблица 4" descr=""/>
          <p:cNvPicPr/>
          <p:nvPr/>
        </p:nvPicPr>
        <p:blipFill>
          <a:blip r:embed="rId2"/>
          <a:stretch/>
        </p:blipFill>
        <p:spPr>
          <a:xfrm>
            <a:off x="176040" y="2620800"/>
            <a:ext cx="8571240" cy="2378160"/>
          </a:xfrm>
          <a:prstGeom prst="rect">
            <a:avLst/>
          </a:prstGeom>
          <a:ln w="0">
            <a:noFill/>
          </a:ln>
        </p:spPr>
      </p:pic>
      <p:sp>
        <p:nvSpPr>
          <p:cNvPr id="206" name="Содержимое 2"/>
          <p:cNvSpPr/>
          <p:nvPr/>
        </p:nvSpPr>
        <p:spPr>
          <a:xfrm>
            <a:off x="324000" y="5373720"/>
            <a:ext cx="856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гальна кількість балів___________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565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Протока </a:t>
            </a:r>
            <a:br>
              <a:rPr sz="4500"/>
            </a:b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«Головне пит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5280" y="148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адача 1. Заповніть пусті клітинки в таблиц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517-2B6F-4BD9-A213-4149E6AD1E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Таблица 4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139240" cy="5035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http://im6-tub-ua.yandex.net/i?id=69033633-14-72&amp;n=21"/>
          <p:cNvPicPr/>
          <p:nvPr/>
        </p:nvPicPr>
        <p:blipFill>
          <a:blip r:embed="rId3"/>
          <a:stretch/>
        </p:blipFill>
        <p:spPr>
          <a:xfrm>
            <a:off x="324000" y="189000"/>
            <a:ext cx="2303280" cy="138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32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Протока </a:t>
            </a:r>
            <a:br>
              <a:rPr sz="4500"/>
            </a:br>
            <a:r>
              <a:rPr b="1" lang="uk-UA" sz="4500" spc="-1" strike="noStrike" u="sng">
                <a:solidFill>
                  <a:srgbClr val="04617b"/>
                </a:solidFill>
                <a:uFillTx/>
                <a:latin typeface="Calibri"/>
              </a:rPr>
              <a:t>«Головне пит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14839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адача 1. Заповніть пусті клітинки в таблиц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004-2A80-4640-A4D3-8017F2A87EE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Таблица 4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139240" cy="5035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im6-tub-ua.yandex.net/i?id=69033633-14-72&amp;n=21"/>
          <p:cNvPicPr/>
          <p:nvPr/>
        </p:nvPicPr>
        <p:blipFill>
          <a:blip r:embed="rId3"/>
          <a:stretch/>
        </p:blipFill>
        <p:spPr>
          <a:xfrm>
            <a:off x="6156360" y="189000"/>
            <a:ext cx="2303280" cy="138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Повторюємо правил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додати два числа з різними знаками, треб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знайти модулі цих чисел;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ід більшого модуля відняти менший;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еред одержаним числом поставити знак числа з більшим модулем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додати два від’ємних числа треб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знайти модулі доданк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одати модулі доданків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перед отриманим числом поставити знак “-”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Щоб від одного числа відняти інше, досить до зменшуваного додати число, протилежне від'ємнику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 -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= а + (-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де а і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— будь-які раціональні числа. Зокрема, а - а = а + (-а) = 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78B1-434B-4037-A607-2EA6DAD6141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Облако 4"/>
          <p:cNvSpPr/>
          <p:nvPr/>
        </p:nvSpPr>
        <p:spPr>
          <a:xfrm>
            <a:off x="6804000" y="1773360"/>
            <a:ext cx="1706760" cy="576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-8 +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Облако 5"/>
          <p:cNvSpPr/>
          <p:nvPr/>
        </p:nvSpPr>
        <p:spPr>
          <a:xfrm>
            <a:off x="5580000" y="2492280"/>
            <a:ext cx="2232000" cy="72072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[-8]=8; [3]=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Облако 6"/>
          <p:cNvSpPr/>
          <p:nvPr/>
        </p:nvSpPr>
        <p:spPr>
          <a:xfrm rot="21301200">
            <a:off x="5754240" y="3478320"/>
            <a:ext cx="2054160" cy="792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бо </a:t>
            </a: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8›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3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тод</a:t>
            </a:r>
            <a:r>
              <a:rPr b="1" lang="uk-UA" sz="1800" spc="-1" strike="noStrike">
                <a:solidFill>
                  <a:srgbClr val="002060"/>
                </a:solidFill>
                <a:latin typeface="Constantia"/>
              </a:rPr>
              <a:t>і 8-3=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Облако 7"/>
          <p:cNvSpPr/>
          <p:nvPr/>
        </p:nvSpPr>
        <p:spPr>
          <a:xfrm rot="21337200">
            <a:off x="7191360" y="4141800"/>
            <a:ext cx="1722600" cy="792000"/>
          </a:xfrm>
          <a:prstGeom prst="pie">
            <a:avLst/>
          </a:prstGeom>
          <a:solidFill>
            <a:srgbClr val="b5edfd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[-8]›[3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onstantia"/>
              </a:rPr>
              <a:t>-8+3=-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 u="sng">
                <a:solidFill>
                  <a:srgbClr val="04617b"/>
                </a:solidFill>
                <a:uFillTx/>
                <a:latin typeface="Calibri"/>
              </a:rPr>
              <a:t>Задач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onstantia"/>
              </a:rPr>
              <a:t>Знайти суму всіх цілих чисел від -499 до 5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Розвяза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Сума протилежних чисел дорівнює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, то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99+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[-498]+[-497]+…+497+498+499+500+501=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01+500+(-499+499)+(-497+497)+…+(-1+1)+0= 501+500+0+1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ідповідь: 100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5AD-6E92-4C16-8839-7E0AF1CE2B4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http://mediasubs.ru/group/uploads/bi/biznes-dlya-umnyih-i-lenivyih-glazami-opyitnyih-i-neznayuschih/image2/GUyLWEzOD.jpg"/>
          <p:cNvPicPr/>
          <p:nvPr/>
        </p:nvPicPr>
        <p:blipFill>
          <a:blip r:embed="rId2"/>
          <a:stretch/>
        </p:blipFill>
        <p:spPr>
          <a:xfrm>
            <a:off x="7236000" y="4076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«Розумна затока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476-A83C-4FEB-B095-4AEF793E97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2"/>
          <a:stretch/>
        </p:blipFill>
        <p:spPr>
          <a:xfrm>
            <a:off x="3486240" y="1908000"/>
            <a:ext cx="5486400" cy="4400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im4-tub-ua.yandex.net/i?id=138411902-67-72&amp;n=21"/>
          <p:cNvPicPr/>
          <p:nvPr/>
        </p:nvPicPr>
        <p:blipFill>
          <a:blip r:embed="rId3"/>
          <a:stretch/>
        </p:blipFill>
        <p:spPr>
          <a:xfrm>
            <a:off x="179280" y="2924280"/>
            <a:ext cx="372924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 u="sng">
                <a:solidFill>
                  <a:srgbClr val="04617b"/>
                </a:solidFill>
                <a:uFillTx/>
                <a:latin typeface="Calibri"/>
              </a:rPr>
              <a:t>«Розумна затока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0FC-D31A-443D-8CC8-EF36F200119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Содержимое 4" descr=""/>
          <p:cNvPicPr/>
          <p:nvPr/>
        </p:nvPicPr>
        <p:blipFill>
          <a:blip r:embed="rId2"/>
          <a:stretch/>
        </p:blipFill>
        <p:spPr>
          <a:xfrm>
            <a:off x="450720" y="1925640"/>
            <a:ext cx="4340520" cy="4408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://im4-tub-ua.yandex.net/i?id=138411902-67-72&amp;n=21"/>
          <p:cNvPicPr/>
          <p:nvPr/>
        </p:nvPicPr>
        <p:blipFill>
          <a:blip r:embed="rId3"/>
          <a:stretch/>
        </p:blipFill>
        <p:spPr>
          <a:xfrm>
            <a:off x="5003640" y="2637000"/>
            <a:ext cx="3729240" cy="2796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2-03T07:21:23Z</dcterms:modified>
  <cp:revision>13</cp:revision>
  <dc:subject/>
  <dc:title>Тема уроку  «Додавання та віднімання раціональних чисел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618000000000001024140</vt:lpwstr>
  </property>
</Properties>
</file>