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5.gif" ContentType="image/gif"/>
  <Override PartName="/ppt/media/image6.jpeg" ContentType="image/jpeg"/>
  <Override PartName="/ppt/media/image18.png" ContentType="image/png"/>
  <Override PartName="/ppt/media/image19.wmf" ContentType="image/x-wmf"/>
  <Override PartName="/ppt/media/chimes.wav" ContentType="audio/x-wav"/>
  <Override PartName="/ppt/media/image32.wmf" ContentType="image/x-wmf"/>
  <Override PartName="/ppt/media/image10.jpeg" ContentType="image/jpeg"/>
  <Override PartName="/ppt/media/image35.jpeg" ContentType="image/jpeg"/>
  <Override PartName="/ppt/media/image8.jpeg" ContentType="image/jpeg"/>
  <Override PartName="/ppt/media/image11.jpeg" ContentType="image/jpeg"/>
  <Override PartName="/ppt/media/image34.jpeg" ContentType="image/jpeg"/>
  <Override PartName="/ppt/media/voltage.wav" ContentType="audio/x-wav"/>
  <Override PartName="/ppt/media/image28.wmf" ContentType="image/x-wmf"/>
  <Override PartName="/ppt/media/image30.wmf" ContentType="image/x-wmf"/>
  <Override PartName="/ppt/media/image7.jpeg" ContentType="image/jpeg"/>
  <Override PartName="/ppt/media/image31.wmf" ContentType="image/x-wmf"/>
  <Override PartName="/ppt/media/image9.png" ContentType="image/png"/>
  <Override PartName="/ppt/media/image27.wmf" ContentType="image/x-wmf"/>
  <Override PartName="/ppt/media/hammer.wav" ContentType="audio/x-wav"/>
  <Override PartName="/ppt/media/image33.wmf" ContentType="image/x-wmf"/>
  <Override PartName="/ppt/media/explode.wav" ContentType="audio/x-wav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55B-EB56-496B-B445-9E245805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14F-A7B3-4201-B7F1-7C4A9BA1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E89-83A7-4CA2-885F-54B64205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E7D-428F-43A3-9BC3-3D2457E5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444-AEA1-4038-8D5B-FA9C6AD1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075-A971-4279-9DA1-1E13D6A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C68-C9F1-4D7F-B55C-D24FA22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96B9-908F-4F92-9455-667D60B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4A1C-65A9-4AE1-A437-DC1D4EB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79B-5990-484F-A4BE-9879133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629D-9352-4EF8-B65E-1C4B156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034-FF3F-4ECC-81B1-14F91C7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6B36-851B-47F6-838B-18D1F49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BCD-7E9C-48A3-AB94-80033FB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BD60-3CA3-4620-B7D7-2F4346F6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C4B3-E7F3-48C1-AF21-DDF8B516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7F50-EA57-419D-B079-30C07E90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D321-6EDB-4115-926E-5283D42D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273F-8BC9-4448-BA42-F1D4050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5FD8-71F9-4472-9274-AFBD870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12A5-E9EF-4943-875C-6FB1C226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AB77-64E3-4F88-89CA-9427016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25D-8336-4180-BA94-31F0132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868E-501F-428B-A4B6-E6E24D2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9734-B08F-4827-99CD-3480291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C1AA-C1E0-4729-93AB-3D65146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CB68-1CC8-4436-B05E-6E2B550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BCCD-74A2-4929-9CD7-01EBF2E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BE20-0883-40BF-A09C-9E238318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7E08-01E5-4405-A723-08CB2676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53D3-7B1E-4447-948A-D28E4301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3E15-C6C0-4133-A64A-2F5AC3B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1F86-BFF0-41AF-A507-3763D4EC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C9C-B324-4EAA-88CF-90970D9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9B04-53AB-45E3-B749-CDE8B645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D2115-F2E2-4A3E-A36A-D1FDFB43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952A-A8EC-4A3F-9CCA-4BE0D153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34BF-8E9A-4448-B9FC-07E22CD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D706-8B07-4CB3-B69A-6F52136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8FB9-1B08-4625-AB0F-5D1244C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555F-05DF-41C3-89E6-5AA26335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358C-9608-4201-AD10-1AD9036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4F6D-23D9-4140-BE2F-933E2B0B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9EB9-8200-4A33-81DA-93BDBFDD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305-5D4A-4324-B49E-25B4CED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E2DED-ADA5-452B-A9E7-0F2E0EB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7A24-3439-4022-8AA4-2103B51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73BA-0DB8-49BF-ACC8-E9B9310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BF99-A701-45BA-8897-758F7B90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8E3A-BEAF-4C12-9F17-9EF392E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23889-8366-472F-A375-80188A4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B943-C58B-4F5B-82D9-08EC1A8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37ED-968A-43A0-B027-E083B519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80A5-E019-4816-8812-207A1DE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E3F3-8D68-4B8E-9D30-E731BDE2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A6C-6188-4FE2-8B63-F16B872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16B5-DD6C-44A0-B1FF-2E3C60E8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EAFF4-7166-4565-8506-8643BFB3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931A-BFC7-4508-A966-7B00CCAE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65B3-60EF-40FB-B99C-0810EBB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9320-D3D0-40E9-8696-DC1D633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011C-BFF9-4F8D-9802-BA51FB7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0030-720B-42D9-8433-D37DC82C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59C9-01B0-45FD-88FE-07C8CD1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A673-301D-482A-93CC-3741AD0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B018-1A2B-4591-90E3-5635EF9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20E-EA2F-43AE-BCF6-7DFDC8B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E38A-68E7-4ED0-829F-F63E2715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DCED-CF99-45C5-8704-6AD8368E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AEA7-D867-4746-A81C-F76092A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1E4C-5E18-4238-B4E0-C839735F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ED10D-C1BE-44C9-854B-3D4B4EB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EB21-63F3-49C4-9668-5DBF524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3A4BE-C769-43AE-8755-98D778D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0A26-A1E0-4D07-A1C2-ABDA7639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F6C9-315E-45A9-AA62-8439A2D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D8B9-29F5-4729-ACE0-15AD65A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701-483E-4776-98C0-39EDB75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1B7B3-4A34-4B9F-80DC-AEBB240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048C-BF2C-4FF4-BFA0-368A8E4B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A9604-E78B-4AF3-ADFE-E59A500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FC66-E942-4E14-AAAD-1D8E28CE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94AFB-0164-4F0D-8C0C-2FCDC6BF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F04C-35F1-4153-B898-81C8E62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61D8-EE46-49A0-9939-817BDB5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C58B-E026-4BEC-AA85-C1387DA3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86CF8-F264-44AB-9ABB-981D38F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593C-7284-43E5-B9FD-8C21F591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A8A-52AD-4750-98E9-B2D7915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2B36-2ACB-4D5D-BE8E-625B72B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A491-F792-464F-AC70-168B6D8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5437C-1EBB-4734-8871-F1496E0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CDB0-B364-4D04-B49F-FF03ACD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3A5F-3BCE-4F61-BEBE-962A1DAF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39D7C-7AC0-4B8B-9205-2AB9834F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48DB-654C-4B7A-9F46-8FA74FDB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00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EF4-EBDC-4575-97FC-CF2CBD4FB1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F50-2F3F-47B0-A5B6-C0445673EB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DD0-56D8-433A-AAC6-B35E22159D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682-ABD1-4904-8DD6-CEC2689E2D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C74-0CA6-4C7B-B89D-603B5FBC3C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DFCB-4B5E-4F68-A894-8FAEF3CF0B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A75-5ADD-4973-B15A-857E69B6D32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6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7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32A3-AB46-4427-A6EC-D6CA1887DA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gif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5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Ідея уроку реалізована вчителем математики  </a:t>
            </a: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пеціалізованої загальноосвітньої              школи І-ІІІ ступенів “Надія”</a:t>
            </a:r>
            <a:r>
              <a:rPr b="0" lang="uk-UA" sz="5400" spc="-1" strike="noStrike">
                <a:solidFill>
                  <a:srgbClr val="ffffff"/>
                </a:solidFill>
                <a:latin typeface="Georgia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Georgia"/>
              </a:rPr>
              <a:t>смт.Чернігівка Запорізької област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ffffff"/>
                </a:solidFill>
                <a:uFillTx/>
                <a:latin typeface="Georgia"/>
              </a:rPr>
              <a:t>Ларисою Нестеру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3485-F1B1-47B3-AC90-08A40B9AEC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Теоре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асевич Серг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932360" cy="43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672D-255C-48B1-96B4-0F0588F14E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-23040" y="1175400"/>
            <a:ext cx="8979840" cy="5291280"/>
            <a:chOff x="-23040" y="1175400"/>
            <a:chExt cx="8979840" cy="5291280"/>
          </a:xfrm>
        </p:grpSpPr>
        <p:sp>
          <p:nvSpPr>
            <p:cNvPr id="486" name=""/>
            <p:cNvSpPr/>
            <p:nvPr/>
          </p:nvSpPr>
          <p:spPr>
            <a:xfrm>
              <a:off x="-23040" y="3134160"/>
              <a:ext cx="5238000" cy="33325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8800" y="1175400"/>
              <a:ext cx="5238000" cy="2155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87360" y="352656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9080" y="5289840"/>
              <a:ext cx="5616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57200" y="5682240"/>
              <a:ext cx="74844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31960" y="4311360"/>
              <a:ext cx="7470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67600" y="1762920"/>
              <a:ext cx="56016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3400" y="1370880"/>
              <a:ext cx="74880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2720" y="1958400"/>
              <a:ext cx="748800" cy="5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847880" y="2155320"/>
              <a:ext cx="2806560" cy="15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905640" y="2351160"/>
              <a:ext cx="748800" cy="35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092480" y="2155680"/>
              <a:ext cx="3366720" cy="25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473840" y="1762560"/>
              <a:ext cx="4676040" cy="37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56A-A263-4573-88A5-7B3B28E07F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3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51280" y="1744560"/>
            <a:ext cx="0" cy="51134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4149720"/>
            <a:ext cx="74883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24720" y="3645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1200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400536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2060640"/>
            <a:ext cx="5977080" cy="4295880"/>
          </a:xfrm>
          <a:custGeom>
            <a:avLst/>
            <a:gdLst/>
            <a:ahLst/>
            <a:rect l="l" t="t" r="r" b="b"/>
            <a:pathLst>
              <a:path w="3765" h="2706">
                <a:moveTo>
                  <a:pt x="0" y="2169"/>
                </a:moveTo>
                <a:cubicBezTo>
                  <a:pt x="242" y="1084"/>
                  <a:pt x="484" y="0"/>
                  <a:pt x="907" y="83"/>
                </a:cubicBezTo>
                <a:cubicBezTo>
                  <a:pt x="1330" y="166"/>
                  <a:pt x="2064" y="2630"/>
                  <a:pt x="2540" y="2668"/>
                </a:cubicBezTo>
                <a:cubicBezTo>
                  <a:pt x="3016" y="2706"/>
                  <a:pt x="3561" y="702"/>
                  <a:pt x="3765" y="30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378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0360" y="3716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08000" y="213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6237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835280" y="2060640"/>
            <a:ext cx="7272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643280" y="4076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00720" y="3716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442584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67120" y="21225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6237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03840" y="15764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2133720"/>
            <a:ext cx="1429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6237360"/>
            <a:ext cx="142560" cy="144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200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564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4076640"/>
            <a:ext cx="14472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4076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0520" y="6186240"/>
            <a:ext cx="102600" cy="101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060640"/>
            <a:ext cx="144360" cy="14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2E64-1042-4783-AA69-34CC1043E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Дослідн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пара Натал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окирко Я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сол Дар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49323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98EF1-6737-4555-9692-251FD74CC2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9795-5749-423E-B902-BB4E5759A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35640" y="333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2000" y="981000"/>
            <a:ext cx="4392720" cy="46069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00720" y="765000"/>
            <a:ext cx="1584000" cy="4753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08360" y="2565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867280" y="249228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1125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26920" y="4221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a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1840" y="37368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4836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12000" y="551664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316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E4EF-4785-466A-AA27-629DBCC039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64000" y="333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1557360"/>
            <a:ext cx="5832360" cy="4105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987640" y="278136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3708360" cy="9572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55480" y="4714920"/>
            <a:ext cx="22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39840" y="4714920"/>
            <a:ext cx="21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8760" y="414972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39840" y="4425840"/>
            <a:ext cx="25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0&lt;a&l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19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5589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20440" y="522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F876F-3785-48D4-94D6-70E49FD48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87280" y="3933720"/>
            <a:ext cx="770580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8360" y="3500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-674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51280" y="4005360"/>
            <a:ext cx="2881440" cy="28526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11120" y="47451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31120" y="13413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393372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84720" y="393372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04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4C73-A861-4E83-BBC5-294A9BAA5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187280" y="5516640"/>
            <a:ext cx="770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500720" y="333000"/>
            <a:ext cx="71280" cy="583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cc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928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94172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59480" y="39384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372360" y="3573000"/>
            <a:ext cx="0" cy="792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364500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867280" y="331920"/>
            <a:ext cx="3276720" cy="819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27640" y="544500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9272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92720" y="494172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4EF7-4E42-469F-803C-FD67A6F332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6.38889E-006 -4.62428E-006 L 6.38889E-006 -0.1993 E">
                                      <p:cBhvr>
                                        <p:cTn id="261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 flipV="1">
            <a:off x="4500720" y="692280"/>
            <a:ext cx="0" cy="6597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2000" y="0"/>
            <a:ext cx="288000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32000" y="0"/>
            <a:ext cx="2880000" cy="4653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588000" y="3716280"/>
            <a:ext cx="0" cy="720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64200" y="4067280"/>
            <a:ext cx="9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48360" y="3357720"/>
            <a:ext cx="122400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99"/>
                </a:solidFill>
                <a:latin typeface="Arial"/>
              </a:rPr>
              <a:t>-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88000" y="765000"/>
            <a:ext cx="14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459640" y="42926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335640" y="549360"/>
            <a:ext cx="2808360" cy="8269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427640" y="4581360"/>
            <a:ext cx="21564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35640" y="4508640"/>
            <a:ext cx="216000" cy="142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4005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551B-7B5F-40F9-AB85-8A8A49DF3A56}" type="slidenum">
              <a:t>19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2.5E-006 4.62428E-007 L 2.5E-006 0.14682 E">
                                      <p:cBhvr>
                                        <p:cTn id="307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cc6600"/>
                </a:solidFill>
                <a:latin typeface="Arial Black"/>
              </a:rPr>
              <a:t>Тема уроку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Графіки і функції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399A-AEBA-4675-BD85-32557D325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3640" y="40464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92360" y="83664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119640" y="29700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419640" y="6021360"/>
            <a:ext cx="10080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67120" y="582444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l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87640" y="544500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128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51280" y="5013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651D-2EA2-4B6B-8DB3-4BEDC6A7CE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72222E-006 -3.81503E-006 L 0.28351 -3.81503E-006 E">
                                      <p:cBhvr>
                                        <p:cTn id="34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5589720"/>
            <a:ext cx="77058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40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8360" y="5229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292720" y="47592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51280" y="907920"/>
            <a:ext cx="2879640" cy="468000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51280" y="981000"/>
            <a:ext cx="2879640" cy="460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119640" y="260280"/>
            <a:ext cx="3024360" cy="7556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19280" y="56610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, а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634920" y="6165720"/>
            <a:ext cx="107964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1964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0360" y="5516640"/>
            <a:ext cx="21600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0360" y="50133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AB60E-4839-40A7-9E00-0F7612AA93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4.44444E-006 -3.17919E-006 L -0.37013 -0.01063 E">
                                      <p:cBhvr>
                                        <p:cTn id="383" dur="5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87280" y="4653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132000" y="33300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476280"/>
            <a:ext cx="2806920" cy="4132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32000" y="692280"/>
            <a:ext cx="2735280" cy="3987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381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4221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78880" y="26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8472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465300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59480" y="5651640"/>
            <a:ext cx="30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22760" y="5651640"/>
            <a:ext cx="18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76720" y="5013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5084640"/>
            <a:ext cx="16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(-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5928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564000" y="4581360"/>
            <a:ext cx="144360" cy="142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407664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9900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69D8-5333-4E06-BBF5-47D63B452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-8.33333E-007 -1.32948E-006 L -0.29514 -0.00393 E">
                                      <p:cBhvr>
                                        <p:cTn id="422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ракт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оса Анастас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стеренко Крис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ивак Вас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9323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B27C-507D-40AC-8EF5-C42B2D0536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136160" y="2924280"/>
            <a:ext cx="800748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и належить графіку функції т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( 2; -10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(-2;100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(-1/5;-1)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(-1;25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60720" cy="28810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55640" y="260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0"/>
            <a:ext cx="7921440" cy="1700280"/>
          </a:xfrm>
          <a:prstGeom prst="cloudCallout">
            <a:avLst>
              <a:gd name="adj1" fmla="val -42143"/>
              <a:gd name="adj2" fmla="val 5933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404640"/>
            <a:ext cx="5761080" cy="862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Підставте координати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6600"/>
                </a:solidFill>
                <a:latin typeface="Georgia"/>
              </a:rPr>
              <a:t>у функцію та перевірте рівні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651640" y="364500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96000" y="414972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21480" y="465300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96000" y="53006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74241-A587-4EA0-8526-4D2A2B6542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виконуючи побудови, знайдіть координат точок перетину парабо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ямої: а) у=30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)  у=-150х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)у=6-3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3095640" cy="10080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0"/>
            <a:ext cx="7451640" cy="1989000"/>
          </a:xfrm>
          <a:prstGeom prst="cloudCallout">
            <a:avLst>
              <a:gd name="adj1" fmla="val -37259"/>
              <a:gd name="adj2" fmla="val 2893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8367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00000" y="549360"/>
            <a:ext cx="6249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ирівняйте праві частини та розв</a:t>
            </a:r>
            <a:r>
              <a:rPr b="1" lang="en-GB" sz="2000" spc="-1" strike="noStrike">
                <a:solidFill>
                  <a:srgbClr val="cc6600"/>
                </a:solidFill>
                <a:latin typeface="Georgia"/>
              </a:rPr>
              <a:t>’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яжі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держані рівнян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80000" y="4076640"/>
            <a:ext cx="30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0;300) В(-10;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51640" y="4653000"/>
            <a:ext cx="30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0;0) В(-50;75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724360" y="530064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А(1;3) В(-2;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6A69-DD2A-4DD6-9FAB-2D38367471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шаблоном графіка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и функції :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236000" y="1916280"/>
            <a:ext cx="1584000" cy="7189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376720" cy="792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2089080" cy="9399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1944720" cy="863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0" y="333360"/>
            <a:ext cx="6804000" cy="1295280"/>
          </a:xfrm>
          <a:prstGeom prst="cloudCallout">
            <a:avLst>
              <a:gd name="adj1" fmla="val -31615"/>
              <a:gd name="adj2" fmla="val 61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26920" y="692280"/>
            <a:ext cx="480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властивост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  </a:t>
            </a: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функції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6804000" y="0"/>
            <a:ext cx="2340000" cy="19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FE15-5BD1-4A2E-80D5-258B37B09F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будувати графік функції і сформулювати властивості функ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050920" y="4941720"/>
            <a:ext cx="3313080" cy="935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11280" y="260280"/>
            <a:ext cx="6624720" cy="2305080"/>
          </a:xfrm>
          <a:prstGeom prst="cloudCallout">
            <a:avLst>
              <a:gd name="adj1" fmla="val -44777"/>
              <a:gd name="adj2" fmla="val 6315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217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42920" y="260280"/>
            <a:ext cx="54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Область визначення та зна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Нулі фун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ростання та спа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Проміжки знакостал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173E-A657-48D2-B7FC-5825A047BC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708000" y="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29272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200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-1539720"/>
            <a:ext cx="3456000" cy="496872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88000" y="3357720"/>
            <a:ext cx="216000" cy="1425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3080" y="3213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(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124000" y="5084640"/>
            <a:ext cx="5256360" cy="12621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4500720" y="4508640"/>
            <a:ext cx="66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8C68-8CA1-4141-9405-ABFFF2217A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3200" spc="-1" strike="noStrike">
                <a:solidFill>
                  <a:srgbClr val="cc6600"/>
                </a:solidFill>
                <a:latin typeface="Arial Black"/>
              </a:rPr>
              <a:t>Побудуйте графік функції</a:t>
            </a: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4762800" cy="1401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4905360" cy="1467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250920" y="333360"/>
            <a:ext cx="7057800" cy="1655640"/>
          </a:xfrm>
          <a:prstGeom prst="cloudCallout">
            <a:avLst>
              <a:gd name="adj1" fmla="val -41430"/>
              <a:gd name="adj2" fmla="val 5786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6946920" y="0"/>
            <a:ext cx="2197080" cy="22176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23840" y="76032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6600"/>
                </a:solidFill>
                <a:latin typeface="Georgia"/>
              </a:rPr>
              <a:t>Скористайтеся означенням моду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F24A7-1916-426D-B3D3-246BB3542E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План уроку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тивація навчальної діяльності. Ознайомлення з методом проек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істор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теоре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дослідн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практ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іт експер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машнє завд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C17FE-5694-4F91-93E5-D1A4FA9C8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780000" y="0"/>
            <a:ext cx="14256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48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40360" y="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364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0"/>
            <a:ext cx="0" cy="61196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43280" y="404640"/>
            <a:ext cx="331344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43280" y="-17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971640" y="404640"/>
            <a:ext cx="360036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716360" y="115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340000" y="5589720"/>
            <a:ext cx="5256360" cy="10033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6720" y="4869000"/>
            <a:ext cx="730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32720" y="4869000"/>
            <a:ext cx="7128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32000" y="4869000"/>
            <a:ext cx="71640" cy="7272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0000" y="4797360"/>
            <a:ext cx="71280" cy="7164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67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3272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43280" y="450864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08000" y="4508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1C91-4231-4529-9B7E-5DB9E1C697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500720" y="0"/>
            <a:ext cx="72720" cy="590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87280" y="4869000"/>
            <a:ext cx="7632720" cy="7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708000" y="189000"/>
            <a:ext cx="14292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500720" y="189000"/>
            <a:ext cx="7128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9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1200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32720" y="189000"/>
            <a:ext cx="0" cy="604836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51640" y="0"/>
            <a:ext cx="0" cy="597708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132000" y="260280"/>
            <a:ext cx="0" cy="590544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11280" y="44280"/>
            <a:ext cx="0" cy="612000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87280" y="4149720"/>
            <a:ext cx="79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87280" y="3429000"/>
            <a:ext cx="705672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7280" y="263700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92360" y="1989000"/>
            <a:ext cx="705636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619280" y="1268280"/>
            <a:ext cx="633744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92360" y="476280"/>
            <a:ext cx="590400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03280" y="5589720"/>
            <a:ext cx="6985080" cy="0"/>
          </a:xfrm>
          <a:prstGeom prst="line">
            <a:avLst/>
          </a:prstGeom>
          <a:ln w="9360">
            <a:solidFill>
              <a:srgbClr val="f05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43280" y="404640"/>
            <a:ext cx="3456000" cy="496908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23120" y="4508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-10008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7672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40360" y="4508640"/>
            <a:ext cx="863640" cy="43308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71640" y="404640"/>
            <a:ext cx="3529080" cy="4897440"/>
          </a:xfrm>
          <a:custGeom>
            <a:avLst/>
            <a:gdLst/>
            <a:ahLst/>
            <a:rect l="l" t="t" r="r" b="b"/>
            <a:pathLst>
              <a:path w="1814" h="2948">
                <a:moveTo>
                  <a:pt x="0" y="0"/>
                </a:moveTo>
                <a:cubicBezTo>
                  <a:pt x="302" y="1474"/>
                  <a:pt x="605" y="2948"/>
                  <a:pt x="907" y="2948"/>
                </a:cubicBezTo>
                <a:cubicBezTo>
                  <a:pt x="1209" y="2948"/>
                  <a:pt x="1511" y="1474"/>
                  <a:pt x="1814" y="0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0000" y="4437000"/>
            <a:ext cx="863640" cy="433440"/>
          </a:xfrm>
          <a:custGeom>
            <a:avLst/>
            <a:gdLst/>
            <a:ahLst/>
            <a:rect l="l" t="t" r="r" b="b"/>
            <a:pathLst>
              <a:path w="544" h="182">
                <a:moveTo>
                  <a:pt x="0" y="182"/>
                </a:moveTo>
                <a:cubicBezTo>
                  <a:pt x="90" y="91"/>
                  <a:pt x="181" y="0"/>
                  <a:pt x="272" y="0"/>
                </a:cubicBezTo>
                <a:cubicBezTo>
                  <a:pt x="363" y="0"/>
                  <a:pt x="499" y="152"/>
                  <a:pt x="544" y="182"/>
                </a:cubicBezTo>
              </a:path>
            </a:pathLst>
          </a:custGeom>
          <a:noFill/>
          <a:ln w="38160">
            <a:solidFill>
              <a:srgbClr val="f05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411280" y="5661000"/>
            <a:ext cx="4969080" cy="9907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68770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868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45813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51120" y="5291280"/>
            <a:ext cx="1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413080" y="458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946A-4883-424B-AB60-3FCCCE2664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Статист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фіменко Антон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72C32-9672-4D9A-9FF9-0A3DC9A363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1026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ізвище, і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ід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кт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. р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раф оці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севич Сер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са Анастас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ай Іг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іла Ол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фіменко Ан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ченко Ів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хман Тет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енко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ра Натал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сол Дар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чич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вак Васи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ирко Я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ишин 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ян Т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51BF-13DC-47AE-AE5D-F09C28C9FC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Комп</a:t>
            </a:r>
            <a:r>
              <a:rPr b="1" lang="en-GB" sz="4400" spc="-1" strike="noStrike">
                <a:solidFill>
                  <a:srgbClr val="cc6600"/>
                </a:solidFill>
                <a:latin typeface="Arial Black"/>
              </a:rPr>
              <a:t>’</a:t>
            </a: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ютерна груп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айдай І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харченко І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едоришин Дми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1292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6654-8BC7-45CC-82D6-DA69FCEFEC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6600"/>
                </a:solidFill>
                <a:latin typeface="Arial Black"/>
              </a:rPr>
              <a:t>Домашнє завдання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вторити : п.7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ати: № 331(1,2); 332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датково: Тести “ Перевір себе” ст.1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72D8-A4D4-483A-B335-A32B1D4E48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6600"/>
                </a:solidFill>
                <a:latin typeface="Arial Black"/>
              </a:rPr>
              <a:t>Істор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ехман Тет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манчич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Шиян 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003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8596-1E8F-45F1-AE3D-9E56163DC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03640" cy="453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11120" y="5506920"/>
            <a:ext cx="380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30760" y="5651640"/>
            <a:ext cx="394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07120" y="5794200"/>
            <a:ext cx="30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51664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єр Фе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(1601-16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45C0-5D7B-40B8-9C09-E313301503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184720" cy="5040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68360" y="5445000"/>
            <a:ext cx="4521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с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1643- 17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5906-157F-433A-A7D7-376426EC5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033800" cy="4968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757680" cy="50101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4859280" y="537372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Йоганн Бернул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67-17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360" y="551664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Георг Лейбні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4D49-DDAB-4D2A-BA53-4AFAAB0DF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821400" cy="4525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4038480" cy="4451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9280" y="515772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Жан Лерон 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лам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1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5445000"/>
            <a:ext cx="38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еонард Е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0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8C287-E4D9-4C7C-BE18-369C9DFEBB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105440" cy="4681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183280" y="0"/>
            <a:ext cx="3960720" cy="471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44500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Микола Лобачев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792-18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3280" y="5516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етер Діріх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(1805-18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5AC5-02FE-42D4-B1AE-BAE1A1BFD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9:34:00Z</dcterms:created>
  <dc:creator>Администратор</dc:creator>
  <dc:description/>
  <dc:language>en-US</dc:language>
  <cp:lastModifiedBy>Larisa</cp:lastModifiedBy>
  <dcterms:modified xsi:type="dcterms:W3CDTF">2014-01-30T11:12:26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e000000000001024140</vt:lpwstr>
  </property>
</Properties>
</file>