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5.gif" ContentType="image/gif"/>
  <Override PartName="/ppt/media/image6.jpeg" ContentType="image/jpeg"/>
  <Override PartName="/ppt/media/image18.png" ContentType="image/png"/>
  <Override PartName="/ppt/media/image19.wmf" ContentType="image/x-wmf"/>
  <Override PartName="/ppt/media/chimes.wav" ContentType="audio/x-wav"/>
  <Override PartName="/ppt/media/image32.wmf" ContentType="image/x-wmf"/>
  <Override PartName="/ppt/media/image10.jpeg" ContentType="image/jpeg"/>
  <Override PartName="/ppt/media/image35.jpeg" ContentType="image/jpeg"/>
  <Override PartName="/ppt/media/image8.jpeg" ContentType="image/jpeg"/>
  <Override PartName="/ppt/media/image11.jpeg" ContentType="image/jpeg"/>
  <Override PartName="/ppt/media/image34.jpeg" ContentType="image/jpeg"/>
  <Override PartName="/ppt/media/voltage.wav" ContentType="audio/x-wav"/>
  <Override PartName="/ppt/media/image28.wmf" ContentType="image/x-wmf"/>
  <Override PartName="/ppt/media/image30.wmf" ContentType="image/x-wmf"/>
  <Override PartName="/ppt/media/image7.jpeg" ContentType="image/jpeg"/>
  <Override PartName="/ppt/media/image31.wmf" ContentType="image/x-wmf"/>
  <Override PartName="/ppt/media/image9.png" ContentType="image/png"/>
  <Override PartName="/ppt/media/image27.wmf" ContentType="image/x-wmf"/>
  <Override PartName="/ppt/media/hammer.wav" ContentType="audio/x-wav"/>
  <Override PartName="/ppt/media/image33.wmf" ContentType="image/x-wmf"/>
  <Override PartName="/ppt/media/explode.wav" ContentType="audio/x-wav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0C0-3B18-4633-B45E-430DF4F5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1DE-3A88-4FD0-B4F9-715F8B9A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B56-1867-420C-8CDB-4BA69D87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646-1EAB-4F9B-8D3A-BD4A6DB3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F31A-D486-4B71-B3B1-0C59A82F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33F-8683-4E9E-A898-B517B4C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E13-8377-47DF-861A-45F9608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1F17-D5E0-4C65-88DD-86E3EE03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479-729E-4C83-9A96-9F1A004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7E1-17E5-4C9F-99A3-19F8403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71A-D2CE-4414-A852-E2BF7E0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A15-78E3-4896-99A4-D2099D6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6C07-06E9-4C12-AE47-AB91956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D8A5-721F-4D90-8046-34FB724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D999-33A1-4B5A-880F-6EE3771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A20-1F37-4E9E-9228-70F32E8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0CB-D4DB-42D0-AE9E-133FD96C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7373-05FC-442A-9592-4852E46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6E19-4F9B-4789-BBAF-0D234ED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55F0-BD92-4330-84BA-2054B680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FD77-90F6-4A59-A46A-6B781C2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6C91-8C42-4C88-A4E4-6F2BAF92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5FA-0E82-4205-870D-533F84E1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8874-5ADF-49CC-8562-31BBD11F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9FA4-F343-496D-9BBC-07306BE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6E6E-348E-4E47-9A9B-5B5C0A9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CB28-017B-4876-90C9-0DC6DBC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A0DC-D074-4962-A79B-656B1F0F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DB27-6794-4D76-8862-9C03B8C4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A736-29A0-468A-99D1-F240DAA3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0842-C2E4-400F-A605-EEA825BA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CE65-4436-4317-AB72-6E02249E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236E-7CD3-452D-B6EB-804F1F3F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5FC-8DC5-459C-B8E5-C7854E9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5ECC-F29B-40CE-9251-0435964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D23A-F52A-48EB-A195-D142B07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06CA-442B-49A4-8EA6-B7977C2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3617-6675-42A8-9326-07AA542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CDD2-3938-43A1-84F2-143BD24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718F-EA9E-4947-AA51-7DE33EE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2D19-E84C-4DD7-AECC-D46A743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F958-513E-4485-99B7-E11E20B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89CD-3C68-46BA-B39E-5C56548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5A98-9514-4AF9-BF99-336B0DF0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FFD-95EF-490B-A41B-A12E7AF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D125-32C9-41AB-BD0B-C8B081A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FC10-C001-48F7-A34F-760B2F6A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CB53-778E-4548-9E7E-8C3A9A8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1B59-D18F-46EE-B938-3A17BD6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5631-07B9-4C50-A39B-B2C16D1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0CC45-6B9D-4427-98CB-B53275A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E7AA-1FA8-4C4A-B0E9-A4604DA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1D424-8011-418D-A1FE-45FA9AA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99F8-1594-4124-B23F-A02BB95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048E-690B-4CB6-A85E-CA8219EE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65B-25C8-4E38-A760-52959CD7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5C17-2A94-4D66-95D2-C0BD4975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B915-4D53-42C7-8561-B22E72A4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DA8C-A964-4A5A-91EE-58514230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E808-41F0-4F4E-B662-16919EDF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9BEE7-3CD2-47D1-9379-446BFF5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FB24-ACEA-4422-84D1-09A713D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51DF-F893-4EFE-A46F-CFBB3891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37E3-6757-49D2-9905-26E4E7C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B229-17ED-4DB4-8E83-31D5DD8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BE37-D340-45A6-B465-051A3D4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6C6-3ADA-4707-B750-F3EEB64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FC8E-8B70-4BF7-B6D3-17212A83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1D1D-553C-43E8-A275-AF40CA63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D6FA-44ED-46B9-8FAA-E127CB14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D43F-875B-4CC9-A6D2-A4062376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A54B-D200-4A4C-ACCB-F6C0DD7A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EA37-DF35-4C46-843F-88C7E5A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7534-8459-42A4-8731-4AC61F1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A450-099E-40A3-B292-28769639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B512B-EFC6-495D-9975-4593B05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D99E6-A17C-431A-B7EA-65AB62D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CBF-FD0D-4665-8E8C-DF6F35D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2F8E-15E1-4D9F-A74B-AB19DFC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5132-5E6E-4941-865E-D2DF67A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1D0C8-0D5A-4F5D-8DBE-3172083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A7E5B-B295-4D93-8B0E-AE01FB4F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AF815-43E8-4ADC-9C58-9676A884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2F179-EB9D-48F8-A37E-1251369B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4CA5-E087-45EB-9D1C-E277C4B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9A9D-B031-4D37-8287-DBE0388D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EEDC-51B8-4F61-993A-8FF1534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0728-E322-4AA1-8EB5-B4660EC3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60A-BE7B-43BE-888B-27198A8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08D1-3FBF-4243-9C86-98EDF63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3EF8-E27F-4A35-A714-3EE96DB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7D98-E7C8-44F4-9216-489D004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4AE08-6559-4077-AA45-E39FB620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1580F-C940-40F6-8D7E-BA37080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7D50-ED7B-40CD-9E8E-52960E8B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EB63-EAA4-4F3F-9621-77B0280B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00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664C-06E0-4245-9AEA-87706D220C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CD63-D3E6-4FDB-8D33-0E4ADDCDAB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388-E3F7-4F8B-8BBD-ED417731AE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B416-333B-4938-B3C4-225C190388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79FB-C763-43FD-AD61-FC3407F69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C5CE-BF5F-4141-8E0F-3F179D432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FD48-B9E2-4A73-B30E-6F534A62D8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6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7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F83-8E40-4ED2-98AC-A1A957504F5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gif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5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Ідея уроку реалізована вчителем математики  </a:t>
            </a: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пеціалізованої загальноосвітньої              школи І-ІІІ ступенів “Надія”</a:t>
            </a: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мт.Чернігівка Запорізької област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ffffff"/>
                </a:solidFill>
                <a:uFillTx/>
                <a:latin typeface="Georgia"/>
              </a:rPr>
              <a:t>Ларисою Нестеру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6F36-B447-4865-80D2-748DC13FD4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Теоре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асевич Серг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932360" cy="43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C1A6-729D-4074-8CBE-189376E5D2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-23040" y="1175400"/>
            <a:ext cx="8979840" cy="5291280"/>
            <a:chOff x="-23040" y="1175400"/>
            <a:chExt cx="8979840" cy="5291280"/>
          </a:xfrm>
        </p:grpSpPr>
        <p:sp>
          <p:nvSpPr>
            <p:cNvPr id="486" name=""/>
            <p:cNvSpPr/>
            <p:nvPr/>
          </p:nvSpPr>
          <p:spPr>
            <a:xfrm>
              <a:off x="-23040" y="3134160"/>
              <a:ext cx="5238000" cy="333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8800" y="1175400"/>
              <a:ext cx="5238000" cy="2155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87360" y="352656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9080" y="5289840"/>
              <a:ext cx="5616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57200" y="5682240"/>
              <a:ext cx="74844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31960" y="4311360"/>
              <a:ext cx="7470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67600" y="176292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3400" y="1370880"/>
              <a:ext cx="7488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2720" y="1958400"/>
              <a:ext cx="74880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847880" y="2155320"/>
              <a:ext cx="2806560" cy="15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905640" y="2351160"/>
              <a:ext cx="748800" cy="35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092480" y="2155680"/>
              <a:ext cx="3366720" cy="25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473840" y="1762560"/>
              <a:ext cx="4676040" cy="37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4D1-92B4-41E7-AAA7-CE8B96450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51280" y="1744560"/>
            <a:ext cx="0" cy="51134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4149720"/>
            <a:ext cx="74883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24720" y="3645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1200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400536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2060640"/>
            <a:ext cx="5977080" cy="4295880"/>
          </a:xfrm>
          <a:custGeom>
            <a:avLst/>
            <a:gdLst/>
            <a:ahLst/>
            <a:rect l="l" t="t" r="r" b="b"/>
            <a:pathLst>
              <a:path w="3765" h="2706">
                <a:moveTo>
                  <a:pt x="0" y="2169"/>
                </a:moveTo>
                <a:cubicBezTo>
                  <a:pt x="242" y="1084"/>
                  <a:pt x="484" y="0"/>
                  <a:pt x="907" y="83"/>
                </a:cubicBezTo>
                <a:cubicBezTo>
                  <a:pt x="1330" y="166"/>
                  <a:pt x="2064" y="2630"/>
                  <a:pt x="2540" y="2668"/>
                </a:cubicBezTo>
                <a:cubicBezTo>
                  <a:pt x="3016" y="2706"/>
                  <a:pt x="3561" y="702"/>
                  <a:pt x="3765" y="30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378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0360" y="3716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08000" y="213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6237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835280" y="2060640"/>
            <a:ext cx="7272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643280" y="4076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00720" y="3716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442584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67120" y="21225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6237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03840" y="15764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2133720"/>
            <a:ext cx="1429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6237360"/>
            <a:ext cx="142560" cy="144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200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564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0520" y="6186240"/>
            <a:ext cx="102600" cy="101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060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C1F2-B4B3-4806-BCEE-536BC0D96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Дослідн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пара Натал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окирко Я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сол Дар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49323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C91B-0D08-43F4-AA3A-A2E1C8AE9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BC8F-0842-423C-A54C-616D33CAA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35640" y="333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2000" y="981000"/>
            <a:ext cx="4392720" cy="46069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00720" y="765000"/>
            <a:ext cx="1584000" cy="4753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08360" y="2565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867280" y="249228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1125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26920" y="4221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a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1840" y="37368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4836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1200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316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76B5-A627-4D7D-8F50-EF14DB58B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64000" y="333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1557360"/>
            <a:ext cx="5832360" cy="4105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987640" y="278136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3708360" cy="9572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55480" y="4714920"/>
            <a:ext cx="22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39840" y="4714920"/>
            <a:ext cx="21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8760" y="414972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39840" y="4425840"/>
            <a:ext cx="25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0&lt;a&l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19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20440" y="522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44E5-F45F-4208-A223-28684B5EB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87280" y="3933720"/>
            <a:ext cx="770580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8360" y="3500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-674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51280" y="4005360"/>
            <a:ext cx="2881440" cy="28526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11120" y="47451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31120" y="13413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393372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84720" y="3933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04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E53EB-4D82-4B60-8FDC-47EF8D938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187280" y="5516640"/>
            <a:ext cx="770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500720" y="333000"/>
            <a:ext cx="71280" cy="583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cc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94172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59480" y="39384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372360" y="3573000"/>
            <a:ext cx="0" cy="792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364500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867280" y="331920"/>
            <a:ext cx="3276720" cy="819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27640" y="544500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9272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92720" y="494172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3871-FD6B-46C3-8DE8-5151B7AAD7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6.38889E-006 -4.62428E-006 L 6.38889E-006 -0.1993 E">
                                      <p:cBhvr>
                                        <p:cTn id="261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 flipV="1">
            <a:off x="4500720" y="692280"/>
            <a:ext cx="0" cy="6597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2000" y="0"/>
            <a:ext cx="288000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32000" y="0"/>
            <a:ext cx="2880000" cy="4653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588000" y="3716280"/>
            <a:ext cx="0" cy="720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64200" y="4067280"/>
            <a:ext cx="9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48360" y="3357720"/>
            <a:ext cx="122400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99"/>
                </a:solidFill>
                <a:latin typeface="Arial"/>
              </a:rPr>
              <a:t>-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88000" y="765000"/>
            <a:ext cx="14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459640" y="42926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335640" y="549360"/>
            <a:ext cx="2808360" cy="8269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427640" y="458136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5640" y="4508640"/>
            <a:ext cx="216000" cy="142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4005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3D49-23BE-4187-9F18-5FC4924597CD}" type="slidenum">
              <a:t>19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2.5E-006 4.62428E-007 L 2.5E-006 0.14682 E">
                                      <p:cBhvr>
                                        <p:cTn id="307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cc6600"/>
                </a:solidFill>
                <a:latin typeface="Arial Black"/>
              </a:rPr>
              <a:t>Тема уроку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Графіки і функції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59AC-2CC9-431E-8F5F-D18BFE6F0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3640" y="40464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119640" y="29700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419640" y="6021360"/>
            <a:ext cx="10080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67120" y="582444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l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8764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128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51280" y="5013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815C-6066-4091-BD02-B32FA527F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72222E-006 -3.81503E-006 L 0.28351 -3.81503E-006 E">
                                      <p:cBhvr>
                                        <p:cTn id="34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51280" y="981000"/>
            <a:ext cx="2879640" cy="460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119640" y="26028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19280" y="56610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634920" y="6165720"/>
            <a:ext cx="107964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1964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036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0360" y="50133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39DD-8642-494E-BE38-7EED52185B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44444E-006 -3.17919E-006 L -0.37013 -0.01063 E">
                                      <p:cBhvr>
                                        <p:cTn id="383" dur="5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476280"/>
            <a:ext cx="2806920" cy="4132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32000" y="692280"/>
            <a:ext cx="2735280" cy="3987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381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4221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78880" y="26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8472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465300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59480" y="5651640"/>
            <a:ext cx="30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22760" y="5651640"/>
            <a:ext cx="18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76720" y="5013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5084640"/>
            <a:ext cx="16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(-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5928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56400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407664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A3C1-F0C9-4E7B-A6B2-821DC80B55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-8.33333E-007 -1.32948E-006 L -0.29514 -0.00393 E">
                                      <p:cBhvr>
                                        <p:cTn id="422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ракт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оса Анастас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стеренко Крис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ивак Вас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9323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E528-AD9F-4F45-A6E6-0B61D5C9AB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136160" y="2924280"/>
            <a:ext cx="800748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и належить графіку функції т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( 2; -10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(-2;100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(-1/5;-1)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(-1;25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60720" cy="28810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55640" y="260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0"/>
            <a:ext cx="7921440" cy="1700280"/>
          </a:xfrm>
          <a:prstGeom prst="cloudCallout">
            <a:avLst>
              <a:gd name="adj1" fmla="val -42143"/>
              <a:gd name="adj2" fmla="val 5933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404640"/>
            <a:ext cx="5761080" cy="862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Підставте координати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у функцію та перевірте рівні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651640" y="364500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96000" y="414972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21480" y="465300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96000" y="53006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BA20F-1E5F-40CE-8FFC-A6DCA9A2A7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виконуючи побудови, знайдіть координат точок перетину парабо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ямої: а) у=30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)  у=-150х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)у=6-3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3095640" cy="10080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0"/>
            <a:ext cx="7451640" cy="1989000"/>
          </a:xfrm>
          <a:prstGeom prst="cloudCallout">
            <a:avLst>
              <a:gd name="adj1" fmla="val -37259"/>
              <a:gd name="adj2" fmla="val 2893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8367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00000" y="549360"/>
            <a:ext cx="6249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ирівняйте праві частини та розв</a:t>
            </a:r>
            <a:r>
              <a:rPr b="1" lang="en-GB" sz="2000" spc="-1" strike="noStrike">
                <a:solidFill>
                  <a:srgbClr val="cc6600"/>
                </a:solidFill>
                <a:latin typeface="Georgia"/>
              </a:rPr>
              <a:t>’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яжі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держані рівнян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80000" y="4076640"/>
            <a:ext cx="30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0;300) В(-10;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51640" y="4653000"/>
            <a:ext cx="30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0;0) В(-50;75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724360" y="530064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;3) В(-2;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EA7E2-E197-4475-9CB6-5E59840202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шаблоном графіка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и функції :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236000" y="1916280"/>
            <a:ext cx="1584000" cy="7189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376720" cy="792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2089080" cy="9399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1944720" cy="863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0" y="333360"/>
            <a:ext cx="6804000" cy="1295280"/>
          </a:xfrm>
          <a:prstGeom prst="cloudCallout">
            <a:avLst>
              <a:gd name="adj1" fmla="val -31615"/>
              <a:gd name="adj2" fmla="val 61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26920" y="692280"/>
            <a:ext cx="480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властивост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  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функції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6804000" y="0"/>
            <a:ext cx="2340000" cy="19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E777-A9FE-4551-AA52-6D4CC2A9D2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 функції і сформулювати властивості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050920" y="4941720"/>
            <a:ext cx="3313080" cy="935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11280" y="260280"/>
            <a:ext cx="6624720" cy="2305080"/>
          </a:xfrm>
          <a:prstGeom prst="cloudCallout">
            <a:avLst>
              <a:gd name="adj1" fmla="val -44777"/>
              <a:gd name="adj2" fmla="val 63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217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42920" y="260280"/>
            <a:ext cx="54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бласть визначення та зна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улі фун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ростання та спа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накостал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0E53-8268-4D47-ABE4-3B00081EC0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708000" y="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29272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200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-1539720"/>
            <a:ext cx="3456000" cy="496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88000" y="3357720"/>
            <a:ext cx="216000" cy="1425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3080" y="3213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(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124000" y="5084640"/>
            <a:ext cx="5256360" cy="12621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4500720" y="4508640"/>
            <a:ext cx="66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7493-6990-471A-BCF3-0C42860401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3200" spc="-1" strike="noStrike">
                <a:solidFill>
                  <a:srgbClr val="cc6600"/>
                </a:solidFill>
                <a:latin typeface="Arial Black"/>
              </a:rPr>
              <a:t>Побудуйте графік функції</a:t>
            </a: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4762800" cy="1401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4905360" cy="1467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250920" y="333360"/>
            <a:ext cx="7057800" cy="1655640"/>
          </a:xfrm>
          <a:prstGeom prst="cloudCallout">
            <a:avLst>
              <a:gd name="adj1" fmla="val -41430"/>
              <a:gd name="adj2" fmla="val 5786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694692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23840" y="76032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означенням моду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9513-DF3B-4424-B7C7-104485F891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лан уроку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тивація навчальної діяльності. Ознайомлення з методом проек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істор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теоре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дослідн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прак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експер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машнє завд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87530-BD52-43DD-9937-1EB330538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780000" y="0"/>
            <a:ext cx="14256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8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40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364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0"/>
            <a:ext cx="0" cy="61196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43280" y="404640"/>
            <a:ext cx="331344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971640" y="404640"/>
            <a:ext cx="360036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340000" y="5589720"/>
            <a:ext cx="5256360" cy="10033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6720" y="4869000"/>
            <a:ext cx="730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32720" y="4869000"/>
            <a:ext cx="712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3200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0000" y="4797360"/>
            <a:ext cx="71280" cy="7164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67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3272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43280" y="450864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08000" y="4508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F2D3-226D-4C14-8D75-4E7C1D99ED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708000" y="18900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9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1200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43280" y="404640"/>
            <a:ext cx="345600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-10008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7672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40360" y="4508640"/>
            <a:ext cx="863640" cy="43308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71640" y="404640"/>
            <a:ext cx="352908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0000" y="4437000"/>
            <a:ext cx="863640" cy="43344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411280" y="5661000"/>
            <a:ext cx="4969080" cy="9907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68770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868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45813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51120" y="5291280"/>
            <a:ext cx="1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413080" y="458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B26FE-EBC7-404D-873C-0718D3F11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Статист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фіменко Антон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8427-DF7C-43FC-A80C-4CE356B121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1026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ізвище, і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ід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кт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. р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раф оці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севич Сер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са Анастас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ай Іг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фіменко Ан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ченко Ів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хман Тет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енко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ра Натал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сол Дар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чич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вак Васи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ирко 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ишин 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ян Т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FA1B-CF09-4B82-A5C6-AE7840CF51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Комп</a:t>
            </a:r>
            <a:r>
              <a:rPr b="1" lang="en-GB" sz="4400" spc="-1" strike="noStrike">
                <a:solidFill>
                  <a:srgbClr val="cc6600"/>
                </a:solidFill>
                <a:latin typeface="Arial Black"/>
              </a:rPr>
              <a:t>’</a:t>
            </a: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ютерна груп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айдай І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харченко І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едоришин Дми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1292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01B4-B823-43BD-B40E-48B9010863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6600"/>
                </a:solidFill>
                <a:latin typeface="Arial Black"/>
              </a:rPr>
              <a:t>Домашнє завдання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вторити : п.7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ати: № 331(1,2); 332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датково: Тести “ Перевір себе” ст.1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585A-65CA-4DE9-BCD1-C33D52ED21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Істор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ехман Тет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манчич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Шиян 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003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2D9B-69B1-4901-8407-366F855FDF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03640" cy="453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11120" y="5506920"/>
            <a:ext cx="380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30760" y="5651640"/>
            <a:ext cx="394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07120" y="5794200"/>
            <a:ext cx="30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51664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єр Фе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(1601-16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EDB1-318B-44D7-868A-1688BF5BF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184720" cy="5040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68360" y="5445000"/>
            <a:ext cx="4521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с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1643- 17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A9A4-17F3-4D5D-B366-C3F518A53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033800" cy="4968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757680" cy="50101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4859280" y="537372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Йоганн Бернул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67-17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360" y="551664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Георг Лейбні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9C98-61D5-4C7F-91F1-7C38201F3A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821400" cy="4525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4038480" cy="4451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9280" y="515772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Жан Лерон 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лам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1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5445000"/>
            <a:ext cx="38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еонард Е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0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7E39A-EB3D-4077-B0CA-CA0B1A5D3D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105440" cy="4681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183280" y="0"/>
            <a:ext cx="3960720" cy="471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44500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Микола Лобачев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92-18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3280" y="5516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етер Діріх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805-18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85CD-4A51-4F0F-B6F3-457376831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9:34:00Z</dcterms:created>
  <dc:creator>Администратор</dc:creator>
  <dc:description/>
  <dc:language>en-US</dc:language>
  <cp:lastModifiedBy>Larisa</cp:lastModifiedBy>
  <dcterms:modified xsi:type="dcterms:W3CDTF">2014-01-30T11:12:26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e000000000001024140</vt:lpwstr>
  </property>
</Properties>
</file>