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25.gif" ContentType="image/gif"/>
  <Override PartName="/ppt/media/image6.jpeg" ContentType="image/jpeg"/>
  <Override PartName="/ppt/media/image18.png" ContentType="image/png"/>
  <Override PartName="/ppt/media/image19.wmf" ContentType="image/x-wmf"/>
  <Override PartName="/ppt/media/chimes.wav" ContentType="audio/x-wav"/>
  <Override PartName="/ppt/media/image32.wmf" ContentType="image/x-wmf"/>
  <Override PartName="/ppt/media/image10.jpeg" ContentType="image/jpeg"/>
  <Override PartName="/ppt/media/image35.jpeg" ContentType="image/jpeg"/>
  <Override PartName="/ppt/media/image8.jpeg" ContentType="image/jpeg"/>
  <Override PartName="/ppt/media/image11.jpeg" ContentType="image/jpeg"/>
  <Override PartName="/ppt/media/image34.jpeg" ContentType="image/jpeg"/>
  <Override PartName="/ppt/media/voltage.wav" ContentType="audio/x-wav"/>
  <Override PartName="/ppt/media/image28.wmf" ContentType="image/x-wmf"/>
  <Override PartName="/ppt/media/image30.wmf" ContentType="image/x-wmf"/>
  <Override PartName="/ppt/media/image7.jpeg" ContentType="image/jpeg"/>
  <Override PartName="/ppt/media/image31.wmf" ContentType="image/x-wmf"/>
  <Override PartName="/ppt/media/image9.png" ContentType="image/png"/>
  <Override PartName="/ppt/media/image27.wmf" ContentType="image/x-wmf"/>
  <Override PartName="/ppt/media/hammer.wav" ContentType="audio/x-wav"/>
  <Override PartName="/ppt/media/image33.wmf" ContentType="image/x-wmf"/>
  <Override PartName="/ppt/media/explode.wav" ContentType="audio/x-wav"/>
  <Override PartName="/ppt/media/image5.jpeg" ContentType="image/jpeg"/>
  <Override PartName="/ppt/media/image20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9.wmf" ContentType="image/x-wmf"/>
  <Override PartName="/ppt/media/image1.png" ContentType="image/pn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0EC-F5EC-44C9-9C46-F1277B4F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882-620C-4E18-B8A8-4092EFF4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479-202B-4FCC-93AF-C5BF2861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CAA-D95B-4511-932D-19DF0F13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83B7-2D41-4965-BF5A-BE53D6A4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3347-184B-4025-B0DE-F1F61616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A82F-3B98-4CF0-ABED-5448D01F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9E69-8E36-4484-84E8-E8A4ED2F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72D9-863B-4BE6-86D3-2BF662EE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F8A7-F94D-428F-B984-B90BFC00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2F24-25BD-4FDB-B3BC-B7C7BF4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BBE-25BB-468A-9660-19F00FE5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0F56-56ED-4BC5-9C9E-667D9777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2157-51D5-44B6-89D2-BA29A387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103A-1507-47A1-A7DF-BABEC435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B97F-82D2-4B09-8C1B-BE015294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3E38-6D44-437E-B5CC-A6D4FA22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F77D8-9031-4781-B409-4C8E19EE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3F7E-D2F4-4505-8DE5-195E47BC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4AAD-DCF4-4D29-9A52-9F261E68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4B4B-5802-40CB-8FF1-D267D20A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6B9E-0D89-4C39-B9C6-A7B85BC6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D33-10E0-453F-9B82-3AF2B19E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7AF6-62C9-4939-BAAD-C65C8DCA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0BA09-8CE8-4342-94E3-A63D7BA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ADC31-A584-4C7A-B205-3293414E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FA12-4961-4834-9989-2618A9D8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114E0-8C4F-4370-BB0E-0148E06B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DC63-2826-495C-8724-9750D066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5626-73B4-4DEB-852A-6B166D49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81D43-5CE1-480C-9F06-D7ABFC1A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8D72-654A-46E5-A017-FA88F07D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5901B-9E90-4C42-95EB-CFD8964C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9BE-8A3E-4517-8D9D-1C5C487E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94E1-E619-409C-A277-88A87529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50940-1636-4AF4-BB38-DCBBA60D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590F-A498-4B30-A851-692EDFFE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3FAA-25EE-4493-9E1C-C316496E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57C8A-2311-4DB4-887B-7245CA9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83083-757A-4FF4-A434-75938064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0B3AE-6EC5-4791-A422-0E29F819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D34EF-A79B-475E-96EB-255DEE9B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6A416-6705-4965-B255-05E3ABA2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314E-7EF1-4C7B-9CAF-5F71B3C5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2CC-685C-4B2B-9431-1C4D34E0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8E6D-54E5-4357-BBA5-7D42C18A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F5202-D726-4C22-9A76-C9F03A8D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C6FE-2E49-4082-B12C-3C09F19B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A3AA-7BCF-4B44-BAAA-20688C8C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303D7-E9AA-4DA6-91EB-B7226726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CCB44-8FFF-4FC8-893D-E252D659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2E479-9AB3-499F-8BAD-75697ECB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621CB-CFC4-4192-AC86-ED3729AE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386E2-48B6-40F5-A088-49D19220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96A19-FDDB-4ED4-BDED-78030EEB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3AD-080E-4398-84CC-8B2AD656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64708-A064-4037-A219-C125E5BB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EEF57-6D43-432E-948B-7D7E5F5F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F786D-65C5-4918-AA4F-B5E2E115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15CE-44F1-4A6A-8C5D-A1815D7A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B767E-36BF-494D-ABCA-0C2B9ED5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6782E-4119-4BAB-84C0-40BDEDAB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3992D-B8E8-4DCC-A252-4DD8D2D7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795E6-5F2B-4A13-946E-415E2D02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E50D0-3AAC-4FF6-B711-F8E4D45B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E26F3-4349-4318-9C00-28B3F942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7F3-F2E6-4755-95A8-62FA1F56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90FD8-D476-4A7C-A761-4663706D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DB99B-B7F7-46A8-BC76-CD6324ED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4C818-479A-4F6F-8936-2725DAB2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72E13-B4A3-4B26-B2A3-04F47A6C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5C400-7DC9-439C-A789-40603DE6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218A5-305B-4B84-8359-7EA67DD6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8E1ED-76E2-4C30-B57F-BD69DD80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5CBC4-4FAD-4BE7-BC1B-19AF8E80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BAC77-2785-4957-BF56-2BC5B8E9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CCC6C-7031-4589-98D2-B0CD485B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7F9-AC9B-4F4C-9074-01B6CCA1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EFA1A-A81B-4630-96C3-FE04B67E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3C07F-D14F-4270-BD21-19827B2B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AC118-3F1C-4015-8794-1795AE83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32FF6-4EDC-4615-8C98-0A21C3C8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34AE6-A5CB-42FD-A136-C3595932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225AA-8C4B-408C-9A29-67BDF759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DF7AA-2200-44A2-8F35-14C123C5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F2167-A97B-478A-BFED-6A8065C3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4A97F-59EB-4EE0-B500-59FA33D8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4EC2A-ACB6-4679-A11E-D11B3995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4DC-8A3D-4EF4-8CDC-C6EFDEA1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44F10-39F8-47C0-8EB4-FCF4DC9B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5ABCF-AEB4-42D2-B4CE-3D51426B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0DD65-148E-4835-879C-3AF43E67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4C554-741E-41A6-BAF6-E7B43542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7FEF1-F7F0-45B3-8A10-36D6DA93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9078B-B301-493E-972F-B7CB2981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AEFB8-4CCA-4D43-A7FA-13D150F4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00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00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664C-F84C-48AE-9BCD-4572AAC877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5A31-1912-4F8D-9241-F0C1C2902C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e1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85E1-DA6E-4264-AABA-E288F9C678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BE4E-934C-48C5-9D54-ED79344ACE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64DA-5BC0-4EED-BAE0-579C2B8050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3F60-902A-48CC-977B-F0AF3A65A0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8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9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46D6-F36E-4098-92F8-4B2C88C38A2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6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7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446F-A332-42BB-ACED-EB41248332E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gif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gif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5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Georgia"/>
              </a:rPr>
              <a:t>Ідея уроку реалізована вчителем математики  </a:t>
            </a:r>
            <a:r>
              <a:rPr b="0" lang="uk-UA" sz="4000" spc="-1" strike="noStrike">
                <a:solidFill>
                  <a:srgbClr val="ffffff"/>
                </a:solidFill>
                <a:latin typeface="Georgia"/>
              </a:rPr>
              <a:t>спеціалізованої загальноосвітньої              школи І-ІІІ ступенів “Надія”</a:t>
            </a:r>
            <a:r>
              <a:rPr b="0" lang="uk-UA" sz="5400" spc="-1" strike="noStrike">
                <a:solidFill>
                  <a:srgbClr val="ffffff"/>
                </a:solidFill>
                <a:latin typeface="Georgia"/>
              </a:rPr>
              <a:t>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Georgia"/>
              </a:rPr>
              <a:t>смт.Чернігівка Запорізької област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 u="sng">
                <a:solidFill>
                  <a:srgbClr val="ffffff"/>
                </a:solidFill>
                <a:uFillTx/>
                <a:latin typeface="Georgia"/>
              </a:rPr>
              <a:t>Ларисою Нестеру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DDE63-E824-4DB9-8B5E-97ED0D1C74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Теорет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оріла Ол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тасевич Серг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932360" cy="439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BF1B-9372-4C93-9F9A-BBB8BA8F29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48960" y="1981080"/>
            <a:ext cx="7661160" cy="4114800"/>
          </a:xfrm>
          <a:prstGeom prst="rect">
            <a:avLst/>
          </a:prstGeom>
          <a:ln w="0">
            <a:noFill/>
          </a:ln>
        </p:spPr>
      </p:pic>
      <p:grpSp>
        <p:nvGrpSpPr>
          <p:cNvPr id="485" name=""/>
          <p:cNvGrpSpPr/>
          <p:nvPr/>
        </p:nvGrpSpPr>
        <p:grpSpPr>
          <a:xfrm>
            <a:off x="-23040" y="1175400"/>
            <a:ext cx="8979840" cy="5291280"/>
            <a:chOff x="-23040" y="1175400"/>
            <a:chExt cx="8979840" cy="5291280"/>
          </a:xfrm>
        </p:grpSpPr>
        <p:sp>
          <p:nvSpPr>
            <p:cNvPr id="486" name=""/>
            <p:cNvSpPr/>
            <p:nvPr/>
          </p:nvSpPr>
          <p:spPr>
            <a:xfrm>
              <a:off x="-23040" y="3134160"/>
              <a:ext cx="5238000" cy="333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18800" y="1175400"/>
              <a:ext cx="5238000" cy="2155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87360" y="3526560"/>
              <a:ext cx="560160" cy="5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99080" y="5289840"/>
              <a:ext cx="561600" cy="58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57200" y="5682240"/>
              <a:ext cx="748440" cy="5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31960" y="4311360"/>
              <a:ext cx="747000" cy="58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67600" y="1762920"/>
              <a:ext cx="560160" cy="5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63400" y="1370880"/>
              <a:ext cx="748800" cy="58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72720" y="1958400"/>
              <a:ext cx="748800" cy="5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1847880" y="2155320"/>
              <a:ext cx="2806560" cy="156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905640" y="2351160"/>
              <a:ext cx="748800" cy="352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092480" y="2155680"/>
              <a:ext cx="3366720" cy="25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1473840" y="1762560"/>
              <a:ext cx="4676040" cy="37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AAD-D61E-4100-8280-3D5B9ADEF6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51280" y="1744560"/>
            <a:ext cx="0" cy="51134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4149720"/>
            <a:ext cx="748836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524720" y="3645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812000" y="378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51280" y="400536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9640" y="2060640"/>
            <a:ext cx="5977080" cy="4295880"/>
          </a:xfrm>
          <a:custGeom>
            <a:avLst/>
            <a:gdLst/>
            <a:ahLst/>
            <a:rect l="l" t="t" r="r" b="b"/>
            <a:pathLst>
              <a:path w="3765" h="2706">
                <a:moveTo>
                  <a:pt x="0" y="2169"/>
                </a:moveTo>
                <a:cubicBezTo>
                  <a:pt x="242" y="1084"/>
                  <a:pt x="484" y="0"/>
                  <a:pt x="907" y="83"/>
                </a:cubicBezTo>
                <a:cubicBezTo>
                  <a:pt x="1330" y="166"/>
                  <a:pt x="2064" y="2630"/>
                  <a:pt x="2540" y="2668"/>
                </a:cubicBezTo>
                <a:cubicBezTo>
                  <a:pt x="3016" y="2706"/>
                  <a:pt x="3561" y="702"/>
                  <a:pt x="3765" y="309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6920" y="37162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87640" y="378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40360" y="3716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08000" y="213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51280" y="6237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835280" y="2060640"/>
            <a:ext cx="72720" cy="20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643280" y="407628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00720" y="3716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4425840"/>
            <a:ext cx="5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67120" y="212256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80000" y="6237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03840" y="157644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08000" y="2133720"/>
            <a:ext cx="14292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00720" y="6237360"/>
            <a:ext cx="142560" cy="144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32000" y="4076640"/>
            <a:ext cx="14472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5640" y="4076640"/>
            <a:ext cx="14436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67280" y="4076640"/>
            <a:ext cx="14472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780000" y="4076640"/>
            <a:ext cx="14436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00520" y="6186240"/>
            <a:ext cx="102600" cy="1011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0" y="2060640"/>
            <a:ext cx="14436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D4B56-C628-43F2-8455-E1B3ADDD6A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Дослідник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пара Наталі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окирко Я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асол Дар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49323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481E6-D8B7-4E3C-A975-DF2513F60F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848720" cy="40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C78F9-B57C-4BD5-BDC9-A146B23E87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187280" y="5589720"/>
            <a:ext cx="77058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35640" y="3333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388360" y="5229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292720" y="47592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32000" y="981000"/>
            <a:ext cx="4392720" cy="460692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500720" y="765000"/>
            <a:ext cx="1584000" cy="4753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708360" y="256536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867280" y="2492280"/>
            <a:ext cx="115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11253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826920" y="4221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a&gt;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31840" y="3736800"/>
            <a:ext cx="16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48360" y="551664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012000" y="551664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3316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06F8D-CC52-40E1-8F8B-E230B9DB9E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87280" y="5589720"/>
            <a:ext cx="77058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64000" y="33336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88360" y="5229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292720" y="47592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51280" y="90792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340000" y="1557360"/>
            <a:ext cx="5832360" cy="4105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987640" y="2781360"/>
            <a:ext cx="1224000" cy="7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372360" y="2852640"/>
            <a:ext cx="107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73080"/>
            <a:ext cx="3708360" cy="9572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555480" y="4714920"/>
            <a:ext cx="22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39840" y="4714920"/>
            <a:ext cx="21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58760" y="414972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39840" y="4425840"/>
            <a:ext cx="25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0&lt;a&lt;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219640" y="558972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27640" y="558972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20440" y="522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E0D48-ACB1-48A6-A591-1255523BE1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187280" y="3933720"/>
            <a:ext cx="7705800" cy="7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64000" y="40464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388360" y="3500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292720" y="47592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80000" y="-674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851280" y="4005360"/>
            <a:ext cx="2881440" cy="285264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11120" y="474516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=-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531120" y="134136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8360" y="393372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84720" y="393372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04800" y="350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D1E20-B8EB-4E52-ABF6-A3BF9FA9F5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187280" y="5516640"/>
            <a:ext cx="770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4500720" y="333000"/>
            <a:ext cx="71280" cy="583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059280" y="836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cc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9280" y="836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028000" y="494172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659480" y="393840"/>
            <a:ext cx="9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372360" y="3573000"/>
            <a:ext cx="0" cy="792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88000" y="3645000"/>
            <a:ext cx="10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5867280" y="331920"/>
            <a:ext cx="3276720" cy="8190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427640" y="544500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292720" y="544500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92720" y="494172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9FCA5-E6DE-4833-8EB2-24C65B1258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6.38889E-006 -4.62428E-006 L 6.38889E-006 -0.1993 E">
                                      <p:cBhvr>
                                        <p:cTn id="261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 flipV="1">
            <a:off x="4500720" y="692280"/>
            <a:ext cx="0" cy="6597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187280" y="465300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32000" y="0"/>
            <a:ext cx="288000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32000" y="0"/>
            <a:ext cx="2880000" cy="4653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588000" y="3716280"/>
            <a:ext cx="0" cy="720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64200" y="4067280"/>
            <a:ext cx="9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48360" y="3357720"/>
            <a:ext cx="1224000" cy="7034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99"/>
                </a:solidFill>
                <a:latin typeface="Arial"/>
              </a:rPr>
              <a:t>-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88000" y="765000"/>
            <a:ext cx="14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459640" y="429264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6335640" y="549360"/>
            <a:ext cx="2808360" cy="82692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4427640" y="458136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435640" y="4508640"/>
            <a:ext cx="216000" cy="1425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435640" y="400536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97A2F-0E41-4B69-A407-666E55C69B9C}" type="slidenum">
              <a:t>19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2.5E-006 4.62428E-007 L 2.5E-006 0.14682 E">
                                      <p:cBhvr>
                                        <p:cTn id="307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cc6600"/>
                </a:solidFill>
                <a:latin typeface="Arial Black"/>
              </a:rPr>
              <a:t>Тема уроку.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Графіки і функції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Рисунок 1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769080" cy="43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25ECD-6BEA-43B0-9EF7-44181C7757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187280" y="5589720"/>
            <a:ext cx="77058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03640" y="40464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388360" y="5229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132000" y="33300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836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692360" y="836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6119640" y="297000"/>
            <a:ext cx="3024360" cy="7556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419640" y="6021360"/>
            <a:ext cx="100800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67120" y="582444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а, а</a:t>
            </a: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&lt;</a:t>
            </a: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87640" y="544500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51280" y="551664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51280" y="501336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9A674-0051-4C7C-AFAF-BE243E47C4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-4.72222E-006 -3.81503E-006 L 0.28351 -3.81503E-006 E">
                                      <p:cBhvr>
                                        <p:cTn id="346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87280" y="5589720"/>
            <a:ext cx="77058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40464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388360" y="5229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292720" y="47592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851280" y="90792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851280" y="981000"/>
            <a:ext cx="2879640" cy="460872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6119640" y="260280"/>
            <a:ext cx="3024360" cy="7556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619280" y="566100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а, а</a:t>
            </a: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3634920" y="6165720"/>
            <a:ext cx="1079640" cy="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219640" y="551664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0360" y="551664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40360" y="50133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83401-E57C-46BD-A558-1D77B84ED2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-4.44444E-006 -3.17919E-006 L -0.37013 -0.01063 E">
                                      <p:cBhvr>
                                        <p:cTn id="383" dur="5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187280" y="465300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132000" y="33300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32000" y="476280"/>
            <a:ext cx="2806920" cy="4132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132000" y="692280"/>
            <a:ext cx="2735280" cy="398772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3816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4581360"/>
            <a:ext cx="14436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27640" y="4581360"/>
            <a:ext cx="14436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317080" y="42210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278880" y="260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284720" y="465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76360" y="465300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659480" y="5651640"/>
            <a:ext cx="30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722760" y="5651640"/>
            <a:ext cx="185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076720" y="501336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У=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1280" y="5084640"/>
            <a:ext cx="16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(-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059280" y="4581360"/>
            <a:ext cx="14436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564000" y="4581360"/>
            <a:ext cx="14436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564000" y="4076640"/>
            <a:ext cx="6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28C98-99F6-459D-87B4-A957F4F45E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-8.33333E-007 -1.32948E-006 L -0.29514 -0.00393 E">
                                      <p:cBhvr>
                                        <p:cTn id="422" dur="5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Практи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Боса Анастас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стеренко Крист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ивак Васи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493236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7C566-CE24-4497-AF06-943E9A06FA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136160" y="2924280"/>
            <a:ext cx="800748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и належить графіку функції т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 ( 2; -100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(-2;100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(-1/5;-1)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(-1;25)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960720" cy="288108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2197080" cy="22176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755640" y="26028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0"/>
            <a:ext cx="7921440" cy="1700280"/>
          </a:xfrm>
          <a:prstGeom prst="cloudCallout">
            <a:avLst>
              <a:gd name="adj1" fmla="val -42143"/>
              <a:gd name="adj2" fmla="val 5933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332000" y="404640"/>
            <a:ext cx="5761080" cy="862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c6600"/>
                </a:solidFill>
                <a:latin typeface="Georgia"/>
              </a:rPr>
              <a:t>Підставте координати 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c6600"/>
                </a:solidFill>
                <a:latin typeface="Georgia"/>
              </a:rPr>
              <a:t>у функцію та перевірте рівніс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651640" y="364500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96000" y="4149720"/>
            <a:ext cx="23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21480" y="465300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796000" y="53006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315D9-BB98-4C80-AEF4-5AEA69720B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е виконуючи побудови, знайдіть координат точок перетину парабо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ямої: а) у=30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)  у=-150х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)у=6-3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3095640" cy="100800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0" y="0"/>
            <a:ext cx="7451640" cy="1989000"/>
          </a:xfrm>
          <a:prstGeom prst="cloudCallout">
            <a:avLst>
              <a:gd name="adj1" fmla="val -37259"/>
              <a:gd name="adj2" fmla="val 28930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9640" cy="183672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900000" y="549360"/>
            <a:ext cx="6249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Прирівняйте праві частини та розв</a:t>
            </a:r>
            <a:r>
              <a:rPr b="1" lang="en-GB" sz="2000" spc="-1" strike="noStrike">
                <a:solidFill>
                  <a:srgbClr val="cc6600"/>
                </a:solidFill>
                <a:latin typeface="Georgia"/>
              </a:rPr>
              <a:t>’</a:t>
            </a: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яжі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одержані рівнянн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580000" y="4076640"/>
            <a:ext cx="30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А(10;300) В(-10;3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651640" y="4653000"/>
            <a:ext cx="30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А(0;0) В(-50;75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724360" y="5300640"/>
            <a:ext cx="27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А(1;3) В(-2;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0E425-CD42-4178-B3B1-A2652C63A6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 шаблоном графіка функц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будувати графіки функції :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7236000" y="1916280"/>
            <a:ext cx="1584000" cy="7189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2376720" cy="7920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2089080" cy="9399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826920" y="4653000"/>
            <a:ext cx="1944720" cy="8636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0" y="333360"/>
            <a:ext cx="6804000" cy="1295280"/>
          </a:xfrm>
          <a:prstGeom prst="cloudCallout">
            <a:avLst>
              <a:gd name="adj1" fmla="val -31615"/>
              <a:gd name="adj2" fmla="val 61152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26920" y="692280"/>
            <a:ext cx="4808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Скористайтеся властивост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  </a:t>
            </a: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функції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5"/>
          <a:stretch/>
        </p:blipFill>
        <p:spPr>
          <a:xfrm>
            <a:off x="6804000" y="0"/>
            <a:ext cx="2340000" cy="191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D5785-43F0-4153-AAD2-C23F8B37EE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будувати графік функції і сформулювати властивості функц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050920" y="4941720"/>
            <a:ext cx="3313080" cy="9352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611280" y="260280"/>
            <a:ext cx="6624720" cy="2305080"/>
          </a:xfrm>
          <a:prstGeom prst="cloudCallout">
            <a:avLst>
              <a:gd name="adj1" fmla="val -44777"/>
              <a:gd name="adj2" fmla="val 63152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2176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1042920" y="260280"/>
            <a:ext cx="5400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Область визначення та знач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Нулі функ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Проміжки зростання та спад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Проміжки знакостал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397F2-C55F-4D13-B293-AE2D787DDB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500720" y="0"/>
            <a:ext cx="72720" cy="590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87280" y="4869000"/>
            <a:ext cx="7632720" cy="7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708000" y="0"/>
            <a:ext cx="14292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500720" y="189000"/>
            <a:ext cx="7128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292720" y="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012000" y="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73272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451640" y="0"/>
            <a:ext cx="0" cy="597708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32000" y="260280"/>
            <a:ext cx="0" cy="590544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44280"/>
            <a:ext cx="0" cy="612000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7280" y="4149720"/>
            <a:ext cx="79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87280" y="3429000"/>
            <a:ext cx="70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187280" y="263700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92360" y="1989000"/>
            <a:ext cx="705636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619280" y="1268280"/>
            <a:ext cx="633744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692360" y="476280"/>
            <a:ext cx="590400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403280" y="558972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03640" y="-1539720"/>
            <a:ext cx="3456000" cy="496872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223120" y="450864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43280" y="-171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148360" y="45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16360" y="115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588000" y="3357720"/>
            <a:ext cx="216000" cy="14256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093080" y="3213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(3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2124000" y="5084640"/>
            <a:ext cx="5256360" cy="126216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4500720" y="4508640"/>
            <a:ext cx="66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48A90-7D45-4B54-9D63-5251850651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3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3200" spc="-1" strike="noStrike">
                <a:solidFill>
                  <a:srgbClr val="cc6600"/>
                </a:solidFill>
                <a:latin typeface="Arial Black"/>
              </a:rPr>
              <a:t>Побудуйте графік функції</a:t>
            </a:r>
            <a:br>
              <a:rPr sz="3200"/>
            </a:b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4762800" cy="14018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1763640" y="4437000"/>
            <a:ext cx="4905360" cy="146700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250920" y="333360"/>
            <a:ext cx="7057800" cy="1655640"/>
          </a:xfrm>
          <a:prstGeom prst="cloudCallout">
            <a:avLst>
              <a:gd name="adj1" fmla="val -41430"/>
              <a:gd name="adj2" fmla="val 57861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6946920" y="0"/>
            <a:ext cx="2197080" cy="22176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23840" y="76032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Скористайтеся означенням модул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887A6-AC6C-456B-89BC-6B87C93BA6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План уроку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отивація навчальної діяльності. Ознайомлення з методом проект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істори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теорети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дослідни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практи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експерт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омашнє завда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A978-8812-4B79-A3D9-7CCEBD34B3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500720" y="0"/>
            <a:ext cx="72720" cy="590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187280" y="4869000"/>
            <a:ext cx="7632720" cy="7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780000" y="0"/>
            <a:ext cx="14256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500720" y="189000"/>
            <a:ext cx="7128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148360" y="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940360" y="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73272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451640" y="0"/>
            <a:ext cx="0" cy="597708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3640" y="260280"/>
            <a:ext cx="0" cy="590544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40000" y="0"/>
            <a:ext cx="0" cy="611964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87280" y="4149720"/>
            <a:ext cx="79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429000"/>
            <a:ext cx="70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187280" y="263700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692360" y="1989000"/>
            <a:ext cx="705636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619280" y="1268280"/>
            <a:ext cx="633744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692360" y="476280"/>
            <a:ext cx="590400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03280" y="558972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643280" y="404640"/>
            <a:ext cx="3313440" cy="4969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223120" y="450864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43280" y="-171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48360" y="45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971640" y="404640"/>
            <a:ext cx="3600360" cy="489744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716360" y="115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340000" y="5589720"/>
            <a:ext cx="5256360" cy="10033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076720" y="4869000"/>
            <a:ext cx="73080" cy="7272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4869000"/>
            <a:ext cx="71640" cy="7272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32720" y="4869000"/>
            <a:ext cx="71280" cy="7272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132000" y="4869000"/>
            <a:ext cx="71640" cy="7272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40000" y="4797360"/>
            <a:ext cx="71280" cy="7164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6728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73272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843280" y="4508640"/>
            <a:ext cx="7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908000" y="4508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4EF0-4B55-48D4-8E4A-8D49DB3F48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500720" y="0"/>
            <a:ext cx="72720" cy="590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87280" y="4869000"/>
            <a:ext cx="7632720" cy="7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708000" y="189000"/>
            <a:ext cx="14292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500720" y="189000"/>
            <a:ext cx="7128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29272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1200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73272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451640" y="0"/>
            <a:ext cx="0" cy="597708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132000" y="260280"/>
            <a:ext cx="0" cy="590544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411280" y="44280"/>
            <a:ext cx="0" cy="612000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87280" y="4149720"/>
            <a:ext cx="79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187280" y="3429000"/>
            <a:ext cx="70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87280" y="263700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692360" y="1989000"/>
            <a:ext cx="705636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619280" y="1268280"/>
            <a:ext cx="633744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692360" y="476280"/>
            <a:ext cx="590400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403280" y="558972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43280" y="404640"/>
            <a:ext cx="3456000" cy="4969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23120" y="450864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0" y="-10008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076720" y="45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940360" y="4508640"/>
            <a:ext cx="863640" cy="433080"/>
          </a:xfrm>
          <a:custGeom>
            <a:avLst/>
            <a:gdLst/>
            <a:ahLst/>
            <a:rect l="l" t="t" r="r" b="b"/>
            <a:pathLst>
              <a:path w="544" h="182">
                <a:moveTo>
                  <a:pt x="0" y="182"/>
                </a:moveTo>
                <a:cubicBezTo>
                  <a:pt x="90" y="91"/>
                  <a:pt x="181" y="0"/>
                  <a:pt x="272" y="0"/>
                </a:cubicBezTo>
                <a:cubicBezTo>
                  <a:pt x="363" y="0"/>
                  <a:pt x="499" y="152"/>
                  <a:pt x="544" y="182"/>
                </a:cubicBezTo>
              </a:path>
            </a:pathLst>
          </a:custGeom>
          <a:noFill/>
          <a:ln w="38160">
            <a:solidFill>
              <a:srgbClr val="f05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971640" y="404640"/>
            <a:ext cx="3529080" cy="489744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340000" y="4437000"/>
            <a:ext cx="863640" cy="433440"/>
          </a:xfrm>
          <a:custGeom>
            <a:avLst/>
            <a:gdLst/>
            <a:ahLst/>
            <a:rect l="l" t="t" r="r" b="b"/>
            <a:pathLst>
              <a:path w="544" h="182">
                <a:moveTo>
                  <a:pt x="0" y="182"/>
                </a:moveTo>
                <a:cubicBezTo>
                  <a:pt x="90" y="91"/>
                  <a:pt x="181" y="0"/>
                  <a:pt x="272" y="0"/>
                </a:cubicBezTo>
                <a:cubicBezTo>
                  <a:pt x="363" y="0"/>
                  <a:pt x="499" y="152"/>
                  <a:pt x="544" y="182"/>
                </a:cubicBezTo>
              </a:path>
            </a:pathLst>
          </a:custGeom>
          <a:noFill/>
          <a:ln w="38160">
            <a:solidFill>
              <a:srgbClr val="f05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2411280" y="5661000"/>
            <a:ext cx="4969080" cy="99072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6877080" y="4653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868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458136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851120" y="5291280"/>
            <a:ext cx="19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413080" y="458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A0E13-D65C-4B5F-9709-52B01BE891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e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Статист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Єфіменко Антон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93236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3E7B0-3E29-4B32-9C35-A4DE611B36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0" y="0"/>
            <a:ext cx="1026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ізвище, ім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ід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кта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. р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раф оці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асевич Сер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са Анастас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дай Іг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іла Оле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Єфіменко Ант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арченко Ів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хман Тетя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теренко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ара Натал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сол Дар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чич Оль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вак Васи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ирко Я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оришин 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ян Т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252D0-41CA-4123-A618-4519823F38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e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Комп</a:t>
            </a:r>
            <a:r>
              <a:rPr b="1" lang="en-GB" sz="4400" spc="-1" strike="noStrike">
                <a:solidFill>
                  <a:srgbClr val="cc6600"/>
                </a:solidFill>
                <a:latin typeface="Arial Black"/>
              </a:rPr>
              <a:t>’</a:t>
            </a: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ютерна група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Гайдай Іг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харченко Ів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едоришин Дмит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4129200" cy="45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F1522-8D4F-438F-9B31-860F104B01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e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6600"/>
                </a:solidFill>
                <a:latin typeface="Arial Black"/>
              </a:rPr>
              <a:t>Домашнє завдання:</a:t>
            </a: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вторити : п.7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з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зати: № 331(1,2); 332(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одатково: Тести “ Перевір себе” ст.11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B2A67-81C4-47F3-92FA-9688F47405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Істори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Лехман Тетя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оманчич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Шиян Т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500364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3F547-2877-4DCC-8606-7F8FF587B6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3816360" cy="45259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03640" cy="4535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411120" y="5506920"/>
            <a:ext cx="3800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Рене Де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730760" y="5651640"/>
            <a:ext cx="394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07120" y="5794200"/>
            <a:ext cx="30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551664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єр Фе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(1601-16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0834-1B4A-4F7E-AECC-B8133D86A4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184720" cy="50403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268360" y="5445000"/>
            <a:ext cx="4521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Ісак 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(1643- 17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CAAF0-3300-4F67-B8E7-2A2A44DC7F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4916520" y="1904760"/>
            <a:ext cx="3929040" cy="41907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4033800" cy="49687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757680" cy="50101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4859280" y="5373720"/>
            <a:ext cx="374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Йоганн Бернул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667-17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8360" y="5516640"/>
            <a:ext cx="374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Георг Лейбні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646-17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965D7-2486-45D3-AF2F-7646A87DCD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3821400" cy="45259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4038480" cy="4451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79280" y="5157720"/>
            <a:ext cx="43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Жан Лерон 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Аламб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717-17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932360" y="5445000"/>
            <a:ext cx="388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Леонард Ей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707-17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4E3C9-46E2-496B-88DB-4A66F5BD47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4105440" cy="4681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183280" y="0"/>
            <a:ext cx="3960720" cy="47149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0" y="544500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Микола Лобачевс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792-185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3280" y="5516640"/>
            <a:ext cx="4249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етер Діріх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805-185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9234A-5F08-47F3-87D9-497E27060A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9:34:00Z</dcterms:created>
  <dc:creator>Администратор</dc:creator>
  <dc:description/>
  <dc:language>en-US</dc:language>
  <cp:lastModifiedBy>Larisa</cp:lastModifiedBy>
  <dcterms:modified xsi:type="dcterms:W3CDTF">2014-01-30T11:12:26Z</dcterms:modified>
  <cp:revision>6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e000000000001024140</vt:lpwstr>
  </property>
</Properties>
</file>