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5.wmf" ContentType="image/x-wmf"/>
  <Override PartName="/ppt/media/image23.jpeg" ContentType="image/jpeg"/>
  <Override PartName="/ppt/media/image12.png" ContentType="image/png"/>
  <Override PartName="/ppt/media/image21.wmf" ContentType="image/x-wmf"/>
  <Override PartName="/ppt/media/image13.png" ContentType="image/png"/>
  <Override PartName="/ppt/media/image33.wmf" ContentType="image/x-wmf"/>
  <Override PartName="/ppt/media/image9.wmf" ContentType="image/x-wmf"/>
  <Override PartName="/ppt/media/image10.jpeg" ContentType="image/jpeg"/>
  <Override PartName="/ppt/media/image14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7.jpeg" ContentType="image/jpeg"/>
  <Override PartName="/ppt/media/image3.png" ContentType="image/png"/>
  <Override PartName="/ppt/media/image11.wmf" ContentType="image/x-wmf"/>
  <Override PartName="/ppt/media/image30.wmf" ContentType="image/x-wmf"/>
  <Override PartName="/ppt/media/image31.png" ContentType="image/png"/>
  <Override PartName="/ppt/media/image29.png" ContentType="image/png"/>
  <Override PartName="/ppt/media/image34.png" ContentType="image/png"/>
  <Override PartName="/ppt/media/image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19.wmf" ContentType="image/x-wmf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345-8AAF-441B-A3CC-422AEC84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391-3D21-43AF-9B83-449C11B5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B93-16D4-47F1-ADEF-67029B4C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5A5-B570-46F0-8F6E-AAC870AF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6BD5-E665-4FF1-A9B3-E91B8668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8CAC-5003-4015-99BD-C49A0C0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5123-B50A-4676-B079-26ED2C4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AA2-A26F-4A2A-B2E2-DF4D6F1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B7AA-F15E-4F62-9C30-76923E2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B597-71F5-4232-B0F3-25F76AF6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F15-598B-4F0B-8693-30EAE63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8EB-3190-463F-8E17-0073A607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333-EDC8-43E9-8D5A-8E99FBF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0712-750D-4CB7-97CD-D3E70BF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717F-B1E0-47E6-ADFC-0B9055E1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E185-6AB6-43DA-9E79-91D1BC02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8B6E-870D-4658-8003-AF332426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32550-D9C5-479B-BDA5-7F786AA4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AD669-0EB4-46D7-8604-CCED17C2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55DCE-F2D3-4335-80E6-09182AFC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047BB-23A1-4556-BB71-990A081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760DA-35DE-4C24-9FC3-09E59F5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4A3-C0D7-4D7B-8504-A29DDBE5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7E013-A127-462E-BE54-EC6E5E0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E8327-B268-4A5A-A7BB-587CFDF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9B368-148C-41F1-B5EE-B02DE922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E09AF-4F09-4C71-98EB-87D4121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4FFA5-AE82-4E7C-9F28-A8769F5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F9EAA-9A14-46C6-B9D5-6E6E12A9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712F1-6E2E-4679-BC54-C603B3FE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E24-90BD-4446-A585-7A5F260D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1C0-5B0F-48BB-8B92-4467536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2F7-B0B4-4D9B-879B-EABA83A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AFF-309C-4FB8-8E6D-1D90952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DE5-EB98-4A3A-A5F9-BFBFE6A6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1BC-F3F6-4336-86E8-CB4DFE5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34E-9E92-44A5-9ACC-82AED41DAB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773-9F48-490F-86CB-DE2900B972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3194-A704-4727-808B-FEFAA58797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500040" y="1414440"/>
            <a:ext cx="8242200" cy="1779480"/>
          </a:xfrm>
          <a:prstGeom prst="rect">
            <a:avLst/>
          </a:prstGeom>
          <a:ln w="0">
            <a:noFill/>
          </a:ln>
        </p:spPr>
      </p:pic>
      <p:grpSp>
        <p:nvGrpSpPr>
          <p:cNvPr id="124" name="Подзаголовок 2"/>
          <p:cNvGrpSpPr/>
          <p:nvPr/>
        </p:nvGrpSpPr>
        <p:grpSpPr>
          <a:xfrm>
            <a:off x="1914480" y="3992400"/>
            <a:ext cx="5095800" cy="884520"/>
            <a:chOff x="1914480" y="3992400"/>
            <a:chExt cx="5095800" cy="884520"/>
          </a:xfrm>
        </p:grpSpPr>
        <p:pic>
          <p:nvPicPr>
            <p:cNvPr id="125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914480" y="3992400"/>
              <a:ext cx="509580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071800" y="4149720"/>
              <a:ext cx="47862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17375e"/>
                  </a:solidFill>
                  <a:latin typeface="Calibri"/>
                </a:rPr>
                <a:t>Розв'язування задач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139680" y="73080"/>
            <a:ext cx="8852040" cy="12193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3924360" y="1410840"/>
            <a:ext cx="482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Розв'яза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еба виміряти довжину сторони основи і висоту самої вежі на фотографії, а потім довжину сторони основи самої вежі. Враховуючи, що фотографія дає зображення, подібне до натури, висота вежі буде в стільки разів більша від її висоти на фотографії, у скільки разів сторона основи вежі більша від її зображення на фотографії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иконавши всі обчислення маємо, що висота вежі дорівнює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00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не враховуючи висоту антени, а з нею 322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179280" y="1258920"/>
            <a:ext cx="3600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179280" y="235440"/>
            <a:ext cx="8713800" cy="192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кі завбільшки повинні бути букви на класній дошці, щоб учні, сидячи за партами, бачили їх так само виразно, як букви в своїх книжках (на відстані 25 см від ока)?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ідстань від парт до дошки взяти 5м, ширина букви в книжці дорівнює 1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95280" y="2349360"/>
            <a:ext cx="8437680" cy="3157200"/>
            <a:chOff x="395280" y="2349360"/>
            <a:chExt cx="8437680" cy="3157200"/>
          </a:xfrm>
        </p:grpSpPr>
        <p:sp>
          <p:nvSpPr>
            <p:cNvPr id="228" name="AutoShape 15"/>
            <p:cNvSpPr/>
            <p:nvPr/>
          </p:nvSpPr>
          <p:spPr>
            <a:xfrm flipH="1">
              <a:off x="1061640" y="2860560"/>
              <a:ext cx="7502400" cy="2135160"/>
            </a:xfrm>
            <a:prstGeom prst="rtTriangle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395280" y="4735440"/>
              <a:ext cx="37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0" name="AutoShape 17"/>
            <p:cNvCxnSpPr/>
            <p:nvPr/>
          </p:nvCxnSpPr>
          <p:spPr>
            <a:xfrm>
              <a:off x="3766680" y="4235040"/>
              <a:ext cx="1080" cy="653400"/>
            </a:xfrm>
            <a:prstGeom prst="straightConnector1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231" name="Rectangle 18"/>
            <p:cNvSpPr/>
            <p:nvPr/>
          </p:nvSpPr>
          <p:spPr>
            <a:xfrm>
              <a:off x="2503080" y="4537080"/>
              <a:ext cx="12204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5 с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3601080" y="4995720"/>
              <a:ext cx="37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3601080" y="3579840"/>
              <a:ext cx="379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3833640" y="4235400"/>
              <a:ext cx="1143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6243840" y="4484520"/>
              <a:ext cx="900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8066520" y="3492360"/>
              <a:ext cx="379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8193240" y="4995720"/>
              <a:ext cx="639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8066520" y="2349360"/>
              <a:ext cx="76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27399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242560" cy="963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324000" y="1287720"/>
            <a:ext cx="83516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Повторити зміст: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чення, ознаки подібності трикутників та опорні факти для доведення подібності трикутник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Розв'язати задач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рівнобедреному трикутнику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 основою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т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рівнює 36°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ісектриса трикутника. Доведіть, що Δ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ВС ~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на з діагоналей трапеції дорівнює 28 см і ділить другу діагональ на відрізки довжиною 5 см і 9 см. Знаючи, що менша основа тра­пеції дорівнює 6 см, знайді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) відрізки, на які точка перетину діагоналей ділить першу діагонал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) бічну основу трапец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трикутник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писано ромб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РЕ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, що кут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ільний, а вершина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лежить стороні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.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найдіть сторону ромба, якщо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В =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 см, 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С =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395280" y="13539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Що вам сподобалось на уроці найбіл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Що нового ви дізнали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кі труднощі у вас виникли при розв’язуванні задач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Які вміння та навички ви вдосконалили на уроці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ff962c65118d.png"/>
          <p:cNvPicPr/>
          <p:nvPr/>
        </p:nvPicPr>
        <p:blipFill>
          <a:blip r:embed="rId3"/>
          <a:stretch/>
        </p:blipFill>
        <p:spPr>
          <a:xfrm>
            <a:off x="3924360" y="4292640"/>
            <a:ext cx="1592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468360" y="1210320"/>
            <a:ext cx="835164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узика може возвеличити або заспокоїти душу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Живопис – радувати око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езія – пробуджувати почуття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ілософія – задовольняти потреби розуму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Інженерна справа – удосконалювати матеріальну сторону життя люде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математика здатна досягти усіх цих ціл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мерикан</a:t>
            </a:r>
            <a:r>
              <a:rPr b="0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ь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ий математик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р</a:t>
            </a:r>
            <a:r>
              <a:rPr b="1" i="1" lang="uk-UA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 Клай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403280" y="2955960"/>
            <a:ext cx="7093080" cy="2531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, що я чую, я забува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, що я бачу, я пам’ята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, що я роблю, я розумію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фуці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8810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95280" y="1413000"/>
            <a:ext cx="8353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формувати вміння учнів використовувати під час розв’язування задач означення подібних трикутників, ознаки подібних трикутникі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казати практичне застосування геометрії в різних галуз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50920" y="260280"/>
            <a:ext cx="8642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Вс</a:t>
            </a:r>
            <a:r>
              <a:rPr b="1" lang="uk-UA" sz="2100" spc="-1" strike="noStrike">
                <a:solidFill>
                  <a:srgbClr val="000000"/>
                </a:solidFill>
                <a:latin typeface="Comic Sans MS"/>
              </a:rPr>
              <a:t>і  користуються подібністю: художники і діти, малюючи картинки, картографи..., архітектори..., астрономи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MCj04414030000[1]"/>
          <p:cNvPicPr/>
          <p:nvPr/>
        </p:nvPicPr>
        <p:blipFill>
          <a:blip r:embed="rId2"/>
          <a:stretch/>
        </p:blipFill>
        <p:spPr>
          <a:xfrm rot="20813400">
            <a:off x="87480" y="1531800"/>
            <a:ext cx="1977840" cy="2586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3076920" cy="230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MCj04414170000[1]"/>
          <p:cNvPicPr/>
          <p:nvPr/>
        </p:nvPicPr>
        <p:blipFill>
          <a:blip r:embed="rId4"/>
          <a:stretch/>
        </p:blipFill>
        <p:spPr>
          <a:xfrm rot="1005600">
            <a:off x="5546880" y="1222200"/>
            <a:ext cx="1828800" cy="1035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MCj04414170000[1]"/>
          <p:cNvPicPr/>
          <p:nvPr/>
        </p:nvPicPr>
        <p:blipFill>
          <a:blip r:embed="rId5"/>
          <a:stretch/>
        </p:blipFill>
        <p:spPr>
          <a:xfrm>
            <a:off x="6156360" y="2205000"/>
            <a:ext cx="270828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Загрузки\b602384e90e9.png"/>
          <p:cNvPicPr/>
          <p:nvPr/>
        </p:nvPicPr>
        <p:blipFill>
          <a:blip r:embed="rId6"/>
          <a:stretch/>
        </p:blipFill>
        <p:spPr>
          <a:xfrm>
            <a:off x="2448000" y="2205000"/>
            <a:ext cx="3533760" cy="1682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Загрузки\b602384e90e9.png"/>
          <p:cNvPicPr/>
          <p:nvPr/>
        </p:nvPicPr>
        <p:blipFill>
          <a:blip r:embed="rId7"/>
          <a:stretch/>
        </p:blipFill>
        <p:spPr>
          <a:xfrm>
            <a:off x="2700360" y="1268280"/>
            <a:ext cx="1770120" cy="843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:\Загрузки\0a6ac65398a9.png"/>
          <p:cNvPicPr/>
          <p:nvPr/>
        </p:nvPicPr>
        <p:blipFill>
          <a:blip r:embed="rId8"/>
          <a:stretch/>
        </p:blipFill>
        <p:spPr>
          <a:xfrm>
            <a:off x="4716360" y="3789360"/>
            <a:ext cx="1989360" cy="2840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:\Загрузки\0a6ac65398a9.png"/>
          <p:cNvPicPr/>
          <p:nvPr/>
        </p:nvPicPr>
        <p:blipFill>
          <a:blip r:embed="rId9"/>
          <a:stretch/>
        </p:blipFill>
        <p:spPr>
          <a:xfrm>
            <a:off x="6804000" y="4437000"/>
            <a:ext cx="1461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24000" y="1268280"/>
            <a:ext cx="849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Comic Sans MS"/>
              </a:rPr>
              <a:t>Сформулюйте першу ознаку подібності трикутникі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Comic Sans MS"/>
              </a:rPr>
              <a:t>Сформулюйте другу ознаку подібності трикутникі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Comic Sans MS"/>
              </a:rPr>
              <a:t>Сформулюйте третю ознаку подібності трикутникі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66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Comic Sans MS"/>
              </a:rPr>
              <a:t>Якщо в трикутнику проведено, пряму паралельну третій стороні, то що можна сказати про отримані трикутни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500720" y="4253040"/>
            <a:ext cx="1366560" cy="205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MCj01044600000[1]"/>
          <p:cNvPicPr/>
          <p:nvPr/>
        </p:nvPicPr>
        <p:blipFill>
          <a:blip r:embed="rId3"/>
          <a:stretch/>
        </p:blipFill>
        <p:spPr>
          <a:xfrm>
            <a:off x="755640" y="333360"/>
            <a:ext cx="585720" cy="595008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>
            <a:off x="1258920" y="6237360"/>
            <a:ext cx="5905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258920" y="333360"/>
            <a:ext cx="5977080" cy="585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364000" y="6237360"/>
            <a:ext cx="1870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550872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5364000" y="4365720"/>
            <a:ext cx="0" cy="1800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124000" y="260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Знайти висоту колони за допомогою ті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1187280" y="333360"/>
            <a:ext cx="71640" cy="57880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62000" y="4935600"/>
            <a:ext cx="4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455840" y="2911320"/>
            <a:ext cx="124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alibri"/>
              </a:rPr>
              <a:t>H</a:t>
            </a:r>
            <a:r>
              <a:rPr b="1" lang="uk-UA" sz="4400" spc="-1" strike="noStrike">
                <a:solidFill>
                  <a:srgbClr val="ff00ff"/>
                </a:solidFill>
                <a:latin typeface="Calibri"/>
              </a:rPr>
              <a:t>-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5364000" y="659772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207120" y="6156360"/>
            <a:ext cx="3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4"/>
          <p:cNvSpPr/>
          <p:nvPr/>
        </p:nvSpPr>
        <p:spPr>
          <a:xfrm flipV="1">
            <a:off x="1116000" y="6308280"/>
            <a:ext cx="6192720" cy="73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132000" y="623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806480" cy="2162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2"/>
          <p:cNvSpPr/>
          <p:nvPr/>
        </p:nvSpPr>
        <p:spPr>
          <a:xfrm>
            <a:off x="7506360" y="5897520"/>
            <a:ext cx="3650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611280" y="189000"/>
            <a:ext cx="4809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395280" y="5877000"/>
            <a:ext cx="3492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570384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5419800" y="3736800"/>
            <a:ext cx="447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4119480" y="78408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3708360" y="1413000"/>
            <a:ext cx="3086280" cy="581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АВ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~∆A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3"/>
          <p:cNvSpPr/>
          <p:nvPr/>
        </p:nvSpPr>
        <p:spPr>
          <a:xfrm>
            <a:off x="7667640" y="321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7876800" y="3716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5"/>
          <p:cNvSpPr/>
          <p:nvPr/>
        </p:nvSpPr>
        <p:spPr>
          <a:xfrm>
            <a:off x="5438880" y="5732640"/>
            <a:ext cx="377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MCj04366600000[1]"/>
          <p:cNvPicPr/>
          <p:nvPr/>
        </p:nvPicPr>
        <p:blipFill>
          <a:blip r:embed="rId2"/>
          <a:stretch/>
        </p:blipFill>
        <p:spPr>
          <a:xfrm>
            <a:off x="2484360" y="3573360"/>
            <a:ext cx="638280" cy="136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MCj00845920000[1]"/>
          <p:cNvPicPr/>
          <p:nvPr/>
        </p:nvPicPr>
        <p:blipFill>
          <a:blip r:embed="rId3"/>
          <a:stretch/>
        </p:blipFill>
        <p:spPr>
          <a:xfrm>
            <a:off x="4716360" y="620640"/>
            <a:ext cx="4062600" cy="4321080"/>
          </a:xfrm>
          <a:prstGeom prst="rect">
            <a:avLst/>
          </a:prstGeom>
          <a:ln w="0">
            <a:noFill/>
          </a:ln>
        </p:spPr>
      </p:pic>
      <p:sp>
        <p:nvSpPr>
          <p:cNvPr id="170" name="Line 18"/>
          <p:cNvSpPr/>
          <p:nvPr/>
        </p:nvSpPr>
        <p:spPr>
          <a:xfrm flipV="1">
            <a:off x="250920" y="4292640"/>
            <a:ext cx="6408720" cy="1008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6588000" y="692280"/>
            <a:ext cx="71640" cy="3600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20"/>
          <p:cNvSpPr/>
          <p:nvPr/>
        </p:nvSpPr>
        <p:spPr>
          <a:xfrm flipH="1">
            <a:off x="250560" y="692280"/>
            <a:ext cx="6337080" cy="46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21"/>
          <p:cNvSpPr/>
          <p:nvPr/>
        </p:nvSpPr>
        <p:spPr>
          <a:xfrm flipV="1">
            <a:off x="250920" y="4941360"/>
            <a:ext cx="5329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22"/>
          <p:cNvSpPr/>
          <p:nvPr/>
        </p:nvSpPr>
        <p:spPr>
          <a:xfrm flipH="1">
            <a:off x="250920" y="4365720"/>
            <a:ext cx="44654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277164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1116000" y="530064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Comic Sans MS"/>
              </a:rPr>
              <a:t>Фалес Мілетський</a:t>
            </a:r>
            <a:r>
              <a:rPr b="0" i="1" lang="uk-UA" sz="2800" spc="-1" strike="noStrike">
                <a:solidFill>
                  <a:srgbClr val="000000"/>
                </a:solidFill>
                <a:latin typeface="Comic Sans MS"/>
              </a:rPr>
              <a:t>  (624-548 рр.до н.р.) виміряв висоту єгипетської піраміди за  довжиною власної ті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3384360" cy="233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7085160" y="189000"/>
            <a:ext cx="18255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95280" y="3645000"/>
            <a:ext cx="5977080" cy="1871640"/>
          </a:xfrm>
          <a:prstGeom prst="rect">
            <a:avLst/>
          </a:prstGeom>
          <a:solidFill>
            <a:srgbClr val="9be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395280" y="5516640"/>
            <a:ext cx="597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1979640" y="1628640"/>
            <a:ext cx="0" cy="38880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1979640" y="2060640"/>
            <a:ext cx="2016000" cy="345600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3995640" y="2060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2697120" y="3624120"/>
            <a:ext cx="168480" cy="357480"/>
          </a:xfrm>
          <a:custGeom>
            <a:avLst/>
            <a:gdLst>
              <a:gd name="textAreaLeft" fmla="*/ 0 w 168480"/>
              <a:gd name="textAreaRight" fmla="*/ 168840 w 168480"/>
              <a:gd name="textAreaTop" fmla="*/ 0 h 357480"/>
              <a:gd name="textAreaBottom" fmla="*/ 357480 h 357480"/>
            </a:gdLst>
            <a:ahLst/>
            <a:rect l="textAreaLeft" t="textAreaTop" r="textAreaRight" b="textAreaBottom"/>
            <a:pathLst>
              <a:path w="106" h="225">
                <a:moveTo>
                  <a:pt x="1" y="0"/>
                </a:moveTo>
                <a:cubicBezTo>
                  <a:pt x="3" y="34"/>
                  <a:pt x="0" y="108"/>
                  <a:pt x="22" y="147"/>
                </a:cubicBezTo>
                <a:cubicBezTo>
                  <a:pt x="26" y="153"/>
                  <a:pt x="55" y="197"/>
                  <a:pt x="64" y="211"/>
                </a:cubicBezTo>
                <a:cubicBezTo>
                  <a:pt x="72" y="223"/>
                  <a:pt x="106" y="225"/>
                  <a:pt x="106" y="225"/>
                </a:cubicBezTo>
              </a:path>
            </a:pathLst>
          </a:custGeom>
          <a:noFill/>
          <a:ln w="572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3"/>
          <p:cNvSpPr/>
          <p:nvPr/>
        </p:nvSpPr>
        <p:spPr>
          <a:xfrm>
            <a:off x="3344760" y="3255840"/>
            <a:ext cx="147600" cy="389160"/>
          </a:xfrm>
          <a:custGeom>
            <a:avLst/>
            <a:gdLst>
              <a:gd name="textAreaLeft" fmla="*/ 0 w 147600"/>
              <a:gd name="textAreaRight" fmla="*/ 147960 w 1476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127" h="253">
                <a:moveTo>
                  <a:pt x="0" y="0"/>
                </a:moveTo>
                <a:cubicBezTo>
                  <a:pt x="41" y="14"/>
                  <a:pt x="30" y="11"/>
                  <a:pt x="49" y="42"/>
                </a:cubicBezTo>
                <a:cubicBezTo>
                  <a:pt x="74" y="81"/>
                  <a:pt x="56" y="26"/>
                  <a:pt x="78" y="77"/>
                </a:cubicBezTo>
                <a:cubicBezTo>
                  <a:pt x="91" y="107"/>
                  <a:pt x="97" y="138"/>
                  <a:pt x="106" y="169"/>
                </a:cubicBezTo>
                <a:cubicBezTo>
                  <a:pt x="115" y="201"/>
                  <a:pt x="127" y="221"/>
                  <a:pt x="127" y="253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5" descr="MCj01932560000[1]"/>
          <p:cNvPicPr/>
          <p:nvPr/>
        </p:nvPicPr>
        <p:blipFill>
          <a:blip r:embed="rId3"/>
          <a:stretch/>
        </p:blipFill>
        <p:spPr>
          <a:xfrm>
            <a:off x="179280" y="1628640"/>
            <a:ext cx="1685880" cy="3886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4205520" y="251136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1979640" y="3645000"/>
            <a:ext cx="1079640" cy="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3059280" y="3645000"/>
            <a:ext cx="93636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333880" y="30160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1924920" y="56610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2051640" y="12873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1547640" y="306864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3056040" y="3664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069800" y="3592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143600" y="1647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5940360" y="1628640"/>
            <a:ext cx="2160720" cy="459720"/>
          </a:xfrm>
          <a:prstGeom prst="rect">
            <a:avLst/>
          </a:prstGeom>
          <a:solidFill>
            <a:srgbClr val="9be2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alibri"/>
                <a:ea typeface="Arial"/>
              </a:rPr>
              <a:t>∆</a:t>
            </a:r>
            <a:r>
              <a:rPr b="1" lang="en-US" sz="2400" spc="-1" strike="noStrike">
                <a:solidFill>
                  <a:srgbClr val="9900cc"/>
                </a:solidFill>
                <a:latin typeface="Calibri"/>
                <a:ea typeface="Arial"/>
              </a:rPr>
              <a:t>OBD~∆CK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732720" y="2492280"/>
            <a:ext cx="1944720" cy="1103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1"/>
          <p:cNvSpPr/>
          <p:nvPr/>
        </p:nvSpPr>
        <p:spPr>
          <a:xfrm>
            <a:off x="3482640" y="363996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516720" y="4149720"/>
            <a:ext cx="20988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179880" y="6310440"/>
            <a:ext cx="799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800080"/>
                </a:solidFill>
                <a:latin typeface="Calibri"/>
              </a:rPr>
              <a:t>1,62</a:t>
            </a:r>
            <a:endParaRPr b="0" lang="en-US" sz="16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3" name="Rectangle 24"/>
          <p:cNvSpPr/>
          <p:nvPr/>
        </p:nvSpPr>
        <p:spPr>
          <a:xfrm rot="16200000">
            <a:off x="3808440" y="5767200"/>
            <a:ext cx="799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800080"/>
                </a:solidFill>
                <a:latin typeface="Calibri"/>
              </a:rPr>
              <a:t>1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065320" y="4929120"/>
            <a:ext cx="580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5703840" y="4205160"/>
            <a:ext cx="1181160" cy="70488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5446800" y="3824280"/>
            <a:ext cx="1666800" cy="380880"/>
          </a:xfrm>
          <a:prstGeom prst="flowChartExtra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 rot="10800000">
            <a:off x="5846400" y="2147400"/>
            <a:ext cx="299880" cy="2752920"/>
          </a:xfrm>
          <a:custGeom>
            <a:avLst/>
            <a:gdLst>
              <a:gd name="textAreaLeft" fmla="*/ 62280 w 299880"/>
              <a:gd name="textAreaRight" fmla="*/ 237600 w 299880"/>
              <a:gd name="textAreaTop" fmla="*/ 573480 h 2752920"/>
              <a:gd name="textAreaBottom" fmla="*/ 2179440 h 275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5875200" y="2033640"/>
            <a:ext cx="228600" cy="104760"/>
          </a:xfrm>
          <a:prstGeom prst="flowChart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913360" y="1976400"/>
            <a:ext cx="152640" cy="572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5923080" y="19764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7180200" y="19764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6066000" y="2147760"/>
            <a:ext cx="0" cy="32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084480" y="2157480"/>
            <a:ext cx="2828880" cy="27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3094200" y="49482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3094200" y="5205240"/>
            <a:ext cx="2981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8"/>
          <p:cNvSpPr/>
          <p:nvPr/>
        </p:nvSpPr>
        <p:spPr>
          <a:xfrm flipV="1">
            <a:off x="3170160" y="1976400"/>
            <a:ext cx="4391280" cy="43243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3179880" y="6300720"/>
            <a:ext cx="9144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4075200" y="5415120"/>
            <a:ext cx="0" cy="8953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4303800" y="4967280"/>
            <a:ext cx="79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800080"/>
                </a:solidFill>
                <a:latin typeface="Calibri"/>
              </a:rPr>
              <a:t>35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5"/>
          <p:cNvSpPr/>
          <p:nvPr/>
        </p:nvSpPr>
        <p:spPr>
          <a:xfrm rot="16200000">
            <a:off x="6703920" y="3357360"/>
            <a:ext cx="79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8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250920" y="189000"/>
            <a:ext cx="864216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Довжина тіні фабричної труби дорівнює </a:t>
            </a:r>
            <a:r>
              <a:rPr b="1" lang="uk-UA" sz="2400" spc="-1" strike="noStrike">
                <a:solidFill>
                  <a:srgbClr val="c00000"/>
                </a:solidFill>
                <a:latin typeface="Comic Sans MS"/>
              </a:rPr>
              <a:t>35,8 м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. У той самий час вертикально поставлена жердина завдовжки </a:t>
            </a:r>
            <a:r>
              <a:rPr b="1" lang="uk-UA" sz="2400" spc="-1" strike="noStrike">
                <a:solidFill>
                  <a:srgbClr val="c00000"/>
                </a:solidFill>
                <a:latin typeface="Comic Sans MS"/>
              </a:rPr>
              <a:t>1,9 м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дає тінь довжиною </a:t>
            </a:r>
            <a:r>
              <a:rPr b="1" lang="uk-UA" sz="2400" spc="-1" strike="noStrike">
                <a:solidFill>
                  <a:srgbClr val="c00000"/>
                </a:solidFill>
                <a:latin typeface="Comic Sans MS"/>
              </a:rPr>
              <a:t>1,62 м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. Знайдіть висоту тру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65040" y="2293920"/>
            <a:ext cx="379584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6:17:06Z</dcterms:created>
  <dc:creator>User</dc:creator>
  <dc:description/>
  <dc:language>en-US</dc:language>
  <cp:lastModifiedBy>Admin</cp:lastModifiedBy>
  <dcterms:modified xsi:type="dcterms:W3CDTF">2014-01-12T07:32:51Z</dcterms:modified>
  <cp:revision>31</cp:revision>
  <dc:subject/>
  <dc:title>Ознаки подібності трикутникі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11000000000001024140</vt:lpwstr>
  </property>
</Properties>
</file>