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252-4793-4901-B42C-44D2D753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BCF-0701-4A26-8452-EF80179A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D14-3611-4664-83A9-EBE9C633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0C2-C9B6-4105-812D-D88ACCFA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4AE0-04F7-47E8-BA86-9BEDFBDC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3D12-0309-4BE6-A335-F5173499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3056-AD65-4B2F-9794-CE1FF7B8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981A-C191-40C1-A7AF-B346EEDA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06C3-C420-48AF-B529-EDD65BDC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37B3-E95D-42E7-8EE7-D2A3CD7D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B23E-41B8-48CD-AE48-778AC064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7B20-67F2-46C9-A04B-880FB1F9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BEAF-23A1-4FCE-8F06-7AD1C2A7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BA86-0A63-4BCC-96C8-C520236D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D5AA-DD13-4781-8005-5B8B716C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DC48-4CAA-4B7E-86CD-C67367BD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F4A0-C4E8-4C34-8AC6-EFCC8C8B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FEF4E-3F71-42EA-ADAB-3C46CE16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EEB12-4A2B-4A8F-8132-1C306ADB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D92E8-16F7-4A78-8670-73A5677B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98935-AF6B-4E36-9571-59D8E8A1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8BFE4-E42D-4F2C-9A0E-90CDBB78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172-EEB4-43A5-A149-0CF277A6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71430-417D-4569-9F2F-D079E6A8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182D4-A4E8-42C2-BF75-9C5ED689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52F63-1CEA-4983-A15E-DB1C2DDF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F7FB1-8556-4F99-9CFC-296A87B2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68C84-639F-4388-B468-C4E3A1CE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756AD-A3F8-458D-AFC1-C1BFD117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186D-67AC-47A0-83CA-5B12DB63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970B-B195-4666-97FB-DE9D6240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80030-A7CA-4D13-AE97-4D1C2EA0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54587-A9A8-4E55-B046-A845B58C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47B-6D98-4F83-B91E-13F8EF7A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59819-A3BF-42E4-BB5C-E0B4383B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3897A-5892-42CE-8097-0B3BC2DC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5FC81-90EA-4746-9BA3-DED8ACD0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1C013-27B8-4EC7-956C-D1294D7F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3F36F-B202-4A82-BFC6-5FFE544D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70035-5626-4F28-8F87-FECAF033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33FCC-35A6-4A79-90B0-0E14A688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B5452-28BD-44F6-9D3D-2F6200E9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CA2A1-E3E1-4227-9A37-47AA83A0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4D14B-D1C9-4BE5-BA97-25E1C372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ED0-6B0D-4FD1-8BE8-09EE0E5D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8ABA9-EF7C-46F7-AC85-9605155F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8D29F-AE1D-435B-88D9-4B05468A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6587C-EBF2-4907-B6A0-8BEBC675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C9A83-1F58-4E01-A21C-4027106D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50C36-2253-49C8-B38D-158315ED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286DE-4CAD-4881-B551-0A396C4E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83653-3890-4E03-B6BC-B4670DB8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B8640-820D-4D39-A8A0-05C404C7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B014D-D023-48E8-A7CB-F377F2D8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59CDC-DA5A-44EA-8D17-4136EBCA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F62-D5A4-4583-8350-E50CBD13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4CE5B-E60E-4D05-9507-77A18988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E167B-6452-4267-8A7C-3C5186DF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9258C-702E-4E85-BB90-6665A5B5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5ED3B-4851-469B-86EB-CC0371F5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9E296-0E33-46F1-B49D-7418668D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5CDFC-14AF-4B74-AA7D-53027F11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EDF22-E3F7-42F0-97F2-2AFFFA31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DE8B7-B614-4787-912F-C710F106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C8F20-8CC3-4323-A42D-4577C252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DA911-CEFD-4AA0-99EB-4D1C1C65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B909-60BD-4E37-884F-41BEA713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CE758-F120-4109-AAF7-4DF8AF8B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71444-464A-4040-911C-11500942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F2C9C-7E8D-4979-BDCA-B65DE935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F76-855A-40AF-9864-EF35621B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A0B-7C6B-46EE-B30A-FFF724DF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E49D-007A-4B56-B49C-2AA82046F7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3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6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7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F2CF-2B01-4AD7-B3DB-344C10AE2F8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3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4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096A-569C-4713-896A-DA01B8CBE11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EB66-BD31-4C0B-9ED7-D69D45FFF9C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2608-CEA1-46B3-8D1C-4E53FF2FCA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4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7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682A-FE31-490C-805A-E0C86A3586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Прямоугольник 2" descr=""/>
          <p:cNvPicPr/>
          <p:nvPr/>
        </p:nvPicPr>
        <p:blipFill>
          <a:blip r:embed="rId1"/>
          <a:stretch/>
        </p:blipFill>
        <p:spPr>
          <a:xfrm>
            <a:off x="42840" y="2803680"/>
            <a:ext cx="8845560" cy="150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2000160" y="928800"/>
            <a:ext cx="5340600" cy="5338800"/>
          </a:xfrm>
          <a:prstGeom prst="rect">
            <a:avLst/>
          </a:prstGeom>
          <a:ln w="0">
            <a:noFill/>
          </a:ln>
        </p:spPr>
      </p:pic>
      <p:pic>
        <p:nvPicPr>
          <p:cNvPr id="297" name="Rectangle 2" descr=""/>
          <p:cNvPicPr/>
          <p:nvPr/>
        </p:nvPicPr>
        <p:blipFill>
          <a:blip r:embed="rId2"/>
          <a:stretch/>
        </p:blipFill>
        <p:spPr>
          <a:xfrm>
            <a:off x="165240" y="6480"/>
            <a:ext cx="8697600" cy="8586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"/>
          <p:cNvSpPr/>
          <p:nvPr/>
        </p:nvSpPr>
        <p:spPr>
          <a:xfrm rot="21034200">
            <a:off x="5024160" y="18003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Lucida Sans Unicode"/>
              </a:rPr>
              <a:t>у = 5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 rot="20209200">
            <a:off x="4993200" y="463248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                 </a:t>
            </a:r>
            <a:r>
              <a:rPr b="0" lang="uk-UA" sz="1800" spc="-1" strike="noStrike">
                <a:solidFill>
                  <a:srgbClr val="005bd3"/>
                </a:solidFill>
                <a:latin typeface="Lucida Sans Unicode"/>
              </a:rPr>
              <a:t>у = - 5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"/>
          <p:cNvGrpSpPr/>
          <p:nvPr/>
        </p:nvGrpSpPr>
        <p:grpSpPr>
          <a:xfrm>
            <a:off x="1357200" y="1063800"/>
            <a:ext cx="5806800" cy="5794200"/>
            <a:chOff x="1357200" y="1063800"/>
            <a:chExt cx="5806800" cy="5794200"/>
          </a:xfrm>
        </p:grpSpPr>
        <p:pic>
          <p:nvPicPr>
            <p:cNvPr id="301" name="Picture 5" descr=""/>
            <p:cNvPicPr/>
            <p:nvPr/>
          </p:nvPicPr>
          <p:blipFill>
            <a:blip r:embed="rId1"/>
            <a:stretch/>
          </p:blipFill>
          <p:spPr>
            <a:xfrm>
              <a:off x="1589040" y="1063800"/>
              <a:ext cx="5574960" cy="57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6"/>
            <p:cNvSpPr/>
            <p:nvPr/>
          </p:nvSpPr>
          <p:spPr>
            <a:xfrm>
              <a:off x="1357200" y="4785840"/>
              <a:ext cx="1337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Lucida Sans Unicode"/>
                </a:rPr>
                <a:t>y=0,5x+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7"/>
            <p:cNvSpPr/>
            <p:nvPr/>
          </p:nvSpPr>
          <p:spPr>
            <a:xfrm>
              <a:off x="5099040" y="4884480"/>
              <a:ext cx="8586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Lucida Sans Unicode"/>
                </a:rPr>
                <a:t>y=x-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3260520" y="2800800"/>
              <a:ext cx="11700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Lucida Sans Unicode"/>
                </a:rPr>
                <a:t>y=2x+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5099040" y="1928160"/>
              <a:ext cx="1169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Lucida Sans Unicode"/>
                </a:rPr>
                <a:t>y</a:t>
              </a:r>
              <a:r>
                <a:rPr b="1" lang="uk-UA" sz="1200" spc="-1" strike="noStrike">
                  <a:solidFill>
                    <a:srgbClr val="ff0000"/>
                  </a:solidFill>
                  <a:latin typeface="Lucida Sans Unicode"/>
                </a:rPr>
                <a:t>у</a:t>
              </a:r>
              <a:r>
                <a:rPr b="1" lang="en-US" sz="1200" spc="-1" strike="noStrike">
                  <a:solidFill>
                    <a:srgbClr val="ff0000"/>
                  </a:solidFill>
                  <a:latin typeface="Lucida Sans Unicode"/>
                </a:rPr>
                <a:t>=3x-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Rectangle 2" descr=""/>
          <p:cNvPicPr/>
          <p:nvPr/>
        </p:nvPicPr>
        <p:blipFill>
          <a:blip r:embed="rId2"/>
          <a:stretch/>
        </p:blipFill>
        <p:spPr>
          <a:xfrm>
            <a:off x="-6480" y="30240"/>
            <a:ext cx="8869320" cy="76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3"/>
          <p:cNvGrpSpPr/>
          <p:nvPr/>
        </p:nvGrpSpPr>
        <p:grpSpPr>
          <a:xfrm>
            <a:off x="1214280" y="1071000"/>
            <a:ext cx="6193080" cy="5307480"/>
            <a:chOff x="1214280" y="1071000"/>
            <a:chExt cx="6193080" cy="53074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1214280" y="1071720"/>
              <a:ext cx="6193080" cy="53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5"/>
            <p:cNvSpPr/>
            <p:nvPr/>
          </p:nvSpPr>
          <p:spPr>
            <a:xfrm rot="1375800">
              <a:off x="5537160" y="4233960"/>
              <a:ext cx="1487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Lucida Sans Unicode"/>
                </a:rPr>
                <a:t>y=-0,5x+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 rot="2412600">
              <a:off x="2233440" y="4240080"/>
              <a:ext cx="11397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Lucida Sans Unicode"/>
                </a:rPr>
                <a:t>y=-x-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 rot="3862800">
              <a:off x="3991320" y="2304360"/>
              <a:ext cx="12981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Lucida Sans Unicode"/>
                </a:rPr>
                <a:t>y=-2x+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 rot="4036800">
              <a:off x="2749680" y="1524960"/>
              <a:ext cx="130176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0000"/>
                  </a:solidFill>
                  <a:latin typeface="Lucida Sans Unicode"/>
                </a:rPr>
                <a:t>у </a:t>
              </a:r>
              <a:r>
                <a:rPr b="1" lang="en-US" sz="1200" spc="-1" strike="noStrike">
                  <a:solidFill>
                    <a:srgbClr val="ff0000"/>
                  </a:solidFill>
                  <a:latin typeface="Lucida Sans Unicode"/>
                </a:rPr>
                <a:t>=-3x-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Rectangle 2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607240" cy="939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9"/>
          <p:cNvGrpSpPr/>
          <p:nvPr/>
        </p:nvGrpSpPr>
        <p:grpSpPr>
          <a:xfrm>
            <a:off x="1763640" y="981000"/>
            <a:ext cx="5977080" cy="5543640"/>
            <a:chOff x="1763640" y="981000"/>
            <a:chExt cx="5977080" cy="5543640"/>
          </a:xfrm>
        </p:grpSpPr>
        <p:pic>
          <p:nvPicPr>
            <p:cNvPr id="315" name="Picture 10" descr=""/>
            <p:cNvPicPr/>
            <p:nvPr/>
          </p:nvPicPr>
          <p:blipFill>
            <a:blip r:embed="rId1"/>
            <a:stretch/>
          </p:blipFill>
          <p:spPr>
            <a:xfrm>
              <a:off x="1763640" y="981000"/>
              <a:ext cx="5977080" cy="55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11"/>
            <p:cNvSpPr/>
            <p:nvPr/>
          </p:nvSpPr>
          <p:spPr>
            <a:xfrm rot="15606600">
              <a:off x="4610520" y="4805280"/>
              <a:ext cx="161100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-</a:t>
              </a:r>
              <a:r>
                <a:rPr b="1" lang="uk-UA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6x+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2"/>
            <p:cNvSpPr/>
            <p:nvPr/>
          </p:nvSpPr>
          <p:spPr>
            <a:xfrm rot="17978400">
              <a:off x="5153040" y="1422720"/>
              <a:ext cx="10972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y=</a:t>
              </a:r>
              <a:r>
                <a:rPr b="1" lang="ru-RU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x+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3"/>
            <p:cNvSpPr/>
            <p:nvPr/>
          </p:nvSpPr>
          <p:spPr>
            <a:xfrm rot="1519800">
              <a:off x="2107080" y="1501920"/>
              <a:ext cx="14554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y=-</a:t>
              </a:r>
              <a:r>
                <a:rPr b="1" lang="ru-RU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2x+</a:t>
              </a:r>
              <a:r>
                <a:rPr b="1" lang="en-US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4"/>
            <p:cNvSpPr/>
            <p:nvPr/>
          </p:nvSpPr>
          <p:spPr>
            <a:xfrm>
              <a:off x="2276640" y="2440080"/>
              <a:ext cx="109764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y=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Rectangle 2" descr=""/>
          <p:cNvPicPr/>
          <p:nvPr/>
        </p:nvPicPr>
        <p:blipFill>
          <a:blip r:embed="rId2"/>
          <a:stretch/>
        </p:blipFill>
        <p:spPr>
          <a:xfrm>
            <a:off x="725400" y="-146160"/>
            <a:ext cx="7997760" cy="1206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3"/>
          <p:cNvGrpSpPr/>
          <p:nvPr/>
        </p:nvGrpSpPr>
        <p:grpSpPr>
          <a:xfrm>
            <a:off x="1927080" y="1390680"/>
            <a:ext cx="5166000" cy="5164200"/>
            <a:chOff x="1927080" y="1390680"/>
            <a:chExt cx="5166000" cy="5164200"/>
          </a:xfrm>
        </p:grpSpPr>
        <p:pic>
          <p:nvPicPr>
            <p:cNvPr id="322" name="Picture 4" descr=""/>
            <p:cNvPicPr/>
            <p:nvPr/>
          </p:nvPicPr>
          <p:blipFill>
            <a:blip r:embed="rId1"/>
            <a:stretch/>
          </p:blipFill>
          <p:spPr>
            <a:xfrm>
              <a:off x="1927080" y="1390680"/>
              <a:ext cx="5166000" cy="51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5"/>
            <p:cNvSpPr/>
            <p:nvPr/>
          </p:nvSpPr>
          <p:spPr>
            <a:xfrm rot="17752800">
              <a:off x="5442480" y="1936800"/>
              <a:ext cx="94932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Lucida Sans Unicode"/>
                </a:rPr>
                <a:t>y=2x-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"/>
            <p:cNvSpPr/>
            <p:nvPr/>
          </p:nvSpPr>
          <p:spPr>
            <a:xfrm rot="17848200">
              <a:off x="3447000" y="3052080"/>
              <a:ext cx="9493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4c00"/>
                  </a:solidFill>
                  <a:latin typeface="Lucida Sans Unicode"/>
                </a:rPr>
                <a:t>y=2x+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7"/>
            <p:cNvSpPr/>
            <p:nvPr/>
          </p:nvSpPr>
          <p:spPr>
            <a:xfrm rot="17977200">
              <a:off x="4533840" y="1794600"/>
              <a:ext cx="94932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9966"/>
                  </a:solidFill>
                  <a:latin typeface="Lucida Sans Unicode"/>
                </a:rPr>
                <a:t>y=2x+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8"/>
            <p:cNvSpPr/>
            <p:nvPr/>
          </p:nvSpPr>
          <p:spPr>
            <a:xfrm rot="17850600">
              <a:off x="4747320" y="2080080"/>
              <a:ext cx="94860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y=2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7" name="Rectangle 2" descr=""/>
          <p:cNvPicPr/>
          <p:nvPr/>
        </p:nvPicPr>
        <p:blipFill>
          <a:blip r:embed="rId2"/>
          <a:stretch/>
        </p:blipFill>
        <p:spPr>
          <a:xfrm>
            <a:off x="981000" y="-128520"/>
            <a:ext cx="7918560" cy="1555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3"/>
          <p:cNvGrpSpPr/>
          <p:nvPr/>
        </p:nvGrpSpPr>
        <p:grpSpPr>
          <a:xfrm>
            <a:off x="1714680" y="1428840"/>
            <a:ext cx="5398920" cy="4983120"/>
            <a:chOff x="1714680" y="1428840"/>
            <a:chExt cx="5398920" cy="4983120"/>
          </a:xfrm>
        </p:grpSpPr>
        <p:pic>
          <p:nvPicPr>
            <p:cNvPr id="329" name="Picture 4" descr=""/>
            <p:cNvPicPr/>
            <p:nvPr/>
          </p:nvPicPr>
          <p:blipFill>
            <a:blip r:embed="rId1"/>
            <a:stretch/>
          </p:blipFill>
          <p:spPr>
            <a:xfrm>
              <a:off x="1714680" y="1428840"/>
              <a:ext cx="5398920" cy="498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5"/>
            <p:cNvSpPr/>
            <p:nvPr/>
          </p:nvSpPr>
          <p:spPr>
            <a:xfrm>
              <a:off x="2684520" y="2057040"/>
              <a:ext cx="991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6"/>
            <p:cNvSpPr/>
            <p:nvPr/>
          </p:nvSpPr>
          <p:spPr>
            <a:xfrm>
              <a:off x="2522880" y="2952360"/>
              <a:ext cx="991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3</a:t>
              </a:r>
              <a:r>
                <a:rPr b="1" lang="uk-UA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7"/>
            <p:cNvSpPr/>
            <p:nvPr/>
          </p:nvSpPr>
          <p:spPr>
            <a:xfrm>
              <a:off x="2684520" y="3549240"/>
              <a:ext cx="991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8"/>
            <p:cNvSpPr/>
            <p:nvPr/>
          </p:nvSpPr>
          <p:spPr>
            <a:xfrm>
              <a:off x="2684520" y="4444560"/>
              <a:ext cx="991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-</a:t>
              </a:r>
              <a:r>
                <a:rPr b="1" lang="uk-UA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Прямоугольник 10"/>
          <p:cNvSpPr/>
          <p:nvPr/>
        </p:nvSpPr>
        <p:spPr>
          <a:xfrm>
            <a:off x="357120" y="28584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лінійної функції y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x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b, </a:t>
            </a:r>
            <a:r>
              <a:rPr b="1" i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=0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uk-UA" sz="2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(у = </a:t>
            </a:r>
            <a:r>
              <a:rPr b="1" i="1" lang="en-US" sz="2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b)</a:t>
            </a:r>
            <a:r>
              <a:rPr b="1" i="1" lang="uk-UA" sz="2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ІІ група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2022480" y="1096920"/>
            <a:ext cx="4997520" cy="499608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9"/>
          <p:cNvGrpSpPr/>
          <p:nvPr/>
        </p:nvGrpSpPr>
        <p:grpSpPr>
          <a:xfrm>
            <a:off x="3500280" y="2558880"/>
            <a:ext cx="2184120" cy="931680"/>
            <a:chOff x="3500280" y="2558880"/>
            <a:chExt cx="2184120" cy="931680"/>
          </a:xfrm>
        </p:grpSpPr>
        <p:pic>
          <p:nvPicPr>
            <p:cNvPr id="337" name="Text Box 5" descr=""/>
            <p:cNvPicPr/>
            <p:nvPr/>
          </p:nvPicPr>
          <p:blipFill>
            <a:blip r:embed="rId2"/>
            <a:stretch/>
          </p:blipFill>
          <p:spPr>
            <a:xfrm>
              <a:off x="5224680" y="2571480"/>
              <a:ext cx="459720" cy="8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Text Box 6" descr=""/>
            <p:cNvPicPr/>
            <p:nvPr/>
          </p:nvPicPr>
          <p:blipFill>
            <a:blip r:embed="rId3"/>
            <a:stretch/>
          </p:blipFill>
          <p:spPr>
            <a:xfrm>
              <a:off x="4558680" y="2588400"/>
              <a:ext cx="459360" cy="90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Text Box 7" descr=""/>
            <p:cNvPicPr/>
            <p:nvPr/>
          </p:nvPicPr>
          <p:blipFill>
            <a:blip r:embed="rId4"/>
            <a:stretch/>
          </p:blipFill>
          <p:spPr>
            <a:xfrm>
              <a:off x="3500280" y="2571480"/>
              <a:ext cx="749520" cy="8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Text Box 8" descr=""/>
            <p:cNvPicPr/>
            <p:nvPr/>
          </p:nvPicPr>
          <p:blipFill>
            <a:blip r:embed="rId5"/>
            <a:stretch/>
          </p:blipFill>
          <p:spPr>
            <a:xfrm>
              <a:off x="4038840" y="2558880"/>
              <a:ext cx="453240" cy="89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1" name="Rectangle 2" descr=""/>
          <p:cNvPicPr/>
          <p:nvPr/>
        </p:nvPicPr>
        <p:blipFill>
          <a:blip r:embed="rId6"/>
          <a:stretch/>
        </p:blipFill>
        <p:spPr>
          <a:xfrm>
            <a:off x="281160" y="219240"/>
            <a:ext cx="8313480" cy="682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pic>
        <p:nvPicPr>
          <p:cNvPr id="344" name="Picture 4" descr="1244564717_schkoljn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1262160" y="1959120"/>
            <a:ext cx="60465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66"/>
                </a:solidFill>
                <a:latin typeface="Constantia"/>
              </a:rPr>
              <a:t>       </a:t>
            </a:r>
            <a:r>
              <a:rPr b="0" lang="uk-UA" sz="4000" spc="-1" strike="noStrike">
                <a:solidFill>
                  <a:srgbClr val="ff0066"/>
                </a:solidFill>
                <a:latin typeface="Constantia"/>
              </a:rPr>
              <a:t>Домашнє  завданн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857240" y="3143160"/>
            <a:ext cx="52563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4574"/>
                </a:solidFill>
                <a:latin typeface="Lucida Sans Unicode"/>
              </a:rPr>
              <a:t>Повторити  § 21 – 23,  розв</a:t>
            </a:r>
            <a:r>
              <a:rPr b="0" lang="en-US" sz="2000" spc="-1" strike="noStrike">
                <a:solidFill>
                  <a:srgbClr val="004574"/>
                </a:solidFill>
                <a:latin typeface="Lucida Sans Unicode"/>
              </a:rPr>
              <a:t>’</a:t>
            </a:r>
            <a:r>
              <a:rPr b="0" lang="uk-UA" sz="2000" spc="-1" strike="noStrike">
                <a:solidFill>
                  <a:srgbClr val="004574"/>
                </a:solidFill>
                <a:latin typeface="Lucida Sans Unicode"/>
              </a:rPr>
              <a:t>язати  № 955,         № 957 (середній  та  достатній  рівні),  №963  (високий  ріве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2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388c"/>
                </a:solidFill>
                <a:latin typeface="Arial"/>
              </a:rPr>
              <a:t>                            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Математичний дик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1. Відповідність між змінними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, при якій кожному значенню змінної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ідповідає єдине значення змінної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, називаю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2. Змінн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називають … аб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3. Змінну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 (x)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називають … аб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4. Значення змінної у при заданому значенні х називаю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5. Множину значень, яких набуває незалежна змінна, називають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6. Множину значень, яких набуває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лежна змінна, назива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7. Фігура, що складається з усіх то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ординатної площини, абсциси яки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орівнюють значенню аргументу , 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рдинати – відповідним значення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ункції назива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8. Значення аргументу, при я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начення функції дорівнює нулю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зива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9. Якщо більшому значенню аргументу 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оміжку відповідає більше знач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ункції, то функцію назива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2"/>
          <p:cNvSpPr/>
          <p:nvPr/>
        </p:nvSpPr>
        <p:spPr>
          <a:xfrm>
            <a:off x="357120" y="0"/>
            <a:ext cx="7715160" cy="75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0. Якщо більшому значенню аргументу з проміжку відповідає менше значення функції, то функцію називають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.Функція, задана  формулою  у =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x + b, 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де 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– деякі числа,  називають…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2. Графік  кожної лінійної  функції -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3. Пряма, що  проходить  через  початок  координат,  є   … 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4. Якщо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 &gt; 0,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графік функції у =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x 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 розміщений 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5. Якщо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 &lt; 0,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графік функції у =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x 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 розміщений  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2"/>
          <p:cNvSpPr/>
          <p:nvPr/>
        </p:nvSpPr>
        <p:spPr>
          <a:xfrm>
            <a:off x="500040" y="42876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Функціє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Незалежною змінною, або аргументом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Залежною  змінною, або  функціє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Функціональною залежніст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. Областю визначення  функц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. Областю  значення  функц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. Графіком  функц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. Нулями  функц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9. Зростаючо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. Спадно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1. Лінійно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2. Є пряма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3. Є бісектрисою  І і ІІІ  координатних чвертей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4. У І і ІІІ  координатних чвертях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5. У ІІ і 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координатних чверт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7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2f765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№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919  (а,б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а) т.А є у = 0,5 х + 4,    б)  т.А є у = - 12 х + 17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т.В є у = 0,5 х + 4,   т.В  не є у = - 12 х + 17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т.С є у = 0,5 х + 4.         т.А є у = - 12 х + 17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№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927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у = 2х +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m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А(- 2; 5)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5 = 2 · (- 2) +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5 =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- 4 + m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= 9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Відповідь: 9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ull dir="l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1285920" y="285840"/>
            <a:ext cx="55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Побудувати  графік 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571680" y="1000080"/>
            <a:ext cx="80010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5bd3"/>
                </a:solidFill>
                <a:latin typeface="Arial"/>
              </a:rPr>
              <a:t>І  група                 ІІ  група                 ІІІ 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                          у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                        у = 5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0,5х.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0,5х.                       у = - 5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5;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5;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-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3;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3;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4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х – 7;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х – 7;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=  0,5х + 2.              у =  - 0,5х + 2.                у = - 6х +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4;                     у = 7;                              х= - 3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5;                     у = 3;                               х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х;                          у = 0;                               х 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=  2х + 7.                   у = - 4.                             х 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333000"/>
            <a:ext cx="8472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Lucida Sans Unicode"/>
              </a:rPr>
              <a:t>а) Графік  лінійної функції y=kx, k&gt;0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  (І  група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2197080" y="856440"/>
            <a:ext cx="4680000" cy="5380920"/>
            <a:chOff x="2197080" y="856440"/>
            <a:chExt cx="4680000" cy="5380920"/>
          </a:xfrm>
        </p:grpSpPr>
        <p:pic>
          <p:nvPicPr>
            <p:cNvPr id="286" name="Picture 5" descr=""/>
            <p:cNvPicPr/>
            <p:nvPr/>
          </p:nvPicPr>
          <p:blipFill>
            <a:blip r:embed="rId1"/>
            <a:stretch/>
          </p:blipFill>
          <p:spPr>
            <a:xfrm>
              <a:off x="2197080" y="907920"/>
              <a:ext cx="468000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6"/>
            <p:cNvSpPr/>
            <p:nvPr/>
          </p:nvSpPr>
          <p:spPr>
            <a:xfrm rot="17546400">
              <a:off x="4998960" y="1041120"/>
              <a:ext cx="7203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y=2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7"/>
            <p:cNvSpPr/>
            <p:nvPr/>
          </p:nvSpPr>
          <p:spPr>
            <a:xfrm rot="18831600">
              <a:off x="5657400" y="1512360"/>
              <a:ext cx="7203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y=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 rot="19795800">
              <a:off x="5763600" y="2205000"/>
              <a:ext cx="98280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y=0,5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horz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5"/>
          <p:cNvGrpSpPr/>
          <p:nvPr/>
        </p:nvGrpSpPr>
        <p:grpSpPr>
          <a:xfrm>
            <a:off x="1780920" y="714240"/>
            <a:ext cx="5332320" cy="5588280"/>
            <a:chOff x="1780920" y="714240"/>
            <a:chExt cx="5332320" cy="5588280"/>
          </a:xfrm>
        </p:grpSpPr>
        <p:pic>
          <p:nvPicPr>
            <p:cNvPr id="291" name="Picture 6" descr=""/>
            <p:cNvPicPr/>
            <p:nvPr/>
          </p:nvPicPr>
          <p:blipFill>
            <a:blip r:embed="rId1"/>
            <a:stretch/>
          </p:blipFill>
          <p:spPr>
            <a:xfrm>
              <a:off x="1928880" y="714240"/>
              <a:ext cx="5184360" cy="558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7"/>
            <p:cNvSpPr/>
            <p:nvPr/>
          </p:nvSpPr>
          <p:spPr>
            <a:xfrm rot="3929400">
              <a:off x="3209760" y="1072440"/>
              <a:ext cx="7966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y=-2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8"/>
            <p:cNvSpPr/>
            <p:nvPr/>
          </p:nvSpPr>
          <p:spPr>
            <a:xfrm rot="2778000">
              <a:off x="1987200" y="1353240"/>
              <a:ext cx="7966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y=-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9"/>
            <p:cNvSpPr/>
            <p:nvPr/>
          </p:nvSpPr>
          <p:spPr>
            <a:xfrm rot="1662600">
              <a:off x="1834920" y="2561040"/>
              <a:ext cx="1086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y=-0,5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5" name="Rectangle 2" descr=""/>
          <p:cNvPicPr/>
          <p:nvPr/>
        </p:nvPicPr>
        <p:blipFill>
          <a:blip r:embed="rId2"/>
          <a:stretch/>
        </p:blipFill>
        <p:spPr>
          <a:xfrm>
            <a:off x="249120" y="-6480"/>
            <a:ext cx="8345520" cy="725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9:42:55Z</dcterms:created>
  <dc:creator>User</dc:creator>
  <dc:description/>
  <dc:language>en-US</dc:language>
  <cp:lastModifiedBy>Admin</cp:lastModifiedBy>
  <dcterms:modified xsi:type="dcterms:W3CDTF">2014-01-03T14:49:17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2000000000001024140</vt:lpwstr>
  </property>
</Properties>
</file>