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63C-FFC6-4ECF-929F-AAC4E934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E67-00BE-4384-AF70-DECEBFDF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9A3-BB62-4EAC-9600-A9E9EF1B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A98-1FB1-470E-9FE8-A584B13B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E70D-E3E7-4B70-B5BF-11032FB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4242-C29A-46E1-9618-43134FE0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2FE6-A459-43A9-BEAB-A2DF8138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433-AC1F-447D-9DDE-A62D9DF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2E9-75C0-46C7-BDCE-FA09B080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EA24-2594-4479-8D32-424EED3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BCF-BCDF-42C4-BDCF-AA92689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81D-0229-4D32-BBB8-AC8A226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1C53-80F1-433B-80FC-2CDA26C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2BAE-9A64-4566-A57D-2F34765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1BE-8040-4A64-8E3C-A8EA283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9281-CD57-411D-ABF1-582A402D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B039-B4CE-4CBA-B9ED-E8C49779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CE3D-A3B7-4E7C-9762-3334A2B0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F52B-4E56-48EF-92A3-5C39327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349C-6FAA-4381-8605-9609FB67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87D6-31AC-415F-9622-02997175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E777-C448-44AF-B4B6-ABA7A0F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F94-6EC1-4AB0-A133-DC399E33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6561-78CA-453A-B691-99FA5B4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C98E-7C01-4B48-88BB-021A7FA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E91B-F014-4161-916B-6D82590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6162-2720-4726-AA24-4BD1C13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E056-0EEE-482A-A11D-5B61F02F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BDBF-27B3-40F3-82CC-60F1BB41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01B3-3DE2-44BC-BD01-D7A17F7A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EF13-6601-42F9-9BB2-35869A2D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A069-4C6E-4775-ABE2-F6424B44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4855-DD5D-4331-AEEF-B923C9F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789-C1E3-4B83-95E7-A614DAC8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5192-394A-457E-B468-ECF77C0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8760B-2806-4ABB-8E98-38B2D6C9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8E85-70E2-4AB2-BFF0-C97CAAB6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14AB-EDC6-4AB9-A584-2F15690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C681-7463-4C5C-8872-952BE34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890C-CF74-4D7A-BC15-C3E80D4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57D5-E29C-4648-9B34-FE02C2E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B257-13AB-4EFA-B5B8-F28FFB0C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4129-0C18-415B-851E-C65D0CF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44E3-DE43-4AF0-9774-AAE91803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6C9-4960-4F0B-82FE-2C03A00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6731D-6C47-4629-8F24-83BBD7C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B2B5-7632-40BA-8240-516BB68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876F8-90B0-484E-BADC-188F1E0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3264-1757-4C51-96FD-57256995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AF0FA-F3B7-4D3A-B34E-6DB2D1A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1A31-FD0E-430D-834E-B7B235F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1EF7-60E0-49CF-926D-A086CC5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B23E-0363-4760-AFE9-8ADEDF6C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DE74-6A9A-4ED5-88E1-91EF45F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6A2B-139E-4699-9E85-FBDC46A6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D03-13AE-4060-BEFA-968A0E7A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7A96-8878-46D4-A056-09389A03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153F-CC06-4785-BE50-73439BF5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4AB3D-5924-4B02-B5C5-736070D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DE21-0AF3-4938-BA62-B47BAD3D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8AF7-C37E-4C68-A01A-975D59EB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7874-4CD1-4DC6-8DBA-3EC08B85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9E35-9F1B-4CB6-8088-C656797E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4C3E3-10D5-4972-8598-CDFB3F4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250B-0BB7-4039-AD1C-B55A204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22CE9-26EA-42BE-951E-0A35AE1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B1E-9EA6-426E-B2E0-C6FF09F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9F2CD-EE04-4AE7-95F3-CF924DCC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E3CD-408C-4CB1-8300-C32E8AB2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9F6B7-E85C-4771-BCA6-AAA434D0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32F-4640-4661-8CC4-8333813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3DE-5152-45DA-9AAF-10DF558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84F-2B8D-4C13-944C-315023AA03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DFFB-962B-46D8-A01F-987E7E3F52B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9C3-6F5F-45DB-BC5C-0672B885CE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FD2-4BE4-4E5E-B8F2-FC2A3A4546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125-F78E-42C3-B860-BE8D32F6CC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4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E878-844B-4537-B226-B875BF9321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Прямоугольник 2" descr=""/>
          <p:cNvPicPr/>
          <p:nvPr/>
        </p:nvPicPr>
        <p:blipFill>
          <a:blip r:embed="rId1"/>
          <a:stretch/>
        </p:blipFill>
        <p:spPr>
          <a:xfrm>
            <a:off x="42840" y="2803680"/>
            <a:ext cx="8845560" cy="150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000160" y="928800"/>
            <a:ext cx="5340600" cy="5338800"/>
          </a:xfrm>
          <a:prstGeom prst="rect">
            <a:avLst/>
          </a:prstGeom>
          <a:ln w="0">
            <a:noFill/>
          </a:ln>
        </p:spPr>
      </p:pic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165240" y="6480"/>
            <a:ext cx="8697600" cy="8586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"/>
          <p:cNvSpPr/>
          <p:nvPr/>
        </p:nvSpPr>
        <p:spPr>
          <a:xfrm rot="21034200">
            <a:off x="5024160" y="18003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Lucida Sans Unicode"/>
              </a:rPr>
              <a:t>у = 5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 rot="20209200">
            <a:off x="4993200" y="46324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uk-UA" sz="1800" spc="-1" strike="noStrike">
                <a:solidFill>
                  <a:srgbClr val="005bd3"/>
                </a:solidFill>
                <a:latin typeface="Lucida Sans Unicode"/>
              </a:rPr>
              <a:t>у = - 5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357200" y="1063800"/>
            <a:ext cx="5806800" cy="5794200"/>
            <a:chOff x="1357200" y="1063800"/>
            <a:chExt cx="5806800" cy="5794200"/>
          </a:xfrm>
        </p:grpSpPr>
        <p:pic>
          <p:nvPicPr>
            <p:cNvPr id="301" name="Picture 5" descr=""/>
            <p:cNvPicPr/>
            <p:nvPr/>
          </p:nvPicPr>
          <p:blipFill>
            <a:blip r:embed="rId1"/>
            <a:stretch/>
          </p:blipFill>
          <p:spPr>
            <a:xfrm>
              <a:off x="1589040" y="1063800"/>
              <a:ext cx="5574960" cy="57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"/>
            <p:cNvSpPr/>
            <p:nvPr/>
          </p:nvSpPr>
          <p:spPr>
            <a:xfrm>
              <a:off x="1357200" y="4785840"/>
              <a:ext cx="1337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5099040" y="4884480"/>
              <a:ext cx="8586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3260520" y="2800800"/>
              <a:ext cx="117000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5099040" y="1928160"/>
              <a:ext cx="11696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y</a:t>
              </a: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Rectangle 2" descr=""/>
          <p:cNvPicPr/>
          <p:nvPr/>
        </p:nvPicPr>
        <p:blipFill>
          <a:blip r:embed="rId2"/>
          <a:stretch/>
        </p:blipFill>
        <p:spPr>
          <a:xfrm>
            <a:off x="-6480" y="30240"/>
            <a:ext cx="8869320" cy="76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3"/>
          <p:cNvGrpSpPr/>
          <p:nvPr/>
        </p:nvGrpSpPr>
        <p:grpSpPr>
          <a:xfrm>
            <a:off x="1214280" y="1071000"/>
            <a:ext cx="6193080" cy="5307480"/>
            <a:chOff x="1214280" y="1071000"/>
            <a:chExt cx="6193080" cy="53074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1214280" y="1071720"/>
              <a:ext cx="6193080" cy="53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5"/>
            <p:cNvSpPr/>
            <p:nvPr/>
          </p:nvSpPr>
          <p:spPr>
            <a:xfrm rot="1375800">
              <a:off x="5537160" y="4233960"/>
              <a:ext cx="1487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Lucida Sans Unicode"/>
                </a:rPr>
                <a:t>y=-0,5x+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 rot="2412600">
              <a:off x="2233440" y="4240080"/>
              <a:ext cx="1139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Lucida Sans Unicode"/>
                </a:rPr>
                <a:t>y=-x-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 rot="3862800">
              <a:off x="3991320" y="2304360"/>
              <a:ext cx="12981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-2x+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 rot="4036800">
              <a:off x="2749680" y="1524960"/>
              <a:ext cx="130176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0000"/>
                  </a:solidFill>
                  <a:latin typeface="Lucida Sans Unicode"/>
                </a:rPr>
                <a:t>у </a:t>
              </a:r>
              <a:r>
                <a:rPr b="1" lang="en-US" sz="1200" spc="-1" strike="noStrike">
                  <a:solidFill>
                    <a:srgbClr val="ff0000"/>
                  </a:solidFill>
                  <a:latin typeface="Lucida Sans Unicode"/>
                </a:rPr>
                <a:t>=-3x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Rectangle 2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607240" cy="939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9"/>
          <p:cNvGrpSpPr/>
          <p:nvPr/>
        </p:nvGrpSpPr>
        <p:grpSpPr>
          <a:xfrm>
            <a:off x="1763640" y="981000"/>
            <a:ext cx="5977080" cy="5543640"/>
            <a:chOff x="1763640" y="981000"/>
            <a:chExt cx="5977080" cy="5543640"/>
          </a:xfrm>
        </p:grpSpPr>
        <p:pic>
          <p:nvPicPr>
            <p:cNvPr id="315" name="Picture 10" descr=""/>
            <p:cNvPicPr/>
            <p:nvPr/>
          </p:nvPicPr>
          <p:blipFill>
            <a:blip r:embed="rId1"/>
            <a:stretch/>
          </p:blipFill>
          <p:spPr>
            <a:xfrm>
              <a:off x="1763640" y="981000"/>
              <a:ext cx="597708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1"/>
            <p:cNvSpPr/>
            <p:nvPr/>
          </p:nvSpPr>
          <p:spPr>
            <a:xfrm rot="15606600">
              <a:off x="4610520" y="4805280"/>
              <a:ext cx="161100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6x+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 rot="17978400">
              <a:off x="5153040" y="1422720"/>
              <a:ext cx="10972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</a:t>
              </a:r>
              <a:r>
                <a:rPr b="1" lang="ru-RU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 rot="1519800">
              <a:off x="2107080" y="1501920"/>
              <a:ext cx="14554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</a:t>
              </a: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2x+</a:t>
              </a: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2276640" y="2440080"/>
              <a:ext cx="10976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y=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725400" y="-146160"/>
            <a:ext cx="7997760" cy="120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1927080" y="1390680"/>
            <a:ext cx="5166000" cy="5164200"/>
            <a:chOff x="1927080" y="1390680"/>
            <a:chExt cx="5166000" cy="5164200"/>
          </a:xfrm>
        </p:grpSpPr>
        <p:pic>
          <p:nvPicPr>
            <p:cNvPr id="322" name="Picture 4" descr=""/>
            <p:cNvPicPr/>
            <p:nvPr/>
          </p:nvPicPr>
          <p:blipFill>
            <a:blip r:embed="rId1"/>
            <a:stretch/>
          </p:blipFill>
          <p:spPr>
            <a:xfrm>
              <a:off x="1927080" y="1390680"/>
              <a:ext cx="516600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5"/>
            <p:cNvSpPr/>
            <p:nvPr/>
          </p:nvSpPr>
          <p:spPr>
            <a:xfrm rot="17752800">
              <a:off x="5442480" y="1936800"/>
              <a:ext cx="949320" cy="4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Lucida Sans Unicode"/>
                </a:rPr>
                <a:t>y=2x-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 rot="17848200">
              <a:off x="3447000" y="3052080"/>
              <a:ext cx="9493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4c00"/>
                  </a:solidFill>
                  <a:latin typeface="Lucida Sans Unicode"/>
                </a:rPr>
                <a:t>y=2x+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 rot="17977200">
              <a:off x="4533840" y="1794600"/>
              <a:ext cx="9493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Lucida Sans Unicode"/>
                </a:rPr>
                <a:t>y=2x+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 rot="17850600">
              <a:off x="4747320" y="2080080"/>
              <a:ext cx="94860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Rectangle 2" descr=""/>
          <p:cNvPicPr/>
          <p:nvPr/>
        </p:nvPicPr>
        <p:blipFill>
          <a:blip r:embed="rId2"/>
          <a:stretch/>
        </p:blipFill>
        <p:spPr>
          <a:xfrm>
            <a:off x="981000" y="-128520"/>
            <a:ext cx="7918560" cy="155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3"/>
          <p:cNvGrpSpPr/>
          <p:nvPr/>
        </p:nvGrpSpPr>
        <p:grpSpPr>
          <a:xfrm>
            <a:off x="1714680" y="1428840"/>
            <a:ext cx="5398920" cy="4983120"/>
            <a:chOff x="1714680" y="1428840"/>
            <a:chExt cx="5398920" cy="498312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1428840"/>
              <a:ext cx="539892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5"/>
            <p:cNvSpPr/>
            <p:nvPr/>
          </p:nvSpPr>
          <p:spPr>
            <a:xfrm>
              <a:off x="2684520" y="20570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2522880" y="29523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3</a:t>
              </a:r>
              <a:r>
                <a:rPr b="1" lang="uk-UA" sz="1400" spc="-1" strike="noStrike">
                  <a:solidFill>
                    <a:srgbClr val="339966"/>
                  </a:solidFill>
                  <a:latin typeface="Times New Roman"/>
                  <a:ea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684520" y="354924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2684520" y="4444560"/>
              <a:ext cx="991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у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-</a:t>
              </a:r>
              <a:r>
                <a:rPr b="1" lang="uk-UA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Прямоугольник 10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лінійної функції y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,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=0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(у = </a:t>
            </a:r>
            <a:r>
              <a:rPr b="1" i="1" lang="en-US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b)</a:t>
            </a: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І група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022480" y="1096920"/>
            <a:ext cx="4997520" cy="49960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9"/>
          <p:cNvGrpSpPr/>
          <p:nvPr/>
        </p:nvGrpSpPr>
        <p:grpSpPr>
          <a:xfrm>
            <a:off x="3500280" y="2558880"/>
            <a:ext cx="2184120" cy="931680"/>
            <a:chOff x="3500280" y="2558880"/>
            <a:chExt cx="2184120" cy="931680"/>
          </a:xfrm>
        </p:grpSpPr>
        <p:pic>
          <p:nvPicPr>
            <p:cNvPr id="337" name="Text Box 5" descr=""/>
            <p:cNvPicPr/>
            <p:nvPr/>
          </p:nvPicPr>
          <p:blipFill>
            <a:blip r:embed="rId2"/>
            <a:stretch/>
          </p:blipFill>
          <p:spPr>
            <a:xfrm>
              <a:off x="5224680" y="2571480"/>
              <a:ext cx="4597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Text Box 6" descr=""/>
            <p:cNvPicPr/>
            <p:nvPr/>
          </p:nvPicPr>
          <p:blipFill>
            <a:blip r:embed="rId3"/>
            <a:stretch/>
          </p:blipFill>
          <p:spPr>
            <a:xfrm>
              <a:off x="4558680" y="2588400"/>
              <a:ext cx="459360" cy="90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Text Box 7" descr=""/>
            <p:cNvPicPr/>
            <p:nvPr/>
          </p:nvPicPr>
          <p:blipFill>
            <a:blip r:embed="rId4"/>
            <a:stretch/>
          </p:blipFill>
          <p:spPr>
            <a:xfrm>
              <a:off x="3500280" y="2571480"/>
              <a:ext cx="74952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Text Box 8" descr=""/>
            <p:cNvPicPr/>
            <p:nvPr/>
          </p:nvPicPr>
          <p:blipFill>
            <a:blip r:embed="rId5"/>
            <a:stretch/>
          </p:blipFill>
          <p:spPr>
            <a:xfrm>
              <a:off x="4038840" y="2558880"/>
              <a:ext cx="453240" cy="89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Rectangle 2" descr=""/>
          <p:cNvPicPr/>
          <p:nvPr/>
        </p:nvPicPr>
        <p:blipFill>
          <a:blip r:embed="rId6"/>
          <a:stretch/>
        </p:blipFill>
        <p:spPr>
          <a:xfrm>
            <a:off x="281160" y="219240"/>
            <a:ext cx="8313480" cy="682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pic>
        <p:nvPicPr>
          <p:cNvPr id="344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1262160" y="1959120"/>
            <a:ext cx="6046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0" lang="uk-UA" sz="4000" spc="-1" strike="noStrike">
                <a:solidFill>
                  <a:srgbClr val="ff0066"/>
                </a:solidFill>
                <a:latin typeface="Constantia"/>
              </a:rPr>
              <a:t>Домашнє  завданн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857240" y="3143160"/>
            <a:ext cx="5256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Повторити  § 21 – 23,  розв</a:t>
            </a:r>
            <a:r>
              <a:rPr b="0" lang="en-US" sz="2000" spc="-1" strike="noStrike">
                <a:solidFill>
                  <a:srgbClr val="004574"/>
                </a:solidFill>
                <a:latin typeface="Lucida Sans Unicode"/>
              </a:rPr>
              <a:t>’</a:t>
            </a:r>
            <a:r>
              <a:rPr b="0" lang="uk-UA" sz="2000" spc="-1" strike="noStrike">
                <a:solidFill>
                  <a:srgbClr val="004574"/>
                </a:solidFill>
                <a:latin typeface="Lucida Sans Unicode"/>
              </a:rPr>
              <a:t>язати  № 955,         № 957 (середній  та  достатній  рівні),  №963  (високий  рі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388c"/>
                </a:solidFill>
                <a:latin typeface="Arial"/>
              </a:rPr>
              <a:t>                           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атематичн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. Відповідність між змінним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при якій кожному значенню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ідповідає єдине значення змінної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 Змінн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. Змінну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 (x)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називають … аб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. Значення змінної у при заданому значенні х називаю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5. Множину значень, яких набуває незалежна змінна, називають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6. Множину значень, яких набуває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лежна змінна,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7. Фігура, що складається з усіх то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ординатної площини, абсциси яки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рівнюють значенню аргументу , 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рдинати – відповідним значення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8. Значення аргументу, при я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начення функції дорівнює нулю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9. Якщо більшому значенню аргументу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міжку відповідає більше знач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кції, то функцію назива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357120" y="0"/>
            <a:ext cx="771516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0. Якщо більшому значенню аргументу з проміжку відповідає менше значення функції, то функцію називають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.Функція, задана  формулою 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+ b,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де 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– деякі числа,  називають…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2. Графік  кожної лінійної  функції -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3. Пряма, що  проходить  через  початок  координат,  є   … 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4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g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15. Якщо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 &lt; 0,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графік функції у =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kx </a:t>
            </a:r>
            <a:r>
              <a:rPr b="1" lang="uk-UA" sz="3400" spc="-1" strike="noStrike">
                <a:solidFill>
                  <a:srgbClr val="000000"/>
                </a:solidFill>
                <a:latin typeface="Calibri"/>
              </a:rPr>
              <a:t>  розміщений 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2"/>
          <p:cNvSpPr/>
          <p:nvPr/>
        </p:nvSpPr>
        <p:spPr>
          <a:xfrm>
            <a:off x="500040" y="42876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Незалежною змінною, або аргументом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Залежною  змінною, або  функціє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Функціональною залежніст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 Областю ви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Областю  значення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Графіком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. Нулями  функції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. Зростаюч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. Спад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1. Лінійною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. Є пряма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3. Є бісектрисою  І і ІІІ  координатних чверте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4. У І і ІІІ  координатних чвертях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 У ІІ і 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координатних чверт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7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2f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№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19  (а,б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) т.А є у = 0,5 х + 4,    б)  т.А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В є у = 0,5 х + 4,   т.В  не є у = - 12 х + 17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т.С є у = 0,5 х + 4.         т.А є у = - 12 х + 1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927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у = 2х +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А(- 2; 5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2 · (- 2) +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 =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- 4 + 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=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Відповідь: 9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l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28592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Побудувати  графік  фун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571680" y="1000080"/>
            <a:ext cx="8001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5bd3"/>
                </a:solidFill>
                <a:latin typeface="Arial"/>
              </a:rPr>
              <a:t>І  група                 ІІ  група                 ІІІ 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  у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                        у = 5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0,5х.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0,5х.                       у = - 5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5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-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3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х – 7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- х – 7;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0,5х + 2.              у =  - 0,5х + 2.                у = - 6х +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4;                     у = 7;                              х= - 3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5;                     у = 3;                               х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2х;                          у = 0;                               х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=  2х + 7.                   у = - 4.                             х 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33000"/>
            <a:ext cx="8472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Lucida Sans Unicode"/>
              </a:rPr>
              <a:t>а) Графік  лінійної функції y=kx, k&gt;0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(І  група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2197080" y="856440"/>
            <a:ext cx="4680000" cy="5380920"/>
            <a:chOff x="2197080" y="856440"/>
            <a:chExt cx="4680000" cy="5380920"/>
          </a:xfrm>
        </p:grpSpPr>
        <p:pic>
          <p:nvPicPr>
            <p:cNvPr id="286" name="Picture 5" descr=""/>
            <p:cNvPicPr/>
            <p:nvPr/>
          </p:nvPicPr>
          <p:blipFill>
            <a:blip r:embed="rId1"/>
            <a:stretch/>
          </p:blipFill>
          <p:spPr>
            <a:xfrm>
              <a:off x="2197080" y="907920"/>
              <a:ext cx="468000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 rot="17546400">
              <a:off x="4998960" y="104112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 rot="18831600">
              <a:off x="5657400" y="1512360"/>
              <a:ext cx="7203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 rot="19795800">
              <a:off x="5763600" y="2205000"/>
              <a:ext cx="9828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5"/>
          <p:cNvGrpSpPr/>
          <p:nvPr/>
        </p:nvGrpSpPr>
        <p:grpSpPr>
          <a:xfrm>
            <a:off x="1780920" y="714240"/>
            <a:ext cx="5332320" cy="5588280"/>
            <a:chOff x="1780920" y="714240"/>
            <a:chExt cx="5332320" cy="5588280"/>
          </a:xfrm>
        </p:grpSpPr>
        <p:pic>
          <p:nvPicPr>
            <p:cNvPr id="291" name="Picture 6" descr=""/>
            <p:cNvPicPr/>
            <p:nvPr/>
          </p:nvPicPr>
          <p:blipFill>
            <a:blip r:embed="rId1"/>
            <a:stretch/>
          </p:blipFill>
          <p:spPr>
            <a:xfrm>
              <a:off x="1928880" y="714240"/>
              <a:ext cx="5184360" cy="55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7"/>
            <p:cNvSpPr/>
            <p:nvPr/>
          </p:nvSpPr>
          <p:spPr>
            <a:xfrm rot="3929400">
              <a:off x="3209760" y="10724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y=-2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 rot="2778000">
              <a:off x="1987200" y="1353240"/>
              <a:ext cx="7966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y=-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 rot="1662600">
              <a:off x="1834920" y="2561040"/>
              <a:ext cx="1086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y=-0,5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Rectangle 2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8345520" cy="725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9:42:55Z</dcterms:created>
  <dc:creator>User</dc:creator>
  <dc:description/>
  <dc:language>en-US</dc:language>
  <cp:lastModifiedBy>Admin</cp:lastModifiedBy>
  <dcterms:modified xsi:type="dcterms:W3CDTF">2014-01-03T14:49:17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</Properties>
</file>