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F13-E77C-4A0F-8224-748173F3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2AE-DDA7-48B2-A7DE-798DCC91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304-8789-43B8-A90C-5129ED7E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145-1CBF-4437-B4B4-16445028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5D23-94AB-4267-90AF-E269D719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D64D-6359-4909-A425-B3A23EDF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2B7B-6046-46B6-BF16-A7BB85B0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BC26-19AD-40E3-A1FE-871E8668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84EE-C992-4DC5-A7E6-E644B425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C3FD-253E-449D-B66F-2902E5FF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A3EC-7306-4E8B-AFCE-676D6F88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F6E-5DBC-4D69-8810-27D14006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A162-B986-42B3-965B-6227D39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C8F5-33C1-4865-82C8-CEFB4DB2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B71F-906F-4926-9F00-AD96CEEF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2F6C-C987-4CF9-ACFD-BC1344D2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AA08-25B5-41A2-85DF-8E757724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59792-21A8-49D5-81DB-6E241B7B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0F8B-C0C3-4D9A-B3B8-A0869037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804EC-DC0E-4C65-9899-6D3E0E5B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A275-654C-4AD5-97A7-8E85C790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D502-A4BD-4E43-A38A-A5E939F1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CD2-672E-4D87-871D-538E8E62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9711-D4B1-4A5B-BCAF-6552B17B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B62E7-3D91-45CB-B4DF-0015E53D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19286-E7A9-4406-B8BF-3197172F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956F-9605-478F-8AAD-9AE8F007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1910-D7DE-48A9-B4D5-78CE1F00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963A-AA1F-4963-9866-2B6D7F4E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D6E0E-2CE1-4C4D-B843-82C570DB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FE827-6BD5-444F-9E8D-1B48D66D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513F0-DEC3-4EC8-B1F2-1204C249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5E052-3CEB-4E38-8CB0-621E606D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41D-CFCB-4B77-8678-E807A022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68298-DE49-43A7-B8D6-8A743F07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CFCBF-C053-4F84-A0EB-45EED4E3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8AB7D-8305-4125-8507-E0EA4C30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AFE2B-BDD3-4F3F-B3DE-D4325172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88D7D-895F-486B-B365-45ABC5FD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F0FE-3A1F-439A-B34E-50A4E4E2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E0716-87D2-4B51-AAB9-1DC8A2A7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3A36-AD50-4173-A35B-43819521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5400D-DB2D-454E-BCE2-D6712686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581DD-5517-4389-890D-68E675CC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0AA-0609-482F-A5ED-C8D0207B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615A2-72F1-4A2D-B3EC-7717FECE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A2AD2-905A-4D12-BF48-A07B9502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4D14-27D4-4316-93DA-20132276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0A86B-B241-4D11-92FA-0E598379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5305A-EFE5-4503-9D46-8127D2B9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2E021-655C-4C5E-B668-00DACDDA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FFA2A-2C51-4ABA-9F99-9E526A99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E077C-1D4D-4FC2-A92D-07F4ED3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E0665-092F-4DE9-A022-CFFB9D9F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620F5-8713-4D8C-80DE-F93DB58C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C33-6496-4C4F-AC45-F46A9142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5E525-4D9A-4EE8-AB76-742C336C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B5C87-92EC-4C4C-A8A3-9483E22C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88261-3700-4241-A59F-8C03E787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FA9D2-53B9-4233-9900-0D0221FA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6DC78-3C21-43DB-9F38-BD3E72F6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AE7FE-1C7A-429D-9608-FEBC5D05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C847E-FF29-42C2-95FE-32F3D948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61FCE-F9D8-4BEE-B3E8-FA4B5BAD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AA893-7A33-47A8-83E7-E35D78AB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1EF1A-90CC-4413-9790-5629BAC4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6BA-C277-47AB-8B2F-E0852B06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D4FB4-253F-458A-937B-19B631CD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609BF-8E98-4184-9A5D-36500307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DE56D-966D-421B-84E0-22E0C39C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3E2-1AAB-4F6B-9BBA-CB0A658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E74-AA9C-4C7D-8041-9067F637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6CE4-C88B-4436-A6FE-4755330CB2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6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42C8-CE5C-4348-B7A0-5D8EA905B22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3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4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01DC-9F3A-4D47-97F0-F83151A6D0D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93E7-DEDA-4BA3-953F-40E1DDA64A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0485-55D8-41DA-AB9B-30503C2C20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4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7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0338-AA63-4C61-A158-7526C38414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Прямоугольник 2" descr=""/>
          <p:cNvPicPr/>
          <p:nvPr/>
        </p:nvPicPr>
        <p:blipFill>
          <a:blip r:embed="rId1"/>
          <a:stretch/>
        </p:blipFill>
        <p:spPr>
          <a:xfrm>
            <a:off x="42840" y="2803680"/>
            <a:ext cx="8845560" cy="150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2000160" y="928800"/>
            <a:ext cx="5340600" cy="5338800"/>
          </a:xfrm>
          <a:prstGeom prst="rect">
            <a:avLst/>
          </a:prstGeom>
          <a:ln w="0">
            <a:noFill/>
          </a:ln>
        </p:spPr>
      </p:pic>
      <p:pic>
        <p:nvPicPr>
          <p:cNvPr id="297" name="Rectangle 2" descr=""/>
          <p:cNvPicPr/>
          <p:nvPr/>
        </p:nvPicPr>
        <p:blipFill>
          <a:blip r:embed="rId2"/>
          <a:stretch/>
        </p:blipFill>
        <p:spPr>
          <a:xfrm>
            <a:off x="165240" y="6480"/>
            <a:ext cx="8697600" cy="8586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"/>
          <p:cNvSpPr/>
          <p:nvPr/>
        </p:nvSpPr>
        <p:spPr>
          <a:xfrm rot="21034200">
            <a:off x="5024160" y="18003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у = 5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 rot="20209200">
            <a:off x="4993200" y="463248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                 </a:t>
            </a:r>
            <a:r>
              <a:rPr b="0" lang="uk-UA" sz="1800" spc="-1" strike="noStrike">
                <a:solidFill>
                  <a:srgbClr val="005bd3"/>
                </a:solidFill>
                <a:latin typeface="Lucida Sans Unicode"/>
              </a:rPr>
              <a:t>у = - 5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"/>
          <p:cNvGrpSpPr/>
          <p:nvPr/>
        </p:nvGrpSpPr>
        <p:grpSpPr>
          <a:xfrm>
            <a:off x="1357200" y="1063800"/>
            <a:ext cx="5806800" cy="5794200"/>
            <a:chOff x="1357200" y="1063800"/>
            <a:chExt cx="5806800" cy="5794200"/>
          </a:xfrm>
        </p:grpSpPr>
        <p:pic>
          <p:nvPicPr>
            <p:cNvPr id="301" name="Picture 5" descr=""/>
            <p:cNvPicPr/>
            <p:nvPr/>
          </p:nvPicPr>
          <p:blipFill>
            <a:blip r:embed="rId1"/>
            <a:stretch/>
          </p:blipFill>
          <p:spPr>
            <a:xfrm>
              <a:off x="1589040" y="1063800"/>
              <a:ext cx="5574960" cy="57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6"/>
            <p:cNvSpPr/>
            <p:nvPr/>
          </p:nvSpPr>
          <p:spPr>
            <a:xfrm>
              <a:off x="1357200" y="4785840"/>
              <a:ext cx="1337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Lucida Sans Unicode"/>
                </a:rPr>
                <a:t>y=0,5x+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7"/>
            <p:cNvSpPr/>
            <p:nvPr/>
          </p:nvSpPr>
          <p:spPr>
            <a:xfrm>
              <a:off x="5099040" y="4884480"/>
              <a:ext cx="8586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Lucida Sans Unicode"/>
                </a:rPr>
                <a:t>y=x-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3260520" y="2800800"/>
              <a:ext cx="11700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Lucida Sans Unicode"/>
                </a:rPr>
                <a:t>y=2x+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5099040" y="1928160"/>
              <a:ext cx="1169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Lucida Sans Unicode"/>
                </a:rPr>
                <a:t>y</a:t>
              </a:r>
              <a:r>
                <a:rPr b="1" lang="uk-UA" sz="1200" spc="-1" strike="noStrike">
                  <a:solidFill>
                    <a:srgbClr val="ff0000"/>
                  </a:solidFill>
                  <a:latin typeface="Lucida Sans Unicode"/>
                </a:rPr>
                <a:t>у</a:t>
              </a:r>
              <a:r>
                <a:rPr b="1" lang="en-US" sz="1200" spc="-1" strike="noStrike">
                  <a:solidFill>
                    <a:srgbClr val="ff0000"/>
                  </a:solidFill>
                  <a:latin typeface="Lucida Sans Unicode"/>
                </a:rPr>
                <a:t>=3x-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Rectangle 2" descr=""/>
          <p:cNvPicPr/>
          <p:nvPr/>
        </p:nvPicPr>
        <p:blipFill>
          <a:blip r:embed="rId2"/>
          <a:stretch/>
        </p:blipFill>
        <p:spPr>
          <a:xfrm>
            <a:off x="-6480" y="30240"/>
            <a:ext cx="8869320" cy="76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3"/>
          <p:cNvGrpSpPr/>
          <p:nvPr/>
        </p:nvGrpSpPr>
        <p:grpSpPr>
          <a:xfrm>
            <a:off x="1214280" y="1071000"/>
            <a:ext cx="6193080" cy="5307480"/>
            <a:chOff x="1214280" y="1071000"/>
            <a:chExt cx="6193080" cy="53074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1214280" y="1071720"/>
              <a:ext cx="6193080" cy="53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5"/>
            <p:cNvSpPr/>
            <p:nvPr/>
          </p:nvSpPr>
          <p:spPr>
            <a:xfrm rot="1375800">
              <a:off x="5537160" y="4233960"/>
              <a:ext cx="1487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Lucida Sans Unicode"/>
                </a:rPr>
                <a:t>y=-0,5x+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 rot="2412600">
              <a:off x="2233440" y="4240080"/>
              <a:ext cx="11397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Lucida Sans Unicode"/>
                </a:rPr>
                <a:t>y=-x-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 rot="3862800">
              <a:off x="3991320" y="2304360"/>
              <a:ext cx="12981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Lucida Sans Unicode"/>
                </a:rPr>
                <a:t>y=-2x+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 rot="4036800">
              <a:off x="2749680" y="1524960"/>
              <a:ext cx="130176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0000"/>
                  </a:solidFill>
                  <a:latin typeface="Lucida Sans Unicode"/>
                </a:rPr>
                <a:t>у </a:t>
              </a:r>
              <a:r>
                <a:rPr b="1" lang="en-US" sz="1200" spc="-1" strike="noStrike">
                  <a:solidFill>
                    <a:srgbClr val="ff0000"/>
                  </a:solidFill>
                  <a:latin typeface="Lucida Sans Unicode"/>
                </a:rPr>
                <a:t>=-3x-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Rectangle 2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607240" cy="939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9"/>
          <p:cNvGrpSpPr/>
          <p:nvPr/>
        </p:nvGrpSpPr>
        <p:grpSpPr>
          <a:xfrm>
            <a:off x="1763640" y="981000"/>
            <a:ext cx="5977080" cy="5543640"/>
            <a:chOff x="1763640" y="981000"/>
            <a:chExt cx="5977080" cy="5543640"/>
          </a:xfrm>
        </p:grpSpPr>
        <p:pic>
          <p:nvPicPr>
            <p:cNvPr id="315" name="Picture 10" descr=""/>
            <p:cNvPicPr/>
            <p:nvPr/>
          </p:nvPicPr>
          <p:blipFill>
            <a:blip r:embed="rId1"/>
            <a:stretch/>
          </p:blipFill>
          <p:spPr>
            <a:xfrm>
              <a:off x="1763640" y="981000"/>
              <a:ext cx="597708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11"/>
            <p:cNvSpPr/>
            <p:nvPr/>
          </p:nvSpPr>
          <p:spPr>
            <a:xfrm rot="15606600">
              <a:off x="4610520" y="4805280"/>
              <a:ext cx="161100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-</a:t>
              </a:r>
              <a:r>
                <a:rPr b="1" lang="uk-UA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6x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2"/>
            <p:cNvSpPr/>
            <p:nvPr/>
          </p:nvSpPr>
          <p:spPr>
            <a:xfrm rot="17978400">
              <a:off x="5153040" y="1422720"/>
              <a:ext cx="10972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y=</a:t>
              </a:r>
              <a:r>
                <a:rPr b="1" lang="ru-RU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x+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3"/>
            <p:cNvSpPr/>
            <p:nvPr/>
          </p:nvSpPr>
          <p:spPr>
            <a:xfrm rot="1519800">
              <a:off x="2107080" y="1501920"/>
              <a:ext cx="14554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y=-</a:t>
              </a:r>
              <a:r>
                <a:rPr b="1" lang="ru-RU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2x+</a:t>
              </a: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4"/>
            <p:cNvSpPr/>
            <p:nvPr/>
          </p:nvSpPr>
          <p:spPr>
            <a:xfrm>
              <a:off x="2276640" y="2440080"/>
              <a:ext cx="109764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y=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725400" y="-146160"/>
            <a:ext cx="7997760" cy="1206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3"/>
          <p:cNvGrpSpPr/>
          <p:nvPr/>
        </p:nvGrpSpPr>
        <p:grpSpPr>
          <a:xfrm>
            <a:off x="1927080" y="1390680"/>
            <a:ext cx="5166000" cy="5164200"/>
            <a:chOff x="1927080" y="1390680"/>
            <a:chExt cx="5166000" cy="5164200"/>
          </a:xfrm>
        </p:grpSpPr>
        <p:pic>
          <p:nvPicPr>
            <p:cNvPr id="322" name="Picture 4" descr=""/>
            <p:cNvPicPr/>
            <p:nvPr/>
          </p:nvPicPr>
          <p:blipFill>
            <a:blip r:embed="rId1"/>
            <a:stretch/>
          </p:blipFill>
          <p:spPr>
            <a:xfrm>
              <a:off x="1927080" y="1390680"/>
              <a:ext cx="516600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5"/>
            <p:cNvSpPr/>
            <p:nvPr/>
          </p:nvSpPr>
          <p:spPr>
            <a:xfrm rot="17752800">
              <a:off x="5442480" y="1936800"/>
              <a:ext cx="94932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Lucida Sans Unicode"/>
                </a:rPr>
                <a:t>y=2x-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 rot="17848200">
              <a:off x="3447000" y="3052080"/>
              <a:ext cx="9493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4c00"/>
                  </a:solidFill>
                  <a:latin typeface="Lucida Sans Unicode"/>
                </a:rPr>
                <a:t>y=2x+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"/>
            <p:cNvSpPr/>
            <p:nvPr/>
          </p:nvSpPr>
          <p:spPr>
            <a:xfrm rot="17977200">
              <a:off x="4533840" y="1794600"/>
              <a:ext cx="94932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66"/>
                  </a:solidFill>
                  <a:latin typeface="Lucida Sans Unicode"/>
                </a:rPr>
                <a:t>y=2x+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8"/>
            <p:cNvSpPr/>
            <p:nvPr/>
          </p:nvSpPr>
          <p:spPr>
            <a:xfrm rot="17850600">
              <a:off x="4747320" y="2080080"/>
              <a:ext cx="94860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y=2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Rectangle 2" descr=""/>
          <p:cNvPicPr/>
          <p:nvPr/>
        </p:nvPicPr>
        <p:blipFill>
          <a:blip r:embed="rId2"/>
          <a:stretch/>
        </p:blipFill>
        <p:spPr>
          <a:xfrm>
            <a:off x="981000" y="-128520"/>
            <a:ext cx="7918560" cy="1555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3"/>
          <p:cNvGrpSpPr/>
          <p:nvPr/>
        </p:nvGrpSpPr>
        <p:grpSpPr>
          <a:xfrm>
            <a:off x="1714680" y="1428840"/>
            <a:ext cx="5398920" cy="4983120"/>
            <a:chOff x="1714680" y="1428840"/>
            <a:chExt cx="5398920" cy="498312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tretch/>
          </p:blipFill>
          <p:spPr>
            <a:xfrm>
              <a:off x="1714680" y="1428840"/>
              <a:ext cx="5398920" cy="49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5"/>
            <p:cNvSpPr/>
            <p:nvPr/>
          </p:nvSpPr>
          <p:spPr>
            <a:xfrm>
              <a:off x="2684520" y="205704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"/>
            <p:cNvSpPr/>
            <p:nvPr/>
          </p:nvSpPr>
          <p:spPr>
            <a:xfrm>
              <a:off x="2522880" y="295236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3</a:t>
              </a:r>
              <a:r>
                <a:rPr b="1" lang="uk-UA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7"/>
            <p:cNvSpPr/>
            <p:nvPr/>
          </p:nvSpPr>
          <p:spPr>
            <a:xfrm>
              <a:off x="2684520" y="354924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8"/>
            <p:cNvSpPr/>
            <p:nvPr/>
          </p:nvSpPr>
          <p:spPr>
            <a:xfrm>
              <a:off x="2684520" y="444456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-</a:t>
              </a:r>
              <a:r>
                <a:rPr b="1" lang="uk-UA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Прямоугольник 10"/>
          <p:cNvSpPr/>
          <p:nvPr/>
        </p:nvSpPr>
        <p:spPr>
          <a:xfrm>
            <a:off x="357120" y="28584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лінійної функції y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x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,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=0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uk-UA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(у = </a:t>
            </a:r>
            <a:r>
              <a:rPr b="1" i="1" lang="en-US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b)</a:t>
            </a:r>
            <a:r>
              <a:rPr b="1" i="1" lang="uk-UA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ІІ група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2022480" y="1096920"/>
            <a:ext cx="4997520" cy="499608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9"/>
          <p:cNvGrpSpPr/>
          <p:nvPr/>
        </p:nvGrpSpPr>
        <p:grpSpPr>
          <a:xfrm>
            <a:off x="3500280" y="2558880"/>
            <a:ext cx="2184120" cy="931680"/>
            <a:chOff x="3500280" y="2558880"/>
            <a:chExt cx="2184120" cy="931680"/>
          </a:xfrm>
        </p:grpSpPr>
        <p:pic>
          <p:nvPicPr>
            <p:cNvPr id="337" name="Text Box 5" descr=""/>
            <p:cNvPicPr/>
            <p:nvPr/>
          </p:nvPicPr>
          <p:blipFill>
            <a:blip r:embed="rId2"/>
            <a:stretch/>
          </p:blipFill>
          <p:spPr>
            <a:xfrm>
              <a:off x="5224680" y="2571480"/>
              <a:ext cx="459720" cy="8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Text Box 6" descr=""/>
            <p:cNvPicPr/>
            <p:nvPr/>
          </p:nvPicPr>
          <p:blipFill>
            <a:blip r:embed="rId3"/>
            <a:stretch/>
          </p:blipFill>
          <p:spPr>
            <a:xfrm>
              <a:off x="4558680" y="2588400"/>
              <a:ext cx="459360" cy="90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Text Box 7" descr=""/>
            <p:cNvPicPr/>
            <p:nvPr/>
          </p:nvPicPr>
          <p:blipFill>
            <a:blip r:embed="rId4"/>
            <a:stretch/>
          </p:blipFill>
          <p:spPr>
            <a:xfrm>
              <a:off x="3500280" y="2571480"/>
              <a:ext cx="749520" cy="8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Text Box 8" descr=""/>
            <p:cNvPicPr/>
            <p:nvPr/>
          </p:nvPicPr>
          <p:blipFill>
            <a:blip r:embed="rId5"/>
            <a:stretch/>
          </p:blipFill>
          <p:spPr>
            <a:xfrm>
              <a:off x="4038840" y="2558880"/>
              <a:ext cx="453240" cy="89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" name="Rectangle 2" descr=""/>
          <p:cNvPicPr/>
          <p:nvPr/>
        </p:nvPicPr>
        <p:blipFill>
          <a:blip r:embed="rId6"/>
          <a:stretch/>
        </p:blipFill>
        <p:spPr>
          <a:xfrm>
            <a:off x="281160" y="219240"/>
            <a:ext cx="8313480" cy="682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pic>
        <p:nvPicPr>
          <p:cNvPr id="344" name="Picture 4" descr="1244564717_schkoljn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1262160" y="1959120"/>
            <a:ext cx="60465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66"/>
                </a:solidFill>
                <a:latin typeface="Constantia"/>
              </a:rPr>
              <a:t>       </a:t>
            </a:r>
            <a:r>
              <a:rPr b="0" lang="uk-UA" sz="4000" spc="-1" strike="noStrike">
                <a:solidFill>
                  <a:srgbClr val="ff0066"/>
                </a:solidFill>
                <a:latin typeface="Constantia"/>
              </a:rPr>
              <a:t>Домашнє  завданн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857240" y="3143160"/>
            <a:ext cx="5256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4574"/>
                </a:solidFill>
                <a:latin typeface="Lucida Sans Unicode"/>
              </a:rPr>
              <a:t>Повторити  § 21 – 23,  розв</a:t>
            </a:r>
            <a:r>
              <a:rPr b="0" lang="en-US" sz="2000" spc="-1" strike="noStrike">
                <a:solidFill>
                  <a:srgbClr val="004574"/>
                </a:solidFill>
                <a:latin typeface="Lucida Sans Unicode"/>
              </a:rPr>
              <a:t>’</a:t>
            </a:r>
            <a:r>
              <a:rPr b="0" lang="uk-UA" sz="2000" spc="-1" strike="noStrike">
                <a:solidFill>
                  <a:srgbClr val="004574"/>
                </a:solidFill>
                <a:latin typeface="Lucida Sans Unicode"/>
              </a:rPr>
              <a:t>язати  № 955,         № 957 (середній  та  достатній  рівні),  №963  (високий  рів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2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388c"/>
                </a:solidFill>
                <a:latin typeface="Arial"/>
              </a:rPr>
              <a:t>                            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Математичний 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. Відповідність між змінними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, при якій кожному значенню змінної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ідповідає єдине значення змінної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, називаю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. Змінн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називають … аб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3. Змінну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 (x)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називають … аб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4. Значення змінної у при заданому значенні х називаю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5. Множину значень, яких набуває незалежна змінна, називають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6. Множину значень, яких набуває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лежна змінна, 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7. Фігура, що складається з усіх то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ординатної площини, абсциси яки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рівнюють значенню аргументу , 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рдинати – відповідним значення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ункції 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8. Значення аргументу, при я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начення функції дорівнює нулю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9. Якщо більшому значенню аргументу 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міжку відповідає більше знач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ункції, то функцію 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2"/>
          <p:cNvSpPr/>
          <p:nvPr/>
        </p:nvSpPr>
        <p:spPr>
          <a:xfrm>
            <a:off x="357120" y="0"/>
            <a:ext cx="7715160" cy="75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0. Якщо більшому значенню аргументу з проміжку відповідає менше значення функції, то функцію називають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.Функція, задана  формулою  у =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x + b, 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де 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– деякі числа,  називають…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2. Графік  кожної лінійної  функції -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3. Пряма, що  проходить  через  початок  координат,  є   … 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4. Якщо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 &gt; 0,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графік функції у =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x 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 розміщений 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5. Якщо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 &lt; 0,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графік функції у =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x 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 розміщений  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2"/>
          <p:cNvSpPr/>
          <p:nvPr/>
        </p:nvSpPr>
        <p:spPr>
          <a:xfrm>
            <a:off x="500040" y="42876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Функціє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Незалежною змінною, або аргументом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Залежною  змінною, або  функціє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Функціональною залежніст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. Областю визначення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 Областю  значення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. Графіком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. Нулями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. Зростаючо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. Спадно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1. Лінійно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2. Є пряма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3. Є бісектрисою  І і ІІІ  координатних чвертей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4. У І і ІІІ  координатних чвертях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5. У ІІ і 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координатних чверт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7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2f765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№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919  (а,б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а) т.А є у = 0,5 х + 4,    б)  т.А є у = - 12 х + 17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т.В є у = 0,5 х + 4,   т.В  не є у = - 12 х + 17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т.С є у = 0,5 х + 4.         т.А є у = - 12 х + 17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№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927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у = 2х +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А(- 2; 5)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5 = 2 · (- 2) +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5 =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- 4 + 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= 9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Відповідь: 9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l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1285920" y="28584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Побудувати  графік 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571680" y="1000080"/>
            <a:ext cx="80010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5bd3"/>
                </a:solidFill>
                <a:latin typeface="Arial"/>
              </a:rPr>
              <a:t>І  група                 ІІ  група                 ІІІ 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   у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 у = 5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0,5х.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0,5х.                       у = - 5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5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5;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-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3;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3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х – 7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х – 7;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=  0,5х + 2.              у =  - 0,5х + 2.                у = - 6х +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4;                     у = 7;                              х= - 3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5;                     у = 3;                               х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х;                          у = 0;                               х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=  2х + 7.                   у = - 4.                             х 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333000"/>
            <a:ext cx="8472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Lucida Sans Unicode"/>
              </a:rPr>
              <a:t>а) Графік  лінійної функції y=kx, k&gt;0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 (І  група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2197080" y="856440"/>
            <a:ext cx="4680000" cy="5380920"/>
            <a:chOff x="2197080" y="856440"/>
            <a:chExt cx="4680000" cy="5380920"/>
          </a:xfrm>
        </p:grpSpPr>
        <p:pic>
          <p:nvPicPr>
            <p:cNvPr id="286" name="Picture 5" descr=""/>
            <p:cNvPicPr/>
            <p:nvPr/>
          </p:nvPicPr>
          <p:blipFill>
            <a:blip r:embed="rId1"/>
            <a:stretch/>
          </p:blipFill>
          <p:spPr>
            <a:xfrm>
              <a:off x="2197080" y="907920"/>
              <a:ext cx="468000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 rot="17546400">
              <a:off x="4998960" y="1041120"/>
              <a:ext cx="7203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y=2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7"/>
            <p:cNvSpPr/>
            <p:nvPr/>
          </p:nvSpPr>
          <p:spPr>
            <a:xfrm rot="18831600">
              <a:off x="5657400" y="1512360"/>
              <a:ext cx="7203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y=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 rot="19795800">
              <a:off x="5763600" y="2205000"/>
              <a:ext cx="98280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y=0,5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horz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5"/>
          <p:cNvGrpSpPr/>
          <p:nvPr/>
        </p:nvGrpSpPr>
        <p:grpSpPr>
          <a:xfrm>
            <a:off x="1780920" y="714240"/>
            <a:ext cx="5332320" cy="5588280"/>
            <a:chOff x="1780920" y="714240"/>
            <a:chExt cx="5332320" cy="5588280"/>
          </a:xfrm>
        </p:grpSpPr>
        <p:pic>
          <p:nvPicPr>
            <p:cNvPr id="291" name="Picture 6" descr=""/>
            <p:cNvPicPr/>
            <p:nvPr/>
          </p:nvPicPr>
          <p:blipFill>
            <a:blip r:embed="rId1"/>
            <a:stretch/>
          </p:blipFill>
          <p:spPr>
            <a:xfrm>
              <a:off x="1928880" y="714240"/>
              <a:ext cx="5184360" cy="558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7"/>
            <p:cNvSpPr/>
            <p:nvPr/>
          </p:nvSpPr>
          <p:spPr>
            <a:xfrm rot="3929400">
              <a:off x="3209760" y="1072440"/>
              <a:ext cx="7966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y=-2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8"/>
            <p:cNvSpPr/>
            <p:nvPr/>
          </p:nvSpPr>
          <p:spPr>
            <a:xfrm rot="2778000">
              <a:off x="1987200" y="1353240"/>
              <a:ext cx="7966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y=-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9"/>
            <p:cNvSpPr/>
            <p:nvPr/>
          </p:nvSpPr>
          <p:spPr>
            <a:xfrm rot="1662600">
              <a:off x="1834920" y="2561040"/>
              <a:ext cx="1086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y=-0,5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Rectangle 2" descr=""/>
          <p:cNvPicPr/>
          <p:nvPr/>
        </p:nvPicPr>
        <p:blipFill>
          <a:blip r:embed="rId2"/>
          <a:stretch/>
        </p:blipFill>
        <p:spPr>
          <a:xfrm>
            <a:off x="249120" y="-6480"/>
            <a:ext cx="8345520" cy="725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9:42:55Z</dcterms:created>
  <dc:creator>User</dc:creator>
  <dc:description/>
  <dc:language>en-US</dc:language>
  <cp:lastModifiedBy>Admin</cp:lastModifiedBy>
  <dcterms:modified xsi:type="dcterms:W3CDTF">2014-01-03T14:49:17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2000000000001024140</vt:lpwstr>
  </property>
</Properties>
</file>