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340-82EC-4F7F-9E4D-6DB3A84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820-93FC-41A0-AC29-8423E252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54B-FF00-4137-845A-E7DBD39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B77-6625-406E-9B8E-F1A064A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33D-137B-46A4-B47B-D58D7E5A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3C6-92EC-4C2E-9E7B-069118E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C5E-C6F3-4421-ACA6-50CB01F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AED1-2C8B-4FC1-A8D3-A12D8DF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D985-68DF-4625-A148-23EB8455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960F-F2A7-4235-A8F0-7E5729D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E10-58DF-4647-B56A-F4E7656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FDE-70C9-498F-8A30-E78F340B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AB61-108A-4A87-8887-6365B08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98C-AC1D-4D02-B09F-C72C898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67B-44B0-423F-BEC8-69040CA1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AE7-BB4D-4ED4-8553-B016FD84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6FF6-495D-42DF-B1BB-D86CA1C4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9238-7D59-4069-8A49-EA53723D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BE3A-4B1C-4446-9871-B2320AA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A5F8-D147-47A2-B88F-BE7DB6A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7802-6F46-45DB-B5BC-E9FC9F4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26F0-EE34-4362-95BD-0537D26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EEF-954E-4627-A3BA-312C77C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2E51-A833-4CAB-9580-D963BC1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8EB9-7687-47A4-A6EF-2DE3C81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5043-7369-4CFE-9779-458458F2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63A3-D961-4DC2-A20B-AD99600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25D3-7E31-440B-8180-29FC360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5CFB-A89F-4A81-AD33-47BEC4B8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DCD1-C503-42A8-BCC6-2506474A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FEBD-5BA2-49BB-A99A-BF449879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0D69-2BFE-4496-A752-25DB748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858C-1F93-4C7F-80D6-ACB1839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5DA-9228-430A-B8C8-78A02C3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D5A9-8DB7-4FAC-8D9D-5DB400F3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8BA9-D0FF-4761-9420-9422B26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7C02-8807-4969-8425-3DA04FA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6737-6F74-46A9-AAC3-886B429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72B6-A99C-40C5-BA00-5967680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0FD9-61C7-484A-839D-489438C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E117-EF73-4729-B332-2ED4939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7872-158E-4800-A202-1E9E8A3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B8BA-069C-4940-943A-D7236CE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20C9-EBF0-4C87-894E-4A9002C3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C43-1A25-4605-B48A-7A37600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5A87-CE8B-4ADA-8BBA-9A1649FA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717F-6FB9-4354-9D7D-C9DC6AA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35EC-356D-490E-AC47-F736348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B4DC-936E-4877-9792-3F15EE6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CA7B-12C2-48F4-8467-B292431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81AB-4538-41BA-9039-4915EC6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E167-CDDE-42AD-802B-360DD05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10A7-7243-4990-A550-55F12AC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AEF1-B4AE-4FF3-ACD0-52B2ED9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67F4-5D55-48C3-A8AE-50CA71C8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F57-E1CD-4614-810E-B0BCE1F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28BF-5B67-46A8-AAAE-DE59A96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8AC8-8724-42C8-A8AC-9FD886F6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F9B0-7FC8-4208-84C1-7D54CD43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DE82-E633-4B26-B08E-2CFC294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0F942-8DC5-4D62-8E28-7B8539E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5D28-747A-4356-9087-FEBEF17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D35C-E971-4B81-BE24-B0E8CF3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D7D4-1B85-4932-9B58-0E0BC28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73658-809B-4CB3-BBFE-C186918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3191-3E23-4074-A074-C506BAC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A2C-AAA0-4CEF-BA9E-75DBDBA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7E147-B7B6-4772-AA55-171727F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D28A6-6CF1-410B-9229-5587BFB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6E54-1001-43F4-AF5C-C1985B0A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F51-3230-41CE-921E-3D47E6C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E04-2016-4CBF-975E-EEB9BA4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471-19F3-463A-BF6C-CB1B2D733B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F7E4-E7D4-47CE-979D-4198212D4F5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41A-F44F-45A7-B67A-698F8B3ABF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0E3A-C54C-42F7-B007-BD28F2B3D8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366B-3FB3-4FD1-AA81-596255B0CA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4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439-C6CC-4E99-A598-F9E75A3B54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2" descr=""/>
          <p:cNvPicPr/>
          <p:nvPr/>
        </p:nvPicPr>
        <p:blipFill>
          <a:blip r:embed="rId1"/>
          <a:stretch/>
        </p:blipFill>
        <p:spPr>
          <a:xfrm>
            <a:off x="42840" y="2803680"/>
            <a:ext cx="8845560" cy="150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5340600" cy="533880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165240" y="6480"/>
            <a:ext cx="8697600" cy="858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 rot="21034200">
            <a:off x="5024160" y="18003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 =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 rot="20209200">
            <a:off x="4993200" y="4632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uk-UA" sz="1800" spc="-1" strike="noStrike">
                <a:solidFill>
                  <a:srgbClr val="005bd3"/>
                </a:solidFill>
                <a:latin typeface="Lucida Sans Unicode"/>
              </a:rPr>
              <a:t>у = - 5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357200" y="1063800"/>
            <a:ext cx="5806800" cy="5794200"/>
            <a:chOff x="1357200" y="1063800"/>
            <a:chExt cx="5806800" cy="5794200"/>
          </a:xfrm>
        </p:grpSpPr>
        <p:pic>
          <p:nvPicPr>
            <p:cNvPr id="301" name="Picture 5" descr=""/>
            <p:cNvPicPr/>
            <p:nvPr/>
          </p:nvPicPr>
          <p:blipFill>
            <a:blip r:embed="rId1"/>
            <a:stretch/>
          </p:blipFill>
          <p:spPr>
            <a:xfrm>
              <a:off x="1589040" y="1063800"/>
              <a:ext cx="5574960" cy="57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1357200" y="4785840"/>
              <a:ext cx="1337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5099040" y="4884480"/>
              <a:ext cx="858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260520" y="2800800"/>
              <a:ext cx="1170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5099040" y="1928160"/>
              <a:ext cx="1169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y</a:t>
              </a: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2" descr=""/>
          <p:cNvPicPr/>
          <p:nvPr/>
        </p:nvPicPr>
        <p:blipFill>
          <a:blip r:embed="rId2"/>
          <a:stretch/>
        </p:blipFill>
        <p:spPr>
          <a:xfrm>
            <a:off x="-6480" y="30240"/>
            <a:ext cx="8869320" cy="76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1214280" y="1071000"/>
            <a:ext cx="6193080" cy="5307480"/>
            <a:chOff x="1214280" y="1071000"/>
            <a:chExt cx="6193080" cy="53074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1214280" y="1071720"/>
              <a:ext cx="6193080" cy="53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5"/>
            <p:cNvSpPr/>
            <p:nvPr/>
          </p:nvSpPr>
          <p:spPr>
            <a:xfrm rot="1375800">
              <a:off x="5537160" y="4233960"/>
              <a:ext cx="148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-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 rot="2412600">
              <a:off x="2233440" y="4240080"/>
              <a:ext cx="1139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-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 rot="3862800">
              <a:off x="3991320" y="2304360"/>
              <a:ext cx="12981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-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 rot="4036800">
              <a:off x="2749680" y="1524960"/>
              <a:ext cx="13017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 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-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607240" cy="93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9"/>
          <p:cNvGrpSpPr/>
          <p:nvPr/>
        </p:nvGrpSpPr>
        <p:grpSpPr>
          <a:xfrm>
            <a:off x="1763640" y="981000"/>
            <a:ext cx="5977080" cy="5543640"/>
            <a:chOff x="1763640" y="981000"/>
            <a:chExt cx="5977080" cy="5543640"/>
          </a:xfrm>
        </p:grpSpPr>
        <p:pic>
          <p:nvPicPr>
            <p:cNvPr id="315" name="Picture 10" descr=""/>
            <p:cNvPicPr/>
            <p:nvPr/>
          </p:nvPicPr>
          <p:blipFill>
            <a:blip r:embed="rId1"/>
            <a:stretch/>
          </p:blipFill>
          <p:spPr>
            <a:xfrm>
              <a:off x="1763640" y="981000"/>
              <a:ext cx="597708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1"/>
            <p:cNvSpPr/>
            <p:nvPr/>
          </p:nvSpPr>
          <p:spPr>
            <a:xfrm rot="15606600">
              <a:off x="4610520" y="4805280"/>
              <a:ext cx="16110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6x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 rot="17978400">
              <a:off x="5153040" y="1422720"/>
              <a:ext cx="1097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</a:t>
              </a:r>
              <a:r>
                <a:rPr b="1" lang="ru-RU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 rot="1519800">
              <a:off x="2107080" y="1501920"/>
              <a:ext cx="14554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</a:t>
              </a: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2276640" y="2440080"/>
              <a:ext cx="10976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y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725400" y="-146160"/>
            <a:ext cx="7997760" cy="120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1927080" y="1390680"/>
            <a:ext cx="5166000" cy="5164200"/>
            <a:chOff x="1927080" y="1390680"/>
            <a:chExt cx="5166000" cy="5164200"/>
          </a:xfrm>
        </p:grpSpPr>
        <p:pic>
          <p:nvPicPr>
            <p:cNvPr id="322" name="Picture 4" descr=""/>
            <p:cNvPicPr/>
            <p:nvPr/>
          </p:nvPicPr>
          <p:blipFill>
            <a:blip r:embed="rId1"/>
            <a:stretch/>
          </p:blipFill>
          <p:spPr>
            <a:xfrm>
              <a:off x="1927080" y="1390680"/>
              <a:ext cx="516600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5"/>
            <p:cNvSpPr/>
            <p:nvPr/>
          </p:nvSpPr>
          <p:spPr>
            <a:xfrm rot="17752800">
              <a:off x="5442480" y="1936800"/>
              <a:ext cx="9493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-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 rot="17848200">
              <a:off x="3447000" y="3052080"/>
              <a:ext cx="9493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4c00"/>
                  </a:solidFill>
                  <a:latin typeface="Lucida Sans Unicode"/>
                </a:rPr>
                <a:t>y=2x+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 rot="17977200">
              <a:off x="4533840" y="1794600"/>
              <a:ext cx="9493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Lucida Sans Unicode"/>
                </a:rPr>
                <a:t>y=2x+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 rot="17850600">
              <a:off x="4747320" y="2080080"/>
              <a:ext cx="94860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Rectangle 2" descr=""/>
          <p:cNvPicPr/>
          <p:nvPr/>
        </p:nvPicPr>
        <p:blipFill>
          <a:blip r:embed="rId2"/>
          <a:stretch/>
        </p:blipFill>
        <p:spPr>
          <a:xfrm>
            <a:off x="981000" y="-128520"/>
            <a:ext cx="7918560" cy="155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3"/>
          <p:cNvGrpSpPr/>
          <p:nvPr/>
        </p:nvGrpSpPr>
        <p:grpSpPr>
          <a:xfrm>
            <a:off x="1714680" y="1428840"/>
            <a:ext cx="5398920" cy="4983120"/>
            <a:chOff x="1714680" y="1428840"/>
            <a:chExt cx="5398920" cy="498312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1428840"/>
              <a:ext cx="539892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2684520" y="20570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2522880" y="29523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3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684520" y="35492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2684520" y="44445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Прямоугольник 10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лінійної функції y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,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=0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(у = </a:t>
            </a:r>
            <a:r>
              <a:rPr b="1" i="1" lang="en-US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b)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І група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22480" y="1096920"/>
            <a:ext cx="4997520" cy="49960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9"/>
          <p:cNvGrpSpPr/>
          <p:nvPr/>
        </p:nvGrpSpPr>
        <p:grpSpPr>
          <a:xfrm>
            <a:off x="3500280" y="2558880"/>
            <a:ext cx="2184120" cy="931680"/>
            <a:chOff x="3500280" y="2558880"/>
            <a:chExt cx="2184120" cy="931680"/>
          </a:xfrm>
        </p:grpSpPr>
        <p:pic>
          <p:nvPicPr>
            <p:cNvPr id="337" name="Text Box 5" descr=""/>
            <p:cNvPicPr/>
            <p:nvPr/>
          </p:nvPicPr>
          <p:blipFill>
            <a:blip r:embed="rId2"/>
            <a:stretch/>
          </p:blipFill>
          <p:spPr>
            <a:xfrm>
              <a:off x="5224680" y="2571480"/>
              <a:ext cx="4597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Text Box 6" descr=""/>
            <p:cNvPicPr/>
            <p:nvPr/>
          </p:nvPicPr>
          <p:blipFill>
            <a:blip r:embed="rId3"/>
            <a:stretch/>
          </p:blipFill>
          <p:spPr>
            <a:xfrm>
              <a:off x="4558680" y="2588400"/>
              <a:ext cx="459360" cy="9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Text Box 7" descr=""/>
            <p:cNvPicPr/>
            <p:nvPr/>
          </p:nvPicPr>
          <p:blipFill>
            <a:blip r:embed="rId4"/>
            <a:stretch/>
          </p:blipFill>
          <p:spPr>
            <a:xfrm>
              <a:off x="3500280" y="2571480"/>
              <a:ext cx="7495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Text Box 8" descr=""/>
            <p:cNvPicPr/>
            <p:nvPr/>
          </p:nvPicPr>
          <p:blipFill>
            <a:blip r:embed="rId5"/>
            <a:stretch/>
          </p:blipFill>
          <p:spPr>
            <a:xfrm>
              <a:off x="4038840" y="2558880"/>
              <a:ext cx="453240" cy="8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Rectangle 2" descr=""/>
          <p:cNvPicPr/>
          <p:nvPr/>
        </p:nvPicPr>
        <p:blipFill>
          <a:blip r:embed="rId6"/>
          <a:stretch/>
        </p:blipFill>
        <p:spPr>
          <a:xfrm>
            <a:off x="281160" y="219240"/>
            <a:ext cx="8313480" cy="682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344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1262160" y="1959120"/>
            <a:ext cx="6046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Домашнє  завд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857240" y="3143160"/>
            <a:ext cx="5256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Повторити  § 21 – 23,  розв</a:t>
            </a:r>
            <a:r>
              <a:rPr b="0" lang="en-US" sz="2000" spc="-1" strike="noStrike">
                <a:solidFill>
                  <a:srgbClr val="004574"/>
                </a:solidFill>
                <a:latin typeface="Lucida Sans Unicode"/>
              </a:rPr>
              <a:t>’</a:t>
            </a: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язати  № 955,         № 957 (середній  та  достатній  рівні),  №963  (високий  рі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388c"/>
                </a:solidFill>
                <a:latin typeface="Arial"/>
              </a:rPr>
              <a:t>                           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тематичн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. Відповідність між змінним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при якій кожному значенню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ідповідає єдине значення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 Змінн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. Змінну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 (x)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. Значення змінної у при заданому значенні х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5. Множину значень, яких набуває незалежна змінна, називаю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Множину значень, яких набуває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лежна змінна,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. Фігура, що складається з усіх то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ординатної площини, абсциси яки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рівнюють значенню аргументу , 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динати – відповідним значення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8. Значення аргументу, при я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чення функції дорівнює нулю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9. Якщо більшому значенню аргументу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міжку відповідає більше знач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, то функцію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357120" y="0"/>
            <a:ext cx="771516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0. Якщо більшому значенню аргументу з проміжку відповідає менше значення функції, то функцію називають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.Функція, задана  формулою 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+ b,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де 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– деякі числа,  називають…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2. Графік  кожної лінійної  функції -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3. Пряма, що  проходить  через  початок  координат,  є   … 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4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g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5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l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2"/>
          <p:cNvSpPr/>
          <p:nvPr/>
        </p:nvSpPr>
        <p:spPr>
          <a:xfrm>
            <a:off x="500040" y="42876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езалежною змінною, або аргументо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лежною  змінною, або  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ункціональною залеж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Областю ви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Областю  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Графіком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 Нулями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 Зростаюч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 Спад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1. Ліній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. Є пряма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3. Є бісектрисою  І і ІІІ  координатних чверте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 У І і ІІІ  координатних чвертях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 У ІІ і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координатних чверт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7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2f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№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19  (а,б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) т.А є у = 0,5 х + 4,    б)  т.А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В є у = 0,5 х + 4,   т.В  не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С є у = 0,5 х + 4.         т.А є у = - 12 х + 1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27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у = 2х 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(- 2; 5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2 · (- 2) +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4 +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ідповідь: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28592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обудувати  графік 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571680" y="1000080"/>
            <a:ext cx="8001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5bd3"/>
                </a:solidFill>
                <a:latin typeface="Arial"/>
              </a:rPr>
              <a:t>І  група                 ІІ  група                 ІІІ 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 у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у = 5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0,5х.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0,5х.                       у = - 5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х – 7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х – 7;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0,5х + 2.              у =  - 0,5х + 2.                у = - 6х +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                    у = 7;                              х= - 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5;                     у = 3;                               х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х;                          у = 0;                               х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2х + 7.                   у = - 4.                             х 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Lucida Sans Unicode"/>
              </a:rPr>
              <a:t>а) Графік  лінійної функції y=kx, k&gt;0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(І  група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2197080" y="856440"/>
            <a:ext cx="4680000" cy="5380920"/>
            <a:chOff x="2197080" y="856440"/>
            <a:chExt cx="4680000" cy="5380920"/>
          </a:xfrm>
        </p:grpSpPr>
        <p:pic>
          <p:nvPicPr>
            <p:cNvPr id="286" name="Picture 5" descr=""/>
            <p:cNvPicPr/>
            <p:nvPr/>
          </p:nvPicPr>
          <p:blipFill>
            <a:blip r:embed="rId1"/>
            <a:stretch/>
          </p:blipFill>
          <p:spPr>
            <a:xfrm>
              <a:off x="2197080" y="907920"/>
              <a:ext cx="4680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 rot="17546400">
              <a:off x="4998960" y="104112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8831600">
              <a:off x="5657400" y="151236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 rot="19795800">
              <a:off x="5763600" y="2205000"/>
              <a:ext cx="9828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5"/>
          <p:cNvGrpSpPr/>
          <p:nvPr/>
        </p:nvGrpSpPr>
        <p:grpSpPr>
          <a:xfrm>
            <a:off x="1780920" y="714240"/>
            <a:ext cx="5332320" cy="5588280"/>
            <a:chOff x="1780920" y="714240"/>
            <a:chExt cx="5332320" cy="558828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tretch/>
          </p:blipFill>
          <p:spPr>
            <a:xfrm>
              <a:off x="1928880" y="714240"/>
              <a:ext cx="5184360" cy="55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 rot="3929400">
              <a:off x="3209760" y="10724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-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 rot="2778000">
              <a:off x="1987200" y="13532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-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 rot="1662600">
              <a:off x="1834920" y="2561040"/>
              <a:ext cx="1086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345520" cy="725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2:55Z</dcterms:created>
  <dc:creator>User</dc:creator>
  <dc:description/>
  <dc:language>en-US</dc:language>
  <cp:lastModifiedBy>Admin</cp:lastModifiedBy>
  <dcterms:modified xsi:type="dcterms:W3CDTF">2014-01-03T14:49:1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