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780-E289-4D83-90D3-35E9A884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F8E-C438-4B2B-AC77-5DA85440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63D-7556-4DF2-9431-C06DDF0A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E04-7A77-49AB-8819-18F8587B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853-FCB3-4202-84C9-AA4B04D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080-7789-4B33-98E5-CD48714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56E-A7DE-4130-BDE4-A033EE41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ED0-BDC3-43A0-9E10-799CEC58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240-ABFA-4607-9177-0665ED9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609-2FAA-4CCC-9151-05076C1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BCA-5471-4537-BE96-59E597E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FC8-943F-4165-89B9-B536B51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453-F624-435C-B742-66D8A0849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Застосування методу заміни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при розв’язуванні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раціональних рівнян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869000"/>
            <a:ext cx="723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Рівняння – це золотий клю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що відчиняє всі математичні се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Calibri"/>
              </a:rPr>
              <a:t>С.Ков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125360"/>
            <a:ext cx="892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Повторити вивчені на уроках схеми розв’язування рівнянь, що зводяться до квадрат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Вивчити пункт 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Розв’язати №37.15(а), №37.20(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Учні з високим рівнем навчальних досягнень виконують   №37.25</a:t>
            </a:r>
            <a:r>
              <a:rPr b="1" lang="uk-UA" sz="3200" spc="-1" strike="noStrike" baseline="30000">
                <a:solidFill>
                  <a:srgbClr val="0000ff"/>
                </a:solidFill>
                <a:latin typeface="Calibri"/>
              </a:rPr>
              <a:t>**</a:t>
            </a: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; при виконанні завдання необхідно додатково опрацювати підручник, приклад №13 стор. 26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333360"/>
            <a:ext cx="88567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теорему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Сформулюйте наслідок з теореми Віє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е рівняння називається біквадратним рівнянн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Яку заміну змінних слід виконати в даному рівнянні, щоб отримати квадратне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286000" y="274644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79280" y="80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7272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Самостійна робота із взаємоперевірко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64464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a) (x+ b) (x+ c) ( x+ d) = m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a+b=c+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еремножимо відповідно перший і другий та третій і четвертий співмножник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стосуємо замі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оді рівняння (1) зводиться до квадратного рівнянн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6696360" cy="649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708360" y="4005360"/>
            <a:ext cx="4319640" cy="57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11280" y="5084640"/>
            <a:ext cx="38894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907920"/>
            <a:ext cx="87850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івняння виду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(x + a) (x+ b) (x+ c) ( x+ d) = m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uk-UA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за умови, що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зводиться до квадратного рівнянн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еремножимо вирази відповідно у перших і других та третіх і четвертих дужка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Ліву і праву частину цього рівняння поділимо н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при цьому в лівій частині кожен із виразів у дужках почленно поділиться на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х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Виконаємо підстановк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             дістанемо квадратне рівнянн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6408720" cy="505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459640" y="3645000"/>
            <a:ext cx="684360" cy="361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5832720" cy="86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0" y="5300640"/>
            <a:ext cx="158436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24360" y="5950080"/>
            <a:ext cx="31734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порний конспект 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вняння ви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ісля ділення чисельника і знаменника кожного дробу н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 замін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зводиться до квадратного рівнян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048720" cy="1150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121440" cy="1573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122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Розв'язати рівн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+ 2х - 3) (х + 2)( х + 6)= -2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(x + 2) (x + 3) (x + 8) ( x + 12) =4х</a:t>
            </a:r>
            <a:r>
              <a:rPr b="1" i="1" lang="uk-UA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Робота в парах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Розв’яжіть рівня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66680" y="1719360"/>
            <a:ext cx="63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- 4) (x - 5) (x - 6) ( x - 7) =168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768760" y="3213000"/>
            <a:ext cx="637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2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x (x + 3) (x + 5) (x- 6) ( x- 7) =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28520" y="4295880"/>
            <a:ext cx="56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3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x + 1) (x - 1) (x - 2) ( x - 4) =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932200" y="558972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Завдання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6000" y="5784840"/>
            <a:ext cx="3816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Додаткові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8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9:47:27Z</dcterms:created>
  <dc:creator>Admin</dc:creator>
  <dc:description/>
  <dc:language>en-US</dc:language>
  <cp:lastModifiedBy>Admin</cp:lastModifiedBy>
  <dcterms:modified xsi:type="dcterms:W3CDTF">2013-12-09T09:34:5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</Properties>
</file>