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650-7EC0-4B8B-9A93-7F292AFF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233-67E8-4A8A-B2EC-77C8215A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DED-A1C9-4648-AE66-1B3D2D03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B93-807E-4A50-8637-6BFCE07B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0CD-7F96-40DD-8B97-31C376A8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A90-1C6F-424E-BC44-76FD0A51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DBF-3E87-44FA-8B40-EFF36211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4E3-A27B-465D-AA8A-668FC3EE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61CB-AEDD-4C1B-951A-05C572D7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0D8-211D-411B-9A65-D43723EE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813-D324-4158-9D82-25B9EA05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43D-1E5F-4F54-A5F5-3198932C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C92C-2192-4F2B-987C-2BF79D007B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0000"/>
                </a:solidFill>
                <a:latin typeface="Calibri"/>
              </a:rPr>
              <a:t>Застосування методу заміни</a:t>
            </a:r>
            <a:br>
              <a:rPr sz="4800"/>
            </a:br>
            <a:r>
              <a:rPr b="1" lang="uk-UA" sz="4800" spc="-1" strike="noStrike">
                <a:solidFill>
                  <a:srgbClr val="c00000"/>
                </a:solidFill>
                <a:latin typeface="Calibri"/>
              </a:rPr>
              <a:t> при розв’язуванні</a:t>
            </a:r>
            <a:br>
              <a:rPr sz="4800"/>
            </a:br>
            <a:r>
              <a:rPr b="1" lang="uk-UA" sz="4800" spc="-1" strike="noStrike">
                <a:solidFill>
                  <a:srgbClr val="c00000"/>
                </a:solidFill>
                <a:latin typeface="Calibri"/>
              </a:rPr>
              <a:t> раціональних рівнян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4869000"/>
            <a:ext cx="723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Calibri"/>
              </a:rPr>
              <a:t>Рівняння – це золотий клю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Calibri"/>
              </a:rPr>
              <a:t>що відчиняє всі математичні сез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Calibri"/>
              </a:rPr>
              <a:t>С.Кова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44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125360"/>
            <a:ext cx="892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Повторити вивчені на уроках схеми розв’язування рівнянь, що зводяться до квадрат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Вивчити пункт 3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Розв’язати №37.15(а), №37.20(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Учні з високим рівнем навчальних досягнень виконують   №37.25</a:t>
            </a:r>
            <a:r>
              <a:rPr b="1" lang="uk-UA" sz="3200" spc="-1" strike="noStrike" baseline="30000">
                <a:solidFill>
                  <a:srgbClr val="0000ff"/>
                </a:solidFill>
                <a:latin typeface="Calibri"/>
              </a:rPr>
              <a:t>**</a:t>
            </a: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; при виконанні завдання необхідно додатково опрацювати підручник, приклад №13 стор. 26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9280" y="333360"/>
            <a:ext cx="885672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Сформулюйте теорему Віє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Сформулюйте наслідок з теореми Віє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Яке рівняння називається біквадратним рівняння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Яку заміну змінних слід виконати в даному рівнянні, щоб отримати квадратне рівнянн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2286000" y="2746440"/>
            <a:ext cx="4572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179280" y="808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72723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803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"/>
              </a:rPr>
              <a:t>Самостійна робота із взаємоперевірко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3644640" cy="2428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148360" y="2349360"/>
            <a:ext cx="35272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13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Опорний конспект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вняння виду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x + a) (x+ b) (x+ c) ( x+ d) = m,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a+b=c+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еремножимо відповідно перший і другий та третій і четвертий співмножник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астосуємо замін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Тоді рівняння (1) зводиться до квадратного рівнянн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6696360" cy="649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708360" y="4005360"/>
            <a:ext cx="4319640" cy="576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411280" y="5084640"/>
            <a:ext cx="38894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Опорний конспект 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907920"/>
            <a:ext cx="878508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Рівняння виду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(x + a) (x+ b) (x+ c) ( x+ d) = m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uk-UA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за умови, що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t-BR" sz="30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i="1" lang="pt-BR" sz="30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 зводиться до квадратного рівнянн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Перемножимо вирази відповідно у перших і других та третіх і четвертих дужках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Ліву і праву частину цього рівняння поділимо н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 при цьому в лівій частині кожен із виразів у дужках почленно поділиться на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х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Виконаємо підстановк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             дістанемо квадратне рівнянн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6408720" cy="505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459640" y="3645000"/>
            <a:ext cx="684360" cy="3618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403280" y="4437000"/>
            <a:ext cx="5832720" cy="863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572000" y="5300640"/>
            <a:ext cx="1584360" cy="650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924360" y="5950080"/>
            <a:ext cx="31734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Опорний конспект  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56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вняння ви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ісля ділення чисельника і знаменника кожного дробу на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і замін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зводиться до квадратного рівнянн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6048720" cy="11509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6920" y="3500280"/>
            <a:ext cx="6121440" cy="15732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908000" y="5084640"/>
            <a:ext cx="122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Розв'язати рівня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(х</a:t>
            </a:r>
            <a:r>
              <a:rPr b="1" i="1" lang="uk-UA" sz="4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+ 2х - 3) (х + 2)( х + 6)= -20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(x + 2) (x + 3) (x + 8) ( x + 12) =4х</a:t>
            </a:r>
            <a:r>
              <a:rPr b="1" i="1" lang="uk-UA" sz="4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Робота в парах</a:t>
            </a:r>
            <a:br>
              <a:rPr sz="4000"/>
            </a:b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Розв’яжіть рівня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166680" y="1719360"/>
            <a:ext cx="634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Завдання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x - 4) (x - 5) (x - 6) ( x - 7) =168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2768760" y="3213000"/>
            <a:ext cx="637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Завдання 2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x (x + 3) (x + 5) (x- 6) ( x- 7) = 1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128520" y="4295880"/>
            <a:ext cx="560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Завдання 3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x + 1) (x - 1) (x - 2) ( x - 4) =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12"/>
          <p:cNvSpPr/>
          <p:nvPr/>
        </p:nvSpPr>
        <p:spPr>
          <a:xfrm>
            <a:off x="2932200" y="5589720"/>
            <a:ext cx="24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Завдання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56000" y="5784840"/>
            <a:ext cx="381636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Додаткові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8785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9:47:27Z</dcterms:created>
  <dc:creator>Admin</dc:creator>
  <dc:description/>
  <dc:language>en-US</dc:language>
  <cp:lastModifiedBy>Admin</cp:lastModifiedBy>
  <dcterms:modified xsi:type="dcterms:W3CDTF">2013-12-09T09:34:58Z</dcterms:modified>
  <cp:revision>1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4000000000001024140</vt:lpwstr>
  </property>
</Properties>
</file>