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AD23-26E6-4EB7-8662-3A509B32E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A752-15ED-4BD3-89CF-218490341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837F-45F1-41AE-8A49-3A236ECEC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C646-20BD-444C-B04F-F1B8C5275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FA81-30C5-46A8-99BC-05FC53FE4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EFC1-C689-41B9-B7EF-CD44D0924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0A9F-01C2-46D8-A4BE-3EC85D48B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5BBD-EB67-4CCC-9EFE-943BFB9A9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3646-1736-48A9-83B0-BBAB4DC92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EBFA-09D0-4679-8731-4556021B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5F8A-1BB7-492D-8AD5-BCBBCDAE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3A69-DD96-47E1-91FB-9733417B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C1F53-ECF9-49D8-9952-D872142E62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836280"/>
            <a:ext cx="8424720" cy="33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c00000"/>
                </a:solidFill>
                <a:latin typeface="Calibri"/>
              </a:rPr>
              <a:t>Застосування методу заміни</a:t>
            </a:r>
            <a:br>
              <a:rPr sz="4800"/>
            </a:br>
            <a:r>
              <a:rPr b="1" lang="uk-UA" sz="4800" spc="-1" strike="noStrike">
                <a:solidFill>
                  <a:srgbClr val="c00000"/>
                </a:solidFill>
                <a:latin typeface="Calibri"/>
              </a:rPr>
              <a:t> при розв’язуванні</a:t>
            </a:r>
            <a:br>
              <a:rPr sz="4800"/>
            </a:br>
            <a:r>
              <a:rPr b="1" lang="uk-UA" sz="4800" spc="-1" strike="noStrike">
                <a:solidFill>
                  <a:srgbClr val="c00000"/>
                </a:solidFill>
                <a:latin typeface="Calibri"/>
              </a:rPr>
              <a:t> раціональних рівнян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92360" y="4869000"/>
            <a:ext cx="723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7030a0"/>
                </a:solidFill>
                <a:latin typeface="Calibri"/>
              </a:rPr>
              <a:t>Рівняння – це золотий ключ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7030a0"/>
                </a:solidFill>
                <a:latin typeface="Calibri"/>
              </a:rPr>
              <a:t>що відчиняє всі математичні сез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7030a0"/>
                </a:solidFill>
                <a:latin typeface="Calibri"/>
              </a:rPr>
              <a:t>С.Кова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440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Calibri"/>
              </a:rPr>
              <a:t>Домашнє завдан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08000" y="1125360"/>
            <a:ext cx="89280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Calibri"/>
              </a:rPr>
              <a:t>Повторити вивчені на уроках схеми розв’язування рівнянь, що зводяться до квадратни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Calibri"/>
              </a:rPr>
              <a:t>Вивчити пункт 37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Calibri"/>
              </a:rPr>
              <a:t>Розв’язати №37.15(а), №37.20(а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Calibri"/>
              </a:rPr>
              <a:t>Учні з високим рівнем навчальних досягнень виконують   №37.25</a:t>
            </a:r>
            <a:r>
              <a:rPr b="1" lang="uk-UA" sz="3200" spc="-1" strike="noStrike" baseline="30000">
                <a:solidFill>
                  <a:srgbClr val="0000ff"/>
                </a:solidFill>
                <a:latin typeface="Calibri"/>
              </a:rPr>
              <a:t>**</a:t>
            </a:r>
            <a:r>
              <a:rPr b="1" lang="uk-UA" sz="3200" spc="-1" strike="noStrike">
                <a:solidFill>
                  <a:srgbClr val="0000ff"/>
                </a:solidFill>
                <a:latin typeface="Calibri"/>
              </a:rPr>
              <a:t>; при виконанні завдання необхідно додатково опрацювати підручник, приклад №13 стор. 26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79280" y="333360"/>
            <a:ext cx="8856720" cy="36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2060"/>
                </a:solidFill>
                <a:latin typeface="Calibri"/>
              </a:rPr>
              <a:t>Сформулюйте теорему Віє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2060"/>
                </a:solidFill>
                <a:latin typeface="Calibri"/>
              </a:rPr>
              <a:t>Сформулюйте наслідок з теореми Віє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2060"/>
                </a:solidFill>
                <a:latin typeface="Calibri"/>
              </a:rPr>
              <a:t>Яке рівняння називається біквадратним рівнянням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2060"/>
                </a:solidFill>
                <a:latin typeface="Calibri"/>
              </a:rPr>
              <a:t>Яку заміну змінних слід виконати в даному рівнянні, щоб отримати квадратне рівняння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 3"/>
          <p:cNvSpPr/>
          <p:nvPr/>
        </p:nvSpPr>
        <p:spPr>
          <a:xfrm>
            <a:off x="2286000" y="2746440"/>
            <a:ext cx="45720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>
              <a:lnSpc>
                <a:spcPct val="11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>
              <a:lnSpc>
                <a:spcPct val="11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>
              <a:lnSpc>
                <a:spcPct val="11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>
              <a:lnSpc>
                <a:spcPct val="11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4"/>
          <p:cNvSpPr/>
          <p:nvPr/>
        </p:nvSpPr>
        <p:spPr>
          <a:xfrm>
            <a:off x="2286000" y="28288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5"/>
          <p:cNvSpPr/>
          <p:nvPr/>
        </p:nvSpPr>
        <p:spPr>
          <a:xfrm>
            <a:off x="179280" y="8082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900000" y="3789360"/>
            <a:ext cx="727236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28036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2060"/>
                </a:solidFill>
                <a:latin typeface="Calibri"/>
              </a:rPr>
              <a:t>Самостійна робота із взаємоперевіркою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50920" y="2421000"/>
            <a:ext cx="3644640" cy="24289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148360" y="2349360"/>
            <a:ext cx="3527280" cy="25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13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Calibri"/>
              </a:rPr>
              <a:t>Опорний конспект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79280" y="1341000"/>
            <a:ext cx="8785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Рівняння виду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(x + a) (x+ b) (x+ c) ( x+ d) = m,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де </a:t>
            </a:r>
            <a:r>
              <a:rPr b="1" i="1" lang="pt-BR" sz="3200" spc="-1" strike="noStrike">
                <a:solidFill>
                  <a:srgbClr val="000000"/>
                </a:solidFill>
                <a:latin typeface="Calibri"/>
              </a:rPr>
              <a:t>a+b=c+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Перемножимо відповідно перший і другий та третій і четвертий співмножник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Застосуємо замін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Тоді рівняння (1) зводиться до квадратного рівняння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39640" y="3284640"/>
            <a:ext cx="6696360" cy="6490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708360" y="4005360"/>
            <a:ext cx="4319640" cy="576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2411280" y="5084640"/>
            <a:ext cx="38894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Calibri"/>
              </a:rPr>
              <a:t>Опорний конспект 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907920"/>
            <a:ext cx="878508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Calibri"/>
              </a:rPr>
              <a:t>Рівняння виду </a:t>
            </a:r>
            <a:r>
              <a:rPr b="1" i="1" lang="uk-UA" sz="3000" spc="-1" strike="noStrike">
                <a:solidFill>
                  <a:srgbClr val="000000"/>
                </a:solidFill>
                <a:latin typeface="Calibri"/>
              </a:rPr>
              <a:t>(x + a) (x+ b) (x+ c) ( x+ d) = m</a:t>
            </a: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i="1" lang="uk-UA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uk-UA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uk-UA" sz="3000" spc="-1" strike="noStrike">
                <a:solidFill>
                  <a:srgbClr val="000000"/>
                </a:solidFill>
                <a:latin typeface="Calibri"/>
              </a:rPr>
              <a:t>за умови, що</a:t>
            </a:r>
            <a:r>
              <a:rPr b="1" i="1" lang="uk-UA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pt-BR" sz="3000" spc="-1" strike="noStrike">
                <a:solidFill>
                  <a:srgbClr val="000000"/>
                </a:solidFill>
                <a:latin typeface="Calibri"/>
              </a:rPr>
              <a:t>ab</a:t>
            </a:r>
            <a:r>
              <a:rPr b="1" i="1" lang="uk-UA" sz="30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i="1" lang="pt-BR" sz="3000" spc="-1" strike="noStrike">
                <a:solidFill>
                  <a:srgbClr val="000000"/>
                </a:solidFill>
                <a:latin typeface="Calibri"/>
              </a:rPr>
              <a:t>cd</a:t>
            </a:r>
            <a:r>
              <a:rPr b="1" i="1" lang="uk-UA" sz="3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uk-UA" sz="3000" spc="-1" strike="noStrike">
                <a:solidFill>
                  <a:srgbClr val="000000"/>
                </a:solidFill>
                <a:latin typeface="Calibri"/>
              </a:rPr>
              <a:t> зводиться до квадратного рівняння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Calibri"/>
              </a:rPr>
              <a:t>Перемножимо вирази відповідно у перших і других та третіх і четвертих дужках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000"/>
            </a:br>
            <a:r>
              <a:rPr b="1" lang="uk-UA" sz="3000" spc="-1" strike="noStrike">
                <a:solidFill>
                  <a:srgbClr val="000000"/>
                </a:solidFill>
                <a:latin typeface="Calibri"/>
              </a:rPr>
              <a:t>Ліву і праву частину цього рівняння поділимо на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uk-UA" sz="3000" spc="-1" strike="noStrike">
                <a:solidFill>
                  <a:srgbClr val="000000"/>
                </a:solidFill>
                <a:latin typeface="Calibri"/>
              </a:rPr>
              <a:t> при цьому в лівій частині кожен із виразів у дужках почленно поділиться на </a:t>
            </a:r>
            <a:r>
              <a:rPr b="1" i="1" lang="uk-UA" sz="3000" spc="-1" strike="noStrike">
                <a:solidFill>
                  <a:srgbClr val="000000"/>
                </a:solidFill>
                <a:latin typeface="Calibri"/>
              </a:rPr>
              <a:t>х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3000" spc="-1" strike="noStrike">
                <a:solidFill>
                  <a:srgbClr val="000000"/>
                </a:solidFill>
                <a:latin typeface="Calibri"/>
              </a:rPr>
              <a:t>Виконаємо підстановку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uk-UA" sz="3000" spc="-1" strike="noStrike">
                <a:solidFill>
                  <a:srgbClr val="000000"/>
                </a:solidFill>
                <a:latin typeface="Calibri"/>
              </a:rPr>
              <a:t>             дістанемо квадратне рівняння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11280" y="2852640"/>
            <a:ext cx="6408720" cy="5050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8459640" y="3645000"/>
            <a:ext cx="684360" cy="3618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1403280" y="4437000"/>
            <a:ext cx="5832720" cy="86364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4572000" y="5300640"/>
            <a:ext cx="1584360" cy="6508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3924360" y="5950080"/>
            <a:ext cx="317340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Calibri"/>
              </a:rPr>
              <a:t>Опорний конспект  3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50560" y="981000"/>
            <a:ext cx="84358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Рівняння вид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після ділення чисельника і знаменника кожного дробу на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і заміни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 зводиться до квадратного рівнянн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826920" y="1557360"/>
            <a:ext cx="6048720" cy="11509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826920" y="3500280"/>
            <a:ext cx="6121440" cy="15732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1908000" y="5084640"/>
            <a:ext cx="122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Calibri"/>
              </a:rPr>
              <a:t>Розв'язати рівнян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000000"/>
                </a:solidFill>
                <a:latin typeface="Calibri"/>
              </a:rPr>
              <a:t>(х</a:t>
            </a:r>
            <a:r>
              <a:rPr b="1" i="1" lang="uk-UA" sz="48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1" i="1" lang="uk-UA" sz="4800" spc="-1" strike="noStrike">
                <a:solidFill>
                  <a:srgbClr val="000000"/>
                </a:solidFill>
                <a:latin typeface="Calibri"/>
              </a:rPr>
              <a:t>+ 2х - 3) (х + 2)( х + 6)= -20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000000"/>
                </a:solidFill>
                <a:latin typeface="Calibri"/>
              </a:rPr>
              <a:t>(x + 2) (x + 3) (x + 8) ( x + 12) =4х</a:t>
            </a:r>
            <a:r>
              <a:rPr b="1" i="1" lang="uk-UA" sz="4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uk-UA" sz="4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Робота в парах</a:t>
            </a:r>
            <a:br>
              <a:rPr sz="4000"/>
            </a:br>
            <a:r>
              <a:rPr b="1" lang="uk-UA" sz="4000" spc="-1" strike="noStrike">
                <a:solidFill>
                  <a:srgbClr val="002060"/>
                </a:solidFill>
                <a:latin typeface="Calibri"/>
              </a:rPr>
              <a:t>Розв’яжіть рівнянн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оугольник 3"/>
          <p:cNvSpPr/>
          <p:nvPr/>
        </p:nvSpPr>
        <p:spPr>
          <a:xfrm>
            <a:off x="166680" y="1719360"/>
            <a:ext cx="634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Calibri"/>
              </a:rPr>
              <a:t>Завдання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(x - 4) (x - 5) (x - 6) ( x - 7) =168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ик 4"/>
          <p:cNvSpPr/>
          <p:nvPr/>
        </p:nvSpPr>
        <p:spPr>
          <a:xfrm>
            <a:off x="2768760" y="3213000"/>
            <a:ext cx="6375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Calibri"/>
              </a:rPr>
              <a:t>Завдання 2</a:t>
            </a:r>
            <a:br>
              <a:rPr sz="3200"/>
            </a:b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x (x + 3) (x + 5) (x- 6) ( x- 7) = 10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угольник 5"/>
          <p:cNvSpPr/>
          <p:nvPr/>
        </p:nvSpPr>
        <p:spPr>
          <a:xfrm>
            <a:off x="128520" y="4295880"/>
            <a:ext cx="560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Calibri"/>
              </a:rPr>
              <a:t>Завдання 3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(x + 1) (x - 1) (x - 2) ( x - 4) =7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оугольник 12"/>
          <p:cNvSpPr/>
          <p:nvPr/>
        </p:nvSpPr>
        <p:spPr>
          <a:xfrm>
            <a:off x="2932200" y="5589720"/>
            <a:ext cx="242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Calibri"/>
              </a:rPr>
              <a:t>Завдання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356000" y="5784840"/>
            <a:ext cx="3816360" cy="9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Calibri"/>
              </a:rPr>
              <a:t>Додаткові завдан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79280" y="2060640"/>
            <a:ext cx="87854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5T19:47:27Z</dcterms:created>
  <dc:creator>Admin</dc:creator>
  <dc:description/>
  <dc:language>en-US</dc:language>
  <cp:lastModifiedBy>Admin</cp:lastModifiedBy>
  <dcterms:modified xsi:type="dcterms:W3CDTF">2013-12-09T09:34:58Z</dcterms:modified>
  <cp:revision>13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404000000000001024140</vt:lpwstr>
  </property>
</Properties>
</file>