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F591-F01D-42BF-8209-BA96BB24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756A-E4B8-4489-ADFA-6EF1D4CA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9191-167D-4180-A2F2-ADF8FE44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9286-343E-4856-9021-C8EB2861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D949-D68A-420A-BEF8-804BF60E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52D8-356B-4DCB-91F6-E6EB7B2E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2E1F-1184-4450-B127-071634EF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FC93-4F6F-4861-931A-84536090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081B-DD49-498B-96D0-4D050A8F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5FE6-8F66-4FD7-829A-9516FB30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7080-777D-4546-AB44-66C4C13D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5F74-57F6-4787-8DE3-A21BA74F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e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e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e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CB2D-890D-4F0D-92C6-CDE4CB60F3D2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27C8-9573-4AC4-B5C2-A805316941B9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:\Documents and Settings\Aida\Рабочий стол\НОвая ГРАФИКА сборник\детские рисунки\0370010237.jpg"/>
          <p:cNvPicPr/>
          <p:nvPr/>
        </p:nvPicPr>
        <p:blipFill>
          <a:blip r:embed="rId2"/>
          <a:stretch/>
        </p:blipFill>
        <p:spPr>
          <a:xfrm>
            <a:off x="428760" y="2214720"/>
            <a:ext cx="4357440" cy="4214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07264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002060"/>
                </a:solidFill>
                <a:latin typeface="Monotype Corsiva"/>
              </a:rPr>
              <a:t>Подорож  до  семи  чудес України </a:t>
            </a:r>
            <a:endParaRPr b="0" lang="en-US" sz="6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3" name="Овал 3"/>
          <p:cNvSpPr/>
          <p:nvPr/>
        </p:nvSpPr>
        <p:spPr>
          <a:xfrm>
            <a:off x="5572080" y="285840"/>
            <a:ext cx="357120" cy="357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4" name="Овал 6"/>
          <p:cNvSpPr/>
          <p:nvPr/>
        </p:nvSpPr>
        <p:spPr>
          <a:xfrm>
            <a:off x="214200" y="6215040"/>
            <a:ext cx="357480" cy="357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5" name="Овал 7"/>
          <p:cNvSpPr/>
          <p:nvPr/>
        </p:nvSpPr>
        <p:spPr>
          <a:xfrm>
            <a:off x="2428920" y="285840"/>
            <a:ext cx="357120" cy="3571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6" name="Овал 8"/>
          <p:cNvSpPr/>
          <p:nvPr/>
        </p:nvSpPr>
        <p:spPr>
          <a:xfrm>
            <a:off x="8429760" y="6357960"/>
            <a:ext cx="357120" cy="3571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7" name="Овал 9"/>
          <p:cNvSpPr/>
          <p:nvPr/>
        </p:nvSpPr>
        <p:spPr>
          <a:xfrm>
            <a:off x="8572680" y="428760"/>
            <a:ext cx="357120" cy="3571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8" name="Овал 10"/>
          <p:cNvSpPr/>
          <p:nvPr/>
        </p:nvSpPr>
        <p:spPr>
          <a:xfrm>
            <a:off x="1071720" y="285840"/>
            <a:ext cx="357120" cy="35712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9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B509-F08C-414D-8DC6-F6B011403187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0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1B02-D792-46D0-AEAF-19F8B97B9CC6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1" name="Нижний колонтитул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4214880" y="33577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0253f"/>
                </a:solidFill>
                <a:latin typeface="Arial"/>
              </a:rPr>
              <a:t>Підготувала вчитель математики Павлівської ЗОШ І-ІІ ступенів Богодухівської районної ради Харківської області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0253f"/>
                </a:solidFill>
                <a:latin typeface="Arial"/>
              </a:rPr>
              <a:t>Бобрик Лариса Анатоліївна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uk-UA" sz="4400" spc="-1" strike="noStrike">
                <a:solidFill>
                  <a:srgbClr val="c00000"/>
                </a:solidFill>
                <a:latin typeface="Monotype Corsiva"/>
              </a:rPr>
              <a:t>№</a:t>
            </a:r>
            <a:r>
              <a:rPr b="1" lang="uk-UA" sz="4400" spc="-1" strike="noStrike">
                <a:solidFill>
                  <a:srgbClr val="c00000"/>
                </a:solidFill>
                <a:latin typeface="Monotype Corsiva"/>
              </a:rPr>
              <a:t>2.Обчислити число, яке треба вписати в останню клітинку ланцюга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85840" y="5285880"/>
            <a:ext cx="8400960" cy="8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Отже, висота дзвіниці 96,52м.  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001F-14F3-4E71-9794-744215AEC7C4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A743-854A-4302-BAEC-481699270F16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500040" y="3000240"/>
            <a:ext cx="1285920" cy="107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Calibri"/>
              </a:rPr>
              <a:t>0,</a:t>
            </a:r>
            <a:r>
              <a:rPr b="0" lang="uk-UA" sz="3600" spc="-1" strike="noStrike">
                <a:solidFill>
                  <a:srgbClr val="ffffff"/>
                </a:solidFill>
                <a:latin typeface="Calibri"/>
              </a:rPr>
              <a:t>142</a:t>
            </a:r>
            <a:endParaRPr b="0" lang="en-US" sz="36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8" name="Прямоугольник 9"/>
          <p:cNvSpPr/>
          <p:nvPr/>
        </p:nvSpPr>
        <p:spPr>
          <a:xfrm>
            <a:off x="2857680" y="2928960"/>
            <a:ext cx="1285560" cy="107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libri"/>
              </a:rPr>
              <a:t>14,2</a:t>
            </a:r>
            <a:endParaRPr b="0" lang="en-US" sz="36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9" name="Прямоугольник 16"/>
          <p:cNvSpPr/>
          <p:nvPr/>
        </p:nvSpPr>
        <p:spPr>
          <a:xfrm>
            <a:off x="5214960" y="2928960"/>
            <a:ext cx="1428840" cy="107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libri"/>
              </a:rPr>
              <a:t>9,652</a:t>
            </a:r>
            <a:endParaRPr b="0" lang="en-US" sz="36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0" name="Прямоугольник 17"/>
          <p:cNvSpPr/>
          <p:nvPr/>
        </p:nvSpPr>
        <p:spPr>
          <a:xfrm>
            <a:off x="7500960" y="2928960"/>
            <a:ext cx="1285920" cy="107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libri"/>
              </a:rPr>
              <a:t>96,52</a:t>
            </a:r>
            <a:endParaRPr b="0" lang="en-US" sz="3600" spc="-1" strike="noStrike">
              <a:solidFill>
                <a:srgbClr val="8e0000"/>
              </a:solidFill>
              <a:latin typeface="Arial"/>
            </a:endParaRPr>
          </a:p>
        </p:txBody>
      </p:sp>
      <p:cxnSp>
        <p:nvCxnSpPr>
          <p:cNvPr id="111" name="Прямая со стрелкой 26"/>
          <p:cNvCxnSpPr/>
          <p:nvPr/>
        </p:nvCxnSpPr>
        <p:spPr>
          <a:xfrm>
            <a:off x="1856880" y="3571920"/>
            <a:ext cx="10011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27"/>
          <p:cNvSpPr/>
          <p:nvPr/>
        </p:nvSpPr>
        <p:spPr>
          <a:xfrm>
            <a:off x="1857240" y="30718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·100</a:t>
            </a:r>
            <a:endParaRPr b="0" lang="en-US" sz="2800" spc="-1" strike="noStrike">
              <a:solidFill>
                <a:srgbClr val="8e0000"/>
              </a:solidFill>
              <a:latin typeface="Arial"/>
            </a:endParaRPr>
          </a:p>
        </p:txBody>
      </p:sp>
      <p:cxnSp>
        <p:nvCxnSpPr>
          <p:cNvPr id="113" name="Прямая со стрелкой 29"/>
          <p:cNvCxnSpPr/>
          <p:nvPr/>
        </p:nvCxnSpPr>
        <p:spPr>
          <a:xfrm>
            <a:off x="4000320" y="3571920"/>
            <a:ext cx="1215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4" name="TextBox 31"/>
          <p:cNvSpPr/>
          <p:nvPr/>
        </p:nvSpPr>
        <p:spPr>
          <a:xfrm>
            <a:off x="4071960" y="300024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-4,548</a:t>
            </a:r>
            <a:endParaRPr b="0" lang="en-US" sz="2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5" name="TextBox 35"/>
          <p:cNvSpPr/>
          <p:nvPr/>
        </p:nvSpPr>
        <p:spPr>
          <a:xfrm>
            <a:off x="6500880" y="300024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÷0,1</a:t>
            </a:r>
            <a:endParaRPr b="0" lang="en-US" sz="2800" spc="-1" strike="noStrike">
              <a:solidFill>
                <a:srgbClr val="8e0000"/>
              </a:solidFill>
              <a:latin typeface="Arial"/>
            </a:endParaRPr>
          </a:p>
        </p:txBody>
      </p:sp>
      <p:cxnSp>
        <p:nvCxnSpPr>
          <p:cNvPr id="116" name="Прямая со стрелкой 55"/>
          <p:cNvCxnSpPr/>
          <p:nvPr/>
        </p:nvCxnSpPr>
        <p:spPr>
          <a:xfrm>
            <a:off x="6500880" y="3500280"/>
            <a:ext cx="1000800" cy="37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1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FE62-0A30-466D-9D76-13DB33163C1A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2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F4F0-4639-437E-A97E-B65B2D643075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7"/>
          <p:cNvSpPr/>
          <p:nvPr/>
        </p:nvSpPr>
        <p:spPr>
          <a:xfrm>
            <a:off x="3586320" y="285840"/>
            <a:ext cx="434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Franklin Gothic Medium"/>
                <a:ea typeface="Times New Roman"/>
              </a:rPr>
              <a:t>Парк “Софіївка”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28400" y="642600"/>
            <a:ext cx="8258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e0000"/>
                </a:solidFill>
                <a:latin typeface="Monotype Corsiva"/>
              </a:rPr>
              <a:t>№</a:t>
            </a:r>
            <a:r>
              <a:rPr b="1" lang="uk-UA" sz="4400" spc="-1" strike="noStrike">
                <a:solidFill>
                  <a:srgbClr val="8e0000"/>
                </a:solidFill>
                <a:latin typeface="Monotype Corsiva"/>
              </a:rPr>
              <a:t>3. Обчислити зручним способом: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а) 0,125 · 0,12 · 8;            б) 62,9 · 1,8 – 62,7 · 1,8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e0000"/>
                </a:solidFill>
                <a:latin typeface="Monotype Corsiva"/>
              </a:rPr>
              <a:t>№</a:t>
            </a:r>
            <a:r>
              <a:rPr b="1" lang="uk-UA" sz="4400" spc="-1" strike="noStrike">
                <a:solidFill>
                  <a:srgbClr val="8e0000"/>
                </a:solidFill>
                <a:latin typeface="Monotype Corsiva"/>
              </a:rPr>
              <a:t>4. Спростити вираз і знайти його значення: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а) 0,3</a:t>
            </a:r>
            <a:r>
              <a:rPr b="1" i="1" lang="uk-UA" sz="3200" spc="-1" strike="noStrike">
                <a:solidFill>
                  <a:srgbClr val="002060"/>
                </a:solidFill>
                <a:latin typeface="Calibri"/>
              </a:rPr>
              <a:t>а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 · 1,2, якщо </a:t>
            </a:r>
            <a:r>
              <a:rPr b="1" i="1" lang="uk-UA" sz="3200" spc="-1" strike="noStrike">
                <a:solidFill>
                  <a:srgbClr val="002060"/>
                </a:solidFill>
                <a:latin typeface="Calibri"/>
              </a:rPr>
              <a:t>а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 = 0,05;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б) 2,5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m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·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 0,04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n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, якщо</a:t>
            </a:r>
            <a:r>
              <a:rPr b="1" i="1" lang="uk-UA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m 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= 3</a:t>
            </a:r>
            <a:r>
              <a:rPr b="1" i="1" lang="uk-UA" sz="3200" spc="-1" strike="noStrike">
                <a:solidFill>
                  <a:srgbClr val="002060"/>
                </a:solidFill>
                <a:latin typeface="Calibri"/>
              </a:rPr>
              <a:t>;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n 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= 3,2</a:t>
            </a:r>
            <a:r>
              <a:rPr b="1" i="1" lang="uk-UA" sz="3200" spc="-1" strike="noStrike">
                <a:solidFill>
                  <a:srgbClr val="00206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в</a:t>
            </a:r>
            <a:r>
              <a:rPr b="1" i="1" lang="uk-UA" sz="3200" spc="-1" strike="noStrike">
                <a:solidFill>
                  <a:srgbClr val="002060"/>
                </a:solidFill>
                <a:latin typeface="Calibri"/>
              </a:rPr>
              <a:t>) 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7,9</a:t>
            </a:r>
            <a:r>
              <a:rPr b="1" i="1" lang="uk-UA" sz="3200" spc="-1" strike="noStrike">
                <a:solidFill>
                  <a:srgbClr val="002060"/>
                </a:solidFill>
                <a:latin typeface="Calibri"/>
              </a:rPr>
              <a:t>х 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+ 2,1</a:t>
            </a:r>
            <a:r>
              <a:rPr b="1" i="1" lang="uk-UA" sz="3200" spc="-1" strike="noStrike">
                <a:solidFill>
                  <a:srgbClr val="002060"/>
                </a:solidFill>
                <a:latin typeface="Calibri"/>
              </a:rPr>
              <a:t>х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, якщо </a:t>
            </a:r>
            <a:r>
              <a:rPr b="1" i="1" lang="uk-UA" sz="3200" spc="-1" strike="noStrike">
                <a:solidFill>
                  <a:srgbClr val="002060"/>
                </a:solidFill>
                <a:latin typeface="Calibri"/>
              </a:rPr>
              <a:t>х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 = 1,65;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г) 1,2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m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+ 3,9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m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– 2,1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m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+ 1,3, якщо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m 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= 0,9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2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50A3-B5DB-4E2A-81BF-6001067AF5CD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2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2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DB2F-3F2B-4D29-A14E-1DBC0074ADCC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2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9ACA-FD8D-47A7-8B7F-B31ABCEF8FE9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3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3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2AAF-E54A-4826-966B-F46157704C30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"/>
          <p:cNvPicPr/>
          <p:nvPr/>
        </p:nvPicPr>
        <p:blipFill>
          <a:blip r:embed="rId4"/>
          <a:stretch/>
        </p:blipFill>
        <p:spPr>
          <a:xfrm>
            <a:off x="0" y="342900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"/>
          <p:cNvPicPr/>
          <p:nvPr/>
        </p:nvPicPr>
        <p:blipFill>
          <a:blip r:embed="rId5"/>
          <a:stretch/>
        </p:blipFill>
        <p:spPr>
          <a:xfrm>
            <a:off x="4500720" y="3429000"/>
            <a:ext cx="4643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3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FB84-FCDC-4AC1-B930-837E7B4ED71F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3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3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9EB7-94BF-4310-B3CF-6C7DF8E5BD1B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9"/>
          <p:cNvSpPr/>
          <p:nvPr/>
        </p:nvSpPr>
        <p:spPr>
          <a:xfrm>
            <a:off x="3714840" y="71424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8e0000"/>
                </a:solidFill>
                <a:latin typeface="Franklin Gothic Medium"/>
              </a:rPr>
              <a:t>Острів Хортиця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4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C18A-A5E1-4F69-8007-ED9EE79D9CD2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4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4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1283-1155-4D33-917E-70BEA0358693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uk-UA" sz="4400" spc="-1" strike="noStrike">
                <a:solidFill>
                  <a:srgbClr val="8e0000"/>
                </a:solidFill>
                <a:latin typeface="Monotype Corsiva"/>
              </a:rPr>
              <a:t>№</a:t>
            </a:r>
            <a:r>
              <a:rPr b="1" lang="uk-UA" sz="4400" spc="-1" strike="noStrike">
                <a:solidFill>
                  <a:srgbClr val="8e0000"/>
                </a:solidFill>
                <a:latin typeface="Monotype Corsiva"/>
              </a:rPr>
              <a:t>5.</a:t>
            </a:r>
            <a:r>
              <a:rPr b="0" lang="uk-UA" sz="3600" spc="-1" strike="noStrike">
                <a:solidFill>
                  <a:srgbClr val="8e0000"/>
                </a:solidFill>
                <a:latin typeface="Monotype Corsiva"/>
              </a:rPr>
              <a:t> </a:t>
            </a:r>
            <a:r>
              <a:rPr b="1" lang="uk-UA" sz="4400" spc="-1" strike="noStrike">
                <a:solidFill>
                  <a:srgbClr val="8e0000"/>
                </a:solidFill>
                <a:latin typeface="Monotype Corsiva"/>
              </a:rPr>
              <a:t>Розв’язати рівняння та знайти суму їх коренів:</a:t>
            </a:r>
            <a:br>
              <a:rPr sz="3600"/>
            </a:b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8400" y="1428840"/>
            <a:ext cx="82580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а) 2</a:t>
            </a:r>
            <a:r>
              <a:rPr b="1" i="1" lang="uk-UA" sz="4400" spc="-1" strike="noStrike">
                <a:solidFill>
                  <a:srgbClr val="002060"/>
                </a:solidFill>
                <a:latin typeface="Calibri"/>
              </a:rPr>
              <a:t>х </a:t>
            </a: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– 0,75</a:t>
            </a:r>
            <a:r>
              <a:rPr b="1" i="1" lang="uk-UA" sz="4400" spc="-1" strike="noStrike">
                <a:solidFill>
                  <a:srgbClr val="002060"/>
                </a:solidFill>
                <a:latin typeface="Calibri"/>
              </a:rPr>
              <a:t>х</a:t>
            </a: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 – 68 = 639,5;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б) 100 – </a:t>
            </a:r>
            <a:r>
              <a:rPr b="1" i="1" lang="uk-UA" sz="4400" spc="-1" strike="noStrike">
                <a:solidFill>
                  <a:srgbClr val="002060"/>
                </a:solidFill>
                <a:latin typeface="Calibri"/>
              </a:rPr>
              <a:t>х</a:t>
            </a: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 ÷ 10,5 = 14,4;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в) (895,62 – х) · 3,6 = 3,888.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5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FEF4-74AF-450D-9FA0-0FF9D6DABC8E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5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5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DBDA-6632-4A74-8350-6F2BB98FA55A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157" name="Picture 2" descr="map"/>
          <p:cNvPicPr/>
          <p:nvPr/>
        </p:nvPicPr>
        <p:blipFill>
          <a:blip r:embed="rId2"/>
          <a:stretch/>
        </p:blipFill>
        <p:spPr>
          <a:xfrm>
            <a:off x="214200" y="428760"/>
            <a:ext cx="8771040" cy="6000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map"/>
          <p:cNvPicPr/>
          <p:nvPr/>
        </p:nvPicPr>
        <p:blipFill>
          <a:blip r:embed="rId3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6"/>
          <p:cNvSpPr/>
          <p:nvPr/>
        </p:nvSpPr>
        <p:spPr>
          <a:xfrm>
            <a:off x="500040" y="1500120"/>
            <a:ext cx="7858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2060"/>
                </a:solidFill>
                <a:latin typeface="Arial"/>
              </a:rPr>
              <a:t>а) х</a:t>
            </a:r>
            <a:r>
              <a:rPr b="1" lang="uk-UA" sz="4400" spc="-1" strike="noStrike">
                <a:solidFill>
                  <a:srgbClr val="002060"/>
                </a:solidFill>
                <a:latin typeface="Arial"/>
              </a:rPr>
              <a:t> = 566;    б) х = 898,8; 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Arial"/>
              </a:rPr>
              <a:t>в) х = 894,54.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2000160" y="428760"/>
            <a:ext cx="492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8e0000"/>
                </a:solidFill>
                <a:latin typeface="Monotype Corsiva"/>
              </a:rPr>
              <a:t>Відповіді :</a:t>
            </a:r>
            <a:endParaRPr b="0" lang="en-US" sz="4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642960" y="3571920"/>
            <a:ext cx="807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Monotype Corsiva"/>
                <a:ea typeface="Calibri"/>
              </a:rPr>
              <a:t>Загальна площа заповідника - острова «Хортиця» становить 2359,34 га</a:t>
            </a:r>
            <a:endParaRPr b="0" lang="en-US" sz="40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b38989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4"/>
          <p:cNvSpPr/>
          <p:nvPr/>
        </p:nvSpPr>
        <p:spPr>
          <a:xfrm>
            <a:off x="2714760" y="642960"/>
            <a:ext cx="642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8e0000"/>
                </a:solidFill>
                <a:latin typeface="Franklin Gothic Book"/>
              </a:rPr>
              <a:t>Хотинська фортеця</a:t>
            </a:r>
            <a:r>
              <a:rPr b="1" lang="uk-UA" sz="4400" spc="-1" strike="noStrike">
                <a:solidFill>
                  <a:srgbClr val="8e0000"/>
                </a:solidFill>
                <a:latin typeface="Franklin Gothic Book"/>
              </a:rPr>
              <a:t>  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5400" spc="-1" strike="noStrike">
                <a:solidFill>
                  <a:srgbClr val="8e0000"/>
                </a:solidFill>
                <a:latin typeface="Monotype Corsiva"/>
              </a:rPr>
              <a:t>№</a:t>
            </a:r>
            <a:r>
              <a:rPr b="1" lang="uk-UA" sz="5400" spc="-1" strike="noStrike">
                <a:solidFill>
                  <a:srgbClr val="8e0000"/>
                </a:solidFill>
                <a:latin typeface="Monotype Corsiva"/>
              </a:rPr>
              <a:t>6. Розв</a:t>
            </a:r>
            <a:r>
              <a:rPr b="1" lang="en-US" sz="5400" spc="-1" strike="noStrike">
                <a:solidFill>
                  <a:srgbClr val="8e0000"/>
                </a:solidFill>
                <a:latin typeface="Monotype Corsiva"/>
              </a:rPr>
              <a:t>’</a:t>
            </a:r>
            <a:r>
              <a:rPr b="1" lang="uk-UA" sz="5400" spc="-1" strike="noStrike">
                <a:solidFill>
                  <a:srgbClr val="8e0000"/>
                </a:solidFill>
                <a:latin typeface="Monotype Corsiva"/>
              </a:rPr>
              <a:t>язати задачу</a:t>
            </a:r>
            <a:endParaRPr b="0" lang="en-US" sz="5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e0000"/>
                </a:solidFill>
                <a:latin typeface="Calibri"/>
              </a:rPr>
              <a:t>    </a:t>
            </a: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Відстань між двома містами дорівнює 260,4 км. З цих міст назустріч один одному одночасно виїхали два автомобілі, які зустрілися через 2,4 години після початку руху. Один автомобіль рухався зі швидкістю 48,3 км/год. Знайдіть швидкість другого автомобіля.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6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4131-A0C5-4FB0-8500-4276E744CA11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6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7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3562-A314-4A40-A6AB-E2C1795531C2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8e0000"/>
                </a:solidFill>
                <a:latin typeface="Monotype Corsiva"/>
              </a:rPr>
              <a:t> </a:t>
            </a:r>
            <a:r>
              <a:rPr b="1" lang="uk-UA" sz="5400" spc="-1" strike="noStrike">
                <a:solidFill>
                  <a:srgbClr val="002060"/>
                </a:solidFill>
                <a:latin typeface="Monotype Corsiva"/>
              </a:rPr>
              <a:t>Хто не знає свого минулого,                                                                      той не вартий свого майбутнього.</a:t>
            </a:r>
            <a:endParaRPr b="0" lang="en-US" sz="5400" spc="-1" strike="noStrike">
              <a:solidFill>
                <a:srgbClr val="8e0000"/>
              </a:solidFill>
              <a:latin typeface="Calibri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e0000"/>
                </a:solidFill>
                <a:latin typeface="Calibri"/>
              </a:rPr>
              <a:t>                                    </a:t>
            </a:r>
            <a:r>
              <a:rPr b="1" lang="uk-UA" sz="3600" spc="-1" strike="noStrike">
                <a:solidFill>
                  <a:srgbClr val="8e0000"/>
                </a:solidFill>
                <a:latin typeface="Monotype Corsiva"/>
              </a:rPr>
              <a:t>Максим Рильський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2C12-6208-46FB-BBF3-E29E33797167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D825-A6B3-4771-8D48-D2FDBC011624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9680" y="274680"/>
            <a:ext cx="8186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8e0000"/>
              </a:solidFill>
              <a:latin typeface="Monotype Corsiv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48,3 · 2,4 =  115,92 (км) проїхав перший автомобіль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2) 260,4 – 115,92 = 144,48 (км) проїхав другий автомобіль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144,8 ÷ 2,4 = 60,2 (км/год)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Відповідь: швидкість другого автомобіля 60,2 км/год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7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998F-7863-47E8-8D60-CD7DF8AB974D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7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7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E7F7-8945-4DF6-BD61-BFADB4ADC4C1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1"/>
          <p:cNvSpPr/>
          <p:nvPr/>
        </p:nvSpPr>
        <p:spPr>
          <a:xfrm>
            <a:off x="2355840" y="645840"/>
            <a:ext cx="620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Franklin Gothic Book"/>
              </a:rPr>
              <a:t>Херсонес Таврійський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8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CB52-3903-44B0-86E7-15141E7E5D21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8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8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DE18-72BA-461D-AD86-82671A07CD1C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3"/>
          <a:stretch/>
        </p:blipFill>
        <p:spPr>
          <a:xfrm>
            <a:off x="0" y="335772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4"/>
          <a:stretch/>
        </p:blipFill>
        <p:spPr>
          <a:xfrm>
            <a:off x="4500720" y="3357720"/>
            <a:ext cx="4643280" cy="3500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5"/>
          <a:stretch/>
        </p:blipFill>
        <p:spPr>
          <a:xfrm>
            <a:off x="4500720" y="0"/>
            <a:ext cx="46432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9680" y="642600"/>
            <a:ext cx="81867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8e0000"/>
                </a:solidFill>
                <a:latin typeface="Monotype Corsiva"/>
              </a:rPr>
              <a:t>№</a:t>
            </a:r>
            <a:r>
              <a:rPr b="1" lang="uk-UA" sz="4800" spc="-1" strike="noStrike">
                <a:solidFill>
                  <a:srgbClr val="8e0000"/>
                </a:solidFill>
                <a:latin typeface="Monotype Corsiva"/>
              </a:rPr>
              <a:t>7. Розв</a:t>
            </a:r>
            <a:r>
              <a:rPr b="1" lang="en-US" sz="4800" spc="-1" strike="noStrike">
                <a:solidFill>
                  <a:srgbClr val="8e0000"/>
                </a:solidFill>
                <a:latin typeface="Monotype Corsiva"/>
              </a:rPr>
              <a:t>’</a:t>
            </a:r>
            <a:r>
              <a:rPr b="1" lang="uk-UA" sz="4800" spc="-1" strike="noStrike">
                <a:solidFill>
                  <a:srgbClr val="8e0000"/>
                </a:solidFill>
                <a:latin typeface="Monotype Corsiva"/>
              </a:rPr>
              <a:t>язати задачу</a:t>
            </a:r>
            <a:r>
              <a:rPr b="0" lang="uk-UA" sz="4800" spc="-1" strike="noStrike">
                <a:solidFill>
                  <a:srgbClr val="8e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До першої зупинки автобус проїхав 0,4 всього шляху, до другої – 0,35 всього шляху, а до третьої – частину шляху, що залишилася. Яку відстань проїхав автобус, якщо до третьої зупинки він проїхав на 111км менше, ніж до першої?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9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17AD-2F56-4DDC-AB42-E1474E814D12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9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9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C527-11A7-4493-AD1C-B9CDBC94EF24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8e0000"/>
                </a:solidFill>
                <a:latin typeface="Monotype Corsiva"/>
                <a:ea typeface="Times New Roman"/>
              </a:rPr>
              <a:t>Рефлексія </a:t>
            </a:r>
            <a:endParaRPr b="0" lang="en-US" sz="6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9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062E-A697-40C5-8C96-535AAF1C0028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9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9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7071-1A8D-4812-B6F5-F937781C8FB7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97" name="Содержимое 6" descr=""/>
          <p:cNvPicPr/>
          <p:nvPr/>
        </p:nvPicPr>
        <p:blipFill>
          <a:blip r:embed="rId2"/>
          <a:stretch/>
        </p:blipFill>
        <p:spPr>
          <a:xfrm>
            <a:off x="571680" y="1143000"/>
            <a:ext cx="857160" cy="78588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8"/>
          <p:cNvSpPr/>
          <p:nvPr/>
        </p:nvSpPr>
        <p:spPr>
          <a:xfrm>
            <a:off x="1571760" y="1357200"/>
            <a:ext cx="60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060"/>
                </a:solidFill>
                <a:latin typeface="Arial"/>
              </a:rPr>
              <a:t>Я вносив(ла) свої пропозиції… </a:t>
            </a:r>
            <a:endParaRPr b="0" lang="en-US" sz="28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99" name="Рисунок 9" descr=""/>
          <p:cNvPicPr/>
          <p:nvPr/>
        </p:nvPicPr>
        <p:blipFill>
          <a:blip r:embed="rId3"/>
          <a:stretch/>
        </p:blipFill>
        <p:spPr>
          <a:xfrm>
            <a:off x="571680" y="2143080"/>
            <a:ext cx="1000080" cy="92880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10" descr=""/>
          <p:cNvPicPr/>
          <p:nvPr/>
        </p:nvPicPr>
        <p:blipFill>
          <a:blip r:embed="rId4"/>
          <a:stretch/>
        </p:blipFill>
        <p:spPr>
          <a:xfrm>
            <a:off x="428760" y="314316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11" descr=""/>
          <p:cNvPicPr/>
          <p:nvPr/>
        </p:nvPicPr>
        <p:blipFill>
          <a:blip r:embed="rId5"/>
          <a:stretch/>
        </p:blipFill>
        <p:spPr>
          <a:xfrm>
            <a:off x="571680" y="421488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12" descr=""/>
          <p:cNvPicPr/>
          <p:nvPr/>
        </p:nvPicPr>
        <p:blipFill>
          <a:blip r:embed="rId6"/>
          <a:stretch/>
        </p:blipFill>
        <p:spPr>
          <a:xfrm>
            <a:off x="500040" y="5286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13"/>
          <p:cNvSpPr/>
          <p:nvPr/>
        </p:nvSpPr>
        <p:spPr>
          <a:xfrm>
            <a:off x="1571760" y="2357280"/>
            <a:ext cx="58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8e0000"/>
                </a:solidFill>
                <a:latin typeface="Arial"/>
              </a:rPr>
              <a:t>.</a:t>
            </a:r>
            <a:r>
              <a:rPr b="1" i="1" lang="uk-UA" sz="2800" spc="-1" strike="noStrike">
                <a:solidFill>
                  <a:srgbClr val="002060"/>
                </a:solidFill>
                <a:latin typeface="Arial"/>
              </a:rPr>
              <a:t>Я активно працював(ла)… </a:t>
            </a:r>
            <a:endParaRPr b="0" lang="en-US" sz="2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04" name="Прямоугольник 14"/>
          <p:cNvSpPr/>
          <p:nvPr/>
        </p:nvSpPr>
        <p:spPr>
          <a:xfrm>
            <a:off x="1643040" y="335772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060"/>
                </a:solidFill>
                <a:latin typeface="Arial"/>
              </a:rPr>
              <a:t>Я узагальнював(ла) думки інших… </a:t>
            </a:r>
            <a:endParaRPr b="0" lang="en-US" sz="2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05" name="Прямоугольник 15"/>
          <p:cNvSpPr/>
          <p:nvPr/>
        </p:nvSpPr>
        <p:spPr>
          <a:xfrm>
            <a:off x="1714680" y="4214880"/>
            <a:ext cx="56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060"/>
                </a:solidFill>
                <a:latin typeface="Arial"/>
              </a:rPr>
              <a:t>Я був(ла) пасивний(а)… </a:t>
            </a:r>
            <a:endParaRPr b="0" lang="en-US" sz="2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06" name="Прямоугольник 16"/>
          <p:cNvSpPr/>
          <p:nvPr/>
        </p:nvSpPr>
        <p:spPr>
          <a:xfrm>
            <a:off x="1571760" y="5143680"/>
            <a:ext cx="664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060"/>
                </a:solidFill>
                <a:latin typeface="Arial"/>
              </a:rPr>
              <a:t>Я не отримав(ла) задоволення від власної праці... </a:t>
            </a:r>
            <a:endParaRPr b="0" lang="en-US" sz="28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c00000"/>
                </a:solidFill>
                <a:latin typeface="Monotype Corsiva"/>
              </a:rPr>
              <a:t>Домашнє завдання </a:t>
            </a:r>
            <a:endParaRPr b="0" lang="en-US" sz="4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13840" y="1285560"/>
            <a:ext cx="89298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Повторити </a:t>
            </a:r>
            <a:r>
              <a:rPr b="1" i="1" lang="uk-UA" sz="2400" spc="-1" strike="noStrike">
                <a:solidFill>
                  <a:srgbClr val="c00000"/>
                </a:solidFill>
                <a:latin typeface="Calibri"/>
              </a:rPr>
              <a:t>§§ 29 – 33 </a:t>
            </a: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 ( підручник Н.А.Тарасенкова, І.М.Богатирьова та інші. Математика 5)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00000"/>
                </a:solidFill>
                <a:latin typeface="Calibri"/>
              </a:rPr>
              <a:t>Розв’язати задачу: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Зріст людини археологи можуть визначити навіть за окремими кістками. Наприклад, довжина малої берцової кістки становить 0,22 зросту людини, а ліктьова кістка складає 0,16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її зросту  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Під час розкопок знайшли малу берцову кістку довжиною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39,9 см. З'ясуйте, якого зросту була людина?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2) Як можна довести, що ліктьова кістка довжиною 20,3 см не могла належати тій самій людині?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0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FF90-A016-4461-A20D-61C9499825A5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1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1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9728-72EA-4875-9D72-E81DCC2AA4BF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002060"/>
                </a:solidFill>
                <a:latin typeface="Monotype Corsiva"/>
              </a:rPr>
              <a:t>Дякую за роботу на уроці</a:t>
            </a:r>
            <a:endParaRPr b="0" lang="en-US" sz="96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1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6CD1-8E49-463F-98DB-D319C6B09E9D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1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1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3485-6A2D-4250-9149-D14A105FC164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-1135080" y="0"/>
            <a:ext cx="102790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285840" y="500040"/>
            <a:ext cx="8429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00000"/>
                </a:solidFill>
                <a:latin typeface="Franklin Gothic Book"/>
              </a:rPr>
              <a:t>Національний 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00000"/>
                </a:solidFill>
                <a:latin typeface="Franklin Gothic Book"/>
              </a:rPr>
              <a:t>історико-архітектурний заповідник «Кам’янець»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8e0000"/>
                </a:solidFill>
                <a:latin typeface="Monotype Corsiva"/>
              </a:rPr>
              <a:t>Гра “Незакінчене речення”</a:t>
            </a:r>
            <a:endParaRPr b="0" lang="en-US" sz="6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7120" y="1428840"/>
            <a:ext cx="84009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Calibri"/>
              </a:rPr>
              <a:t>Щоб знайти суму (різницю) двох десяткових дробів, треба …</a:t>
            </a:r>
            <a:endParaRPr b="0" lang="en-US" sz="2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Calibri"/>
              </a:rPr>
              <a:t>Щоб додати (відняти) десяткові дроби з різною кількістю цифр після коми потрібно …</a:t>
            </a:r>
            <a:endParaRPr b="0" lang="en-US" sz="2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Calibri"/>
              </a:rPr>
              <a:t>Щоб помножити десятковий дріб на 10, 100, 1000, …, треба …</a:t>
            </a:r>
            <a:endParaRPr b="0" lang="en-US" sz="2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Calibri"/>
              </a:rPr>
              <a:t>Щоб помножити десятковий дріб на 0,1; 0,01; 0,001; …, треба …</a:t>
            </a:r>
            <a:endParaRPr b="0" lang="en-US" sz="2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Calibri"/>
              </a:rPr>
              <a:t>Щоб знайти добуток двох десяткових дробів, треба …</a:t>
            </a:r>
            <a:endParaRPr b="0" lang="en-US" sz="2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Calibri"/>
              </a:rPr>
              <a:t>Щоб знайти частку двох десяткових дробів, треба …</a:t>
            </a:r>
            <a:endParaRPr b="0" lang="en-US" sz="2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Calibri"/>
              </a:rPr>
              <a:t>Щоб поділити десятковий дріб на 10, 100, 1000, …, потрібно …</a:t>
            </a:r>
            <a:endParaRPr b="0" lang="en-US" sz="2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Calibri"/>
              </a:rPr>
              <a:t>Щоб поділити десятковий дріб на 0,1; 0,01; 0,001, …, потрібно …</a:t>
            </a:r>
            <a:endParaRPr b="0" lang="en-US" sz="2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Calibri"/>
              </a:rPr>
              <a:t>Щоб знайти десятковий дріб від числа, треба …</a:t>
            </a:r>
            <a:endParaRPr b="0" lang="en-US" sz="2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Calibri"/>
              </a:rPr>
              <a:t>Щоб знайти число за його десятковим дробом, треба …</a:t>
            </a:r>
            <a:endParaRPr b="0" lang="en-US" sz="2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282F-9842-4D14-A882-5783F0BA1665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6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6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48E2-48DF-4375-B2A2-FD8979E0847B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67" name="Picture 2" descr="map"/>
          <p:cNvPicPr/>
          <p:nvPr/>
        </p:nvPicPr>
        <p:blipFill>
          <a:blip r:embed="rId2"/>
          <a:stretch/>
        </p:blipFill>
        <p:spPr>
          <a:xfrm>
            <a:off x="214200" y="428760"/>
            <a:ext cx="8771040" cy="6000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map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785880" y="5143680"/>
            <a:ext cx="750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e0000"/>
                </a:solidFill>
                <a:latin typeface="Arial"/>
                <a:ea typeface="Arial"/>
              </a:rPr>
              <a:t>Площа острова 2359,34 га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285840" y="1217160"/>
            <a:ext cx="88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а) 2</a:t>
            </a:r>
            <a:r>
              <a:rPr b="1" i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х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0,75</a:t>
            </a:r>
            <a:r>
              <a:rPr b="1" i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х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68 = 639,5;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2574360"/>
            <a:ext cx="657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б) 100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i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х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÷ 10,5 = 14,4 ;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14200" y="3860280"/>
            <a:ext cx="807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в) (895,62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х)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  <a:ea typeface="Calibri"/>
              </a:rPr>
              <a:t>·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3,6 = 3,888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4"/>
          <a:stretch/>
        </p:blipFill>
        <p:spPr>
          <a:xfrm>
            <a:off x="0" y="-141120"/>
            <a:ext cx="9144000" cy="6999120"/>
          </a:xfrm>
          <a:prstGeom prst="rect">
            <a:avLst/>
          </a:prstGeom>
          <a:ln w="0">
            <a:noFill/>
          </a:ln>
        </p:spPr>
      </p:pic>
      <p:sp>
        <p:nvSpPr>
          <p:cNvPr id="74" name="TextBox 12"/>
          <p:cNvSpPr/>
          <p:nvPr/>
        </p:nvSpPr>
        <p:spPr>
          <a:xfrm>
            <a:off x="4000680" y="428760"/>
            <a:ext cx="47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Franklin Gothic Book"/>
              </a:rPr>
              <a:t>Софія Київська 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9680" y="71388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№</a:t>
            </a: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1. Відновити загублені коми</a:t>
            </a:r>
            <a:endParaRPr b="0" lang="en-US" sz="5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712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1) 32 + 18 = 5;            2) 42 · 17 = 7,14;              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3) 63 – 27 = 603;</a:t>
            </a: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     4) 3 + 108 = 408;                               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5) 57 - 4= 17;              6) 54 · 5 = 27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7) 736 – 336 = 4;       9) 363,6 : 9 = 404; 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9) 545454 : 6 = 9090,9</a:t>
            </a:r>
            <a:r>
              <a:rPr b="1" lang="uk-UA" sz="4000" spc="-1" strike="noStrike">
                <a:solidFill>
                  <a:srgbClr val="8e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24C7-1266-42AA-BAE5-1D428EB7E285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E1A3-E4BD-41BE-B14A-EF849A09EE12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Monotype Corsiva"/>
              </a:rPr>
              <a:t>Відповіді</a:t>
            </a:r>
            <a:endParaRPr b="0" lang="en-US" sz="6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1) 3,2 + 1,8 = 5;            2) 4,2 · 1,7 = 7,14;              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3) 63 – 2,7 = 603;</a:t>
            </a: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     4) 3 + 1,08 = 4,08;                               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5) 5,7 - 4= 17;              6) 5,4 · 5 = 27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7) 7,36 – 3,36 = 4;        9) 363,6 : 9 = 40,4; 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9) 54545,4 : 6 = 9090,9</a:t>
            </a:r>
            <a:r>
              <a:rPr b="1" lang="uk-UA" sz="3600" spc="-1" strike="noStrike">
                <a:solidFill>
                  <a:srgbClr val="8e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902C-B6EA-40DC-A086-EAA92F3290E2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8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8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7A35-C155-4C88-94D4-2ED601134FE2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87" name="Picture 2" descr="map"/>
          <p:cNvPicPr/>
          <p:nvPr/>
        </p:nvPicPr>
        <p:blipFill>
          <a:blip r:embed="rId2"/>
          <a:stretch/>
        </p:blipFill>
        <p:spPr>
          <a:xfrm>
            <a:off x="214200" y="428760"/>
            <a:ext cx="8771040" cy="6000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map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785880" y="5143680"/>
            <a:ext cx="750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e0000"/>
                </a:solidFill>
                <a:latin typeface="Arial"/>
                <a:ea typeface="Arial"/>
              </a:rPr>
              <a:t>Площа острова 2359,34 га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285840" y="1217160"/>
            <a:ext cx="88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а) 2</a:t>
            </a:r>
            <a:r>
              <a:rPr b="1" i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х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0,75</a:t>
            </a:r>
            <a:r>
              <a:rPr b="1" i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х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68 = 639,5;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2574360"/>
            <a:ext cx="657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б) 100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i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х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÷ 10,5 = 14,4 ;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14200" y="3860280"/>
            <a:ext cx="807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в) (895,62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х)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  <a:ea typeface="Calibri"/>
              </a:rPr>
              <a:t>·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3,6 = 3,888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4"/>
          <a:stretch/>
        </p:blipFill>
        <p:spPr>
          <a:xfrm>
            <a:off x="0" y="-141120"/>
            <a:ext cx="9144000" cy="6999120"/>
          </a:xfrm>
          <a:prstGeom prst="rect">
            <a:avLst/>
          </a:prstGeom>
          <a:ln w="0">
            <a:noFill/>
          </a:ln>
        </p:spPr>
      </p:pic>
      <p:sp>
        <p:nvSpPr>
          <p:cNvPr id="94" name="TextBox 12"/>
          <p:cNvSpPr/>
          <p:nvPr/>
        </p:nvSpPr>
        <p:spPr>
          <a:xfrm>
            <a:off x="4000680" y="428760"/>
            <a:ext cx="47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Franklin Gothic Book"/>
              </a:rPr>
              <a:t>Софія Київська 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5"/>
          <a:stretch/>
        </p:blipFill>
        <p:spPr>
          <a:xfrm>
            <a:off x="0" y="-142920"/>
            <a:ext cx="4429080" cy="7000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6"/>
          <a:stretch/>
        </p:blipFill>
        <p:spPr>
          <a:xfrm>
            <a:off x="4286160" y="-142920"/>
            <a:ext cx="4857840" cy="7000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7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8"/>
          <a:stretch/>
        </p:blipFill>
        <p:spPr>
          <a:xfrm>
            <a:off x="4357800" y="-214200"/>
            <a:ext cx="4786200" cy="7072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9"/>
          <a:stretch/>
        </p:blipFill>
        <p:spPr>
          <a:xfrm>
            <a:off x="0" y="-142920"/>
            <a:ext cx="435780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-428760" y="0"/>
            <a:ext cx="101728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2440080" y="357120"/>
            <a:ext cx="685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Franklin Gothic Book"/>
              </a:rPr>
              <a:t>Києво-Печерська Лавра</a:t>
            </a:r>
            <a:r>
              <a:rPr b="1" lang="ru-RU" sz="44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19:21:11Z</dcterms:created>
  <dc:creator>Дима</dc:creator>
  <dc:description>http://aida.ucoz.ru</dc:description>
  <dc:language>en-US</dc:language>
  <cp:lastModifiedBy>Admin</cp:lastModifiedBy>
  <dcterms:modified xsi:type="dcterms:W3CDTF">2013-12-08T07:20:19Z</dcterms:modified>
  <cp:revision>98</cp:revision>
  <dc:subject/>
  <dc:title>Подорож до семи чудес Україн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12000000000001024140</vt:lpwstr>
  </property>
</Properties>
</file>