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A55-CEF7-4108-99E4-8E03473E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A8C-8C51-4C27-BB18-54C8241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3A0-4CB6-4051-848C-773CA7DB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542-F83B-438E-9527-DC69D4C9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221-1D97-47DA-8B11-319D9AA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AAF-E5D6-44B6-9183-9953C307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CBB-FB5E-4FE3-B765-B15A44E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CB1-56E2-42A7-91BF-2C0A513E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420-E30F-4D6D-8E9D-11A2CA94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24A-F754-4A7E-ACA1-B000704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EC6-6CB4-4BC2-9B88-7A7A419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8CE-D6D9-46E9-AA5B-BCDD8AC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BAE-0F3D-4B80-BCAB-EDDCAE89252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7601-8031-4DDA-BA32-C415F7FEBD8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2"/>
          <a:stretch/>
        </p:blipFill>
        <p:spPr>
          <a:xfrm>
            <a:off x="428760" y="2214720"/>
            <a:ext cx="4357440" cy="42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0726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2060"/>
                </a:solidFill>
                <a:latin typeface="Monotype Corsiva"/>
              </a:rPr>
              <a:t>Подорож  до  семи  чудес України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F47-E362-41D7-8765-1C006E0F5E7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3A0-D77A-44F4-ABBC-96CD34E70F9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214880" y="33577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Підготувала вчитель математики Павлівської ЗОШ І-ІІ ступенів Богодухівської районної ради Харківської області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Бобрик Лариса Анатоліївна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2.Обчислити число, яке треба вписати в останню клітинку ланцюг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840" y="5285880"/>
            <a:ext cx="84009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тже, висота дзвіниці 96,52м.  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480-1597-4F32-8AC8-DBC4E9AD10B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15B9-1B18-4507-A9F8-76F6A86F7EE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00040" y="300024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libri"/>
              </a:rPr>
              <a:t>0,</a:t>
            </a: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2857680" y="2928960"/>
            <a:ext cx="128556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,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9" name="Прямоугольник 16"/>
          <p:cNvSpPr/>
          <p:nvPr/>
        </p:nvSpPr>
        <p:spPr>
          <a:xfrm>
            <a:off x="5214960" y="2928960"/>
            <a:ext cx="142884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,6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Прямоугольник 17"/>
          <p:cNvSpPr/>
          <p:nvPr/>
        </p:nvSpPr>
        <p:spPr>
          <a:xfrm>
            <a:off x="7500960" y="292896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6,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1" name="Прямая со стрелкой 26"/>
          <p:cNvCxnSpPr/>
          <p:nvPr/>
        </p:nvCxnSpPr>
        <p:spPr>
          <a:xfrm>
            <a:off x="1856880" y="3571920"/>
            <a:ext cx="1001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7"/>
          <p:cNvSpPr/>
          <p:nvPr/>
        </p:nvSpPr>
        <p:spPr>
          <a:xfrm>
            <a:off x="1857240" y="30718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·100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3" name="Прямая со стрелкой 29"/>
          <p:cNvCxnSpPr/>
          <p:nvPr/>
        </p:nvCxnSpPr>
        <p:spPr>
          <a:xfrm>
            <a:off x="4000320" y="357192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31"/>
          <p:cNvSpPr/>
          <p:nvPr/>
        </p:nvSpPr>
        <p:spPr>
          <a:xfrm>
            <a:off x="4071960" y="30002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-4,548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5" name="TextBox 35"/>
          <p:cNvSpPr/>
          <p:nvPr/>
        </p:nvSpPr>
        <p:spPr>
          <a:xfrm>
            <a:off x="6500880" y="3000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÷0,1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6" name="Прямая со стрелкой 55"/>
          <p:cNvCxnSpPr/>
          <p:nvPr/>
        </p:nvCxnSpPr>
        <p:spPr>
          <a:xfrm>
            <a:off x="6500880" y="3500280"/>
            <a:ext cx="10008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224-6CC9-4427-8EB9-EDA8B219383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11A-1526-4605-9AA2-32A8694252B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586320" y="28584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Парк “Софіївка”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3. Обчислити зручним способом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125 · 0,12 · 8;            б) 62,9 · 1,8 – 62,7 · 1,8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4. Спростити вираз і знайти його значення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· 1,2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0,0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б) 2,5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·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0,04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,2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в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)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7,9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+ 2,1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1,6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г) 1,2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3,9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2,1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1,3, якщо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0,9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B8B-840B-46EB-81F5-039F65C5DA0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DE8-E395-4D7B-99FB-6AF91955015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14B1-16C9-4AD4-B032-DF1A22F559D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CACD-9EF8-4547-8C14-68CD3383FDB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4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5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945D-DC11-461A-B0A1-69F38B4A9FA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447-AC02-4FDF-89D5-436FFA69D53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9"/>
          <p:cNvSpPr/>
          <p:nvPr/>
        </p:nvSpPr>
        <p:spPr>
          <a:xfrm>
            <a:off x="3714840" y="7142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Medium"/>
              </a:rPr>
              <a:t>Острів Хортиця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283-3D0F-40BC-91A0-03835D02BC8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D76D-0B61-452E-829D-29FA55B0A6D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5.</a:t>
            </a:r>
            <a:r>
              <a:rPr b="0" lang="uk-UA" sz="36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Розв’язати рівняння та знайти суму їх коренів:</a:t>
            </a:r>
            <a:br>
              <a:rPr sz="3600"/>
            </a:b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а) 2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– 0,75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– 68 = 639,5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б) 100 – 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÷ 10,5 = 14,4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) (895,62 – х) · 3,6 = 3,888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20BC-03D2-4627-9D76-9714C71B761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C838-F4BD-4411-8890-606B7A6CD1A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5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500040" y="150012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Arial"/>
              </a:rPr>
              <a:t>а) х</a:t>
            </a: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 = 566;    б) х = 898,8;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) х = 894,54.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42876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Відповіді :</a:t>
            </a:r>
            <a:endParaRPr b="0" lang="en-US" sz="4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642960" y="357192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гальна площа заповідника - острова «Хортиця» становить 2359,34 га</a:t>
            </a:r>
            <a:endParaRPr b="0" lang="en-US" sz="4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b38989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2714760" y="64296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Book"/>
              </a:rPr>
              <a:t>Хотинська фортеця</a:t>
            </a:r>
            <a:r>
              <a:rPr b="1" lang="uk-UA" sz="4400" spc="-1" strike="noStrike">
                <a:solidFill>
                  <a:srgbClr val="8e0000"/>
                </a:solidFill>
                <a:latin typeface="Franklin Gothic Book"/>
              </a:rPr>
              <a:t> 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6. Розв</a:t>
            </a:r>
            <a:r>
              <a:rPr b="1" lang="en-US" sz="54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стань між двома містами дорівнює 260,4 км. З цих міст назустріч один одному одночасно виїхали два автомобілі, які зустрілися через 2,4 години після початку руху. Один автомобіль рухався зі швидкістю 48,3 км/год. Знайдіть швидкість другого автомобіля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00FD-66B9-4157-A824-522AE71B996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3F9-F41D-414E-AB91-FCC7AD0258D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Monotype Corsiva"/>
              </a:rPr>
              <a:t>Хто не знає свого минулого,                                                                      той не вартий свого майбутнього.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                                </a:t>
            </a:r>
            <a:r>
              <a:rPr b="1" lang="uk-UA" sz="3600" spc="-1" strike="noStrike">
                <a:solidFill>
                  <a:srgbClr val="8e0000"/>
                </a:solidFill>
                <a:latin typeface="Monotype Corsiva"/>
              </a:rPr>
              <a:t>Максим Рильський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E71-9D71-44C8-849C-3497CAF648B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D0FE-FB6A-45EC-B8C1-03AF03D7926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e0000"/>
              </a:solidFill>
              <a:latin typeface="Monotype Corsiv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48,3 · 2,4 =  115,92 (км) проїхав перш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2) 260,4 – 115,92 = 144,48 (км) проїхав друг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44,8 ÷ 2,4 = 60,2 (км/год)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повідь: швидкість другого автомобіля 60,2 км/год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53C1-128F-48B5-9E4B-8383969E160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7EC8-CDDE-403D-8E4D-D48DFDC5A9E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2355840" y="645840"/>
            <a:ext cx="62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Херсонес Таврійський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111-E196-4FAF-B74E-396A04360AE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35ED-701C-44CB-A0F8-DB254D453A1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7. Розв</a:t>
            </a:r>
            <a:r>
              <a:rPr b="1" lang="en-US" sz="48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r>
              <a:rPr b="0" lang="uk-UA" sz="48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о першої зупинки автобус проїхав 0,4 всього шляху, до другої – 0,35 всього шляху, а до третьої – частину шляху, що залишилася. Яку відстань проїхав автобус, якщо до третьої зупинки він проїхав на 111км менше, ніж до першої?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BF7-4A85-4605-84CA-B52B085CCBE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A60-327A-4920-A39E-16F3B395DB7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8e0000"/>
                </a:solidFill>
                <a:latin typeface="Monotype Corsiva"/>
                <a:ea typeface="Times New Roman"/>
              </a:rPr>
              <a:t>Рефлексія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1042-EFDA-4710-963F-1858DDBA289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40C-CF7C-4B98-BD0D-2E09EC7FC17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7" name="Содержимое 6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857160" cy="7858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1571760" y="135720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вносив(ла) свої пропозиції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9" name="Рисунок 9" descr=""/>
          <p:cNvPicPr/>
          <p:nvPr/>
        </p:nvPicPr>
        <p:blipFill>
          <a:blip r:embed="rId3"/>
          <a:stretch/>
        </p:blipFill>
        <p:spPr>
          <a:xfrm>
            <a:off x="571680" y="21430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"/>
          <p:cNvPicPr/>
          <p:nvPr/>
        </p:nvPicPr>
        <p:blipFill>
          <a:blip r:embed="rId4"/>
          <a:stretch/>
        </p:blipFill>
        <p:spPr>
          <a:xfrm>
            <a:off x="428760" y="31431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"/>
          <p:cNvPicPr/>
          <p:nvPr/>
        </p:nvPicPr>
        <p:blipFill>
          <a:blip r:embed="rId5"/>
          <a:stretch/>
        </p:blipFill>
        <p:spPr>
          <a:xfrm>
            <a:off x="571680" y="42148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2" descr=""/>
          <p:cNvPicPr/>
          <p:nvPr/>
        </p:nvPicPr>
        <p:blipFill>
          <a:blip r:embed="rId6"/>
          <a:stretch/>
        </p:blipFill>
        <p:spPr>
          <a:xfrm>
            <a:off x="500040" y="5286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3"/>
          <p:cNvSpPr/>
          <p:nvPr/>
        </p:nvSpPr>
        <p:spPr>
          <a:xfrm>
            <a:off x="1571760" y="235728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8e0000"/>
                </a:solidFill>
                <a:latin typeface="Arial"/>
              </a:rPr>
              <a:t>.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активно працював(л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1643040" y="335772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узагальнював(ла) думки інших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5" name="Прямоугольник 15"/>
          <p:cNvSpPr/>
          <p:nvPr/>
        </p:nvSpPr>
        <p:spPr>
          <a:xfrm>
            <a:off x="1714680" y="4214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був(ла) пасивний(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1571760" y="514368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не отримав(ла) задоволення від власної праці...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Monotype Corsiva"/>
              </a:rPr>
              <a:t>Домашнє завдання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3840" y="1285560"/>
            <a:ext cx="8929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овторити </a:t>
            </a: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§§ 29 – 33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( підручник Н.А.Тарасенкова, І.М.Богатирьова та інші. Математика 5)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Розв’язати задачу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Зріст людини археологи можуть визначити навіть за окремими кістками. Наприклад, довжина малої берцової кістки становить 0,22 зросту людини, а ліктьова кістка складає 0,16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її зросту  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ід час розкопок знайшли малу берцову кістку довжиною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39,9 см. З'ясуйте, якого зросту була людина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2) Як можна довести, що ліктьова кістка довжиною 20,3 см не могла належати тій самій людині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36D-6EBD-4D77-A836-52DCBC42309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1F6-BE59-4E51-839D-7A38C3CDF97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2060"/>
                </a:solidFill>
                <a:latin typeface="Monotype Corsiva"/>
              </a:rPr>
              <a:t>Дякую за роботу на уроці</a:t>
            </a:r>
            <a:endParaRPr b="0" lang="en-US" sz="9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C97-226E-4CCE-BD7E-AF3DDBCC569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5094-213B-4CFD-A4D5-61671908282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1135080" y="0"/>
            <a:ext cx="1027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85840" y="5000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Національний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історико-архітектурний заповідник «Кам’янець»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8e0000"/>
                </a:solidFill>
                <a:latin typeface="Monotype Corsiva"/>
              </a:rPr>
              <a:t>Гра “Незакінчене речення”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42884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суму (різницю)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додати (відняти) десяткові дроби з різною кількістю цифр після коми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10, 100, 1000,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0,1; 0,01; 0,001;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обуток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астку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10, 100, 1000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0,1; 0,01; 0,001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есятковий дріб від числа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исло за його десятковим дробом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A3A7-0EEC-4B0C-9CFF-EB9AC34EFA9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3392-CBD3-4699-BB98-EF6ACF27923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1. Відновити загублені коми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12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1) 32 + 18 = 5;            2) 42 · 17 = 7,14;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3) 63 – 27 = 603;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4) 3 + 108 = 408;                 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5) 57 - 4= 17;              6) 54 · 5 = 27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7) 736 – 336 = 4;       9) 363,6 : 9 = 404;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9) 545454 : 6 = 9090,9</a:t>
            </a:r>
            <a:r>
              <a:rPr b="1" lang="uk-UA" sz="40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27E9-DE69-40FE-B584-A2F87CC0DF6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836-9D3A-4508-8D66-27EA5B0086E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ідповіді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) 3,2 + 1,8 = 5;            2) 4,2 · 1,7 = 7,14;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3) 63 – 2,7 = 603;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4) 3 + 1,08 = 4,08;                 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5) 5,7 - 4= 17;              6) 5,4 · 5 = 27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7) 7,36 – 3,36 = 4;        9) 363,6 : 9 = 40,4;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9) 54545,4 : 6 = 9090,9</a:t>
            </a:r>
            <a:r>
              <a:rPr b="1" lang="uk-UA" sz="36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D69-4A56-46F1-93E3-F506D0A02134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DEB-CEBB-47D5-8939-AA6FBCA1BDE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5"/>
          <a:stretch/>
        </p:blipFill>
        <p:spPr>
          <a:xfrm>
            <a:off x="0" y="-142920"/>
            <a:ext cx="4429080" cy="700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6"/>
          <a:stretch/>
        </p:blipFill>
        <p:spPr>
          <a:xfrm>
            <a:off x="4286160" y="-142920"/>
            <a:ext cx="4857840" cy="700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7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8"/>
          <a:stretch/>
        </p:blipFill>
        <p:spPr>
          <a:xfrm>
            <a:off x="4357800" y="-214200"/>
            <a:ext cx="4786200" cy="707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9"/>
          <a:stretch/>
        </p:blipFill>
        <p:spPr>
          <a:xfrm>
            <a:off x="0" y="-142920"/>
            <a:ext cx="43578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428760" y="0"/>
            <a:ext cx="101728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440080" y="357120"/>
            <a:ext cx="68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Києво-Печерська Лавра</a:t>
            </a:r>
            <a:r>
              <a:rPr b="1" lang="ru-RU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21:11Z</dcterms:created>
  <dc:creator>Дима</dc:creator>
  <dc:description>http://aida.ucoz.ru</dc:description>
  <dc:language>en-US</dc:language>
  <cp:lastModifiedBy>Admin</cp:lastModifiedBy>
  <dcterms:modified xsi:type="dcterms:W3CDTF">2013-12-08T07:20:19Z</dcterms:modified>
  <cp:revision>98</cp:revision>
  <dc:subject/>
  <dc:title>Подорож до семи чудес Украї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12000000000001024140</vt:lpwstr>
  </property>
</Properties>
</file>