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1F77-F63B-4264-B3D5-EE752B4F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C66-0645-4DD6-B011-E2E028C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0C9-A01D-45FC-8596-75171091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1157-EE3D-4C31-8398-2AAF8CD7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54B-12E7-42B2-A722-FC1CFA45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BFA-52D5-4863-A951-BB2AF179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12A-5903-4268-9362-41095ED1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BC8-53B4-4487-860B-DCC0C777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A01-61EF-44E8-A7E1-29DB61CF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1CC-5610-4B30-B293-2E302069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B01-38E4-4774-98D6-DBBE9943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503-F6DB-47C8-85C1-24C5A4F1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e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e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e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9DE4-BEE7-4485-8B5D-DE7E22B3689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3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E37-0D1E-423B-86DF-656315892502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Documents and Settings\Aida\Рабочий стол\НОвая ГРАФИКА сборник\детские рисунки\0370010237.jpg"/>
          <p:cNvPicPr/>
          <p:nvPr/>
        </p:nvPicPr>
        <p:blipFill>
          <a:blip r:embed="rId2"/>
          <a:stretch/>
        </p:blipFill>
        <p:spPr>
          <a:xfrm>
            <a:off x="428760" y="2214720"/>
            <a:ext cx="4357440" cy="421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0726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2060"/>
                </a:solidFill>
                <a:latin typeface="Monotype Corsiva"/>
              </a:rPr>
              <a:t>Подорож  до  семи  чудес України 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43" name="Овал 3"/>
          <p:cNvSpPr/>
          <p:nvPr/>
        </p:nvSpPr>
        <p:spPr>
          <a:xfrm>
            <a:off x="5572080" y="285840"/>
            <a:ext cx="357120" cy="357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4" name="Овал 6"/>
          <p:cNvSpPr/>
          <p:nvPr/>
        </p:nvSpPr>
        <p:spPr>
          <a:xfrm>
            <a:off x="214200" y="6215040"/>
            <a:ext cx="357480" cy="357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5" name="Овал 7"/>
          <p:cNvSpPr/>
          <p:nvPr/>
        </p:nvSpPr>
        <p:spPr>
          <a:xfrm>
            <a:off x="2428920" y="285840"/>
            <a:ext cx="357120" cy="3571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6" name="Овал 8"/>
          <p:cNvSpPr/>
          <p:nvPr/>
        </p:nvSpPr>
        <p:spPr>
          <a:xfrm>
            <a:off x="8429760" y="6357960"/>
            <a:ext cx="357120" cy="3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7" name="Овал 9"/>
          <p:cNvSpPr/>
          <p:nvPr/>
        </p:nvSpPr>
        <p:spPr>
          <a:xfrm>
            <a:off x="8572680" y="428760"/>
            <a:ext cx="357120" cy="3571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8" name="Овал 10"/>
          <p:cNvSpPr/>
          <p:nvPr/>
        </p:nvSpPr>
        <p:spPr>
          <a:xfrm>
            <a:off x="1071720" y="285840"/>
            <a:ext cx="357120" cy="3571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8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49" name="Дата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45EF-A7A4-488D-989A-14321F036A43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0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01DB-8FA0-4A6E-92C4-6268F9628BC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1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>
            <a:off x="4214880" y="33577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0253f"/>
                </a:solidFill>
                <a:latin typeface="Arial"/>
              </a:rPr>
              <a:t>Підготувала вчитель математики Павлівської ЗОШ І-ІІ ступенів Богодухівської районної ради Харківської області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10253f"/>
                </a:solidFill>
                <a:latin typeface="Arial"/>
              </a:rPr>
              <a:t>Бобрик Лариса Анатоліївна</a:t>
            </a:r>
            <a:endParaRPr b="0" lang="en-US" sz="1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uk-UA" sz="4400" spc="-1" strike="noStrike">
                <a:solidFill>
                  <a:srgbClr val="c0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c00000"/>
                </a:solidFill>
                <a:latin typeface="Monotype Corsiva"/>
              </a:rPr>
              <a:t>2.Обчислити число, яке треба вписати в останню клітинку ланцюга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5840" y="5285880"/>
            <a:ext cx="84009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Отже, висота дзвіниці 96,52м.  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0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A7D1-880C-4513-A787-9D6977C5C8B9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865-97BC-4C93-9562-A693BB05631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500040" y="3000240"/>
            <a:ext cx="12859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ffffff"/>
                </a:solidFill>
                <a:latin typeface="Calibri"/>
              </a:rPr>
              <a:t>0,</a:t>
            </a: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14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8" name="Прямоугольник 9"/>
          <p:cNvSpPr/>
          <p:nvPr/>
        </p:nvSpPr>
        <p:spPr>
          <a:xfrm>
            <a:off x="2857680" y="2928960"/>
            <a:ext cx="128556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14,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09" name="Прямоугольник 16"/>
          <p:cNvSpPr/>
          <p:nvPr/>
        </p:nvSpPr>
        <p:spPr>
          <a:xfrm>
            <a:off x="5214960" y="2928960"/>
            <a:ext cx="142884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9,65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0" name="Прямоугольник 17"/>
          <p:cNvSpPr/>
          <p:nvPr/>
        </p:nvSpPr>
        <p:spPr>
          <a:xfrm>
            <a:off x="7500960" y="2928960"/>
            <a:ext cx="128592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Calibri"/>
              </a:rPr>
              <a:t>96,52</a:t>
            </a:r>
            <a:endParaRPr b="0" lang="en-US" sz="36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1" name="Прямая со стрелкой 26"/>
          <p:cNvCxnSpPr/>
          <p:nvPr/>
        </p:nvCxnSpPr>
        <p:spPr>
          <a:xfrm>
            <a:off x="1856880" y="3571920"/>
            <a:ext cx="10011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7"/>
          <p:cNvSpPr/>
          <p:nvPr/>
        </p:nvSpPr>
        <p:spPr>
          <a:xfrm>
            <a:off x="1857240" y="30718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·100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3" name="Прямая со стрелкой 29"/>
          <p:cNvCxnSpPr/>
          <p:nvPr/>
        </p:nvCxnSpPr>
        <p:spPr>
          <a:xfrm>
            <a:off x="4000320" y="357192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4" name="TextBox 31"/>
          <p:cNvSpPr/>
          <p:nvPr/>
        </p:nvSpPr>
        <p:spPr>
          <a:xfrm>
            <a:off x="4071960" y="30002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-4,548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5" name="TextBox 35"/>
          <p:cNvSpPr/>
          <p:nvPr/>
        </p:nvSpPr>
        <p:spPr>
          <a:xfrm>
            <a:off x="6500880" y="3000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÷0,1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cxnSp>
        <p:nvCxnSpPr>
          <p:cNvPr id="116" name="Прямая со стрелкой 55"/>
          <p:cNvCxnSpPr/>
          <p:nvPr/>
        </p:nvCxnSpPr>
        <p:spPr>
          <a:xfrm>
            <a:off x="6500880" y="3500280"/>
            <a:ext cx="1000800" cy="3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1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E322-534C-4D41-B907-057A0305DB0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FED4-E24F-4237-9203-BF5EE64C63F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7"/>
          <p:cNvSpPr/>
          <p:nvPr/>
        </p:nvSpPr>
        <p:spPr>
          <a:xfrm>
            <a:off x="3586320" y="285840"/>
            <a:ext cx="434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Парк “Софіївка”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3. Обчислити зручним способом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а) 0,125 · 0,12 · 8;            б) 62,9 · 1,8 – 62,7 · 1,8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4. Спростити вираз і знайти його значення: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а) 0,3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· 1,2, якщо 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а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= 0,05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б) 2,5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·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0,04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n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, якщо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3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;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n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3,2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в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)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7,9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+ 2,1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, якщо </a:t>
            </a:r>
            <a:r>
              <a:rPr b="1" i="1" lang="uk-UA" sz="32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= 1,65;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г) 1,2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+ 3,9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– 2,1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+ 1,3, якщо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m </a:t>
            </a: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= 0,9.</a:t>
            </a: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088F-2A1C-4759-B9B0-C86FF418413B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2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0864-7B43-4936-8489-A4A9AD4379B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2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FF2-C272-4A79-948B-AC9DC461C007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2D21-03F9-4409-B900-53AC83B2B337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4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"/>
          <p:cNvPicPr/>
          <p:nvPr/>
        </p:nvPicPr>
        <p:blipFill>
          <a:blip r:embed="rId5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3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549-933B-473C-B35E-7570A28BD4C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3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81A1-76CE-4E2F-9AB4-3524C510B60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9"/>
          <p:cNvSpPr/>
          <p:nvPr/>
        </p:nvSpPr>
        <p:spPr>
          <a:xfrm>
            <a:off x="3714840" y="7142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e0000"/>
                </a:solidFill>
                <a:latin typeface="Franklin Gothic Medium"/>
              </a:rPr>
              <a:t>Острів Хортиця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FB8A-FD12-437E-BD28-3FFB1F0454BC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9BC1-A84B-4C40-8B0A-6508798E86F5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5.</a:t>
            </a:r>
            <a:r>
              <a:rPr b="0" lang="uk-UA" sz="3600" spc="-1" strike="noStrike">
                <a:solidFill>
                  <a:srgbClr val="8e0000"/>
                </a:solidFill>
                <a:latin typeface="Monotype Corsiva"/>
              </a:rPr>
              <a:t> </a:t>
            </a:r>
            <a:r>
              <a:rPr b="1" lang="uk-UA" sz="4400" spc="-1" strike="noStrike">
                <a:solidFill>
                  <a:srgbClr val="8e0000"/>
                </a:solidFill>
                <a:latin typeface="Monotype Corsiva"/>
              </a:rPr>
              <a:t>Розв’язати рівняння та знайти суму їх коренів:</a:t>
            </a:r>
            <a:br>
              <a:rPr sz="3600"/>
            </a:b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8400" y="1428840"/>
            <a:ext cx="82580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а) 2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 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– 0,75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– 68 = 639,5;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б) 100 – </a:t>
            </a:r>
            <a:r>
              <a:rPr b="1" i="1" lang="uk-UA" sz="4400" spc="-1" strike="noStrike">
                <a:solidFill>
                  <a:srgbClr val="002060"/>
                </a:solidFill>
                <a:latin typeface="Calibri"/>
              </a:rPr>
              <a:t>х</a:t>
            </a: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 ÷ 10,5 = 14,4;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Calibri"/>
              </a:rPr>
              <a:t>в) (895,62 – х) · 3,6 = 3,888.</a:t>
            </a: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6128-DDD7-46B6-AA85-FFB16DDEE86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A337-C40B-4873-B706-3CA9AFBE194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5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6"/>
          <p:cNvSpPr/>
          <p:nvPr/>
        </p:nvSpPr>
        <p:spPr>
          <a:xfrm>
            <a:off x="500040" y="1500120"/>
            <a:ext cx="78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2060"/>
                </a:solidFill>
                <a:latin typeface="Arial"/>
              </a:rPr>
              <a:t>а) х</a:t>
            </a: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 = 566;    б) х = 898,8;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в) х = 894,54.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2000160" y="42876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Відповіді :</a:t>
            </a:r>
            <a:endParaRPr b="0" lang="en-US" sz="4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642960" y="3571920"/>
            <a:ext cx="807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Monotype Corsiva"/>
                <a:ea typeface="Calibri"/>
              </a:rPr>
              <a:t>Загальна площа заповідника - острова «Хортиця» становить 2359,34 га</a:t>
            </a:r>
            <a:endParaRPr b="0" lang="en-US" sz="40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b38989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2714760" y="642960"/>
            <a:ext cx="64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8e0000"/>
                </a:solidFill>
                <a:latin typeface="Franklin Gothic Book"/>
              </a:rPr>
              <a:t>Хотинська фортеця</a:t>
            </a:r>
            <a:r>
              <a:rPr b="1" lang="uk-UA" sz="4400" spc="-1" strike="noStrike">
                <a:solidFill>
                  <a:srgbClr val="8e0000"/>
                </a:solidFill>
                <a:latin typeface="Franklin Gothic Book"/>
              </a:rPr>
              <a:t> 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6. Розв</a:t>
            </a:r>
            <a:r>
              <a:rPr b="1" lang="en-US" sz="5400" spc="-1" strike="noStrike">
                <a:solidFill>
                  <a:srgbClr val="8e0000"/>
                </a:solidFill>
                <a:latin typeface="Monotype Corsiva"/>
              </a:rPr>
              <a:t>’</a:t>
            </a: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язати задачу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e0000"/>
                </a:solidFill>
                <a:latin typeface="Calibri"/>
              </a:rPr>
              <a:t>  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Відстань між двома містами дорівнює 260,4 км. З цих міст назустріч один одному одночасно виїхали два автомобілі, які зустрілися через 2,4 години після початку руху. Один автомобіль рухався зі швидкістю 48,3 км/год. Знайдіть швидкість другого автомобіля.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924B-836A-4317-9847-60DDF00746C8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6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09EC-0DE4-48FD-9D5D-FED3B458687A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8e0000"/>
                </a:solidFill>
                <a:latin typeface="Monotype Corsiva"/>
              </a:rPr>
              <a:t> </a:t>
            </a:r>
            <a:r>
              <a:rPr b="1" lang="uk-UA" sz="5400" spc="-1" strike="noStrike">
                <a:solidFill>
                  <a:srgbClr val="002060"/>
                </a:solidFill>
                <a:latin typeface="Monotype Corsiva"/>
              </a:rPr>
              <a:t>Хто не знає свого минулого,                                                                      той не вартий свого майбутнього.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e0000"/>
                </a:solidFill>
                <a:latin typeface="Calibri"/>
              </a:rPr>
              <a:t>                                    </a:t>
            </a:r>
            <a:r>
              <a:rPr b="1" lang="uk-UA" sz="3600" spc="-1" strike="noStrike">
                <a:solidFill>
                  <a:srgbClr val="8e0000"/>
                </a:solidFill>
                <a:latin typeface="Monotype Corsiva"/>
              </a:rPr>
              <a:t>Максим Рильський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5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8431-7E1E-44AB-BC49-C85EDAB0C7D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697-874B-41FE-AD37-CB22BF3B54D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8e0000"/>
              </a:solidFill>
              <a:latin typeface="Monotype Corsiv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48,3 · 2,4 =  115,92 (км) проїхав перший автомобіль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2) 260,4 – 115,92 = 144,48 (км) проїхав другий автомобіль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144,8 ÷ 2,4 = 60,2 (км/год)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Відповідь: швидкість другого автомобіля 60,2 км/год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7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910A-4845-4FCE-8C2B-85A3E3A3E4D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8850-C5D2-4E77-B909-C30EBABEE7CE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2355840" y="645840"/>
            <a:ext cx="620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Franklin Gothic Book"/>
              </a:rPr>
              <a:t>Херсонес Таврійський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8A7-7886-4F14-A7C6-339EED1B227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8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34D-513C-404C-8036-8FBD13E31779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0" y="335772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"/>
          <p:cNvPicPr/>
          <p:nvPr/>
        </p:nvPicPr>
        <p:blipFill>
          <a:blip r:embed="rId5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81867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№</a:t>
            </a: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7. Розв</a:t>
            </a:r>
            <a:r>
              <a:rPr b="1" lang="en-US" sz="4800" spc="-1" strike="noStrike">
                <a:solidFill>
                  <a:srgbClr val="8e0000"/>
                </a:solidFill>
                <a:latin typeface="Monotype Corsiva"/>
              </a:rPr>
              <a:t>’</a:t>
            </a:r>
            <a:r>
              <a:rPr b="1" lang="uk-UA" sz="4800" spc="-1" strike="noStrike">
                <a:solidFill>
                  <a:srgbClr val="8e0000"/>
                </a:solidFill>
                <a:latin typeface="Monotype Corsiva"/>
              </a:rPr>
              <a:t>язати задачу</a:t>
            </a:r>
            <a:r>
              <a:rPr b="0" lang="uk-UA" sz="4800" spc="-1" strike="noStrike">
                <a:solidFill>
                  <a:srgbClr val="8e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До першої зупинки автобус проїхав 0,4 всього шляху, до другої – 0,35 всього шляху, а до третьої – частину шляху, що залишилася. Яку відстань проїхав автобус, якщо до третьої зупинки він проїхав на 111км менше, ніж до першої?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E76F-4F1D-451E-8942-EA9C3A8B55E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88B-0EB6-449E-B996-87317F83382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8e0000"/>
                </a:solidFill>
                <a:latin typeface="Monotype Corsiva"/>
                <a:ea typeface="Times New Roman"/>
              </a:rPr>
              <a:t>Рефлексія 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19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3AE9-1F4F-4AEE-810B-78D482B1B79A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B714-4F88-4DAE-B51D-70801809C858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7" name="Содержимое 6" descr=""/>
          <p:cNvPicPr/>
          <p:nvPr/>
        </p:nvPicPr>
        <p:blipFill>
          <a:blip r:embed="rId2"/>
          <a:stretch/>
        </p:blipFill>
        <p:spPr>
          <a:xfrm>
            <a:off x="571680" y="1143000"/>
            <a:ext cx="857160" cy="78588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8"/>
          <p:cNvSpPr/>
          <p:nvPr/>
        </p:nvSpPr>
        <p:spPr>
          <a:xfrm>
            <a:off x="1571760" y="1357200"/>
            <a:ext cx="60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вносив(ла) свої пропозиції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199" name="Рисунок 9" descr=""/>
          <p:cNvPicPr/>
          <p:nvPr/>
        </p:nvPicPr>
        <p:blipFill>
          <a:blip r:embed="rId3"/>
          <a:stretch/>
        </p:blipFill>
        <p:spPr>
          <a:xfrm>
            <a:off x="571680" y="21430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0" descr=""/>
          <p:cNvPicPr/>
          <p:nvPr/>
        </p:nvPicPr>
        <p:blipFill>
          <a:blip r:embed="rId4"/>
          <a:stretch/>
        </p:blipFill>
        <p:spPr>
          <a:xfrm>
            <a:off x="428760" y="314316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"/>
          <p:cNvPicPr/>
          <p:nvPr/>
        </p:nvPicPr>
        <p:blipFill>
          <a:blip r:embed="rId5"/>
          <a:stretch/>
        </p:blipFill>
        <p:spPr>
          <a:xfrm>
            <a:off x="571680" y="4214880"/>
            <a:ext cx="928440" cy="9288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2" descr=""/>
          <p:cNvPicPr/>
          <p:nvPr/>
        </p:nvPicPr>
        <p:blipFill>
          <a:blip r:embed="rId6"/>
          <a:stretch/>
        </p:blipFill>
        <p:spPr>
          <a:xfrm>
            <a:off x="500040" y="528624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13"/>
          <p:cNvSpPr/>
          <p:nvPr/>
        </p:nvSpPr>
        <p:spPr>
          <a:xfrm>
            <a:off x="1571760" y="2357280"/>
            <a:ext cx="58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8e0000"/>
                </a:solidFill>
                <a:latin typeface="Arial"/>
              </a:rPr>
              <a:t>.</a:t>
            </a: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активно працював(ла)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4" name="Прямоугольник 14"/>
          <p:cNvSpPr/>
          <p:nvPr/>
        </p:nvSpPr>
        <p:spPr>
          <a:xfrm>
            <a:off x="1643040" y="3357720"/>
            <a:ext cx="69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узагальнював(ла) думки інших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5" name="Прямоугольник 15"/>
          <p:cNvSpPr/>
          <p:nvPr/>
        </p:nvSpPr>
        <p:spPr>
          <a:xfrm>
            <a:off x="1714680" y="421488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був(ла) пасивний(а)…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06" name="Прямоугольник 16"/>
          <p:cNvSpPr/>
          <p:nvPr/>
        </p:nvSpPr>
        <p:spPr>
          <a:xfrm>
            <a:off x="1571760" y="5143680"/>
            <a:ext cx="66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Я не отримав(ла) задоволення від власної праці... </a:t>
            </a:r>
            <a:endParaRPr b="0" lang="en-US" sz="28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Monotype Corsiva"/>
              </a:rPr>
              <a:t>Домашнє завдання </a:t>
            </a:r>
            <a:endParaRPr b="0" lang="en-US" sz="48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3840" y="1285560"/>
            <a:ext cx="8929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Повторити </a:t>
            </a: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§§ 29 – 33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( підручник Н.А.Тарасенкова, І.М.Богатирьова та інші. Математика 5)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Calibri"/>
              </a:rPr>
              <a:t>Розв’язати задачу: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Зріст людини археологи можуть визначити навіть за окремими кістками. Наприклад, довжина малої берцової кістки становить 0,22 зросту людини, а ліктьова кістка складає 0,16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її зросту  .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Під час розкопок знайшли малу берцову кістку довжиною 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39,9 см. З'ясуйте, якого зросту була людина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Calibri"/>
              </a:rPr>
              <a:t>2) Як можна довести, що ліктьова кістка довжиною 20,3 см не могла належати тій самій людині?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C923-7537-4395-8A82-729B3728F99D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3627-89F0-4C75-9DBC-75C22E400BC4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2060"/>
                </a:solidFill>
                <a:latin typeface="Monotype Corsiva"/>
              </a:rPr>
              <a:t>Дякую за роботу на уроці</a:t>
            </a:r>
            <a:endParaRPr b="0" lang="en-US" sz="9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21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4DB-0DE5-4E9C-BA31-613109E3618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2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4FF3-35C7-4FC7-B294-275B28129F2C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1135080" y="0"/>
            <a:ext cx="1027908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285840" y="5000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Franklin Gothic Book"/>
              </a:rPr>
              <a:t>Національний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Franklin Gothic Book"/>
              </a:rPr>
              <a:t>історико-архітектурний заповідник «Кам’янець»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8e0000"/>
                </a:solidFill>
                <a:latin typeface="Monotype Corsiva"/>
              </a:rPr>
              <a:t>Гра “Незакінчене речення”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7120" y="1428840"/>
            <a:ext cx="84009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суму (різницю)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додати (відняти) десяткові дроби з різною кількістю цифр після коми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множити десятковий дріб на 10, 100, 1000, …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множити десятковий дріб на 0,1; 0,01; 0,001; …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добуток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частку двох десяткових дробів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ділити десятковий дріб на 10, 100, 1000, …,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поділити десятковий дріб на 0,1; 0,01; 0,001, …, потрібно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десятковий дріб від числа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Calibri"/>
              </a:rPr>
              <a:t>Щоб знайти число за його десятковим дробом, треба …</a:t>
            </a:r>
            <a:endParaRPr b="0" lang="en-US" sz="22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55B5-BCAD-44F7-845B-A1E9957B4010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1C34-63F5-4C1C-ABDF-FBFDB6BA1D01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6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785880" y="51436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Arial"/>
                <a:ea typeface="Arial"/>
              </a:rPr>
              <a:t>Площа острова 2359,34 га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285840" y="121716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а) 2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0,75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68 = 639,5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25743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б) 100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÷ 10,5 = 14,4 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14200" y="38602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в) (895,62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х)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·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3,6 = 3,888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4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74" name="TextBox 12"/>
          <p:cNvSpPr/>
          <p:nvPr/>
        </p:nvSpPr>
        <p:spPr>
          <a:xfrm>
            <a:off x="4000680" y="4287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Book"/>
              </a:rPr>
              <a:t>Софія Київська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№</a:t>
            </a: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1. Відновити загублені коми</a:t>
            </a:r>
            <a:endParaRPr b="0" lang="en-US" sz="5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12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1) 32 + 18 = 5;            2) 42 · 17 = 7,14;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3) 63 – 27 = 603;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     4) 3 + 108 = 408;                              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5) 57 - 4= 17;              6) 54 · 5 = 27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7) 736 – 336 = 4;       9) 363,6 : 9 = 404; 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uk-UA" sz="4000" spc="-1" strike="noStrike">
                <a:solidFill>
                  <a:srgbClr val="002060"/>
                </a:solidFill>
                <a:latin typeface="Calibri"/>
              </a:rPr>
              <a:t>9) 545454 : 6 = 9090,9</a:t>
            </a:r>
            <a:r>
              <a:rPr b="1" lang="uk-UA" sz="4000" spc="-1" strike="noStrike">
                <a:solidFill>
                  <a:srgbClr val="8e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7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5411-2B06-4F48-98BD-567F7FE07B7E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8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47D8-039A-48DD-A54B-C176FCFE968F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3296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Відповіді</a:t>
            </a:r>
            <a:endParaRPr b="0" lang="en-US" sz="60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1) 3,2 + 1,8 = 5;            2) 4,2 · 1,7 = 7,14;             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3) 63 – 2,7 = 603;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    4) 3 + 1,08 = 4,08;                              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5) 5,7 - 4= 17;              6) 5,4 · 5 = 27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7) 7,36 – 3,36 = 4;        9) 363,6 : 9 = 40,4; 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uk-UA" sz="3600" spc="-1" strike="noStrike">
                <a:solidFill>
                  <a:srgbClr val="002060"/>
                </a:solidFill>
                <a:latin typeface="Calibri"/>
              </a:rPr>
              <a:t>9) 54545,4 : 6 = 9090,9</a:t>
            </a:r>
            <a:r>
              <a:rPr b="1" lang="uk-UA" sz="3600" spc="-1" strike="noStrike">
                <a:solidFill>
                  <a:srgbClr val="8e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0E5-1595-4C80-9A1B-BCF9D7D1E6D5}" type="datetime">
              <a:rPr b="0" lang="ru-RU" sz="1200" spc="-1" strike="noStrike">
                <a:solidFill>
                  <a:srgbClr val="b3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024F-4376-4E30-A11C-C672FFBFB6F0}" type="slidenum">
              <a:rPr b="0" lang="ru-RU" sz="1200" spc="-1" strike="noStrike">
                <a:solidFill>
                  <a:srgbClr val="b3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e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0000"/>
              </a:solidFill>
              <a:latin typeface="Calibri"/>
            </a:endParaRPr>
          </a:p>
        </p:txBody>
      </p:sp>
      <p:pic>
        <p:nvPicPr>
          <p:cNvPr id="87" name="Picture 2" descr="map"/>
          <p:cNvPicPr/>
          <p:nvPr/>
        </p:nvPicPr>
        <p:blipFill>
          <a:blip r:embed="rId2"/>
          <a:stretch/>
        </p:blipFill>
        <p:spPr>
          <a:xfrm>
            <a:off x="214200" y="428760"/>
            <a:ext cx="8771040" cy="6000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map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785880" y="514368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8e0000"/>
                </a:solidFill>
                <a:latin typeface="Arial"/>
                <a:ea typeface="Arial"/>
              </a:rPr>
              <a:t>Площа острова 2359,34 га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85840" y="121716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а) 2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0,75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68 = 639,5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2574360"/>
            <a:ext cx="65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б) 100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х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÷ 10,5 = 14,4 ;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14200" y="38602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в) (895,62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–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х) 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  <a:ea typeface="Calibri"/>
              </a:rPr>
              <a:t>·</a:t>
            </a:r>
            <a:r>
              <a:rPr b="1" lang="uk-UA" sz="4400" spc="-1" strike="noStrike">
                <a:solidFill>
                  <a:srgbClr val="c00000"/>
                </a:solidFill>
                <a:latin typeface="Times New Roman"/>
                <a:ea typeface="Calibri"/>
              </a:rPr>
              <a:t> 3,6 = 3,888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0" y="-141120"/>
            <a:ext cx="9144000" cy="6999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4000680" y="428760"/>
            <a:ext cx="47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Franklin Gothic Book"/>
              </a:rPr>
              <a:t>Софія Київська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5"/>
          <a:stretch/>
        </p:blipFill>
        <p:spPr>
          <a:xfrm>
            <a:off x="0" y="-142920"/>
            <a:ext cx="4429080" cy="7000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6"/>
          <a:stretch/>
        </p:blipFill>
        <p:spPr>
          <a:xfrm>
            <a:off x="4286160" y="-142920"/>
            <a:ext cx="4857840" cy="700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7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8"/>
          <a:stretch/>
        </p:blipFill>
        <p:spPr>
          <a:xfrm>
            <a:off x="4357800" y="-214200"/>
            <a:ext cx="4786200" cy="7072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9"/>
          <a:stretch/>
        </p:blipFill>
        <p:spPr>
          <a:xfrm>
            <a:off x="0" y="-142920"/>
            <a:ext cx="4357800" cy="70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-428760" y="0"/>
            <a:ext cx="101728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2440080" y="357120"/>
            <a:ext cx="68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ff"/>
                </a:solidFill>
                <a:latin typeface="Franklin Gothic Book"/>
              </a:rPr>
              <a:t>Києво-Печерська Лавра</a:t>
            </a:r>
            <a:r>
              <a:rPr b="1" lang="ru-RU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8e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19:21:11Z</dcterms:created>
  <dc:creator>Дима</dc:creator>
  <dc:description>http://aida.ucoz.ru</dc:description>
  <dc:language>en-US</dc:language>
  <cp:lastModifiedBy>Admin</cp:lastModifiedBy>
  <dcterms:modified xsi:type="dcterms:W3CDTF">2013-12-08T07:20:19Z</dcterms:modified>
  <cp:revision>98</cp:revision>
  <dc:subject/>
  <dc:title>Подорож до семи чудес Украї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12000000000001024140</vt:lpwstr>
  </property>
</Properties>
</file>