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9FBB-DB58-4878-9B17-6815553F323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5BCD-F3CA-4D43-8309-5C0EAB4B07E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C1F-EB40-482D-83AF-C3BC6138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76E-B41E-45D8-8789-892BC71D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1D6-C35F-448D-A29B-B4F6F6EE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F03-B84C-46EE-B4FE-1460BBCA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B71-817B-4CD6-96A0-905125B4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CBB-4704-4EE2-A86D-D2DA3FB0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739-4E39-4EC8-A701-ACE497C9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142-32F7-48BE-A371-FAF83AB5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1BA-467A-454B-A26F-794AE87D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BFB-8D9A-4DCA-A6EF-FA0C867C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598-6965-4EE8-A374-BA1624D9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B79-6923-4493-A762-267D12AE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B262-6294-4241-867F-B07ECAA73D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63;&#1077;&#1088;&#1090;&#1077;&#1078;.gsp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002060"/>
                </a:solidFill>
                <a:latin typeface="Calibri"/>
              </a:rPr>
              <a:t>Урок геометрії, 8 клас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1"/>
          <p:cNvGrpSpPr/>
          <p:nvPr/>
        </p:nvGrpSpPr>
        <p:grpSpPr>
          <a:xfrm>
            <a:off x="1187280" y="692280"/>
            <a:ext cx="2736720" cy="2162160"/>
            <a:chOff x="1187280" y="692280"/>
            <a:chExt cx="2736720" cy="2162160"/>
          </a:xfrm>
        </p:grpSpPr>
        <p:sp>
          <p:nvSpPr>
            <p:cNvPr id="125" name="Oval 4"/>
            <p:cNvSpPr/>
            <p:nvPr/>
          </p:nvSpPr>
          <p:spPr>
            <a:xfrm>
              <a:off x="1187280" y="692280"/>
              <a:ext cx="2232000" cy="216072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1331640" y="1197000"/>
              <a:ext cx="2592360" cy="1657440"/>
            </a:xfrm>
            <a:custGeom>
              <a:avLst/>
              <a:gdLst>
                <a:gd name="textAreaLeft" fmla="*/ 747720 w 2592360"/>
                <a:gd name="textAreaRight" fmla="*/ 1844640 w 2592360"/>
                <a:gd name="textAreaTop" fmla="*/ 477720 h 1657440"/>
                <a:gd name="textAreaBottom" fmla="*/ 117972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851" y="21600"/>
                  </a:lnTo>
                  <a:lnTo>
                    <a:pt x="12749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cc">
                <a:alpha val="41000"/>
              </a:srgbClr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Oval 6"/>
          <p:cNvSpPr/>
          <p:nvPr/>
        </p:nvSpPr>
        <p:spPr>
          <a:xfrm>
            <a:off x="5364000" y="692280"/>
            <a:ext cx="2232360" cy="216036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 flipV="1">
            <a:off x="5796000" y="907920"/>
            <a:ext cx="576360" cy="144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6372360" y="907920"/>
            <a:ext cx="647640" cy="217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7020000" y="1125360"/>
            <a:ext cx="216000" cy="115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 flipV="1">
            <a:off x="5796000" y="2276640"/>
            <a:ext cx="1440000" cy="72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20"/>
          <p:cNvGrpSpPr/>
          <p:nvPr/>
        </p:nvGrpSpPr>
        <p:grpSpPr>
          <a:xfrm>
            <a:off x="1258920" y="3500280"/>
            <a:ext cx="2447640" cy="2233800"/>
            <a:chOff x="1258920" y="3500280"/>
            <a:chExt cx="2447640" cy="2233800"/>
          </a:xfrm>
        </p:grpSpPr>
        <p:sp>
          <p:nvSpPr>
            <p:cNvPr id="133" name="Oval 12"/>
            <p:cNvSpPr/>
            <p:nvPr/>
          </p:nvSpPr>
          <p:spPr>
            <a:xfrm>
              <a:off x="1258920" y="3500280"/>
              <a:ext cx="2447640" cy="223380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4"/>
            <p:cNvSpPr/>
            <p:nvPr/>
          </p:nvSpPr>
          <p:spPr>
            <a:xfrm flipH="1" flipV="1">
              <a:off x="1474560" y="5300280"/>
              <a:ext cx="165600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 flipV="1">
              <a:off x="1474560" y="3860640"/>
              <a:ext cx="142920" cy="1440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1617480" y="3860640"/>
              <a:ext cx="1728720" cy="576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7"/>
            <p:cNvSpPr/>
            <p:nvPr/>
          </p:nvSpPr>
          <p:spPr>
            <a:xfrm flipH="1">
              <a:off x="3130200" y="4437000"/>
              <a:ext cx="215640" cy="115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2"/>
          <p:cNvSpPr/>
          <p:nvPr/>
        </p:nvSpPr>
        <p:spPr>
          <a:xfrm>
            <a:off x="722160" y="45072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4932360" y="47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900000" y="3500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26"/>
          <p:cNvGrpSpPr/>
          <p:nvPr/>
        </p:nvGrpSpPr>
        <p:grpSpPr>
          <a:xfrm>
            <a:off x="5148360" y="3429000"/>
            <a:ext cx="2663640" cy="2376360"/>
            <a:chOff x="5148360" y="3429000"/>
            <a:chExt cx="2663640" cy="2376360"/>
          </a:xfrm>
        </p:grpSpPr>
        <p:sp>
          <p:nvSpPr>
            <p:cNvPr id="142" name="Oval 18"/>
            <p:cNvSpPr/>
            <p:nvPr/>
          </p:nvSpPr>
          <p:spPr>
            <a:xfrm>
              <a:off x="5435640" y="3500280"/>
              <a:ext cx="2376360" cy="230508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5580000" y="4149720"/>
              <a:ext cx="2087640" cy="1440000"/>
            </a:xfrm>
            <a:custGeom>
              <a:avLst/>
              <a:gdLst>
                <a:gd name="textAreaLeft" fmla="*/ 357120 w 2087640"/>
                <a:gd name="textAreaRight" fmla="*/ 1730520 w 2087640"/>
                <a:gd name="textAreaTop" fmla="*/ 245880 h 1440000"/>
                <a:gd name="textAreaBottom" fmla="*/ 119412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796" y="21600"/>
                  </a:lnTo>
                  <a:lnTo>
                    <a:pt x="17804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5"/>
            <p:cNvSpPr/>
            <p:nvPr/>
          </p:nvSpPr>
          <p:spPr>
            <a:xfrm>
              <a:off x="5148360" y="3429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0" y="10526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cc"/>
                </a:solidFill>
                <a:latin typeface="Monotype Corsiva"/>
              </a:rPr>
              <a:t>Чотирикутник, усі вершини якого лежать на колі називається вписаним у коло, а коло описаним навколо даного чотирикутн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5"/>
          <p:cNvSpPr/>
          <p:nvPr/>
        </p:nvSpPr>
        <p:spPr>
          <a:xfrm>
            <a:off x="905040" y="1357200"/>
            <a:ext cx="3019320" cy="2863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1089000" y="2163600"/>
            <a:ext cx="2651040" cy="1789200"/>
          </a:xfrm>
          <a:custGeom>
            <a:avLst/>
            <a:gdLst>
              <a:gd name="textAreaLeft" fmla="*/ 453600 w 2651040"/>
              <a:gd name="textAreaRight" fmla="*/ 2197440 w 2651040"/>
              <a:gd name="textAreaTop" fmla="*/ 306360 h 1789200"/>
              <a:gd name="textAreaBottom" fmla="*/ 1482840 h 17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6" y="21600"/>
                </a:lnTo>
                <a:lnTo>
                  <a:pt x="17804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cc9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042920" y="378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1128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708360" y="184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203640" y="386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79280" y="16286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Властивість кутів описаних чотирикутни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0080"/>
                </a:solidFill>
                <a:latin typeface="Calibri"/>
              </a:rPr>
              <a:t>Теор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cc"/>
                </a:solidFill>
                <a:latin typeface="Monotype Corsiva"/>
              </a:rPr>
              <a:t>Сума протилежних кутів вписаного чотирикутника дорівнює 180</a:t>
            </a:r>
            <a:r>
              <a:rPr b="1" lang="en-US" sz="5400" spc="-1" strike="noStrike">
                <a:solidFill>
                  <a:srgbClr val="0000cc"/>
                </a:solidFill>
                <a:latin typeface="Monotype Corsiva"/>
              </a:rPr>
              <a:t>°</a:t>
            </a:r>
            <a:r>
              <a:rPr b="1" lang="uk-UA" sz="5400" spc="-1" strike="noStrike">
                <a:solidFill>
                  <a:srgbClr val="0000cc"/>
                </a:solidFill>
                <a:latin typeface="Monotype Corsiv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0080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Monotype Corsiva"/>
              </a:rPr>
              <a:t>Знайти невідомі кути вписаного чотирикутника</a:t>
            </a:r>
            <a:r>
              <a:rPr b="0" lang="uk-UA" sz="3200" spc="-1" strike="noStrike">
                <a:solidFill>
                  <a:srgbClr val="0000cc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1547640" y="2708280"/>
            <a:ext cx="2232360" cy="216072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5724360" y="2637000"/>
            <a:ext cx="2232360" cy="216036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 flipV="1">
            <a:off x="1547640" y="2781360"/>
            <a:ext cx="648000" cy="1008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2195640" y="2781360"/>
            <a:ext cx="936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2556000" y="2781360"/>
            <a:ext cx="576000" cy="2087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1547640" y="3789360"/>
            <a:ext cx="1008360" cy="1079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 flipV="1">
            <a:off x="5724360" y="2997360"/>
            <a:ext cx="287640" cy="863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6300720" y="27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5724360" y="3860640"/>
            <a:ext cx="1008360" cy="936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6012000" y="2997360"/>
            <a:ext cx="1800000" cy="21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 flipH="1">
            <a:off x="6732720" y="3213000"/>
            <a:ext cx="1079280" cy="1584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5"/>
          <p:cNvSpPr/>
          <p:nvPr/>
        </p:nvSpPr>
        <p:spPr>
          <a:xfrm>
            <a:off x="5796000" y="3645000"/>
            <a:ext cx="71280" cy="288720"/>
          </a:xfrm>
          <a:custGeom>
            <a:avLst/>
            <a:gdLst>
              <a:gd name="textAreaLeft" fmla="*/ 0 w 71280"/>
              <a:gd name="textAreaRight" fmla="*/ 71640 w 71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5" h="182">
                <a:moveTo>
                  <a:pt x="0" y="0"/>
                </a:moveTo>
                <a:cubicBezTo>
                  <a:pt x="22" y="30"/>
                  <a:pt x="45" y="61"/>
                  <a:pt x="45" y="91"/>
                </a:cubicBezTo>
                <a:cubicBezTo>
                  <a:pt x="45" y="121"/>
                  <a:pt x="7" y="167"/>
                  <a:pt x="0" y="182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5796000" y="3500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6084720" y="299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6516720" y="4149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308720" y="321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0"/>
          <p:cNvSpPr/>
          <p:nvPr/>
        </p:nvSpPr>
        <p:spPr>
          <a:xfrm>
            <a:off x="5940360" y="2997360"/>
            <a:ext cx="216000" cy="168120"/>
          </a:xfrm>
          <a:custGeom>
            <a:avLst/>
            <a:gdLst>
              <a:gd name="textAreaLeft" fmla="*/ 0 w 216000"/>
              <a:gd name="textAreaRight" fmla="*/ 216360 w 2160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36" h="106">
                <a:moveTo>
                  <a:pt x="136" y="0"/>
                </a:moveTo>
                <a:cubicBezTo>
                  <a:pt x="125" y="38"/>
                  <a:pt x="114" y="76"/>
                  <a:pt x="91" y="91"/>
                </a:cubicBezTo>
                <a:cubicBezTo>
                  <a:pt x="68" y="106"/>
                  <a:pt x="34" y="98"/>
                  <a:pt x="0" y="91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2"/>
          <p:cNvSpPr/>
          <p:nvPr/>
        </p:nvSpPr>
        <p:spPr>
          <a:xfrm>
            <a:off x="5940360" y="2997360"/>
            <a:ext cx="287280" cy="215640"/>
          </a:xfrm>
          <a:custGeom>
            <a:avLst/>
            <a:gdLst>
              <a:gd name="textAreaLeft" fmla="*/ 0 w 287280"/>
              <a:gd name="textAreaRight" fmla="*/ 287640 w 287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81" h="136">
                <a:moveTo>
                  <a:pt x="181" y="0"/>
                </a:moveTo>
                <a:cubicBezTo>
                  <a:pt x="173" y="34"/>
                  <a:pt x="166" y="68"/>
                  <a:pt x="136" y="91"/>
                </a:cubicBezTo>
                <a:cubicBezTo>
                  <a:pt x="106" y="114"/>
                  <a:pt x="53" y="125"/>
                  <a:pt x="0" y="13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24"/>
          <p:cNvSpPr/>
          <p:nvPr/>
        </p:nvSpPr>
        <p:spPr>
          <a:xfrm>
            <a:off x="6588000" y="4570560"/>
            <a:ext cx="216000" cy="82440"/>
          </a:xfrm>
          <a:custGeom>
            <a:avLst/>
            <a:gdLst>
              <a:gd name="textAreaLeft" fmla="*/ 0 w 216000"/>
              <a:gd name="textAreaRight" fmla="*/ 216360 w 21600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82" h="52">
                <a:moveTo>
                  <a:pt x="0" y="52"/>
                </a:moveTo>
                <a:cubicBezTo>
                  <a:pt x="15" y="33"/>
                  <a:pt x="30" y="14"/>
                  <a:pt x="45" y="7"/>
                </a:cubicBezTo>
                <a:cubicBezTo>
                  <a:pt x="60" y="0"/>
                  <a:pt x="68" y="0"/>
                  <a:pt x="91" y="7"/>
                </a:cubicBezTo>
                <a:cubicBezTo>
                  <a:pt x="114" y="14"/>
                  <a:pt x="167" y="45"/>
                  <a:pt x="182" y="52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6"/>
          <p:cNvSpPr/>
          <p:nvPr/>
        </p:nvSpPr>
        <p:spPr>
          <a:xfrm>
            <a:off x="6516720" y="4508640"/>
            <a:ext cx="360360" cy="72720"/>
          </a:xfrm>
          <a:custGeom>
            <a:avLst/>
            <a:gdLst>
              <a:gd name="textAreaLeft" fmla="*/ 0 w 360360"/>
              <a:gd name="textAreaRight" fmla="*/ 360720 w 360360"/>
              <a:gd name="textAreaTop" fmla="*/ 0 h 72720"/>
              <a:gd name="textAreaBottom" fmla="*/ 72720 h 72720"/>
            </a:gdLst>
            <a:ahLst/>
            <a:rect l="textAreaLeft" t="textAreaTop" r="textAreaRight" b="textAreaBottom"/>
            <a:pathLst>
              <a:path w="227" h="46">
                <a:moveTo>
                  <a:pt x="0" y="46"/>
                </a:moveTo>
                <a:cubicBezTo>
                  <a:pt x="26" y="23"/>
                  <a:pt x="52" y="0"/>
                  <a:pt x="90" y="0"/>
                </a:cubicBezTo>
                <a:cubicBezTo>
                  <a:pt x="128" y="0"/>
                  <a:pt x="177" y="23"/>
                  <a:pt x="227" y="4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2268360" y="4076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8"/>
          <p:cNvSpPr/>
          <p:nvPr/>
        </p:nvSpPr>
        <p:spPr>
          <a:xfrm>
            <a:off x="1619280" y="357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2268360" y="479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1116000" y="3645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1"/>
          <p:cNvSpPr/>
          <p:nvPr/>
        </p:nvSpPr>
        <p:spPr>
          <a:xfrm>
            <a:off x="1835280" y="2349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2987640" y="24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1979640" y="2852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2627280" y="2781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8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6300720" y="4797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5292720" y="357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5651640" y="256536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8"/>
          <p:cNvSpPr/>
          <p:nvPr/>
        </p:nvSpPr>
        <p:spPr>
          <a:xfrm>
            <a:off x="7740720" y="2924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611280" y="213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0"/>
          <p:cNvSpPr/>
          <p:nvPr/>
        </p:nvSpPr>
        <p:spPr>
          <a:xfrm>
            <a:off x="5219640" y="213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0080"/>
                </a:solidFill>
                <a:latin typeface="Calibri"/>
              </a:rPr>
              <a:t>Обернена теор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   </a:t>
            </a:r>
            <a:r>
              <a:rPr b="0" lang="uk-UA" sz="4800" spc="-1" strike="noStrike">
                <a:solidFill>
                  <a:srgbClr val="0000cc"/>
                </a:solidFill>
                <a:latin typeface="Monotype Corsiva"/>
              </a:rPr>
              <a:t>Якщо в чотирикутнику сума протилежних</a:t>
            </a:r>
            <a:r>
              <a:rPr b="0" lang="uk-UA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uk-UA" sz="4800" spc="-1" strike="noStrike">
                <a:solidFill>
                  <a:srgbClr val="0000cc"/>
                </a:solidFill>
                <a:latin typeface="Monotype Corsiva"/>
              </a:rPr>
              <a:t>кутів дорівнює 180</a:t>
            </a:r>
            <a:r>
              <a:rPr b="0" lang="en-US" sz="4800" spc="-1" strike="noStrike">
                <a:solidFill>
                  <a:srgbClr val="0000cc"/>
                </a:solidFill>
                <a:latin typeface="Monotype Corsiva"/>
              </a:rPr>
              <a:t>°</a:t>
            </a:r>
            <a:r>
              <a:rPr b="0" lang="uk-UA" sz="4800" spc="-1" strike="noStrike">
                <a:solidFill>
                  <a:srgbClr val="0000cc"/>
                </a:solidFill>
                <a:latin typeface="Monotype Corsiva"/>
              </a:rPr>
              <a:t>, то навколо чотирикутника можна описати коло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800080"/>
                </a:solidFill>
                <a:latin typeface="Calibri"/>
              </a:rPr>
              <a:t>Навколо якого з паралелограмів можна описати коло? Обґрунтуйте відповідь.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2565360"/>
            <a:ext cx="5184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   </a:t>
            </a: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З усіх паралелограмів описати коло можна навколо прямокут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   </a:t>
            </a: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Центром кола є точка перетину діагоналей прямокут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156360" y="2997360"/>
            <a:ext cx="2232000" cy="216036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732720" y="3141720"/>
            <a:ext cx="1079280" cy="18716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6732720" y="3141720"/>
            <a:ext cx="1079280" cy="187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 flipV="1">
            <a:off x="6732720" y="3141360"/>
            <a:ext cx="1079280" cy="187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7740720" y="278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6372360" y="278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6300720" y="4869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7740720" y="49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7308720" y="38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800080"/>
                </a:solidFill>
                <a:latin typeface="Calibri"/>
              </a:rPr>
              <a:t>Навколо якої трапеції можна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000" spc="-1" strike="noStrike">
                <a:solidFill>
                  <a:srgbClr val="800080"/>
                </a:solidFill>
                <a:latin typeface="Calibri"/>
              </a:rPr>
              <a:t>описати коло? Чом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28680" y="192096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Monotype Corsiva"/>
                <a:ea typeface="Mongolian Baiti"/>
              </a:rPr>
              <a:t>Описати кол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cc"/>
                </a:solidFill>
                <a:latin typeface="Monotype Corsiva"/>
                <a:ea typeface="Mongolian Baiti"/>
              </a:rPr>
              <a:t>можна тільки навко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Monotype Corsiva"/>
                <a:ea typeface="Mongolian Baiti"/>
              </a:rPr>
              <a:t> </a:t>
            </a:r>
            <a:r>
              <a:rPr b="1" lang="uk-UA" sz="4000" spc="-1" strike="noStrike">
                <a:solidFill>
                  <a:srgbClr val="0000cc"/>
                </a:solidFill>
                <a:latin typeface="Monotype Corsiva"/>
                <a:ea typeface="Mongolian Baiti"/>
              </a:rPr>
              <a:t>рівнобічної трапеції</a:t>
            </a:r>
            <a:r>
              <a:rPr b="0" lang="uk-UA" sz="4000" spc="-1" strike="noStrike">
                <a:solidFill>
                  <a:srgbClr val="0000cc"/>
                </a:solidFill>
                <a:latin typeface="Monotype Corsiva"/>
                <a:ea typeface="Mongolian Bait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4"/>
          <p:cNvSpPr/>
          <p:nvPr/>
        </p:nvSpPr>
        <p:spPr>
          <a:xfrm>
            <a:off x="830160" y="2146320"/>
            <a:ext cx="2232000" cy="22320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rot="10800000">
            <a:off x="829800" y="2290680"/>
            <a:ext cx="2233800" cy="1224000"/>
          </a:xfrm>
          <a:custGeom>
            <a:avLst/>
            <a:gdLst>
              <a:gd name="textAreaLeft" fmla="*/ 471240 w 2233800"/>
              <a:gd name="textAreaRight" fmla="*/ 1762560 w 2233800"/>
              <a:gd name="textAreaTop" fmla="*/ 258120 h 1224000"/>
              <a:gd name="textAreaBottom" fmla="*/ 9658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511" y="21600"/>
                </a:lnTo>
                <a:lnTo>
                  <a:pt x="16089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cc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119240" y="19303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71600" y="31543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414520" y="19303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62160" y="32860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дач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9120" y="1052640"/>
            <a:ext cx="86248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uk-UA" sz="3600" spc="-1" strike="noStrike">
                <a:solidFill>
                  <a:srgbClr val="002060"/>
                </a:solidFill>
                <a:latin typeface="Calibri"/>
              </a:rPr>
              <a:t>Знайти площу паралелограма зі сторонами 8 см і 10 см, вписаного в кол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611280" y="2852640"/>
            <a:ext cx="813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озв'яз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аралелограм, вписаний у коло , є прямокутн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S= a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S= 8∙ 10=80(см²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ідповідь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: 80 см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Задача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Один з кутів трапеції, вписаної в коло, дорівнює 56°. Знайти решту кутів трапеції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оугольник 21"/>
          <p:cNvSpPr/>
          <p:nvPr/>
        </p:nvSpPr>
        <p:spPr>
          <a:xfrm>
            <a:off x="3492360" y="2781360"/>
            <a:ext cx="55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озв'яз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скільки трапеція вписана в коло, то вона рівнобіч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D= </a:t>
            </a:r>
            <a:r>
              <a:rPr b="0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А= 56°, як кути при основі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= </a:t>
            </a:r>
            <a:r>
              <a:rPr b="0" lang="ru-RU" sz="2400" spc="-1" strike="noStrike">
                <a:solidFill>
                  <a:srgbClr val="0000cc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= 180°- 56°= 124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ідповід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56°, 124°, 124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11280" y="2813040"/>
            <a:ext cx="31874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Епіграф урок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Monotype Corsiva"/>
              </a:rPr>
              <a:t>«Математика цікава тоді, коли живить нашу винахідливість і здатність міркувати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.Пой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На якому з рисунків зображений описаний чотирикутни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Трапеция 3"/>
          <p:cNvSpPr/>
          <p:nvPr/>
        </p:nvSpPr>
        <p:spPr>
          <a:xfrm>
            <a:off x="1547640" y="2224080"/>
            <a:ext cx="2448000" cy="1368360"/>
          </a:xfrm>
          <a:custGeom>
            <a:avLst/>
            <a:gdLst>
              <a:gd name="textAreaLeft" fmla="*/ 227880 w 2448000"/>
              <a:gd name="textAreaRight" fmla="*/ 2220120 w 2448000"/>
              <a:gd name="textAreaTop" fmla="*/ 127440 h 1368360"/>
              <a:gd name="textAreaBottom" fmla="*/ 1368720 h 1368360"/>
            </a:gdLst>
            <a:ahLst/>
            <a:rect l="textAreaLeft" t="textAreaTop" r="textAreaRight" b="textAreaBottom"/>
            <a:pathLst>
              <a:path w="2447925" h="1368425">
                <a:moveTo>
                  <a:pt x="0" y="1368425"/>
                </a:moveTo>
                <a:lnTo>
                  <a:pt x="342106" y="0"/>
                </a:lnTo>
                <a:lnTo>
                  <a:pt x="2105819" y="0"/>
                </a:lnTo>
                <a:lnTo>
                  <a:pt x="2447925" y="136842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4"/>
          <p:cNvSpPr/>
          <p:nvPr/>
        </p:nvSpPr>
        <p:spPr>
          <a:xfrm>
            <a:off x="1979640" y="2300400"/>
            <a:ext cx="1349280" cy="119052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Трапеция 5"/>
          <p:cNvSpPr/>
          <p:nvPr/>
        </p:nvSpPr>
        <p:spPr>
          <a:xfrm>
            <a:off x="5580000" y="2224080"/>
            <a:ext cx="2016360" cy="1266840"/>
          </a:xfrm>
          <a:custGeom>
            <a:avLst/>
            <a:gdLst>
              <a:gd name="textAreaLeft" fmla="*/ 210960 w 2016360"/>
              <a:gd name="textAreaRight" fmla="*/ 1805400 w 2016360"/>
              <a:gd name="textAreaTop" fmla="*/ 132480 h 1266840"/>
              <a:gd name="textAreaBottom" fmla="*/ 1267200 h 1266840"/>
            </a:gdLst>
            <a:ahLst/>
            <a:rect l="textAreaLeft" t="textAreaTop" r="textAreaRight" b="textAreaBottom"/>
            <a:pathLst>
              <a:path w="2016125" h="1266825">
                <a:moveTo>
                  <a:pt x="0" y="1266825"/>
                </a:moveTo>
                <a:lnTo>
                  <a:pt x="316706" y="0"/>
                </a:lnTo>
                <a:lnTo>
                  <a:pt x="1699419" y="0"/>
                </a:lnTo>
                <a:lnTo>
                  <a:pt x="2016125" y="126682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6"/>
          <p:cNvSpPr/>
          <p:nvPr/>
        </p:nvSpPr>
        <p:spPr>
          <a:xfrm>
            <a:off x="5776920" y="2224080"/>
            <a:ext cx="1243080" cy="121608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Трапеция 7"/>
          <p:cNvSpPr/>
          <p:nvPr/>
        </p:nvSpPr>
        <p:spPr>
          <a:xfrm>
            <a:off x="1835280" y="4076640"/>
            <a:ext cx="2160360" cy="1581120"/>
          </a:xfrm>
          <a:custGeom>
            <a:avLst/>
            <a:gdLst>
              <a:gd name="textAreaLeft" fmla="*/ 263520 w 2160360"/>
              <a:gd name="textAreaRight" fmla="*/ 1896840 w 2160360"/>
              <a:gd name="textAreaTop" fmla="*/ 192600 h 1581120"/>
              <a:gd name="textAreaBottom" fmla="*/ 1581480 h 1581120"/>
            </a:gdLst>
            <a:ahLst/>
            <a:rect l="textAreaLeft" t="textAreaTop" r="textAreaRight" b="textAreaBottom"/>
            <a:pathLst>
              <a:path w="2160588" h="1581150">
                <a:moveTo>
                  <a:pt x="0" y="1581150"/>
                </a:moveTo>
                <a:lnTo>
                  <a:pt x="395288" y="0"/>
                </a:lnTo>
                <a:lnTo>
                  <a:pt x="1765301" y="0"/>
                </a:lnTo>
                <a:lnTo>
                  <a:pt x="2160588" y="158115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8"/>
          <p:cNvSpPr/>
          <p:nvPr/>
        </p:nvSpPr>
        <p:spPr>
          <a:xfrm>
            <a:off x="2087640" y="4095720"/>
            <a:ext cx="1655640" cy="156204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Трапеция 9"/>
          <p:cNvSpPr/>
          <p:nvPr/>
        </p:nvSpPr>
        <p:spPr>
          <a:xfrm>
            <a:off x="5580000" y="4076640"/>
            <a:ext cx="2016360" cy="1581120"/>
          </a:xfrm>
          <a:custGeom>
            <a:avLst/>
            <a:gdLst>
              <a:gd name="textAreaLeft" fmla="*/ 263520 w 2016360"/>
              <a:gd name="textAreaRight" fmla="*/ 1752840 w 2016360"/>
              <a:gd name="textAreaTop" fmla="*/ 206640 h 1581120"/>
              <a:gd name="textAreaBottom" fmla="*/ 1581480 h 1581120"/>
            </a:gdLst>
            <a:ahLst/>
            <a:rect l="textAreaLeft" t="textAreaTop" r="textAreaRight" b="textAreaBottom"/>
            <a:pathLst>
              <a:path w="2016125" h="1581150">
                <a:moveTo>
                  <a:pt x="0" y="1581150"/>
                </a:moveTo>
                <a:lnTo>
                  <a:pt x="395288" y="0"/>
                </a:lnTo>
                <a:lnTo>
                  <a:pt x="1620838" y="0"/>
                </a:lnTo>
                <a:lnTo>
                  <a:pt x="2016125" y="158115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0"/>
          <p:cNvSpPr/>
          <p:nvPr/>
        </p:nvSpPr>
        <p:spPr>
          <a:xfrm>
            <a:off x="6156360" y="4365720"/>
            <a:ext cx="1176480" cy="126180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 rot="10800000">
            <a:off x="324000" y="5950080"/>
            <a:ext cx="829152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13"/>
          <p:cNvSpPr/>
          <p:nvPr/>
        </p:nvSpPr>
        <p:spPr>
          <a:xfrm>
            <a:off x="5499360" y="37260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4"/>
          <p:cNvSpPr/>
          <p:nvPr/>
        </p:nvSpPr>
        <p:spPr>
          <a:xfrm>
            <a:off x="829440" y="412596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5"/>
          <p:cNvSpPr/>
          <p:nvPr/>
        </p:nvSpPr>
        <p:spPr>
          <a:xfrm>
            <a:off x="792360" y="19321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6"/>
          <p:cNvSpPr/>
          <p:nvPr/>
        </p:nvSpPr>
        <p:spPr>
          <a:xfrm>
            <a:off x="5392800" y="203976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38200" y="333000"/>
            <a:ext cx="453708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Чотирикутник, усі сторони якого дотикаються до кола, називається описаним навколо кола, а коло вписаним у чотирикутн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Овал 15"/>
          <p:cNvSpPr/>
          <p:nvPr/>
        </p:nvSpPr>
        <p:spPr>
          <a:xfrm>
            <a:off x="1079640" y="2565360"/>
            <a:ext cx="1655640" cy="172728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17"/>
          <p:cNvSpPr/>
          <p:nvPr/>
        </p:nvSpPr>
        <p:spPr>
          <a:xfrm flipV="1">
            <a:off x="900000" y="2063880"/>
            <a:ext cx="647640" cy="1581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21"/>
          <p:cNvSpPr/>
          <p:nvPr/>
        </p:nvSpPr>
        <p:spPr>
          <a:xfrm>
            <a:off x="900000" y="3645000"/>
            <a:ext cx="827280" cy="792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24"/>
          <p:cNvSpPr/>
          <p:nvPr/>
        </p:nvSpPr>
        <p:spPr>
          <a:xfrm flipV="1">
            <a:off x="1727280" y="3645000"/>
            <a:ext cx="1836720" cy="792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26"/>
          <p:cNvSpPr/>
          <p:nvPr/>
        </p:nvSpPr>
        <p:spPr>
          <a:xfrm>
            <a:off x="1547640" y="2065320"/>
            <a:ext cx="2016360" cy="15796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77640" y="1617840"/>
            <a:ext cx="53964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564000" y="335268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539640" y="334008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568520" y="443700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ПРАКТИЧНА РОБОТА.</a:t>
            </a:r>
            <a:br>
              <a:rPr sz="3200"/>
            </a:b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« Властивість чотирикутника, описаного навколо кола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Виміряти довжини протилежних сторін АВ і СД чотирикутника АВС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2. Знайти суму довжин сторін АВ і С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3. Виміряти довжини протилежних сторін ВС і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А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4. Знайти суму довжин сторін ВС і А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5. Порівняти АВ + СД та ВС + А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6. Зробити виснов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Теорема. </a:t>
            </a:r>
            <a:r>
              <a:rPr b="0" lang="uk-UA" sz="4000" spc="-1" strike="noStrike">
                <a:solidFill>
                  <a:srgbClr val="002060"/>
                </a:solidFill>
                <a:latin typeface="Calibri"/>
              </a:rPr>
              <a:t>Суми протилежних сторін описаного чотирикутника рівні</a:t>
            </a:r>
            <a:r>
              <a:rPr b="0" lang="uk-UA" sz="4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076360" y="2133720"/>
            <a:ext cx="369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Calibri"/>
              </a:rPr>
              <a:t>АВ+ С</a:t>
            </a: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D</a:t>
            </a:r>
            <a:r>
              <a:rPr b="1" lang="uk-UA" sz="3200" spc="-1" strike="noStrike">
                <a:solidFill>
                  <a:srgbClr val="0000cc"/>
                </a:solidFill>
                <a:latin typeface="Calibri"/>
              </a:rPr>
              <a:t>=ВС+А</a:t>
            </a: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Овал 14"/>
          <p:cNvSpPr/>
          <p:nvPr/>
        </p:nvSpPr>
        <p:spPr>
          <a:xfrm>
            <a:off x="1414440" y="3576600"/>
            <a:ext cx="1657440" cy="172872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5"/>
          <p:cNvSpPr/>
          <p:nvPr/>
        </p:nvSpPr>
        <p:spPr>
          <a:xfrm flipV="1">
            <a:off x="1235160" y="3144960"/>
            <a:ext cx="647640" cy="15127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6"/>
          <p:cNvSpPr/>
          <p:nvPr/>
        </p:nvSpPr>
        <p:spPr>
          <a:xfrm>
            <a:off x="1235160" y="4657680"/>
            <a:ext cx="828720" cy="792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7"/>
          <p:cNvSpPr/>
          <p:nvPr/>
        </p:nvSpPr>
        <p:spPr>
          <a:xfrm flipV="1">
            <a:off x="2063880" y="4657320"/>
            <a:ext cx="1834920" cy="792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18"/>
          <p:cNvSpPr/>
          <p:nvPr/>
        </p:nvSpPr>
        <p:spPr>
          <a:xfrm>
            <a:off x="1882800" y="3078000"/>
            <a:ext cx="2016000" cy="15796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612800" y="262908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898800" y="436572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874800" y="435276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905120" y="54500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Дано: </a:t>
            </a: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АВС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D</a:t>
            </a: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 – чотирикутник, описаний навколо кола;</a:t>
            </a:r>
            <a:br>
              <a:rPr sz="2400"/>
            </a:b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K</a:t>
            </a: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M</a:t>
            </a: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N</a:t>
            </a: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</a:t>
            </a: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- точки дотику кола до сторін чотирикутника.</a:t>
            </a:r>
            <a:br>
              <a:rPr sz="2400"/>
            </a:b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Довести:АВ+ С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=ВС+А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779640" y="1510920"/>
            <a:ext cx="51433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Доведе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За властивістю дотичних, проведених з однієї точки до ко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АК=АР=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x</a:t>
            </a: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, ВК=ВМ=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y</a:t>
            </a: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СМ=С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N</a:t>
            </a: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z</a:t>
            </a: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DN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DP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В+С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=(АК+КВ)+(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DN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)=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+y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+t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+ВС=(АР+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DP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)+(ВМ+МС)=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+t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+y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+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т же,</a:t>
            </a:r>
            <a:r>
              <a:rPr b="1" lang="uk-UA" sz="2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АВ+ С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=ВС+А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Овал 3"/>
          <p:cNvSpPr/>
          <p:nvPr/>
        </p:nvSpPr>
        <p:spPr>
          <a:xfrm>
            <a:off x="874800" y="2281320"/>
            <a:ext cx="1655640" cy="172872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4"/>
          <p:cNvSpPr/>
          <p:nvPr/>
        </p:nvSpPr>
        <p:spPr>
          <a:xfrm flipV="1">
            <a:off x="695160" y="1849320"/>
            <a:ext cx="648000" cy="1511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5"/>
          <p:cNvSpPr/>
          <p:nvPr/>
        </p:nvSpPr>
        <p:spPr>
          <a:xfrm>
            <a:off x="695160" y="3360600"/>
            <a:ext cx="827280" cy="792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6"/>
          <p:cNvSpPr/>
          <p:nvPr/>
        </p:nvSpPr>
        <p:spPr>
          <a:xfrm flipV="1">
            <a:off x="1522440" y="3360240"/>
            <a:ext cx="1836720" cy="792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7"/>
          <p:cNvSpPr/>
          <p:nvPr/>
        </p:nvSpPr>
        <p:spPr>
          <a:xfrm>
            <a:off x="1343160" y="1781280"/>
            <a:ext cx="2031840" cy="1554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3375000" y="304308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34800" y="305604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363680" y="415296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1073160" y="126360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2081160" y="20210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2081160" y="371628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749160" y="357660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71400" y="224784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Домашн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є завданн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§ 11</a:t>
            </a:r>
            <a:r>
              <a:rPr b="0" lang="uk-UA" sz="4000" spc="-1" strike="noStrike">
                <a:solidFill>
                  <a:srgbClr val="0000cc"/>
                </a:solidFill>
                <a:latin typeface="Calibri"/>
              </a:rPr>
              <a:t> . Теорема 3 з доведенням.</a:t>
            </a: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                  №</a:t>
            </a: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1(1), №7, №9, №11(б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cc"/>
                </a:solidFill>
                <a:latin typeface="Calibri"/>
              </a:rPr>
              <a:t>                                           </a:t>
            </a:r>
            <a:r>
              <a:rPr b="0" lang="uk-UA" sz="4000" spc="-1" strike="noStrike">
                <a:solidFill>
                  <a:srgbClr val="0000cc"/>
                </a:solidFill>
                <a:latin typeface="Calibri"/>
              </a:rPr>
              <a:t>( с. 64- 6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57280" y="11250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Задача.</a:t>
            </a:r>
            <a:br>
              <a:rPr sz="4400"/>
            </a:br>
            <a:r>
              <a:rPr b="0" lang="uk-UA" sz="3200" spc="-1" strike="noStrike">
                <a:solidFill>
                  <a:srgbClr val="002060"/>
                </a:solidFill>
                <a:latin typeface="Calibri"/>
              </a:rPr>
              <a:t>Периметр трапеції, описаної навколо кола, дорівнює 26 см. Знайти суму основ трапеції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166560" y="1836720"/>
            <a:ext cx="5519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Розв'язан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а і 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b</a:t>
            </a: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- основи трапе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Оскільки трапеція описана, т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а +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b</a:t>
            </a: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= с+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Р =( а +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b</a:t>
            </a: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)+ (с+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d</a:t>
            </a: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а +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b</a:t>
            </a: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= Р: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а +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b</a:t>
            </a: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= 26:2=13(см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Відповідь: 13 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Трапеция 3"/>
          <p:cNvSpPr/>
          <p:nvPr/>
        </p:nvSpPr>
        <p:spPr>
          <a:xfrm>
            <a:off x="826920" y="2421000"/>
            <a:ext cx="2030760" cy="1522440"/>
          </a:xfrm>
          <a:custGeom>
            <a:avLst/>
            <a:gdLst>
              <a:gd name="textAreaLeft" fmla="*/ 253800 w 2030760"/>
              <a:gd name="textAreaRight" fmla="*/ 1776960 w 2030760"/>
              <a:gd name="textAreaTop" fmla="*/ 190080 h 1522440"/>
              <a:gd name="textAreaBottom" fmla="*/ 1522800 h 1522440"/>
            </a:gdLst>
            <a:ahLst/>
            <a:rect l="textAreaLeft" t="textAreaTop" r="textAreaRight" b="textAreaBottom"/>
            <a:pathLst>
              <a:path w="2030412" h="1522412">
                <a:moveTo>
                  <a:pt x="0" y="1522412"/>
                </a:moveTo>
                <a:lnTo>
                  <a:pt x="380603" y="0"/>
                </a:lnTo>
                <a:lnTo>
                  <a:pt x="1649809" y="0"/>
                </a:lnTo>
                <a:lnTo>
                  <a:pt x="2030412" y="152241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4"/>
          <p:cNvSpPr/>
          <p:nvPr/>
        </p:nvSpPr>
        <p:spPr>
          <a:xfrm>
            <a:off x="1042920" y="2421000"/>
            <a:ext cx="1584360" cy="152244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1565280" y="183672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1573200" y="39686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2627280" y="267012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57280" y="271620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Задача </a:t>
            </a:r>
            <a:br>
              <a:rPr sz="4400"/>
            </a:b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У рівнобічній трапеції, описаної навколо кола, бічна сторона дорівнює 12 см. Знайти периметр трапе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Трапеция 3"/>
          <p:cNvSpPr/>
          <p:nvPr/>
        </p:nvSpPr>
        <p:spPr>
          <a:xfrm>
            <a:off x="900000" y="2789280"/>
            <a:ext cx="2087640" cy="1503360"/>
          </a:xfrm>
          <a:custGeom>
            <a:avLst/>
            <a:gdLst>
              <a:gd name="textAreaLeft" fmla="*/ 250560 w 2087640"/>
              <a:gd name="textAreaRight" fmla="*/ 1837080 w 2087640"/>
              <a:gd name="textAreaTop" fmla="*/ 180360 h 1503360"/>
              <a:gd name="textAreaBottom" fmla="*/ 1503720 h 1503360"/>
            </a:gdLst>
            <a:ahLst/>
            <a:rect l="textAreaLeft" t="textAreaTop" r="textAreaRight" b="textAreaBottom"/>
            <a:pathLst>
              <a:path w="2087562" h="1503362">
                <a:moveTo>
                  <a:pt x="0" y="1503362"/>
                </a:moveTo>
                <a:lnTo>
                  <a:pt x="375841" y="0"/>
                </a:lnTo>
                <a:lnTo>
                  <a:pt x="1711722" y="0"/>
                </a:lnTo>
                <a:lnTo>
                  <a:pt x="2087562" y="150336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вал 4"/>
          <p:cNvSpPr/>
          <p:nvPr/>
        </p:nvSpPr>
        <p:spPr>
          <a:xfrm>
            <a:off x="1116000" y="2789280"/>
            <a:ext cx="1655640" cy="15033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419640" y="2379600"/>
            <a:ext cx="5473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озв'яз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Р = а +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b</a:t>
            </a: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+ с+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Оскільки трапеція рівнобічна, то с=а=12с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Трапеція описана, то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b+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d</a:t>
            </a: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=а+с=2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Р=2а+2а=4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Р=4х 12=48(см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alibri"/>
              </a:rPr>
              <a:t>Відповідь: 48с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76360" y="306864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1547640" y="213372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2771640" y="306864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1673280" y="414972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Обернена теор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cc"/>
                </a:solidFill>
                <a:latin typeface="Monotype Corsiva"/>
              </a:rPr>
              <a:t>    </a:t>
            </a:r>
            <a:r>
              <a:rPr b="0" lang="uk-UA" sz="6000" spc="-1" strike="noStrike">
                <a:solidFill>
                  <a:srgbClr val="0000cc"/>
                </a:solidFill>
                <a:latin typeface="Monotype Corsiva"/>
              </a:rPr>
              <a:t>У чотирикутник можна вписати коло, якщо суми протилежних сторін рівні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В який паралелограм можна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вписати коло? Чо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1320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cc"/>
                </a:solidFill>
                <a:latin typeface="Monotype Corsiva"/>
              </a:rPr>
              <a:t>   </a:t>
            </a:r>
            <a:r>
              <a:rPr b="1" lang="uk-UA" sz="4400" spc="-1" strike="noStrike">
                <a:solidFill>
                  <a:srgbClr val="0000cc"/>
                </a:solidFill>
                <a:latin typeface="Monotype Corsiva"/>
              </a:rPr>
              <a:t>З усіх паралелограмів можна вписати коло тільки в ромб та квадрат, бо у них усі сторони рівні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1042920" y="1916280"/>
            <a:ext cx="1371600" cy="1419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Блок-схема: решение 4"/>
          <p:cNvSpPr/>
          <p:nvPr/>
        </p:nvSpPr>
        <p:spPr>
          <a:xfrm>
            <a:off x="900000" y="3502080"/>
            <a:ext cx="1727280" cy="2590920"/>
          </a:xfrm>
          <a:prstGeom prst="flowChartDecision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5"/>
          <p:cNvSpPr/>
          <p:nvPr/>
        </p:nvSpPr>
        <p:spPr>
          <a:xfrm>
            <a:off x="1042920" y="1916280"/>
            <a:ext cx="1371600" cy="141912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6"/>
          <p:cNvSpPr/>
          <p:nvPr/>
        </p:nvSpPr>
        <p:spPr>
          <a:xfrm>
            <a:off x="1116000" y="4041720"/>
            <a:ext cx="1298520" cy="151308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Встановити відповідність між зображенням чотирикутника та його назв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797040" y="981000"/>
            <a:ext cx="187164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808200" y="1917720"/>
            <a:ext cx="93636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араллелограмм 5"/>
          <p:cNvSpPr/>
          <p:nvPr/>
        </p:nvSpPr>
        <p:spPr>
          <a:xfrm>
            <a:off x="797040" y="3141720"/>
            <a:ext cx="1511280" cy="93672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араллелограмм 6"/>
          <p:cNvSpPr/>
          <p:nvPr/>
        </p:nvSpPr>
        <p:spPr>
          <a:xfrm rot="17883600">
            <a:off x="626760" y="4524120"/>
            <a:ext cx="1436760" cy="973080"/>
          </a:xfrm>
          <a:prstGeom prst="parallelogram">
            <a:avLst>
              <a:gd name="adj" fmla="val 436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111320" y="48560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Трапеция 8"/>
          <p:cNvSpPr/>
          <p:nvPr/>
        </p:nvSpPr>
        <p:spPr>
          <a:xfrm>
            <a:off x="808200" y="6021360"/>
            <a:ext cx="1603080" cy="720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5075280" y="984240"/>
            <a:ext cx="316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) Паралелог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) Трапе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) Прямоку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) 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) Ром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Е) Ко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11"/>
          <p:cNvCxnSpPr>
            <a:stCxn id="52" idx="3"/>
          </p:cNvCxnSpPr>
          <p:nvPr/>
        </p:nvCxnSpPr>
        <p:spPr>
          <a:xfrm>
            <a:off x="2668320" y="1341000"/>
            <a:ext cx="2407320" cy="180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Прямая со стрелкой 13"/>
          <p:cNvCxnSpPr>
            <a:stCxn id="53" idx="3"/>
          </p:cNvCxnSpPr>
          <p:nvPr/>
        </p:nvCxnSpPr>
        <p:spPr>
          <a:xfrm>
            <a:off x="1744560" y="2421000"/>
            <a:ext cx="3331440" cy="1658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Прямая со стрелкой 15"/>
          <p:cNvCxnSpPr>
            <a:stCxn id="54" idx="2"/>
          </p:cNvCxnSpPr>
          <p:nvPr/>
        </p:nvCxnSpPr>
        <p:spPr>
          <a:xfrm flipV="1">
            <a:off x="2192400" y="1341000"/>
            <a:ext cx="2883600" cy="2269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2" name="Прямая со стрелкой 17"/>
          <p:cNvCxnSpPr>
            <a:stCxn id="55" idx="4"/>
          </p:cNvCxnSpPr>
          <p:nvPr/>
        </p:nvCxnSpPr>
        <p:spPr>
          <a:xfrm flipV="1">
            <a:off x="1774800" y="5223960"/>
            <a:ext cx="3301200" cy="165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" name="Прямая со стрелкой 19"/>
          <p:cNvCxnSpPr>
            <a:stCxn id="57" idx="4"/>
          </p:cNvCxnSpPr>
          <p:nvPr/>
        </p:nvCxnSpPr>
        <p:spPr>
          <a:xfrm flipV="1">
            <a:off x="2254320" y="2241360"/>
            <a:ext cx="2821680" cy="4140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Прямоугольник 10" descr=""/>
          <p:cNvPicPr/>
          <p:nvPr/>
        </p:nvPicPr>
        <p:blipFill>
          <a:blip r:embed="rId1"/>
          <a:stretch/>
        </p:blipFill>
        <p:spPr>
          <a:xfrm>
            <a:off x="42840" y="-6480"/>
            <a:ext cx="89424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cc"/>
                </a:solidFill>
                <a:latin typeface="Calibri"/>
              </a:rPr>
              <a:t>Кол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Группа 19"/>
          <p:cNvGrpSpPr/>
          <p:nvPr/>
        </p:nvGrpSpPr>
        <p:grpSpPr>
          <a:xfrm>
            <a:off x="539640" y="1700280"/>
            <a:ext cx="3745080" cy="3111840"/>
            <a:chOff x="539640" y="1700280"/>
            <a:chExt cx="3745080" cy="3111840"/>
          </a:xfrm>
        </p:grpSpPr>
        <p:sp>
          <p:nvSpPr>
            <p:cNvPr id="66" name="Овал 3"/>
            <p:cNvSpPr/>
            <p:nvPr/>
          </p:nvSpPr>
          <p:spPr>
            <a:xfrm>
              <a:off x="826920" y="1700280"/>
              <a:ext cx="2881440" cy="273672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ая соединительная линия 5"/>
            <p:cNvSpPr/>
            <p:nvPr/>
          </p:nvSpPr>
          <p:spPr>
            <a:xfrm>
              <a:off x="826920" y="3068640"/>
              <a:ext cx="2881440" cy="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ая соединительная линия 7"/>
            <p:cNvSpPr/>
            <p:nvPr/>
          </p:nvSpPr>
          <p:spPr>
            <a:xfrm flipV="1">
              <a:off x="2268360" y="2100240"/>
              <a:ext cx="1017720" cy="9684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ая соединительная линия 9"/>
            <p:cNvSpPr/>
            <p:nvPr/>
          </p:nvSpPr>
          <p:spPr>
            <a:xfrm flipV="1">
              <a:off x="2268360" y="3716280"/>
              <a:ext cx="1295280" cy="7207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0"/>
            <p:cNvSpPr/>
            <p:nvPr/>
          </p:nvSpPr>
          <p:spPr>
            <a:xfrm>
              <a:off x="539640" y="28839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1"/>
            <p:cNvSpPr/>
            <p:nvPr/>
          </p:nvSpPr>
          <p:spPr>
            <a:xfrm>
              <a:off x="3708720" y="28933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3"/>
            <p:cNvSpPr/>
            <p:nvPr/>
          </p:nvSpPr>
          <p:spPr>
            <a:xfrm>
              <a:off x="3276360" y="17316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Calibri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14"/>
            <p:cNvSpPr/>
            <p:nvPr/>
          </p:nvSpPr>
          <p:spPr>
            <a:xfrm>
              <a:off x="1980000" y="30618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15"/>
            <p:cNvSpPr/>
            <p:nvPr/>
          </p:nvSpPr>
          <p:spPr>
            <a:xfrm>
              <a:off x="1891800" y="44438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17"/>
            <p:cNvSpPr/>
            <p:nvPr/>
          </p:nvSpPr>
          <p:spPr>
            <a:xfrm>
              <a:off x="3554280" y="35323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18"/>
          <p:cNvSpPr/>
          <p:nvPr/>
        </p:nvSpPr>
        <p:spPr>
          <a:xfrm>
            <a:off x="4500720" y="2344680"/>
            <a:ext cx="395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ло – це фігура, яка складається з усіх точок площини, рівновіддалених від даної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val 4"/>
          <p:cNvSpPr/>
          <p:nvPr/>
        </p:nvSpPr>
        <p:spPr>
          <a:xfrm>
            <a:off x="611280" y="620640"/>
            <a:ext cx="2232000" cy="216072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692360" y="620640"/>
            <a:ext cx="1150920" cy="1081080"/>
          </a:xfrm>
          <a:prstGeom prst="rtTriangle">
            <a:avLst/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3492360" y="692280"/>
            <a:ext cx="2232000" cy="216036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3924360" y="907560"/>
            <a:ext cx="718920" cy="122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>
            <a:off x="4643280" y="907920"/>
            <a:ext cx="72072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 flipV="1">
            <a:off x="3924360" y="1628280"/>
            <a:ext cx="1439640" cy="505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0"/>
          <p:cNvSpPr/>
          <p:nvPr/>
        </p:nvSpPr>
        <p:spPr>
          <a:xfrm>
            <a:off x="6443640" y="692280"/>
            <a:ext cx="2232000" cy="216036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 flipV="1">
            <a:off x="7164360" y="691920"/>
            <a:ext cx="71640" cy="2089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7236000" y="765000"/>
            <a:ext cx="1439640" cy="1079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 flipV="1">
            <a:off x="7164360" y="1844640"/>
            <a:ext cx="1511280" cy="936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1"/>
          <p:cNvGrpSpPr/>
          <p:nvPr/>
        </p:nvGrpSpPr>
        <p:grpSpPr>
          <a:xfrm>
            <a:off x="611280" y="3573000"/>
            <a:ext cx="2016000" cy="2159280"/>
            <a:chOff x="611280" y="3573000"/>
            <a:chExt cx="2016000" cy="2159280"/>
          </a:xfrm>
        </p:grpSpPr>
        <p:sp>
          <p:nvSpPr>
            <p:cNvPr id="88" name="Oval 24"/>
            <p:cNvSpPr/>
            <p:nvPr/>
          </p:nvSpPr>
          <p:spPr>
            <a:xfrm>
              <a:off x="969840" y="4437000"/>
              <a:ext cx="1296720" cy="122400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V="1">
              <a:off x="611280" y="3573000"/>
              <a:ext cx="1007640" cy="2087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>
              <a:off x="1618920" y="3573360"/>
              <a:ext cx="1008000" cy="2158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7"/>
            <p:cNvSpPr/>
            <p:nvPr/>
          </p:nvSpPr>
          <p:spPr>
            <a:xfrm>
              <a:off x="611280" y="5661000"/>
              <a:ext cx="2016000" cy="71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AutoShape 28"/>
          <p:cNvSpPr/>
          <p:nvPr/>
        </p:nvSpPr>
        <p:spPr>
          <a:xfrm>
            <a:off x="3492360" y="3645000"/>
            <a:ext cx="2808360" cy="2016000"/>
          </a:xfrm>
          <a:prstGeom prst="rtTriangle">
            <a:avLst/>
          </a:prstGeom>
          <a:solidFill>
            <a:srgbClr val="ffff9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9"/>
          <p:cNvSpPr/>
          <p:nvPr/>
        </p:nvSpPr>
        <p:spPr>
          <a:xfrm>
            <a:off x="3492360" y="4005360"/>
            <a:ext cx="1729080" cy="165564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0"/>
          <p:cNvSpPr/>
          <p:nvPr/>
        </p:nvSpPr>
        <p:spPr>
          <a:xfrm>
            <a:off x="7020000" y="3716280"/>
            <a:ext cx="1728720" cy="2017800"/>
          </a:xfrm>
          <a:prstGeom prst="triangle">
            <a:avLst>
              <a:gd name="adj" fmla="val 27282"/>
            </a:avLst>
          </a:prstGeom>
          <a:solidFill>
            <a:srgbClr val="ffff9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2"/>
          <p:cNvSpPr/>
          <p:nvPr/>
        </p:nvSpPr>
        <p:spPr>
          <a:xfrm>
            <a:off x="7380360" y="4724280"/>
            <a:ext cx="863640" cy="86544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250920" y="33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4"/>
          <p:cNvSpPr/>
          <p:nvPr/>
        </p:nvSpPr>
        <p:spPr>
          <a:xfrm>
            <a:off x="3276720" y="26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5"/>
          <p:cNvSpPr/>
          <p:nvPr/>
        </p:nvSpPr>
        <p:spPr>
          <a:xfrm>
            <a:off x="6084720" y="333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6"/>
          <p:cNvSpPr/>
          <p:nvPr/>
        </p:nvSpPr>
        <p:spPr>
          <a:xfrm>
            <a:off x="46836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7"/>
          <p:cNvSpPr/>
          <p:nvPr/>
        </p:nvSpPr>
        <p:spPr>
          <a:xfrm>
            <a:off x="284328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8"/>
          <p:cNvSpPr/>
          <p:nvPr/>
        </p:nvSpPr>
        <p:spPr>
          <a:xfrm>
            <a:off x="6659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843280" y="764640"/>
            <a:ext cx="6121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</a:rPr>
              <a:t>Трикутник АВС, описаний навколо ко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</a:rPr>
              <a:t>АК = 5 см, ВМ = 3 см, МС = 4 с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</a:rPr>
              <a:t>Знайти периметр трикутника АВ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uk-UA" sz="2000" spc="-1" strike="noStrike">
                <a:solidFill>
                  <a:srgbClr val="002060"/>
                </a:solidFill>
                <a:latin typeface="Calibri"/>
              </a:rPr>
              <a:t>де К, М, 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N</a:t>
            </a:r>
            <a:r>
              <a:rPr b="0" lang="uk-UA" sz="2000" spc="-1" strike="noStrike">
                <a:solidFill>
                  <a:srgbClr val="002060"/>
                </a:solidFill>
                <a:latin typeface="Calibri"/>
              </a:rPr>
              <a:t> – точки дотику кола до сторін трикутника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1187280" y="1484280"/>
            <a:ext cx="1317960" cy="12240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V="1">
            <a:off x="468360" y="836280"/>
            <a:ext cx="1655640" cy="1863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124000" y="836640"/>
            <a:ext cx="649440" cy="1944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68360" y="2700360"/>
            <a:ext cx="2305080" cy="81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284720" y="1681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50920" y="2708280"/>
            <a:ext cx="88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Розв’яз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Р = АВ + ВС + 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ВС= ВМ + М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ВС = 3+4=7(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За властивостями дотичних, проведених з однієї точки до к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= АК = 5 см, С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M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 =4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м, ВМ = ВК = 3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АВ=АК +В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АВ = 5 + 3 = 8 (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АС = А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C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АС = 5 + 4 = 9 (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Р= 7 + 8 + 9 = 24 (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                                                </a:t>
            </a: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Відповідь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uk-UA" sz="1800" spc="-1" strike="noStrike">
                <a:solidFill>
                  <a:srgbClr val="0000cc"/>
                </a:solidFill>
                <a:latin typeface="Arial"/>
              </a:rPr>
              <a:t>24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79280" y="2492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908000" y="549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700360" y="2565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1042920" y="1484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2411280" y="1628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619280" y="2708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268360" y="1125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2556000" y="2060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611280" y="1916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00cc"/>
                </a:solidFill>
                <a:latin typeface="Monotype Corsiva"/>
              </a:rPr>
              <a:t>Вписані та описані чотирикутник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59280" y="274680"/>
            <a:ext cx="428472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авілонська глиняна табличка, яка містить геометричні задачі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Початок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II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тисячоліття до н.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0"/>
            <a:ext cx="459108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Овал 1"/>
          <p:cNvSpPr/>
          <p:nvPr/>
        </p:nvSpPr>
        <p:spPr>
          <a:xfrm>
            <a:off x="25560" y="4292640"/>
            <a:ext cx="2025360" cy="2016000"/>
          </a:xfrm>
          <a:prstGeom prst="ellipse">
            <a:avLst/>
          </a:prstGeom>
          <a:noFill/>
          <a:ln w="69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80"/>
                </a:solidFill>
                <a:latin typeface="Calibri"/>
              </a:rPr>
              <a:t>План вивчення теми</a:t>
            </a:r>
            <a:r>
              <a:rPr b="0" lang="uk-UA" sz="4000" spc="-1" strike="noStrike">
                <a:solidFill>
                  <a:srgbClr val="80008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cc"/>
                </a:solidFill>
                <a:latin typeface="Monotype Corsiva"/>
              </a:rPr>
              <a:t>Означення вписаного чотирикутн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cc"/>
                </a:solidFill>
                <a:latin typeface="Monotype Corsiva"/>
              </a:rPr>
              <a:t>Властивість кутів вписаного чотирикутн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cc"/>
                </a:solidFill>
                <a:latin typeface="Monotype Corsiva"/>
              </a:rPr>
              <a:t>Умова, за якою чотирикутник є вписани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cc"/>
                </a:solidFill>
                <a:latin typeface="Monotype Corsiva"/>
              </a:rPr>
              <a:t>Означення описаного чотирикутн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cc"/>
                </a:solidFill>
                <a:latin typeface="Monotype Corsiva"/>
              </a:rPr>
              <a:t>Властивість сторін описаного чотирикутн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cc"/>
                </a:solidFill>
                <a:latin typeface="Monotype Corsiva"/>
              </a:rPr>
              <a:t>Умова, за якою чотирикутник є описани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07:31:51Z</dcterms:created>
  <dc:creator>User</dc:creator>
  <dc:description/>
  <dc:language>en-US</dc:language>
  <cp:lastModifiedBy>Admin</cp:lastModifiedBy>
  <dcterms:modified xsi:type="dcterms:W3CDTF">2013-12-03T14:22:37Z</dcterms:modified>
  <cp:revision>50</cp:revision>
  <dc:subject/>
  <dc:title>Вавілонська глиняна табличка, яка містить геометричні задачі.  Початок  II тисячоліття до н.е.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08000000000001024140</vt:lpwstr>
  </property>
</Properties>
</file>