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CB6-5737-40B9-AF33-4E7F8D05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B79-0E0A-41C0-AC21-44C0A2E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CBD-ABD7-4F2B-A567-D775084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180-119E-4C05-B6C3-3DBA3640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95B6-0DFE-4D39-AF67-8F289F71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D822-F151-4558-8DD6-F649937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B72C-B446-499D-9792-B716528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8E4C-ECF6-44BF-AF89-E73408D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EA7-CB99-4778-ACF5-C7DCEA6F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5956-5534-4892-B095-BA193B1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3237-DE5E-4D5E-B667-BFD8A1E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88D-1B5F-4C05-A9FA-D83A1C1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DC39-F91F-417E-AFE9-0D71358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B82-6361-48A4-9458-12CAE755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9561-E1C6-4E9F-87ED-95495ADB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453-E716-4F1F-9108-7D9766DF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15F1-56C8-48B5-9FE5-32609B0F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B85F-5069-4156-ADA6-564C6837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7EF5-2479-42EA-B777-2FF30E03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9976-6171-4FBF-A778-FCE17573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C4E84-CFB3-4509-B43F-74E4F09F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EE43-7BDB-4545-B038-7238E95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6B8-9F2F-457B-AE63-C9C7D42C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2DE0-C702-40C1-8C8F-7B834433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A672-978F-4585-BA8D-1B1932F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6DE5-9710-4CCF-B103-327C08E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6A24-FA7A-4DF9-B0E4-1042004B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F021-1C06-4DBF-A70C-F2BCE15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00A1-96BC-4A49-8B49-DDCD3AB6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C0F7-B57A-4ADA-A8D5-724C84B1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CEE70-B617-4F7E-B635-ED2420EC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EFA8-E788-4F89-B2E3-1F015BB2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6675-7419-4F32-B295-65BA5DDD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3340-053D-40D3-921F-F934308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2D12-F759-4274-BD95-503C0E17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36B72-D105-433E-9FD0-7E531CA3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15193-1540-4671-A761-2F1FD4A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4F95-52A0-45EE-8DAF-3FFF6C3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848ED-FBCA-4A56-A7ED-A574880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9E4E-6243-4509-8F90-65881D6D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1616-349D-43EF-B0FD-78753D0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428A-73E9-4A3D-B65F-97CAA0F3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84B2-7491-4D87-BC10-80F68FC0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C419D-FDAA-48F2-88E6-64C5EEFD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293-2530-40E5-918E-3516EFE6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4E5C-7A19-46D3-A170-4B4739F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25BC-7CAF-4399-B8C9-CA2A5718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D68E1-9052-4E37-934F-D2CF1384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1A955-6ED2-4A9E-B586-1F0D8C7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D4DF-97FF-4248-BD31-5F131FEF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BF20-F278-419F-A912-295238D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F6A1-6D4F-4C59-997D-05FB881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058A-6E7B-4B22-96AA-2C1EED8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896C-B811-4B99-8BD6-C4C620E3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23F6-3AF9-48DC-AEA4-D65C697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719-DF3E-494F-9F8B-B42BD218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9A063-E49A-47AE-9F91-3E68799E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F9A0-B8B8-455B-9B1D-01EB85FA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06C1A-8AB9-404D-8B5E-EDDB5F1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DED9-392C-4008-9AA1-B5E3E67E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9B9F-36C3-4F05-AC9F-E7248986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309C-3EAF-491F-AECE-6AC222DC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0426A-3FF3-4AD2-9690-159D61A6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5AEB1-8236-4B8C-AD89-BC6F53F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192A-EDA5-4D3A-A6E4-83A727C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ADFE-AE89-40C4-897F-36B77BF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A3E-A218-462C-97C2-3AEDD82D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98591-8EF8-4F71-BCCA-D1FD0F5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B18D-91BE-4BE0-A498-F8F941C2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93D91-4435-4EC5-9D62-DDA3D39F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B34E2-C4DA-4DC1-B5E5-42B46E74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CE2D-A11D-4930-A1D0-6577D374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F45B0-9325-411C-8690-69DE3ECA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D850-D1CC-42E7-8101-C76AE16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102A6-DC48-4A35-9037-2219424A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2C36-7859-4B5B-A8D3-7473FD5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99FBA-F5DE-4721-953E-B41D15F7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EAA-2E16-4A59-8BA6-554BFD2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81A9-B755-4203-AA99-9CB1938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C37FA-05DE-4696-B318-6F44FC8E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F11FB-D28C-429D-B0E5-F79E51E4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1628-0291-433A-B768-405EE8D3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CE11-60F8-4BAD-A216-0FD155BF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53AE-CE87-4558-9641-6EAE2F0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F8EE9-D33F-47EB-B0B9-1859FB75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4B4EE-45C7-45FF-BD2B-2C76196E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DC160-C377-42CA-9C17-C03DDFD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329EC-4698-49D3-ABD4-608BF79B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439-762C-482B-8A9E-B91212A6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3AF07-C027-44A5-86EE-4E7CFCC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78680-C698-4D07-86BB-AFA441F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29CA4-7097-4BF7-A5A0-B69C2C7F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896B-7D57-46F0-BBA0-3EFFCE0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7920D-A3F4-42AF-9717-1FC5D80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2D34-CCA1-40E1-AAAE-18E09748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4A735-490F-4B69-88C5-4EF1470B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3860-4971-42A0-9FDD-2C1040E2C5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48DE-6EF5-49F5-8C74-EDCB60D503A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D71-8BF7-4639-8259-3C46927EA0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FEAA-972B-4281-884B-1F4FF0D467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48CD-9148-4C3F-8088-CE4674D193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8CE-4492-446E-AC8C-B6DDCE15BD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D3C0-F674-4495-81C9-8747E19C2F0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C54-9B2D-4CD7-8B5A-6D93B9767CC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82560" y="189000"/>
            <a:ext cx="7772400" cy="184788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3" descr=""/>
          <p:cNvPicPr/>
          <p:nvPr/>
        </p:nvPicPr>
        <p:blipFill>
          <a:blip r:embed="rId2"/>
          <a:stretch/>
        </p:blipFill>
        <p:spPr>
          <a:xfrm>
            <a:off x="2297160" y="3357720"/>
            <a:ext cx="4478400" cy="29844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900000" y="162864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– рік спорту та здорового способу житт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360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2" descr=""/>
          <p:cNvPicPr/>
          <p:nvPr/>
        </p:nvPicPr>
        <p:blipFill>
          <a:blip r:embed="rId2"/>
          <a:stretch/>
        </p:blipFill>
        <p:spPr>
          <a:xfrm>
            <a:off x="457200" y="1884240"/>
            <a:ext cx="8229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350" name="Группа 3"/>
          <p:cNvGrpSpPr/>
          <p:nvPr/>
        </p:nvGrpSpPr>
        <p:grpSpPr>
          <a:xfrm>
            <a:off x="812880" y="2466360"/>
            <a:ext cx="7416720" cy="3961440"/>
            <a:chOff x="812880" y="2466360"/>
            <a:chExt cx="7416720" cy="3961440"/>
          </a:xfrm>
        </p:grpSpPr>
        <p:cxnSp>
          <p:nvCxnSpPr>
            <p:cNvPr id="351" name="Соединительная линия уступом 4"/>
            <p:cNvCxnSpPr/>
            <p:nvPr/>
          </p:nvCxnSpPr>
          <p:spPr>
            <a:xfrm flipV="1">
              <a:off x="3344760" y="2466360"/>
              <a:ext cx="1700640" cy="805320"/>
            </a:xfrm>
            <a:prstGeom prst="bentConnector3">
              <a:avLst>
                <a:gd name="adj1" fmla="val 51132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2" name="Соединительная линия уступом 5"/>
            <p:cNvCxnSpPr/>
            <p:nvPr/>
          </p:nvCxnSpPr>
          <p:spPr>
            <a:xfrm flipH="1" rot="16200000">
              <a:off x="4488480" y="3020760"/>
              <a:ext cx="1877040" cy="781560"/>
            </a:xfrm>
            <a:prstGeom prst="bentConnector3">
              <a:avLst>
                <a:gd name="adj1" fmla="val 4999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3" name="Соединительная линия уступом 6"/>
            <p:cNvCxnSpPr/>
            <p:nvPr/>
          </p:nvCxnSpPr>
          <p:spPr>
            <a:xfrm rot="5400000">
              <a:off x="2121120" y="3643920"/>
              <a:ext cx="1656360" cy="908640"/>
            </a:xfrm>
            <a:prstGeom prst="bentConnector3">
              <a:avLst>
                <a:gd name="adj1" fmla="val 5000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4" name="Соединительная линия уступом 7"/>
            <p:cNvCxnSpPr/>
            <p:nvPr/>
          </p:nvCxnSpPr>
          <p:spPr>
            <a:xfrm>
              <a:off x="5799240" y="4347720"/>
              <a:ext cx="1566000" cy="732600"/>
            </a:xfrm>
            <a:prstGeom prst="bentConnector3">
              <a:avLst>
                <a:gd name="adj1" fmla="val 56150"/>
              </a:avLst>
            </a:prstGeom>
            <a:ln w="66600">
              <a:solidFill>
                <a:srgbClr val="ffb800"/>
              </a:solidFill>
              <a:miter/>
            </a:ln>
          </p:spPr>
        </p:cxnSp>
        <p:cxnSp>
          <p:nvCxnSpPr>
            <p:cNvPr id="355" name="Соединительная линия уступом 8"/>
            <p:cNvCxnSpPr/>
            <p:nvPr/>
          </p:nvCxnSpPr>
          <p:spPr>
            <a:xfrm flipV="1" rot="10800000">
              <a:off x="849960" y="4925880"/>
              <a:ext cx="1627920" cy="770400"/>
            </a:xfrm>
            <a:prstGeom prst="bentConnector3">
              <a:avLst>
                <a:gd name="adj1" fmla="val 49988"/>
              </a:avLst>
            </a:prstGeom>
            <a:ln w="66600">
              <a:solidFill>
                <a:srgbClr val="ffb800"/>
              </a:solidFill>
              <a:miter/>
            </a:ln>
          </p:spPr>
        </p:cxnSp>
        <p:sp>
          <p:nvSpPr>
            <p:cNvPr id="356" name="Прямая соединительная линия 9"/>
            <p:cNvSpPr/>
            <p:nvPr/>
          </p:nvSpPr>
          <p:spPr>
            <a:xfrm>
              <a:off x="812880" y="5699160"/>
              <a:ext cx="18720" cy="717480"/>
            </a:xfrm>
            <a:prstGeom prst="line">
              <a:avLst/>
            </a:prstGeom>
            <a:ln w="6660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7" name="Соединительная линия уступом 10"/>
            <p:cNvCxnSpPr/>
            <p:nvPr/>
          </p:nvCxnSpPr>
          <p:spPr>
            <a:xfrm flipH="1" rot="16200000">
              <a:off x="7119720" y="5334480"/>
              <a:ext cx="1330920" cy="849960"/>
            </a:xfrm>
            <a:prstGeom prst="bentConnector3">
              <a:avLst>
                <a:gd name="adj1" fmla="val 50000"/>
              </a:avLst>
            </a:prstGeom>
            <a:ln w="66600">
              <a:solidFill>
                <a:srgbClr val="ffb800"/>
              </a:solidFill>
              <a:miter/>
            </a:ln>
          </p:spPr>
        </p:cxnSp>
        <p:sp>
          <p:nvSpPr>
            <p:cNvPr id="358" name="Прямая соединительная линия 11"/>
            <p:cNvSpPr/>
            <p:nvPr/>
          </p:nvSpPr>
          <p:spPr>
            <a:xfrm>
              <a:off x="831600" y="6427800"/>
              <a:ext cx="7398000" cy="0"/>
            </a:xfrm>
            <a:prstGeom prst="line">
              <a:avLst/>
            </a:prstGeom>
            <a:ln w="6660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9" name="TextBox 12" descr=""/>
          <p:cNvPicPr/>
          <p:nvPr/>
        </p:nvPicPr>
        <p:blipFill>
          <a:blip r:embed="rId3"/>
          <a:stretch/>
        </p:blipFill>
        <p:spPr>
          <a:xfrm>
            <a:off x="5114880" y="2462040"/>
            <a:ext cx="1650960" cy="811440"/>
          </a:xfrm>
          <a:prstGeom prst="rect">
            <a:avLst/>
          </a:prstGeom>
          <a:ln w="0">
            <a:noFill/>
          </a:ln>
        </p:spPr>
      </p:pic>
      <p:pic>
        <p:nvPicPr>
          <p:cNvPr id="360" name="TextBox 13" descr=""/>
          <p:cNvPicPr/>
          <p:nvPr/>
        </p:nvPicPr>
        <p:blipFill>
          <a:blip r:embed="rId4"/>
          <a:stretch/>
        </p:blipFill>
        <p:spPr>
          <a:xfrm>
            <a:off x="5815080" y="3432240"/>
            <a:ext cx="2165400" cy="79848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14" descr=""/>
          <p:cNvPicPr/>
          <p:nvPr/>
        </p:nvPicPr>
        <p:blipFill>
          <a:blip r:embed="rId5"/>
          <a:stretch/>
        </p:blipFill>
        <p:spPr>
          <a:xfrm>
            <a:off x="6692760" y="4151160"/>
            <a:ext cx="1500480" cy="804960"/>
          </a:xfrm>
          <a:prstGeom prst="rect">
            <a:avLst/>
          </a:prstGeom>
          <a:ln w="0">
            <a:noFill/>
          </a:ln>
        </p:spPr>
      </p:pic>
      <p:pic>
        <p:nvPicPr>
          <p:cNvPr id="362" name="TextBox 15" descr=""/>
          <p:cNvPicPr/>
          <p:nvPr/>
        </p:nvPicPr>
        <p:blipFill>
          <a:blip r:embed="rId6"/>
          <a:stretch/>
        </p:blipFill>
        <p:spPr>
          <a:xfrm>
            <a:off x="7321680" y="4943520"/>
            <a:ext cx="3462120" cy="79848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16" descr=""/>
          <p:cNvPicPr/>
          <p:nvPr/>
        </p:nvPicPr>
        <p:blipFill>
          <a:blip r:embed="rId7"/>
          <a:stretch/>
        </p:blipFill>
        <p:spPr>
          <a:xfrm>
            <a:off x="2657520" y="2335320"/>
            <a:ext cx="1895400" cy="804600"/>
          </a:xfrm>
          <a:prstGeom prst="rect">
            <a:avLst/>
          </a:prstGeom>
          <a:ln w="0">
            <a:noFill/>
          </a:ln>
        </p:spPr>
      </p:pic>
      <p:pic>
        <p:nvPicPr>
          <p:cNvPr id="364" name="TextBox 17" descr=""/>
          <p:cNvPicPr/>
          <p:nvPr/>
        </p:nvPicPr>
        <p:blipFill>
          <a:blip r:embed="rId8"/>
          <a:stretch/>
        </p:blipFill>
        <p:spPr>
          <a:xfrm>
            <a:off x="2011320" y="3213000"/>
            <a:ext cx="2389320" cy="804960"/>
          </a:xfrm>
          <a:prstGeom prst="rect">
            <a:avLst/>
          </a:prstGeom>
          <a:ln w="0">
            <a:noFill/>
          </a:ln>
        </p:spPr>
      </p:pic>
      <p:pic>
        <p:nvPicPr>
          <p:cNvPr id="365" name="TextBox 18" descr=""/>
          <p:cNvPicPr/>
          <p:nvPr/>
        </p:nvPicPr>
        <p:blipFill>
          <a:blip r:embed="rId9"/>
          <a:stretch/>
        </p:blipFill>
        <p:spPr>
          <a:xfrm>
            <a:off x="1122480" y="4035600"/>
            <a:ext cx="2279520" cy="804600"/>
          </a:xfrm>
          <a:prstGeom prst="rect">
            <a:avLst/>
          </a:prstGeom>
          <a:ln w="0">
            <a:noFill/>
          </a:ln>
        </p:spPr>
      </p:pic>
      <p:pic>
        <p:nvPicPr>
          <p:cNvPr id="366" name="TextBox 19" descr=""/>
          <p:cNvPicPr/>
          <p:nvPr/>
        </p:nvPicPr>
        <p:blipFill>
          <a:blip r:embed="rId10"/>
          <a:stretch/>
        </p:blipFill>
        <p:spPr>
          <a:xfrm>
            <a:off x="-109440" y="4840200"/>
            <a:ext cx="3151080" cy="8114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20" descr=""/>
          <p:cNvPicPr/>
          <p:nvPr/>
        </p:nvPicPr>
        <p:blipFill>
          <a:blip r:embed="rId11"/>
          <a:stretch/>
        </p:blipFill>
        <p:spPr>
          <a:xfrm>
            <a:off x="4075200" y="3459240"/>
            <a:ext cx="9097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50920" y="33300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48200"/>
                </a:solidFill>
                <a:latin typeface="Times New Roman"/>
                <a:ea typeface="Times New Roman"/>
              </a:rPr>
              <a:t>Вправа 4. Що впливає на здоров’я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9" name="Диаграмма 4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-189000"/>
            <a:ext cx="8229600" cy="188460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3" descr=""/>
          <p:cNvPicPr/>
          <p:nvPr/>
        </p:nvPicPr>
        <p:blipFill>
          <a:blip r:embed="rId2"/>
          <a:stretch/>
        </p:blipFill>
        <p:spPr>
          <a:xfrm>
            <a:off x="-181080" y="1341360"/>
            <a:ext cx="9325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6928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Объект 4" descr=""/>
          <p:cNvPicPr/>
          <p:nvPr/>
        </p:nvPicPr>
        <p:blipFill>
          <a:blip r:embed="rId2"/>
          <a:stretch/>
        </p:blipFill>
        <p:spPr>
          <a:xfrm>
            <a:off x="0" y="1557360"/>
            <a:ext cx="925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-324000" y="404640"/>
            <a:ext cx="10428480" cy="431964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3" descr=""/>
          <p:cNvPicPr/>
          <p:nvPr/>
        </p:nvPicPr>
        <p:blipFill>
          <a:blip r:embed="rId2"/>
          <a:stretch/>
        </p:blipFill>
        <p:spPr>
          <a:xfrm>
            <a:off x="1262160" y="5157720"/>
            <a:ext cx="71992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324000" y="-55440"/>
            <a:ext cx="9039240" cy="2060280"/>
          </a:xfrm>
          <a:prstGeom prst="rect">
            <a:avLst/>
          </a:prstGeom>
          <a:ln w="0">
            <a:noFill/>
          </a:ln>
        </p:spPr>
      </p:pic>
      <p:pic>
        <p:nvPicPr>
          <p:cNvPr id="377" name="Объект 3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053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485200" cy="2206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179280" y="1535040"/>
            <a:ext cx="2363760" cy="241956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" descr=""/>
          <p:cNvPicPr/>
          <p:nvPr/>
        </p:nvPicPr>
        <p:blipFill>
          <a:blip r:embed="rId3"/>
          <a:stretch/>
        </p:blipFill>
        <p:spPr>
          <a:xfrm>
            <a:off x="4708440" y="1535040"/>
            <a:ext cx="2303640" cy="23558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4" descr=""/>
          <p:cNvPicPr/>
          <p:nvPr/>
        </p:nvPicPr>
        <p:blipFill>
          <a:blip r:embed="rId4"/>
          <a:stretch/>
        </p:blipFill>
        <p:spPr>
          <a:xfrm>
            <a:off x="2340000" y="3944880"/>
            <a:ext cx="2817720" cy="28796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"/>
          <p:cNvPicPr/>
          <p:nvPr/>
        </p:nvPicPr>
        <p:blipFill>
          <a:blip r:embed="rId5"/>
          <a:stretch/>
        </p:blipFill>
        <p:spPr>
          <a:xfrm>
            <a:off x="6372360" y="4170240"/>
            <a:ext cx="25765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6:33:31Z</dcterms:created>
  <dc:creator>Администратор</dc:creator>
  <dc:description/>
  <dc:language>en-US</dc:language>
  <cp:lastModifiedBy>Константин</cp:lastModifiedBy>
  <dcterms:modified xsi:type="dcterms:W3CDTF">2013-01-28T16:33:39Z</dcterms:modified>
  <cp:revision>34</cp:revision>
  <dc:subject/>
  <dc:title>ЗВИЧАЙНІ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10000000000001024140</vt:lpwstr>
  </property>
</Properties>
</file>