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3A4-BB4D-4763-9463-508C82AF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2C8-0D0C-4C95-9575-76752979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F13-DB25-4440-8A7C-203B3679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B9C-EF7C-4561-82E5-08752D2A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951A-A270-45B6-BD50-6E444183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B2FD-5A29-4B06-ABED-063B15E8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23B7-14D6-457C-A3CD-26372F25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EFDB-B575-47D7-B0E0-8DE14FB4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A78D-28AA-48DB-AD2A-E8B6E669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1418-BA33-4CA1-A066-21B8FE5E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D27D-435B-4FD5-B959-79587CAE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112-B8A6-406E-9630-EED89310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5C0D-F91A-40AB-A3DB-FC740394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E0E9-8251-4DB9-BC79-9562D46D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7543-7D63-48C7-82E0-22330796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124D-62C9-4566-A855-47209747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F741-865D-4503-92E5-5D38FBB6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1E6B-CB20-4B9B-908A-E0363F8E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2181-6067-4BD8-87AA-79C045B0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5568-C1B2-44D2-AAC9-B0F3CB84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94A78-2FB2-405E-B953-E76C946A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6710-09B1-4EAF-B6B9-037A030A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81E-4173-475F-88CE-61A92A03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F303-11A0-4D31-9922-AFB2A5B6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4618C-BA6B-4A5B-BD92-15CDC662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15D7-0BDF-487B-AF40-0E402FEC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DE697-0CE3-4ECC-B2A4-22231A86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0A29-6C2C-430B-A49B-C4E1AE4A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CCA4-AC27-4C31-8718-C9AB7742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0B1E-B434-4A76-8509-A0BC243F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0C87-8397-4B8A-8923-C71DE833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E3A3-769D-47B4-B10E-7C2801E6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80D78-A943-40E4-9280-120016B8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F69-39C5-4380-9746-6ADE3F94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3B9AD-AB2D-465A-99E6-D8F1B26F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A136C-473F-47BD-A803-C2F84E6A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5499-2DDC-42C8-81FF-C6F9D296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CAD2-E8B7-4DFD-BBBB-5C078CFF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1EA9D-F9C1-4C1E-A05C-D42D3E8D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6472-4EAD-4A9F-AFC9-ACBB3FC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C6765-B1A5-4461-AB0C-D9CA099E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12531-A242-4C06-A6FB-8AF02CAC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BE0D7-19DB-4D37-9CB3-A95E8D02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5155A-AFC9-4838-B2F5-18D81DAF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A88-C94D-484F-B337-683D43EB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A322D-DEF5-4ECD-ACF1-3D21E3BD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1788B-67FE-4669-9E78-57B7AF46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B5D6-FF33-48BA-BAB7-8545CB34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36094-3B09-4B0D-A844-585DD912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EBF54-BB23-49DB-B087-C967DA40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F860-C939-483C-A21B-D4D33998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18315-3802-4362-A4BF-500997BB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FBAEC-5F7E-4950-AEAB-6EE1A13F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DAD2D-F7CF-4730-A3F0-EE42BCB3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82C8-BAE5-4646-AC11-84AA2B0B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155-D896-4A5D-8C43-CDBC0DBA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1B5F6-D4C8-46EA-901F-63DF6F52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D7AA0-B0A4-4A42-9BFA-ED65EC55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A3601-9966-43E9-82FA-6F305018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2087D-6F8B-489B-BAB5-D3616E54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0A7AB-9012-4C98-BC43-CC7E8A24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9369F-F8CE-4877-84F8-8943CAFB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C2287-1E9D-4FFE-A906-458988C6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0C1C3-D411-4D9A-913E-27DC31B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7E0C4-7CED-437C-AA1F-5C512F3A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58FDF-8B6C-4579-9DB3-93645FF1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BC7-4154-40B9-8D58-9CE26C00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E753B-876B-4F95-AA65-7BBF9418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A9CCB-859A-4AE9-A9D1-33D33F9C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93DD8-C03C-47A3-94CB-E055AF41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8176F-2ACF-41A1-BB98-D82BDDAA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A4C99-CA1A-41B5-8B40-53FBB6FA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A182F-F9B2-45B9-A745-893C021C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009A8-4C85-4771-BD05-81DD2139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B90AA-C7D6-4375-9604-3D8FF144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B69C0-04BE-402D-B0A0-B28369AE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456B2-2C94-4EF5-B056-CAE0195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206-552C-4F94-B1C0-5E8ACA35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3E846-86D3-4B8F-816F-CFA6A40C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5E490-9C06-493E-B93F-E135EA92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8F536-7874-41FD-A177-30932930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93E7C-8B65-475E-92AD-13664D7C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0B235-0203-4872-A547-FA86190A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C98EA-E8CD-43C7-BF93-281DA643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2C35F-C7F0-4906-AFC4-0C79E493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72EC8-D932-4106-86C2-F0C2584F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8A366-EEFB-44F7-BB6D-123EBA70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13E8B-3B86-4655-944B-ADC48DBD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E88-EF40-434D-B36B-5A8C1028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29703-F130-40E7-84E6-5468B883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144F1-90EC-4EA7-95B6-4C679096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FCB6D-1C99-4A52-B474-A7A5E04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CF941-B035-430D-8D80-E60D574A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60448-8156-40B8-8DD3-FF969D37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3DC95-FF26-42E1-A788-A137784C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D7BFA-7482-4848-B6FF-6195938C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EE90-0AA5-406C-AB00-C33FE5EF51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B923-56B3-44F5-ABB9-080A0B9E29CF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927B-4B38-42A2-A3D4-6324CCF576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1047-8799-4EAC-A6C9-BF5F0EB0F7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EAAF-5486-49F6-8864-D1B2449B02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1BFA-851C-4753-82B2-CD5F79A8B5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82F7-2336-4702-B96E-AC1935DD970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30F8-96E3-42E3-AA8B-E5FA78624976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82560" y="189000"/>
            <a:ext cx="7772400" cy="18478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3" descr=""/>
          <p:cNvPicPr/>
          <p:nvPr/>
        </p:nvPicPr>
        <p:blipFill>
          <a:blip r:embed="rId2"/>
          <a:stretch/>
        </p:blipFill>
        <p:spPr>
          <a:xfrm>
            <a:off x="2297160" y="3357720"/>
            <a:ext cx="4478400" cy="29844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900000" y="162864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3 – рік спорту та здорового способу житт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3600"/>
          </a:xfrm>
          <a:prstGeom prst="rect">
            <a:avLst/>
          </a:prstGeom>
          <a:ln w="0">
            <a:noFill/>
          </a:ln>
        </p:spPr>
      </p:pic>
      <p:pic>
        <p:nvPicPr>
          <p:cNvPr id="349" name="Объект 2" descr=""/>
          <p:cNvPicPr/>
          <p:nvPr/>
        </p:nvPicPr>
        <p:blipFill>
          <a:blip r:embed="rId2"/>
          <a:stretch/>
        </p:blipFill>
        <p:spPr>
          <a:xfrm>
            <a:off x="457200" y="1884240"/>
            <a:ext cx="82296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3"/>
          <p:cNvGrpSpPr/>
          <p:nvPr/>
        </p:nvGrpSpPr>
        <p:grpSpPr>
          <a:xfrm>
            <a:off x="812880" y="2466360"/>
            <a:ext cx="7416720" cy="3961440"/>
            <a:chOff x="812880" y="2466360"/>
            <a:chExt cx="7416720" cy="3961440"/>
          </a:xfrm>
        </p:grpSpPr>
        <p:cxnSp>
          <p:nvCxnSpPr>
            <p:cNvPr id="351" name="Соединительная линия уступом 4"/>
            <p:cNvCxnSpPr/>
            <p:nvPr/>
          </p:nvCxnSpPr>
          <p:spPr>
            <a:xfrm flipV="1">
              <a:off x="3344760" y="2466360"/>
              <a:ext cx="1700640" cy="805320"/>
            </a:xfrm>
            <a:prstGeom prst="bentConnector3">
              <a:avLst>
                <a:gd name="adj1" fmla="val 51132"/>
              </a:avLst>
            </a:prstGeom>
            <a:ln w="66600">
              <a:solidFill>
                <a:srgbClr val="ffb800"/>
              </a:solidFill>
              <a:miter/>
            </a:ln>
          </p:spPr>
        </p:cxnSp>
        <p:cxnSp>
          <p:nvCxnSpPr>
            <p:cNvPr id="352" name="Соединительная линия уступом 5"/>
            <p:cNvCxnSpPr/>
            <p:nvPr/>
          </p:nvCxnSpPr>
          <p:spPr>
            <a:xfrm flipH="1" rot="16200000">
              <a:off x="4488480" y="3020760"/>
              <a:ext cx="1877040" cy="781560"/>
            </a:xfrm>
            <a:prstGeom prst="bentConnector3">
              <a:avLst>
                <a:gd name="adj1" fmla="val 49990"/>
              </a:avLst>
            </a:prstGeom>
            <a:ln w="66600">
              <a:solidFill>
                <a:srgbClr val="ffb800"/>
              </a:solidFill>
              <a:miter/>
            </a:ln>
          </p:spPr>
        </p:cxnSp>
        <p:cxnSp>
          <p:nvCxnSpPr>
            <p:cNvPr id="353" name="Соединительная линия уступом 6"/>
            <p:cNvCxnSpPr/>
            <p:nvPr/>
          </p:nvCxnSpPr>
          <p:spPr>
            <a:xfrm rot="5400000">
              <a:off x="2121120" y="3643920"/>
              <a:ext cx="1656360" cy="908640"/>
            </a:xfrm>
            <a:prstGeom prst="bentConnector3">
              <a:avLst>
                <a:gd name="adj1" fmla="val 50000"/>
              </a:avLst>
            </a:prstGeom>
            <a:ln w="66600">
              <a:solidFill>
                <a:srgbClr val="ffb800"/>
              </a:solidFill>
              <a:miter/>
            </a:ln>
          </p:spPr>
        </p:cxnSp>
        <p:cxnSp>
          <p:nvCxnSpPr>
            <p:cNvPr id="354" name="Соединительная линия уступом 7"/>
            <p:cNvCxnSpPr/>
            <p:nvPr/>
          </p:nvCxnSpPr>
          <p:spPr>
            <a:xfrm>
              <a:off x="5799240" y="4347720"/>
              <a:ext cx="1566000" cy="732600"/>
            </a:xfrm>
            <a:prstGeom prst="bentConnector3">
              <a:avLst>
                <a:gd name="adj1" fmla="val 56150"/>
              </a:avLst>
            </a:prstGeom>
            <a:ln w="66600">
              <a:solidFill>
                <a:srgbClr val="ffb800"/>
              </a:solidFill>
              <a:miter/>
            </a:ln>
          </p:spPr>
        </p:cxnSp>
        <p:cxnSp>
          <p:nvCxnSpPr>
            <p:cNvPr id="355" name="Соединительная линия уступом 8"/>
            <p:cNvCxnSpPr/>
            <p:nvPr/>
          </p:nvCxnSpPr>
          <p:spPr>
            <a:xfrm flipV="1" rot="10800000">
              <a:off x="849960" y="4925880"/>
              <a:ext cx="1627920" cy="770400"/>
            </a:xfrm>
            <a:prstGeom prst="bentConnector3">
              <a:avLst>
                <a:gd name="adj1" fmla="val 49988"/>
              </a:avLst>
            </a:prstGeom>
            <a:ln w="66600">
              <a:solidFill>
                <a:srgbClr val="ffb800"/>
              </a:solidFill>
              <a:miter/>
            </a:ln>
          </p:spPr>
        </p:cxnSp>
        <p:sp>
          <p:nvSpPr>
            <p:cNvPr id="356" name="Прямая соединительная линия 9"/>
            <p:cNvSpPr/>
            <p:nvPr/>
          </p:nvSpPr>
          <p:spPr>
            <a:xfrm>
              <a:off x="812880" y="5699160"/>
              <a:ext cx="18720" cy="717480"/>
            </a:xfrm>
            <a:prstGeom prst="line">
              <a:avLst/>
            </a:prstGeom>
            <a:ln w="6660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7" name="Соединительная линия уступом 10"/>
            <p:cNvCxnSpPr/>
            <p:nvPr/>
          </p:nvCxnSpPr>
          <p:spPr>
            <a:xfrm flipH="1" rot="16200000">
              <a:off x="7119720" y="5334480"/>
              <a:ext cx="1330920" cy="849960"/>
            </a:xfrm>
            <a:prstGeom prst="bentConnector3">
              <a:avLst>
                <a:gd name="adj1" fmla="val 50000"/>
              </a:avLst>
            </a:prstGeom>
            <a:ln w="66600">
              <a:solidFill>
                <a:srgbClr val="ffb800"/>
              </a:solidFill>
              <a:miter/>
            </a:ln>
          </p:spPr>
        </p:cxnSp>
        <p:sp>
          <p:nvSpPr>
            <p:cNvPr id="358" name="Прямая соединительная линия 11"/>
            <p:cNvSpPr/>
            <p:nvPr/>
          </p:nvSpPr>
          <p:spPr>
            <a:xfrm>
              <a:off x="831600" y="6427800"/>
              <a:ext cx="7398000" cy="0"/>
            </a:xfrm>
            <a:prstGeom prst="line">
              <a:avLst/>
            </a:prstGeom>
            <a:ln w="6660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9" name="TextBox 12" descr=""/>
          <p:cNvPicPr/>
          <p:nvPr/>
        </p:nvPicPr>
        <p:blipFill>
          <a:blip r:embed="rId3"/>
          <a:stretch/>
        </p:blipFill>
        <p:spPr>
          <a:xfrm>
            <a:off x="5114880" y="2462040"/>
            <a:ext cx="1650960" cy="811440"/>
          </a:xfrm>
          <a:prstGeom prst="rect">
            <a:avLst/>
          </a:prstGeom>
          <a:ln w="0">
            <a:noFill/>
          </a:ln>
        </p:spPr>
      </p:pic>
      <p:pic>
        <p:nvPicPr>
          <p:cNvPr id="360" name="TextBox 13" descr=""/>
          <p:cNvPicPr/>
          <p:nvPr/>
        </p:nvPicPr>
        <p:blipFill>
          <a:blip r:embed="rId4"/>
          <a:stretch/>
        </p:blipFill>
        <p:spPr>
          <a:xfrm>
            <a:off x="5815080" y="3432240"/>
            <a:ext cx="2165400" cy="798480"/>
          </a:xfrm>
          <a:prstGeom prst="rect">
            <a:avLst/>
          </a:prstGeom>
          <a:ln w="0">
            <a:noFill/>
          </a:ln>
        </p:spPr>
      </p:pic>
      <p:pic>
        <p:nvPicPr>
          <p:cNvPr id="361" name="TextBox 14" descr=""/>
          <p:cNvPicPr/>
          <p:nvPr/>
        </p:nvPicPr>
        <p:blipFill>
          <a:blip r:embed="rId5"/>
          <a:stretch/>
        </p:blipFill>
        <p:spPr>
          <a:xfrm>
            <a:off x="6692760" y="4151160"/>
            <a:ext cx="1500480" cy="804960"/>
          </a:xfrm>
          <a:prstGeom prst="rect">
            <a:avLst/>
          </a:prstGeom>
          <a:ln w="0">
            <a:noFill/>
          </a:ln>
        </p:spPr>
      </p:pic>
      <p:pic>
        <p:nvPicPr>
          <p:cNvPr id="362" name="TextBox 15" descr=""/>
          <p:cNvPicPr/>
          <p:nvPr/>
        </p:nvPicPr>
        <p:blipFill>
          <a:blip r:embed="rId6"/>
          <a:stretch/>
        </p:blipFill>
        <p:spPr>
          <a:xfrm>
            <a:off x="7321680" y="4943520"/>
            <a:ext cx="3462120" cy="798480"/>
          </a:xfrm>
          <a:prstGeom prst="rect">
            <a:avLst/>
          </a:prstGeom>
          <a:ln w="0">
            <a:noFill/>
          </a:ln>
        </p:spPr>
      </p:pic>
      <p:pic>
        <p:nvPicPr>
          <p:cNvPr id="363" name="TextBox 16" descr=""/>
          <p:cNvPicPr/>
          <p:nvPr/>
        </p:nvPicPr>
        <p:blipFill>
          <a:blip r:embed="rId7"/>
          <a:stretch/>
        </p:blipFill>
        <p:spPr>
          <a:xfrm>
            <a:off x="2657520" y="2335320"/>
            <a:ext cx="1895400" cy="804600"/>
          </a:xfrm>
          <a:prstGeom prst="rect">
            <a:avLst/>
          </a:prstGeom>
          <a:ln w="0">
            <a:noFill/>
          </a:ln>
        </p:spPr>
      </p:pic>
      <p:pic>
        <p:nvPicPr>
          <p:cNvPr id="364" name="TextBox 17" descr=""/>
          <p:cNvPicPr/>
          <p:nvPr/>
        </p:nvPicPr>
        <p:blipFill>
          <a:blip r:embed="rId8"/>
          <a:stretch/>
        </p:blipFill>
        <p:spPr>
          <a:xfrm>
            <a:off x="2011320" y="3213000"/>
            <a:ext cx="2389320" cy="804960"/>
          </a:xfrm>
          <a:prstGeom prst="rect">
            <a:avLst/>
          </a:prstGeom>
          <a:ln w="0">
            <a:noFill/>
          </a:ln>
        </p:spPr>
      </p:pic>
      <p:pic>
        <p:nvPicPr>
          <p:cNvPr id="365" name="TextBox 18" descr=""/>
          <p:cNvPicPr/>
          <p:nvPr/>
        </p:nvPicPr>
        <p:blipFill>
          <a:blip r:embed="rId9"/>
          <a:stretch/>
        </p:blipFill>
        <p:spPr>
          <a:xfrm>
            <a:off x="1122480" y="4035600"/>
            <a:ext cx="2279520" cy="804600"/>
          </a:xfrm>
          <a:prstGeom prst="rect">
            <a:avLst/>
          </a:prstGeom>
          <a:ln w="0">
            <a:noFill/>
          </a:ln>
        </p:spPr>
      </p:pic>
      <p:pic>
        <p:nvPicPr>
          <p:cNvPr id="366" name="TextBox 19" descr=""/>
          <p:cNvPicPr/>
          <p:nvPr/>
        </p:nvPicPr>
        <p:blipFill>
          <a:blip r:embed="rId10"/>
          <a:stretch/>
        </p:blipFill>
        <p:spPr>
          <a:xfrm>
            <a:off x="-109440" y="4840200"/>
            <a:ext cx="3151080" cy="8114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20" descr=""/>
          <p:cNvPicPr/>
          <p:nvPr/>
        </p:nvPicPr>
        <p:blipFill>
          <a:blip r:embed="rId11"/>
          <a:stretch/>
        </p:blipFill>
        <p:spPr>
          <a:xfrm>
            <a:off x="4075200" y="3459240"/>
            <a:ext cx="9097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50920" y="333000"/>
            <a:ext cx="8686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48200"/>
                </a:solidFill>
                <a:latin typeface="Times New Roman"/>
                <a:ea typeface="Times New Roman"/>
              </a:rPr>
              <a:t>Вправа 4. Що впливає на здоров’я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9" name="Диаграмма 4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-189000"/>
            <a:ext cx="8229600" cy="1884600"/>
          </a:xfrm>
          <a:prstGeom prst="rect">
            <a:avLst/>
          </a:prstGeom>
          <a:ln w="0">
            <a:noFill/>
          </a:ln>
        </p:spPr>
      </p:pic>
      <p:pic>
        <p:nvPicPr>
          <p:cNvPr id="371" name="Объект 3" descr=""/>
          <p:cNvPicPr/>
          <p:nvPr/>
        </p:nvPicPr>
        <p:blipFill>
          <a:blip r:embed="rId2"/>
          <a:stretch/>
        </p:blipFill>
        <p:spPr>
          <a:xfrm>
            <a:off x="-181080" y="1341360"/>
            <a:ext cx="9325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369280" cy="1395360"/>
          </a:xfrm>
          <a:prstGeom prst="rect">
            <a:avLst/>
          </a:prstGeom>
          <a:ln w="0">
            <a:noFill/>
          </a:ln>
        </p:spPr>
      </p:pic>
      <p:pic>
        <p:nvPicPr>
          <p:cNvPr id="373" name="Объект 4" descr=""/>
          <p:cNvPicPr/>
          <p:nvPr/>
        </p:nvPicPr>
        <p:blipFill>
          <a:blip r:embed="rId2"/>
          <a:stretch/>
        </p:blipFill>
        <p:spPr>
          <a:xfrm>
            <a:off x="0" y="1557360"/>
            <a:ext cx="9252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-324000" y="404640"/>
            <a:ext cx="10428480" cy="4319640"/>
          </a:xfrm>
          <a:prstGeom prst="rect">
            <a:avLst/>
          </a:prstGeom>
          <a:ln w="0">
            <a:noFill/>
          </a:ln>
        </p:spPr>
      </p:pic>
      <p:pic>
        <p:nvPicPr>
          <p:cNvPr id="375" name="TextBox 3" descr=""/>
          <p:cNvPicPr/>
          <p:nvPr/>
        </p:nvPicPr>
        <p:blipFill>
          <a:blip r:embed="rId2"/>
          <a:stretch/>
        </p:blipFill>
        <p:spPr>
          <a:xfrm>
            <a:off x="1262160" y="5157720"/>
            <a:ext cx="71992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324000" y="-55440"/>
            <a:ext cx="9039240" cy="2060280"/>
          </a:xfrm>
          <a:prstGeom prst="rect">
            <a:avLst/>
          </a:prstGeom>
          <a:ln w="0">
            <a:noFill/>
          </a:ln>
        </p:spPr>
      </p:pic>
      <p:pic>
        <p:nvPicPr>
          <p:cNvPr id="377" name="Объект 3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44053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485200" cy="2206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179280" y="1535040"/>
            <a:ext cx="2363760" cy="24195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" descr=""/>
          <p:cNvPicPr/>
          <p:nvPr/>
        </p:nvPicPr>
        <p:blipFill>
          <a:blip r:embed="rId3"/>
          <a:stretch/>
        </p:blipFill>
        <p:spPr>
          <a:xfrm>
            <a:off x="4708440" y="1535040"/>
            <a:ext cx="2303640" cy="23558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4" descr=""/>
          <p:cNvPicPr/>
          <p:nvPr/>
        </p:nvPicPr>
        <p:blipFill>
          <a:blip r:embed="rId4"/>
          <a:stretch/>
        </p:blipFill>
        <p:spPr>
          <a:xfrm>
            <a:off x="2340000" y="3944880"/>
            <a:ext cx="2817720" cy="28796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"/>
          <p:cNvPicPr/>
          <p:nvPr/>
        </p:nvPicPr>
        <p:blipFill>
          <a:blip r:embed="rId5"/>
          <a:stretch/>
        </p:blipFill>
        <p:spPr>
          <a:xfrm>
            <a:off x="6372360" y="4170240"/>
            <a:ext cx="25765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6:33:31Z</dcterms:created>
  <dc:creator>Администратор</dc:creator>
  <dc:description/>
  <dc:language>en-US</dc:language>
  <cp:lastModifiedBy>Константин</cp:lastModifiedBy>
  <dcterms:modified xsi:type="dcterms:W3CDTF">2013-01-28T16:33:39Z</dcterms:modified>
  <cp:revision>34</cp:revision>
  <dc:subject/>
  <dc:title>ЗВИЧАЙНІ ДРО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10000000000001024140</vt:lpwstr>
  </property>
</Properties>
</file>