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14D-1F6F-4D85-9A22-215AB00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BCB-7D54-46F2-BDB7-DA3F3CB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DF1-38B2-446E-8302-D6B5F33F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536-D9CB-425E-A519-4FC4485A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6DBB-E099-4F80-9F11-440FA4F1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7574-6506-44A2-AC4D-88CDAEA5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99F-4031-4838-A083-94AB70B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CEC-687F-432A-AE9D-3ECBDC6F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ED7-A2CD-4123-8B9B-0366C18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8D1F-5456-493E-A57D-15A46E4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15B-D557-425E-BE51-60E288B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C0A-003A-4025-BB80-4A0150A9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9464-5E6E-471D-B7B2-8AD9B457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E23-BEE8-4D1C-97D9-5FE970C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928A-3996-493C-AA20-BB710A9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FADE-CD3B-4ED8-AF36-9BF8F65C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C85C-4BBE-41A3-B7D5-7B9C8C2B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D1FB-343B-4BE3-87D9-43A121C6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2F8D-0EF8-4509-AF11-55F63067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C68C-A67C-4FFB-A506-83DF1CFA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3DE6-EED0-4E91-880A-7E16905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1E42-9FCC-4222-9AF7-1CC15079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832-40DB-4892-9DC8-312C766F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BB25-9F96-456D-ABB4-BBDA21D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C79D-E29C-4094-94E0-00A90D7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B71C-7029-4B2F-8D23-25DC385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5463-2025-4C30-BEB9-421D716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7DC5-744B-449E-838A-742E9BF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392A-165B-42BD-BF2A-F5DACB0F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1F28-1DA5-4269-8E13-E4A53359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1D10-D37F-47D8-BD33-324161DA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F770-FE7D-4AB0-B165-DBCC78E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7956-E73F-469B-8D30-CB0B3DD5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615-941B-450A-A250-1DD3D54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44BE-C5F8-4C8F-ABE1-83FF512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BCEA3-A133-4EB5-B358-C1A02E9B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6352-4AA4-4CDF-8AF6-2A9FD01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31C0-E628-4899-8E11-34B65E1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E4F4-55BD-4E5A-8128-DE43C3F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A5AD-97BD-4F64-9029-0DB0F98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AA10D-6CDD-4DD6-A424-EDE73726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1D89-6029-4CA4-A7A4-680D701E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41B7-B512-4F72-8D89-31EADC6D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AEC7-5968-4BED-8647-6EC75823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221-F033-43BE-B975-B9A41DC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9769-8BFE-47DC-B87B-D98D6E55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A1F5-BB26-4D79-B4B4-649999D3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D61B-5C23-4994-A28F-24928A2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7E0E-99E4-459C-8A7B-8EE62A4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EBF4-7842-4235-9512-E6DF613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7638-5CE4-4444-90A3-DE3DD6A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1B7E-79EF-45B8-BDDD-4DCED43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F62D-5FB0-4B03-A5E9-0CDECE3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5063-F6A9-4AF0-B141-965B602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5F9C-3935-4808-9090-C284E0DC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B63-0680-4288-8430-8E0511FF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03C3-44CA-43C4-8C3D-55F19355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C9D6-6C67-4904-B7DE-7AF0AAC5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3D09-871A-4B52-B528-7D13437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B9F05-2DBE-404B-9277-079E3E4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2940-5ABC-4C3F-9D2F-D876314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FD0B-2154-4C5E-B5C6-44E8D954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7B26E-8A8B-4E58-B75A-110D630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67A0-6293-4CE5-B0AB-718120B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C9A05-67FA-45AB-9DF0-93CA3CF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EC3A-A6FC-4709-B988-438A9570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485-CA90-40F5-A56D-3A2B467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9A7A-DF21-4342-847E-4348862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36EE-9A24-487B-8012-8DD53BDB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91E2-97CB-401B-82D5-8D398B48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6E1BF-26AF-4608-B7E0-406EB616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A0E4-4CE7-4C90-8AE1-E57DB72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7312-8C86-4EAB-922E-9E7E399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8A34-FD60-4E2E-BA10-2EFE79C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6EF44-A56C-40B4-A856-0833E419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7559C-ED3B-4865-A7AE-0BD01913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C99C1-2609-4E2C-A2FE-4BC2FA1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F19-8E06-4765-BF6D-25A36B4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DE3C-130E-48B3-89FB-7B71FA8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8C7E-96C3-4660-A20C-A50FF79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791B-EEB1-4731-8FBF-353D527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C891D-2E1D-45A1-A3C0-5C0F2A23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D68A-DCD4-4B4F-B085-2F153EEE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3EB-1B81-4CB4-ACC7-AA65CBB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7B04-E986-4E57-BABC-9DEDE440B1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B65-53E9-4C0D-BA8E-EA478312C6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8ED2-4120-47AD-88F4-F400950AE5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BA3-9B9A-4B38-A61D-5199741A14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8EC-3967-48A7-AE1E-AB87C1E498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9D37-6435-4E14-8E7B-9394332CE4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094-F729-456A-A6DE-C2DE70562B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Администратор\Рабочий стол\12331778-n--n----n-n-n----n---noe--nz.jpg"/>
          <p:cNvPicPr/>
          <p:nvPr/>
        </p:nvPicPr>
        <p:blipFill>
          <a:blip r:embed="rId2"/>
          <a:srcRect l="0" t="0" r="40" b="0"/>
          <a:stretch/>
        </p:blipFill>
        <p:spPr>
          <a:xfrm>
            <a:off x="1285920" y="0"/>
            <a:ext cx="7596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6" descr=""/>
          <p:cNvPicPr/>
          <p:nvPr/>
        </p:nvPicPr>
        <p:blipFill>
          <a:blip r:embed="rId3"/>
          <a:stretch/>
        </p:blipFill>
        <p:spPr>
          <a:xfrm>
            <a:off x="1468440" y="3005280"/>
            <a:ext cx="982800" cy="8413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8" descr=""/>
          <p:cNvPicPr/>
          <p:nvPr/>
        </p:nvPicPr>
        <p:blipFill>
          <a:blip r:embed="rId4"/>
          <a:stretch/>
        </p:blipFill>
        <p:spPr>
          <a:xfrm>
            <a:off x="196848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9" descr=""/>
          <p:cNvPicPr/>
          <p:nvPr/>
        </p:nvPicPr>
        <p:blipFill>
          <a:blip r:embed="rId5"/>
          <a:stretch/>
        </p:blipFill>
        <p:spPr>
          <a:xfrm>
            <a:off x="4608360" y="-139680"/>
            <a:ext cx="981360" cy="8161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10" descr=""/>
          <p:cNvPicPr/>
          <p:nvPr/>
        </p:nvPicPr>
        <p:blipFill>
          <a:blip r:embed="rId6"/>
          <a:stretch/>
        </p:blipFill>
        <p:spPr>
          <a:xfrm>
            <a:off x="4711680" y="6229440"/>
            <a:ext cx="884160" cy="7444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1" descr=""/>
          <p:cNvPicPr/>
          <p:nvPr/>
        </p:nvPicPr>
        <p:blipFill>
          <a:blip r:embed="rId7"/>
          <a:stretch/>
        </p:blipFill>
        <p:spPr>
          <a:xfrm>
            <a:off x="7827840" y="2932200"/>
            <a:ext cx="981360" cy="8175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2" descr=""/>
          <p:cNvPicPr/>
          <p:nvPr/>
        </p:nvPicPr>
        <p:blipFill>
          <a:blip r:embed="rId8"/>
          <a:stretch/>
        </p:blipFill>
        <p:spPr>
          <a:xfrm>
            <a:off x="761364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3" descr=""/>
          <p:cNvPicPr/>
          <p:nvPr/>
        </p:nvPicPr>
        <p:blipFill>
          <a:blip r:embed="rId9"/>
          <a:stretch/>
        </p:blipFill>
        <p:spPr>
          <a:xfrm>
            <a:off x="4754520" y="59007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14" descr=""/>
          <p:cNvPicPr/>
          <p:nvPr/>
        </p:nvPicPr>
        <p:blipFill>
          <a:blip r:embed="rId10"/>
          <a:stretch/>
        </p:blipFill>
        <p:spPr>
          <a:xfrm>
            <a:off x="4754520" y="3286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15" descr=""/>
          <p:cNvPicPr/>
          <p:nvPr/>
        </p:nvPicPr>
        <p:blipFill>
          <a:blip r:embed="rId11"/>
          <a:stretch/>
        </p:blipFill>
        <p:spPr>
          <a:xfrm>
            <a:off x="23288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16" descr=""/>
          <p:cNvPicPr/>
          <p:nvPr/>
        </p:nvPicPr>
        <p:blipFill>
          <a:blip r:embed="rId12"/>
          <a:stretch/>
        </p:blipFill>
        <p:spPr>
          <a:xfrm>
            <a:off x="4754520" y="68256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17" descr=""/>
          <p:cNvPicPr/>
          <p:nvPr/>
        </p:nvPicPr>
        <p:blipFill>
          <a:blip r:embed="rId13"/>
          <a:stretch/>
        </p:blipFill>
        <p:spPr>
          <a:xfrm>
            <a:off x="7254720" y="304164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18" descr=""/>
          <p:cNvPicPr/>
          <p:nvPr/>
        </p:nvPicPr>
        <p:blipFill>
          <a:blip r:embed="rId14"/>
          <a:stretch/>
        </p:blipFill>
        <p:spPr>
          <a:xfrm>
            <a:off x="4754520" y="554184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19" descr=""/>
          <p:cNvPicPr/>
          <p:nvPr/>
        </p:nvPicPr>
        <p:blipFill>
          <a:blip r:embed="rId15"/>
          <a:stretch/>
        </p:blipFill>
        <p:spPr>
          <a:xfrm>
            <a:off x="2682720" y="3114720"/>
            <a:ext cx="773280" cy="6825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20" descr=""/>
          <p:cNvPicPr/>
          <p:nvPr/>
        </p:nvPicPr>
        <p:blipFill>
          <a:blip r:embed="rId16"/>
          <a:stretch/>
        </p:blipFill>
        <p:spPr>
          <a:xfrm>
            <a:off x="4754520" y="51879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21" descr=""/>
          <p:cNvPicPr/>
          <p:nvPr/>
        </p:nvPicPr>
        <p:blipFill>
          <a:blip r:embed="rId17"/>
          <a:stretch/>
        </p:blipFill>
        <p:spPr>
          <a:xfrm>
            <a:off x="690084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22" descr=""/>
          <p:cNvPicPr/>
          <p:nvPr/>
        </p:nvPicPr>
        <p:blipFill>
          <a:blip r:embed="rId18"/>
          <a:stretch/>
        </p:blipFill>
        <p:spPr>
          <a:xfrm>
            <a:off x="4754520" y="969840"/>
            <a:ext cx="774720" cy="650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24" descr=""/>
          <p:cNvPicPr/>
          <p:nvPr/>
        </p:nvPicPr>
        <p:blipFill>
          <a:blip r:embed="rId19"/>
          <a:stretch/>
        </p:blipFill>
        <p:spPr>
          <a:xfrm>
            <a:off x="30416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26" descr=""/>
          <p:cNvPicPr/>
          <p:nvPr/>
        </p:nvPicPr>
        <p:blipFill>
          <a:blip r:embed="rId20"/>
          <a:stretch/>
        </p:blipFill>
        <p:spPr>
          <a:xfrm>
            <a:off x="4754520" y="49006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7" descr=""/>
          <p:cNvPicPr/>
          <p:nvPr/>
        </p:nvPicPr>
        <p:blipFill>
          <a:blip r:embed="rId21"/>
          <a:stretch/>
        </p:blipFill>
        <p:spPr>
          <a:xfrm>
            <a:off x="654048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28" descr=""/>
          <p:cNvPicPr/>
          <p:nvPr/>
        </p:nvPicPr>
        <p:blipFill>
          <a:blip r:embed="rId22"/>
          <a:stretch/>
        </p:blipFill>
        <p:spPr>
          <a:xfrm>
            <a:off x="4754520" y="13287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29" descr=""/>
          <p:cNvPicPr/>
          <p:nvPr/>
        </p:nvPicPr>
        <p:blipFill>
          <a:blip r:embed="rId23"/>
          <a:stretch/>
        </p:blipFill>
        <p:spPr>
          <a:xfrm>
            <a:off x="4754520" y="418788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30" descr=""/>
          <p:cNvPicPr/>
          <p:nvPr/>
        </p:nvPicPr>
        <p:blipFill>
          <a:blip r:embed="rId24"/>
          <a:stretch/>
        </p:blipFill>
        <p:spPr>
          <a:xfrm>
            <a:off x="4754520" y="454176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31" descr=""/>
          <p:cNvPicPr/>
          <p:nvPr/>
        </p:nvPicPr>
        <p:blipFill>
          <a:blip r:embed="rId25"/>
          <a:stretch/>
        </p:blipFill>
        <p:spPr>
          <a:xfrm>
            <a:off x="6181560" y="304164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32" descr=""/>
          <p:cNvPicPr/>
          <p:nvPr/>
        </p:nvPicPr>
        <p:blipFill>
          <a:blip r:embed="rId26"/>
          <a:stretch/>
        </p:blipFill>
        <p:spPr>
          <a:xfrm>
            <a:off x="4754520" y="1682640"/>
            <a:ext cx="774720" cy="65268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3" descr=""/>
          <p:cNvPicPr/>
          <p:nvPr/>
        </p:nvPicPr>
        <p:blipFill>
          <a:blip r:embed="rId27"/>
          <a:stretch/>
        </p:blipFill>
        <p:spPr>
          <a:xfrm>
            <a:off x="335916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34" descr=""/>
          <p:cNvPicPr/>
          <p:nvPr/>
        </p:nvPicPr>
        <p:blipFill>
          <a:blip r:embed="rId28"/>
          <a:stretch/>
        </p:blipFill>
        <p:spPr>
          <a:xfrm>
            <a:off x="371808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35" descr=""/>
          <p:cNvPicPr/>
          <p:nvPr/>
        </p:nvPicPr>
        <p:blipFill>
          <a:blip r:embed="rId29"/>
          <a:stretch/>
        </p:blipFill>
        <p:spPr>
          <a:xfrm>
            <a:off x="582768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36" descr=""/>
          <p:cNvPicPr/>
          <p:nvPr/>
        </p:nvPicPr>
        <p:blipFill>
          <a:blip r:embed="rId30"/>
          <a:stretch/>
        </p:blipFill>
        <p:spPr>
          <a:xfrm>
            <a:off x="4754520" y="204156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37" descr=""/>
          <p:cNvPicPr/>
          <p:nvPr/>
        </p:nvPicPr>
        <p:blipFill>
          <a:blip r:embed="rId31"/>
          <a:stretch/>
        </p:blipFill>
        <p:spPr>
          <a:xfrm>
            <a:off x="4602240" y="2992320"/>
            <a:ext cx="1085760" cy="9097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38" descr=""/>
          <p:cNvPicPr/>
          <p:nvPr/>
        </p:nvPicPr>
        <p:blipFill>
          <a:blip r:embed="rId32"/>
          <a:stretch/>
        </p:blipFill>
        <p:spPr>
          <a:xfrm>
            <a:off x="5430960" y="3041640"/>
            <a:ext cx="774720" cy="65232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39" descr=""/>
          <p:cNvPicPr/>
          <p:nvPr/>
        </p:nvPicPr>
        <p:blipFill>
          <a:blip r:embed="rId33"/>
          <a:stretch/>
        </p:blipFill>
        <p:spPr>
          <a:xfrm>
            <a:off x="4743360" y="2401920"/>
            <a:ext cx="773280" cy="65232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40" descr=""/>
          <p:cNvPicPr/>
          <p:nvPr/>
        </p:nvPicPr>
        <p:blipFill>
          <a:blip r:embed="rId34"/>
          <a:stretch/>
        </p:blipFill>
        <p:spPr>
          <a:xfrm>
            <a:off x="4078440" y="3114720"/>
            <a:ext cx="774720" cy="68256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1" descr=""/>
          <p:cNvPicPr/>
          <p:nvPr/>
        </p:nvPicPr>
        <p:blipFill>
          <a:blip r:embed="rId35"/>
          <a:stretch/>
        </p:blipFill>
        <p:spPr>
          <a:xfrm>
            <a:off x="4754520" y="3828960"/>
            <a:ext cx="774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1" descr=""/>
          <p:cNvPicPr/>
          <p:nvPr/>
        </p:nvPicPr>
        <p:blipFill>
          <a:blip r:embed="rId2"/>
          <a:stretch/>
        </p:blipFill>
        <p:spPr>
          <a:xfrm>
            <a:off x="3067200" y="154296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1000080" y="2643120"/>
            <a:ext cx="52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ля порівняння дробів, які мають різні чисельники і знаменники, необхідн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3"/>
          <a:stretch/>
        </p:blipFill>
        <p:spPr>
          <a:xfrm>
            <a:off x="5929200" y="50004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87" name="Выгнутая вниз стрелка 2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285840" y="1808280"/>
            <a:ext cx="621504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Якщо чисельник і знаменни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дробу розділити на одне й те саме натуральне число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  <a:ea typeface="Calibri"/>
              </a:rPr>
              <a:t>то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Прямоугольник 2" descr=""/>
          <p:cNvPicPr/>
          <p:nvPr/>
        </p:nvPicPr>
        <p:blipFill>
          <a:blip r:embed="rId2"/>
          <a:stretch/>
        </p:blipFill>
        <p:spPr>
          <a:xfrm>
            <a:off x="2925720" y="1328760"/>
            <a:ext cx="1513080" cy="1170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357960" y="928800"/>
            <a:ext cx="2622600" cy="3857400"/>
          </a:xfrm>
          <a:prstGeom prst="rect">
            <a:avLst/>
          </a:prstGeom>
          <a:ln w="0">
            <a:noFill/>
          </a:ln>
        </p:spPr>
      </p:pic>
      <p:sp>
        <p:nvSpPr>
          <p:cNvPr id="355" name="Выгнутая вниз стрелка 5"/>
          <p:cNvSpPr/>
          <p:nvPr/>
        </p:nvSpPr>
        <p:spPr>
          <a:xfrm>
            <a:off x="8286840" y="207180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2"/>
          <a:stretch/>
        </p:blipFill>
        <p:spPr>
          <a:xfrm>
            <a:off x="2639880" y="974880"/>
            <a:ext cx="1511280" cy="117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3"/>
          <p:cNvSpPr/>
          <p:nvPr/>
        </p:nvSpPr>
        <p:spPr>
          <a:xfrm>
            <a:off x="1000080" y="2357280"/>
            <a:ext cx="507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Якщо чисельник і знаменник дробу помножити на одне й те саме натуральне число, то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3"/>
          <a:stretch/>
        </p:blipFill>
        <p:spPr>
          <a:xfrm>
            <a:off x="5929200" y="57168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59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1" descr=""/>
          <p:cNvPicPr/>
          <p:nvPr/>
        </p:nvPicPr>
        <p:blipFill>
          <a:blip r:embed="rId2"/>
          <a:stretch/>
        </p:blipFill>
        <p:spPr>
          <a:xfrm>
            <a:off x="2494080" y="111600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3"/>
          <p:cNvSpPr/>
          <p:nvPr/>
        </p:nvSpPr>
        <p:spPr>
          <a:xfrm>
            <a:off x="1000080" y="2357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ілення чисельника і знаменника дробу на їх спільний дільник, відмінний від одиниці, називають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6000840" y="28584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63" name="Выгнутая вниз стрелка 5"/>
          <p:cNvSpPr/>
          <p:nvPr/>
        </p:nvSpPr>
        <p:spPr>
          <a:xfrm>
            <a:off x="8286840" y="185724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1" descr=""/>
          <p:cNvPicPr/>
          <p:nvPr/>
        </p:nvPicPr>
        <p:blipFill>
          <a:blip r:embed="rId2"/>
          <a:stretch/>
        </p:blipFill>
        <p:spPr>
          <a:xfrm>
            <a:off x="2706840" y="974880"/>
            <a:ext cx="1511280" cy="117144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3"/>
          <p:cNvSpPr/>
          <p:nvPr/>
        </p:nvSpPr>
        <p:spPr>
          <a:xfrm>
            <a:off x="928800" y="2143080"/>
            <a:ext cx="4857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Скороченням дробу називають ділення чисельника і знаменника дробу 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на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3"/>
          <a:stretch/>
        </p:blipFill>
        <p:spPr>
          <a:xfrm>
            <a:off x="5929200" y="50004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67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2"/>
          <a:stretch/>
        </p:blipFill>
        <p:spPr>
          <a:xfrm>
            <a:off x="2852640" y="118908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1071720" y="2500200"/>
            <a:ext cx="485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Дріб, чисельник і знаменник якого є взаємно простими числами називають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3"/>
          <a:stretch/>
        </p:blipFill>
        <p:spPr>
          <a:xfrm>
            <a:off x="5715000" y="78588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71" name="Выгнутая вниз стрелка 5"/>
          <p:cNvSpPr/>
          <p:nvPr/>
        </p:nvSpPr>
        <p:spPr>
          <a:xfrm>
            <a:off x="8001000" y="228600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1" descr=""/>
          <p:cNvPicPr/>
          <p:nvPr/>
        </p:nvPicPr>
        <p:blipFill>
          <a:blip r:embed="rId2"/>
          <a:stretch/>
        </p:blipFill>
        <p:spPr>
          <a:xfrm>
            <a:off x="2779560" y="111600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928800" y="2357280"/>
            <a:ext cx="50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Якщо скоротити дріб на найбільший спільний дільник чисельника і знаменника, то одержимо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3"/>
          <a:stretch/>
        </p:blipFill>
        <p:spPr>
          <a:xfrm>
            <a:off x="5786280" y="571680"/>
            <a:ext cx="3011760" cy="4429080"/>
          </a:xfrm>
          <a:prstGeom prst="rect">
            <a:avLst/>
          </a:prstGeom>
          <a:ln w="0">
            <a:noFill/>
          </a:ln>
        </p:spPr>
      </p:pic>
      <p:sp>
        <p:nvSpPr>
          <p:cNvPr id="375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Прямоугольник 1" descr=""/>
          <p:cNvPicPr/>
          <p:nvPr/>
        </p:nvPicPr>
        <p:blipFill>
          <a:blip r:embed="rId2"/>
          <a:stretch/>
        </p:blipFill>
        <p:spPr>
          <a:xfrm>
            <a:off x="2066760" y="1042920"/>
            <a:ext cx="1511640" cy="1170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1143000" y="2286000"/>
            <a:ext cx="414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Спільний знаменник двох простих дробів – це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1" descr=""/>
          <p:cNvPicPr/>
          <p:nvPr/>
        </p:nvPicPr>
        <p:blipFill>
          <a:blip r:embed="rId3"/>
          <a:stretch/>
        </p:blipFill>
        <p:spPr>
          <a:xfrm>
            <a:off x="5857920" y="35712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79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2"/>
          <a:stretch/>
        </p:blipFill>
        <p:spPr>
          <a:xfrm>
            <a:off x="2206800" y="1042920"/>
            <a:ext cx="1511280" cy="1170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1143000" y="214308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Найменший спільний знаменник двох дробів – це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3"/>
          <a:stretch/>
        </p:blipFill>
        <p:spPr>
          <a:xfrm>
            <a:off x="5715000" y="428760"/>
            <a:ext cx="3011400" cy="4429080"/>
          </a:xfrm>
          <a:prstGeom prst="rect">
            <a:avLst/>
          </a:prstGeom>
          <a:ln w="0">
            <a:noFill/>
          </a:ln>
        </p:spPr>
      </p:pic>
      <p:sp>
        <p:nvSpPr>
          <p:cNvPr id="383" name="Выгнутая вниз стрелка 5"/>
          <p:cNvSpPr/>
          <p:nvPr/>
        </p:nvSpPr>
        <p:spPr>
          <a:xfrm>
            <a:off x="8143920" y="2000160"/>
            <a:ext cx="857160" cy="500040"/>
          </a:xfrm>
          <a:custGeom>
            <a:avLst/>
            <a:gdLst>
              <a:gd name="textAreaLeft" fmla="*/ 167400 w 857160"/>
              <a:gd name="textAreaRight" fmla="*/ 627480 w 8571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-3392144"/>
                <a:lnTo>
                  <a:pt x="21332" y="5400"/>
                </a:lnTo>
                <a:lnTo>
                  <a:pt x="18450" y="0"/>
                </a:lnTo>
                <a:lnTo>
                  <a:pt x="15032" y="5400"/>
                </a:lnTo>
                <a:lnTo>
                  <a:pt x="16607" y="5400"/>
                </a:lnTo>
                <a:arcTo wR="8438" hR="21600" stAng="2007856" swAng="3137457"/>
                <a:lnTo>
                  <a:pt x="10013" y="21220"/>
                </a:lnTo>
                <a:arcTo wR="8438" hR="21600" stAng="5654687" swAng="5145313"/>
                <a:close/>
              </a:path>
              <a:path fill="darkenLess" w="21600" h="21600">
                <a:moveTo>
                  <a:pt x="0" y="0"/>
                </a:moveTo>
                <a:arcTo wR="8438" hR="21600" stAng="10800000" swAng="-5400000"/>
                <a:lnTo>
                  <a:pt x="11588" y="21600"/>
                </a:lnTo>
                <a:arcTo wR="8438" hR="21600" stAng="5400000" swAng="254687"/>
                <a:lnTo>
                  <a:pt x="10013" y="21220"/>
                </a:lnTo>
                <a:arcTo wR="8438" hR="21600" stAng="5654687" swAng="5145313"/>
                <a:close/>
              </a:path>
            </a:pathLst>
          </a:custGeom>
          <a:solidFill>
            <a:srgbClr val="7030a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6:11:13Z</dcterms:created>
  <dc:creator>Admin</dc:creator>
  <dc:description/>
  <dc:language>en-US</dc:language>
  <cp:lastModifiedBy>Admin</cp:lastModifiedBy>
  <dcterms:modified xsi:type="dcterms:W3CDTF">2013-10-22T07:39:4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b000000000001024140</vt:lpwstr>
  </property>
</Properties>
</file>