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7.jpeg" ContentType="image/jpeg"/>
  <Override PartName="/ppt/media/image16.jpeg" ContentType="image/jpeg"/>
  <Override PartName="/ppt/media/image15.png" ContentType="image/png"/>
  <Override PartName="/ppt/media/image3.wmf" ContentType="image/x-wmf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E2C-7AC0-4DE7-9A40-3735B333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3AC-6382-4880-BA1C-C3571A37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036-9FA1-4CEB-8191-73F46700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DFA-0785-4E15-A000-E58C5457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353-0F94-4736-9A6B-BBE401BE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A43-30A5-44BF-BFDD-D4360995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3FD-6DA6-480F-9455-56C681B6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920-D5F7-45C5-A1EC-9315C7D4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7D9-13A0-4831-8245-0A8A29B1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669-2796-4813-85CF-7AB952BB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270-F7B7-43B8-8470-0035CFC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5D3-AE4E-4075-8851-50C66FE1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417-E9D5-4300-8868-4555731C4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33"/>
                </a:solidFill>
                <a:latin typeface="Times New Roman"/>
              </a:rPr>
              <a:t>ТЕМА УРОКУ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3300"/>
                </a:solidFill>
                <a:latin typeface="Monotype Corsiva"/>
              </a:rPr>
              <a:t>“ </a:t>
            </a:r>
            <a:r>
              <a:rPr b="1" i="1" lang="uk-UA" sz="6000" spc="-1" strike="noStrike">
                <a:solidFill>
                  <a:srgbClr val="ff3300"/>
                </a:solidFill>
                <a:latin typeface="Monotype Corsiva"/>
              </a:rPr>
              <a:t>Похідна та її застосування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Monotype Corsiva"/>
              </a:rPr>
              <a:t>урок алгебри 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Monotype Corsiva"/>
              </a:rPr>
              <a:t>початків аналізу в 11 клас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Завдання для другої груп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rcRect l="0" t="0" r="13" b="87"/>
          <a:stretch/>
        </p:blipFill>
        <p:spPr>
          <a:xfrm>
            <a:off x="2340000" y="2924280"/>
            <a:ext cx="5400720" cy="3098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11280" y="141300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539640" y="1268280"/>
            <a:ext cx="770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рисунку зображений графік функці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та дотичні до нього в точках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 Користуючись геометричним змістом похідної, знай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ject 8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1511280" cy="37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Завдання для третьої груп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рисунку зображений графік функці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та дотичні до нього в точках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 Користуючись геометричним змістом похідної, знай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8" descr=""/>
          <p:cNvPicPr/>
          <p:nvPr/>
        </p:nvPicPr>
        <p:blipFill>
          <a:blip r:embed="rId2"/>
          <a:stretch/>
        </p:blipFill>
        <p:spPr>
          <a:xfrm>
            <a:off x="6443640" y="2421000"/>
            <a:ext cx="1368360" cy="336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635280" y="3141720"/>
            <a:ext cx="446580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Завдання для четвертої груп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File0083"/>
          <p:cNvPicPr/>
          <p:nvPr/>
        </p:nvPicPr>
        <p:blipFill>
          <a:blip r:embed="rId2"/>
          <a:srcRect l="0" t="0" r="-59" b="-27"/>
          <a:stretch/>
        </p:blipFill>
        <p:spPr>
          <a:xfrm>
            <a:off x="2268360" y="2637000"/>
            <a:ext cx="5185080" cy="3840120"/>
          </a:xfrm>
          <a:prstGeom prst="rect">
            <a:avLst/>
          </a:prstGeom>
          <a:ln w="0">
            <a:noFill/>
          </a:ln>
        </p:spPr>
      </p:pic>
      <p:pic>
        <p:nvPicPr>
          <p:cNvPr id="83" name="Object 6" descr=""/>
          <p:cNvPicPr/>
          <p:nvPr/>
        </p:nvPicPr>
        <p:blipFill>
          <a:blip r:embed="rId3"/>
          <a:stretch/>
        </p:blipFill>
        <p:spPr>
          <a:xfrm>
            <a:off x="6372360" y="2133720"/>
            <a:ext cx="1655640" cy="40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684360" y="1341360"/>
            <a:ext cx="770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рисунку зображений графік функці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та дотичні до нього в точках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 Користуючись геометричним змістом похідної, знай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Times New Roman"/>
              </a:rPr>
              <a:t>Задача № 11.16 (3)</a:t>
            </a:r>
            <a:br>
              <a:rPr sz="2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підручник для поглибленого вивчення математики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“Алгебра11” під ред. Мерзляка А.Г.)</a:t>
            </a:r>
            <a:br>
              <a:rPr sz="1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ладіть рівняння дотичної до графіка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ункції                                        , якщо ця дотична паралельна прямій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у = 2х + 1.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3141720"/>
            <a:ext cx="7704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Times New Roman"/>
              </a:rPr>
              <a:t>Задача № 11.2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підручник для поглибленого вивчення математики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“Алгебра11” під ред. Мерзляка А.Г.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графіку функції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найдіть точку, дотична в якій перпендикулярна до прямо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у – 2х + 1 = 0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9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328140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95640" y="4508640"/>
            <a:ext cx="18734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Розв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’</a:t>
            </a: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язування задач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268280"/>
            <a:ext cx="7453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№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1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теріальна точка рухається за законо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, д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вимірюється в метрах, 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 секундах. Знайти значенн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у секундах), при якому миттєва швидкість матеріальної точки дорівнює 64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/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. (ЗНО – 20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№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2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іло рухається прямолінійно за законо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час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вимірюється в секундах, шлях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 метрах). Визначити прискорення його руху в момен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= 10 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ЗНО –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 №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3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ві матеріальні точки рухаються за законами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uk-UA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12 + 1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uk-UA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5 – 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. Яку відстань пройде перша точка з моменту, коли швидкості цих двох точок стануть однаковими? (пробне ЗНО –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 №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4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теріальна точка рухається за законо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+2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 який момент часу швидкість точки дорівню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 км/год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ЗНО –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7194600" y="2421000"/>
            <a:ext cx="1369800" cy="62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0000"/>
                </a:solidFill>
                <a:latin typeface="Times New Roman"/>
              </a:rPr>
              <a:t>Логічний лабіри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694320" y="271368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3200400" y="2867040"/>
            <a:ext cx="14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4" descr=""/>
          <p:cNvPicPr/>
          <p:nvPr/>
        </p:nvPicPr>
        <p:blipFill>
          <a:blip r:embed="rId2"/>
          <a:srcRect l="5144" t="0" r="50003" b="0"/>
          <a:stretch/>
        </p:blipFill>
        <p:spPr>
          <a:xfrm>
            <a:off x="555480" y="1554120"/>
            <a:ext cx="392436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5" descr=""/>
          <p:cNvPicPr/>
          <p:nvPr/>
        </p:nvPicPr>
        <p:blipFill>
          <a:blip r:embed="rId3"/>
          <a:srcRect l="3017" t="0" r="51536" b="14258"/>
          <a:stretch/>
        </p:blipFill>
        <p:spPr>
          <a:xfrm>
            <a:off x="4479840" y="1538280"/>
            <a:ext cx="4064040" cy="232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" descr=""/>
          <p:cNvPicPr/>
          <p:nvPr/>
        </p:nvPicPr>
        <p:blipFill>
          <a:blip r:embed="rId4"/>
          <a:srcRect l="3148" t="0" r="29431" b="14524"/>
          <a:stretch/>
        </p:blipFill>
        <p:spPr>
          <a:xfrm>
            <a:off x="2050920" y="4005360"/>
            <a:ext cx="639144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2340000" y="3068640"/>
            <a:ext cx="1871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n2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4203720" y="5445000"/>
            <a:ext cx="1871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s x – x si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6372360" y="3044880"/>
            <a:ext cx="187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+ 1/cos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6262560" y="5448240"/>
            <a:ext cx="187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2 sin x – x cos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397400" y="3246480"/>
            <a:ext cx="30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476360" y="836640"/>
            <a:ext cx="6840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Не махай на все рукою,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Не лінуйся, а учись,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Бо чого навчишся в школі,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Знадобиться ще колись!”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763640" y="1628640"/>
            <a:ext cx="6264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b00000"/>
                </a:solidFill>
                <a:latin typeface="Times New Roman"/>
              </a:rPr>
              <a:t>Домашнє завдання: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Повторити пункти 9 – 1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Виконати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11.17, № 11.22, № 11. 2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6920" y="1341360"/>
            <a:ext cx="763272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жаю    успіхів!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755640" y="177336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узагальнити та систематизувати знання з теми “Похідна”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удосконалити вміння у застосуванні цих знань при розв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язуванні задач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иховувати цікавість до математики, наполегливість і уважність, вміння працювати в колективі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розвивати творче та логічне мислення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5280" y="549360"/>
            <a:ext cx="8064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b00000"/>
                </a:solidFill>
                <a:latin typeface="Calibri"/>
              </a:rPr>
              <a:t>Мета уроку: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Розум людськи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має три ключі, які все відкривают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b00000"/>
                </a:solidFill>
                <a:latin typeface="Times New Roman"/>
              </a:rPr>
              <a:t>знання, думка, уява.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4800" spc="-1" strike="noStrike">
                <a:solidFill>
                  <a:srgbClr val="000000"/>
                </a:solidFill>
                <a:latin typeface="Times New Roman"/>
              </a:rPr>
              <a:t>Віктор Гю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50920" y="1341360"/>
            <a:ext cx="86421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Дайте означення похідної функці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f(x)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в точц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Який механічний зміст похідної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Який геометричний зміст похідної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формулюйте теорему про похідну суми двох функцій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формулюйте теорему про похідну добутку двох функцій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формулюйте теорему про похідну частки двох функцій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пишіть рівняння дотичної, проведеної до графіка функції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у точці з абсцисо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45720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990033"/>
                </a:solidFill>
                <a:latin typeface="Calibri"/>
              </a:rPr>
              <a:t>Бліцопитування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Объект 1" descr=""/>
          <p:cNvPicPr/>
          <p:nvPr/>
        </p:nvPicPr>
        <p:blipFill>
          <a:blip r:embed="rId2"/>
          <a:stretch/>
        </p:blipFill>
        <p:spPr>
          <a:xfrm>
            <a:off x="8194680" y="1325520"/>
            <a:ext cx="525600" cy="58104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2" descr=""/>
          <p:cNvPicPr/>
          <p:nvPr/>
        </p:nvPicPr>
        <p:blipFill>
          <a:blip r:embed="rId3"/>
          <a:stretch/>
        </p:blipFill>
        <p:spPr>
          <a:xfrm>
            <a:off x="7164360" y="5157720"/>
            <a:ext cx="3938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80000"/>
                </a:solidFill>
                <a:latin typeface="Times New Roman"/>
              </a:rPr>
              <a:t>До відкриття похідної незалежно один від одного прийшли два  відомих учених.</a:t>
            </a:r>
            <a:br>
              <a:rPr sz="2800"/>
            </a:br>
            <a:r>
              <a:rPr b="1" lang="uk-UA" sz="2800" spc="-1" strike="noStrike">
                <a:solidFill>
                  <a:srgbClr val="a80000"/>
                </a:solidFill>
                <a:latin typeface="Times New Roman"/>
              </a:rPr>
              <a:t>- </a:t>
            </a: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Ісаак Ньютон, означаючи похідну, виходив із задач механі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" descr="480px-Лейбниц_цитата_"/>
          <p:cNvPicPr/>
          <p:nvPr/>
        </p:nvPicPr>
        <p:blipFill>
          <a:blip r:embed="rId2"/>
          <a:stretch/>
        </p:blipFill>
        <p:spPr>
          <a:xfrm>
            <a:off x="971640" y="2349360"/>
            <a:ext cx="2685960" cy="3383280"/>
          </a:xfrm>
          <a:prstGeom prst="rect">
            <a:avLst/>
          </a:prstGeom>
          <a:ln w="76320">
            <a:solidFill>
              <a:srgbClr val="ffc197"/>
            </a:solidFill>
            <a:miter/>
          </a:ln>
        </p:spPr>
      </p:pic>
      <p:sp>
        <p:nvSpPr>
          <p:cNvPr id="52" name="Rectangle 6"/>
          <p:cNvSpPr/>
          <p:nvPr/>
        </p:nvSpPr>
        <p:spPr>
          <a:xfrm>
            <a:off x="4067280" y="2781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дача про миттєву швидкість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780000" y="299736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ject 12" descr=""/>
          <p:cNvPicPr/>
          <p:nvPr/>
        </p:nvPicPr>
        <p:blipFill>
          <a:blip r:embed="rId3"/>
          <a:stretch/>
        </p:blipFill>
        <p:spPr>
          <a:xfrm>
            <a:off x="4305240" y="3716280"/>
            <a:ext cx="4205520" cy="12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nyuton_big"/>
          <p:cNvPicPr/>
          <p:nvPr/>
        </p:nvPicPr>
        <p:blipFill>
          <a:blip r:embed="rId2"/>
          <a:stretch/>
        </p:blipFill>
        <p:spPr>
          <a:xfrm>
            <a:off x="468360" y="2205000"/>
            <a:ext cx="2971800" cy="3705120"/>
          </a:xfrm>
          <a:prstGeom prst="rect">
            <a:avLst/>
          </a:prstGeom>
          <a:ln w="57240">
            <a:solidFill>
              <a:srgbClr val="ffc197"/>
            </a:solidFill>
            <a:miter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4284720" y="2565360"/>
            <a:ext cx="3205080" cy="66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3744720" cy="719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3492360" y="4437000"/>
            <a:ext cx="53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33"/>
                </a:solidFill>
                <a:latin typeface="Times New Roman"/>
              </a:rPr>
              <a:t>рівняння дотичної до графіка  функці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33"/>
                </a:solidFill>
                <a:latin typeface="Times New Roman"/>
              </a:rPr>
              <a:t>                  </a:t>
            </a:r>
            <a:r>
              <a:rPr b="0" lang="uk-UA" sz="2400" spc="-1" strike="noStrike">
                <a:solidFill>
                  <a:srgbClr val="990033"/>
                </a:solidFill>
                <a:latin typeface="Times New Roman"/>
              </a:rPr>
              <a:t>в точці з абсцисою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7380360" y="4724280"/>
            <a:ext cx="39528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3780000" y="2060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00000"/>
                </a:solidFill>
                <a:latin typeface="Times New Roman"/>
              </a:rPr>
              <a:t>Задача про дотичну до криво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39640" y="62064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-  </a:t>
            </a: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Готфрід Вільгельм Лейбніц, означаючи похідну, виходив із геометричних задач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"/>
          <p:cNvPicPr/>
          <p:nvPr/>
        </p:nvPicPr>
        <p:blipFill>
          <a:blip r:embed="rId6"/>
          <a:stretch/>
        </p:blipFill>
        <p:spPr>
          <a:xfrm>
            <a:off x="3708360" y="4869000"/>
            <a:ext cx="115092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Вперше загальний спосіб побудови дотичної до кривої був викладений у “Геометрії” Дека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803040" y="2227680"/>
            <a:ext cx="467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Більш загальн</a:t>
            </a:r>
            <a:r>
              <a:rPr b="1" lang="uk-UA" sz="2400" spc="-1" strike="noStrike">
                <a:solidFill>
                  <a:srgbClr val="b00000"/>
                </a:solidFill>
                <a:latin typeface="Times New Roman"/>
              </a:rPr>
              <a:t>им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 і важливим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для розвитку диференціального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00000"/>
                </a:solidFill>
                <a:latin typeface="Times New Roman"/>
              </a:rPr>
              <a:t>числення 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 був метод побудови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дотичних, який запропонував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b00000"/>
                </a:solidFill>
                <a:latin typeface="Times New Roman"/>
              </a:rPr>
              <a:t>єр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  Ферма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200px-Pierre_de_Fermat"/>
          <p:cNvPicPr/>
          <p:nvPr/>
        </p:nvPicPr>
        <p:blipFill>
          <a:blip r:embed="rId2"/>
          <a:stretch/>
        </p:blipFill>
        <p:spPr>
          <a:xfrm>
            <a:off x="611280" y="2205000"/>
            <a:ext cx="2539800" cy="34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А сам термін «похідної» і позначення </a:t>
            </a:r>
            <a:r>
              <a:rPr b="1" i="1" lang="uk-UA" sz="2800" spc="-1" strike="noStrike">
                <a:solidFill>
                  <a:srgbClr val="990033"/>
                </a:solidFill>
                <a:latin typeface="Times New Roman"/>
              </a:rPr>
              <a:t>f `(x)</a:t>
            </a: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 ввів французький математик Жозеф Луї Лагранж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%D0%9B%D0%B0%D0%B3%D1%80%D0%B0%D0%BD%D0%B6"/>
          <p:cNvPicPr/>
          <p:nvPr/>
        </p:nvPicPr>
        <p:blipFill>
          <a:blip r:embed="rId2"/>
          <a:stretch/>
        </p:blipFill>
        <p:spPr>
          <a:xfrm>
            <a:off x="3132000" y="2276640"/>
            <a:ext cx="307656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Завдання для першої груп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18" descr=""/>
          <p:cNvPicPr/>
          <p:nvPr/>
        </p:nvPicPr>
        <p:blipFill>
          <a:blip r:embed="rId2"/>
          <a:stretch/>
        </p:blipFill>
        <p:spPr>
          <a:xfrm>
            <a:off x="6156360" y="2060640"/>
            <a:ext cx="1512720" cy="371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3203640" y="278136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7"/>
          <p:cNvSpPr/>
          <p:nvPr/>
        </p:nvSpPr>
        <p:spPr>
          <a:xfrm>
            <a:off x="468360" y="1268280"/>
            <a:ext cx="770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рисунку зображений графік функці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та дотичні до нього в точках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 Користуючись геометричним змістом похідної, знай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Ира</dc:creator>
  <dc:description/>
  <dc:language>en-US</dc:language>
  <cp:lastModifiedBy>Наташа</cp:lastModifiedBy>
  <dcterms:modified xsi:type="dcterms:W3CDTF">2013-10-14T12:25:12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8000000000001024140</vt:lpwstr>
  </property>
</Properties>
</file>