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7.jpeg" ContentType="image/jpeg"/>
  <Override PartName="/ppt/media/image16.jpeg" ContentType="image/jpeg"/>
  <Override PartName="/ppt/media/image15.png" ContentType="image/png"/>
  <Override PartName="/ppt/media/image3.wmf" ContentType="image/x-wmf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5F4-8D2C-4E29-874C-6F27C1F8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28E-C066-415C-8FAD-808E7BAE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6C1-06F8-4E63-A4A2-47EC25E5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BD7-5830-4298-B123-6274C492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E1F-B8B8-4191-99BE-5B7CD48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E38-9240-4F2F-A3D3-F251172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BBC-0800-4A21-AC53-011BF23D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922-1011-4B59-8AAA-0502F7E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351-BEF0-49E1-B422-3450C2B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122-AC1F-4E2A-B88D-62FE47D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596-8150-4355-B480-E998301C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F0C-C68C-40A3-A578-C183059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8DD-5593-437D-A54F-6D2F0EEAA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33"/>
                </a:solidFill>
                <a:latin typeface="Times New Roman"/>
              </a:rPr>
              <a:t>ТЕМА УРОК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3300"/>
                </a:solidFill>
                <a:latin typeface="Monotype Corsiva"/>
              </a:rPr>
              <a:t>“ </a:t>
            </a:r>
            <a:r>
              <a:rPr b="1" i="1" lang="uk-UA" sz="6000" spc="-1" strike="noStrike">
                <a:solidFill>
                  <a:srgbClr val="ff3300"/>
                </a:solidFill>
                <a:latin typeface="Monotype Corsiva"/>
              </a:rPr>
              <a:t>Похідна та її застосування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Monotype Corsiva"/>
              </a:rPr>
              <a:t>урок алгебри 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Monotype Corsiva"/>
              </a:rPr>
              <a:t>початків аналізу в 11 клас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друг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rcRect l="0" t="0" r="13" b="87"/>
          <a:stretch/>
        </p:blipFill>
        <p:spPr>
          <a:xfrm>
            <a:off x="2340000" y="2924280"/>
            <a:ext cx="5400720" cy="3098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11280" y="1413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39640" y="1268280"/>
            <a:ext cx="770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8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51128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треть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8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446580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четверт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File0083"/>
          <p:cNvPicPr/>
          <p:nvPr/>
        </p:nvPicPr>
        <p:blipFill>
          <a:blip r:embed="rId2"/>
          <a:srcRect l="0" t="0" r="-59" b="-27"/>
          <a:stretch/>
        </p:blipFill>
        <p:spPr>
          <a:xfrm>
            <a:off x="2268360" y="2637000"/>
            <a:ext cx="5185080" cy="3840120"/>
          </a:xfrm>
          <a:prstGeom prst="rect">
            <a:avLst/>
          </a:prstGeom>
          <a:ln w="0">
            <a:noFill/>
          </a:ln>
        </p:spPr>
      </p:pic>
      <p:pic>
        <p:nvPicPr>
          <p:cNvPr id="83" name="Object 6" descr=""/>
          <p:cNvPicPr/>
          <p:nvPr/>
        </p:nvPicPr>
        <p:blipFill>
          <a:blip r:embed="rId3"/>
          <a:stretch/>
        </p:blipFill>
        <p:spPr>
          <a:xfrm>
            <a:off x="6372360" y="2133720"/>
            <a:ext cx="1655640" cy="40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684360" y="1341360"/>
            <a:ext cx="770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800000"/>
                </a:solidFill>
                <a:latin typeface="Times New Roman"/>
              </a:rPr>
              <a:t>Задача № 11.16 (3)</a:t>
            </a:r>
            <a:br>
              <a:rPr sz="2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підручник для поглибленого вивчення математик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“Алгебра11” під ред. Мерзляка А.Г.)</a:t>
            </a:r>
            <a:br>
              <a:rPr sz="1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ладіть рівняння дотичної до графік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ункції                                        , якщо ця дотична паралельна прямій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= 2х + 1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7704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Times New Roman"/>
              </a:rPr>
              <a:t>Задача № 11.2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підручник для поглибленого вивчення математик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“Алгебра11” під ред. Мерзляка А.Г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графіку функції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найдіть точку, дотична в якій перпендикулярна до прямо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 – 2х + 1 = 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bject 9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32814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95640" y="4508640"/>
            <a:ext cx="18734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Розв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’</a:t>
            </a: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язування задач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4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1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теріальна точка рухається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, д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вимірюється в метрах, 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секундах. Знайти значе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у секундах), при якому миттєва швидкість матеріальної точки дорівнює 64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/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. (ЗНО – 20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іло рухається прямолінійно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час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вимірюється в секундах, шля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метрах). Визначити прискорення його руху в момен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 10 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ЗНО –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 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3.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ві матеріальні точки рухаються за законами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12 + 1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uk-U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5 – 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. Яку відстань пройде перша точка з моменту, коли швидкості цих двох точок стануть однаковими? (пробне ЗНО –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 №</a:t>
            </a:r>
            <a:r>
              <a:rPr b="1" lang="uk-UA" sz="20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теріальна точка рухається за законо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+2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який момент часу швидкість точки дорівню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 км/год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ЗНО –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7194600" y="2421000"/>
            <a:ext cx="1369800" cy="6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00"/>
                </a:solidFill>
                <a:latin typeface="Times New Roman"/>
              </a:rPr>
              <a:t>Логічний лабіри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694320" y="271368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200400" y="2867040"/>
            <a:ext cx="14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4" descr=""/>
          <p:cNvPicPr/>
          <p:nvPr/>
        </p:nvPicPr>
        <p:blipFill>
          <a:blip r:embed="rId2"/>
          <a:srcRect l="5144" t="0" r="50003" b="0"/>
          <a:stretch/>
        </p:blipFill>
        <p:spPr>
          <a:xfrm>
            <a:off x="555480" y="1554120"/>
            <a:ext cx="392436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5" descr=""/>
          <p:cNvPicPr/>
          <p:nvPr/>
        </p:nvPicPr>
        <p:blipFill>
          <a:blip r:embed="rId3"/>
          <a:srcRect l="3017" t="0" r="51536" b="14258"/>
          <a:stretch/>
        </p:blipFill>
        <p:spPr>
          <a:xfrm>
            <a:off x="4479840" y="1538280"/>
            <a:ext cx="4064040" cy="23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"/>
          <p:cNvPicPr/>
          <p:nvPr/>
        </p:nvPicPr>
        <p:blipFill>
          <a:blip r:embed="rId4"/>
          <a:srcRect l="3148" t="0" r="29431" b="14524"/>
          <a:stretch/>
        </p:blipFill>
        <p:spPr>
          <a:xfrm>
            <a:off x="2050920" y="4005360"/>
            <a:ext cx="639144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2340000" y="3068640"/>
            <a:ext cx="1871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2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4203720" y="5445000"/>
            <a:ext cx="1871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s x – x si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6372360" y="304488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+ 1/cos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6262560" y="5448240"/>
            <a:ext cx="187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 2 sin x – x cos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7400" y="3246480"/>
            <a:ext cx="30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76360" y="836640"/>
            <a:ext cx="6840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махай на все рукою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Не лінуйся, а учись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Бо чого навчишся в школі,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Знадобиться ще колись!”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63640" y="16286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b00000"/>
                </a:solidFill>
                <a:latin typeface="Times New Roman"/>
              </a:rPr>
              <a:t>Домашнє завдання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Повторити пункти 9 – 1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Виконати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11.17, № 11.22, № 11. 2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6920" y="1341360"/>
            <a:ext cx="763272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жаю    успіхів!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177336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загальнити та систематизувати знання з теми “Похідна”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досконалити вміння у застосуванні цих знань при розв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язуванні задач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иховувати цікавість до математики, наполегливість і уважність, вміння працювати в колективі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розвивати творче та логічне мислення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5280" y="549360"/>
            <a:ext cx="8064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00000"/>
                </a:solidFill>
                <a:latin typeface="Calibri"/>
              </a:rPr>
              <a:t>Мета уроку: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Розум людськи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має три ключі, які все відкривают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b00000"/>
                </a:solidFill>
                <a:latin typeface="Times New Roman"/>
              </a:rPr>
              <a:t>знання, думка, уява.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Віктор Гю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50920" y="1341360"/>
            <a:ext cx="864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Дайте означення похідної функці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(x)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в точц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кий механічний зміст похідної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кий геометричний зміст похідної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суми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добутку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формулюйте теорему про похідну частки двох функцій;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апишіть рівняння дотичної, проведеної до графіка функці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у точці з абсцисою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5720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33"/>
                </a:solidFill>
                <a:latin typeface="Calibri"/>
              </a:rPr>
              <a:t>Бліцопитування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Объект 1" descr=""/>
          <p:cNvPicPr/>
          <p:nvPr/>
        </p:nvPicPr>
        <p:blipFill>
          <a:blip r:embed="rId2"/>
          <a:stretch/>
        </p:blipFill>
        <p:spPr>
          <a:xfrm>
            <a:off x="8194680" y="1325520"/>
            <a:ext cx="52560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2" descr=""/>
          <p:cNvPicPr/>
          <p:nvPr/>
        </p:nvPicPr>
        <p:blipFill>
          <a:blip r:embed="rId3"/>
          <a:stretch/>
        </p:blipFill>
        <p:spPr>
          <a:xfrm>
            <a:off x="7164360" y="5157720"/>
            <a:ext cx="3938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80000"/>
                </a:solidFill>
                <a:latin typeface="Times New Roman"/>
              </a:rPr>
              <a:t>До відкриття похідної незалежно один від одного прийшли два  відомих учених.</a:t>
            </a:r>
            <a:br>
              <a:rPr sz="2800"/>
            </a:br>
            <a:r>
              <a:rPr b="1" lang="uk-UA" sz="2800" spc="-1" strike="noStrike">
                <a:solidFill>
                  <a:srgbClr val="a8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Ісаак Ньютон, означаючи похідну, виходив із задач механі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" descr="480px-Лейбниц_цитата_"/>
          <p:cNvPicPr/>
          <p:nvPr/>
        </p:nvPicPr>
        <p:blipFill>
          <a:blip r:embed="rId2"/>
          <a:stretch/>
        </p:blipFill>
        <p:spPr>
          <a:xfrm>
            <a:off x="971640" y="2349360"/>
            <a:ext cx="2685960" cy="3383280"/>
          </a:xfrm>
          <a:prstGeom prst="rect">
            <a:avLst/>
          </a:prstGeom>
          <a:ln w="76320">
            <a:solidFill>
              <a:srgbClr val="ffc197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4067280" y="278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дача про миттєву швидкість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0000" y="299736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12" descr=""/>
          <p:cNvPicPr/>
          <p:nvPr/>
        </p:nvPicPr>
        <p:blipFill>
          <a:blip r:embed="rId3"/>
          <a:stretch/>
        </p:blipFill>
        <p:spPr>
          <a:xfrm>
            <a:off x="4305240" y="3716280"/>
            <a:ext cx="420552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nyuton_big"/>
          <p:cNvPicPr/>
          <p:nvPr/>
        </p:nvPicPr>
        <p:blipFill>
          <a:blip r:embed="rId2"/>
          <a:stretch/>
        </p:blipFill>
        <p:spPr>
          <a:xfrm>
            <a:off x="468360" y="2205000"/>
            <a:ext cx="2971800" cy="3705120"/>
          </a:xfrm>
          <a:prstGeom prst="rect">
            <a:avLst/>
          </a:prstGeom>
          <a:ln w="57240">
            <a:solidFill>
              <a:srgbClr val="ffc197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3205080" cy="66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3744720" cy="71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3492360" y="4437000"/>
            <a:ext cx="53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рівняння дотичної до графіка  функці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                  </a:t>
            </a:r>
            <a:r>
              <a:rPr b="0" lang="uk-UA" sz="2400" spc="-1" strike="noStrike">
                <a:solidFill>
                  <a:srgbClr val="990033"/>
                </a:solidFill>
                <a:latin typeface="Times New Roman"/>
              </a:rPr>
              <a:t>в точці з абсцисою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7380360" y="4724280"/>
            <a:ext cx="39528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3780000" y="2060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Задача про дотичну до криво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9640" y="62064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990033"/>
                </a:solidFill>
                <a:latin typeface="Times New Roman"/>
              </a:rPr>
              <a:t>-  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Готфрід Вільгельм Лейбніц, означаючи похідну, виходив із геометричних задач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6"/>
          <a:stretch/>
        </p:blipFill>
        <p:spPr>
          <a:xfrm>
            <a:off x="3708360" y="4869000"/>
            <a:ext cx="115092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Вперше загальний спосіб побудови дотичної до кривої був викладений у “Геометрії” Дека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803040" y="2227680"/>
            <a:ext cx="467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Більш загальн</a:t>
            </a: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им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і важливим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для розвитку диференціального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числення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був метод побудови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дотичних, який запропонував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b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b00000"/>
                </a:solidFill>
                <a:latin typeface="Times New Roman"/>
              </a:rPr>
              <a:t>єр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  Ферма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200px-Pierre_de_Fermat"/>
          <p:cNvPicPr/>
          <p:nvPr/>
        </p:nvPicPr>
        <p:blipFill>
          <a:blip r:embed="rId2"/>
          <a:stretch/>
        </p:blipFill>
        <p:spPr>
          <a:xfrm>
            <a:off x="611280" y="2205000"/>
            <a:ext cx="253980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А сам термін «похідної» і позначення </a:t>
            </a:r>
            <a:r>
              <a:rPr b="1" i="1" lang="uk-UA" sz="2800" spc="-1" strike="noStrike">
                <a:solidFill>
                  <a:srgbClr val="990033"/>
                </a:solidFill>
                <a:latin typeface="Times New Roman"/>
              </a:rPr>
              <a:t>f `(x)</a:t>
            </a:r>
            <a:r>
              <a:rPr b="1" lang="uk-UA" sz="2800" spc="-1" strike="noStrike">
                <a:solidFill>
                  <a:srgbClr val="990033"/>
                </a:solidFill>
                <a:latin typeface="Times New Roman"/>
              </a:rPr>
              <a:t> ввів французький математик Жозеф Луї Лагранж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%D0%9B%D0%B0%D0%B3%D1%80%D0%B0%D0%BD%D0%B6"/>
          <p:cNvPicPr/>
          <p:nvPr/>
        </p:nvPicPr>
        <p:blipFill>
          <a:blip r:embed="rId2"/>
          <a:stretch/>
        </p:blipFill>
        <p:spPr>
          <a:xfrm>
            <a:off x="3132000" y="2276640"/>
            <a:ext cx="30765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00"/>
                </a:solidFill>
                <a:latin typeface="Times New Roman"/>
              </a:rPr>
              <a:t>Завдання для першої груп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18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1512720" cy="371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468360" y="1268280"/>
            <a:ext cx="770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 рисунку зображений графік функці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та дотичні до нього в точках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uk-UA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Користуючись геометричним змістом похідної, знай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Ира</dc:creator>
  <dc:description/>
  <dc:language>en-US</dc:language>
  <cp:lastModifiedBy>Наташа</cp:lastModifiedBy>
  <dcterms:modified xsi:type="dcterms:W3CDTF">2013-10-14T12:25:12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8000000000001024140</vt:lpwstr>
  </property>
</Properties>
</file>