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63.png" ContentType="image/png"/>
  <Override PartName="/ppt/media/image26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0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3.png" ContentType="image/png"/>
  <Override PartName="/ppt/media/image34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  <p:sldId id="273" r:id="rId55"/>
    <p:sldId id="274" r:id="rId56"/>
    <p:sldId id="275" r:id="rId57"/>
    <p:sldId id="276" r:id="rId58"/>
    <p:sldId id="277" r:id="rId59"/>
    <p:sldId id="278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slide" Target="slides/slide18.xml"/><Relationship Id="rId56" Type="http://schemas.openxmlformats.org/officeDocument/2006/relationships/slide" Target="slides/slide19.xml"/><Relationship Id="rId57" Type="http://schemas.openxmlformats.org/officeDocument/2006/relationships/slide" Target="slides/slide20.xml"/><Relationship Id="rId58" Type="http://schemas.openxmlformats.org/officeDocument/2006/relationships/slide" Target="slides/slide21.xml"/><Relationship Id="rId59" Type="http://schemas.openxmlformats.org/officeDocument/2006/relationships/slide" Target="slides/slide22.xml"/><Relationship Id="rId60" Type="http://schemas.openxmlformats.org/officeDocument/2006/relationships/slide" Target="slides/slide23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021-30D3-4B94-AF97-8C218B9D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70D-4105-4A10-B73F-FDE747D0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93642-76F8-4124-B563-20F1F86E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82706-45F3-43F2-9382-902E8CA0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7DCC1-E179-420E-96EA-A5B49770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F8438-C8CC-46D2-B5D6-C32D9405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38FD5-FFB9-4F58-AEAB-0966551D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3512F-031F-4B7C-93C1-78D282B3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98C0A-19FE-4599-8954-7BE49A71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1CF69-26AE-445E-BC34-DC236DFE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CA416-602C-4AB3-96E7-3872F69D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585D2-F23F-4DF1-A3F9-90D5A6F2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C049-FA26-4B90-9623-A8BBAFEB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07F3F-7A74-4498-8BA1-0D6CAD41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4368C-FB34-421F-AEE7-3286988A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EE4A3-BDA6-4EEA-8F81-E720151B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C71A8-0191-4605-8A5D-D01CDD1A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572F6-FEA4-4946-953F-3CABE60A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A12B6-11D1-4D78-BA55-12DC6FF1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4891B-E113-4960-974D-9696222C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8B115-59CF-4E69-B5DB-86FD0785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A8B44-0793-4EEF-AB84-35245FE0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8A103-DE16-4946-B7A5-B27337B6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4867-EFB1-4E27-933A-8A38CCD4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DE551-10E2-4AF9-B6CC-EEC69326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A330A3-B9DF-4E0C-A40E-E11202AB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366FB4-35D8-493A-BA1F-57787119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F29EC7-516E-41C7-BF87-2018F8FE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1CC8D6-5D0C-4539-A547-E4D7EEA7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612DED-D754-4323-90EC-5F68B08C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684420-003B-4077-872D-EFC8C958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93EB4D-69E3-44EC-8A08-9EFA02EE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8ABED4-E605-4790-889A-DA2A29F5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869994-F417-41E6-9A67-EA5DAE3B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D1C3-E62E-4361-BED1-D4D790F8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C9AD85-05F2-429F-B3AE-135E14A3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756C29-6766-42DB-8876-C4381A94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09B277-F75C-4524-9A11-7FAFC761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28E397-AA4F-47FC-A4B4-FD6E0799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92317C-12C4-457F-AAC5-9FA241B9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8EF910-94C4-4D56-8636-CC064F31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E1222C-B571-4679-8C05-5B3A49FA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7727B2-7282-4D2B-BF20-515255E6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F3C206-54CB-486B-94A1-FBCCB6DE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12FDD4-0874-4FAD-8AA1-5E44F806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5C54-A93C-456B-9716-B313ADF1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C245B1-BF8D-460B-9FA9-FD882AF1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F20FC4-7EC2-4C00-9546-1A023A1A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89A218-5A32-439E-AEEC-A0ACFE3D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82C3D9-F942-4C47-9AF1-FD74A01D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72C98B-D40A-47F0-879F-029E84BA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4F92B7-FCB0-424C-9C45-F9C8CA9D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CBEC16-2D9C-413B-ADE9-03C25E9F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BE3F1F-D976-4F9F-8A9A-5612F64C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0C9CF1-2497-4763-BD7E-0ABBC9B9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B20563-4DBE-4F82-8912-4DF82AE3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7646-EE04-4240-ACCC-791729C4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F46970-9E02-4FB5-8BB5-16EDB3D8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ACCC22-3BE5-402D-81E4-3C9ECE4F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85007B-6232-4A2C-9B6D-7A9F7946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81A39A-8AC3-48B2-BEEC-FEA28FBA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647617-8352-4FB0-9EE9-444475C9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CD954F-F337-4692-8806-D014AE85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DDA896-261D-473B-8A69-95CEB111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08487-E3B9-4A50-ADC2-5D418247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DA01F7-9A1C-42DF-B917-BD714DC0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142BE9-F4F9-4249-BE0E-CB8708D1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3258-0D76-4E6F-9EF3-946A089F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604A71-9FCD-487E-B048-7E31915B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53697E-D4A1-487A-B2A7-FBA8CEBC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7E392-C730-4BCB-929F-E6D087B5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CC7EA5-AB46-455E-A5E8-CED7A533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A8A73D-5A89-4346-A1F0-E4363199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DE17A-E365-4BCC-937B-56434504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B4B145-9A00-48A4-93F3-B6B12276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1CAC45-252C-4554-BD74-CC731257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A8F740-4068-45AE-8EDC-770722D1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291255-AD2C-4639-9629-83049EC5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6341-4220-41A8-BC24-42C12FF9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47EFDA-B91B-486B-8EE9-37CF9A4F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C101674-5BD4-4260-9455-BCA88265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A5938FE-87C8-4D0F-B61B-C21CA517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7DDD1E-B6C8-46A0-9471-0D24AD54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797203-248F-4D08-A955-92C3298D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BDA2C6-C500-4E51-A3BB-EF34A1EB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B4ED51-9E47-4622-98DC-3F5EC473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529608E-A884-46EE-806E-64CDF026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4C61EF-71E4-4B8B-B47B-AEE50042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4E5A39-651C-4EEA-9E1B-009B0913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8EAD-38F5-42D7-9022-1DC0CF6B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648788-3B07-4451-BCA4-177F6B34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B28A67-64E1-401B-BAF6-77C74F2C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BA66B3-28A1-49F6-ADC8-2B7AD7D3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D0141D-D810-4664-BACB-7442B7FB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2F9632-6C9D-4178-B3D4-976883DE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EE7EFE-7637-445E-9892-D7E0118C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1D2DE5-071F-4D3F-BDC0-261CD898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B82BAF-24A1-49E3-8492-176C80AF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A0C5CE-F1D6-4FED-8EB2-A43A667D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EF09A6-56F2-46F8-95A3-8D85DB4C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C34B-E154-41DD-849E-93C26700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042699-D5AE-49CB-B07E-977C98F7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80C451-BF5D-4414-9EA2-B48EE986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5678CA-4CD5-4086-AC8C-24267D51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34A66C-7760-4FF1-84E4-278A226D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C4497A-4361-44CF-93AD-806EDC8F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BE17A0-A41C-4446-B070-50F142CE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B9FFC1-095A-4FE3-98CB-050AEF82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EF5223-D429-4170-A8CF-BED49587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EC66E9-E565-46A8-A932-5B7F8694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45BB6E-923A-40CF-800E-5CD830BA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E7C-6AC1-4654-AC8D-B1CEA48E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32C4-7800-49A3-B4AE-229D8CCE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34BB68-6607-4936-B255-B8C5CC51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AB2553-B8CD-461E-AC85-A3E7557C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D6145A-9132-4FAD-90C8-B582E62A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673E97-12B0-4D8B-BF90-1E582506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5F5033-3B19-4F72-926B-D06E497B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47266E-D6EC-4C36-8DC5-B1CB4AE5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882B58-DA2F-4160-ACD5-ECFE1F5A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AE7F41-5A07-4583-B515-A876C337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80F5EC-678F-4A86-AC44-09FDE7EC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A3E0E1-9C26-44E7-9CF9-9EEDA12D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CA9D-3DDE-4E35-AF67-84084B94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061ABD-8DAB-4797-82D0-5B8EBB69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A775DD-956E-4E13-BB3D-25087551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3CA5E0-DD51-480C-99D6-05E89460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9AE878-5660-43AF-9362-99ABF24C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7852AC-9602-432F-B366-F6A55EC2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418F69-8F70-481E-8A0B-79BCFBF1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D15FB3-F63F-48AF-81C4-0DA51449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F84F88A-D9AB-4D21-92E9-F04A6ECB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59AC440-2C0E-4DE5-ADBB-979DD1D5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9E4AF34-EFB5-411B-8A3C-9FDA320D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7A25-9E72-4C68-AD54-A8033124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D6D329E-5768-4764-9DD5-9357A6C9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2CEC727-CC5D-4107-A997-D3076C7D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900D53B-2AB7-45A9-B7BC-69A95413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A13A5F4-EBAB-4779-9BB8-F282A22C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80D5A85-FD0D-4907-874B-ABC54B5F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42A3295-F299-4086-B797-63384BC6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7110F98-CB79-4708-A155-2BA83AB2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98BB2CA-4AA7-4A2A-A44B-82871509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BCB1ABC-9701-4342-829C-094C8862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35D0D68-86E5-4127-858C-1B228AE8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C732-C6E3-4C6F-A564-E0F6AD7B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753B727-BD59-4C7D-90F3-6474054C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2612AAA-842D-4749-BC21-6E0EAE19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8460AD8-368B-464D-88A2-ED013F08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B1A9A73-DB7D-43D6-91F4-AAE53EE6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6F1D3E1-8F62-47AE-88AA-CE5ED56D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9941064-D263-4C16-BA1D-C8ADA10A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B4DA0EB-7530-4726-B79B-8576A407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5F70594-88D2-4B8D-8292-D0BC08D6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185E0B2-AA0F-46C8-BB28-BDC5FB10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7546519-9412-4E63-ADDE-1F917E95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AC8B-BF82-41EC-A5C7-C3E35CA6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6DED12B-09DA-4693-933F-BB47CE56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24D0CD3-9430-42CC-BBC6-2E87D14C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88874B8-3737-4B8B-9193-4CBBDE60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41BF75B-365A-4211-80A2-CC64883C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43797F5-C4FD-4243-B7F8-AD7FC14C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B65B785-172C-4AC3-B37F-96605106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FE7A208-E92E-49E8-834A-7EFDF1C9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2DD521E-D760-4FB9-ABF7-9EB6C574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B87259B-1CD3-411D-9328-465AA570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E2EE61A-D22E-47D7-95C2-1BD56E94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3200E-FB0C-45A6-B242-6DEAC8C4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E6A4787-C655-4C53-9DE3-B0B507E8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07980A3-9CA1-440C-9B67-5F47EC59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9BCE4AC-0513-41B2-AE11-2C1849AA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6A33E5-DF2A-4D57-99C7-3575419B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4EFDF2-BF0A-4012-8180-B993159C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AF1D44-F3FD-43FB-BC0B-A4E8BA2F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929F9F-4A40-40A4-874F-DDA10D8C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414C76-6DEC-4090-A6AC-4CE27194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949908-352E-4B29-8677-74D1E562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824C95-F20B-4F42-943A-F11BC114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EB877-BD3F-4E66-ABA9-83445849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B5DDDB-9FB1-421A-A240-2D227A3E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D174F8-B28D-425E-ADA3-23BBDC56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8BC102-0129-4F46-AC61-C81585D5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E4A314-D6AF-4AE2-BCD0-5E0B8CD4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A26CB4-F1FE-49F2-A62E-D4B97D64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A783056-51F7-4E97-A5B1-1BD7DCF4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6ECFD20-C22B-4812-9057-F70B65EE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E36C000-44FE-48D6-94A8-327C8E84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CF5A1F2-C761-4B60-8F0C-3A21D772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4DB1230-5027-406E-868E-D02CA318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7CB17-359C-4C93-A4F1-9524B897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6DBD4F1-6153-472C-BDBD-EEC2BDE9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159C74C-0938-4319-9958-B6F9497F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DE635F6-EFBD-4B2C-B59E-22E4AA4D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FA82D00-D0DD-4009-AEFA-46406CC4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CC0E5B5-1B06-40FC-B189-49A69978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8F43F2E-E1D3-4ABA-BD5A-02CCCF65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765D1C8-A339-4D4C-9E18-1E7431ED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AB0ED8-34B0-4A48-AEBB-7307FB74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A8BE0C-9F0D-46A2-92AC-C9EB0A59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364668-33D6-4E5E-836F-C4358F21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DF48F-2862-4021-BB7E-81E1B835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035CFB-6CAF-4B4F-9382-685161B3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5836CF-E325-4B1A-98D6-B6611DB7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A1120A-75FC-46C1-98C4-3D8008E9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7DB9B2-3237-4BE7-BC28-2EE2E15D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B1C3C3-835D-41EA-BC10-18090572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11E5E4-16B2-4FCD-92A5-DA018ADD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54B5EC-F994-4009-AC93-69DBB0EA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A707E1-2299-4E2A-BAAE-A8C6DDC5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042489-EBF9-4BA2-B942-298CF107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4865B9-B106-4820-97CE-C260A160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A6835-58B2-45EC-A209-84DDD832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F5F486-E75E-4E13-96C0-C82860A0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BEEE21-D66E-4558-ABF0-B81943C2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A929EE-9FD1-4AF9-867B-967D79C6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D48BE6-4E19-4398-99F4-E76FBA3D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F7506A-AB78-432E-AB95-F4497D89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B721E1-D6A8-4E79-88B6-65D6F993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AB6DA6-312E-487B-A372-5EC7E3BA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6EAEFC-5ED7-4460-88A6-A451A866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FFEED7-87B6-41F0-B75B-B10DBA5C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D181B4-DD38-43EE-A832-B25EAD91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DAE8-8742-4C9D-85E8-15700166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B30BF-FD37-4062-825B-FCC7AE97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F53C4E-59E6-4EE2-B51A-F209E921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2064BA-3FB0-47F5-AF37-F3AE4A80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4024CC-ACFF-406B-AF57-AEE8024D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B3F43A-B6D5-45F3-82B5-39FC99E1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A53E0D-3B39-4E32-9AA4-FAB5E7DA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1AD017-6E04-4413-BCBE-5A902547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E04D36-ED2A-4ACA-8808-DF367D56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199744-EC6D-457A-91B2-E09B8A0A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A9DC7C-2677-4F08-9207-C55D4B60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35629E-0B52-44DF-BEC3-0CF6AD1D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CE4B9-31A7-4001-AAB9-8E87841F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40C044-19C4-4C85-8D3B-2F79EBE4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CD76A0-25B2-4408-8EDB-C7D39751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5730CB-AAB8-4024-9AA8-443F57EF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A223E61-2742-4D98-ABAB-E2E871BE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3D5192F-1765-47A9-BC76-77EB3738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7FBB207-0C3F-4B75-A9C3-160E1D93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F56B4B9-9CC4-4E7D-914F-4CF04DF8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9321F92-EC8F-4150-B6D0-A968DE87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E550218-5324-4070-916A-13355104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A8D1441-FAB9-44DB-AF3C-8638C4F8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D0A75-857F-4498-AB0E-60C81184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B9E8FC5-75D0-47B7-9756-F70F3708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82E041D-CB92-4FF9-9D51-6C4BB26B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53F59E3-BA7F-4546-9F00-B3FDBB52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6E66DF1-7775-4CBB-940C-C7FB8E1E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233AF95-92A0-49AC-914F-E9545B90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68E58D8-5DBA-48FA-B961-7056B050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B643C69-FC98-4A3D-97C4-5C8EBEE3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94B116D-913D-4D46-81C1-CAC9CCEB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D4EE434-A10E-4EFC-A008-7C919091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5A4B490-244B-4505-AF35-78D40345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832EC-06C9-439C-B63C-C0795BA4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52A7EA8-7379-4B52-9D44-996575E4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9444D3B-4813-43CD-88AD-2B961A6D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95EDD76-BC1B-4B7D-9566-BC2B1671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E6E1776-9239-41AA-900D-6E958354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EE5CC7A-9670-4336-80FA-5076C0DB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E14220F-A612-4767-BDE4-F56A3227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F9EF49D-5AF9-4CA3-AC77-D95A3AAE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9FBE874-4DE3-407E-984C-2828CE2F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9520BA6-1CE8-4F8F-A7EC-9EE257BB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5DCE2A4-A0B5-4EFD-8784-96797F52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D2F6C-34C2-44C6-8D8C-BD589A1D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D125A1D-D6DB-48C8-828F-F888A373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BB1647E-716D-4AB5-905D-EC556D13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6EFAFFD-CEE0-43C2-92D0-F3DF0655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5C45A58-6916-49FA-8DA1-7382CBBB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7AF56CD-2271-44A1-B31E-2D3161A1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BE0C007-4574-470C-B840-F4425713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B5FE00F-517B-477A-AB78-073DCEDC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536A087-0A6D-497A-93EB-A789E5E8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946A0BA-26FB-44BE-AA99-14320DDD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94A6E2-0E48-44A3-9F5D-B411A0DD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05C3D-9A45-4B61-A545-465EF8A3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A3425E-5D98-429D-8A8B-ED77AEDE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84498E-D00D-4561-9A1B-5923CB50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71A829-ADB3-4FFB-B40C-286D3563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FDF440-3AE1-4B52-BECE-9F5FA519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973729-59A1-4CE9-8D5A-6E80C8F4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F95FF3-F405-4BB7-8418-C316254E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5BBCDC-4584-4BB1-8F87-779175A3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E6E811-2A2A-4C8A-96E3-53B9EB7F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D5E8BD-1BA7-4281-89B5-E4D37002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12F740-7068-409E-A3A6-4DD3409E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83A49-A6DD-498D-988F-70A70B61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255D7F-606C-459D-8DEB-00C50FE6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4AE0A78-7ACF-4041-A304-02F77089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9D24DF1-B9A0-43AD-AA20-C93709B8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A657AC2-D028-45F9-80FA-34472366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F9B65B0-EDEB-4034-B49B-F9BC141E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2185F8D-145E-4A9A-AE94-CEDD0A44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1998624-5F2E-498D-8C90-E0B80E0E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1D1E053-D1FC-42C2-8934-9420A6B3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D644CD6-80CE-42CA-B5A5-DFCE85FE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47A1BD1-7A88-4116-86A9-63B3D80E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B047C-5060-4C8E-84C2-78BB9D21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523F490-4384-453C-B5AF-EAFEBFEC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FCEF403-D6C6-4E5B-B5B4-1795A0C6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A6D8358-DB0F-4275-AE03-1A0FA4D8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C59E70-B9D7-4C63-BA4A-5D0ABFD0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F0C5945-6DAF-4BB2-88BC-693B1698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2FEE11-CE81-4C82-9CAC-76FC6438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ABF91A3-236F-4298-8525-C34492EB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72BFBA-B597-40F7-A3F1-50525025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332F31-1EE1-4A95-A78D-509E3322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15CE03-0174-4310-998E-BCD1B886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DE2CE-20D8-44E7-87DC-E8135722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F87718-D11F-4E04-860B-7F217304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186DF0-E518-4F3F-B18C-A247DAAF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8F12F5-D911-491F-9003-AC4EB8EE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D8D598-64EF-4F7D-B2A9-B3D22166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F044012-E9F1-4E5D-9568-1292C0EA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3DC404F-1B3C-4A1C-A32F-5AE753B9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66474BF-8952-4A11-959A-DFF4693A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A3E0A5-8F7F-4833-9C88-310E22DC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93E9A9C-6A6B-46C9-96EB-8E5E27C0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0B424BA-4B66-42B7-B63E-ADDA585A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A1827-FBF2-47C1-8738-87F86F74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5415AA-6A4D-4D7B-8E69-D3801D99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826EB9-330E-4E91-99D9-C9D9A278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73D8FA-EF65-42E5-82F2-238ED289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7FE845-B34A-4612-A038-62114AB8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37F5EBD-36FE-42F5-A137-3793DC84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56D4FB-FACD-4F58-AE32-0D28F5C3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6F43EA-6C62-4783-A5C2-A220A830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C80ADBB-0627-415D-8592-9D30B80F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0663E4-B792-4406-8C89-EA723E69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3C0883D-F735-4DA0-81EC-741C173A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426-61C8-4AC8-B73B-51B8A897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0B192-255A-43C2-A86E-C50D26CF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727BC0E-F2CE-4EE3-B1BC-5F94F416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934668-37A6-4707-9FFD-A1883283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E09A61-7966-4A93-BBC8-AC5CA743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CA9A28-740B-48B7-88C9-11CAD57A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A3B6BDF-01E5-44DF-A026-FFD969CE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12F16A5-1635-4398-87BC-1146156F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6352374-6592-44B3-9E6F-5446EC0A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8E3D9FF-325B-4131-9BE2-278417CC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BEB047E-7D0F-4E06-8161-F9FB160D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DB743D0-C3BD-4EB0-BDB0-55CB36B2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E84E6-3993-4FEF-9786-29AAC869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4B2ABB4-9DDD-44BF-9D14-2A797A5A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74EE560-73E6-4A5B-A748-867F8F8B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53BDF67-2203-4D0C-B5DB-77BC6F47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1A8762A-8E30-4633-BCCE-B5360772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B561005-170D-43B1-B10A-99A4E17F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FE0776A-84BC-41EF-9F5B-D44256AA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56562B8-23D8-4BB9-8264-9D5CA0B0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F9743BA-E385-4F1D-BE2D-1B8DB972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AF63685-DD91-4548-9AA2-87A3C7AD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2259580-7FD9-4BEC-9061-C12E164F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CC5FF-D06A-469C-9F9B-4CA8FF69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6FD7D2C-DDD0-4CBA-A04F-290B530E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AB821B1-5AB4-4C03-9378-44B28DFC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675994F-F217-40D7-B301-75321661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0AA65DE-5C37-489D-8ACA-04E3A46A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ACCE8F9-6EC1-4860-9A64-89C11C65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07DBC5C-DFFB-4890-A296-ED3B7041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EC4BCE8-3BA1-4647-A57E-6A0AD9B4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05FF3A5-BEB0-4C13-8EC0-3DD97A68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C01D900-97AF-4CE5-BEED-85AB0068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70667B2-0266-4A88-A141-EA091C41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FD1D8-2915-41A5-920C-525263A5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8D39EC8-0E99-4258-9529-D79F6247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3253CD2-320A-4FF6-850E-0D53E8D0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620C539-FF58-4A3F-A577-80D47927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F77F4-1AB7-4906-9B4D-96575835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0554D-8952-49AC-96DA-B91AB861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8AA3A-60B5-48F3-B574-941678F8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DC763-CEB3-4BEB-9DA5-53D41257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514D8-0DA3-4A47-A274-431E520A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EC2D1E-C670-48B2-B9E0-AF02CA86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A94-DE2A-43A2-A1D1-24808BF5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7E8E8E-A11B-4CF8-97AE-01C55593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41C343-E67E-464B-BD45-9A73D099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B2321-291C-4B66-951A-496E1AED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3596CF-2BF6-49D9-8F97-CA1E6176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0B0B1B-AA9E-4941-A73D-06905A31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A58895-345B-4082-A4FC-C2725676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E30E8-C69E-48C2-84E9-02154679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AA2A5-5E73-406D-837F-5F3ED3FF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4B407B-38EF-4DC4-906D-C07FF3C2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BD16C8-1807-4E00-BCB3-304C9386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6CC-70E6-4708-AC08-EC9615DF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7560FB-CDFD-4540-A47D-FE2AE0C8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2F73B-54A9-45FD-8ED9-D6560080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FB001-FF4F-4CF9-9CB2-C8A674A3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14B83-F97F-4EC7-9A5E-4B984559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6A771-70BB-49F9-8A2E-6463D31F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6F582-734F-4E7B-BCF4-E8F8872B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0A1C1-7056-40A7-A167-B6928EDB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0FB5A-A785-46F3-85E3-44C72FD7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65635-C377-4D82-85D2-FB0BC9CF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2DFC8-E83A-4161-9411-D438B079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76F-4BC2-4653-8B9B-210A5FEE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FABA8-7BBF-4CFC-B9A4-89999F47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888A9-559B-4D53-8687-161CD1B8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400A3-DA3E-4459-BEB9-F76B3B6A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55E06E-02B7-4960-A57F-A89D16CB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54D837-8374-46CF-9DA7-7A0128D6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804754-E809-4FE4-B929-9291DB1F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3409F0-E4D9-4230-A38D-FDE0F78A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DD19BB-199F-4826-82ED-48D052B5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B11C11-8FC5-432D-A6D7-BE3BDC69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147125-EDB9-422F-A372-46F6E01B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05E-A39B-48D8-9C64-7517EB88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571F59-A92F-47BE-A046-79597177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820F68-8938-4BAD-A201-58885DB0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FA365B-B8DA-494F-A772-95EF3BC5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5B72E1-1883-4F51-9BA4-2A595D97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B4FAE9-BF41-44E1-B4DB-3352BC89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BEAB6-D492-48FD-B817-6BE6132D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29280-CD6F-4022-88AC-2AA9D605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443BE-228A-4A4C-9E74-952EEC7A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A48AD-CB99-4610-B194-3246E2AF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9BE7C-AF56-4958-A0B8-F3BDE5BE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EC0-B8D1-4E24-A525-D328E422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C3C78-AD07-4EBE-A1BD-4ED9D405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84B1D-4B0F-44D7-B1D5-6CDC1521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78387-841E-4BD3-A280-9460FEDD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85370-B7A4-4755-92F3-763EEA8E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E1AAD-B5BB-4B55-9626-7DCB39B7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50DB2-EB81-47C6-AA83-1CEB275C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A91E5-E5BD-4D0D-8899-6E802B77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B9E49-BE8C-47DF-8EA7-F6CC3B66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2F6FA-B321-4B34-871E-D659EF3C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35D52-5571-4DF1-9F40-E8C3EC34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DFD7-6AA8-4483-95D2-958D895D5EC0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9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BA5D-C826-4E06-9F41-1E88502E08F6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9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1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32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A602-F204-44DB-99F8-FBE8C9E62F01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3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sldNum" idx="3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8944-F8A9-4D06-8F89-1CDCDE23422A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3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5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3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38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CD82-290F-4C2A-81FB-F488E536F0A3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9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7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3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F68B-DF53-457D-9352-45D4D69390F0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3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44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12B6-C717-4F9D-9D83-B10AD8F95368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ftr" idx="45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65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0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4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4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7342-253F-42C4-B824-53C244306EEA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70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5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4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5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51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EDA0-933D-421B-A8D8-9004A0201340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74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5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5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5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8E7A-DC9F-4541-8CA1-2EFF60339FC7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Прямоугольник 9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sldNum" idx="5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78A1-1D75-459D-9EA6-29AA4B2C1EF2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ftr" idx="5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D072-CBE4-4185-B662-A7F5F9A65FA0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sldNum" idx="5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EF11-DD73-41AD-AE52-0954DBAA0BF4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ftr" idx="6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87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Text Box 3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61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sldNum" idx="62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53CF-C837-4D4A-BA5C-CA048C976AD0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ftr" idx="63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dt" idx="6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ftr" idx="6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 type="sldNum" idx="6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D42A-7B09-44D0-9AAF-714F95D018FA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67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sldNum" idx="68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5826-0BF3-4938-9965-53ED195A6DA6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ftr" idx="69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0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0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dt" idx="7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7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sldNum" idx="72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D248-3888-4EFB-B6BC-E0568D79D061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5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4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5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dt" idx="7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ftr" idx="7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 type="sldNum" idx="7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9479-03BE-453E-807D-79EC162C2494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9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dt" idx="7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 type="ftr" idx="7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 type="sldNum" idx="7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43AF-43D9-4F7D-B441-DA6AAD4FB048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Прямоугольник 9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79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sldNum" idx="80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55F9-018D-4801-9A16-7AE5CC22895B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ftr" idx="81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82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sldNum" idx="83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047E-640D-4DD4-875E-3543B9A23236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ftr" idx="84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1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Text Box 3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 type="dt" idx="8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 type="sldNum" idx="8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6FDA-BBDA-42A2-9803-AC67B15ED79F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 type="ftr" idx="8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ftr" idx="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A10D-DDB6-4129-AE86-DA362435767C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27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2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3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dt" idx="8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 type="ftr" idx="8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 type="sldNum" idx="90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C6C0-BC15-4E9B-A973-FFE5592821B5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91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sldNum" idx="92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E50D-D11D-493E-A950-70D629A6EED3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ftr" idx="93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5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9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0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 type="dt" idx="9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 type="ftr" idx="9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 type="sldNum" idx="96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F1ED-A02A-4A5D-B502-7C937CD60D10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40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4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5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 type="dt" idx="9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 type="ftr" idx="9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 type="sldNum" idx="99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9EE3-5EEA-4DD6-9425-F944E97D228C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44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0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 type="dt" idx="10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 type="ftr" idx="10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 type="sldNum" idx="10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29D4-21C9-492D-98B8-A81ACA1959D3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Прямоугольник 9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 type="dt" idx="103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 type="sldNum" idx="104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5E00-F685-42F5-A05D-C43815EE2051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 type="ftr" idx="105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 type="dt" idx="10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 type="sldNum" idx="10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F26F-B95B-47EE-833C-E21BD04BF68B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 type="ftr" idx="10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ftr" idx="1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1379-16FA-4982-B1B2-D198DC40CDD1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17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3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2645-F86C-4443-A9F2-6E33142BD23E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A425-AEC7-4F53-91FF-38EDB64C83C3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20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ECA4-A06D-4CB0-9ADB-01C726CC9774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1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0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B78B-A285-4BBD-960C-EDB3D3B10E63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5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0CA2-68AE-4C76-9D06-CC0BABD03153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image" Target="../media/image55.png"/><Relationship Id="rId18" Type="http://schemas.openxmlformats.org/officeDocument/2006/relationships/image" Target="../media/image56.png"/><Relationship Id="rId19" Type="http://schemas.openxmlformats.org/officeDocument/2006/relationships/image" Target="../media/image53.png"/><Relationship Id="rId20" Type="http://schemas.openxmlformats.org/officeDocument/2006/relationships/image" Target="../media/image16.pn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3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6" name="Заголовок 1" descr=""/>
          <p:cNvPicPr/>
          <p:nvPr/>
        </p:nvPicPr>
        <p:blipFill>
          <a:blip r:embed="rId1"/>
          <a:stretch/>
        </p:blipFill>
        <p:spPr>
          <a:xfrm>
            <a:off x="450720" y="365040"/>
            <a:ext cx="8242560" cy="1738440"/>
          </a:xfrm>
          <a:prstGeom prst="rect">
            <a:avLst/>
          </a:prstGeom>
          <a:ln w="0">
            <a:noFill/>
          </a:ln>
        </p:spPr>
      </p:pic>
      <p:sp>
        <p:nvSpPr>
          <p:cNvPr id="1577" name="PlaceHolder 1"/>
          <p:cNvSpPr>
            <a:spLocks noGrp="1"/>
          </p:cNvSpPr>
          <p:nvPr>
            <p:ph type="subTitle"/>
          </p:nvPr>
        </p:nvSpPr>
        <p:spPr>
          <a:xfrm>
            <a:off x="179280" y="2819520"/>
            <a:ext cx="85140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Урок – подорож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«Сходинками до вершини гори Знань»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578" name="Picture 6" descr=""/>
          <p:cNvPicPr/>
          <p:nvPr/>
        </p:nvPicPr>
        <p:blipFill>
          <a:blip r:embed="rId2"/>
          <a:srcRect l="0" t="0" r="0" b="-156"/>
          <a:stretch/>
        </p:blipFill>
        <p:spPr>
          <a:xfrm>
            <a:off x="250920" y="3871800"/>
            <a:ext cx="8713800" cy="2766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76a55"/>
            </a:outerShdw>
          </a:effectLst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Полилиния 36"/>
          <p:cNvSpPr/>
          <p:nvPr/>
        </p:nvSpPr>
        <p:spPr>
          <a:xfrm rot="21120600">
            <a:off x="5940360" y="156960"/>
            <a:ext cx="2035080" cy="2035080"/>
          </a:xfrm>
          <a:custGeom>
            <a:avLst/>
            <a:gdLst/>
            <a:ahLst/>
            <a:rect l="l" t="t" r="r" b="b"/>
            <a:pathLst>
              <a:path w="3771900" h="3771900">
                <a:moveTo>
                  <a:pt x="2677311" y="601386"/>
                </a:moveTo>
                <a:lnTo>
                  <a:pt x="2970705" y="355186"/>
                </a:lnTo>
                <a:lnTo>
                  <a:pt x="3205092" y="551861"/>
                </a:lnTo>
                <a:lnTo>
                  <a:pt x="3013580" y="883550"/>
                </a:lnTo>
                <a:cubicBezTo>
                  <a:pt x="3149756" y="1036739"/>
                  <a:pt x="3253292" y="1216068"/>
                  <a:pt x="3317869" y="1410594"/>
                </a:cubicBezTo>
                <a:lnTo>
                  <a:pt x="3700876" y="1410584"/>
                </a:lnTo>
                <a:lnTo>
                  <a:pt x="3754008" y="1711907"/>
                </a:lnTo>
                <a:lnTo>
                  <a:pt x="3394096" y="1842894"/>
                </a:lnTo>
                <a:cubicBezTo>
                  <a:pt x="3399945" y="2047776"/>
                  <a:pt x="3363988" y="2251701"/>
                  <a:pt x="3288418" y="2442226"/>
                </a:cubicBezTo>
                <a:lnTo>
                  <a:pt x="3581824" y="2688410"/>
                </a:lnTo>
                <a:lnTo>
                  <a:pt x="3428838" y="2953390"/>
                </a:lnTo>
                <a:lnTo>
                  <a:pt x="3068933" y="2822384"/>
                </a:lnTo>
                <a:cubicBezTo>
                  <a:pt x="2941718" y="2983092"/>
                  <a:pt x="2783093" y="3116195"/>
                  <a:pt x="2602735" y="3213571"/>
                </a:cubicBezTo>
                <a:lnTo>
                  <a:pt x="2669253" y="3590757"/>
                </a:lnTo>
                <a:lnTo>
                  <a:pt x="2381734" y="3695406"/>
                </a:lnTo>
                <a:lnTo>
                  <a:pt x="2190239" y="3363707"/>
                </a:lnTo>
                <a:cubicBezTo>
                  <a:pt x="1989486" y="3405045"/>
                  <a:pt x="1782414" y="3405045"/>
                  <a:pt x="1581661" y="3363707"/>
                </a:cubicBezTo>
                <a:lnTo>
                  <a:pt x="1390166" y="3695406"/>
                </a:lnTo>
                <a:lnTo>
                  <a:pt x="1102647" y="3590757"/>
                </a:lnTo>
                <a:lnTo>
                  <a:pt x="1169165" y="3213571"/>
                </a:lnTo>
                <a:cubicBezTo>
                  <a:pt x="988808" y="3116196"/>
                  <a:pt x="830182" y="2983093"/>
                  <a:pt x="702967" y="2822385"/>
                </a:cubicBezTo>
                <a:lnTo>
                  <a:pt x="343062" y="2953390"/>
                </a:lnTo>
                <a:lnTo>
                  <a:pt x="190076" y="2688410"/>
                </a:lnTo>
                <a:lnTo>
                  <a:pt x="483483" y="2442226"/>
                </a:lnTo>
                <a:cubicBezTo>
                  <a:pt x="407913" y="2251701"/>
                  <a:pt x="371955" y="2047775"/>
                  <a:pt x="377804" y="1842894"/>
                </a:cubicBezTo>
                <a:lnTo>
                  <a:pt x="17892" y="1711907"/>
                </a:lnTo>
                <a:lnTo>
                  <a:pt x="71024" y="1410584"/>
                </a:lnTo>
                <a:lnTo>
                  <a:pt x="454031" y="1410594"/>
                </a:lnTo>
                <a:cubicBezTo>
                  <a:pt x="518608" y="1216068"/>
                  <a:pt x="622144" y="1036739"/>
                  <a:pt x="758320" y="883550"/>
                </a:cubicBezTo>
                <a:lnTo>
                  <a:pt x="566808" y="551861"/>
                </a:lnTo>
                <a:lnTo>
                  <a:pt x="801195" y="355186"/>
                </a:lnTo>
                <a:lnTo>
                  <a:pt x="1094589" y="601386"/>
                </a:lnTo>
                <a:cubicBezTo>
                  <a:pt x="1269097" y="493880"/>
                  <a:pt x="1463680" y="423057"/>
                  <a:pt x="1666465" y="393240"/>
                </a:cubicBezTo>
                <a:lnTo>
                  <a:pt x="1732964" y="16050"/>
                </a:lnTo>
                <a:lnTo>
                  <a:pt x="2038936" y="16050"/>
                </a:lnTo>
                <a:lnTo>
                  <a:pt x="2105434" y="393240"/>
                </a:lnTo>
                <a:cubicBezTo>
                  <a:pt x="2308219" y="423057"/>
                  <a:pt x="2502802" y="493879"/>
                  <a:pt x="2677310" y="601386"/>
                </a:cubicBezTo>
                <a:lnTo>
                  <a:pt x="2677311" y="601386"/>
                </a:lnTo>
                <a:close/>
              </a:path>
            </a:pathLst>
          </a:custGeom>
          <a:solidFill>
            <a:srgbClr val="ffc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824040" tIns="949320" bIns="101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6" name="TextBox 37" descr=""/>
          <p:cNvPicPr/>
          <p:nvPr/>
        </p:nvPicPr>
        <p:blipFill>
          <a:blip r:embed="rId1"/>
          <a:stretch/>
        </p:blipFill>
        <p:spPr>
          <a:xfrm>
            <a:off x="6297480" y="878040"/>
            <a:ext cx="1554120" cy="536400"/>
          </a:xfrm>
          <a:prstGeom prst="rect">
            <a:avLst/>
          </a:prstGeom>
          <a:ln w="0">
            <a:noFill/>
          </a:ln>
        </p:spPr>
      </p:pic>
      <p:pic>
        <p:nvPicPr>
          <p:cNvPr id="1747" name="TextBox 41" descr=""/>
          <p:cNvPicPr/>
          <p:nvPr/>
        </p:nvPicPr>
        <p:blipFill>
          <a:blip r:embed="rId2"/>
          <a:stretch/>
        </p:blipFill>
        <p:spPr>
          <a:xfrm>
            <a:off x="6620040" y="401760"/>
            <a:ext cx="750600" cy="671400"/>
          </a:xfrm>
          <a:prstGeom prst="rect">
            <a:avLst/>
          </a:prstGeom>
          <a:ln w="0">
            <a:noFill/>
          </a:ln>
        </p:spPr>
      </p:pic>
      <p:sp>
        <p:nvSpPr>
          <p:cNvPr id="1748" name="Полилиния 23"/>
          <p:cNvSpPr/>
          <p:nvPr/>
        </p:nvSpPr>
        <p:spPr>
          <a:xfrm rot="2035200">
            <a:off x="2641320" y="2390400"/>
            <a:ext cx="2319120" cy="2320920"/>
          </a:xfrm>
          <a:custGeom>
            <a:avLst/>
            <a:gdLst/>
            <a:ahLst/>
            <a:rect l="l" t="t" r="r" b="b"/>
            <a:pathLst>
              <a:path w="2743200" h="2743200">
                <a:moveTo>
                  <a:pt x="2052591" y="694783"/>
                </a:moveTo>
                <a:lnTo>
                  <a:pt x="2457306" y="572809"/>
                </a:lnTo>
                <a:lnTo>
                  <a:pt x="2606226" y="830746"/>
                </a:lnTo>
                <a:lnTo>
                  <a:pt x="2298236" y="1120253"/>
                </a:lnTo>
                <a:cubicBezTo>
                  <a:pt x="2342881" y="1284844"/>
                  <a:pt x="2342881" y="1458356"/>
                  <a:pt x="2298236" y="1622947"/>
                </a:cubicBezTo>
                <a:lnTo>
                  <a:pt x="2606226" y="1912454"/>
                </a:lnTo>
                <a:lnTo>
                  <a:pt x="2457306" y="2170391"/>
                </a:lnTo>
                <a:lnTo>
                  <a:pt x="2052591" y="2048417"/>
                </a:lnTo>
                <a:cubicBezTo>
                  <a:pt x="1932373" y="2169376"/>
                  <a:pt x="1782107" y="2256132"/>
                  <a:pt x="1617245" y="2299764"/>
                </a:cubicBezTo>
                <a:lnTo>
                  <a:pt x="1520520" y="2711244"/>
                </a:lnTo>
                <a:lnTo>
                  <a:pt x="1222680" y="2711244"/>
                </a:lnTo>
                <a:lnTo>
                  <a:pt x="1125955" y="2299764"/>
                </a:lnTo>
                <a:cubicBezTo>
                  <a:pt x="961093" y="2256132"/>
                  <a:pt x="810827" y="2169376"/>
                  <a:pt x="690609" y="2048417"/>
                </a:cubicBezTo>
                <a:lnTo>
                  <a:pt x="285894" y="2170391"/>
                </a:lnTo>
                <a:lnTo>
                  <a:pt x="136974" y="1912454"/>
                </a:lnTo>
                <a:lnTo>
                  <a:pt x="444964" y="1622947"/>
                </a:lnTo>
                <a:cubicBezTo>
                  <a:pt x="400319" y="1458356"/>
                  <a:pt x="400319" y="1284844"/>
                  <a:pt x="444964" y="1120253"/>
                </a:cubicBezTo>
                <a:lnTo>
                  <a:pt x="136974" y="830746"/>
                </a:lnTo>
                <a:lnTo>
                  <a:pt x="285894" y="572809"/>
                </a:lnTo>
                <a:lnTo>
                  <a:pt x="690609" y="694783"/>
                </a:lnTo>
                <a:cubicBezTo>
                  <a:pt x="810827" y="573824"/>
                  <a:pt x="961093" y="487068"/>
                  <a:pt x="1125955" y="443436"/>
                </a:cubicBezTo>
                <a:lnTo>
                  <a:pt x="1222680" y="31956"/>
                </a:lnTo>
                <a:lnTo>
                  <a:pt x="1520520" y="31956"/>
                </a:lnTo>
                <a:lnTo>
                  <a:pt x="1617245" y="443436"/>
                </a:lnTo>
                <a:cubicBezTo>
                  <a:pt x="1782107" y="487068"/>
                  <a:pt x="1932373" y="573824"/>
                  <a:pt x="2052591" y="694783"/>
                </a:cubicBezTo>
                <a:close/>
              </a:path>
            </a:pathLst>
          </a:custGeom>
          <a:solidFill>
            <a:srgbClr val="ff33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9720" rIns="729720" tIns="734040" bIns="734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TextBox 42"/>
          <p:cNvSpPr/>
          <p:nvPr/>
        </p:nvSpPr>
        <p:spPr>
          <a:xfrm>
            <a:off x="3098880" y="3165480"/>
            <a:ext cx="149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Cambria Math"/>
              </a:rPr>
              <a:t>Не має розв'язк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0" name="TextBox 35" descr=""/>
          <p:cNvPicPr/>
          <p:nvPr/>
        </p:nvPicPr>
        <p:blipFill>
          <a:blip r:embed="rId3"/>
          <a:stretch/>
        </p:blipFill>
        <p:spPr>
          <a:xfrm>
            <a:off x="3425760" y="2627280"/>
            <a:ext cx="738360" cy="676440"/>
          </a:xfrm>
          <a:prstGeom prst="rect">
            <a:avLst/>
          </a:prstGeom>
          <a:ln w="0">
            <a:noFill/>
          </a:ln>
        </p:spPr>
      </p:pic>
      <p:sp>
        <p:nvSpPr>
          <p:cNvPr id="1751" name="Круговая стрелка 44"/>
          <p:cNvSpPr/>
          <p:nvPr/>
        </p:nvSpPr>
        <p:spPr>
          <a:xfrm rot="7472400">
            <a:off x="2418480" y="2628360"/>
            <a:ext cx="3303720" cy="2513160"/>
          </a:xfrm>
          <a:custGeom>
            <a:avLst/>
            <a:gdLst/>
            <a:ahLst/>
            <a:rect l="l" t="t" r="r" b="b"/>
            <a:pathLst>
              <a:path w="3303587" h="2513012">
                <a:moveTo>
                  <a:pt x="104509" y="1170831"/>
                </a:moveTo>
                <a:cubicBezTo>
                  <a:pt x="135925" y="855731"/>
                  <a:pt x="339005" y="563939"/>
                  <a:pt x="666535" y="363294"/>
                </a:cubicBezTo>
                <a:lnTo>
                  <a:pt x="598871" y="290452"/>
                </a:lnTo>
                <a:lnTo>
                  <a:pt x="821463" y="362617"/>
                </a:lnTo>
                <a:lnTo>
                  <a:pt x="837664" y="547523"/>
                </a:lnTo>
                <a:lnTo>
                  <a:pt x="770068" y="474753"/>
                </a:lnTo>
                <a:cubicBezTo>
                  <a:pt x="470753" y="648735"/>
                  <a:pt x="284389" y="903491"/>
                  <a:pt x="254772" y="1179152"/>
                </a:cubicBezTo>
                <a:lnTo>
                  <a:pt x="104509" y="1170831"/>
                </a:lnTo>
                <a:close/>
              </a:path>
            </a:pathLst>
          </a:custGeom>
          <a:solidFill>
            <a:srgbClr val="73737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Полилиния 24"/>
          <p:cNvSpPr/>
          <p:nvPr/>
        </p:nvSpPr>
        <p:spPr>
          <a:xfrm rot="20230800">
            <a:off x="3838320" y="3521160"/>
            <a:ext cx="2801880" cy="2801880"/>
          </a:xfrm>
          <a:custGeom>
            <a:avLst/>
            <a:gdLst/>
            <a:ahLst/>
            <a:rect l="l" t="t" r="r" b="b"/>
            <a:pathLst>
              <a:path w="2687776" h="2687776">
                <a:moveTo>
                  <a:pt x="1729979" y="679881"/>
                </a:moveTo>
                <a:lnTo>
                  <a:pt x="2017463" y="501829"/>
                </a:lnTo>
                <a:lnTo>
                  <a:pt x="2185947" y="670313"/>
                </a:lnTo>
                <a:lnTo>
                  <a:pt x="2007895" y="957797"/>
                </a:lnTo>
                <a:cubicBezTo>
                  <a:pt x="2076474" y="1075739"/>
                  <a:pt x="2112400" y="1209819"/>
                  <a:pt x="2111981" y="1346249"/>
                </a:cubicBezTo>
                <a:lnTo>
                  <a:pt x="2409920" y="1506192"/>
                </a:lnTo>
                <a:lnTo>
                  <a:pt x="2348251" y="1736345"/>
                </a:lnTo>
                <a:lnTo>
                  <a:pt x="2010256" y="1725890"/>
                </a:lnTo>
                <a:cubicBezTo>
                  <a:pt x="1942404" y="1844251"/>
                  <a:pt x="1844250" y="1942404"/>
                  <a:pt x="1725889" y="2010257"/>
                </a:cubicBezTo>
                <a:lnTo>
                  <a:pt x="1736345" y="2348251"/>
                </a:lnTo>
                <a:lnTo>
                  <a:pt x="1506192" y="2409920"/>
                </a:lnTo>
                <a:lnTo>
                  <a:pt x="1346249" y="2111980"/>
                </a:lnTo>
                <a:cubicBezTo>
                  <a:pt x="1209819" y="2112400"/>
                  <a:pt x="1075739" y="2076473"/>
                  <a:pt x="957797" y="2007894"/>
                </a:cubicBezTo>
                <a:lnTo>
                  <a:pt x="670313" y="2185947"/>
                </a:lnTo>
                <a:lnTo>
                  <a:pt x="501829" y="2017463"/>
                </a:lnTo>
                <a:lnTo>
                  <a:pt x="679881" y="1729979"/>
                </a:lnTo>
                <a:cubicBezTo>
                  <a:pt x="611302" y="1612037"/>
                  <a:pt x="575376" y="1477957"/>
                  <a:pt x="575795" y="1341527"/>
                </a:cubicBezTo>
                <a:lnTo>
                  <a:pt x="277856" y="1181584"/>
                </a:lnTo>
                <a:lnTo>
                  <a:pt x="339525" y="951431"/>
                </a:lnTo>
                <a:lnTo>
                  <a:pt x="677520" y="961886"/>
                </a:lnTo>
                <a:cubicBezTo>
                  <a:pt x="745372" y="843525"/>
                  <a:pt x="843526" y="745372"/>
                  <a:pt x="961887" y="677519"/>
                </a:cubicBezTo>
                <a:lnTo>
                  <a:pt x="951431" y="339525"/>
                </a:lnTo>
                <a:lnTo>
                  <a:pt x="1181584" y="277856"/>
                </a:lnTo>
                <a:lnTo>
                  <a:pt x="1341527" y="575796"/>
                </a:lnTo>
                <a:cubicBezTo>
                  <a:pt x="1477957" y="575376"/>
                  <a:pt x="1612037" y="611303"/>
                  <a:pt x="1729979" y="679882"/>
                </a:cubicBezTo>
                <a:lnTo>
                  <a:pt x="1729979" y="679881"/>
                </a:lnTo>
                <a:close/>
              </a:path>
            </a:pathLst>
          </a:custGeom>
          <a:solidFill>
            <a:srgbClr val="7030a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5640" rIns="935640" tIns="935640" bIns="9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Круговая стрелка 27"/>
          <p:cNvSpPr/>
          <p:nvPr/>
        </p:nvSpPr>
        <p:spPr>
          <a:xfrm rot="11350800">
            <a:off x="3279240" y="217080"/>
            <a:ext cx="3783240" cy="3783240"/>
          </a:xfrm>
          <a:custGeom>
            <a:avLst/>
            <a:gdLst/>
            <a:ahLst/>
            <a:rect l="l" t="t" r="r" b="b"/>
            <a:pathLst>
              <a:path w="3783013" h="3783012">
                <a:moveTo>
                  <a:pt x="255360" y="1297602"/>
                </a:moveTo>
                <a:cubicBezTo>
                  <a:pt x="332918" y="1083936"/>
                  <a:pt x="451576" y="887531"/>
                  <a:pt x="604633" y="719477"/>
                </a:cubicBezTo>
                <a:lnTo>
                  <a:pt x="505037" y="607039"/>
                </a:lnTo>
                <a:lnTo>
                  <a:pt x="812422" y="673289"/>
                </a:lnTo>
                <a:lnTo>
                  <a:pt x="855258" y="1002417"/>
                </a:lnTo>
                <a:lnTo>
                  <a:pt x="755732" y="890058"/>
                </a:lnTo>
                <a:cubicBezTo>
                  <a:pt x="630375" y="1032230"/>
                  <a:pt x="532824" y="1196673"/>
                  <a:pt x="468150" y="1374843"/>
                </a:cubicBezTo>
                <a:lnTo>
                  <a:pt x="255360" y="1297602"/>
                </a:lnTo>
                <a:close/>
              </a:path>
            </a:pathLst>
          </a:custGeom>
          <a:solidFill>
            <a:srgbClr val="7030a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Полилиния 28"/>
          <p:cNvSpPr/>
          <p:nvPr/>
        </p:nvSpPr>
        <p:spPr>
          <a:xfrm rot="184200">
            <a:off x="6021360" y="4330800"/>
            <a:ext cx="2197080" cy="2198520"/>
          </a:xfrm>
          <a:custGeom>
            <a:avLst/>
            <a:gdLst/>
            <a:ahLst/>
            <a:rect l="l" t="t" r="r" b="b"/>
            <a:pathLst>
              <a:path w="3771900" h="3771900">
                <a:moveTo>
                  <a:pt x="2677311" y="601386"/>
                </a:moveTo>
                <a:lnTo>
                  <a:pt x="2970705" y="355186"/>
                </a:lnTo>
                <a:lnTo>
                  <a:pt x="3205092" y="551861"/>
                </a:lnTo>
                <a:lnTo>
                  <a:pt x="3013580" y="883550"/>
                </a:lnTo>
                <a:cubicBezTo>
                  <a:pt x="3149756" y="1036739"/>
                  <a:pt x="3253292" y="1216068"/>
                  <a:pt x="3317869" y="1410594"/>
                </a:cubicBezTo>
                <a:lnTo>
                  <a:pt x="3700876" y="1410584"/>
                </a:lnTo>
                <a:lnTo>
                  <a:pt x="3754008" y="1711907"/>
                </a:lnTo>
                <a:lnTo>
                  <a:pt x="3394096" y="1842894"/>
                </a:lnTo>
                <a:cubicBezTo>
                  <a:pt x="3399945" y="2047776"/>
                  <a:pt x="3363988" y="2251701"/>
                  <a:pt x="3288418" y="2442226"/>
                </a:cubicBezTo>
                <a:lnTo>
                  <a:pt x="3581824" y="2688410"/>
                </a:lnTo>
                <a:lnTo>
                  <a:pt x="3428838" y="2953390"/>
                </a:lnTo>
                <a:lnTo>
                  <a:pt x="3068933" y="2822384"/>
                </a:lnTo>
                <a:cubicBezTo>
                  <a:pt x="2941718" y="2983092"/>
                  <a:pt x="2783093" y="3116195"/>
                  <a:pt x="2602735" y="3213571"/>
                </a:cubicBezTo>
                <a:lnTo>
                  <a:pt x="2669253" y="3590757"/>
                </a:lnTo>
                <a:lnTo>
                  <a:pt x="2381734" y="3695406"/>
                </a:lnTo>
                <a:lnTo>
                  <a:pt x="2190239" y="3363707"/>
                </a:lnTo>
                <a:cubicBezTo>
                  <a:pt x="1989486" y="3405045"/>
                  <a:pt x="1782414" y="3405045"/>
                  <a:pt x="1581661" y="3363707"/>
                </a:cubicBezTo>
                <a:lnTo>
                  <a:pt x="1390166" y="3695406"/>
                </a:lnTo>
                <a:lnTo>
                  <a:pt x="1102647" y="3590757"/>
                </a:lnTo>
                <a:lnTo>
                  <a:pt x="1169165" y="3213571"/>
                </a:lnTo>
                <a:cubicBezTo>
                  <a:pt x="988808" y="3116196"/>
                  <a:pt x="830182" y="2983093"/>
                  <a:pt x="702967" y="2822385"/>
                </a:cubicBezTo>
                <a:lnTo>
                  <a:pt x="343062" y="2953390"/>
                </a:lnTo>
                <a:lnTo>
                  <a:pt x="190076" y="2688410"/>
                </a:lnTo>
                <a:lnTo>
                  <a:pt x="483483" y="2442226"/>
                </a:lnTo>
                <a:cubicBezTo>
                  <a:pt x="407913" y="2251701"/>
                  <a:pt x="371955" y="2047775"/>
                  <a:pt x="377804" y="1842894"/>
                </a:cubicBezTo>
                <a:lnTo>
                  <a:pt x="17892" y="1711907"/>
                </a:lnTo>
                <a:lnTo>
                  <a:pt x="71024" y="1410584"/>
                </a:lnTo>
                <a:lnTo>
                  <a:pt x="454031" y="1410594"/>
                </a:lnTo>
                <a:cubicBezTo>
                  <a:pt x="518608" y="1216068"/>
                  <a:pt x="622144" y="1036739"/>
                  <a:pt x="758320" y="883550"/>
                </a:cubicBezTo>
                <a:lnTo>
                  <a:pt x="566808" y="551861"/>
                </a:lnTo>
                <a:lnTo>
                  <a:pt x="801195" y="355186"/>
                </a:lnTo>
                <a:lnTo>
                  <a:pt x="1094589" y="601386"/>
                </a:lnTo>
                <a:cubicBezTo>
                  <a:pt x="1269097" y="493880"/>
                  <a:pt x="1463680" y="423057"/>
                  <a:pt x="1666465" y="393240"/>
                </a:cubicBezTo>
                <a:lnTo>
                  <a:pt x="1732964" y="16050"/>
                </a:lnTo>
                <a:lnTo>
                  <a:pt x="2038936" y="16050"/>
                </a:lnTo>
                <a:lnTo>
                  <a:pt x="2105434" y="393240"/>
                </a:lnTo>
                <a:cubicBezTo>
                  <a:pt x="2308219" y="423057"/>
                  <a:pt x="2502802" y="493879"/>
                  <a:pt x="2677310" y="601386"/>
                </a:cubicBezTo>
                <a:lnTo>
                  <a:pt x="2677311" y="601386"/>
                </a:lnTo>
                <a:close/>
              </a:path>
            </a:pathLst>
          </a:custGeom>
          <a:solidFill>
            <a:srgbClr val="73737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4040" rIns="824040" tIns="949320" bIns="101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5" name="Скругленный прямоугольник 31" descr=""/>
          <p:cNvPicPr/>
          <p:nvPr/>
        </p:nvPicPr>
        <p:blipFill>
          <a:blip r:embed="rId4"/>
          <a:stretch/>
        </p:blipFill>
        <p:spPr>
          <a:xfrm>
            <a:off x="2176560" y="4638600"/>
            <a:ext cx="2376360" cy="824040"/>
          </a:xfrm>
          <a:prstGeom prst="rect">
            <a:avLst/>
          </a:prstGeom>
          <a:ln w="0">
            <a:noFill/>
          </a:ln>
        </p:spPr>
      </p:pic>
      <p:pic>
        <p:nvPicPr>
          <p:cNvPr id="1756" name="Скругленный прямоугольник 32" descr=""/>
          <p:cNvPicPr/>
          <p:nvPr/>
        </p:nvPicPr>
        <p:blipFill>
          <a:blip r:embed="rId5"/>
          <a:stretch/>
        </p:blipFill>
        <p:spPr>
          <a:xfrm>
            <a:off x="841320" y="3078000"/>
            <a:ext cx="2371680" cy="817560"/>
          </a:xfrm>
          <a:prstGeom prst="rect">
            <a:avLst/>
          </a:prstGeom>
          <a:ln w="0">
            <a:noFill/>
          </a:ln>
        </p:spPr>
      </p:pic>
      <p:pic>
        <p:nvPicPr>
          <p:cNvPr id="1757" name="Скругленный прямоугольник 33" descr=""/>
          <p:cNvPicPr/>
          <p:nvPr/>
        </p:nvPicPr>
        <p:blipFill>
          <a:blip r:embed="rId6"/>
          <a:stretch/>
        </p:blipFill>
        <p:spPr>
          <a:xfrm>
            <a:off x="4133880" y="5694480"/>
            <a:ext cx="2370240" cy="961920"/>
          </a:xfrm>
          <a:prstGeom prst="rect">
            <a:avLst/>
          </a:prstGeom>
          <a:ln w="0">
            <a:noFill/>
          </a:ln>
        </p:spPr>
      </p:pic>
      <p:pic>
        <p:nvPicPr>
          <p:cNvPr id="1758" name="TextBox 39" descr=""/>
          <p:cNvPicPr/>
          <p:nvPr/>
        </p:nvPicPr>
        <p:blipFill>
          <a:blip r:embed="rId7"/>
          <a:stretch/>
        </p:blipFill>
        <p:spPr>
          <a:xfrm>
            <a:off x="4591080" y="4578480"/>
            <a:ext cx="1297080" cy="590400"/>
          </a:xfrm>
          <a:prstGeom prst="rect">
            <a:avLst/>
          </a:prstGeom>
          <a:ln w="0">
            <a:noFill/>
          </a:ln>
        </p:spPr>
      </p:pic>
      <p:pic>
        <p:nvPicPr>
          <p:cNvPr id="1759" name="TextBox 40" descr=""/>
          <p:cNvPicPr/>
          <p:nvPr/>
        </p:nvPicPr>
        <p:blipFill>
          <a:blip r:embed="rId8"/>
          <a:stretch/>
        </p:blipFill>
        <p:spPr>
          <a:xfrm>
            <a:off x="6486480" y="5048280"/>
            <a:ext cx="1305000" cy="596880"/>
          </a:xfrm>
          <a:prstGeom prst="rect">
            <a:avLst/>
          </a:prstGeom>
          <a:ln w="0">
            <a:noFill/>
          </a:ln>
        </p:spPr>
      </p:pic>
      <p:sp>
        <p:nvSpPr>
          <p:cNvPr id="1760" name="Полилиния 29"/>
          <p:cNvSpPr/>
          <p:nvPr/>
        </p:nvSpPr>
        <p:spPr>
          <a:xfrm rot="21015600">
            <a:off x="3860280" y="830160"/>
            <a:ext cx="2916360" cy="2916360"/>
          </a:xfrm>
          <a:custGeom>
            <a:avLst/>
            <a:gdLst/>
            <a:ahLst/>
            <a:rect l="l" t="t" r="r" b="b"/>
            <a:pathLst>
              <a:path w="2687776" h="2687776">
                <a:moveTo>
                  <a:pt x="1729979" y="679881"/>
                </a:moveTo>
                <a:lnTo>
                  <a:pt x="2017463" y="501829"/>
                </a:lnTo>
                <a:lnTo>
                  <a:pt x="2185947" y="670313"/>
                </a:lnTo>
                <a:lnTo>
                  <a:pt x="2007895" y="957797"/>
                </a:lnTo>
                <a:cubicBezTo>
                  <a:pt x="2076474" y="1075739"/>
                  <a:pt x="2112400" y="1209819"/>
                  <a:pt x="2111981" y="1346249"/>
                </a:cubicBezTo>
                <a:lnTo>
                  <a:pt x="2409920" y="1506192"/>
                </a:lnTo>
                <a:lnTo>
                  <a:pt x="2348251" y="1736345"/>
                </a:lnTo>
                <a:lnTo>
                  <a:pt x="2010256" y="1725890"/>
                </a:lnTo>
                <a:cubicBezTo>
                  <a:pt x="1942404" y="1844251"/>
                  <a:pt x="1844250" y="1942404"/>
                  <a:pt x="1725889" y="2010257"/>
                </a:cubicBezTo>
                <a:lnTo>
                  <a:pt x="1736345" y="2348251"/>
                </a:lnTo>
                <a:lnTo>
                  <a:pt x="1506192" y="2409920"/>
                </a:lnTo>
                <a:lnTo>
                  <a:pt x="1346249" y="2111980"/>
                </a:lnTo>
                <a:cubicBezTo>
                  <a:pt x="1209819" y="2112400"/>
                  <a:pt x="1075739" y="2076473"/>
                  <a:pt x="957797" y="2007894"/>
                </a:cubicBezTo>
                <a:lnTo>
                  <a:pt x="670313" y="2185947"/>
                </a:lnTo>
                <a:lnTo>
                  <a:pt x="501829" y="2017463"/>
                </a:lnTo>
                <a:lnTo>
                  <a:pt x="679881" y="1729979"/>
                </a:lnTo>
                <a:cubicBezTo>
                  <a:pt x="611302" y="1612037"/>
                  <a:pt x="575376" y="1477957"/>
                  <a:pt x="575795" y="1341527"/>
                </a:cubicBezTo>
                <a:lnTo>
                  <a:pt x="277856" y="1181584"/>
                </a:lnTo>
                <a:lnTo>
                  <a:pt x="339525" y="951431"/>
                </a:lnTo>
                <a:lnTo>
                  <a:pt x="677520" y="961886"/>
                </a:lnTo>
                <a:cubicBezTo>
                  <a:pt x="745372" y="843525"/>
                  <a:pt x="843526" y="745372"/>
                  <a:pt x="961887" y="677519"/>
                </a:cubicBezTo>
                <a:lnTo>
                  <a:pt x="951431" y="339525"/>
                </a:lnTo>
                <a:lnTo>
                  <a:pt x="1181584" y="277856"/>
                </a:lnTo>
                <a:lnTo>
                  <a:pt x="1341527" y="575796"/>
                </a:lnTo>
                <a:cubicBezTo>
                  <a:pt x="1477957" y="575376"/>
                  <a:pt x="1612037" y="611303"/>
                  <a:pt x="1729979" y="679882"/>
                </a:cubicBezTo>
                <a:lnTo>
                  <a:pt x="1729979" y="679881"/>
                </a:lnTo>
                <a:close/>
              </a:path>
            </a:pathLst>
          </a:cu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5640" rIns="935640" tIns="935640" bIns="9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1" name="TextBox 38" descr=""/>
          <p:cNvPicPr/>
          <p:nvPr/>
        </p:nvPicPr>
        <p:blipFill>
          <a:blip r:embed="rId9"/>
          <a:stretch/>
        </p:blipFill>
        <p:spPr>
          <a:xfrm>
            <a:off x="4668840" y="1987560"/>
            <a:ext cx="1298520" cy="596880"/>
          </a:xfrm>
          <a:prstGeom prst="rect">
            <a:avLst/>
          </a:prstGeom>
          <a:ln w="0">
            <a:noFill/>
          </a:ln>
        </p:spPr>
      </p:pic>
      <p:pic>
        <p:nvPicPr>
          <p:cNvPr id="1762" name="Скругленный прямоугольник 34" descr=""/>
          <p:cNvPicPr/>
          <p:nvPr/>
        </p:nvPicPr>
        <p:blipFill>
          <a:blip r:embed="rId10"/>
          <a:stretch/>
        </p:blipFill>
        <p:spPr>
          <a:xfrm>
            <a:off x="2309760" y="1335240"/>
            <a:ext cx="2511360" cy="822240"/>
          </a:xfrm>
          <a:prstGeom prst="rect">
            <a:avLst/>
          </a:prstGeom>
          <a:ln w="0">
            <a:noFill/>
          </a:ln>
        </p:spPr>
      </p:pic>
      <p:pic>
        <p:nvPicPr>
          <p:cNvPr id="1763" name="Скругленный прямоугольник 30" descr=""/>
          <p:cNvPicPr/>
          <p:nvPr/>
        </p:nvPicPr>
        <p:blipFill>
          <a:blip r:embed="rId11"/>
          <a:stretch/>
        </p:blipFill>
        <p:spPr>
          <a:xfrm>
            <a:off x="3986280" y="365040"/>
            <a:ext cx="2371680" cy="824040"/>
          </a:xfrm>
          <a:prstGeom prst="rect">
            <a:avLst/>
          </a:prstGeom>
          <a:ln w="0">
            <a:noFill/>
          </a:ln>
        </p:spPr>
      </p:pic>
      <p:sp>
        <p:nvSpPr>
          <p:cNvPr id="1764" name="Круговая стрелка 43"/>
          <p:cNvSpPr/>
          <p:nvPr/>
        </p:nvSpPr>
        <p:spPr>
          <a:xfrm rot="11680200">
            <a:off x="5327640" y="-320760"/>
            <a:ext cx="3494160" cy="3094200"/>
          </a:xfrm>
          <a:custGeom>
            <a:avLst/>
            <a:gdLst/>
            <a:ahLst/>
            <a:rect l="l" t="t" r="r" b="b"/>
            <a:pathLst>
              <a:path w="3494088" h="3094038">
                <a:moveTo>
                  <a:pt x="191448" y="1954778"/>
                </a:moveTo>
                <a:cubicBezTo>
                  <a:pt x="15751" y="1439477"/>
                  <a:pt x="186266" y="881346"/>
                  <a:pt x="632217" y="512052"/>
                </a:cubicBezTo>
                <a:lnTo>
                  <a:pt x="567210" y="407930"/>
                </a:lnTo>
                <a:lnTo>
                  <a:pt x="1016688" y="377199"/>
                </a:lnTo>
                <a:lnTo>
                  <a:pt x="795988" y="774367"/>
                </a:lnTo>
                <a:lnTo>
                  <a:pt x="731029" y="670321"/>
                </a:lnTo>
                <a:cubicBezTo>
                  <a:pt x="354513" y="993755"/>
                  <a:pt x="216020" y="1469665"/>
                  <a:pt x="370935" y="1907731"/>
                </a:cubicBezTo>
                <a:lnTo>
                  <a:pt x="191448" y="1954778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Круговая стрелка 45"/>
          <p:cNvSpPr/>
          <p:nvPr/>
        </p:nvSpPr>
        <p:spPr>
          <a:xfrm rot="6656400">
            <a:off x="3674160" y="3031200"/>
            <a:ext cx="3289320" cy="3782880"/>
          </a:xfrm>
          <a:custGeom>
            <a:avLst/>
            <a:gdLst/>
            <a:ahLst/>
            <a:rect l="l" t="t" r="r" b="b"/>
            <a:pathLst>
              <a:path w="3289300" h="3783012">
                <a:moveTo>
                  <a:pt x="178759" y="1453730"/>
                </a:moveTo>
                <a:cubicBezTo>
                  <a:pt x="231375" y="1215385"/>
                  <a:pt x="326371" y="992518"/>
                  <a:pt x="457616" y="799513"/>
                </a:cubicBezTo>
                <a:lnTo>
                  <a:pt x="382136" y="699171"/>
                </a:lnTo>
                <a:lnTo>
                  <a:pt x="707780" y="646050"/>
                </a:lnTo>
                <a:lnTo>
                  <a:pt x="658211" y="1066179"/>
                </a:lnTo>
                <a:lnTo>
                  <a:pt x="583211" y="966476"/>
                </a:lnTo>
                <a:cubicBezTo>
                  <a:pt x="482479" y="1129469"/>
                  <a:pt x="409325" y="1314115"/>
                  <a:pt x="367801" y="1510186"/>
                </a:cubicBezTo>
                <a:lnTo>
                  <a:pt x="178759" y="145373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Круговая стрелка 46"/>
          <p:cNvSpPr/>
          <p:nvPr/>
        </p:nvSpPr>
        <p:spPr>
          <a:xfrm rot="6667200">
            <a:off x="5628240" y="4337640"/>
            <a:ext cx="3492360" cy="2928960"/>
          </a:xfrm>
          <a:custGeom>
            <a:avLst/>
            <a:gdLst/>
            <a:ahLst/>
            <a:rect l="l" t="t" r="r" b="b"/>
            <a:pathLst>
              <a:path w="3492500" h="2928937">
                <a:moveTo>
                  <a:pt x="94956" y="1559340"/>
                </a:moveTo>
                <a:cubicBezTo>
                  <a:pt x="50555" y="1027243"/>
                  <a:pt x="381427" y="521931"/>
                  <a:pt x="943592" y="263290"/>
                </a:cubicBezTo>
                <a:lnTo>
                  <a:pt x="910034" y="178545"/>
                </a:lnTo>
                <a:lnTo>
                  <a:pt x="1265239" y="249742"/>
                </a:lnTo>
                <a:lnTo>
                  <a:pt x="1048041" y="527061"/>
                </a:lnTo>
                <a:lnTo>
                  <a:pt x="1014471" y="442286"/>
                </a:lnTo>
                <a:cubicBezTo>
                  <a:pt x="530033" y="668322"/>
                  <a:pt x="247814" y="1097699"/>
                  <a:pt x="287532" y="1548276"/>
                </a:cubicBezTo>
                <a:lnTo>
                  <a:pt x="94956" y="1559340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7" name="TextBox 1" descr=""/>
          <p:cNvPicPr/>
          <p:nvPr/>
        </p:nvPicPr>
        <p:blipFill>
          <a:blip r:embed="rId12"/>
          <a:stretch/>
        </p:blipFill>
        <p:spPr>
          <a:xfrm>
            <a:off x="4943520" y="2335320"/>
            <a:ext cx="738000" cy="676080"/>
          </a:xfrm>
          <a:prstGeom prst="rect">
            <a:avLst/>
          </a:prstGeom>
          <a:ln w="0">
            <a:noFill/>
          </a:ln>
        </p:spPr>
      </p:pic>
      <p:pic>
        <p:nvPicPr>
          <p:cNvPr id="1768" name="TextBox 25" descr=""/>
          <p:cNvPicPr/>
          <p:nvPr/>
        </p:nvPicPr>
        <p:blipFill>
          <a:blip r:embed="rId13"/>
          <a:stretch/>
        </p:blipFill>
        <p:spPr>
          <a:xfrm>
            <a:off x="4834080" y="5041800"/>
            <a:ext cx="798480" cy="669960"/>
          </a:xfrm>
          <a:prstGeom prst="rect">
            <a:avLst/>
          </a:prstGeom>
          <a:ln w="0">
            <a:noFill/>
          </a:ln>
        </p:spPr>
      </p:pic>
      <p:pic>
        <p:nvPicPr>
          <p:cNvPr id="1769" name="TextBox 26" descr=""/>
          <p:cNvPicPr/>
          <p:nvPr/>
        </p:nvPicPr>
        <p:blipFill>
          <a:blip r:embed="rId14"/>
          <a:stretch/>
        </p:blipFill>
        <p:spPr>
          <a:xfrm>
            <a:off x="6797520" y="5510160"/>
            <a:ext cx="792360" cy="671400"/>
          </a:xfrm>
          <a:prstGeom prst="rect">
            <a:avLst/>
          </a:prstGeom>
          <a:ln w="0">
            <a:noFill/>
          </a:ln>
        </p:spPr>
      </p:pic>
      <p:sp>
        <p:nvSpPr>
          <p:cNvPr id="1770" name="Прямоугольник с двумя скругленными противолежащими углами 7"/>
          <p:cNvSpPr/>
          <p:nvPr/>
        </p:nvSpPr>
        <p:spPr>
          <a:xfrm>
            <a:off x="173160" y="216000"/>
            <a:ext cx="8791560" cy="6467400"/>
          </a:xfrm>
          <a:custGeom>
            <a:avLst/>
            <a:gdLst/>
            <a:ahLst/>
            <a:rect l="l" t="t" r="r" b="b"/>
            <a:pathLst>
              <a:path w="8791575" h="6467475">
                <a:moveTo>
                  <a:pt x="785798" y="0"/>
                </a:moveTo>
                <a:lnTo>
                  <a:pt x="8791575" y="0"/>
                </a:lnTo>
                <a:lnTo>
                  <a:pt x="8791575" y="0"/>
                </a:lnTo>
                <a:lnTo>
                  <a:pt x="8791575" y="5681677"/>
                </a:lnTo>
                <a:cubicBezTo>
                  <a:pt x="8791575" y="6115661"/>
                  <a:pt x="8439761" y="6467475"/>
                  <a:pt x="8005777" y="6467475"/>
                </a:cubicBezTo>
                <a:lnTo>
                  <a:pt x="0" y="6467475"/>
                </a:lnTo>
                <a:lnTo>
                  <a:pt x="0" y="6467475"/>
                </a:lnTo>
                <a:lnTo>
                  <a:pt x="0" y="785798"/>
                </a:lnTo>
                <a:cubicBezTo>
                  <a:pt x="0" y="351814"/>
                  <a:pt x="351814" y="0"/>
                  <a:pt x="785798" y="0"/>
                </a:cubicBezTo>
                <a:close/>
              </a:path>
            </a:pathLst>
          </a:custGeom>
          <a:solidFill>
            <a:srgbClr val="d9d9d9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1" name="Picture 6" descr=""/>
          <p:cNvPicPr/>
          <p:nvPr/>
        </p:nvPicPr>
        <p:blipFill>
          <a:blip r:embed="rId15"/>
          <a:stretch/>
        </p:blipFill>
        <p:spPr>
          <a:xfrm>
            <a:off x="7196040" y="336600"/>
            <a:ext cx="731880" cy="858960"/>
          </a:xfrm>
          <a:prstGeom prst="rect">
            <a:avLst/>
          </a:prstGeom>
          <a:ln w="0">
            <a:noFill/>
          </a:ln>
        </p:spPr>
      </p:pic>
      <p:pic>
        <p:nvPicPr>
          <p:cNvPr id="1772" name="Picture 8" descr=""/>
          <p:cNvPicPr/>
          <p:nvPr/>
        </p:nvPicPr>
        <p:blipFill>
          <a:blip r:embed="rId16"/>
          <a:stretch/>
        </p:blipFill>
        <p:spPr>
          <a:xfrm>
            <a:off x="4843440" y="1511280"/>
            <a:ext cx="792360" cy="858960"/>
          </a:xfrm>
          <a:prstGeom prst="rect">
            <a:avLst/>
          </a:prstGeom>
          <a:ln w="0">
            <a:noFill/>
          </a:ln>
        </p:spPr>
      </p:pic>
      <p:pic>
        <p:nvPicPr>
          <p:cNvPr id="1773" name="Picture 9" descr=""/>
          <p:cNvPicPr/>
          <p:nvPr/>
        </p:nvPicPr>
        <p:blipFill>
          <a:blip r:embed="rId17"/>
          <a:stretch/>
        </p:blipFill>
        <p:spPr>
          <a:xfrm>
            <a:off x="2849400" y="2695680"/>
            <a:ext cx="785880" cy="858600"/>
          </a:xfrm>
          <a:prstGeom prst="rect">
            <a:avLst/>
          </a:prstGeom>
          <a:ln w="0">
            <a:noFill/>
          </a:ln>
        </p:spPr>
      </p:pic>
      <p:pic>
        <p:nvPicPr>
          <p:cNvPr id="1774" name="Picture 5" descr=""/>
          <p:cNvPicPr/>
          <p:nvPr/>
        </p:nvPicPr>
        <p:blipFill>
          <a:blip r:embed="rId18"/>
          <a:stretch/>
        </p:blipFill>
        <p:spPr>
          <a:xfrm>
            <a:off x="6811920" y="477828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775" name="Picture 7" descr=""/>
          <p:cNvPicPr/>
          <p:nvPr/>
        </p:nvPicPr>
        <p:blipFill>
          <a:blip r:embed="rId19"/>
          <a:stretch/>
        </p:blipFill>
        <p:spPr>
          <a:xfrm>
            <a:off x="4873680" y="4064040"/>
            <a:ext cx="731880" cy="858960"/>
          </a:xfrm>
          <a:prstGeom prst="rect">
            <a:avLst/>
          </a:prstGeom>
          <a:ln w="0">
            <a:noFill/>
          </a:ln>
        </p:spPr>
      </p:pic>
      <p:pic>
        <p:nvPicPr>
          <p:cNvPr id="1776" name="Picture 3" descr=""/>
          <p:cNvPicPr/>
          <p:nvPr/>
        </p:nvPicPr>
        <p:blipFill>
          <a:blip r:embed="rId20"/>
          <a:stretch/>
        </p:blipFill>
        <p:spPr>
          <a:xfrm>
            <a:off x="401760" y="5437080"/>
            <a:ext cx="1981080" cy="1274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81481E-006 L 0.1783 -0.15902 E">
                                      <p:cBhvr>
                                        <p:cTn id="533" dur="2000" fill="hold"/>
                                        <p:tgtEl>
                                          <p:spTgt spid="1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81481E-006 L 0.1783 -0.15902 E">
                                      <p:cBhvr>
                                        <p:cTn id="535" dur="2000" fill="hold"/>
                                        <p:tgtEl>
                                          <p:spTgt spid="1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1783 -0.15764 E">
                                      <p:cBhvr>
                                        <p:cTn id="537" dur="2000" fill="hold"/>
                                        <p:tgtEl>
                                          <p:spTgt spid="1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9" dur="2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0324 L -0.19115 0.1324 E">
                                      <p:cBhvr>
                                        <p:cTn id="541" dur="2000" fill="hold"/>
                                        <p:tgtEl>
                                          <p:spTgt spid="1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-0.18907 0.1574 E">
                                      <p:cBhvr>
                                        <p:cTn id="543" dur="2000" fill="hold"/>
                                        <p:tgtEl>
                                          <p:spTgt spid="1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-0.18889 0.15115 E">
                                      <p:cBhvr>
                                        <p:cTn id="545" dur="2000" fill="hold"/>
                                        <p:tgtEl>
                                          <p:spTgt spid="1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2" dur="20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77 0.02245 L 0.00868 -0.38403 E">
                                      <p:cBhvr>
                                        <p:cTn id="554" dur="2000" fill="hold"/>
                                        <p:tgtEl>
                                          <p:spTgt spid="1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0.02245 L 0.00868 -0.3875 E">
                                      <p:cBhvr>
                                        <p:cTn id="556" dur="2000" fill="hold"/>
                                        <p:tgtEl>
                                          <p:spTgt spid="1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76 -0.02084 L 0.0085 -0.39445 E">
                                      <p:cBhvr>
                                        <p:cTn id="558" dur="2000" fill="hold"/>
                                        <p:tgtEl>
                                          <p:spTgt spid="1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0" dur="2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934 0.22384 L -0.17431 0.53865 E">
                                      <p:cBhvr>
                                        <p:cTn id="562" dur="2000" fill="hold"/>
                                        <p:tgtEl>
                                          <p:spTgt spid="1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201 0.22824 L -0.19479 0.5537 E">
                                      <p:cBhvr>
                                        <p:cTn id="564" dur="2000" fill="hold"/>
                                        <p:tgtEl>
                                          <p:spTgt spid="1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01 0.1905 L -0.19601 0.54745 E">
                                      <p:cBhvr>
                                        <p:cTn id="566" dur="2000" fill="hold"/>
                                        <p:tgtEl>
                                          <p:spTgt spid="1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3" dur="2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07407E-006 L 0.39931 0.29723 E">
                                      <p:cBhvr>
                                        <p:cTn id="575" dur="2000" fill="hold"/>
                                        <p:tgtEl>
                                          <p:spTgt spid="1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48148E-006 L 0.4073 0.30371 E">
                                      <p:cBhvr>
                                        <p:cTn id="577" dur="2000" fill="hold"/>
                                        <p:tgtEl>
                                          <p:spTgt spid="1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9259E-006 L 0.39427 0.29746 E">
                                      <p:cBhvr>
                                        <p:cTn id="579" dur="2000" fill="hold"/>
                                        <p:tgtEl>
                                          <p:spTgt spid="1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1" dur="20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29 0.02338 L -0.3526 -0.27871 E">
                                      <p:cBhvr>
                                        <p:cTn id="583" dur="2000" fill="hold"/>
                                        <p:tgtEl>
                                          <p:spTgt spid="1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2 0.03588 L -0.34896 -0.29584 E">
                                      <p:cBhvr>
                                        <p:cTn id="585" dur="2000" fill="hold"/>
                                        <p:tgtEl>
                                          <p:spTgt spid="1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95 -0.04282 L -0.34566 -0.31666 E">
                                      <p:cBhvr>
                                        <p:cTn id="587" dur="2000" fill="hold"/>
                                        <p:tgtEl>
                                          <p:spTgt spid="1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2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431 0.53865 L 0.03038 0.6331 E">
                                      <p:cBhvr>
                                        <p:cTn id="596" dur="2000" fill="hold"/>
                                        <p:tgtEl>
                                          <p:spTgt spid="1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698 0.54305 L 0.0099 0.64815 E">
                                      <p:cBhvr>
                                        <p:cTn id="598" dur="2000" fill="hold"/>
                                        <p:tgtEl>
                                          <p:spTgt spid="1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01 0.54745 L 0.00868 0.61041 E">
                                      <p:cBhvr>
                                        <p:cTn id="600" dur="2000" fill="hold"/>
                                        <p:tgtEl>
                                          <p:spTgt spid="1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2" dur="2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931 0.29723 L 0.1632 0.22362 E">
                                      <p:cBhvr>
                                        <p:cTn id="604" dur="2000" fill="hold"/>
                                        <p:tgtEl>
                                          <p:spTgt spid="1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86 0.28588 L 0.15521 0.21968 E">
                                      <p:cBhvr>
                                        <p:cTn id="606" dur="2000" fill="hold"/>
                                        <p:tgtEl>
                                          <p:spTgt spid="1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427 0.29746 L 0.15017 0.21343 E">
                                      <p:cBhvr>
                                        <p:cTn id="608" dur="2000" fill="hold"/>
                                        <p:tgtEl>
                                          <p:spTgt spid="1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07407E-006 L -0.32691 0.25186 E">
                                      <p:cBhvr>
                                        <p:cTn id="624" dur="2000" fill="hold"/>
                                        <p:tgtEl>
                                          <p:spTgt spid="1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6 L -0.06979 0.16482 E">
                                      <p:cBhvr>
                                        <p:cTn id="629" dur="2000" fill="hold"/>
                                        <p:tgtEl>
                                          <p:spTgt spid="1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5.78035E-008 L 0.14479 0.07098 E">
                                      <p:cBhvr>
                                        <p:cTn id="634" dur="2000" fill="hold"/>
                                        <p:tgtEl>
                                          <p:spTgt spid="1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71 0.05487 L -0.07292 -0.05 E">
                                      <p:cBhvr>
                                        <p:cTn id="639" dur="2000" fill="hold"/>
                                        <p:tgtEl>
                                          <p:spTgt spid="1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7037E-006 L -0.29132 -0.07361 E">
                                      <p:cBhvr>
                                        <p:cTn id="644" dur="2000" fill="hold"/>
                                        <p:tgtEl>
                                          <p:spTgt spid="1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7" name="Заголовок 1" descr=""/>
          <p:cNvPicPr/>
          <p:nvPr/>
        </p:nvPicPr>
        <p:blipFill>
          <a:blip r:embed="rId1"/>
          <a:stretch/>
        </p:blipFill>
        <p:spPr>
          <a:xfrm>
            <a:off x="5505480" y="255600"/>
            <a:ext cx="3608280" cy="6419880"/>
          </a:xfrm>
          <a:prstGeom prst="rect">
            <a:avLst/>
          </a:prstGeom>
          <a:ln w="0">
            <a:noFill/>
          </a:ln>
        </p:spPr>
      </p:pic>
      <p:pic>
        <p:nvPicPr>
          <p:cNvPr id="1778" name="Рисунок 5" descr=""/>
          <p:cNvPicPr/>
          <p:nvPr/>
        </p:nvPicPr>
        <p:blipFill>
          <a:blip r:embed="rId2"/>
          <a:stretch/>
        </p:blipFill>
        <p:spPr>
          <a:xfrm>
            <a:off x="158760" y="244440"/>
            <a:ext cx="5308560" cy="6381720"/>
          </a:xfrm>
          <a:prstGeom prst="rect">
            <a:avLst/>
          </a:prstGeom>
          <a:ln w="0">
            <a:noFill/>
          </a:ln>
        </p:spPr>
      </p:pic>
      <p:pic>
        <p:nvPicPr>
          <p:cNvPr id="1779" name="Picture 3" descr=""/>
          <p:cNvPicPr/>
          <p:nvPr/>
        </p:nvPicPr>
        <p:blipFill>
          <a:blip r:embed="rId3"/>
          <a:stretch/>
        </p:blipFill>
        <p:spPr>
          <a:xfrm>
            <a:off x="7162920" y="5614920"/>
            <a:ext cx="1974600" cy="127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0" name="Заголовок 8" descr=""/>
          <p:cNvPicPr/>
          <p:nvPr/>
        </p:nvPicPr>
        <p:blipFill>
          <a:blip r:embed="rId1"/>
          <a:stretch/>
        </p:blipFill>
        <p:spPr>
          <a:xfrm>
            <a:off x="463680" y="878040"/>
            <a:ext cx="8412120" cy="1006200"/>
          </a:xfrm>
          <a:prstGeom prst="rect">
            <a:avLst/>
          </a:prstGeom>
          <a:ln w="0">
            <a:noFill/>
          </a:ln>
        </p:spPr>
      </p:pic>
      <p:sp>
        <p:nvSpPr>
          <p:cNvPr id="1781" name="PlaceHolder 1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515440" cy="262584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Багато чого з математик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не залишається в пам'яті,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але коли розумієш її, тоді легко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при нагоді згадати призабуте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Cambria"/>
              </a:rPr>
              <a:t>М. В. Остроградський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782" name="Picture 2" descr="D:\Documents\Private\Desktop\stock-vector-mountain-graphic-elements-43814590.jpg"/>
          <p:cNvPicPr/>
          <p:nvPr/>
        </p:nvPicPr>
        <p:blipFill>
          <a:blip r:embed="rId2"/>
          <a:srcRect l="0" t="0" r="-160" b="-268"/>
          <a:stretch/>
        </p:blipFill>
        <p:spPr>
          <a:xfrm>
            <a:off x="684360" y="549360"/>
            <a:ext cx="2813040" cy="1871640"/>
          </a:xfrm>
          <a:prstGeom prst="rect">
            <a:avLst/>
          </a:prstGeom>
          <a:ln w="0">
            <a:noFill/>
          </a:ln>
        </p:spPr>
      </p:pic>
      <p:pic>
        <p:nvPicPr>
          <p:cNvPr id="1783" name="Picture 2" descr=""/>
          <p:cNvPicPr/>
          <p:nvPr/>
        </p:nvPicPr>
        <p:blipFill>
          <a:blip r:embed="rId3"/>
          <a:stretch/>
        </p:blipFill>
        <p:spPr>
          <a:xfrm>
            <a:off x="171360" y="4071960"/>
            <a:ext cx="2157480" cy="265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4" name="Picture 2" descr="D:\Documents\Private\Desktop\stock-vector-mountain-graphic-elements-43814590.jpg"/>
          <p:cNvPicPr/>
          <p:nvPr/>
        </p:nvPicPr>
        <p:blipFill>
          <a:blip r:embed="rId1"/>
          <a:srcRect l="0" t="0" r="-160" b="-268"/>
          <a:stretch/>
        </p:blipFill>
        <p:spPr>
          <a:xfrm>
            <a:off x="179280" y="5491080"/>
            <a:ext cx="1851120" cy="1231920"/>
          </a:xfrm>
          <a:prstGeom prst="rect">
            <a:avLst/>
          </a:prstGeom>
          <a:ln w="0">
            <a:noFill/>
          </a:ln>
        </p:spPr>
      </p:pic>
      <p:pic>
        <p:nvPicPr>
          <p:cNvPr id="1785" name="Объект 2" descr=""/>
          <p:cNvPicPr/>
          <p:nvPr/>
        </p:nvPicPr>
        <p:blipFill>
          <a:blip r:embed="rId2"/>
          <a:stretch/>
        </p:blipFill>
        <p:spPr>
          <a:xfrm>
            <a:off x="1146240" y="182520"/>
            <a:ext cx="6851520" cy="651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75439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Объект 2" descr=""/>
          <p:cNvPicPr/>
          <p:nvPr/>
        </p:nvPicPr>
        <p:blipFill>
          <a:blip r:embed="rId1"/>
          <a:stretch/>
        </p:blipFill>
        <p:spPr>
          <a:xfrm>
            <a:off x="890640" y="1494000"/>
            <a:ext cx="7362720" cy="387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9" name="Заголовок 8" descr=""/>
          <p:cNvPicPr/>
          <p:nvPr/>
        </p:nvPicPr>
        <p:blipFill>
          <a:blip r:embed="rId1"/>
          <a:stretch/>
        </p:blipFill>
        <p:spPr>
          <a:xfrm>
            <a:off x="463680" y="878040"/>
            <a:ext cx="8412120" cy="1006200"/>
          </a:xfrm>
          <a:prstGeom prst="rect">
            <a:avLst/>
          </a:prstGeom>
          <a:ln w="0">
            <a:noFill/>
          </a:ln>
        </p:spPr>
      </p:pic>
      <p:sp>
        <p:nvSpPr>
          <p:cNvPr id="1790" name="PlaceHolder 1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515440" cy="262584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Навчання мистецтву розв'язувати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задачі – це виховання волі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Cambria"/>
              </a:rPr>
              <a:t>Д. Пойа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791" name="Picture 3" descr="D:\Documents\Private\Desktop\stock-vector-mountain-graphic-elements-43814590.jpg"/>
          <p:cNvPicPr/>
          <p:nvPr/>
        </p:nvPicPr>
        <p:blipFill>
          <a:blip r:embed="rId2"/>
          <a:srcRect l="0" t="0" r="0" b="-117"/>
          <a:stretch/>
        </p:blipFill>
        <p:spPr>
          <a:xfrm>
            <a:off x="468360" y="436680"/>
            <a:ext cx="3085920" cy="177156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2" descr=""/>
          <p:cNvPicPr/>
          <p:nvPr/>
        </p:nvPicPr>
        <p:blipFill>
          <a:blip r:embed="rId3"/>
          <a:stretch/>
        </p:blipFill>
        <p:spPr>
          <a:xfrm>
            <a:off x="219240" y="4359240"/>
            <a:ext cx="216360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3" name="Picture 3" descr="D:\Documents\Private\Desktop\stock-vector-mountain-graphic-elements-43814590.jpg"/>
          <p:cNvPicPr/>
          <p:nvPr/>
        </p:nvPicPr>
        <p:blipFill>
          <a:blip r:embed="rId1"/>
          <a:srcRect l="0" t="0" r="0" b="-117"/>
          <a:stretch/>
        </p:blipFill>
        <p:spPr>
          <a:xfrm>
            <a:off x="187200" y="5560920"/>
            <a:ext cx="1936800" cy="1111320"/>
          </a:xfrm>
          <a:prstGeom prst="rect">
            <a:avLst/>
          </a:prstGeom>
          <a:ln w="0">
            <a:noFill/>
          </a:ln>
        </p:spPr>
      </p:pic>
      <p:pic>
        <p:nvPicPr>
          <p:cNvPr id="1794" name="Объект 2" descr=""/>
          <p:cNvPicPr/>
          <p:nvPr/>
        </p:nvPicPr>
        <p:blipFill>
          <a:blip r:embed="rId2"/>
          <a:stretch/>
        </p:blipFill>
        <p:spPr>
          <a:xfrm>
            <a:off x="712800" y="182520"/>
            <a:ext cx="7718400" cy="641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9" name="Заголовок 1" descr=""/>
          <p:cNvPicPr/>
          <p:nvPr/>
        </p:nvPicPr>
        <p:blipFill>
          <a:blip r:embed="rId1"/>
          <a:stretch/>
        </p:blipFill>
        <p:spPr>
          <a:xfrm>
            <a:off x="463680" y="1547640"/>
            <a:ext cx="834552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5" name="Таблица 4" descr=""/>
          <p:cNvPicPr/>
          <p:nvPr/>
        </p:nvPicPr>
        <p:blipFill>
          <a:blip r:embed="rId1"/>
          <a:stretch/>
        </p:blipFill>
        <p:spPr>
          <a:xfrm>
            <a:off x="152280" y="189000"/>
            <a:ext cx="8888400" cy="6351480"/>
          </a:xfrm>
          <a:prstGeom prst="rect">
            <a:avLst/>
          </a:prstGeom>
          <a:ln w="0">
            <a:noFill/>
          </a:ln>
        </p:spPr>
      </p:pic>
      <p:sp>
        <p:nvSpPr>
          <p:cNvPr id="1796" name="Прямоугольник 2"/>
          <p:cNvSpPr/>
          <p:nvPr/>
        </p:nvSpPr>
        <p:spPr>
          <a:xfrm>
            <a:off x="3780000" y="237492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1;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Прямоугольник 6"/>
          <p:cNvSpPr/>
          <p:nvPr/>
        </p:nvSpPr>
        <p:spPr>
          <a:xfrm>
            <a:off x="5484960" y="2374920"/>
            <a:ext cx="17031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2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Прямоугольник 7"/>
          <p:cNvSpPr/>
          <p:nvPr/>
        </p:nvSpPr>
        <p:spPr>
          <a:xfrm>
            <a:off x="7188120" y="237492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4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Прямоугольник 10"/>
          <p:cNvSpPr/>
          <p:nvPr/>
        </p:nvSpPr>
        <p:spPr>
          <a:xfrm>
            <a:off x="3780000" y="146196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Прямоугольник 11"/>
          <p:cNvSpPr/>
          <p:nvPr/>
        </p:nvSpPr>
        <p:spPr>
          <a:xfrm>
            <a:off x="5484960" y="1461960"/>
            <a:ext cx="17031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Прямоугольник 12"/>
          <p:cNvSpPr/>
          <p:nvPr/>
        </p:nvSpPr>
        <p:spPr>
          <a:xfrm>
            <a:off x="7188120" y="146196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Прямоугольник 14"/>
          <p:cNvSpPr/>
          <p:nvPr/>
        </p:nvSpPr>
        <p:spPr>
          <a:xfrm>
            <a:off x="3780000" y="192096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Прямоугольник 15"/>
          <p:cNvSpPr/>
          <p:nvPr/>
        </p:nvSpPr>
        <p:spPr>
          <a:xfrm>
            <a:off x="5484960" y="192096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Прямоугольник 16"/>
          <p:cNvSpPr/>
          <p:nvPr/>
        </p:nvSpPr>
        <p:spPr>
          <a:xfrm>
            <a:off x="7188120" y="192096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Прямоугольник 18"/>
          <p:cNvSpPr/>
          <p:nvPr/>
        </p:nvSpPr>
        <p:spPr>
          <a:xfrm>
            <a:off x="3780000" y="283068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Прямоугольник 19"/>
          <p:cNvSpPr/>
          <p:nvPr/>
        </p:nvSpPr>
        <p:spPr>
          <a:xfrm>
            <a:off x="5484960" y="283068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0;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Прямоугольник 20"/>
          <p:cNvSpPr/>
          <p:nvPr/>
        </p:nvSpPr>
        <p:spPr>
          <a:xfrm>
            <a:off x="7188120" y="283068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;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Прямоугольник 36"/>
          <p:cNvSpPr/>
          <p:nvPr/>
        </p:nvSpPr>
        <p:spPr>
          <a:xfrm>
            <a:off x="3778200" y="5538960"/>
            <a:ext cx="170352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2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Прямоугольник 37"/>
          <p:cNvSpPr/>
          <p:nvPr/>
        </p:nvSpPr>
        <p:spPr>
          <a:xfrm>
            <a:off x="5481720" y="553896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1;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Прямоугольник 38"/>
          <p:cNvSpPr/>
          <p:nvPr/>
        </p:nvSpPr>
        <p:spPr>
          <a:xfrm>
            <a:off x="7186680" y="553896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3;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Прямоугольник 33"/>
          <p:cNvSpPr/>
          <p:nvPr/>
        </p:nvSpPr>
        <p:spPr>
          <a:xfrm>
            <a:off x="3778200" y="4626000"/>
            <a:ext cx="170352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Прямоугольник 34"/>
          <p:cNvSpPr/>
          <p:nvPr/>
        </p:nvSpPr>
        <p:spPr>
          <a:xfrm>
            <a:off x="5481720" y="462600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Прямоугольник 35"/>
          <p:cNvSpPr/>
          <p:nvPr/>
        </p:nvSpPr>
        <p:spPr>
          <a:xfrm>
            <a:off x="7186680" y="462600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Прямоугольник 30"/>
          <p:cNvSpPr/>
          <p:nvPr/>
        </p:nvSpPr>
        <p:spPr>
          <a:xfrm>
            <a:off x="3778200" y="5083200"/>
            <a:ext cx="170352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Прямоугольник 31"/>
          <p:cNvSpPr/>
          <p:nvPr/>
        </p:nvSpPr>
        <p:spPr>
          <a:xfrm>
            <a:off x="5481720" y="508320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Прямоугольник 32"/>
          <p:cNvSpPr/>
          <p:nvPr/>
        </p:nvSpPr>
        <p:spPr>
          <a:xfrm>
            <a:off x="7186680" y="5083200"/>
            <a:ext cx="17031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Прямоугольник 27"/>
          <p:cNvSpPr/>
          <p:nvPr/>
        </p:nvSpPr>
        <p:spPr>
          <a:xfrm>
            <a:off x="3778200" y="5992920"/>
            <a:ext cx="1703520" cy="45540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1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Прямоугольник 28"/>
          <p:cNvSpPr/>
          <p:nvPr/>
        </p:nvSpPr>
        <p:spPr>
          <a:xfrm>
            <a:off x="5481720" y="5992920"/>
            <a:ext cx="1704960" cy="45540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0;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Прямоугольник 29"/>
          <p:cNvSpPr/>
          <p:nvPr/>
        </p:nvSpPr>
        <p:spPr>
          <a:xfrm>
            <a:off x="7186680" y="5992920"/>
            <a:ext cx="1703160" cy="45540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2;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0" name="Picture 3" descr="D:\Documents\Private\Desktop\stock-vector-mountain-graphic-elements-43814590.jpg"/>
          <p:cNvPicPr/>
          <p:nvPr/>
        </p:nvPicPr>
        <p:blipFill>
          <a:blip r:embed="rId2"/>
          <a:srcRect l="0" t="0" r="0" b="-117"/>
          <a:stretch/>
        </p:blipFill>
        <p:spPr>
          <a:xfrm>
            <a:off x="-181080" y="5727600"/>
            <a:ext cx="1936800" cy="111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1" name="Picture 3" descr="D:\Documents\Private\Desktop\stock-vector-mountain-graphic-elements-43814590.jpg"/>
          <p:cNvPicPr/>
          <p:nvPr/>
        </p:nvPicPr>
        <p:blipFill>
          <a:blip r:embed="rId1"/>
          <a:srcRect l="0" t="0" r="0" b="-117"/>
          <a:stretch/>
        </p:blipFill>
        <p:spPr>
          <a:xfrm>
            <a:off x="187200" y="5560920"/>
            <a:ext cx="1936800" cy="1111320"/>
          </a:xfrm>
          <a:prstGeom prst="rect">
            <a:avLst/>
          </a:prstGeom>
          <a:ln w="0">
            <a:noFill/>
          </a:ln>
        </p:spPr>
      </p:pic>
      <p:pic>
        <p:nvPicPr>
          <p:cNvPr id="1822" name="Объект 2" descr=""/>
          <p:cNvPicPr/>
          <p:nvPr/>
        </p:nvPicPr>
        <p:blipFill>
          <a:blip r:embed="rId2"/>
          <a:stretch/>
        </p:blipFill>
        <p:spPr>
          <a:xfrm>
            <a:off x="712800" y="182520"/>
            <a:ext cx="7718400" cy="641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3" name="Таблица 4" descr=""/>
          <p:cNvPicPr/>
          <p:nvPr/>
        </p:nvPicPr>
        <p:blipFill>
          <a:blip r:embed="rId1"/>
          <a:stretch/>
        </p:blipFill>
        <p:spPr>
          <a:xfrm>
            <a:off x="152280" y="189000"/>
            <a:ext cx="8888400" cy="6351480"/>
          </a:xfrm>
          <a:prstGeom prst="rect">
            <a:avLst/>
          </a:prstGeom>
          <a:ln w="0">
            <a:noFill/>
          </a:ln>
        </p:spPr>
      </p:pic>
      <p:sp>
        <p:nvSpPr>
          <p:cNvPr id="1824" name="Прямоугольник 2"/>
          <p:cNvSpPr/>
          <p:nvPr/>
        </p:nvSpPr>
        <p:spPr>
          <a:xfrm>
            <a:off x="3780000" y="237492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1;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Прямоугольник 6"/>
          <p:cNvSpPr/>
          <p:nvPr/>
        </p:nvSpPr>
        <p:spPr>
          <a:xfrm>
            <a:off x="5484960" y="2374920"/>
            <a:ext cx="17031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2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Прямоугольник 7"/>
          <p:cNvSpPr/>
          <p:nvPr/>
        </p:nvSpPr>
        <p:spPr>
          <a:xfrm>
            <a:off x="7188120" y="237492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4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Прямоугольник 10"/>
          <p:cNvSpPr/>
          <p:nvPr/>
        </p:nvSpPr>
        <p:spPr>
          <a:xfrm>
            <a:off x="3780000" y="146196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Прямоугольник 11"/>
          <p:cNvSpPr/>
          <p:nvPr/>
        </p:nvSpPr>
        <p:spPr>
          <a:xfrm>
            <a:off x="5484960" y="1461960"/>
            <a:ext cx="17031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Прямоугольник 12"/>
          <p:cNvSpPr/>
          <p:nvPr/>
        </p:nvSpPr>
        <p:spPr>
          <a:xfrm>
            <a:off x="7188120" y="146196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Прямоугольник 14"/>
          <p:cNvSpPr/>
          <p:nvPr/>
        </p:nvSpPr>
        <p:spPr>
          <a:xfrm>
            <a:off x="3780000" y="192096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Прямоугольник 15"/>
          <p:cNvSpPr/>
          <p:nvPr/>
        </p:nvSpPr>
        <p:spPr>
          <a:xfrm>
            <a:off x="5484960" y="192096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Прямоугольник 16"/>
          <p:cNvSpPr/>
          <p:nvPr/>
        </p:nvSpPr>
        <p:spPr>
          <a:xfrm>
            <a:off x="7188120" y="192096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Прямоугольник 18"/>
          <p:cNvSpPr/>
          <p:nvPr/>
        </p:nvSpPr>
        <p:spPr>
          <a:xfrm>
            <a:off x="3780000" y="283068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Прямоугольник 19"/>
          <p:cNvSpPr/>
          <p:nvPr/>
        </p:nvSpPr>
        <p:spPr>
          <a:xfrm>
            <a:off x="5484960" y="283068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0;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Прямоугольник 20"/>
          <p:cNvSpPr/>
          <p:nvPr/>
        </p:nvSpPr>
        <p:spPr>
          <a:xfrm>
            <a:off x="7188120" y="283068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;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Прямоугольник 36"/>
          <p:cNvSpPr/>
          <p:nvPr/>
        </p:nvSpPr>
        <p:spPr>
          <a:xfrm>
            <a:off x="3778200" y="5538960"/>
            <a:ext cx="170352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2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Прямоугольник 37"/>
          <p:cNvSpPr/>
          <p:nvPr/>
        </p:nvSpPr>
        <p:spPr>
          <a:xfrm>
            <a:off x="5481720" y="553896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1;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Прямоугольник 38"/>
          <p:cNvSpPr/>
          <p:nvPr/>
        </p:nvSpPr>
        <p:spPr>
          <a:xfrm>
            <a:off x="7186680" y="553896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3;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Прямоугольник 33"/>
          <p:cNvSpPr/>
          <p:nvPr/>
        </p:nvSpPr>
        <p:spPr>
          <a:xfrm>
            <a:off x="3778200" y="4626000"/>
            <a:ext cx="170352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Прямоугольник 34"/>
          <p:cNvSpPr/>
          <p:nvPr/>
        </p:nvSpPr>
        <p:spPr>
          <a:xfrm>
            <a:off x="5481720" y="462600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Прямоугольник 35"/>
          <p:cNvSpPr/>
          <p:nvPr/>
        </p:nvSpPr>
        <p:spPr>
          <a:xfrm>
            <a:off x="7186680" y="462600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Прямоугольник 30"/>
          <p:cNvSpPr/>
          <p:nvPr/>
        </p:nvSpPr>
        <p:spPr>
          <a:xfrm>
            <a:off x="3778200" y="5083200"/>
            <a:ext cx="170352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Прямоугольник 31"/>
          <p:cNvSpPr/>
          <p:nvPr/>
        </p:nvSpPr>
        <p:spPr>
          <a:xfrm>
            <a:off x="5481720" y="508320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Прямоугольник 32"/>
          <p:cNvSpPr/>
          <p:nvPr/>
        </p:nvSpPr>
        <p:spPr>
          <a:xfrm>
            <a:off x="7186680" y="5083200"/>
            <a:ext cx="17031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Прямоугольник 27"/>
          <p:cNvSpPr/>
          <p:nvPr/>
        </p:nvSpPr>
        <p:spPr>
          <a:xfrm>
            <a:off x="3778200" y="5992920"/>
            <a:ext cx="1703520" cy="45540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1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Прямоугольник 28"/>
          <p:cNvSpPr/>
          <p:nvPr/>
        </p:nvSpPr>
        <p:spPr>
          <a:xfrm>
            <a:off x="5481720" y="5992920"/>
            <a:ext cx="1704960" cy="45540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0;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Прямоугольник 29"/>
          <p:cNvSpPr/>
          <p:nvPr/>
        </p:nvSpPr>
        <p:spPr>
          <a:xfrm>
            <a:off x="7186680" y="5992920"/>
            <a:ext cx="1703160" cy="45540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2;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Прямоугольник 8"/>
          <p:cNvSpPr/>
          <p:nvPr/>
        </p:nvSpPr>
        <p:spPr>
          <a:xfrm>
            <a:off x="5484960" y="1474920"/>
            <a:ext cx="1703160" cy="431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Умножение 39"/>
          <p:cNvSpPr/>
          <p:nvPr/>
        </p:nvSpPr>
        <p:spPr>
          <a:xfrm>
            <a:off x="3263760" y="1335240"/>
            <a:ext cx="2730600" cy="709560"/>
          </a:xfrm>
          <a:custGeom>
            <a:avLst/>
            <a:gdLst/>
            <a:ahLst/>
            <a:rect l="l" t="t" r="r" b="b"/>
            <a:pathLst>
              <a:path w="2730500" h="709612">
                <a:moveTo>
                  <a:pt x="647596" y="201989"/>
                </a:moveTo>
                <a:lnTo>
                  <a:pt x="663999" y="138873"/>
                </a:lnTo>
                <a:lnTo>
                  <a:pt x="1365250" y="321116"/>
                </a:lnTo>
                <a:lnTo>
                  <a:pt x="2066501" y="138873"/>
                </a:lnTo>
                <a:lnTo>
                  <a:pt x="2082904" y="201989"/>
                </a:lnTo>
                <a:lnTo>
                  <a:pt x="1494884" y="354806"/>
                </a:lnTo>
                <a:lnTo>
                  <a:pt x="2082904" y="507623"/>
                </a:lnTo>
                <a:lnTo>
                  <a:pt x="2066501" y="570739"/>
                </a:lnTo>
                <a:lnTo>
                  <a:pt x="1365250" y="388496"/>
                </a:lnTo>
                <a:lnTo>
                  <a:pt x="663999" y="570739"/>
                </a:lnTo>
                <a:lnTo>
                  <a:pt x="647596" y="507623"/>
                </a:lnTo>
                <a:lnTo>
                  <a:pt x="1235616" y="354806"/>
                </a:lnTo>
                <a:lnTo>
                  <a:pt x="647596" y="201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Умножение 40"/>
          <p:cNvSpPr/>
          <p:nvPr/>
        </p:nvSpPr>
        <p:spPr>
          <a:xfrm>
            <a:off x="6672240" y="1335240"/>
            <a:ext cx="2730600" cy="709560"/>
          </a:xfrm>
          <a:custGeom>
            <a:avLst/>
            <a:gdLst/>
            <a:ahLst/>
            <a:rect l="l" t="t" r="r" b="b"/>
            <a:pathLst>
              <a:path w="2730500" h="709612">
                <a:moveTo>
                  <a:pt x="647596" y="201989"/>
                </a:moveTo>
                <a:lnTo>
                  <a:pt x="663999" y="138873"/>
                </a:lnTo>
                <a:lnTo>
                  <a:pt x="1365250" y="321116"/>
                </a:lnTo>
                <a:lnTo>
                  <a:pt x="2066501" y="138873"/>
                </a:lnTo>
                <a:lnTo>
                  <a:pt x="2082904" y="201989"/>
                </a:lnTo>
                <a:lnTo>
                  <a:pt x="1494884" y="354806"/>
                </a:lnTo>
                <a:lnTo>
                  <a:pt x="2082904" y="507623"/>
                </a:lnTo>
                <a:lnTo>
                  <a:pt x="2066501" y="570739"/>
                </a:lnTo>
                <a:lnTo>
                  <a:pt x="1365250" y="388496"/>
                </a:lnTo>
                <a:lnTo>
                  <a:pt x="663999" y="570739"/>
                </a:lnTo>
                <a:lnTo>
                  <a:pt x="647596" y="507623"/>
                </a:lnTo>
                <a:lnTo>
                  <a:pt x="1235616" y="354806"/>
                </a:lnTo>
                <a:lnTo>
                  <a:pt x="647596" y="201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Умножение 41"/>
          <p:cNvSpPr/>
          <p:nvPr/>
        </p:nvSpPr>
        <p:spPr>
          <a:xfrm>
            <a:off x="4970520" y="1793880"/>
            <a:ext cx="2730600" cy="70812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Умножение 42"/>
          <p:cNvSpPr/>
          <p:nvPr/>
        </p:nvSpPr>
        <p:spPr>
          <a:xfrm>
            <a:off x="6672240" y="1793880"/>
            <a:ext cx="2730600" cy="70812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Прямоугольник 43"/>
          <p:cNvSpPr/>
          <p:nvPr/>
        </p:nvSpPr>
        <p:spPr>
          <a:xfrm>
            <a:off x="3780000" y="1932120"/>
            <a:ext cx="1704960" cy="431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Умножение 44"/>
          <p:cNvSpPr/>
          <p:nvPr/>
        </p:nvSpPr>
        <p:spPr>
          <a:xfrm>
            <a:off x="3267000" y="2247840"/>
            <a:ext cx="2730600" cy="709560"/>
          </a:xfrm>
          <a:custGeom>
            <a:avLst/>
            <a:gdLst/>
            <a:ahLst/>
            <a:rect l="l" t="t" r="r" b="b"/>
            <a:pathLst>
              <a:path w="2730500" h="709613">
                <a:moveTo>
                  <a:pt x="647596" y="201990"/>
                </a:moveTo>
                <a:lnTo>
                  <a:pt x="663999" y="138873"/>
                </a:lnTo>
                <a:lnTo>
                  <a:pt x="1365250" y="321117"/>
                </a:lnTo>
                <a:lnTo>
                  <a:pt x="2066501" y="138873"/>
                </a:lnTo>
                <a:lnTo>
                  <a:pt x="2082904" y="201990"/>
                </a:lnTo>
                <a:lnTo>
                  <a:pt x="1494884" y="354807"/>
                </a:lnTo>
                <a:lnTo>
                  <a:pt x="2082904" y="507623"/>
                </a:lnTo>
                <a:lnTo>
                  <a:pt x="2066501" y="570740"/>
                </a:lnTo>
                <a:lnTo>
                  <a:pt x="1365250" y="388496"/>
                </a:lnTo>
                <a:lnTo>
                  <a:pt x="663999" y="570740"/>
                </a:lnTo>
                <a:lnTo>
                  <a:pt x="647596" y="507623"/>
                </a:lnTo>
                <a:lnTo>
                  <a:pt x="1235616" y="354807"/>
                </a:lnTo>
                <a:lnTo>
                  <a:pt x="647596" y="2019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Умножение 45"/>
          <p:cNvSpPr/>
          <p:nvPr/>
        </p:nvSpPr>
        <p:spPr>
          <a:xfrm>
            <a:off x="4970520" y="2247840"/>
            <a:ext cx="2730600" cy="709560"/>
          </a:xfrm>
          <a:custGeom>
            <a:avLst/>
            <a:gdLst/>
            <a:ahLst/>
            <a:rect l="l" t="t" r="r" b="b"/>
            <a:pathLst>
              <a:path w="2730500" h="709613">
                <a:moveTo>
                  <a:pt x="647596" y="201990"/>
                </a:moveTo>
                <a:lnTo>
                  <a:pt x="663999" y="138873"/>
                </a:lnTo>
                <a:lnTo>
                  <a:pt x="1365250" y="321117"/>
                </a:lnTo>
                <a:lnTo>
                  <a:pt x="2066501" y="138873"/>
                </a:lnTo>
                <a:lnTo>
                  <a:pt x="2082904" y="201990"/>
                </a:lnTo>
                <a:lnTo>
                  <a:pt x="1494884" y="354807"/>
                </a:lnTo>
                <a:lnTo>
                  <a:pt x="2082904" y="507623"/>
                </a:lnTo>
                <a:lnTo>
                  <a:pt x="2066501" y="570740"/>
                </a:lnTo>
                <a:lnTo>
                  <a:pt x="1365250" y="388496"/>
                </a:lnTo>
                <a:lnTo>
                  <a:pt x="663999" y="570740"/>
                </a:lnTo>
                <a:lnTo>
                  <a:pt x="647596" y="507623"/>
                </a:lnTo>
                <a:lnTo>
                  <a:pt x="1235616" y="354807"/>
                </a:lnTo>
                <a:lnTo>
                  <a:pt x="647596" y="2019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Прямоугольник 46"/>
          <p:cNvSpPr/>
          <p:nvPr/>
        </p:nvSpPr>
        <p:spPr>
          <a:xfrm>
            <a:off x="7186680" y="2398680"/>
            <a:ext cx="1703160" cy="432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Умножение 47"/>
          <p:cNvSpPr/>
          <p:nvPr/>
        </p:nvSpPr>
        <p:spPr>
          <a:xfrm>
            <a:off x="3267000" y="2703600"/>
            <a:ext cx="2730600" cy="70776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Умножение 48"/>
          <p:cNvSpPr/>
          <p:nvPr/>
        </p:nvSpPr>
        <p:spPr>
          <a:xfrm>
            <a:off x="6672240" y="2703600"/>
            <a:ext cx="2730600" cy="70776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Прямоугольник 50"/>
          <p:cNvSpPr/>
          <p:nvPr/>
        </p:nvSpPr>
        <p:spPr>
          <a:xfrm>
            <a:off x="5481720" y="2841480"/>
            <a:ext cx="1704960" cy="432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Умножение 51"/>
          <p:cNvSpPr/>
          <p:nvPr/>
        </p:nvSpPr>
        <p:spPr>
          <a:xfrm>
            <a:off x="3267000" y="4498920"/>
            <a:ext cx="2730600" cy="70812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Умножение 52"/>
          <p:cNvSpPr/>
          <p:nvPr/>
        </p:nvSpPr>
        <p:spPr>
          <a:xfrm>
            <a:off x="6672240" y="4498920"/>
            <a:ext cx="2730600" cy="70812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Прямоугольник 55"/>
          <p:cNvSpPr/>
          <p:nvPr/>
        </p:nvSpPr>
        <p:spPr>
          <a:xfrm>
            <a:off x="5518080" y="4624560"/>
            <a:ext cx="1704960" cy="431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Умножение 57"/>
          <p:cNvSpPr/>
          <p:nvPr/>
        </p:nvSpPr>
        <p:spPr>
          <a:xfrm>
            <a:off x="6672240" y="4956120"/>
            <a:ext cx="2730600" cy="709560"/>
          </a:xfrm>
          <a:custGeom>
            <a:avLst/>
            <a:gdLst/>
            <a:ahLst/>
            <a:rect l="l" t="t" r="r" b="b"/>
            <a:pathLst>
              <a:path w="2730500" h="709613">
                <a:moveTo>
                  <a:pt x="647596" y="201990"/>
                </a:moveTo>
                <a:lnTo>
                  <a:pt x="663999" y="138873"/>
                </a:lnTo>
                <a:lnTo>
                  <a:pt x="1365250" y="321117"/>
                </a:lnTo>
                <a:lnTo>
                  <a:pt x="2066501" y="138873"/>
                </a:lnTo>
                <a:lnTo>
                  <a:pt x="2082904" y="201990"/>
                </a:lnTo>
                <a:lnTo>
                  <a:pt x="1494884" y="354807"/>
                </a:lnTo>
                <a:lnTo>
                  <a:pt x="2082904" y="507623"/>
                </a:lnTo>
                <a:lnTo>
                  <a:pt x="2066501" y="570740"/>
                </a:lnTo>
                <a:lnTo>
                  <a:pt x="1365250" y="388496"/>
                </a:lnTo>
                <a:lnTo>
                  <a:pt x="663999" y="570740"/>
                </a:lnTo>
                <a:lnTo>
                  <a:pt x="647596" y="507623"/>
                </a:lnTo>
                <a:lnTo>
                  <a:pt x="1235616" y="354807"/>
                </a:lnTo>
                <a:lnTo>
                  <a:pt x="647596" y="2019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Умножение 58"/>
          <p:cNvSpPr/>
          <p:nvPr/>
        </p:nvSpPr>
        <p:spPr>
          <a:xfrm>
            <a:off x="3267000" y="5411880"/>
            <a:ext cx="2730600" cy="70776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Умножение 59"/>
          <p:cNvSpPr/>
          <p:nvPr/>
        </p:nvSpPr>
        <p:spPr>
          <a:xfrm>
            <a:off x="4968720" y="5411880"/>
            <a:ext cx="2730600" cy="70776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Умножение 60"/>
          <p:cNvSpPr/>
          <p:nvPr/>
        </p:nvSpPr>
        <p:spPr>
          <a:xfrm>
            <a:off x="3267000" y="5865840"/>
            <a:ext cx="2730600" cy="709560"/>
          </a:xfrm>
          <a:custGeom>
            <a:avLst/>
            <a:gdLst/>
            <a:ahLst/>
            <a:rect l="l" t="t" r="r" b="b"/>
            <a:pathLst>
              <a:path w="2730500" h="709612">
                <a:moveTo>
                  <a:pt x="647596" y="201989"/>
                </a:moveTo>
                <a:lnTo>
                  <a:pt x="663999" y="138873"/>
                </a:lnTo>
                <a:lnTo>
                  <a:pt x="1365250" y="321116"/>
                </a:lnTo>
                <a:lnTo>
                  <a:pt x="2066501" y="138873"/>
                </a:lnTo>
                <a:lnTo>
                  <a:pt x="2082904" y="201989"/>
                </a:lnTo>
                <a:lnTo>
                  <a:pt x="1494884" y="354806"/>
                </a:lnTo>
                <a:lnTo>
                  <a:pt x="2082904" y="507623"/>
                </a:lnTo>
                <a:lnTo>
                  <a:pt x="2066501" y="570739"/>
                </a:lnTo>
                <a:lnTo>
                  <a:pt x="1365250" y="388496"/>
                </a:lnTo>
                <a:lnTo>
                  <a:pt x="663999" y="570739"/>
                </a:lnTo>
                <a:lnTo>
                  <a:pt x="647596" y="507623"/>
                </a:lnTo>
                <a:lnTo>
                  <a:pt x="1235616" y="354806"/>
                </a:lnTo>
                <a:lnTo>
                  <a:pt x="647596" y="201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Умножение 61"/>
          <p:cNvSpPr/>
          <p:nvPr/>
        </p:nvSpPr>
        <p:spPr>
          <a:xfrm>
            <a:off x="6675480" y="5865840"/>
            <a:ext cx="2730600" cy="709560"/>
          </a:xfrm>
          <a:custGeom>
            <a:avLst/>
            <a:gdLst/>
            <a:ahLst/>
            <a:rect l="l" t="t" r="r" b="b"/>
            <a:pathLst>
              <a:path w="2730500" h="709612">
                <a:moveTo>
                  <a:pt x="647596" y="201989"/>
                </a:moveTo>
                <a:lnTo>
                  <a:pt x="663999" y="138873"/>
                </a:lnTo>
                <a:lnTo>
                  <a:pt x="1365250" y="321116"/>
                </a:lnTo>
                <a:lnTo>
                  <a:pt x="2066501" y="138873"/>
                </a:lnTo>
                <a:lnTo>
                  <a:pt x="2082904" y="201989"/>
                </a:lnTo>
                <a:lnTo>
                  <a:pt x="1494884" y="354806"/>
                </a:lnTo>
                <a:lnTo>
                  <a:pt x="2082904" y="507623"/>
                </a:lnTo>
                <a:lnTo>
                  <a:pt x="2066501" y="570739"/>
                </a:lnTo>
                <a:lnTo>
                  <a:pt x="1365250" y="388496"/>
                </a:lnTo>
                <a:lnTo>
                  <a:pt x="663999" y="570739"/>
                </a:lnTo>
                <a:lnTo>
                  <a:pt x="647596" y="507623"/>
                </a:lnTo>
                <a:lnTo>
                  <a:pt x="1235616" y="354806"/>
                </a:lnTo>
                <a:lnTo>
                  <a:pt x="647596" y="201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Прямоугольник 62"/>
          <p:cNvSpPr/>
          <p:nvPr/>
        </p:nvSpPr>
        <p:spPr>
          <a:xfrm>
            <a:off x="3780000" y="5094360"/>
            <a:ext cx="1704960" cy="433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Прямоугольник 63"/>
          <p:cNvSpPr/>
          <p:nvPr/>
        </p:nvSpPr>
        <p:spPr>
          <a:xfrm>
            <a:off x="7223040" y="5549760"/>
            <a:ext cx="1666800" cy="432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Прямоугольник 64"/>
          <p:cNvSpPr/>
          <p:nvPr/>
        </p:nvSpPr>
        <p:spPr>
          <a:xfrm>
            <a:off x="5484960" y="6016680"/>
            <a:ext cx="1703160" cy="431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Умножение 66"/>
          <p:cNvSpPr/>
          <p:nvPr/>
        </p:nvSpPr>
        <p:spPr>
          <a:xfrm>
            <a:off x="4946760" y="4956120"/>
            <a:ext cx="2730240" cy="709560"/>
          </a:xfrm>
          <a:custGeom>
            <a:avLst/>
            <a:gdLst/>
            <a:ahLst/>
            <a:rect l="l" t="t" r="r" b="b"/>
            <a:pathLst>
              <a:path w="2730500" h="709613">
                <a:moveTo>
                  <a:pt x="647596" y="201990"/>
                </a:moveTo>
                <a:lnTo>
                  <a:pt x="663999" y="138873"/>
                </a:lnTo>
                <a:lnTo>
                  <a:pt x="1365250" y="321117"/>
                </a:lnTo>
                <a:lnTo>
                  <a:pt x="2066501" y="138873"/>
                </a:lnTo>
                <a:lnTo>
                  <a:pt x="2082904" y="201990"/>
                </a:lnTo>
                <a:lnTo>
                  <a:pt x="1494884" y="354807"/>
                </a:lnTo>
                <a:lnTo>
                  <a:pt x="2082904" y="507623"/>
                </a:lnTo>
                <a:lnTo>
                  <a:pt x="2066501" y="570740"/>
                </a:lnTo>
                <a:lnTo>
                  <a:pt x="1365250" y="388496"/>
                </a:lnTo>
                <a:lnTo>
                  <a:pt x="663999" y="570740"/>
                </a:lnTo>
                <a:lnTo>
                  <a:pt x="647596" y="507623"/>
                </a:lnTo>
                <a:lnTo>
                  <a:pt x="1235616" y="354807"/>
                </a:lnTo>
                <a:lnTo>
                  <a:pt x="647596" y="2019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2" name="Picture 3" descr="D:\Documents\Private\Desktop\stock-vector-mountain-graphic-elements-43814590.jpg"/>
          <p:cNvPicPr/>
          <p:nvPr/>
        </p:nvPicPr>
        <p:blipFill>
          <a:blip r:embed="rId2"/>
          <a:srcRect l="0" t="0" r="0" b="-117"/>
          <a:stretch/>
        </p:blipFill>
        <p:spPr>
          <a:xfrm>
            <a:off x="-181080" y="5727600"/>
            <a:ext cx="1936800" cy="111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651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660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8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1827"/>
                    </p:tgtEl>
                  </p:cond>
                </p:stCondLst>
                <p:childTnLst>
                  <p:par>
                    <p:cTn id="675" nodeType="clickEffect" fill="hold">
                      <p:stCondLst>
                        <p:cond evt="onClick">
                          <p:tgtEl>
                            <p:spTgt spid="1827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1828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1828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68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1829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1829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1831"/>
                    </p:tgtEl>
                  </p:cond>
                </p:stCondLst>
                <p:childTnLst>
                  <p:par>
                    <p:cTn id="697" nodeType="clickEffect" fill="hold">
                      <p:stCondLst>
                        <p:cond evt="onClick">
                          <p:tgtEl>
                            <p:spTgt spid="1831"/>
                          </p:tgtEl>
                        </p:cond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1832"/>
                    </p:tgtEl>
                  </p:cond>
                </p:stCondLst>
                <p:childTnLst>
                  <p:par>
                    <p:cTn id="703" nodeType="clickEffect" fill="hold">
                      <p:stCondLst>
                        <p:cond evt="onClick">
                          <p:tgtEl>
                            <p:spTgt spid="1832"/>
                          </p:tgtEl>
                        </p:cond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1824"/>
                    </p:tgtEl>
                  </p:cond>
                </p:stCondLst>
                <p:childTnLst>
                  <p:par>
                    <p:cTn id="709" nodeType="clickEffect" fill="hold">
                      <p:stCondLst>
                        <p:cond evt="onClick">
                          <p:tgtEl>
                            <p:spTgt spid="1824"/>
                          </p:tgtEl>
                        </p:cond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1825"/>
                    </p:tgtEl>
                  </p:cond>
                </p:stCondLst>
                <p:childTnLst>
                  <p:par>
                    <p:cTn id="715" nodeType="clickEffect" fill="hold">
                      <p:stCondLst>
                        <p:cond evt="onClick">
                          <p:tgtEl>
                            <p:spTgt spid="1825"/>
                          </p:tgtEl>
                        </p:cond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1833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1833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1835"/>
                    </p:tgtEl>
                  </p:cond>
                </p:stCondLst>
                <p:childTnLst>
                  <p:par>
                    <p:cTn id="727" nodeType="clickEffect" fill="hold">
                      <p:stCondLst>
                        <p:cond evt="onClick">
                          <p:tgtEl>
                            <p:spTgt spid="1835"/>
                          </p:tgtEl>
                        </p:cond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1839"/>
                    </p:tgtEl>
                  </p:cond>
                </p:stCondLst>
                <p:childTnLst>
                  <p:par>
                    <p:cTn id="733" nodeType="clickEffect" fill="hold">
                      <p:stCondLst>
                        <p:cond evt="onClick">
                          <p:tgtEl>
                            <p:spTgt spid="1839"/>
                          </p:tgtEl>
                        </p:cond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8" restart="whenNotActive" nodeType="interactiveSeq" fill="hold">
                <p:stCondLst>
                  <p:cond evt="onClick">
                    <p:tgtEl>
                      <p:spTgt spid="1841"/>
                    </p:tgtEl>
                  </p:cond>
                </p:stCondLst>
                <p:childTnLst>
                  <p:par>
                    <p:cTn id="739" nodeType="clickEffect" fill="hold">
                      <p:stCondLst>
                        <p:cond evt="onClick">
                          <p:tgtEl>
                            <p:spTgt spid="1841"/>
                          </p:tgtEl>
                        </p:cond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1840"/>
                    </p:tgtEl>
                  </p:cond>
                </p:stCondLst>
                <p:childTnLst>
                  <p:par>
                    <p:cTn id="745" nodeType="clickEffect" fill="hold">
                      <p:stCondLst>
                        <p:cond evt="onClick">
                          <p:tgtEl>
                            <p:spTgt spid="1840"/>
                          </p:tgtEl>
                        </p:cond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8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749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4" restart="whenNotActive" nodeType="interactiveSeq" fill="hold">
                <p:stCondLst>
                  <p:cond evt="onClick">
                    <p:tgtEl>
                      <p:spTgt spid="1844"/>
                    </p:tgtEl>
                  </p:cond>
                </p:stCondLst>
                <p:childTnLst>
                  <p:par>
                    <p:cTn id="755" nodeType="clickEffect" fill="hold">
                      <p:stCondLst>
                        <p:cond evt="onClick">
                          <p:tgtEl>
                            <p:spTgt spid="1844"/>
                          </p:tgtEl>
                        </p:cond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1836"/>
                    </p:tgtEl>
                  </p:cond>
                </p:stCondLst>
                <p:childTnLst>
                  <p:par>
                    <p:cTn id="761" nodeType="clickEffect" fill="hold">
                      <p:stCondLst>
                        <p:cond evt="onClick">
                          <p:tgtEl>
                            <p:spTgt spid="1836"/>
                          </p:tgtEl>
                        </p:cond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1837"/>
                    </p:tgtEl>
                  </p:cond>
                </p:stCondLst>
                <p:childTnLst>
                  <p:par>
                    <p:cTn id="767" nodeType="clickEffect" fill="hold">
                      <p:stCondLst>
                        <p:cond evt="onClick">
                          <p:tgtEl>
                            <p:spTgt spid="1837"/>
                          </p:tgtEl>
                        </p:cond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845"/>
                    </p:tgtEl>
                  </p:cond>
                </p:stCondLst>
                <p:childTnLst>
                  <p:par>
                    <p:cTn id="773" nodeType="clickEffect" fill="hold">
                      <p:stCondLst>
                        <p:cond evt="onClick">
                          <p:tgtEl>
                            <p:spTgt spid="1845"/>
                          </p:tgtEl>
                        </p:cond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1847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1847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1842"/>
                    </p:tgtEl>
                  </p:cond>
                </p:stCondLst>
                <p:childTnLst>
                  <p:par>
                    <p:cTn id="785" nodeType="clickEffect" fill="hold">
                      <p:stCondLst>
                        <p:cond evt="onClick">
                          <p:tgtEl>
                            <p:spTgt spid="1842"/>
                          </p:tgtEl>
                        </p:cond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1843"/>
                    </p:tgtEl>
                  </p:cond>
                </p:stCondLst>
                <p:childTnLst>
                  <p:par>
                    <p:cTn id="795" nodeType="clickEffect" fill="hold">
                      <p:stCondLst>
                        <p:cond evt="onClick">
                          <p:tgtEl>
                            <p:spTgt spid="1843"/>
                          </p:tgtEl>
                        </p:cond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0" restart="whenNotActive" nodeType="interactiveSeq" fill="hold">
                <p:stCondLst>
                  <p:cond evt="onClick">
                    <p:tgtEl>
                      <p:spTgt spid="1838"/>
                    </p:tgtEl>
                  </p:cond>
                </p:stCondLst>
                <p:childTnLst>
                  <p:par>
                    <p:cTn id="801" nodeType="clickEffect" fill="hold">
                      <p:stCondLst>
                        <p:cond evt="onClick">
                          <p:tgtEl>
                            <p:spTgt spid="1838"/>
                          </p:tgtEl>
                        </p:cond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805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0" restart="whenNotActive" nodeType="interactiveSeq" fill="hold">
                <p:stCondLst>
                  <p:cond evt="onClick">
                    <p:tgtEl>
                      <p:spTgt spid="1846"/>
                    </p:tgtEl>
                  </p:cond>
                </p:stCondLst>
                <p:childTnLst>
                  <p:par>
                    <p:cTn id="811" nodeType="clickEffect" fill="hold">
                      <p:stCondLst>
                        <p:cond evt="onClick">
                          <p:tgtEl>
                            <p:spTgt spid="1846"/>
                          </p:tgtEl>
                        </p:cond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4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815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4" name="Picture 3" descr="D:\Documents\Private\Desktop\stock-vector-mountain-graphic-elements-43814590.jpg"/>
          <p:cNvPicPr/>
          <p:nvPr/>
        </p:nvPicPr>
        <p:blipFill>
          <a:blip r:embed="rId1"/>
          <a:srcRect l="0" t="0" r="0" b="-117"/>
          <a:stretch/>
        </p:blipFill>
        <p:spPr>
          <a:xfrm>
            <a:off x="-181080" y="5727600"/>
            <a:ext cx="1936800" cy="1111320"/>
          </a:xfrm>
          <a:prstGeom prst="rect">
            <a:avLst/>
          </a:prstGeom>
          <a:ln w="0">
            <a:noFill/>
          </a:ln>
        </p:spPr>
      </p:pic>
      <p:grpSp>
        <p:nvGrpSpPr>
          <p:cNvPr id="1875" name="Группа 3"/>
          <p:cNvGrpSpPr/>
          <p:nvPr/>
        </p:nvGrpSpPr>
        <p:grpSpPr>
          <a:xfrm>
            <a:off x="3719520" y="1474920"/>
            <a:ext cx="1704960" cy="3456000"/>
            <a:chOff x="3719520" y="1474920"/>
            <a:chExt cx="1704960" cy="3456000"/>
          </a:xfrm>
        </p:grpSpPr>
        <p:sp>
          <p:nvSpPr>
            <p:cNvPr id="1876" name="Прямоугольник 63"/>
            <p:cNvSpPr/>
            <p:nvPr/>
          </p:nvSpPr>
          <p:spPr>
            <a:xfrm>
              <a:off x="3719520" y="4067280"/>
              <a:ext cx="1704960" cy="431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І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Прямоугольник 8"/>
            <p:cNvSpPr/>
            <p:nvPr/>
          </p:nvSpPr>
          <p:spPr>
            <a:xfrm>
              <a:off x="3719520" y="1474920"/>
              <a:ext cx="1704960" cy="431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М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Прямоугольник 43"/>
            <p:cNvSpPr/>
            <p:nvPr/>
          </p:nvSpPr>
          <p:spPr>
            <a:xfrm>
              <a:off x="3719520" y="1906560"/>
              <a:ext cx="1704960" cy="431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О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Прямоугольник 46"/>
            <p:cNvSpPr/>
            <p:nvPr/>
          </p:nvSpPr>
          <p:spPr>
            <a:xfrm>
              <a:off x="3719520" y="2338560"/>
              <a:ext cx="1704960" cy="431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Л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Прямоугольник 50"/>
            <p:cNvSpPr/>
            <p:nvPr/>
          </p:nvSpPr>
          <p:spPr>
            <a:xfrm>
              <a:off x="3719520" y="2770200"/>
              <a:ext cx="1704960" cy="433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О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Прямоугольник 62"/>
            <p:cNvSpPr/>
            <p:nvPr/>
          </p:nvSpPr>
          <p:spPr>
            <a:xfrm>
              <a:off x="3719520" y="3635640"/>
              <a:ext cx="1704960" cy="431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Ц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Прямоугольник 64"/>
            <p:cNvSpPr/>
            <p:nvPr/>
          </p:nvSpPr>
          <p:spPr>
            <a:xfrm>
              <a:off x="3719520" y="4499280"/>
              <a:ext cx="1704960" cy="431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!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Прямоугольник 55"/>
            <p:cNvSpPr/>
            <p:nvPr/>
          </p:nvSpPr>
          <p:spPr>
            <a:xfrm>
              <a:off x="3719520" y="3203640"/>
              <a:ext cx="1704960" cy="431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0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825" dur="1000" fill="hold"/>
                                        <p:tgtEl>
                                          <p:spTgt spid="18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0" name="Заголовок 8" descr=""/>
          <p:cNvPicPr/>
          <p:nvPr/>
        </p:nvPicPr>
        <p:blipFill>
          <a:blip r:embed="rId1"/>
          <a:stretch/>
        </p:blipFill>
        <p:spPr>
          <a:xfrm>
            <a:off x="463680" y="-249120"/>
            <a:ext cx="8412120" cy="2206440"/>
          </a:xfrm>
          <a:prstGeom prst="rect">
            <a:avLst/>
          </a:prstGeom>
          <a:ln w="0">
            <a:noFill/>
          </a:ln>
        </p:spPr>
      </p:pic>
      <p:sp>
        <p:nvSpPr>
          <p:cNvPr id="1581" name="PlaceHolder 1"/>
          <p:cNvSpPr>
            <a:spLocks noGrp="1"/>
          </p:cNvSpPr>
          <p:nvPr>
            <p:ph type="subTitle"/>
          </p:nvPr>
        </p:nvSpPr>
        <p:spPr>
          <a:xfrm>
            <a:off x="2195280" y="3213000"/>
            <a:ext cx="6561000" cy="284184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Вивчення математики подібне до Нілу, що починається невеликим струмком, а закінчується – великою річкою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Cambria"/>
              </a:rPr>
              <a:t>Ч. К. Колтон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582" name="Picture 3" descr=""/>
          <p:cNvPicPr/>
          <p:nvPr/>
        </p:nvPicPr>
        <p:blipFill>
          <a:blip r:embed="rId2"/>
          <a:stretch/>
        </p:blipFill>
        <p:spPr>
          <a:xfrm>
            <a:off x="633240" y="676440"/>
            <a:ext cx="2627640" cy="1688760"/>
          </a:xfrm>
          <a:prstGeom prst="rect">
            <a:avLst/>
          </a:prstGeom>
          <a:ln w="0">
            <a:noFill/>
          </a:ln>
        </p:spPr>
      </p:pic>
      <p:pic>
        <p:nvPicPr>
          <p:cNvPr id="1583" name="Picture 2" descr="D:\Documents\Private\Desktop\KOLTON_CHarlz_Kaleb1_s.gif"/>
          <p:cNvPicPr/>
          <p:nvPr/>
        </p:nvPicPr>
        <p:blipFill>
          <a:blip r:embed="rId3"/>
          <a:stretch/>
        </p:blipFill>
        <p:spPr>
          <a:xfrm>
            <a:off x="171360" y="4627440"/>
            <a:ext cx="1773360" cy="207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4" name="Заголовок 1" descr=""/>
          <p:cNvPicPr/>
          <p:nvPr/>
        </p:nvPicPr>
        <p:blipFill>
          <a:blip r:embed="rId1"/>
          <a:stretch/>
        </p:blipFill>
        <p:spPr>
          <a:xfrm>
            <a:off x="384120" y="-73080"/>
            <a:ext cx="8680680" cy="1481040"/>
          </a:xfrm>
          <a:prstGeom prst="rect">
            <a:avLst/>
          </a:prstGeom>
          <a:ln w="0">
            <a:noFill/>
          </a:ln>
        </p:spPr>
      </p:pic>
      <p:pic>
        <p:nvPicPr>
          <p:cNvPr id="1585" name="Объект 2" descr=""/>
          <p:cNvPicPr/>
          <p:nvPr/>
        </p:nvPicPr>
        <p:blipFill>
          <a:blip r:embed="rId2"/>
          <a:stretch/>
        </p:blipFill>
        <p:spPr>
          <a:xfrm>
            <a:off x="2073240" y="1841400"/>
            <a:ext cx="4937040" cy="4023000"/>
          </a:xfrm>
          <a:prstGeom prst="rect">
            <a:avLst/>
          </a:prstGeom>
          <a:ln w="0">
            <a:noFill/>
          </a:ln>
        </p:spPr>
      </p:pic>
      <p:pic>
        <p:nvPicPr>
          <p:cNvPr id="1586" name="Picture 3" descr=""/>
          <p:cNvPicPr/>
          <p:nvPr/>
        </p:nvPicPr>
        <p:blipFill>
          <a:blip r:embed="rId3"/>
          <a:stretch/>
        </p:blipFill>
        <p:spPr>
          <a:xfrm>
            <a:off x="244440" y="5437080"/>
            <a:ext cx="1981080" cy="1274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7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1588" name="Объект 2" descr=""/>
          <p:cNvPicPr/>
          <p:nvPr/>
        </p:nvPicPr>
        <p:blipFill>
          <a:blip r:embed="rId2"/>
          <a:stretch/>
        </p:blipFill>
        <p:spPr>
          <a:xfrm>
            <a:off x="2127240" y="1768320"/>
            <a:ext cx="4938840" cy="4692960"/>
          </a:xfrm>
          <a:prstGeom prst="rect">
            <a:avLst/>
          </a:prstGeom>
          <a:ln w="0">
            <a:noFill/>
          </a:ln>
        </p:spPr>
      </p:pic>
      <p:pic>
        <p:nvPicPr>
          <p:cNvPr id="1589" name="Picture 3" descr=""/>
          <p:cNvPicPr/>
          <p:nvPr/>
        </p:nvPicPr>
        <p:blipFill>
          <a:blip r:embed="rId3"/>
          <a:stretch/>
        </p:blipFill>
        <p:spPr>
          <a:xfrm>
            <a:off x="244440" y="5437080"/>
            <a:ext cx="1981080" cy="1274760"/>
          </a:xfrm>
          <a:prstGeom prst="rect">
            <a:avLst/>
          </a:prstGeom>
          <a:ln w="0">
            <a:noFill/>
          </a:ln>
        </p:spPr>
      </p:pic>
      <p:pic>
        <p:nvPicPr>
          <p:cNvPr id="1590" name="TextBox 5" descr=""/>
          <p:cNvPicPr/>
          <p:nvPr/>
        </p:nvPicPr>
        <p:blipFill>
          <a:blip r:embed="rId4"/>
          <a:stretch/>
        </p:blipFill>
        <p:spPr>
          <a:xfrm>
            <a:off x="9137520" y="2004840"/>
            <a:ext cx="2030400" cy="841680"/>
          </a:xfrm>
          <a:prstGeom prst="rect">
            <a:avLst/>
          </a:prstGeom>
          <a:ln w="0">
            <a:noFill/>
          </a:ln>
        </p:spPr>
      </p:pic>
      <p:pic>
        <p:nvPicPr>
          <p:cNvPr id="1591" name="TextBox 6" descr=""/>
          <p:cNvPicPr/>
          <p:nvPr/>
        </p:nvPicPr>
        <p:blipFill>
          <a:blip r:embed="rId5"/>
          <a:stretch/>
        </p:blipFill>
        <p:spPr>
          <a:xfrm>
            <a:off x="9309240" y="5132520"/>
            <a:ext cx="1303200" cy="1195200"/>
          </a:xfrm>
          <a:prstGeom prst="rect">
            <a:avLst/>
          </a:prstGeom>
          <a:ln w="0">
            <a:noFill/>
          </a:ln>
        </p:spPr>
      </p:pic>
      <p:pic>
        <p:nvPicPr>
          <p:cNvPr id="1592" name="TextBox 7" descr=""/>
          <p:cNvPicPr/>
          <p:nvPr/>
        </p:nvPicPr>
        <p:blipFill>
          <a:blip r:embed="rId6"/>
          <a:stretch/>
        </p:blipFill>
        <p:spPr>
          <a:xfrm>
            <a:off x="9339120" y="4211640"/>
            <a:ext cx="1457640" cy="860400"/>
          </a:xfrm>
          <a:prstGeom prst="rect">
            <a:avLst/>
          </a:prstGeom>
          <a:ln w="0">
            <a:noFill/>
          </a:ln>
        </p:spPr>
      </p:pic>
      <p:pic>
        <p:nvPicPr>
          <p:cNvPr id="1593" name="TextBox 8" descr=""/>
          <p:cNvPicPr/>
          <p:nvPr/>
        </p:nvPicPr>
        <p:blipFill>
          <a:blip r:embed="rId7"/>
          <a:stretch/>
        </p:blipFill>
        <p:spPr>
          <a:xfrm>
            <a:off x="9180360" y="2786040"/>
            <a:ext cx="2030400" cy="1359000"/>
          </a:xfrm>
          <a:prstGeom prst="rect">
            <a:avLst/>
          </a:prstGeom>
          <a:ln w="0">
            <a:noFill/>
          </a:ln>
        </p:spPr>
      </p:pic>
      <p:pic>
        <p:nvPicPr>
          <p:cNvPr id="1594" name="Picture 2" descr=""/>
          <p:cNvPicPr/>
          <p:nvPr/>
        </p:nvPicPr>
        <p:blipFill>
          <a:blip r:embed="rId8"/>
          <a:stretch/>
        </p:blipFill>
        <p:spPr>
          <a:xfrm>
            <a:off x="6669000" y="743040"/>
            <a:ext cx="1116000" cy="1927080"/>
          </a:xfrm>
          <a:prstGeom prst="rect">
            <a:avLst/>
          </a:prstGeom>
          <a:ln w="0">
            <a:noFill/>
          </a:ln>
        </p:spPr>
      </p:pic>
      <p:grpSp>
        <p:nvGrpSpPr>
          <p:cNvPr id="1595" name="Группа 4"/>
          <p:cNvGrpSpPr/>
          <p:nvPr/>
        </p:nvGrpSpPr>
        <p:grpSpPr>
          <a:xfrm>
            <a:off x="11052000" y="419040"/>
            <a:ext cx="2213280" cy="2419560"/>
            <a:chOff x="11052000" y="419040"/>
            <a:chExt cx="2213280" cy="2419560"/>
          </a:xfrm>
        </p:grpSpPr>
        <p:sp>
          <p:nvSpPr>
            <p:cNvPr id="1596" name="Полилиния 11"/>
            <p:cNvSpPr/>
            <p:nvPr/>
          </p:nvSpPr>
          <p:spPr>
            <a:xfrm>
              <a:off x="11052000" y="1949400"/>
              <a:ext cx="495360" cy="88920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Прямая соединительная линия 13"/>
            <p:cNvSpPr/>
            <p:nvPr/>
          </p:nvSpPr>
          <p:spPr>
            <a:xfrm flipH="1">
              <a:off x="11299320" y="2060640"/>
              <a:ext cx="833400" cy="46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98" name="Picture 2" descr=""/>
            <p:cNvPicPr/>
            <p:nvPr/>
          </p:nvPicPr>
          <p:blipFill>
            <a:blip r:embed="rId9"/>
            <a:stretch/>
          </p:blipFill>
          <p:spPr>
            <a:xfrm>
              <a:off x="11635920" y="419040"/>
              <a:ext cx="1629360" cy="212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9" name="Группа 10"/>
          <p:cNvGrpSpPr/>
          <p:nvPr/>
        </p:nvGrpSpPr>
        <p:grpSpPr>
          <a:xfrm>
            <a:off x="6079680" y="419040"/>
            <a:ext cx="2272320" cy="2438640"/>
            <a:chOff x="6079680" y="419040"/>
            <a:chExt cx="2272320" cy="2438640"/>
          </a:xfrm>
        </p:grpSpPr>
        <p:sp>
          <p:nvSpPr>
            <p:cNvPr id="1600" name="Полилиния 15"/>
            <p:cNvSpPr/>
            <p:nvPr/>
          </p:nvSpPr>
          <p:spPr>
            <a:xfrm flipH="1">
              <a:off x="7856640" y="1968480"/>
              <a:ext cx="495360" cy="88920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Прямая соединительная линия 16"/>
            <p:cNvSpPr/>
            <p:nvPr/>
          </p:nvSpPr>
          <p:spPr>
            <a:xfrm>
              <a:off x="7272360" y="2079720"/>
              <a:ext cx="831960" cy="46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2" name="Picture 2" descr=""/>
            <p:cNvPicPr/>
            <p:nvPr/>
          </p:nvPicPr>
          <p:blipFill>
            <a:blip r:embed="rId10"/>
            <a:stretch/>
          </p:blipFill>
          <p:spPr>
            <a:xfrm flipH="1">
              <a:off x="6079680" y="419040"/>
              <a:ext cx="1628280" cy="212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3" name="Группа 29"/>
          <p:cNvGrpSpPr/>
          <p:nvPr/>
        </p:nvGrpSpPr>
        <p:grpSpPr>
          <a:xfrm>
            <a:off x="10734840" y="1942920"/>
            <a:ext cx="2489040" cy="2278440"/>
            <a:chOff x="10734840" y="1942920"/>
            <a:chExt cx="2489040" cy="2278440"/>
          </a:xfrm>
        </p:grpSpPr>
        <p:sp>
          <p:nvSpPr>
            <p:cNvPr id="1604" name="Полилиния 26"/>
            <p:cNvSpPr/>
            <p:nvPr/>
          </p:nvSpPr>
          <p:spPr>
            <a:xfrm>
              <a:off x="10734840" y="3332160"/>
              <a:ext cx="495000" cy="88884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5" name="Picture 3" descr=""/>
            <p:cNvPicPr/>
            <p:nvPr/>
          </p:nvPicPr>
          <p:blipFill>
            <a:blip r:embed="rId11"/>
            <a:srcRect l="0" t="0" r="-40" b="0"/>
            <a:stretch/>
          </p:blipFill>
          <p:spPr>
            <a:xfrm flipH="1" rot="174600">
              <a:off x="11354040" y="1987560"/>
              <a:ext cx="181548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6" name="Прямая соединительная линия 27"/>
            <p:cNvSpPr/>
            <p:nvPr/>
          </p:nvSpPr>
          <p:spPr>
            <a:xfrm flipH="1">
              <a:off x="11055240" y="3643200"/>
              <a:ext cx="1077840" cy="17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7" name="Группа 37"/>
          <p:cNvGrpSpPr/>
          <p:nvPr/>
        </p:nvGrpSpPr>
        <p:grpSpPr>
          <a:xfrm>
            <a:off x="5742000" y="1942920"/>
            <a:ext cx="2489040" cy="2278440"/>
            <a:chOff x="5742000" y="1942920"/>
            <a:chExt cx="2489040" cy="2278440"/>
          </a:xfrm>
        </p:grpSpPr>
        <p:sp>
          <p:nvSpPr>
            <p:cNvPr id="1608" name="Полилиния 38"/>
            <p:cNvSpPr/>
            <p:nvPr/>
          </p:nvSpPr>
          <p:spPr>
            <a:xfrm flipH="1">
              <a:off x="7735680" y="3332160"/>
              <a:ext cx="495000" cy="88884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9" name="Picture 3" descr=""/>
            <p:cNvPicPr/>
            <p:nvPr/>
          </p:nvPicPr>
          <p:blipFill>
            <a:blip r:embed="rId12"/>
            <a:srcRect l="0" t="0" r="-40" b="0"/>
            <a:stretch/>
          </p:blipFill>
          <p:spPr>
            <a:xfrm rot="21425400">
              <a:off x="5796360" y="1987560"/>
              <a:ext cx="181548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0" name="Прямая соединительная линия 40"/>
            <p:cNvSpPr/>
            <p:nvPr/>
          </p:nvSpPr>
          <p:spPr>
            <a:xfrm>
              <a:off x="6832800" y="3643200"/>
              <a:ext cx="1077840" cy="17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1" name="Группа 2054"/>
          <p:cNvGrpSpPr/>
          <p:nvPr/>
        </p:nvGrpSpPr>
        <p:grpSpPr>
          <a:xfrm>
            <a:off x="10586880" y="2562120"/>
            <a:ext cx="2653920" cy="2737080"/>
            <a:chOff x="10586880" y="2562120"/>
            <a:chExt cx="2653920" cy="2737080"/>
          </a:xfrm>
        </p:grpSpPr>
        <p:sp>
          <p:nvSpPr>
            <p:cNvPr id="1612" name="Полилиния 31"/>
            <p:cNvSpPr/>
            <p:nvPr/>
          </p:nvSpPr>
          <p:spPr>
            <a:xfrm>
              <a:off x="10586880" y="4160880"/>
              <a:ext cx="473040" cy="84780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13" name="Picture 4" descr=""/>
            <p:cNvPicPr/>
            <p:nvPr/>
          </p:nvPicPr>
          <p:blipFill>
            <a:blip r:embed="rId13"/>
            <a:srcRect l="0" t="0" r="0" b="-56"/>
            <a:stretch/>
          </p:blipFill>
          <p:spPr>
            <a:xfrm rot="21327600">
              <a:off x="11075400" y="2639520"/>
              <a:ext cx="2066040" cy="258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4" name="Прямая соединительная линия 32"/>
            <p:cNvSpPr/>
            <p:nvPr/>
          </p:nvSpPr>
          <p:spPr>
            <a:xfrm flipH="1">
              <a:off x="10975680" y="4781880"/>
              <a:ext cx="124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5" name="Группа 47"/>
          <p:cNvGrpSpPr/>
          <p:nvPr/>
        </p:nvGrpSpPr>
        <p:grpSpPr>
          <a:xfrm>
            <a:off x="5484240" y="2562120"/>
            <a:ext cx="2653200" cy="2737080"/>
            <a:chOff x="5484240" y="2562120"/>
            <a:chExt cx="2653200" cy="2737080"/>
          </a:xfrm>
        </p:grpSpPr>
        <p:sp>
          <p:nvSpPr>
            <p:cNvPr id="1616" name="Полилиния 48"/>
            <p:cNvSpPr/>
            <p:nvPr/>
          </p:nvSpPr>
          <p:spPr>
            <a:xfrm flipH="1">
              <a:off x="7664400" y="4160880"/>
              <a:ext cx="473040" cy="84780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17" name="Picture 4" descr=""/>
            <p:cNvPicPr/>
            <p:nvPr/>
          </p:nvPicPr>
          <p:blipFill>
            <a:blip r:embed="rId14"/>
            <a:srcRect l="0" t="0" r="0" b="-56"/>
            <a:stretch/>
          </p:blipFill>
          <p:spPr>
            <a:xfrm flipH="1" rot="272400">
              <a:off x="5583240" y="2639520"/>
              <a:ext cx="2065680" cy="25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8" name="Прямая соединительная линия 50"/>
            <p:cNvSpPr/>
            <p:nvPr/>
          </p:nvSpPr>
          <p:spPr>
            <a:xfrm>
              <a:off x="6499080" y="4781880"/>
              <a:ext cx="124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9" name="Группа 2062"/>
          <p:cNvGrpSpPr/>
          <p:nvPr/>
        </p:nvGrpSpPr>
        <p:grpSpPr>
          <a:xfrm>
            <a:off x="10447200" y="3809880"/>
            <a:ext cx="2538720" cy="2725920"/>
            <a:chOff x="10447200" y="3809880"/>
            <a:chExt cx="2538720" cy="2725920"/>
          </a:xfrm>
        </p:grpSpPr>
        <p:pic>
          <p:nvPicPr>
            <p:cNvPr id="1620" name="Picture 5" descr=""/>
            <p:cNvPicPr/>
            <p:nvPr/>
          </p:nvPicPr>
          <p:blipFill>
            <a:blip r:embed="rId15"/>
            <a:stretch/>
          </p:blipFill>
          <p:spPr>
            <a:xfrm>
              <a:off x="10924200" y="3809880"/>
              <a:ext cx="2061720" cy="27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1" name="Полилиния 53"/>
            <p:cNvSpPr/>
            <p:nvPr/>
          </p:nvSpPr>
          <p:spPr>
            <a:xfrm>
              <a:off x="10447200" y="5486400"/>
              <a:ext cx="473040" cy="84780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Прямая соединительная линия 54"/>
            <p:cNvSpPr/>
            <p:nvPr/>
          </p:nvSpPr>
          <p:spPr>
            <a:xfrm flipH="1">
              <a:off x="10880640" y="5910480"/>
              <a:ext cx="120816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3" name="Группа 62"/>
          <p:cNvGrpSpPr/>
          <p:nvPr/>
        </p:nvGrpSpPr>
        <p:grpSpPr>
          <a:xfrm>
            <a:off x="5362200" y="3809880"/>
            <a:ext cx="2538360" cy="2725920"/>
            <a:chOff x="5362200" y="3809880"/>
            <a:chExt cx="2538360" cy="2725920"/>
          </a:xfrm>
        </p:grpSpPr>
        <p:pic>
          <p:nvPicPr>
            <p:cNvPr id="1624" name="Picture 5" descr=""/>
            <p:cNvPicPr/>
            <p:nvPr/>
          </p:nvPicPr>
          <p:blipFill>
            <a:blip r:embed="rId16"/>
            <a:stretch/>
          </p:blipFill>
          <p:spPr>
            <a:xfrm flipH="1">
              <a:off x="5362200" y="3809880"/>
              <a:ext cx="2061360" cy="27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5" name="Полилиния 64"/>
            <p:cNvSpPr/>
            <p:nvPr/>
          </p:nvSpPr>
          <p:spPr>
            <a:xfrm flipH="1">
              <a:off x="7427520" y="5486400"/>
              <a:ext cx="473040" cy="84780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Прямая соединительная линия 65"/>
            <p:cNvSpPr/>
            <p:nvPr/>
          </p:nvSpPr>
          <p:spPr>
            <a:xfrm>
              <a:off x="6259320" y="5910480"/>
              <a:ext cx="120816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0.49115 0 E">
                                      <p:cBhvr>
                                        <p:cTn id="6" dur="2250" fill="hold"/>
                                        <p:tgtEl>
                                          <p:spTgt spid="1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L -0.49218 -0.00093 E">
                                      <p:cBhvr>
                                        <p:cTn id="8" dur="2250" fill="hold"/>
                                        <p:tgtEl>
                                          <p:spTgt spid="1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5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1000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3333E-006 L -0.53559 3.33333E-006 E">
                                      <p:cBhvr>
                                        <p:cTn id="22" dur="2000" fill="hold"/>
                                        <p:tgtEl>
                                          <p:spTgt spid="1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6 L -0.53941 -0.0051 E">
                                      <p:cBhvr>
                                        <p:cTn id="24" dur="2000" fill="hold"/>
                                        <p:tgtEl>
                                          <p:spTgt spid="1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1000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51389 0.00046 E">
                                      <p:cBhvr>
                                        <p:cTn id="38" dur="2000" fill="hold"/>
                                        <p:tgtEl>
                                          <p:spTgt spid="1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L -0.52205 0.00162 E">
                                      <p:cBhvr>
                                        <p:cTn id="40" dur="2000" fill="hold"/>
                                        <p:tgtEl>
                                          <p:spTgt spid="1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1000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L -0.55764 -0.00209 E">
                                      <p:cBhvr>
                                        <p:cTn id="54" dur="2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-0.55122 -2.96296E-006 E">
                                      <p:cBhvr>
                                        <p:cTn id="56" dur="2000" fill="hold"/>
                                        <p:tgtEl>
                                          <p:spTgt spid="1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1000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Овал 33"/>
          <p:cNvSpPr/>
          <p:nvPr/>
        </p:nvSpPr>
        <p:spPr>
          <a:xfrm flipH="1">
            <a:off x="6848640" y="320760"/>
            <a:ext cx="699840" cy="3348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Овал 40"/>
          <p:cNvSpPr/>
          <p:nvPr/>
        </p:nvSpPr>
        <p:spPr>
          <a:xfrm flipH="1">
            <a:off x="5934960" y="1285920"/>
            <a:ext cx="622440" cy="2966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Овал 65"/>
          <p:cNvSpPr/>
          <p:nvPr/>
        </p:nvSpPr>
        <p:spPr>
          <a:xfrm flipH="1">
            <a:off x="5976360" y="4676760"/>
            <a:ext cx="610920" cy="28260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Овал 112"/>
          <p:cNvSpPr/>
          <p:nvPr/>
        </p:nvSpPr>
        <p:spPr>
          <a:xfrm flipH="1">
            <a:off x="6881760" y="2062080"/>
            <a:ext cx="687600" cy="30960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Овал 115"/>
          <p:cNvSpPr/>
          <p:nvPr/>
        </p:nvSpPr>
        <p:spPr>
          <a:xfrm flipH="1">
            <a:off x="7632720" y="2989440"/>
            <a:ext cx="611280" cy="27432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Овал 97"/>
          <p:cNvSpPr/>
          <p:nvPr/>
        </p:nvSpPr>
        <p:spPr>
          <a:xfrm flipH="1">
            <a:off x="84240" y="5398920"/>
            <a:ext cx="2860560" cy="13287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ambria"/>
              </a:rPr>
              <a:t>Ділення обох частин на степі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Овал 46"/>
          <p:cNvSpPr/>
          <p:nvPr/>
        </p:nvSpPr>
        <p:spPr>
          <a:xfrm flipH="1">
            <a:off x="148680" y="210960"/>
            <a:ext cx="2912760" cy="139068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ambria"/>
              </a:rPr>
              <a:t>Зведення до однієї основ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Овал 4"/>
          <p:cNvSpPr/>
          <p:nvPr/>
        </p:nvSpPr>
        <p:spPr>
          <a:xfrm flipH="1">
            <a:off x="574560" y="414360"/>
            <a:ext cx="20606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Прямоугольник 22"/>
          <p:cNvSpPr/>
          <p:nvPr/>
        </p:nvSpPr>
        <p:spPr>
          <a:xfrm>
            <a:off x="781200" y="1365120"/>
            <a:ext cx="3360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Прямоугольник 23"/>
          <p:cNvSpPr/>
          <p:nvPr/>
        </p:nvSpPr>
        <p:spPr>
          <a:xfrm>
            <a:off x="781200" y="1365120"/>
            <a:ext cx="3360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82440" bIns="8244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Овал 24"/>
          <p:cNvSpPr/>
          <p:nvPr/>
        </p:nvSpPr>
        <p:spPr>
          <a:xfrm flipH="1">
            <a:off x="8574120" y="503280"/>
            <a:ext cx="271440" cy="12996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Овал 25"/>
          <p:cNvSpPr/>
          <p:nvPr/>
        </p:nvSpPr>
        <p:spPr>
          <a:xfrm flipH="1">
            <a:off x="8381160" y="320760"/>
            <a:ext cx="273240" cy="12996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Овал 26"/>
          <p:cNvSpPr/>
          <p:nvPr/>
        </p:nvSpPr>
        <p:spPr>
          <a:xfrm flipH="1">
            <a:off x="7768440" y="357120"/>
            <a:ext cx="428760" cy="20484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Овал 27"/>
          <p:cNvSpPr/>
          <p:nvPr/>
        </p:nvSpPr>
        <p:spPr>
          <a:xfrm flipH="1">
            <a:off x="7543800" y="157320"/>
            <a:ext cx="272880" cy="12996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Овал 28"/>
          <p:cNvSpPr/>
          <p:nvPr/>
        </p:nvSpPr>
        <p:spPr>
          <a:xfrm flipH="1">
            <a:off x="7048440" y="84240"/>
            <a:ext cx="271440" cy="1299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Овал 29"/>
          <p:cNvSpPr/>
          <p:nvPr/>
        </p:nvSpPr>
        <p:spPr>
          <a:xfrm flipH="1">
            <a:off x="6436440" y="210960"/>
            <a:ext cx="273240" cy="13032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Овал 30"/>
          <p:cNvSpPr/>
          <p:nvPr/>
        </p:nvSpPr>
        <p:spPr>
          <a:xfrm flipH="1">
            <a:off x="5900040" y="303120"/>
            <a:ext cx="428760" cy="20340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Овал 31"/>
          <p:cNvSpPr/>
          <p:nvPr/>
        </p:nvSpPr>
        <p:spPr>
          <a:xfrm flipH="1">
            <a:off x="5522760" y="503280"/>
            <a:ext cx="271440" cy="12996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Овал 32"/>
          <p:cNvSpPr/>
          <p:nvPr/>
        </p:nvSpPr>
        <p:spPr>
          <a:xfrm flipH="1">
            <a:off x="5294160" y="703440"/>
            <a:ext cx="271440" cy="12996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Овал 34"/>
          <p:cNvSpPr/>
          <p:nvPr/>
        </p:nvSpPr>
        <p:spPr>
          <a:xfrm flipH="1">
            <a:off x="8764560" y="1012680"/>
            <a:ext cx="271440" cy="13032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Овал 35"/>
          <p:cNvSpPr/>
          <p:nvPr/>
        </p:nvSpPr>
        <p:spPr>
          <a:xfrm flipH="1">
            <a:off x="8380440" y="1176480"/>
            <a:ext cx="426960" cy="2044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Овал 36"/>
          <p:cNvSpPr/>
          <p:nvPr/>
        </p:nvSpPr>
        <p:spPr>
          <a:xfrm flipH="1">
            <a:off x="7612920" y="1322280"/>
            <a:ext cx="622440" cy="2970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Овал 37"/>
          <p:cNvSpPr/>
          <p:nvPr/>
        </p:nvSpPr>
        <p:spPr>
          <a:xfrm flipH="1">
            <a:off x="7162920" y="1558800"/>
            <a:ext cx="271440" cy="13032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Овал 38"/>
          <p:cNvSpPr/>
          <p:nvPr/>
        </p:nvSpPr>
        <p:spPr>
          <a:xfrm flipH="1">
            <a:off x="6854760" y="1322280"/>
            <a:ext cx="426960" cy="20484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Овал 39"/>
          <p:cNvSpPr/>
          <p:nvPr/>
        </p:nvSpPr>
        <p:spPr>
          <a:xfrm flipH="1">
            <a:off x="6627960" y="1576440"/>
            <a:ext cx="272880" cy="1299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Овал 41"/>
          <p:cNvSpPr/>
          <p:nvPr/>
        </p:nvSpPr>
        <p:spPr>
          <a:xfrm flipH="1">
            <a:off x="5291280" y="1212840"/>
            <a:ext cx="426960" cy="20484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Нашивка 43"/>
          <p:cNvSpPr/>
          <p:nvPr/>
        </p:nvSpPr>
        <p:spPr>
          <a:xfrm>
            <a:off x="4037040" y="417600"/>
            <a:ext cx="1257120" cy="114444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144440"/>
              <a:gd name="textAreaBottom" fmla="*/ 1144800 h 114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48" y="0"/>
                </a:lnTo>
                <a:lnTo>
                  <a:pt x="21600" y="10800"/>
                </a:lnTo>
                <a:lnTo>
                  <a:pt x="9348" y="21600"/>
                </a:lnTo>
                <a:lnTo>
                  <a:pt x="0" y="21600"/>
                </a:lnTo>
                <a:lnTo>
                  <a:pt x="12252" y="108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Нашивка 44"/>
          <p:cNvSpPr/>
          <p:nvPr/>
        </p:nvSpPr>
        <p:spPr>
          <a:xfrm>
            <a:off x="3198960" y="396720"/>
            <a:ext cx="1257120" cy="114624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146240"/>
              <a:gd name="textAreaBottom" fmla="*/ 1146600 h 114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31" y="0"/>
                </a:lnTo>
                <a:lnTo>
                  <a:pt x="21600" y="10800"/>
                </a:lnTo>
                <a:lnTo>
                  <a:pt x="9331" y="21600"/>
                </a:lnTo>
                <a:lnTo>
                  <a:pt x="0" y="21600"/>
                </a:lnTo>
                <a:lnTo>
                  <a:pt x="12269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5" name="Группа 48"/>
          <p:cNvGrpSpPr/>
          <p:nvPr/>
        </p:nvGrpSpPr>
        <p:grpSpPr>
          <a:xfrm>
            <a:off x="5468760" y="4091040"/>
            <a:ext cx="3360960" cy="511200"/>
            <a:chOff x="5468760" y="4091040"/>
            <a:chExt cx="3360960" cy="511200"/>
          </a:xfrm>
        </p:grpSpPr>
        <p:sp>
          <p:nvSpPr>
            <p:cNvPr id="1656" name="Прямоугольник 72"/>
            <p:cNvSpPr/>
            <p:nvPr/>
          </p:nvSpPr>
          <p:spPr>
            <a:xfrm flipH="1">
              <a:off x="5468760" y="4091040"/>
              <a:ext cx="33609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Прямоугольник 73"/>
            <p:cNvSpPr/>
            <p:nvPr/>
          </p:nvSpPr>
          <p:spPr>
            <a:xfrm flipH="1">
              <a:off x="5468760" y="4091040"/>
              <a:ext cx="33609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pPr algn="ctr"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8" name="Овал 49"/>
          <p:cNvSpPr/>
          <p:nvPr/>
        </p:nvSpPr>
        <p:spPr>
          <a:xfrm flipH="1">
            <a:off x="8565480" y="3936960"/>
            <a:ext cx="266760" cy="1224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Овал 50"/>
          <p:cNvSpPr/>
          <p:nvPr/>
        </p:nvSpPr>
        <p:spPr>
          <a:xfrm flipH="1">
            <a:off x="8378280" y="3763800"/>
            <a:ext cx="268200" cy="12240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Овал 51"/>
          <p:cNvSpPr/>
          <p:nvPr/>
        </p:nvSpPr>
        <p:spPr>
          <a:xfrm flipH="1">
            <a:off x="7776360" y="3798720"/>
            <a:ext cx="420840" cy="19368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Овал 52"/>
          <p:cNvSpPr/>
          <p:nvPr/>
        </p:nvSpPr>
        <p:spPr>
          <a:xfrm flipH="1">
            <a:off x="7554240" y="3608280"/>
            <a:ext cx="268200" cy="1238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Овал 53"/>
          <p:cNvSpPr/>
          <p:nvPr/>
        </p:nvSpPr>
        <p:spPr>
          <a:xfrm flipH="1">
            <a:off x="7068240" y="3540240"/>
            <a:ext cx="266760" cy="1220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Овал 54"/>
          <p:cNvSpPr/>
          <p:nvPr/>
        </p:nvSpPr>
        <p:spPr>
          <a:xfrm flipH="1">
            <a:off x="6469920" y="3660840"/>
            <a:ext cx="266760" cy="12204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Овал 55"/>
          <p:cNvSpPr/>
          <p:nvPr/>
        </p:nvSpPr>
        <p:spPr>
          <a:xfrm flipH="1">
            <a:off x="5943600" y="3746520"/>
            <a:ext cx="419040" cy="19368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Овал 56"/>
          <p:cNvSpPr/>
          <p:nvPr/>
        </p:nvSpPr>
        <p:spPr>
          <a:xfrm flipH="1">
            <a:off x="5571360" y="3936960"/>
            <a:ext cx="266760" cy="12240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Овал 57"/>
          <p:cNvSpPr/>
          <p:nvPr/>
        </p:nvSpPr>
        <p:spPr>
          <a:xfrm flipH="1">
            <a:off x="5346000" y="4125960"/>
            <a:ext cx="268200" cy="12204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Овал 58"/>
          <p:cNvSpPr/>
          <p:nvPr/>
        </p:nvSpPr>
        <p:spPr>
          <a:xfrm flipH="1">
            <a:off x="6873840" y="3763800"/>
            <a:ext cx="687600" cy="31608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Овал 59"/>
          <p:cNvSpPr/>
          <p:nvPr/>
        </p:nvSpPr>
        <p:spPr>
          <a:xfrm flipH="1">
            <a:off x="8752680" y="4419720"/>
            <a:ext cx="266760" cy="12204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Овал 60"/>
          <p:cNvSpPr/>
          <p:nvPr/>
        </p:nvSpPr>
        <p:spPr>
          <a:xfrm flipH="1">
            <a:off x="8375760" y="4573440"/>
            <a:ext cx="420480" cy="19368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Овал 61"/>
          <p:cNvSpPr/>
          <p:nvPr/>
        </p:nvSpPr>
        <p:spPr>
          <a:xfrm flipH="1">
            <a:off x="7623000" y="4711680"/>
            <a:ext cx="611280" cy="2811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Овал 62"/>
          <p:cNvSpPr/>
          <p:nvPr/>
        </p:nvSpPr>
        <p:spPr>
          <a:xfrm flipH="1">
            <a:off x="7182000" y="4935600"/>
            <a:ext cx="266400" cy="1238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Овал 63"/>
          <p:cNvSpPr/>
          <p:nvPr/>
        </p:nvSpPr>
        <p:spPr>
          <a:xfrm flipH="1">
            <a:off x="6877800" y="4711680"/>
            <a:ext cx="420840" cy="19368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Овал 64"/>
          <p:cNvSpPr/>
          <p:nvPr/>
        </p:nvSpPr>
        <p:spPr>
          <a:xfrm flipH="1">
            <a:off x="6655680" y="4952880"/>
            <a:ext cx="268200" cy="1238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Овал 66"/>
          <p:cNvSpPr/>
          <p:nvPr/>
        </p:nvSpPr>
        <p:spPr>
          <a:xfrm flipH="1">
            <a:off x="5342760" y="4608360"/>
            <a:ext cx="420840" cy="1936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Нашивка 67"/>
          <p:cNvSpPr/>
          <p:nvPr/>
        </p:nvSpPr>
        <p:spPr>
          <a:xfrm>
            <a:off x="4110120" y="3797280"/>
            <a:ext cx="1233360" cy="108576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1085760"/>
              <a:gd name="textAreaBottom" fmla="*/ 1086120 h 10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752" y="0"/>
                </a:lnTo>
                <a:lnTo>
                  <a:pt x="21600" y="10800"/>
                </a:lnTo>
                <a:lnTo>
                  <a:pt x="9752" y="21600"/>
                </a:lnTo>
                <a:lnTo>
                  <a:pt x="0" y="21600"/>
                </a:lnTo>
                <a:lnTo>
                  <a:pt x="11848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Нашивка 68"/>
          <p:cNvSpPr/>
          <p:nvPr/>
        </p:nvSpPr>
        <p:spPr>
          <a:xfrm>
            <a:off x="3100320" y="3797280"/>
            <a:ext cx="1233720" cy="1085760"/>
          </a:xfrm>
          <a:custGeom>
            <a:avLst/>
            <a:gdLst>
              <a:gd name="textAreaLeft" fmla="*/ 0 w 1233720"/>
              <a:gd name="textAreaRight" fmla="*/ 1234080 w 1233720"/>
              <a:gd name="textAreaTop" fmla="*/ 0 h 1085760"/>
              <a:gd name="textAreaBottom" fmla="*/ 1086120 h 10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752" y="0"/>
                </a:lnTo>
                <a:lnTo>
                  <a:pt x="21600" y="10800"/>
                </a:lnTo>
                <a:lnTo>
                  <a:pt x="9752" y="21600"/>
                </a:lnTo>
                <a:lnTo>
                  <a:pt x="0" y="21600"/>
                </a:lnTo>
                <a:lnTo>
                  <a:pt x="11848" y="108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Овал 70"/>
          <p:cNvSpPr/>
          <p:nvPr/>
        </p:nvSpPr>
        <p:spPr>
          <a:xfrm flipH="1">
            <a:off x="104760" y="3708360"/>
            <a:ext cx="2860560" cy="131760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ambria"/>
              </a:rPr>
              <a:t>Винесення спільного множника за дуж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Овал 26"/>
          <p:cNvSpPr/>
          <p:nvPr/>
        </p:nvSpPr>
        <p:spPr>
          <a:xfrm flipH="1">
            <a:off x="523800" y="3902040"/>
            <a:ext cx="20224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9" name="Группа 75"/>
          <p:cNvGrpSpPr/>
          <p:nvPr/>
        </p:nvGrpSpPr>
        <p:grpSpPr>
          <a:xfrm>
            <a:off x="5448240" y="5786280"/>
            <a:ext cx="3360960" cy="514440"/>
            <a:chOff x="5448240" y="5786280"/>
            <a:chExt cx="3360960" cy="514440"/>
          </a:xfrm>
        </p:grpSpPr>
        <p:sp>
          <p:nvSpPr>
            <p:cNvPr id="1680" name="Прямоугольник 99"/>
            <p:cNvSpPr/>
            <p:nvPr/>
          </p:nvSpPr>
          <p:spPr>
            <a:xfrm flipH="1">
              <a:off x="5448240" y="5786280"/>
              <a:ext cx="3360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Прямоугольник 100"/>
            <p:cNvSpPr/>
            <p:nvPr/>
          </p:nvSpPr>
          <p:spPr>
            <a:xfrm flipH="1">
              <a:off x="5448240" y="5786280"/>
              <a:ext cx="3360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pPr algn="ctr"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2" name="Овал 76"/>
          <p:cNvSpPr/>
          <p:nvPr/>
        </p:nvSpPr>
        <p:spPr>
          <a:xfrm flipH="1">
            <a:off x="8545680" y="5629320"/>
            <a:ext cx="266400" cy="1238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Овал 77"/>
          <p:cNvSpPr/>
          <p:nvPr/>
        </p:nvSpPr>
        <p:spPr>
          <a:xfrm flipH="1">
            <a:off x="8357400" y="5454720"/>
            <a:ext cx="266760" cy="12528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Овал 78"/>
          <p:cNvSpPr/>
          <p:nvPr/>
        </p:nvSpPr>
        <p:spPr>
          <a:xfrm flipH="1">
            <a:off x="7756560" y="5489640"/>
            <a:ext cx="419040" cy="19512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Овал 79"/>
          <p:cNvSpPr/>
          <p:nvPr/>
        </p:nvSpPr>
        <p:spPr>
          <a:xfrm flipH="1">
            <a:off x="7533720" y="5299200"/>
            <a:ext cx="268200" cy="1238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Овал 80"/>
          <p:cNvSpPr/>
          <p:nvPr/>
        </p:nvSpPr>
        <p:spPr>
          <a:xfrm flipH="1">
            <a:off x="7047720" y="5229360"/>
            <a:ext cx="266760" cy="12384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Овал 81"/>
          <p:cNvSpPr/>
          <p:nvPr/>
        </p:nvSpPr>
        <p:spPr>
          <a:xfrm flipH="1">
            <a:off x="6448320" y="5351400"/>
            <a:ext cx="268560" cy="12384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Овал 82"/>
          <p:cNvSpPr/>
          <p:nvPr/>
        </p:nvSpPr>
        <p:spPr>
          <a:xfrm flipH="1">
            <a:off x="5920560" y="5437080"/>
            <a:ext cx="420840" cy="1954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Овал 83"/>
          <p:cNvSpPr/>
          <p:nvPr/>
        </p:nvSpPr>
        <p:spPr>
          <a:xfrm flipH="1">
            <a:off x="5550840" y="5629320"/>
            <a:ext cx="266760" cy="12384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Овал 84"/>
          <p:cNvSpPr/>
          <p:nvPr/>
        </p:nvSpPr>
        <p:spPr>
          <a:xfrm flipH="1">
            <a:off x="5325480" y="5819760"/>
            <a:ext cx="268200" cy="12528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Овал 85"/>
          <p:cNvSpPr/>
          <p:nvPr/>
        </p:nvSpPr>
        <p:spPr>
          <a:xfrm flipH="1">
            <a:off x="6852600" y="5454720"/>
            <a:ext cx="687240" cy="32076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Овал 86"/>
          <p:cNvSpPr/>
          <p:nvPr/>
        </p:nvSpPr>
        <p:spPr>
          <a:xfrm flipH="1">
            <a:off x="8732160" y="6116760"/>
            <a:ext cx="266760" cy="1238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Овал 87"/>
          <p:cNvSpPr/>
          <p:nvPr/>
        </p:nvSpPr>
        <p:spPr>
          <a:xfrm flipH="1">
            <a:off x="8354160" y="6272280"/>
            <a:ext cx="420840" cy="19512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Овал 88"/>
          <p:cNvSpPr/>
          <p:nvPr/>
        </p:nvSpPr>
        <p:spPr>
          <a:xfrm flipH="1">
            <a:off x="7602480" y="6411960"/>
            <a:ext cx="611280" cy="2840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Овал 89"/>
          <p:cNvSpPr/>
          <p:nvPr/>
        </p:nvSpPr>
        <p:spPr>
          <a:xfrm flipH="1">
            <a:off x="7158960" y="6637320"/>
            <a:ext cx="268200" cy="1252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Овал 90"/>
          <p:cNvSpPr/>
          <p:nvPr/>
        </p:nvSpPr>
        <p:spPr>
          <a:xfrm flipH="1">
            <a:off x="6857280" y="6411960"/>
            <a:ext cx="420840" cy="19512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Овал 91"/>
          <p:cNvSpPr/>
          <p:nvPr/>
        </p:nvSpPr>
        <p:spPr>
          <a:xfrm flipH="1">
            <a:off x="6635160" y="6654960"/>
            <a:ext cx="268200" cy="1238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Овал 92"/>
          <p:cNvSpPr/>
          <p:nvPr/>
        </p:nvSpPr>
        <p:spPr>
          <a:xfrm flipH="1">
            <a:off x="5956200" y="6377040"/>
            <a:ext cx="611280" cy="2840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Овал 93"/>
          <p:cNvSpPr/>
          <p:nvPr/>
        </p:nvSpPr>
        <p:spPr>
          <a:xfrm flipH="1">
            <a:off x="5322960" y="6307200"/>
            <a:ext cx="420480" cy="19512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Нашивка 94"/>
          <p:cNvSpPr/>
          <p:nvPr/>
        </p:nvSpPr>
        <p:spPr>
          <a:xfrm>
            <a:off x="4089240" y="5489640"/>
            <a:ext cx="1233720" cy="1093680"/>
          </a:xfrm>
          <a:custGeom>
            <a:avLst/>
            <a:gdLst>
              <a:gd name="textAreaLeft" fmla="*/ 0 w 1233720"/>
              <a:gd name="textAreaRight" fmla="*/ 1234080 w 1233720"/>
              <a:gd name="textAreaTop" fmla="*/ 0 h 1093680"/>
              <a:gd name="textAreaBottom" fmla="*/ 1094040 h 109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65" y="0"/>
                </a:lnTo>
                <a:lnTo>
                  <a:pt x="21600" y="10800"/>
                </a:lnTo>
                <a:lnTo>
                  <a:pt x="9665" y="21600"/>
                </a:lnTo>
                <a:lnTo>
                  <a:pt x="0" y="21600"/>
                </a:lnTo>
                <a:lnTo>
                  <a:pt x="1193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Нашивка 95"/>
          <p:cNvSpPr/>
          <p:nvPr/>
        </p:nvSpPr>
        <p:spPr>
          <a:xfrm>
            <a:off x="3079800" y="5489640"/>
            <a:ext cx="1233360" cy="109368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1093680"/>
              <a:gd name="textAreaBottom" fmla="*/ 1094040 h 109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65" y="0"/>
                </a:lnTo>
                <a:lnTo>
                  <a:pt x="21600" y="10800"/>
                </a:lnTo>
                <a:lnTo>
                  <a:pt x="9665" y="21600"/>
                </a:lnTo>
                <a:lnTo>
                  <a:pt x="0" y="21600"/>
                </a:lnTo>
                <a:lnTo>
                  <a:pt x="11935" y="108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Овал 26"/>
          <p:cNvSpPr/>
          <p:nvPr/>
        </p:nvSpPr>
        <p:spPr>
          <a:xfrm flipH="1">
            <a:off x="503280" y="5594400"/>
            <a:ext cx="20224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3" name="Группа 102"/>
          <p:cNvGrpSpPr/>
          <p:nvPr/>
        </p:nvGrpSpPr>
        <p:grpSpPr>
          <a:xfrm>
            <a:off x="5476680" y="2381400"/>
            <a:ext cx="3362040" cy="500040"/>
            <a:chOff x="5476680" y="2381400"/>
            <a:chExt cx="3362040" cy="500040"/>
          </a:xfrm>
        </p:grpSpPr>
        <p:sp>
          <p:nvSpPr>
            <p:cNvPr id="1704" name="Прямоугольник 126"/>
            <p:cNvSpPr/>
            <p:nvPr/>
          </p:nvSpPr>
          <p:spPr>
            <a:xfrm flipH="1">
              <a:off x="5476320" y="2381400"/>
              <a:ext cx="336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Прямоугольник 127"/>
            <p:cNvSpPr/>
            <p:nvPr/>
          </p:nvSpPr>
          <p:spPr>
            <a:xfrm flipH="1">
              <a:off x="5476320" y="2381400"/>
              <a:ext cx="336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pPr algn="ctr"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6" name="Овал 103"/>
          <p:cNvSpPr/>
          <p:nvPr/>
        </p:nvSpPr>
        <p:spPr>
          <a:xfrm flipH="1">
            <a:off x="8574840" y="2230560"/>
            <a:ext cx="266760" cy="1206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Овал 104"/>
          <p:cNvSpPr/>
          <p:nvPr/>
        </p:nvSpPr>
        <p:spPr>
          <a:xfrm flipH="1">
            <a:off x="8387640" y="2062080"/>
            <a:ext cx="266760" cy="12060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Овал 105"/>
          <p:cNvSpPr/>
          <p:nvPr/>
        </p:nvSpPr>
        <p:spPr>
          <a:xfrm flipH="1">
            <a:off x="7786800" y="2095560"/>
            <a:ext cx="419040" cy="18900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Овал 106"/>
          <p:cNvSpPr/>
          <p:nvPr/>
        </p:nvSpPr>
        <p:spPr>
          <a:xfrm flipH="1">
            <a:off x="7563600" y="1909800"/>
            <a:ext cx="266760" cy="12060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Овал 107"/>
          <p:cNvSpPr/>
          <p:nvPr/>
        </p:nvSpPr>
        <p:spPr>
          <a:xfrm flipH="1">
            <a:off x="7076520" y="1843200"/>
            <a:ext cx="268200" cy="1206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Овал 108"/>
          <p:cNvSpPr/>
          <p:nvPr/>
        </p:nvSpPr>
        <p:spPr>
          <a:xfrm flipH="1">
            <a:off x="6477840" y="1960560"/>
            <a:ext cx="268200" cy="12060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Овал 109"/>
          <p:cNvSpPr/>
          <p:nvPr/>
        </p:nvSpPr>
        <p:spPr>
          <a:xfrm flipH="1">
            <a:off x="5950800" y="2044800"/>
            <a:ext cx="420840" cy="1886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Овал 110"/>
          <p:cNvSpPr/>
          <p:nvPr/>
        </p:nvSpPr>
        <p:spPr>
          <a:xfrm flipH="1">
            <a:off x="5579280" y="2230560"/>
            <a:ext cx="268200" cy="1206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Овал 111"/>
          <p:cNvSpPr/>
          <p:nvPr/>
        </p:nvSpPr>
        <p:spPr>
          <a:xfrm flipH="1">
            <a:off x="5355360" y="2416320"/>
            <a:ext cx="266760" cy="12060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Овал 113"/>
          <p:cNvSpPr/>
          <p:nvPr/>
        </p:nvSpPr>
        <p:spPr>
          <a:xfrm flipH="1">
            <a:off x="8761320" y="2701800"/>
            <a:ext cx="268560" cy="12060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Овал 114"/>
          <p:cNvSpPr/>
          <p:nvPr/>
        </p:nvSpPr>
        <p:spPr>
          <a:xfrm flipH="1">
            <a:off x="8385120" y="2854440"/>
            <a:ext cx="419040" cy="18864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Овал 116"/>
          <p:cNvSpPr/>
          <p:nvPr/>
        </p:nvSpPr>
        <p:spPr>
          <a:xfrm flipH="1">
            <a:off x="7189200" y="3208320"/>
            <a:ext cx="268200" cy="11916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Овал 117"/>
          <p:cNvSpPr/>
          <p:nvPr/>
        </p:nvSpPr>
        <p:spPr>
          <a:xfrm flipH="1">
            <a:off x="6888240" y="2989440"/>
            <a:ext cx="419040" cy="1886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Овал 118"/>
          <p:cNvSpPr/>
          <p:nvPr/>
        </p:nvSpPr>
        <p:spPr>
          <a:xfrm flipH="1">
            <a:off x="6665760" y="3224160"/>
            <a:ext cx="268560" cy="12060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Овал 119"/>
          <p:cNvSpPr/>
          <p:nvPr/>
        </p:nvSpPr>
        <p:spPr>
          <a:xfrm flipH="1">
            <a:off x="5984280" y="2954160"/>
            <a:ext cx="610920" cy="27648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Овал 120"/>
          <p:cNvSpPr/>
          <p:nvPr/>
        </p:nvSpPr>
        <p:spPr>
          <a:xfrm flipH="1">
            <a:off x="5353200" y="2887560"/>
            <a:ext cx="420480" cy="18900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Нашивка 121"/>
          <p:cNvSpPr/>
          <p:nvPr/>
        </p:nvSpPr>
        <p:spPr>
          <a:xfrm>
            <a:off x="4014720" y="2101680"/>
            <a:ext cx="1233720" cy="1060560"/>
          </a:xfrm>
          <a:custGeom>
            <a:avLst/>
            <a:gdLst>
              <a:gd name="textAreaLeft" fmla="*/ 0 w 1233720"/>
              <a:gd name="textAreaRight" fmla="*/ 1234080 w 123372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029" y="0"/>
                </a:lnTo>
                <a:lnTo>
                  <a:pt x="21600" y="10800"/>
                </a:lnTo>
                <a:lnTo>
                  <a:pt x="10029" y="21600"/>
                </a:lnTo>
                <a:lnTo>
                  <a:pt x="0" y="21600"/>
                </a:lnTo>
                <a:lnTo>
                  <a:pt x="11571" y="108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Нашивка 122"/>
          <p:cNvSpPr/>
          <p:nvPr/>
        </p:nvSpPr>
        <p:spPr>
          <a:xfrm>
            <a:off x="3211560" y="2127240"/>
            <a:ext cx="1233360" cy="106056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029" y="0"/>
                </a:lnTo>
                <a:lnTo>
                  <a:pt x="21600" y="10800"/>
                </a:lnTo>
                <a:lnTo>
                  <a:pt x="10029" y="21600"/>
                </a:lnTo>
                <a:lnTo>
                  <a:pt x="0" y="21600"/>
                </a:lnTo>
                <a:lnTo>
                  <a:pt x="11571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Овал 124"/>
          <p:cNvSpPr/>
          <p:nvPr/>
        </p:nvSpPr>
        <p:spPr>
          <a:xfrm flipH="1">
            <a:off x="114480" y="2008080"/>
            <a:ext cx="2860560" cy="128772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ambria"/>
              </a:rPr>
              <a:t>Зведення до алгебраїчн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Овал 26"/>
          <p:cNvSpPr/>
          <p:nvPr/>
        </p:nvSpPr>
        <p:spPr>
          <a:xfrm flipH="1">
            <a:off x="533520" y="2195640"/>
            <a:ext cx="20224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6" name="TextBox 4" descr=""/>
          <p:cNvPicPr/>
          <p:nvPr/>
        </p:nvPicPr>
        <p:blipFill>
          <a:blip r:embed="rId1"/>
          <a:stretch/>
        </p:blipFill>
        <p:spPr>
          <a:xfrm>
            <a:off x="5284800" y="665280"/>
            <a:ext cx="3755880" cy="583920"/>
          </a:xfrm>
          <a:prstGeom prst="rect">
            <a:avLst/>
          </a:prstGeom>
          <a:ln w="0">
            <a:noFill/>
          </a:ln>
        </p:spPr>
      </p:pic>
      <p:pic>
        <p:nvPicPr>
          <p:cNvPr id="1727" name="TextBox 101" descr=""/>
          <p:cNvPicPr/>
          <p:nvPr/>
        </p:nvPicPr>
        <p:blipFill>
          <a:blip r:embed="rId2"/>
          <a:stretch/>
        </p:blipFill>
        <p:spPr>
          <a:xfrm>
            <a:off x="5241960" y="5467320"/>
            <a:ext cx="3755880" cy="1287360"/>
          </a:xfrm>
          <a:prstGeom prst="rect">
            <a:avLst/>
          </a:prstGeom>
          <a:ln w="0">
            <a:noFill/>
          </a:ln>
        </p:spPr>
      </p:pic>
      <p:pic>
        <p:nvPicPr>
          <p:cNvPr id="1728" name="TextBox 74" descr=""/>
          <p:cNvPicPr/>
          <p:nvPr/>
        </p:nvPicPr>
        <p:blipFill>
          <a:blip r:embed="rId3"/>
          <a:stretch/>
        </p:blipFill>
        <p:spPr>
          <a:xfrm>
            <a:off x="5132520" y="4071960"/>
            <a:ext cx="4011480" cy="549360"/>
          </a:xfrm>
          <a:prstGeom prst="rect">
            <a:avLst/>
          </a:prstGeom>
          <a:ln w="0">
            <a:noFill/>
          </a:ln>
        </p:spPr>
      </p:pic>
      <p:pic>
        <p:nvPicPr>
          <p:cNvPr id="1729" name="TextBox 128" descr=""/>
          <p:cNvPicPr/>
          <p:nvPr/>
        </p:nvPicPr>
        <p:blipFill>
          <a:blip r:embed="rId4"/>
          <a:stretch/>
        </p:blipFill>
        <p:spPr>
          <a:xfrm>
            <a:off x="5303880" y="2359080"/>
            <a:ext cx="3754440" cy="54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3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3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3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30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30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30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3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3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3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3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3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3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3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3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3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3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500" fill="hold"/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500" fill="hold"/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3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30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3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3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3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3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3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3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3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3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3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3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3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3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3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3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3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3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3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3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3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0" name="Picture 3" descr=""/>
          <p:cNvPicPr/>
          <p:nvPr/>
        </p:nvPicPr>
        <p:blipFill>
          <a:blip r:embed="rId1"/>
          <a:stretch/>
        </p:blipFill>
        <p:spPr>
          <a:xfrm>
            <a:off x="-6480" y="5724360"/>
            <a:ext cx="1981440" cy="1279800"/>
          </a:xfrm>
          <a:prstGeom prst="rect">
            <a:avLst/>
          </a:prstGeom>
          <a:ln w="0">
            <a:noFill/>
          </a:ln>
        </p:spPr>
      </p:pic>
      <p:pic>
        <p:nvPicPr>
          <p:cNvPr id="1731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1732" name="Объект 2" descr=""/>
          <p:cNvPicPr/>
          <p:nvPr/>
        </p:nvPicPr>
        <p:blipFill>
          <a:blip r:embed="rId3"/>
          <a:stretch/>
        </p:blipFill>
        <p:spPr>
          <a:xfrm>
            <a:off x="476280" y="1944720"/>
            <a:ext cx="8131320" cy="3767040"/>
          </a:xfrm>
          <a:prstGeom prst="rect">
            <a:avLst/>
          </a:prstGeom>
          <a:ln w="0">
            <a:noFill/>
          </a:ln>
        </p:spPr>
      </p:pic>
      <p:sp>
        <p:nvSpPr>
          <p:cNvPr id="1733" name="Овал 6"/>
          <p:cNvSpPr/>
          <p:nvPr/>
        </p:nvSpPr>
        <p:spPr>
          <a:xfrm>
            <a:off x="2700360" y="1844640"/>
            <a:ext cx="1833480" cy="987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Овал 11"/>
          <p:cNvSpPr/>
          <p:nvPr/>
        </p:nvSpPr>
        <p:spPr>
          <a:xfrm>
            <a:off x="6732720" y="2832120"/>
            <a:ext cx="175572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Овал 7"/>
          <p:cNvSpPr/>
          <p:nvPr/>
        </p:nvSpPr>
        <p:spPr>
          <a:xfrm>
            <a:off x="4421160" y="3933720"/>
            <a:ext cx="4067280" cy="790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3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8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3" dur="1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6" name="Picture 3" descr=""/>
          <p:cNvPicPr/>
          <p:nvPr/>
        </p:nvPicPr>
        <p:blipFill>
          <a:blip r:embed="rId1"/>
          <a:stretch/>
        </p:blipFill>
        <p:spPr>
          <a:xfrm>
            <a:off x="-6480" y="5724360"/>
            <a:ext cx="1981440" cy="1279800"/>
          </a:xfrm>
          <a:prstGeom prst="rect">
            <a:avLst/>
          </a:prstGeom>
          <a:ln w="0">
            <a:noFill/>
          </a:ln>
        </p:spPr>
      </p:pic>
      <p:pic>
        <p:nvPicPr>
          <p:cNvPr id="1737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1738" name="Объект 2" descr=""/>
          <p:cNvPicPr/>
          <p:nvPr/>
        </p:nvPicPr>
        <p:blipFill>
          <a:blip r:embed="rId3"/>
          <a:stretch/>
        </p:blipFill>
        <p:spPr>
          <a:xfrm>
            <a:off x="476280" y="1620720"/>
            <a:ext cx="8131320" cy="4767480"/>
          </a:xfrm>
          <a:prstGeom prst="rect">
            <a:avLst/>
          </a:prstGeom>
          <a:ln w="0">
            <a:noFill/>
          </a:ln>
        </p:spPr>
      </p:pic>
      <p:sp>
        <p:nvSpPr>
          <p:cNvPr id="1739" name="Овал 6"/>
          <p:cNvSpPr/>
          <p:nvPr/>
        </p:nvSpPr>
        <p:spPr>
          <a:xfrm>
            <a:off x="755640" y="2205000"/>
            <a:ext cx="633744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Овал 9"/>
          <p:cNvSpPr/>
          <p:nvPr/>
        </p:nvSpPr>
        <p:spPr>
          <a:xfrm>
            <a:off x="4570560" y="5516640"/>
            <a:ext cx="15112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0" dur="10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5" dur="1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1" name="Заголовок 8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1742" name="Picture 2" descr=""/>
          <p:cNvPicPr/>
          <p:nvPr/>
        </p:nvPicPr>
        <p:blipFill>
          <a:blip r:embed="rId2"/>
          <a:stretch/>
        </p:blipFill>
        <p:spPr>
          <a:xfrm>
            <a:off x="4973760" y="2349360"/>
            <a:ext cx="3946320" cy="3578400"/>
          </a:xfrm>
          <a:prstGeom prst="rect">
            <a:avLst/>
          </a:prstGeom>
          <a:ln w="0">
            <a:noFill/>
          </a:ln>
        </p:spPr>
      </p:pic>
      <p:pic>
        <p:nvPicPr>
          <p:cNvPr id="1743" name="Picture 3" descr=""/>
          <p:cNvPicPr/>
          <p:nvPr/>
        </p:nvPicPr>
        <p:blipFill>
          <a:blip r:embed="rId3"/>
          <a:stretch/>
        </p:blipFill>
        <p:spPr>
          <a:xfrm>
            <a:off x="2556000" y="1628640"/>
            <a:ext cx="2681280" cy="4848480"/>
          </a:xfrm>
          <a:prstGeom prst="rect">
            <a:avLst/>
          </a:prstGeom>
          <a:ln w="0">
            <a:noFill/>
          </a:ln>
        </p:spPr>
      </p:pic>
      <p:pic>
        <p:nvPicPr>
          <p:cNvPr id="1744" name="Picture 3" descr=""/>
          <p:cNvPicPr/>
          <p:nvPr/>
        </p:nvPicPr>
        <p:blipFill>
          <a:blip r:embed="rId4"/>
          <a:stretch/>
        </p:blipFill>
        <p:spPr>
          <a:xfrm>
            <a:off x="244440" y="5437080"/>
            <a:ext cx="1981080" cy="1274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18:20:52Z</dcterms:created>
  <dc:creator>Лена</dc:creator>
  <dc:description/>
  <dc:language>en-US</dc:language>
  <cp:lastModifiedBy>User</cp:lastModifiedBy>
  <dcterms:modified xsi:type="dcterms:W3CDTF">2015-06-12T08:06:26Z</dcterms:modified>
  <cp:revision>8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a6000000000001024140</vt:lpwstr>
  </property>
</Properties>
</file>