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63.png" ContentType="image/png"/>
  <Override PartName="/ppt/media/image26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15B-7FCC-473D-83EF-D2A0BA82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7AF-25D3-403C-8CD3-C6003214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0D6B3-2441-487A-9113-00314C65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FF2FD-1594-489F-9902-6722060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9DA66-CB31-4DEC-BD23-E3110E2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76861-FDD1-4CF3-9B4B-ABD5814A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F904F-F0A4-4D69-AA94-F52F3F47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E3CCB-5794-47A1-AD7E-A35735D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1BDAD-B12C-485F-8C9D-7C9BAE76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8692B-87A9-4509-A266-8673E117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FA73C-7A1E-4F63-94A7-5EE8926D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97FB1-D3DB-4BD8-BEC8-760D4228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BD7-B8CA-4CBE-9CB8-4B9E484E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E2BE8-E97A-4DF9-8A7E-64101CFC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590BD-D236-4BB7-9CEB-17052EDC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BDBB0-2D07-41F8-ACE6-3D8484E9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15079-1E64-46F7-BF60-FD179B4A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E2879-A1DA-4906-9E43-C1949BFC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37085-7DA7-44AA-BA90-F3C1B0B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FBA7-8A29-4847-9D34-502849D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38F3C-9820-4601-9FD6-432DACF7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CAD00-983F-4FA8-973A-FF9945CC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16447-9AC6-42E4-9F44-7706D622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BFF-B61F-4B94-B74D-6E4A5A64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A6702-CB3A-4442-8D1C-05D33F84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696D07-2BCA-4166-A7E7-F0620F3F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C75735-0582-44F7-897F-7289897E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9881A4-B83B-4E5E-8280-32626B3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4D8B96-D859-4EBE-81AB-4053935F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7587AB-B785-455C-B1F9-2A3D3102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023473-F0AB-4E6E-BF16-AB47BAD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64BBE4-75B0-4723-BA5E-4015BA4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55B3E-9C2A-4580-9D12-6BB6A1A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04EC8F-FF9D-4912-8365-C773FB2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296F-D181-417D-BA02-455EECE6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E5E695-9C3F-4168-A8BF-85A71714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DC8F90-C372-4583-A75F-0C81D738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B01127-7CB8-4733-89B7-85F671F1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805B4F-DADC-4250-9861-57734750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23DF6-4B0D-43EE-BB9B-16E28BF6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054B2E-0FEF-4333-B223-6B8A4D0E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3483FA-4DA3-454A-B81C-F6F11030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715135-FF11-4DE7-9DB5-2728C10F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3D7867-8132-4E67-9632-B99E66F1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B649EB-05A3-4CED-9289-A139AAD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4D89-FC3B-4519-A4AC-E888737D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732EC5-785A-4103-A988-1091334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811D7B-7364-496E-A59B-9F91D3B7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8191FA-A2CC-4164-AE4E-89BF2872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187A55-2096-4B8D-B10C-17321C00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C3C689-E36F-4A7A-9A11-BA0052E0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65E3ED-B24D-4CBA-AAB5-E2C4FB92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63C03D-89B4-4E1F-BC50-13CF478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CC6620-4772-4658-96E1-E12541F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B405B5-4C20-4D1D-B566-E3822508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73873-89F7-457A-9AA1-2F69D1F8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A7E-CF4C-4C64-A40E-84772D8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2896C5-9A6D-495B-8B70-DE811CA0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D52BCF-A7BB-4FC1-A0CE-946E3AE2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690450-7E69-4033-BDEB-1F7EE31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B95999-513A-41B7-B116-03B6F750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D2ECCA-C717-4ADF-82F9-581DB34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FFC109-478D-4671-8DC4-E1BC6C49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14A49A-77EB-4051-8479-22416DE7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C3E00-1048-42FC-84C1-18AB6EA4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C477A-ADBD-480C-B949-4F1382FE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1C1B2-6059-4AE6-8AF4-7C3CBEF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E9D-7D73-4A3E-86B7-E94FB2C0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A19A3-05B5-4FF3-9381-225207A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2F915-ED6E-49EE-B264-3A110B5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205D7-630F-4331-9611-E46999F2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72C02-7800-4423-9C44-3B3A07A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F376C-23B0-40C4-9E53-910065E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A42FE-E000-4DFE-98F8-69A33F6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91E3D-04A4-4A89-BE18-25842153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C8E4B-3F59-44BD-93B1-3704A8FF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17B01-AA7D-4E09-983E-501B23C2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4556DD-0C71-4D56-80BD-5A8E30A7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47CD-9C7E-4560-ACD3-FC4EDE10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DD146C-CEC3-4927-973C-BB795982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89028F-CDF5-4CCC-BD1A-FBB502A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CFC9EA-D14E-427D-833E-C5607B49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1C0915-A558-4A0C-847A-3F76BFED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3419F8-CCC7-46ED-AFC5-18253EB4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7550C8-1535-4AEE-8D6B-0946915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357539-6ECA-46F0-84AF-4683C6FB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9025E6-55ED-4DE5-AC22-B9BF5AF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C9D0EA-45B3-49C2-BE32-FA269069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EB77C4-62C0-40DD-B3D2-0D541FB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2896-00C1-48A3-B654-8571B0EE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A39B17-7C26-4920-9B68-E41F7EAE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4A54C-13EF-4AF5-84FE-47B175A6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97527-5CFE-4142-9F0D-93071BA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36C60-7640-4959-AFEC-B5725FF6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81EE8-FA67-428F-AE8D-2DA47E9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AB5DB-05A1-45FB-BE07-CEF4E4F4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164F9-7814-4AC3-B732-0942FF9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8B7EF-9017-4516-9169-CF4962A8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78002-411E-42F3-B3B6-A38A2C0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BA621-B612-47A3-B7A9-BD7BF5C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1DA-BF34-4E2B-8BFF-D62C8ED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736E14-EAD8-46D2-9214-AA2656BC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BF2D2-5CD7-4032-8171-6E1477D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20D01-DEB5-47EA-9BA5-0352CFAB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ABD79-6F91-48BB-BF17-18D7242C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02E6C4-2E19-46AE-BB39-37E094B9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0E9FC-0118-494B-A6A2-EF6F6118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0140C-1EF4-4EBB-9A1B-43A559AD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03E01-DB41-4786-9720-88C8140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7BA42-A5AA-40DB-B8E1-7AAC34A0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A1CF5-93C4-43BA-999B-D624A811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C86-A2C4-4C0E-BCBA-8CBB2044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0710-AC6A-4F66-BF5B-5EA11C9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AEAA3-7F2E-4012-A0C5-01FE497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8E1E4-4E26-407C-A706-B3C6441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FF516-F297-4E70-A381-B5D3576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699CC-6E9C-41D2-8773-95073705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04916-1FFF-4141-91AA-118CA8B0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A875E-CB9E-4539-8188-FD2DCA56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23EDA-8FA9-471A-A21A-F2059A12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C54AB-F3F2-4E35-857C-24498852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D19EC-88D7-4737-B514-3B44C56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88481-1D3C-4649-A25A-0AD85722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C43D-5803-4B99-92FB-2EE9B7A8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A75DE-F7C4-482B-8EF5-16517A8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4897AB-237C-4E0A-B62A-B86D997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F03EA-3442-4698-9720-BBA7F31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80B9A-7AEB-4AAA-8589-E383ED9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0F474-2FF3-4552-B58C-D8B746E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21720-5073-417D-82A9-2CFCFC28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9BC29-EA04-49A6-B429-08ED18A3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2281C3-DE63-41F0-928E-CF89F5A5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03ED233-033B-45F6-BF90-1C04867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9D7D7A-A68B-4F53-9FE0-05FEB82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1F31-9927-40FE-8989-B23D9D7A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08938A-3F30-45FF-9C9B-49FEB103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5C8CCD-887E-4CD2-A432-5AB5A26E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AD49BF-7EAF-4597-9CD8-F6292EF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70F851-BD9D-4DB1-8227-CB57B54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DC5104-BBEF-4BB1-916D-D7B89DD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AF95C6-1EEF-4996-A04B-E934843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1BE71D-08C0-4D55-A5F7-250068B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CD2033-ABCD-4D7B-9BA5-3172FF9D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F2ECD3-9D5C-4C9F-907E-CEDDA7FB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4D18BD-76A1-4BFD-8B7D-C9525008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2402-AAD9-446F-90D6-CCFF4BAE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7DE941-77ED-4F81-A13A-46D3BDBA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991C34-BCD3-42B5-A730-DE5CC9AF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540D46-292D-466E-AA89-EFFCFA5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08687D-56DF-4819-BAAD-BDAD336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4072A2-7F88-4E00-B270-456E8DC3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3FCB69-1C51-4429-8840-5564E3A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9E0EA0-2C91-400F-83F0-4DEACB8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F106F8-DB79-4158-B335-78A310C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786ED4-95AD-4C80-9A9E-6D460770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4E0029A-794A-4121-9944-B8163F54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0798-2B69-4323-9A57-416F4871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6783AA-28D7-481E-9359-CE281FB9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10BAEE3-C5C0-4C77-97B3-2769984A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AE6D3C-A45B-4AFA-8A92-D54C8734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7A4F98-1192-494F-B852-824BE303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CE4139-67DD-4AAE-90C8-260185D2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A0D7F8-1F3F-43DD-86C6-FBCDC15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E986B93-3709-4986-8C3C-B91C03E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F24CA76-3705-4118-B462-ECDB9E3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4F809D-49A5-4DC5-900C-C58AFFD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731925-D098-4CAD-915F-13750A2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6599-D7F8-4C0A-A74A-C04A3A29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E95A1BA-F410-4844-AD5B-A7B49D35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A1A088-E5D4-4B67-A170-04EF0465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78FF64A-0BBC-47BB-A2B9-870CC455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9F327-7D53-4F3B-8E4B-189C43CC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E2FD0-22A8-433D-8DD7-A89D7FFA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7B5BD-00C0-4A09-B96F-6D4D01AD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52808-6C7E-4853-9F1F-925FFC0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BF7870-E35A-4634-AB97-03DFB14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4CF8D-DC9E-43AE-A887-2D8CE28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A1AF7-0570-4267-B85F-A77E44EF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2B2B-146C-481F-82FD-7F04BE6E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AC6C99-1567-4E5E-8ABB-785E781B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9718D-2CE3-4AA7-9D18-EC507201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DE4C71-7B4C-45B1-AC27-4AABC98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A43283-8B2F-4D68-94E3-17B87A91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7BBD3-9621-4178-A4AE-127DDD6C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C124BB-1BA0-4783-B08D-361769E6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630F98-4639-4C92-A3F7-489BC65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C81D13-EF17-4AE4-B945-D66779A9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4B0949-6A90-4536-B13A-085AA64B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76DCD67-48C0-4EB8-A9D0-B697CA4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0D99-7943-4676-8713-90B8F5EE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9D98B9-F5E3-4DF2-8E3A-97CDD3D3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298136-BD1C-4DC9-8DAD-79018DD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F604373-2CCC-40DB-8A4B-6A6A5F0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34B3E9-45DC-4240-B7A6-BE98679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D024230-8D62-424A-A30E-65DFDB0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90EEBC-A352-44B6-8F23-4BEC0093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1E20DE-337B-47D4-B7BA-31ACF0A5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232D63-8157-4B8F-A2A2-A279BBD0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9B4726-F55D-445F-B27D-A5F1373F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D30AC4-8159-410C-9217-C4E860C6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F70F-96DB-49A3-93CA-AB1ECE94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59100-A21B-4C46-9852-65F2153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DE6E52-2447-449C-8867-F74177A4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F80FB3-E7CD-4BF9-8C0A-6AE4F86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23BB64-9888-4E54-B723-B3324DE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BFBAF-428B-4F82-83F7-E2264004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670F47-C237-4174-A886-0EF12414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33FA8-FB62-4608-BF9C-F434BE1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E5D73-BBEC-4681-968C-A4862A9B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2AEB6C-8577-4B61-A3FE-5D949532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459B05-8475-4069-9BCC-6CC5F899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51FCD-6C40-4504-B9BE-5A3E9BC7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935647-C83D-4F26-8B60-233B5A62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56AA10-1747-48B2-AD31-77EB0F89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41F386-33AF-497E-806C-EEC006C7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E4552F-7516-472D-8D80-146B4065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85F469-82C2-43B9-8F70-5CA40145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128670-821F-4CF0-A701-D4C6878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5D6798-32DE-4ACB-83C1-9F5370FD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2F5BE4-24A1-44AB-8C50-2DECF0EF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A57731-BAB0-4C22-AA3D-08289C2D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02A9BD-CC81-47C5-BFA6-33FA54B5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5CB-82E4-4C67-8FCC-3F415D07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57AF-62E2-4B07-B94C-6A7423E6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15A9FF-8361-41E7-9102-730EC0DE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52F332-2F44-4359-9CEB-3108F18B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0D0E40-6BFF-45A7-A8FF-450B95C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444B28-7CB9-4B77-8DCD-5E291DF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3EF3F8-8DC3-4BDD-A695-B6AD3205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0E4D05-89B1-41E3-9F23-F7F68F65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9E2048-C6CE-451A-AD0F-8FF0C273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00394D-8208-4428-9D0D-FE7DB96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24A663-D8FB-47BB-A9F3-60D0CD1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DC17DC-8496-49B8-A229-C949DF93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4D6FA-6EA6-4C05-9A01-69F8DD7C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D8AC52-F0E4-4FAA-BB6B-1B3D54D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E2881F-E3FF-4474-83FA-9309A792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7073BB-49CD-4B96-A745-573BF9BD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AEE60C-057B-45A4-9A4A-1B10D528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F940D52-0D6C-4AD0-9AF6-4F07C9A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6C9FF4E-2E54-449A-9619-84CE638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3FD417E-8CE7-4C8E-B439-5AC6D12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CAA902-11CF-4429-97AE-E49ABCBA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6F72C2-3B6C-4E51-84BF-FF69C28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B3E44EE-48E2-4682-9D4A-3DE148E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9E94-790A-4954-8F02-BCA1981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771EAD-5FF4-4118-95E5-D9BB859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C5907BD-49E9-40B1-8CE7-C2614E0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3A746C5-FFC5-4F0C-8976-04FC65D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3DF9A61-47F7-4A84-8F11-D6D0A7E8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BB3AB0A-860A-42BB-83F9-A0489E9C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C1EA9B5-4EC5-4AF9-8BE9-37946BDC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B05664-DD88-4247-A4B9-2286BA7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9D74F42-060D-4118-99C7-4864567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A7E04F-B3B4-4B36-8844-C07D6A0C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F2FDFAA-9D1B-4B7C-9337-7CED0FA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0BD5-FA67-4D5D-8D91-F2D71A31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B176FC-47AE-48E7-BA85-6B85F252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ADE6DB3-047E-448C-8723-A098D5F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B0783D8-8047-4B45-A170-5896BA5E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86139D6-6AEB-4F72-9BF6-F9450C1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6D8B73-EFC7-4D66-9DF4-3A0D1A7B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A5D1B57-750E-432F-9A29-F04537A9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8C1FDEC-95ED-4699-922F-AEDFED14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5A46A3-A236-4DA2-8DCE-A35A7404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A8759F5-144B-4BFA-8BDE-B0E5DA24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F5DFFB0-C6CF-43A2-A81B-016239A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0DFF-D48A-4E3A-B9FF-45788F6E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1F362CF-6FEF-4944-A062-D6457B59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95D485B-D127-43E0-865C-891FCC08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7BC1F6D-9FAC-4CA3-BD1D-7F2CA244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254425E-B216-43C5-A7A6-AC70ADA6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BBCE53-BF5A-4908-8610-8AC6002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775059-214C-43C1-A402-A32D982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3030EA-8D84-4CD0-A32A-745446A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5F0E230-3387-4B87-8A58-7A273FC4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808BB7-D367-41EB-B77B-3C6A26DA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C76A28-C814-4FF0-9A84-DAA59902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0D05-B650-4E5D-8973-DA1BB574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9190E1-DD8C-4120-81B5-294E2FA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3C9CFD-E2CB-4A3F-955C-11FFD9CC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D7EF98-5AB5-4A99-8CD8-380F4729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6190DE-E832-4F6A-8B6D-8819FA5A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481F7E-40AD-4D41-AE5B-718E5DE4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DD3A03-9900-4A0C-954F-DD94431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E12DF4-2CAE-4AA3-AE27-D7AB5376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E64460-D33E-49E1-A855-09CE761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0AD7FB-5609-42D0-A0E1-B958B8FE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08C70A-E3D1-4E0C-970C-06E5D181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302D-CB91-4B19-8CFA-BB3EED5C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0B2A50-4316-49C4-9223-D9F1B771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9281F6-7994-4C16-814B-E20F4F6C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1D10192-D7C6-48A2-82EF-382756E0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2AE0632-BD98-427C-83B3-CA80B6B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D3BCACE-478A-4D63-A50E-BB66604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1763B9-C0CB-4A22-8298-5EC7008D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4162E94-784D-47BF-8C60-EB7CB56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32163F0-AE7E-43F3-9B21-F88BBAB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4A7CDA0-0DBD-4F38-91A9-B342691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B96B770-68CB-4739-B546-B6399D1A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9A8E-C9FA-435B-8255-712AE582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10A3181-36D1-4327-9C22-AA12B912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CD954EA-1711-4DB2-898E-1B13F1DE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CE46498-4A2E-4F0E-AF58-5AB1F343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3FBD50-C5F7-4B13-A9AA-F7D87616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4FFFEC-28C8-42F9-A2BE-08F9ED7D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B9A5AA-B01B-43F6-821D-4D1B481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458843-7C33-46CB-B8EC-2BF8C273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4A2A23-AAD7-4EFA-98F2-C3F40A1C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F6310D-F5A2-414C-9983-AB40E708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7136E0-844E-4399-9FB3-079C24B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B338-63E9-4C8B-850A-C9C88B3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24C241-5C63-4FBD-B298-E11C1C2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958708-694E-4025-9D85-CA4A5E73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348336-D600-4B64-9918-EEA4E1D9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B33738-567F-456A-8B03-4A6D60C4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966EBC-BD1A-4B31-9215-562BB797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2B5BC9-9489-48A0-93DC-03AC034C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712897-211C-4A05-BB27-7AF33F2F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055007-918C-4A40-B0A3-6F26236F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F788A4-9569-4ADB-98EA-DFC76675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F6EBB6-476F-4971-943E-28C4B9ED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81BD-A853-48D9-9194-05863855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BEC423-C5C0-4B18-AEC5-3761911B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6FFC4A-28C3-4F8A-A4A8-EE3FC755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7FFDCA-C3FC-4003-AFB1-BB5F7EE2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E347B9-F201-4F27-A5A4-ADB5EF7C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ACC145-A722-4110-A8AD-E3C913A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8550A1-8E8F-476B-A53E-8B20A826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6B02FE-6133-4133-B7D6-FD5E948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51854F-2FEF-4F24-B011-E3C61DED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F75AE6-DD99-4EE7-A5D5-6BDAC94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82AFBE-143C-4462-8B6F-340A9413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CA3-6FF5-4223-BAB2-51708C1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97E8D-84DD-4166-9C33-4D3C8B2B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A43575-6E13-42C0-B1C0-81F66DD2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51630F-5DE6-4FE2-B959-E81854FF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6806FA-F8B4-46EE-B231-3700D13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3C0C69-AF4C-404B-929C-165FAACD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936573-33B9-4561-90D8-03A1F2C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0EB220-FBF9-405C-AEEF-DE0A38EC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27D474-2493-451C-B83C-C1EDA1D7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166116-7714-46C3-98A8-C955199A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70D778-047A-4431-B62E-FB3CD635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1D7581-D1BC-44B1-AD5F-5C5B7F5C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8699-8ACA-4694-A4CF-6C80E333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E3C94A6-4B3C-47C6-8766-EC91ABBB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E66BD54-FF5D-4C2B-94AE-093F27B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49BC0CC-D139-434F-91EA-1EF58EBC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9AF8AEA-C54B-4C65-BCE5-A7923A4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0720BCE-6D1B-4C6B-A8EF-230C385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3902B70-F73A-4A30-B12C-61C22E8B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7CB757-E3BB-41A3-A6A3-46B177B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F11C678-12C9-425B-B363-48775B7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950D1FA-D571-4B3A-9772-B69D8E95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559E7E5-DC0C-487E-B765-8997B579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4F29-370A-49F5-9FAF-B52EABD8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0F627B2-9765-44C3-B723-5AF17283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46744D0-9A0E-4268-BE6B-33964A47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90A9F6B-0D1A-495B-9AFF-262333AD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B27E6A-2DB1-4F26-8850-3F47F967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D98023E-6321-4B58-8174-938C3D5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C34B152-5695-47D8-93AA-7F10039F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2C132BC-4536-453F-8303-4320B62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456FD7B-1E0A-4A45-A5BA-4F057E4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002D10E-F394-458D-BF0E-9E0F932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A0C9B7C-5ABD-4C2B-9DC7-E482D3A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76B1-D6AE-4427-B60F-BC3B8D76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F3C0EC6-442A-40F7-A0EC-8BA692B3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D4DBB47-A54C-4787-915D-646DF3FC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228C1A4-1F30-4B47-B954-C85D4F12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41CA-CF3A-41DA-A6D0-26BA5185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6356-80D4-46D3-8B3B-3357B6D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95C3-379C-44E9-98E1-24F171D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A3E5-0D0D-43AC-ADC8-E908FBA2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833F-3A1A-40D1-9CEB-DF794F8F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041C3-01B9-4AE2-9E68-020AC702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706-D405-47B1-BD97-3155CC01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8DD21-5075-4972-973C-BBFC074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06486-22A3-4B0D-9455-C8C63086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C8727-FE55-4DDC-B79D-7EDA9D66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C3FEF-02C3-4CA6-A677-85F7F4D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95CD7-9051-470D-AE01-99AE67C4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C39DE-D54A-495F-B6E9-8EDD5ED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5A17E-764E-4EA6-8D65-F0CFFAAB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553D4-A96F-47FE-96C2-BB8E07E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CFBD8-44C9-4775-B199-208F39C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9A896-FAC7-40AF-BBBC-7CFB610E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1A4-662A-4E77-B532-B384F08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EDB11-938B-4680-95CD-24A22F5A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1453-6273-4B77-8AAE-DE7B8054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FA45-C172-436D-B1A3-472EF8E5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9F071-9AB2-4361-B69F-95DDACAE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7200-5C22-47F9-B5BC-CC707388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259DE-5130-4323-A8F9-1BA403FB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2FC52-6E5C-4E95-BBD7-EFDB0313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084E-3634-4A45-9257-9A1A4CB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2AD9-40DA-47D3-8CBA-CC834E3C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E837-3FF8-4327-A88B-103189B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BBF-F82B-4906-A312-4085458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70488-2CE5-4139-97D2-F3A98B37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8545B-0430-4B4E-B1F1-E23D3198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7CDE-63E9-4A03-AE30-B42CC9B6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A0AE3-3880-406E-BF48-F8428A66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C18B6D-B008-4F5B-8283-9601492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4BC77-82CB-4DA8-B5A6-BB4E139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2D96E-A4AC-44C3-8101-7C4A141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4697D-AA7B-4373-A6FD-EAAD550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3F800-8443-4B71-A55D-2A952C4E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9C47D-BCED-42E0-8F4B-3175BBD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70A-CBA4-42CB-ADDA-27C0A2E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274DF-B70B-4FC8-97C2-79E3872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CA521-F1EF-44AD-8483-0A2AE2E3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7CC85-8C91-4B3D-95A3-9C10D606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38D24-5F72-4E01-8EF4-9EB52F9A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724E1-80E7-4685-B81D-CADF76F3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6455F-0680-41E2-8374-C55A3EED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0DAB-B368-4FAA-80AA-33B2ED1F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9763-8A30-474F-B431-70B3ECFB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7A2ED-C6C4-48E8-969C-28722B28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F7FA7-9FD9-4E00-A27E-3D863E7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B87-199A-49C7-B20E-D50D579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4D2D-A30B-4CA6-B478-FD4DB602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3B3F1-0052-4B9B-BA28-52D57A1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8189A-7CE9-4E2A-80C7-8E58275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6ABF9-EF59-43AB-B350-E039F77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381B-A6E0-45FC-9A7F-B9B9592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8592C-4D1A-4B89-8152-9AA16A16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9763F-C4F7-4973-B93D-1731D15C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59839-4285-4EA0-8573-142C01F8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CDD35-DED2-4C30-AA71-E54F748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9CFB1-3C88-4584-B51F-D01BF21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AFF-21AC-4F4A-A153-C945724DD2D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57C-3A3B-408E-B016-CEA993397D9A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DFC-7F08-4DFE-8D53-1CBC71403A35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3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4FE-A283-4446-8D37-9C8B26030D6B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5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5613-F981-421F-B90E-AE04BCE6DBC5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917C-1970-4761-9E5C-33CCCEB301A7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A8FC-9186-4A48-AF29-7F0B08E2A5B0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2393-F827-4D5D-B141-EFEFD6A5613E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70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4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5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51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2958-2059-4E83-8E4A-C92C5D27CBD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74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7A5-3B86-43FE-8695-B9D06337F36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F52-C3DC-4309-9378-B6579C8E5635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9ECD-BF94-4139-AD18-6339CBB5407B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5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80F8-4470-4177-B155-3185DF0BC46C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6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8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6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F9BA-A46F-4B14-A1BE-524553B7C935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ftr" idx="6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273-552B-43B6-B484-B119F454008E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sldNum" idx="6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034-FBCE-4158-BA4C-A6CD238F134C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ftr" idx="6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7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7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7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6533-EB42-4F83-A711-20C0F68F55E7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5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7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7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7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ECC-A705-4FFB-99A7-BE8D75F7CCB0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9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81AA-7667-46A5-AA22-F22F594FEB7B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sldNum" idx="8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6A5-5592-49E7-B981-EDC54BBE1A92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ftr" idx="8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8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sldNum" idx="8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218-3534-434A-A090-D462F33D08C0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ftr" idx="8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8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sldNum" idx="8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19CD-24F5-4280-8BF6-3702F99BB3B6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ftr" idx="8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45D-90B7-4459-9659-28936ED6CA35}" type="slidenum">
              <a:rPr b="0" lang="uk-UA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9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D0E3-E7D9-4EBE-95FB-4F271F4AEDAD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sldNum" idx="9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C63D-3AB4-4142-8BBC-F1D98DCA9D3F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ftr" idx="9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dt" idx="9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9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9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520E-53E3-46B7-B1D6-C9B21E30C539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40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9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9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9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A60-AFC4-46D8-A68D-A69045B33A51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44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0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dt" idx="10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ftr" idx="10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sldNum" idx="10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D3CB-93F5-44C9-850F-6FBAB2A58FDD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Прямоугольник 9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10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sldNum" idx="10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EA2-E376-42D6-9ACB-FD525438A2AC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ftr" idx="10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sldNum" idx="10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EC5E-425B-41ED-A6F1-6BA21E6D90D2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ftr" idx="10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5235-BDAE-4A48-83F6-C1BE08CD93B6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7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16C3-1FBB-48F4-BB45-E55EE1D5FA7E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A6DA-BCF1-4FAC-B57E-B116D82A13AB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DCB4-61CC-42EA-A1E1-704459612EB7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0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DCA8-803D-41A8-ABCE-29C0DFC277E3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5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3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E9D0-891C-44A5-A1C6-137776CD142E}" type="slidenum">
              <a:rPr b="0" lang="uk-UA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3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6" name="Заголовок 1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738440"/>
          </a:xfrm>
          <a:prstGeom prst="rect">
            <a:avLst/>
          </a:prstGeom>
          <a:ln w="0">
            <a:noFill/>
          </a:ln>
        </p:spPr>
      </p:pic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179280" y="2819520"/>
            <a:ext cx="85140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Урок – подорож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«Сходинками до вершини гори Знань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78" name="Picture 6" descr=""/>
          <p:cNvPicPr/>
          <p:nvPr/>
        </p:nvPicPr>
        <p:blipFill>
          <a:blip r:embed="rId2"/>
          <a:srcRect l="0" t="0" r="0" b="-156"/>
          <a:stretch/>
        </p:blipFill>
        <p:spPr>
          <a:xfrm>
            <a:off x="250920" y="3871800"/>
            <a:ext cx="8713800" cy="2766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76a55"/>
            </a:outerShdw>
          </a:effectLst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Полилиния 36"/>
          <p:cNvSpPr/>
          <p:nvPr/>
        </p:nvSpPr>
        <p:spPr>
          <a:xfrm rot="21120600">
            <a:off x="5940360" y="156960"/>
            <a:ext cx="2035080" cy="2035080"/>
          </a:xfrm>
          <a:custGeom>
            <a:avLst/>
            <a:gdLst/>
            <a:ahLst/>
            <a:rect l="l" t="t" r="r" b="b"/>
            <a:pathLst>
              <a:path w="3771900" h="3771900">
                <a:moveTo>
                  <a:pt x="2677311" y="601386"/>
                </a:moveTo>
                <a:lnTo>
                  <a:pt x="2970705" y="355186"/>
                </a:lnTo>
                <a:lnTo>
                  <a:pt x="3205092" y="551861"/>
                </a:lnTo>
                <a:lnTo>
                  <a:pt x="3013580" y="883550"/>
                </a:lnTo>
                <a:cubicBezTo>
                  <a:pt x="3149756" y="1036739"/>
                  <a:pt x="3253292" y="1216068"/>
                  <a:pt x="3317869" y="1410594"/>
                </a:cubicBezTo>
                <a:lnTo>
                  <a:pt x="3700876" y="1410584"/>
                </a:lnTo>
                <a:lnTo>
                  <a:pt x="3754008" y="1711907"/>
                </a:lnTo>
                <a:lnTo>
                  <a:pt x="3394096" y="1842894"/>
                </a:lnTo>
                <a:cubicBezTo>
                  <a:pt x="3399945" y="2047776"/>
                  <a:pt x="3363988" y="2251701"/>
                  <a:pt x="3288418" y="2442226"/>
                </a:cubicBezTo>
                <a:lnTo>
                  <a:pt x="3581824" y="2688410"/>
                </a:lnTo>
                <a:lnTo>
                  <a:pt x="3428838" y="2953390"/>
                </a:lnTo>
                <a:lnTo>
                  <a:pt x="3068933" y="2822384"/>
                </a:lnTo>
                <a:cubicBezTo>
                  <a:pt x="2941718" y="2983092"/>
                  <a:pt x="2783093" y="3116195"/>
                  <a:pt x="2602735" y="3213571"/>
                </a:cubicBezTo>
                <a:lnTo>
                  <a:pt x="2669253" y="3590757"/>
                </a:lnTo>
                <a:lnTo>
                  <a:pt x="2381734" y="3695406"/>
                </a:lnTo>
                <a:lnTo>
                  <a:pt x="2190239" y="3363707"/>
                </a:lnTo>
                <a:cubicBezTo>
                  <a:pt x="1989486" y="3405045"/>
                  <a:pt x="1782414" y="3405045"/>
                  <a:pt x="1581661" y="3363707"/>
                </a:cubicBezTo>
                <a:lnTo>
                  <a:pt x="1390166" y="3695406"/>
                </a:lnTo>
                <a:lnTo>
                  <a:pt x="1102647" y="3590757"/>
                </a:lnTo>
                <a:lnTo>
                  <a:pt x="1169165" y="3213571"/>
                </a:lnTo>
                <a:cubicBezTo>
                  <a:pt x="988808" y="3116196"/>
                  <a:pt x="830182" y="2983093"/>
                  <a:pt x="702967" y="2822385"/>
                </a:cubicBezTo>
                <a:lnTo>
                  <a:pt x="343062" y="2953390"/>
                </a:lnTo>
                <a:lnTo>
                  <a:pt x="190076" y="2688410"/>
                </a:lnTo>
                <a:lnTo>
                  <a:pt x="483483" y="2442226"/>
                </a:lnTo>
                <a:cubicBezTo>
                  <a:pt x="407913" y="2251701"/>
                  <a:pt x="371955" y="2047775"/>
                  <a:pt x="377804" y="1842894"/>
                </a:cubicBezTo>
                <a:lnTo>
                  <a:pt x="17892" y="1711907"/>
                </a:lnTo>
                <a:lnTo>
                  <a:pt x="71024" y="1410584"/>
                </a:lnTo>
                <a:lnTo>
                  <a:pt x="454031" y="1410594"/>
                </a:lnTo>
                <a:cubicBezTo>
                  <a:pt x="518608" y="1216068"/>
                  <a:pt x="622144" y="1036739"/>
                  <a:pt x="758320" y="883550"/>
                </a:cubicBezTo>
                <a:lnTo>
                  <a:pt x="566808" y="551861"/>
                </a:lnTo>
                <a:lnTo>
                  <a:pt x="801195" y="355186"/>
                </a:lnTo>
                <a:lnTo>
                  <a:pt x="1094589" y="601386"/>
                </a:lnTo>
                <a:cubicBezTo>
                  <a:pt x="1269097" y="493880"/>
                  <a:pt x="1463680" y="423057"/>
                  <a:pt x="1666465" y="393240"/>
                </a:cubicBezTo>
                <a:lnTo>
                  <a:pt x="1732964" y="16050"/>
                </a:lnTo>
                <a:lnTo>
                  <a:pt x="2038936" y="16050"/>
                </a:lnTo>
                <a:lnTo>
                  <a:pt x="2105434" y="393240"/>
                </a:lnTo>
                <a:cubicBezTo>
                  <a:pt x="2308219" y="423057"/>
                  <a:pt x="2502802" y="493879"/>
                  <a:pt x="2677310" y="601386"/>
                </a:cubicBezTo>
                <a:lnTo>
                  <a:pt x="2677311" y="601386"/>
                </a:lnTo>
                <a:close/>
              </a:path>
            </a:pathLst>
          </a:custGeom>
          <a:solidFill>
            <a:srgbClr val="ffc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824040" tIns="949320" bIns="101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6" name="TextBox 37" descr=""/>
          <p:cNvPicPr/>
          <p:nvPr/>
        </p:nvPicPr>
        <p:blipFill>
          <a:blip r:embed="rId1"/>
          <a:stretch/>
        </p:blipFill>
        <p:spPr>
          <a:xfrm>
            <a:off x="6297480" y="878040"/>
            <a:ext cx="1554120" cy="536400"/>
          </a:xfrm>
          <a:prstGeom prst="rect">
            <a:avLst/>
          </a:prstGeom>
          <a:ln w="0">
            <a:noFill/>
          </a:ln>
        </p:spPr>
      </p:pic>
      <p:pic>
        <p:nvPicPr>
          <p:cNvPr id="1747" name="TextBox 41" descr=""/>
          <p:cNvPicPr/>
          <p:nvPr/>
        </p:nvPicPr>
        <p:blipFill>
          <a:blip r:embed="rId2"/>
          <a:stretch/>
        </p:blipFill>
        <p:spPr>
          <a:xfrm>
            <a:off x="6620040" y="401760"/>
            <a:ext cx="750600" cy="671400"/>
          </a:xfrm>
          <a:prstGeom prst="rect">
            <a:avLst/>
          </a:prstGeom>
          <a:ln w="0">
            <a:noFill/>
          </a:ln>
        </p:spPr>
      </p:pic>
      <p:sp>
        <p:nvSpPr>
          <p:cNvPr id="1748" name="Полилиния 23"/>
          <p:cNvSpPr/>
          <p:nvPr/>
        </p:nvSpPr>
        <p:spPr>
          <a:xfrm rot="2035200">
            <a:off x="2641320" y="2390400"/>
            <a:ext cx="2319120" cy="2320920"/>
          </a:xfrm>
          <a:custGeom>
            <a:avLst/>
            <a:gdLst/>
            <a:ahLst/>
            <a:rect l="l" t="t" r="r" b="b"/>
            <a:pathLst>
              <a:path w="2743200" h="2743200">
                <a:moveTo>
                  <a:pt x="2052591" y="694783"/>
                </a:moveTo>
                <a:lnTo>
                  <a:pt x="2457306" y="572809"/>
                </a:lnTo>
                <a:lnTo>
                  <a:pt x="2606226" y="830746"/>
                </a:lnTo>
                <a:lnTo>
                  <a:pt x="2298236" y="1120253"/>
                </a:lnTo>
                <a:cubicBezTo>
                  <a:pt x="2342881" y="1284844"/>
                  <a:pt x="2342881" y="1458356"/>
                  <a:pt x="2298236" y="1622947"/>
                </a:cubicBezTo>
                <a:lnTo>
                  <a:pt x="2606226" y="1912454"/>
                </a:lnTo>
                <a:lnTo>
                  <a:pt x="2457306" y="2170391"/>
                </a:lnTo>
                <a:lnTo>
                  <a:pt x="2052591" y="2048417"/>
                </a:lnTo>
                <a:cubicBezTo>
                  <a:pt x="1932373" y="2169376"/>
                  <a:pt x="1782107" y="2256132"/>
                  <a:pt x="1617245" y="2299764"/>
                </a:cubicBezTo>
                <a:lnTo>
                  <a:pt x="1520520" y="2711244"/>
                </a:lnTo>
                <a:lnTo>
                  <a:pt x="1222680" y="2711244"/>
                </a:lnTo>
                <a:lnTo>
                  <a:pt x="1125955" y="2299764"/>
                </a:lnTo>
                <a:cubicBezTo>
                  <a:pt x="961093" y="2256132"/>
                  <a:pt x="810827" y="2169376"/>
                  <a:pt x="690609" y="2048417"/>
                </a:cubicBezTo>
                <a:lnTo>
                  <a:pt x="285894" y="2170391"/>
                </a:lnTo>
                <a:lnTo>
                  <a:pt x="136974" y="1912454"/>
                </a:lnTo>
                <a:lnTo>
                  <a:pt x="444964" y="1622947"/>
                </a:lnTo>
                <a:cubicBezTo>
                  <a:pt x="400319" y="1458356"/>
                  <a:pt x="400319" y="1284844"/>
                  <a:pt x="444964" y="1120253"/>
                </a:cubicBezTo>
                <a:lnTo>
                  <a:pt x="136974" y="830746"/>
                </a:lnTo>
                <a:lnTo>
                  <a:pt x="285894" y="572809"/>
                </a:lnTo>
                <a:lnTo>
                  <a:pt x="690609" y="694783"/>
                </a:lnTo>
                <a:cubicBezTo>
                  <a:pt x="810827" y="573824"/>
                  <a:pt x="961093" y="487068"/>
                  <a:pt x="1125955" y="443436"/>
                </a:cubicBezTo>
                <a:lnTo>
                  <a:pt x="1222680" y="31956"/>
                </a:lnTo>
                <a:lnTo>
                  <a:pt x="1520520" y="31956"/>
                </a:lnTo>
                <a:lnTo>
                  <a:pt x="1617245" y="443436"/>
                </a:lnTo>
                <a:cubicBezTo>
                  <a:pt x="1782107" y="487068"/>
                  <a:pt x="1932373" y="573824"/>
                  <a:pt x="2052591" y="694783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9720" rIns="729720" tIns="734040" bIns="73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TextBox 42"/>
          <p:cNvSpPr/>
          <p:nvPr/>
        </p:nvSpPr>
        <p:spPr>
          <a:xfrm>
            <a:off x="3098880" y="3165480"/>
            <a:ext cx="149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ambria Math"/>
              </a:rPr>
              <a:t>Не має розв'язк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0" name="TextBox 35" descr=""/>
          <p:cNvPicPr/>
          <p:nvPr/>
        </p:nvPicPr>
        <p:blipFill>
          <a:blip r:embed="rId3"/>
          <a:stretch/>
        </p:blipFill>
        <p:spPr>
          <a:xfrm>
            <a:off x="3425760" y="2627280"/>
            <a:ext cx="738360" cy="676440"/>
          </a:xfrm>
          <a:prstGeom prst="rect">
            <a:avLst/>
          </a:prstGeom>
          <a:ln w="0">
            <a:noFill/>
          </a:ln>
        </p:spPr>
      </p:pic>
      <p:sp>
        <p:nvSpPr>
          <p:cNvPr id="1751" name="Круговая стрелка 44"/>
          <p:cNvSpPr/>
          <p:nvPr/>
        </p:nvSpPr>
        <p:spPr>
          <a:xfrm rot="7472400">
            <a:off x="2418480" y="2628360"/>
            <a:ext cx="3303720" cy="2513160"/>
          </a:xfrm>
          <a:custGeom>
            <a:avLst/>
            <a:gdLst/>
            <a:ahLst/>
            <a:rect l="l" t="t" r="r" b="b"/>
            <a:pathLst>
              <a:path w="3303587" h="2513012">
                <a:moveTo>
                  <a:pt x="104509" y="1170831"/>
                </a:moveTo>
                <a:cubicBezTo>
                  <a:pt x="135925" y="855731"/>
                  <a:pt x="339005" y="563939"/>
                  <a:pt x="666535" y="363294"/>
                </a:cubicBezTo>
                <a:lnTo>
                  <a:pt x="598871" y="290452"/>
                </a:lnTo>
                <a:lnTo>
                  <a:pt x="821463" y="362617"/>
                </a:lnTo>
                <a:lnTo>
                  <a:pt x="837664" y="547523"/>
                </a:lnTo>
                <a:lnTo>
                  <a:pt x="770068" y="474753"/>
                </a:lnTo>
                <a:cubicBezTo>
                  <a:pt x="470753" y="648735"/>
                  <a:pt x="284389" y="903491"/>
                  <a:pt x="254772" y="1179152"/>
                </a:cubicBezTo>
                <a:lnTo>
                  <a:pt x="104509" y="1170831"/>
                </a:lnTo>
                <a:close/>
              </a:path>
            </a:pathLst>
          </a:custGeom>
          <a:solidFill>
            <a:srgbClr val="73737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Полилиния 24"/>
          <p:cNvSpPr/>
          <p:nvPr/>
        </p:nvSpPr>
        <p:spPr>
          <a:xfrm rot="20230800">
            <a:off x="3838320" y="3521160"/>
            <a:ext cx="2801880" cy="2801880"/>
          </a:xfrm>
          <a:custGeom>
            <a:avLst/>
            <a:gdLst/>
            <a:ahLst/>
            <a:rect l="l" t="t" r="r" b="b"/>
            <a:pathLst>
              <a:path w="2687776" h="2687776">
                <a:moveTo>
                  <a:pt x="1729979" y="679881"/>
                </a:moveTo>
                <a:lnTo>
                  <a:pt x="2017463" y="501829"/>
                </a:lnTo>
                <a:lnTo>
                  <a:pt x="2185947" y="670313"/>
                </a:lnTo>
                <a:lnTo>
                  <a:pt x="2007895" y="957797"/>
                </a:lnTo>
                <a:cubicBezTo>
                  <a:pt x="2076474" y="1075739"/>
                  <a:pt x="2112400" y="1209819"/>
                  <a:pt x="2111981" y="1346249"/>
                </a:cubicBezTo>
                <a:lnTo>
                  <a:pt x="2409920" y="1506192"/>
                </a:lnTo>
                <a:lnTo>
                  <a:pt x="2348251" y="1736345"/>
                </a:lnTo>
                <a:lnTo>
                  <a:pt x="2010256" y="1725890"/>
                </a:lnTo>
                <a:cubicBezTo>
                  <a:pt x="1942404" y="1844251"/>
                  <a:pt x="1844250" y="1942404"/>
                  <a:pt x="1725889" y="2010257"/>
                </a:cubicBezTo>
                <a:lnTo>
                  <a:pt x="1736345" y="2348251"/>
                </a:lnTo>
                <a:lnTo>
                  <a:pt x="1506192" y="2409920"/>
                </a:lnTo>
                <a:lnTo>
                  <a:pt x="1346249" y="2111980"/>
                </a:lnTo>
                <a:cubicBezTo>
                  <a:pt x="1209819" y="2112400"/>
                  <a:pt x="1075739" y="2076473"/>
                  <a:pt x="957797" y="2007894"/>
                </a:cubicBezTo>
                <a:lnTo>
                  <a:pt x="670313" y="2185947"/>
                </a:lnTo>
                <a:lnTo>
                  <a:pt x="501829" y="2017463"/>
                </a:lnTo>
                <a:lnTo>
                  <a:pt x="679881" y="1729979"/>
                </a:lnTo>
                <a:cubicBezTo>
                  <a:pt x="611302" y="1612037"/>
                  <a:pt x="575376" y="1477957"/>
                  <a:pt x="575795" y="1341527"/>
                </a:cubicBezTo>
                <a:lnTo>
                  <a:pt x="277856" y="1181584"/>
                </a:lnTo>
                <a:lnTo>
                  <a:pt x="339525" y="951431"/>
                </a:lnTo>
                <a:lnTo>
                  <a:pt x="677520" y="961886"/>
                </a:lnTo>
                <a:cubicBezTo>
                  <a:pt x="745372" y="843525"/>
                  <a:pt x="843526" y="745372"/>
                  <a:pt x="961887" y="677519"/>
                </a:cubicBezTo>
                <a:lnTo>
                  <a:pt x="951431" y="339525"/>
                </a:lnTo>
                <a:lnTo>
                  <a:pt x="1181584" y="277856"/>
                </a:lnTo>
                <a:lnTo>
                  <a:pt x="1341527" y="575796"/>
                </a:lnTo>
                <a:cubicBezTo>
                  <a:pt x="1477957" y="575376"/>
                  <a:pt x="1612037" y="611303"/>
                  <a:pt x="1729979" y="679882"/>
                </a:cubicBezTo>
                <a:lnTo>
                  <a:pt x="1729979" y="679881"/>
                </a:lnTo>
                <a:close/>
              </a:path>
            </a:pathLst>
          </a:custGeom>
          <a:solidFill>
            <a:srgbClr val="7030a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5640" rIns="935640" tIns="935640" bIns="9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Круговая стрелка 27"/>
          <p:cNvSpPr/>
          <p:nvPr/>
        </p:nvSpPr>
        <p:spPr>
          <a:xfrm rot="11350800">
            <a:off x="3279240" y="217080"/>
            <a:ext cx="3783240" cy="3783240"/>
          </a:xfrm>
          <a:custGeom>
            <a:avLst/>
            <a:gdLst/>
            <a:ahLst/>
            <a:rect l="l" t="t" r="r" b="b"/>
            <a:pathLst>
              <a:path w="3783013" h="3783012">
                <a:moveTo>
                  <a:pt x="255360" y="1297602"/>
                </a:moveTo>
                <a:cubicBezTo>
                  <a:pt x="332918" y="1083936"/>
                  <a:pt x="451576" y="887531"/>
                  <a:pt x="604633" y="719477"/>
                </a:cubicBezTo>
                <a:lnTo>
                  <a:pt x="505037" y="607039"/>
                </a:lnTo>
                <a:lnTo>
                  <a:pt x="812422" y="673289"/>
                </a:lnTo>
                <a:lnTo>
                  <a:pt x="855258" y="1002417"/>
                </a:lnTo>
                <a:lnTo>
                  <a:pt x="755732" y="890058"/>
                </a:lnTo>
                <a:cubicBezTo>
                  <a:pt x="630375" y="1032230"/>
                  <a:pt x="532824" y="1196673"/>
                  <a:pt x="468150" y="1374843"/>
                </a:cubicBezTo>
                <a:lnTo>
                  <a:pt x="255360" y="1297602"/>
                </a:lnTo>
                <a:close/>
              </a:path>
            </a:pathLst>
          </a:custGeom>
          <a:solidFill>
            <a:srgbClr val="7030a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Полилиния 28"/>
          <p:cNvSpPr/>
          <p:nvPr/>
        </p:nvSpPr>
        <p:spPr>
          <a:xfrm rot="184200">
            <a:off x="6021360" y="4330800"/>
            <a:ext cx="2197080" cy="2198520"/>
          </a:xfrm>
          <a:custGeom>
            <a:avLst/>
            <a:gdLst/>
            <a:ahLst/>
            <a:rect l="l" t="t" r="r" b="b"/>
            <a:pathLst>
              <a:path w="3771900" h="3771900">
                <a:moveTo>
                  <a:pt x="2677311" y="601386"/>
                </a:moveTo>
                <a:lnTo>
                  <a:pt x="2970705" y="355186"/>
                </a:lnTo>
                <a:lnTo>
                  <a:pt x="3205092" y="551861"/>
                </a:lnTo>
                <a:lnTo>
                  <a:pt x="3013580" y="883550"/>
                </a:lnTo>
                <a:cubicBezTo>
                  <a:pt x="3149756" y="1036739"/>
                  <a:pt x="3253292" y="1216068"/>
                  <a:pt x="3317869" y="1410594"/>
                </a:cubicBezTo>
                <a:lnTo>
                  <a:pt x="3700876" y="1410584"/>
                </a:lnTo>
                <a:lnTo>
                  <a:pt x="3754008" y="1711907"/>
                </a:lnTo>
                <a:lnTo>
                  <a:pt x="3394096" y="1842894"/>
                </a:lnTo>
                <a:cubicBezTo>
                  <a:pt x="3399945" y="2047776"/>
                  <a:pt x="3363988" y="2251701"/>
                  <a:pt x="3288418" y="2442226"/>
                </a:cubicBezTo>
                <a:lnTo>
                  <a:pt x="3581824" y="2688410"/>
                </a:lnTo>
                <a:lnTo>
                  <a:pt x="3428838" y="2953390"/>
                </a:lnTo>
                <a:lnTo>
                  <a:pt x="3068933" y="2822384"/>
                </a:lnTo>
                <a:cubicBezTo>
                  <a:pt x="2941718" y="2983092"/>
                  <a:pt x="2783093" y="3116195"/>
                  <a:pt x="2602735" y="3213571"/>
                </a:cubicBezTo>
                <a:lnTo>
                  <a:pt x="2669253" y="3590757"/>
                </a:lnTo>
                <a:lnTo>
                  <a:pt x="2381734" y="3695406"/>
                </a:lnTo>
                <a:lnTo>
                  <a:pt x="2190239" y="3363707"/>
                </a:lnTo>
                <a:cubicBezTo>
                  <a:pt x="1989486" y="3405045"/>
                  <a:pt x="1782414" y="3405045"/>
                  <a:pt x="1581661" y="3363707"/>
                </a:cubicBezTo>
                <a:lnTo>
                  <a:pt x="1390166" y="3695406"/>
                </a:lnTo>
                <a:lnTo>
                  <a:pt x="1102647" y="3590757"/>
                </a:lnTo>
                <a:lnTo>
                  <a:pt x="1169165" y="3213571"/>
                </a:lnTo>
                <a:cubicBezTo>
                  <a:pt x="988808" y="3116196"/>
                  <a:pt x="830182" y="2983093"/>
                  <a:pt x="702967" y="2822385"/>
                </a:cubicBezTo>
                <a:lnTo>
                  <a:pt x="343062" y="2953390"/>
                </a:lnTo>
                <a:lnTo>
                  <a:pt x="190076" y="2688410"/>
                </a:lnTo>
                <a:lnTo>
                  <a:pt x="483483" y="2442226"/>
                </a:lnTo>
                <a:cubicBezTo>
                  <a:pt x="407913" y="2251701"/>
                  <a:pt x="371955" y="2047775"/>
                  <a:pt x="377804" y="1842894"/>
                </a:cubicBezTo>
                <a:lnTo>
                  <a:pt x="17892" y="1711907"/>
                </a:lnTo>
                <a:lnTo>
                  <a:pt x="71024" y="1410584"/>
                </a:lnTo>
                <a:lnTo>
                  <a:pt x="454031" y="1410594"/>
                </a:lnTo>
                <a:cubicBezTo>
                  <a:pt x="518608" y="1216068"/>
                  <a:pt x="622144" y="1036739"/>
                  <a:pt x="758320" y="883550"/>
                </a:cubicBezTo>
                <a:lnTo>
                  <a:pt x="566808" y="551861"/>
                </a:lnTo>
                <a:lnTo>
                  <a:pt x="801195" y="355186"/>
                </a:lnTo>
                <a:lnTo>
                  <a:pt x="1094589" y="601386"/>
                </a:lnTo>
                <a:cubicBezTo>
                  <a:pt x="1269097" y="493880"/>
                  <a:pt x="1463680" y="423057"/>
                  <a:pt x="1666465" y="393240"/>
                </a:cubicBezTo>
                <a:lnTo>
                  <a:pt x="1732964" y="16050"/>
                </a:lnTo>
                <a:lnTo>
                  <a:pt x="2038936" y="16050"/>
                </a:lnTo>
                <a:lnTo>
                  <a:pt x="2105434" y="393240"/>
                </a:lnTo>
                <a:cubicBezTo>
                  <a:pt x="2308219" y="423057"/>
                  <a:pt x="2502802" y="493879"/>
                  <a:pt x="2677310" y="601386"/>
                </a:cubicBezTo>
                <a:lnTo>
                  <a:pt x="2677311" y="601386"/>
                </a:lnTo>
                <a:close/>
              </a:path>
            </a:pathLst>
          </a:custGeom>
          <a:solidFill>
            <a:srgbClr val="73737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4040" rIns="824040" tIns="949320" bIns="101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5" name="Скругленный прямоугольник 31" descr=""/>
          <p:cNvPicPr/>
          <p:nvPr/>
        </p:nvPicPr>
        <p:blipFill>
          <a:blip r:embed="rId4"/>
          <a:stretch/>
        </p:blipFill>
        <p:spPr>
          <a:xfrm>
            <a:off x="2176560" y="4638600"/>
            <a:ext cx="2376360" cy="824040"/>
          </a:xfrm>
          <a:prstGeom prst="rect">
            <a:avLst/>
          </a:prstGeom>
          <a:ln w="0">
            <a:noFill/>
          </a:ln>
        </p:spPr>
      </p:pic>
      <p:pic>
        <p:nvPicPr>
          <p:cNvPr id="1756" name="Скругленный прямоугольник 32" descr=""/>
          <p:cNvPicPr/>
          <p:nvPr/>
        </p:nvPicPr>
        <p:blipFill>
          <a:blip r:embed="rId5"/>
          <a:stretch/>
        </p:blipFill>
        <p:spPr>
          <a:xfrm>
            <a:off x="841320" y="3078000"/>
            <a:ext cx="2371680" cy="817560"/>
          </a:xfrm>
          <a:prstGeom prst="rect">
            <a:avLst/>
          </a:prstGeom>
          <a:ln w="0">
            <a:noFill/>
          </a:ln>
        </p:spPr>
      </p:pic>
      <p:pic>
        <p:nvPicPr>
          <p:cNvPr id="1757" name="Скругленный прямоугольник 33" descr=""/>
          <p:cNvPicPr/>
          <p:nvPr/>
        </p:nvPicPr>
        <p:blipFill>
          <a:blip r:embed="rId6"/>
          <a:stretch/>
        </p:blipFill>
        <p:spPr>
          <a:xfrm>
            <a:off x="4133880" y="5694480"/>
            <a:ext cx="2370240" cy="961920"/>
          </a:xfrm>
          <a:prstGeom prst="rect">
            <a:avLst/>
          </a:prstGeom>
          <a:ln w="0">
            <a:noFill/>
          </a:ln>
        </p:spPr>
      </p:pic>
      <p:pic>
        <p:nvPicPr>
          <p:cNvPr id="1758" name="TextBox 39" descr=""/>
          <p:cNvPicPr/>
          <p:nvPr/>
        </p:nvPicPr>
        <p:blipFill>
          <a:blip r:embed="rId7"/>
          <a:stretch/>
        </p:blipFill>
        <p:spPr>
          <a:xfrm>
            <a:off x="4591080" y="4578480"/>
            <a:ext cx="1297080" cy="590400"/>
          </a:xfrm>
          <a:prstGeom prst="rect">
            <a:avLst/>
          </a:prstGeom>
          <a:ln w="0">
            <a:noFill/>
          </a:ln>
        </p:spPr>
      </p:pic>
      <p:pic>
        <p:nvPicPr>
          <p:cNvPr id="1759" name="TextBox 40" descr=""/>
          <p:cNvPicPr/>
          <p:nvPr/>
        </p:nvPicPr>
        <p:blipFill>
          <a:blip r:embed="rId8"/>
          <a:stretch/>
        </p:blipFill>
        <p:spPr>
          <a:xfrm>
            <a:off x="6486480" y="5048280"/>
            <a:ext cx="1305000" cy="596880"/>
          </a:xfrm>
          <a:prstGeom prst="rect">
            <a:avLst/>
          </a:prstGeom>
          <a:ln w="0">
            <a:noFill/>
          </a:ln>
        </p:spPr>
      </p:pic>
      <p:sp>
        <p:nvSpPr>
          <p:cNvPr id="1760" name="Полилиния 29"/>
          <p:cNvSpPr/>
          <p:nvPr/>
        </p:nvSpPr>
        <p:spPr>
          <a:xfrm rot="21015600">
            <a:off x="3860280" y="830160"/>
            <a:ext cx="2916360" cy="2916360"/>
          </a:xfrm>
          <a:custGeom>
            <a:avLst/>
            <a:gdLst/>
            <a:ahLst/>
            <a:rect l="l" t="t" r="r" b="b"/>
            <a:pathLst>
              <a:path w="2687776" h="2687776">
                <a:moveTo>
                  <a:pt x="1729979" y="679881"/>
                </a:moveTo>
                <a:lnTo>
                  <a:pt x="2017463" y="501829"/>
                </a:lnTo>
                <a:lnTo>
                  <a:pt x="2185947" y="670313"/>
                </a:lnTo>
                <a:lnTo>
                  <a:pt x="2007895" y="957797"/>
                </a:lnTo>
                <a:cubicBezTo>
                  <a:pt x="2076474" y="1075739"/>
                  <a:pt x="2112400" y="1209819"/>
                  <a:pt x="2111981" y="1346249"/>
                </a:cubicBezTo>
                <a:lnTo>
                  <a:pt x="2409920" y="1506192"/>
                </a:lnTo>
                <a:lnTo>
                  <a:pt x="2348251" y="1736345"/>
                </a:lnTo>
                <a:lnTo>
                  <a:pt x="2010256" y="1725890"/>
                </a:lnTo>
                <a:cubicBezTo>
                  <a:pt x="1942404" y="1844251"/>
                  <a:pt x="1844250" y="1942404"/>
                  <a:pt x="1725889" y="2010257"/>
                </a:cubicBezTo>
                <a:lnTo>
                  <a:pt x="1736345" y="2348251"/>
                </a:lnTo>
                <a:lnTo>
                  <a:pt x="1506192" y="2409920"/>
                </a:lnTo>
                <a:lnTo>
                  <a:pt x="1346249" y="2111980"/>
                </a:lnTo>
                <a:cubicBezTo>
                  <a:pt x="1209819" y="2112400"/>
                  <a:pt x="1075739" y="2076473"/>
                  <a:pt x="957797" y="2007894"/>
                </a:cubicBezTo>
                <a:lnTo>
                  <a:pt x="670313" y="2185947"/>
                </a:lnTo>
                <a:lnTo>
                  <a:pt x="501829" y="2017463"/>
                </a:lnTo>
                <a:lnTo>
                  <a:pt x="679881" y="1729979"/>
                </a:lnTo>
                <a:cubicBezTo>
                  <a:pt x="611302" y="1612037"/>
                  <a:pt x="575376" y="1477957"/>
                  <a:pt x="575795" y="1341527"/>
                </a:cubicBezTo>
                <a:lnTo>
                  <a:pt x="277856" y="1181584"/>
                </a:lnTo>
                <a:lnTo>
                  <a:pt x="339525" y="951431"/>
                </a:lnTo>
                <a:lnTo>
                  <a:pt x="677520" y="961886"/>
                </a:lnTo>
                <a:cubicBezTo>
                  <a:pt x="745372" y="843525"/>
                  <a:pt x="843526" y="745372"/>
                  <a:pt x="961887" y="677519"/>
                </a:cubicBezTo>
                <a:lnTo>
                  <a:pt x="951431" y="339525"/>
                </a:lnTo>
                <a:lnTo>
                  <a:pt x="1181584" y="277856"/>
                </a:lnTo>
                <a:lnTo>
                  <a:pt x="1341527" y="575796"/>
                </a:lnTo>
                <a:cubicBezTo>
                  <a:pt x="1477957" y="575376"/>
                  <a:pt x="1612037" y="611303"/>
                  <a:pt x="1729979" y="679882"/>
                </a:cubicBezTo>
                <a:lnTo>
                  <a:pt x="1729979" y="679881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5640" rIns="935640" tIns="935640" bIns="9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TextBox 38" descr=""/>
          <p:cNvPicPr/>
          <p:nvPr/>
        </p:nvPicPr>
        <p:blipFill>
          <a:blip r:embed="rId9"/>
          <a:stretch/>
        </p:blipFill>
        <p:spPr>
          <a:xfrm>
            <a:off x="4668840" y="1987560"/>
            <a:ext cx="1298520" cy="596880"/>
          </a:xfrm>
          <a:prstGeom prst="rect">
            <a:avLst/>
          </a:prstGeom>
          <a:ln w="0">
            <a:noFill/>
          </a:ln>
        </p:spPr>
      </p:pic>
      <p:pic>
        <p:nvPicPr>
          <p:cNvPr id="1762" name="Скругленный прямоугольник 34" descr=""/>
          <p:cNvPicPr/>
          <p:nvPr/>
        </p:nvPicPr>
        <p:blipFill>
          <a:blip r:embed="rId10"/>
          <a:stretch/>
        </p:blipFill>
        <p:spPr>
          <a:xfrm>
            <a:off x="2309760" y="1335240"/>
            <a:ext cx="2511360" cy="822240"/>
          </a:xfrm>
          <a:prstGeom prst="rect">
            <a:avLst/>
          </a:prstGeom>
          <a:ln w="0">
            <a:noFill/>
          </a:ln>
        </p:spPr>
      </p:pic>
      <p:pic>
        <p:nvPicPr>
          <p:cNvPr id="1763" name="Скругленный прямоугольник 30" descr=""/>
          <p:cNvPicPr/>
          <p:nvPr/>
        </p:nvPicPr>
        <p:blipFill>
          <a:blip r:embed="rId11"/>
          <a:stretch/>
        </p:blipFill>
        <p:spPr>
          <a:xfrm>
            <a:off x="3986280" y="365040"/>
            <a:ext cx="2371680" cy="824040"/>
          </a:xfrm>
          <a:prstGeom prst="rect">
            <a:avLst/>
          </a:prstGeom>
          <a:ln w="0">
            <a:noFill/>
          </a:ln>
        </p:spPr>
      </p:pic>
      <p:sp>
        <p:nvSpPr>
          <p:cNvPr id="1764" name="Круговая стрелка 43"/>
          <p:cNvSpPr/>
          <p:nvPr/>
        </p:nvSpPr>
        <p:spPr>
          <a:xfrm rot="11680200">
            <a:off x="5327640" y="-320760"/>
            <a:ext cx="3494160" cy="3094200"/>
          </a:xfrm>
          <a:custGeom>
            <a:avLst/>
            <a:gdLst/>
            <a:ahLst/>
            <a:rect l="l" t="t" r="r" b="b"/>
            <a:pathLst>
              <a:path w="3494088" h="3094038">
                <a:moveTo>
                  <a:pt x="191448" y="1954778"/>
                </a:moveTo>
                <a:cubicBezTo>
                  <a:pt x="15751" y="1439477"/>
                  <a:pt x="186266" y="881346"/>
                  <a:pt x="632217" y="512052"/>
                </a:cubicBezTo>
                <a:lnTo>
                  <a:pt x="567210" y="407930"/>
                </a:lnTo>
                <a:lnTo>
                  <a:pt x="1016688" y="377199"/>
                </a:lnTo>
                <a:lnTo>
                  <a:pt x="795988" y="774367"/>
                </a:lnTo>
                <a:lnTo>
                  <a:pt x="731029" y="670321"/>
                </a:lnTo>
                <a:cubicBezTo>
                  <a:pt x="354513" y="993755"/>
                  <a:pt x="216020" y="1469665"/>
                  <a:pt x="370935" y="1907731"/>
                </a:cubicBezTo>
                <a:lnTo>
                  <a:pt x="191448" y="1954778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Круговая стрелка 45"/>
          <p:cNvSpPr/>
          <p:nvPr/>
        </p:nvSpPr>
        <p:spPr>
          <a:xfrm rot="6656400">
            <a:off x="3674160" y="3031200"/>
            <a:ext cx="3289320" cy="3782880"/>
          </a:xfrm>
          <a:custGeom>
            <a:avLst/>
            <a:gdLst/>
            <a:ahLst/>
            <a:rect l="l" t="t" r="r" b="b"/>
            <a:pathLst>
              <a:path w="3289300" h="3783012">
                <a:moveTo>
                  <a:pt x="178759" y="1453730"/>
                </a:moveTo>
                <a:cubicBezTo>
                  <a:pt x="231375" y="1215385"/>
                  <a:pt x="326371" y="992518"/>
                  <a:pt x="457616" y="799513"/>
                </a:cubicBezTo>
                <a:lnTo>
                  <a:pt x="382136" y="699171"/>
                </a:lnTo>
                <a:lnTo>
                  <a:pt x="707780" y="646050"/>
                </a:lnTo>
                <a:lnTo>
                  <a:pt x="658211" y="1066179"/>
                </a:lnTo>
                <a:lnTo>
                  <a:pt x="583211" y="966476"/>
                </a:lnTo>
                <a:cubicBezTo>
                  <a:pt x="482479" y="1129469"/>
                  <a:pt x="409325" y="1314115"/>
                  <a:pt x="367801" y="1510186"/>
                </a:cubicBezTo>
                <a:lnTo>
                  <a:pt x="178759" y="145373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Круговая стрелка 46"/>
          <p:cNvSpPr/>
          <p:nvPr/>
        </p:nvSpPr>
        <p:spPr>
          <a:xfrm rot="6667200">
            <a:off x="5628240" y="4337640"/>
            <a:ext cx="3492360" cy="2928960"/>
          </a:xfrm>
          <a:custGeom>
            <a:avLst/>
            <a:gdLst/>
            <a:ahLst/>
            <a:rect l="l" t="t" r="r" b="b"/>
            <a:pathLst>
              <a:path w="3492500" h="2928937">
                <a:moveTo>
                  <a:pt x="94956" y="1559340"/>
                </a:moveTo>
                <a:cubicBezTo>
                  <a:pt x="50555" y="1027243"/>
                  <a:pt x="381427" y="521931"/>
                  <a:pt x="943592" y="263290"/>
                </a:cubicBezTo>
                <a:lnTo>
                  <a:pt x="910034" y="178545"/>
                </a:lnTo>
                <a:lnTo>
                  <a:pt x="1265239" y="249742"/>
                </a:lnTo>
                <a:lnTo>
                  <a:pt x="1048041" y="527061"/>
                </a:lnTo>
                <a:lnTo>
                  <a:pt x="1014471" y="442286"/>
                </a:lnTo>
                <a:cubicBezTo>
                  <a:pt x="530033" y="668322"/>
                  <a:pt x="247814" y="1097699"/>
                  <a:pt x="287532" y="1548276"/>
                </a:cubicBezTo>
                <a:lnTo>
                  <a:pt x="94956" y="155934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7" name="TextBox 1" descr=""/>
          <p:cNvPicPr/>
          <p:nvPr/>
        </p:nvPicPr>
        <p:blipFill>
          <a:blip r:embed="rId12"/>
          <a:stretch/>
        </p:blipFill>
        <p:spPr>
          <a:xfrm>
            <a:off x="4943520" y="2335320"/>
            <a:ext cx="738000" cy="676080"/>
          </a:xfrm>
          <a:prstGeom prst="rect">
            <a:avLst/>
          </a:prstGeom>
          <a:ln w="0">
            <a:noFill/>
          </a:ln>
        </p:spPr>
      </p:pic>
      <p:pic>
        <p:nvPicPr>
          <p:cNvPr id="1768" name="TextBox 25" descr=""/>
          <p:cNvPicPr/>
          <p:nvPr/>
        </p:nvPicPr>
        <p:blipFill>
          <a:blip r:embed="rId13"/>
          <a:stretch/>
        </p:blipFill>
        <p:spPr>
          <a:xfrm>
            <a:off x="4834080" y="5041800"/>
            <a:ext cx="798480" cy="669960"/>
          </a:xfrm>
          <a:prstGeom prst="rect">
            <a:avLst/>
          </a:prstGeom>
          <a:ln w="0">
            <a:noFill/>
          </a:ln>
        </p:spPr>
      </p:pic>
      <p:pic>
        <p:nvPicPr>
          <p:cNvPr id="1769" name="TextBox 26" descr=""/>
          <p:cNvPicPr/>
          <p:nvPr/>
        </p:nvPicPr>
        <p:blipFill>
          <a:blip r:embed="rId14"/>
          <a:stretch/>
        </p:blipFill>
        <p:spPr>
          <a:xfrm>
            <a:off x="6797520" y="5510160"/>
            <a:ext cx="792360" cy="671400"/>
          </a:xfrm>
          <a:prstGeom prst="rect">
            <a:avLst/>
          </a:prstGeom>
          <a:ln w="0">
            <a:noFill/>
          </a:ln>
        </p:spPr>
      </p:pic>
      <p:sp>
        <p:nvSpPr>
          <p:cNvPr id="1770" name="Прямоугольник с двумя скругленными противолежащими углами 7"/>
          <p:cNvSpPr/>
          <p:nvPr/>
        </p:nvSpPr>
        <p:spPr>
          <a:xfrm>
            <a:off x="173160" y="216000"/>
            <a:ext cx="8791560" cy="6467400"/>
          </a:xfrm>
          <a:custGeom>
            <a:avLst/>
            <a:gdLst/>
            <a:ahLst/>
            <a:rect l="l" t="t" r="r" b="b"/>
            <a:pathLst>
              <a:path w="8791575" h="6467475">
                <a:moveTo>
                  <a:pt x="785798" y="0"/>
                </a:moveTo>
                <a:lnTo>
                  <a:pt x="8791575" y="0"/>
                </a:lnTo>
                <a:lnTo>
                  <a:pt x="8791575" y="0"/>
                </a:lnTo>
                <a:lnTo>
                  <a:pt x="8791575" y="5681677"/>
                </a:lnTo>
                <a:cubicBezTo>
                  <a:pt x="8791575" y="6115661"/>
                  <a:pt x="8439761" y="6467475"/>
                  <a:pt x="8005777" y="6467475"/>
                </a:cubicBezTo>
                <a:lnTo>
                  <a:pt x="0" y="6467475"/>
                </a:lnTo>
                <a:lnTo>
                  <a:pt x="0" y="6467475"/>
                </a:lnTo>
                <a:lnTo>
                  <a:pt x="0" y="785798"/>
                </a:lnTo>
                <a:cubicBezTo>
                  <a:pt x="0" y="351814"/>
                  <a:pt x="351814" y="0"/>
                  <a:pt x="785798" y="0"/>
                </a:cubicBezTo>
                <a:close/>
              </a:path>
            </a:pathLst>
          </a:custGeom>
          <a:solidFill>
            <a:srgbClr val="d9d9d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" name="Picture 6" descr=""/>
          <p:cNvPicPr/>
          <p:nvPr/>
        </p:nvPicPr>
        <p:blipFill>
          <a:blip r:embed="rId15"/>
          <a:stretch/>
        </p:blipFill>
        <p:spPr>
          <a:xfrm>
            <a:off x="7196040" y="336600"/>
            <a:ext cx="731880" cy="8589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8" descr=""/>
          <p:cNvPicPr/>
          <p:nvPr/>
        </p:nvPicPr>
        <p:blipFill>
          <a:blip r:embed="rId16"/>
          <a:stretch/>
        </p:blipFill>
        <p:spPr>
          <a:xfrm>
            <a:off x="4843440" y="1511280"/>
            <a:ext cx="792360" cy="858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9" descr=""/>
          <p:cNvPicPr/>
          <p:nvPr/>
        </p:nvPicPr>
        <p:blipFill>
          <a:blip r:embed="rId17"/>
          <a:stretch/>
        </p:blipFill>
        <p:spPr>
          <a:xfrm>
            <a:off x="2849400" y="2695680"/>
            <a:ext cx="785880" cy="85860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5" descr=""/>
          <p:cNvPicPr/>
          <p:nvPr/>
        </p:nvPicPr>
        <p:blipFill>
          <a:blip r:embed="rId18"/>
          <a:stretch/>
        </p:blipFill>
        <p:spPr>
          <a:xfrm>
            <a:off x="6811920" y="477828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7" descr=""/>
          <p:cNvPicPr/>
          <p:nvPr/>
        </p:nvPicPr>
        <p:blipFill>
          <a:blip r:embed="rId19"/>
          <a:stretch/>
        </p:blipFill>
        <p:spPr>
          <a:xfrm>
            <a:off x="4873680" y="4064040"/>
            <a:ext cx="731880" cy="85896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3" descr=""/>
          <p:cNvPicPr/>
          <p:nvPr/>
        </p:nvPicPr>
        <p:blipFill>
          <a:blip r:embed="rId20"/>
          <a:stretch/>
        </p:blipFill>
        <p:spPr>
          <a:xfrm>
            <a:off x="40176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1783 -0.15902 E">
                                      <p:cBhvr>
                                        <p:cTn id="533" dur="20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0.1783 -0.15902 E">
                                      <p:cBhvr>
                                        <p:cTn id="535" dur="20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1783 -0.15764 E">
                                      <p:cBhvr>
                                        <p:cTn id="537" dur="20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9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324 L -0.19115 0.1324 E">
                                      <p:cBhvr>
                                        <p:cTn id="541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18907 0.1574 E">
                                      <p:cBhvr>
                                        <p:cTn id="543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-0.18889 0.15115 E">
                                      <p:cBhvr>
                                        <p:cTn id="545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2" dur="2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7 0.02245 L 0.00868 -0.38403 E">
                                      <p:cBhvr>
                                        <p:cTn id="554" dur="20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2245 L 0.00868 -0.3875 E">
                                      <p:cBhvr>
                                        <p:cTn id="556" dur="2000" fill="hold"/>
                                        <p:tgtEl>
                                          <p:spTgt spid="1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6 -0.02084 L 0.0085 -0.39445 E">
                                      <p:cBhvr>
                                        <p:cTn id="558" dur="20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0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934 0.22384 L -0.17431 0.53865 E">
                                      <p:cBhvr>
                                        <p:cTn id="562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0.22824 L -0.19479 0.5537 E">
                                      <p:cBhvr>
                                        <p:cTn id="564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0.1905 L -0.19601 0.54745 E">
                                      <p:cBhvr>
                                        <p:cTn id="566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3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39931 0.29723 E">
                                      <p:cBhvr>
                                        <p:cTn id="575" dur="2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48148E-006 L 0.4073 0.30371 E">
                                      <p:cBhvr>
                                        <p:cTn id="577" dur="20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39427 0.29746 E">
                                      <p:cBhvr>
                                        <p:cTn id="579" dur="20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1" dur="2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29 0.02338 L -0.3526 -0.27871 E">
                                      <p:cBhvr>
                                        <p:cTn id="583" dur="20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 0.03588 L -0.34896 -0.29584 E">
                                      <p:cBhvr>
                                        <p:cTn id="585" dur="2000" fill="hold"/>
                                        <p:tgtEl>
                                          <p:spTgt spid="1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5 -0.04282 L -0.34566 -0.31666 E">
                                      <p:cBhvr>
                                        <p:cTn id="587" dur="20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31 0.53865 L 0.03038 0.6331 E">
                                      <p:cBhvr>
                                        <p:cTn id="596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698 0.54305 L 0.0099 0.64815 E">
                                      <p:cBhvr>
                                        <p:cTn id="598" dur="20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0.54745 L 0.00868 0.61041 E">
                                      <p:cBhvr>
                                        <p:cTn id="600" dur="20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31 0.29723 L 0.1632 0.22362 E">
                                      <p:cBhvr>
                                        <p:cTn id="604" dur="20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86 0.28588 L 0.15521 0.21968 E">
                                      <p:cBhvr>
                                        <p:cTn id="606" dur="20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427 0.29746 L 0.15017 0.21343 E">
                                      <p:cBhvr>
                                        <p:cTn id="608" dur="20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-0.32691 0.25186 E">
                                      <p:cBhvr>
                                        <p:cTn id="624" dur="20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-0.06979 0.16482 E">
                                      <p:cBhvr>
                                        <p:cTn id="629" dur="20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8 L 0.14479 0.07098 E">
                                      <p:cBhvr>
                                        <p:cTn id="634" dur="20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1 0.05487 L -0.07292 -0.05 E">
                                      <p:cBhvr>
                                        <p:cTn id="639" dur="20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6 L -0.29132 -0.07361 E">
                                      <p:cBhvr>
                                        <p:cTn id="644" dur="20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Заголовок 1" descr=""/>
          <p:cNvPicPr/>
          <p:nvPr/>
        </p:nvPicPr>
        <p:blipFill>
          <a:blip r:embed="rId1"/>
          <a:stretch/>
        </p:blipFill>
        <p:spPr>
          <a:xfrm>
            <a:off x="5505480" y="255600"/>
            <a:ext cx="3608280" cy="6419880"/>
          </a:xfrm>
          <a:prstGeom prst="rect">
            <a:avLst/>
          </a:prstGeom>
          <a:ln w="0">
            <a:noFill/>
          </a:ln>
        </p:spPr>
      </p:pic>
      <p:pic>
        <p:nvPicPr>
          <p:cNvPr id="1778" name="Рисунок 5" descr=""/>
          <p:cNvPicPr/>
          <p:nvPr/>
        </p:nvPicPr>
        <p:blipFill>
          <a:blip r:embed="rId2"/>
          <a:stretch/>
        </p:blipFill>
        <p:spPr>
          <a:xfrm>
            <a:off x="158760" y="244440"/>
            <a:ext cx="5308560" cy="638172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3" descr=""/>
          <p:cNvPicPr/>
          <p:nvPr/>
        </p:nvPicPr>
        <p:blipFill>
          <a:blip r:embed="rId3"/>
          <a:stretch/>
        </p:blipFill>
        <p:spPr>
          <a:xfrm>
            <a:off x="7162920" y="5614920"/>
            <a:ext cx="1974600" cy="12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0" name="Заголовок 8" descr=""/>
          <p:cNvPicPr/>
          <p:nvPr/>
        </p:nvPicPr>
        <p:blipFill>
          <a:blip r:embed="rId1"/>
          <a:stretch/>
        </p:blipFill>
        <p:spPr>
          <a:xfrm>
            <a:off x="463680" y="878040"/>
            <a:ext cx="8412120" cy="1006200"/>
          </a:xfrm>
          <a:prstGeom prst="rect">
            <a:avLst/>
          </a:prstGeom>
          <a:ln w="0">
            <a:noFill/>
          </a:ln>
        </p:spPr>
      </p:pic>
      <p:sp>
        <p:nvSpPr>
          <p:cNvPr id="1781" name="PlaceHolder 1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515440" cy="2625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Багато чого з математи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е залишається в пам'яті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але коли розумієш її, тоді легк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при нагоді згадати призабут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М. В. Остроградськи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82" name="Picture 2" descr="D:\Documents\Private\Desktop\stock-vector-mountain-graphic-elements-43814590.jpg"/>
          <p:cNvPicPr/>
          <p:nvPr/>
        </p:nvPicPr>
        <p:blipFill>
          <a:blip r:embed="rId2"/>
          <a:srcRect l="0" t="0" r="-160" b="-268"/>
          <a:stretch/>
        </p:blipFill>
        <p:spPr>
          <a:xfrm>
            <a:off x="684360" y="549360"/>
            <a:ext cx="2813040" cy="187164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2" descr=""/>
          <p:cNvPicPr/>
          <p:nvPr/>
        </p:nvPicPr>
        <p:blipFill>
          <a:blip r:embed="rId3"/>
          <a:stretch/>
        </p:blipFill>
        <p:spPr>
          <a:xfrm>
            <a:off x="171360" y="4071960"/>
            <a:ext cx="215748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4" name="Picture 2" descr="D:\Documents\Private\Desktop\stock-vector-mountain-graphic-elements-43814590.jpg"/>
          <p:cNvPicPr/>
          <p:nvPr/>
        </p:nvPicPr>
        <p:blipFill>
          <a:blip r:embed="rId1"/>
          <a:srcRect l="0" t="0" r="-160" b="-268"/>
          <a:stretch/>
        </p:blipFill>
        <p:spPr>
          <a:xfrm>
            <a:off x="179280" y="5491080"/>
            <a:ext cx="1851120" cy="1231920"/>
          </a:xfrm>
          <a:prstGeom prst="rect">
            <a:avLst/>
          </a:prstGeom>
          <a:ln w="0">
            <a:noFill/>
          </a:ln>
        </p:spPr>
      </p:pic>
      <p:pic>
        <p:nvPicPr>
          <p:cNvPr id="1785" name="Объект 2" descr=""/>
          <p:cNvPicPr/>
          <p:nvPr/>
        </p:nvPicPr>
        <p:blipFill>
          <a:blip r:embed="rId2"/>
          <a:stretch/>
        </p:blipFill>
        <p:spPr>
          <a:xfrm>
            <a:off x="1146240" y="182520"/>
            <a:ext cx="6851520" cy="651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75439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Объект 2" descr=""/>
          <p:cNvPicPr/>
          <p:nvPr/>
        </p:nvPicPr>
        <p:blipFill>
          <a:blip r:embed="rId1"/>
          <a:stretch/>
        </p:blipFill>
        <p:spPr>
          <a:xfrm>
            <a:off x="890640" y="1494000"/>
            <a:ext cx="7362720" cy="38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Заголовок 8" descr=""/>
          <p:cNvPicPr/>
          <p:nvPr/>
        </p:nvPicPr>
        <p:blipFill>
          <a:blip r:embed="rId1"/>
          <a:stretch/>
        </p:blipFill>
        <p:spPr>
          <a:xfrm>
            <a:off x="463680" y="878040"/>
            <a:ext cx="8412120" cy="1006200"/>
          </a:xfrm>
          <a:prstGeom prst="rect">
            <a:avLst/>
          </a:prstGeom>
          <a:ln w="0">
            <a:noFill/>
          </a:ln>
        </p:spPr>
      </p:pic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515440" cy="2625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авчання мистецтву розв'язувати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задачі – це виховання волі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Д. Пойа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91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468360" y="436680"/>
            <a:ext cx="3085920" cy="177156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2" descr=""/>
          <p:cNvPicPr/>
          <p:nvPr/>
        </p:nvPicPr>
        <p:blipFill>
          <a:blip r:embed="rId3"/>
          <a:stretch/>
        </p:blipFill>
        <p:spPr>
          <a:xfrm>
            <a:off x="219240" y="4359240"/>
            <a:ext cx="216360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187200" y="5560920"/>
            <a:ext cx="1936800" cy="1111320"/>
          </a:xfrm>
          <a:prstGeom prst="rect">
            <a:avLst/>
          </a:prstGeom>
          <a:ln w="0">
            <a:noFill/>
          </a:ln>
        </p:spPr>
      </p:pic>
      <p:pic>
        <p:nvPicPr>
          <p:cNvPr id="1794" name="Объект 2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71840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Заголовок 1" descr=""/>
          <p:cNvPicPr/>
          <p:nvPr/>
        </p:nvPicPr>
        <p:blipFill>
          <a:blip r:embed="rId1"/>
          <a:stretch/>
        </p:blipFill>
        <p:spPr>
          <a:xfrm>
            <a:off x="463680" y="15476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5" name="Таблица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888400" cy="6351480"/>
          </a:xfrm>
          <a:prstGeom prst="rect">
            <a:avLst/>
          </a:prstGeom>
          <a:ln w="0">
            <a:noFill/>
          </a:ln>
        </p:spPr>
      </p:pic>
      <p:sp>
        <p:nvSpPr>
          <p:cNvPr id="1796" name="Прямоугольник 2"/>
          <p:cNvSpPr/>
          <p:nvPr/>
        </p:nvSpPr>
        <p:spPr>
          <a:xfrm>
            <a:off x="378000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Прямоугольник 6"/>
          <p:cNvSpPr/>
          <p:nvPr/>
        </p:nvSpPr>
        <p:spPr>
          <a:xfrm>
            <a:off x="5484960" y="237492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Прямоугольник 7"/>
          <p:cNvSpPr/>
          <p:nvPr/>
        </p:nvSpPr>
        <p:spPr>
          <a:xfrm>
            <a:off x="718812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4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Прямоугольник 10"/>
          <p:cNvSpPr/>
          <p:nvPr/>
        </p:nvSpPr>
        <p:spPr>
          <a:xfrm>
            <a:off x="378000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Прямоугольник 11"/>
          <p:cNvSpPr/>
          <p:nvPr/>
        </p:nvSpPr>
        <p:spPr>
          <a:xfrm>
            <a:off x="5484960" y="146196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Прямоугольник 12"/>
          <p:cNvSpPr/>
          <p:nvPr/>
        </p:nvSpPr>
        <p:spPr>
          <a:xfrm>
            <a:off x="718812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Прямоугольник 14"/>
          <p:cNvSpPr/>
          <p:nvPr/>
        </p:nvSpPr>
        <p:spPr>
          <a:xfrm>
            <a:off x="378000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Прямоугольник 15"/>
          <p:cNvSpPr/>
          <p:nvPr/>
        </p:nvSpPr>
        <p:spPr>
          <a:xfrm>
            <a:off x="5484960" y="1920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Прямоугольник 16"/>
          <p:cNvSpPr/>
          <p:nvPr/>
        </p:nvSpPr>
        <p:spPr>
          <a:xfrm>
            <a:off x="718812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Прямоугольник 18"/>
          <p:cNvSpPr/>
          <p:nvPr/>
        </p:nvSpPr>
        <p:spPr>
          <a:xfrm>
            <a:off x="378000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Прямоугольник 19"/>
          <p:cNvSpPr/>
          <p:nvPr/>
        </p:nvSpPr>
        <p:spPr>
          <a:xfrm>
            <a:off x="5484960" y="283068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Прямоугольник 20"/>
          <p:cNvSpPr/>
          <p:nvPr/>
        </p:nvSpPr>
        <p:spPr>
          <a:xfrm>
            <a:off x="718812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Прямоугольник 36"/>
          <p:cNvSpPr/>
          <p:nvPr/>
        </p:nvSpPr>
        <p:spPr>
          <a:xfrm>
            <a:off x="3778200" y="553896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Прямоугольник 37"/>
          <p:cNvSpPr/>
          <p:nvPr/>
        </p:nvSpPr>
        <p:spPr>
          <a:xfrm>
            <a:off x="5481720" y="5538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Прямоугольник 38"/>
          <p:cNvSpPr/>
          <p:nvPr/>
        </p:nvSpPr>
        <p:spPr>
          <a:xfrm>
            <a:off x="7186680" y="5538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3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Прямоугольник 33"/>
          <p:cNvSpPr/>
          <p:nvPr/>
        </p:nvSpPr>
        <p:spPr>
          <a:xfrm>
            <a:off x="3778200" y="462600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Прямоугольник 34"/>
          <p:cNvSpPr/>
          <p:nvPr/>
        </p:nvSpPr>
        <p:spPr>
          <a:xfrm>
            <a:off x="5481720" y="462600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Прямоугольник 35"/>
          <p:cNvSpPr/>
          <p:nvPr/>
        </p:nvSpPr>
        <p:spPr>
          <a:xfrm>
            <a:off x="7186680" y="462600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Прямоугольник 30"/>
          <p:cNvSpPr/>
          <p:nvPr/>
        </p:nvSpPr>
        <p:spPr>
          <a:xfrm>
            <a:off x="3778200" y="5083200"/>
            <a:ext cx="170352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Прямоугольник 31"/>
          <p:cNvSpPr/>
          <p:nvPr/>
        </p:nvSpPr>
        <p:spPr>
          <a:xfrm>
            <a:off x="5481720" y="508320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Прямоугольник 32"/>
          <p:cNvSpPr/>
          <p:nvPr/>
        </p:nvSpPr>
        <p:spPr>
          <a:xfrm>
            <a:off x="7186680" y="508320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Прямоугольник 27"/>
          <p:cNvSpPr/>
          <p:nvPr/>
        </p:nvSpPr>
        <p:spPr>
          <a:xfrm>
            <a:off x="3778200" y="5992920"/>
            <a:ext cx="170352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Прямоугольник 28"/>
          <p:cNvSpPr/>
          <p:nvPr/>
        </p:nvSpPr>
        <p:spPr>
          <a:xfrm>
            <a:off x="5481720" y="5992920"/>
            <a:ext cx="17049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Прямоугольник 29"/>
          <p:cNvSpPr/>
          <p:nvPr/>
        </p:nvSpPr>
        <p:spPr>
          <a:xfrm>
            <a:off x="7186680" y="5992920"/>
            <a:ext cx="17031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0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1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187200" y="5560920"/>
            <a:ext cx="1936800" cy="1111320"/>
          </a:xfrm>
          <a:prstGeom prst="rect">
            <a:avLst/>
          </a:prstGeom>
          <a:ln w="0">
            <a:noFill/>
          </a:ln>
        </p:spPr>
      </p:pic>
      <p:pic>
        <p:nvPicPr>
          <p:cNvPr id="1822" name="Объект 2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718400" cy="641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Таблица 4" descr=""/>
          <p:cNvPicPr/>
          <p:nvPr/>
        </p:nvPicPr>
        <p:blipFill>
          <a:blip r:embed="rId1"/>
          <a:stretch/>
        </p:blipFill>
        <p:spPr>
          <a:xfrm>
            <a:off x="152280" y="189000"/>
            <a:ext cx="8888400" cy="6351480"/>
          </a:xfrm>
          <a:prstGeom prst="rect">
            <a:avLst/>
          </a:prstGeom>
          <a:ln w="0">
            <a:noFill/>
          </a:ln>
        </p:spPr>
      </p:pic>
      <p:sp>
        <p:nvSpPr>
          <p:cNvPr id="1824" name="Прямоугольник 2"/>
          <p:cNvSpPr/>
          <p:nvPr/>
        </p:nvSpPr>
        <p:spPr>
          <a:xfrm>
            <a:off x="378000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Прямоугольник 6"/>
          <p:cNvSpPr/>
          <p:nvPr/>
        </p:nvSpPr>
        <p:spPr>
          <a:xfrm>
            <a:off x="5484960" y="237492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Прямоугольник 7"/>
          <p:cNvSpPr/>
          <p:nvPr/>
        </p:nvSpPr>
        <p:spPr>
          <a:xfrm>
            <a:off x="7188120" y="237492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4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Прямоугольник 10"/>
          <p:cNvSpPr/>
          <p:nvPr/>
        </p:nvSpPr>
        <p:spPr>
          <a:xfrm>
            <a:off x="378000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Прямоугольник 11"/>
          <p:cNvSpPr/>
          <p:nvPr/>
        </p:nvSpPr>
        <p:spPr>
          <a:xfrm>
            <a:off x="5484960" y="146196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Прямоугольник 12"/>
          <p:cNvSpPr/>
          <p:nvPr/>
        </p:nvSpPr>
        <p:spPr>
          <a:xfrm>
            <a:off x="7188120" y="146196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Прямоугольник 14"/>
          <p:cNvSpPr/>
          <p:nvPr/>
        </p:nvSpPr>
        <p:spPr>
          <a:xfrm>
            <a:off x="378000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Прямоугольник 15"/>
          <p:cNvSpPr/>
          <p:nvPr/>
        </p:nvSpPr>
        <p:spPr>
          <a:xfrm>
            <a:off x="5484960" y="1920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Прямоугольник 16"/>
          <p:cNvSpPr/>
          <p:nvPr/>
        </p:nvSpPr>
        <p:spPr>
          <a:xfrm>
            <a:off x="7188120" y="1920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Прямоугольник 18"/>
          <p:cNvSpPr/>
          <p:nvPr/>
        </p:nvSpPr>
        <p:spPr>
          <a:xfrm>
            <a:off x="378000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Прямоугольник 19"/>
          <p:cNvSpPr/>
          <p:nvPr/>
        </p:nvSpPr>
        <p:spPr>
          <a:xfrm>
            <a:off x="5484960" y="283068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Прямоугольник 20"/>
          <p:cNvSpPr/>
          <p:nvPr/>
        </p:nvSpPr>
        <p:spPr>
          <a:xfrm>
            <a:off x="7188120" y="283068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Прямоугольник 36"/>
          <p:cNvSpPr/>
          <p:nvPr/>
        </p:nvSpPr>
        <p:spPr>
          <a:xfrm>
            <a:off x="3778200" y="553896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Прямоугольник 37"/>
          <p:cNvSpPr/>
          <p:nvPr/>
        </p:nvSpPr>
        <p:spPr>
          <a:xfrm>
            <a:off x="5481720" y="553896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1;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Прямоугольник 38"/>
          <p:cNvSpPr/>
          <p:nvPr/>
        </p:nvSpPr>
        <p:spPr>
          <a:xfrm>
            <a:off x="7186680" y="553896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3;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Прямоугольник 33"/>
          <p:cNvSpPr/>
          <p:nvPr/>
        </p:nvSpPr>
        <p:spPr>
          <a:xfrm>
            <a:off x="3778200" y="4626000"/>
            <a:ext cx="170352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Прямоугольник 34"/>
          <p:cNvSpPr/>
          <p:nvPr/>
        </p:nvSpPr>
        <p:spPr>
          <a:xfrm>
            <a:off x="5481720" y="4626000"/>
            <a:ext cx="17049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Прямоугольник 35"/>
          <p:cNvSpPr/>
          <p:nvPr/>
        </p:nvSpPr>
        <p:spPr>
          <a:xfrm>
            <a:off x="7186680" y="4626000"/>
            <a:ext cx="1703160" cy="4539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Прямоугольник 30"/>
          <p:cNvSpPr/>
          <p:nvPr/>
        </p:nvSpPr>
        <p:spPr>
          <a:xfrm>
            <a:off x="3778200" y="5083200"/>
            <a:ext cx="170352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Прямоугольник 31"/>
          <p:cNvSpPr/>
          <p:nvPr/>
        </p:nvSpPr>
        <p:spPr>
          <a:xfrm>
            <a:off x="5481720" y="5083200"/>
            <a:ext cx="17049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Прямоугольник 32"/>
          <p:cNvSpPr/>
          <p:nvPr/>
        </p:nvSpPr>
        <p:spPr>
          <a:xfrm>
            <a:off x="7186680" y="5083200"/>
            <a:ext cx="1703160" cy="45576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Прямоугольник 27"/>
          <p:cNvSpPr/>
          <p:nvPr/>
        </p:nvSpPr>
        <p:spPr>
          <a:xfrm>
            <a:off x="3778200" y="5992920"/>
            <a:ext cx="170352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1;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Прямоугольник 28"/>
          <p:cNvSpPr/>
          <p:nvPr/>
        </p:nvSpPr>
        <p:spPr>
          <a:xfrm>
            <a:off x="5481720" y="5992920"/>
            <a:ext cx="17049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0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Прямоугольник 29"/>
          <p:cNvSpPr/>
          <p:nvPr/>
        </p:nvSpPr>
        <p:spPr>
          <a:xfrm>
            <a:off x="7186680" y="5992920"/>
            <a:ext cx="1703160" cy="455400"/>
          </a:xfrm>
          <a:prstGeom prst="rect">
            <a:avLst/>
          </a:prstGeom>
          <a:solidFill>
            <a:srgbClr val="e7e7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-2;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Прямоугольник 8"/>
          <p:cNvSpPr/>
          <p:nvPr/>
        </p:nvSpPr>
        <p:spPr>
          <a:xfrm>
            <a:off x="5484960" y="1474920"/>
            <a:ext cx="17031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Умножение 39"/>
          <p:cNvSpPr/>
          <p:nvPr/>
        </p:nvSpPr>
        <p:spPr>
          <a:xfrm>
            <a:off x="3263760" y="13352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Умножение 40"/>
          <p:cNvSpPr/>
          <p:nvPr/>
        </p:nvSpPr>
        <p:spPr>
          <a:xfrm>
            <a:off x="6672240" y="13352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Умножение 41"/>
          <p:cNvSpPr/>
          <p:nvPr/>
        </p:nvSpPr>
        <p:spPr>
          <a:xfrm>
            <a:off x="4970520" y="179388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Умножение 42"/>
          <p:cNvSpPr/>
          <p:nvPr/>
        </p:nvSpPr>
        <p:spPr>
          <a:xfrm>
            <a:off x="6672240" y="179388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Прямоугольник 43"/>
          <p:cNvSpPr/>
          <p:nvPr/>
        </p:nvSpPr>
        <p:spPr>
          <a:xfrm>
            <a:off x="3780000" y="1932120"/>
            <a:ext cx="17049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Умножение 44"/>
          <p:cNvSpPr/>
          <p:nvPr/>
        </p:nvSpPr>
        <p:spPr>
          <a:xfrm>
            <a:off x="3267000" y="224784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Умножение 45"/>
          <p:cNvSpPr/>
          <p:nvPr/>
        </p:nvSpPr>
        <p:spPr>
          <a:xfrm>
            <a:off x="4970520" y="224784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Прямоугольник 46"/>
          <p:cNvSpPr/>
          <p:nvPr/>
        </p:nvSpPr>
        <p:spPr>
          <a:xfrm>
            <a:off x="7186680" y="2398680"/>
            <a:ext cx="170316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Умножение 47"/>
          <p:cNvSpPr/>
          <p:nvPr/>
        </p:nvSpPr>
        <p:spPr>
          <a:xfrm>
            <a:off x="3267000" y="270360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Умножение 48"/>
          <p:cNvSpPr/>
          <p:nvPr/>
        </p:nvSpPr>
        <p:spPr>
          <a:xfrm>
            <a:off x="6672240" y="270360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Прямоугольник 50"/>
          <p:cNvSpPr/>
          <p:nvPr/>
        </p:nvSpPr>
        <p:spPr>
          <a:xfrm>
            <a:off x="5481720" y="2841480"/>
            <a:ext cx="170496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Умножение 51"/>
          <p:cNvSpPr/>
          <p:nvPr/>
        </p:nvSpPr>
        <p:spPr>
          <a:xfrm>
            <a:off x="3267000" y="449892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Умножение 52"/>
          <p:cNvSpPr/>
          <p:nvPr/>
        </p:nvSpPr>
        <p:spPr>
          <a:xfrm>
            <a:off x="6672240" y="4498920"/>
            <a:ext cx="2730600" cy="70812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Прямоугольник 55"/>
          <p:cNvSpPr/>
          <p:nvPr/>
        </p:nvSpPr>
        <p:spPr>
          <a:xfrm>
            <a:off x="5518080" y="4624560"/>
            <a:ext cx="17049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Умножение 57"/>
          <p:cNvSpPr/>
          <p:nvPr/>
        </p:nvSpPr>
        <p:spPr>
          <a:xfrm>
            <a:off x="6672240" y="4956120"/>
            <a:ext cx="273060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Умножение 58"/>
          <p:cNvSpPr/>
          <p:nvPr/>
        </p:nvSpPr>
        <p:spPr>
          <a:xfrm>
            <a:off x="3267000" y="541188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Умножение 59"/>
          <p:cNvSpPr/>
          <p:nvPr/>
        </p:nvSpPr>
        <p:spPr>
          <a:xfrm>
            <a:off x="4968720" y="5411880"/>
            <a:ext cx="2730600" cy="707760"/>
          </a:xfrm>
          <a:custGeom>
            <a:avLst/>
            <a:gdLst/>
            <a:ahLst/>
            <a:rect l="l" t="t" r="r" b="b"/>
            <a:pathLst>
              <a:path w="2730500" h="708025">
                <a:moveTo>
                  <a:pt x="647632" y="201542"/>
                </a:moveTo>
                <a:lnTo>
                  <a:pt x="663964" y="138558"/>
                </a:lnTo>
                <a:lnTo>
                  <a:pt x="1365250" y="320403"/>
                </a:lnTo>
                <a:lnTo>
                  <a:pt x="2066536" y="138558"/>
                </a:lnTo>
                <a:lnTo>
                  <a:pt x="2082868" y="201542"/>
                </a:lnTo>
                <a:lnTo>
                  <a:pt x="1494866" y="354013"/>
                </a:lnTo>
                <a:lnTo>
                  <a:pt x="2082868" y="506483"/>
                </a:lnTo>
                <a:lnTo>
                  <a:pt x="2066536" y="569467"/>
                </a:lnTo>
                <a:lnTo>
                  <a:pt x="1365250" y="387622"/>
                </a:lnTo>
                <a:lnTo>
                  <a:pt x="663964" y="569467"/>
                </a:lnTo>
                <a:lnTo>
                  <a:pt x="647632" y="506483"/>
                </a:lnTo>
                <a:lnTo>
                  <a:pt x="1235634" y="354013"/>
                </a:lnTo>
                <a:lnTo>
                  <a:pt x="647632" y="20154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Умножение 60"/>
          <p:cNvSpPr/>
          <p:nvPr/>
        </p:nvSpPr>
        <p:spPr>
          <a:xfrm>
            <a:off x="3267000" y="58658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Умножение 61"/>
          <p:cNvSpPr/>
          <p:nvPr/>
        </p:nvSpPr>
        <p:spPr>
          <a:xfrm>
            <a:off x="6675480" y="5865840"/>
            <a:ext cx="2730600" cy="709560"/>
          </a:xfrm>
          <a:custGeom>
            <a:avLst/>
            <a:gdLst/>
            <a:ahLst/>
            <a:rect l="l" t="t" r="r" b="b"/>
            <a:pathLst>
              <a:path w="2730500" h="709612">
                <a:moveTo>
                  <a:pt x="647596" y="201989"/>
                </a:moveTo>
                <a:lnTo>
                  <a:pt x="663999" y="138873"/>
                </a:lnTo>
                <a:lnTo>
                  <a:pt x="1365250" y="321116"/>
                </a:lnTo>
                <a:lnTo>
                  <a:pt x="2066501" y="138873"/>
                </a:lnTo>
                <a:lnTo>
                  <a:pt x="2082904" y="201989"/>
                </a:lnTo>
                <a:lnTo>
                  <a:pt x="1494884" y="354806"/>
                </a:lnTo>
                <a:lnTo>
                  <a:pt x="2082904" y="507623"/>
                </a:lnTo>
                <a:lnTo>
                  <a:pt x="2066501" y="570739"/>
                </a:lnTo>
                <a:lnTo>
                  <a:pt x="1365250" y="388496"/>
                </a:lnTo>
                <a:lnTo>
                  <a:pt x="663999" y="570739"/>
                </a:lnTo>
                <a:lnTo>
                  <a:pt x="647596" y="507623"/>
                </a:lnTo>
                <a:lnTo>
                  <a:pt x="1235616" y="354806"/>
                </a:lnTo>
                <a:lnTo>
                  <a:pt x="647596" y="201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Прямоугольник 62"/>
          <p:cNvSpPr/>
          <p:nvPr/>
        </p:nvSpPr>
        <p:spPr>
          <a:xfrm>
            <a:off x="3780000" y="5094360"/>
            <a:ext cx="1704960" cy="433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Прямоугольник 63"/>
          <p:cNvSpPr/>
          <p:nvPr/>
        </p:nvSpPr>
        <p:spPr>
          <a:xfrm>
            <a:off x="7223040" y="5549760"/>
            <a:ext cx="1666800" cy="43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Прямоугольник 64"/>
          <p:cNvSpPr/>
          <p:nvPr/>
        </p:nvSpPr>
        <p:spPr>
          <a:xfrm>
            <a:off x="5484960" y="6016680"/>
            <a:ext cx="1703160" cy="43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mbri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Умножение 66"/>
          <p:cNvSpPr/>
          <p:nvPr/>
        </p:nvSpPr>
        <p:spPr>
          <a:xfrm>
            <a:off x="4946760" y="4956120"/>
            <a:ext cx="2730240" cy="709560"/>
          </a:xfrm>
          <a:custGeom>
            <a:avLst/>
            <a:gdLst/>
            <a:ahLst/>
            <a:rect l="l" t="t" r="r" b="b"/>
            <a:pathLst>
              <a:path w="2730500" h="709613">
                <a:moveTo>
                  <a:pt x="647596" y="201990"/>
                </a:moveTo>
                <a:lnTo>
                  <a:pt x="663999" y="138873"/>
                </a:lnTo>
                <a:lnTo>
                  <a:pt x="1365250" y="321117"/>
                </a:lnTo>
                <a:lnTo>
                  <a:pt x="2066501" y="138873"/>
                </a:lnTo>
                <a:lnTo>
                  <a:pt x="2082904" y="201990"/>
                </a:lnTo>
                <a:lnTo>
                  <a:pt x="1494884" y="354807"/>
                </a:lnTo>
                <a:lnTo>
                  <a:pt x="2082904" y="507623"/>
                </a:lnTo>
                <a:lnTo>
                  <a:pt x="2066501" y="570740"/>
                </a:lnTo>
                <a:lnTo>
                  <a:pt x="1365250" y="388496"/>
                </a:lnTo>
                <a:lnTo>
                  <a:pt x="663999" y="570740"/>
                </a:lnTo>
                <a:lnTo>
                  <a:pt x="647596" y="507623"/>
                </a:lnTo>
                <a:lnTo>
                  <a:pt x="1235616" y="354807"/>
                </a:lnTo>
                <a:lnTo>
                  <a:pt x="647596" y="2019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2" name="Picture 3" descr="D:\Documents\Private\Desktop\stock-vector-mountain-graphic-elements-43814590.jpg"/>
          <p:cNvPicPr/>
          <p:nvPr/>
        </p:nvPicPr>
        <p:blipFill>
          <a:blip r:embed="rId2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827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1827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828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1828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831"/>
                    </p:tgtEl>
                  </p:cond>
                </p:stCondLst>
                <p:childTnLst>
                  <p:par>
                    <p:cTn id="697" nodeType="clickEffect" fill="hold">
                      <p:stCondLst>
                        <p:cond evt="onClick">
                          <p:tgtEl>
                            <p:spTgt spid="1831"/>
                          </p:tgtEl>
                        </p:cond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824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1824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825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1825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1833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1833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183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83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739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1840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1840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49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755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36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1836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37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1837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785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1843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1843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46"/>
                    </p:tgtEl>
                  </p:cond>
                </p:stCondLst>
                <p:childTnLst>
                  <p:par>
                    <p:cTn id="811" nodeType="clickEffect" fill="hold">
                      <p:stCondLst>
                        <p:cond evt="onClick">
                          <p:tgtEl>
                            <p:spTgt spid="1846"/>
                          </p:tgtEl>
                        </p:cond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4" name="Picture 3" descr="D:\Documents\Private\Desktop\stock-vector-mountain-graphic-elements-43814590.jpg"/>
          <p:cNvPicPr/>
          <p:nvPr/>
        </p:nvPicPr>
        <p:blipFill>
          <a:blip r:embed="rId1"/>
          <a:srcRect l="0" t="0" r="0" b="-117"/>
          <a:stretch/>
        </p:blipFill>
        <p:spPr>
          <a:xfrm>
            <a:off x="-181080" y="5727600"/>
            <a:ext cx="19368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875" name="Группа 3"/>
          <p:cNvGrpSpPr/>
          <p:nvPr/>
        </p:nvGrpSpPr>
        <p:grpSpPr>
          <a:xfrm>
            <a:off x="3719520" y="1474920"/>
            <a:ext cx="1704960" cy="3456000"/>
            <a:chOff x="3719520" y="1474920"/>
            <a:chExt cx="1704960" cy="3456000"/>
          </a:xfrm>
        </p:grpSpPr>
        <p:sp>
          <p:nvSpPr>
            <p:cNvPr id="1876" name="Прямоугольник 63"/>
            <p:cNvSpPr/>
            <p:nvPr/>
          </p:nvSpPr>
          <p:spPr>
            <a:xfrm>
              <a:off x="3719520" y="406728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І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Прямоугольник 8"/>
            <p:cNvSpPr/>
            <p:nvPr/>
          </p:nvSpPr>
          <p:spPr>
            <a:xfrm>
              <a:off x="3719520" y="147492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М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Прямоугольник 43"/>
            <p:cNvSpPr/>
            <p:nvPr/>
          </p:nvSpPr>
          <p:spPr>
            <a:xfrm>
              <a:off x="3719520" y="190656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Прямоугольник 46"/>
            <p:cNvSpPr/>
            <p:nvPr/>
          </p:nvSpPr>
          <p:spPr>
            <a:xfrm>
              <a:off x="3719520" y="233856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Прямоугольник 50"/>
            <p:cNvSpPr/>
            <p:nvPr/>
          </p:nvSpPr>
          <p:spPr>
            <a:xfrm>
              <a:off x="3719520" y="2770200"/>
              <a:ext cx="1704960" cy="43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О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Прямоугольник 62"/>
            <p:cNvSpPr/>
            <p:nvPr/>
          </p:nvSpPr>
          <p:spPr>
            <a:xfrm>
              <a:off x="3719520" y="363564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Ц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Прямоугольник 64"/>
            <p:cNvSpPr/>
            <p:nvPr/>
          </p:nvSpPr>
          <p:spPr>
            <a:xfrm>
              <a:off x="3719520" y="449928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!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Прямоугольник 55"/>
            <p:cNvSpPr/>
            <p:nvPr/>
          </p:nvSpPr>
          <p:spPr>
            <a:xfrm>
              <a:off x="3719520" y="3203640"/>
              <a:ext cx="1704960" cy="431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Cambria"/>
                </a:rPr>
                <a:t>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25" dur="1000" fill="hold"/>
                                        <p:tgtEl>
                                          <p:spTgt spid="18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Заголовок 8" descr=""/>
          <p:cNvPicPr/>
          <p:nvPr/>
        </p:nvPicPr>
        <p:blipFill>
          <a:blip r:embed="rId1"/>
          <a:stretch/>
        </p:blipFill>
        <p:spPr>
          <a:xfrm>
            <a:off x="463680" y="-249120"/>
            <a:ext cx="8412120" cy="2206440"/>
          </a:xfrm>
          <a:prstGeom prst="rect">
            <a:avLst/>
          </a:prstGeom>
          <a:ln w="0">
            <a:noFill/>
          </a:ln>
        </p:spPr>
      </p:pic>
      <p:sp>
        <p:nvSpPr>
          <p:cNvPr id="1581" name="PlaceHolder 1"/>
          <p:cNvSpPr>
            <a:spLocks noGrp="1"/>
          </p:cNvSpPr>
          <p:nvPr>
            <p:ph type="subTitle"/>
          </p:nvPr>
        </p:nvSpPr>
        <p:spPr>
          <a:xfrm>
            <a:off x="2195280" y="3213000"/>
            <a:ext cx="6561000" cy="2841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ивчення математики подібне до Нілу, що починається невеликим струмком, а закінчується – великою річкою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Cambria"/>
              </a:rPr>
              <a:t>Ч. К. Колтон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582" name="Picture 3" descr=""/>
          <p:cNvPicPr/>
          <p:nvPr/>
        </p:nvPicPr>
        <p:blipFill>
          <a:blip r:embed="rId2"/>
          <a:stretch/>
        </p:blipFill>
        <p:spPr>
          <a:xfrm>
            <a:off x="633240" y="676440"/>
            <a:ext cx="2627640" cy="168876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" descr="D:\Documents\Private\Desktop\KOLTON_CHarlz_Kaleb1_s.gif"/>
          <p:cNvPicPr/>
          <p:nvPr/>
        </p:nvPicPr>
        <p:blipFill>
          <a:blip r:embed="rId3"/>
          <a:stretch/>
        </p:blipFill>
        <p:spPr>
          <a:xfrm>
            <a:off x="171360" y="4627440"/>
            <a:ext cx="1773360" cy="207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Заголовок 1" descr=""/>
          <p:cNvPicPr/>
          <p:nvPr/>
        </p:nvPicPr>
        <p:blipFill>
          <a:blip r:embed="rId1"/>
          <a:stretch/>
        </p:blipFill>
        <p:spPr>
          <a:xfrm>
            <a:off x="384120" y="-73080"/>
            <a:ext cx="8680680" cy="1481040"/>
          </a:xfrm>
          <a:prstGeom prst="rect">
            <a:avLst/>
          </a:prstGeom>
          <a:ln w="0">
            <a:noFill/>
          </a:ln>
        </p:spPr>
      </p:pic>
      <p:pic>
        <p:nvPicPr>
          <p:cNvPr id="1585" name="Объект 2" descr=""/>
          <p:cNvPicPr/>
          <p:nvPr/>
        </p:nvPicPr>
        <p:blipFill>
          <a:blip r:embed="rId2"/>
          <a:stretch/>
        </p:blipFill>
        <p:spPr>
          <a:xfrm>
            <a:off x="2073240" y="1841400"/>
            <a:ext cx="4937040" cy="4023000"/>
          </a:xfrm>
          <a:prstGeom prst="rect">
            <a:avLst/>
          </a:prstGeom>
          <a:ln w="0">
            <a:noFill/>
          </a:ln>
        </p:spPr>
      </p:pic>
      <p:pic>
        <p:nvPicPr>
          <p:cNvPr id="1586" name="Picture 3" descr=""/>
          <p:cNvPicPr/>
          <p:nvPr/>
        </p:nvPicPr>
        <p:blipFill>
          <a:blip r:embed="rId3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588" name="Объект 2" descr=""/>
          <p:cNvPicPr/>
          <p:nvPr/>
        </p:nvPicPr>
        <p:blipFill>
          <a:blip r:embed="rId2"/>
          <a:stretch/>
        </p:blipFill>
        <p:spPr>
          <a:xfrm>
            <a:off x="2127240" y="1768320"/>
            <a:ext cx="4938840" cy="469296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3" descr=""/>
          <p:cNvPicPr/>
          <p:nvPr/>
        </p:nvPicPr>
        <p:blipFill>
          <a:blip r:embed="rId3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1590" name="TextBox 5" descr=""/>
          <p:cNvPicPr/>
          <p:nvPr/>
        </p:nvPicPr>
        <p:blipFill>
          <a:blip r:embed="rId4"/>
          <a:stretch/>
        </p:blipFill>
        <p:spPr>
          <a:xfrm>
            <a:off x="9137520" y="2004840"/>
            <a:ext cx="2030400" cy="841680"/>
          </a:xfrm>
          <a:prstGeom prst="rect">
            <a:avLst/>
          </a:prstGeom>
          <a:ln w="0">
            <a:noFill/>
          </a:ln>
        </p:spPr>
      </p:pic>
      <p:pic>
        <p:nvPicPr>
          <p:cNvPr id="1591" name="TextBox 6" descr=""/>
          <p:cNvPicPr/>
          <p:nvPr/>
        </p:nvPicPr>
        <p:blipFill>
          <a:blip r:embed="rId5"/>
          <a:stretch/>
        </p:blipFill>
        <p:spPr>
          <a:xfrm>
            <a:off x="9309240" y="5132520"/>
            <a:ext cx="1303200" cy="1195200"/>
          </a:xfrm>
          <a:prstGeom prst="rect">
            <a:avLst/>
          </a:prstGeom>
          <a:ln w="0">
            <a:noFill/>
          </a:ln>
        </p:spPr>
      </p:pic>
      <p:pic>
        <p:nvPicPr>
          <p:cNvPr id="1592" name="TextBox 7" descr=""/>
          <p:cNvPicPr/>
          <p:nvPr/>
        </p:nvPicPr>
        <p:blipFill>
          <a:blip r:embed="rId6"/>
          <a:stretch/>
        </p:blipFill>
        <p:spPr>
          <a:xfrm>
            <a:off x="9339120" y="4211640"/>
            <a:ext cx="1457640" cy="860400"/>
          </a:xfrm>
          <a:prstGeom prst="rect">
            <a:avLst/>
          </a:prstGeom>
          <a:ln w="0">
            <a:noFill/>
          </a:ln>
        </p:spPr>
      </p:pic>
      <p:pic>
        <p:nvPicPr>
          <p:cNvPr id="1593" name="TextBox 8" descr=""/>
          <p:cNvPicPr/>
          <p:nvPr/>
        </p:nvPicPr>
        <p:blipFill>
          <a:blip r:embed="rId7"/>
          <a:stretch/>
        </p:blipFill>
        <p:spPr>
          <a:xfrm>
            <a:off x="9180360" y="2786040"/>
            <a:ext cx="2030400" cy="135900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2" descr=""/>
          <p:cNvPicPr/>
          <p:nvPr/>
        </p:nvPicPr>
        <p:blipFill>
          <a:blip r:embed="rId8"/>
          <a:stretch/>
        </p:blipFill>
        <p:spPr>
          <a:xfrm>
            <a:off x="6669000" y="743040"/>
            <a:ext cx="1116000" cy="1927080"/>
          </a:xfrm>
          <a:prstGeom prst="rect">
            <a:avLst/>
          </a:prstGeom>
          <a:ln w="0">
            <a:noFill/>
          </a:ln>
        </p:spPr>
      </p:pic>
      <p:grpSp>
        <p:nvGrpSpPr>
          <p:cNvPr id="1595" name="Группа 4"/>
          <p:cNvGrpSpPr/>
          <p:nvPr/>
        </p:nvGrpSpPr>
        <p:grpSpPr>
          <a:xfrm>
            <a:off x="11052000" y="419040"/>
            <a:ext cx="2213280" cy="2419560"/>
            <a:chOff x="11052000" y="419040"/>
            <a:chExt cx="2213280" cy="2419560"/>
          </a:xfrm>
        </p:grpSpPr>
        <p:sp>
          <p:nvSpPr>
            <p:cNvPr id="1596" name="Полилиния 11"/>
            <p:cNvSpPr/>
            <p:nvPr/>
          </p:nvSpPr>
          <p:spPr>
            <a:xfrm>
              <a:off x="11052000" y="1949400"/>
              <a:ext cx="495360" cy="8892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Прямая соединительная линия 13"/>
            <p:cNvSpPr/>
            <p:nvPr/>
          </p:nvSpPr>
          <p:spPr>
            <a:xfrm flipH="1">
              <a:off x="11299320" y="2060640"/>
              <a:ext cx="833400" cy="4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8" name="Picture 2" descr=""/>
            <p:cNvPicPr/>
            <p:nvPr/>
          </p:nvPicPr>
          <p:blipFill>
            <a:blip r:embed="rId9"/>
            <a:stretch/>
          </p:blipFill>
          <p:spPr>
            <a:xfrm>
              <a:off x="11635920" y="419040"/>
              <a:ext cx="1629360" cy="21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9" name="Группа 10"/>
          <p:cNvGrpSpPr/>
          <p:nvPr/>
        </p:nvGrpSpPr>
        <p:grpSpPr>
          <a:xfrm>
            <a:off x="6079680" y="419040"/>
            <a:ext cx="2272320" cy="2438640"/>
            <a:chOff x="6079680" y="419040"/>
            <a:chExt cx="2272320" cy="2438640"/>
          </a:xfrm>
        </p:grpSpPr>
        <p:sp>
          <p:nvSpPr>
            <p:cNvPr id="1600" name="Полилиния 15"/>
            <p:cNvSpPr/>
            <p:nvPr/>
          </p:nvSpPr>
          <p:spPr>
            <a:xfrm flipH="1">
              <a:off x="7856640" y="1968480"/>
              <a:ext cx="495360" cy="8892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Прямая соединительная линия 16"/>
            <p:cNvSpPr/>
            <p:nvPr/>
          </p:nvSpPr>
          <p:spPr>
            <a:xfrm>
              <a:off x="7272360" y="2079720"/>
              <a:ext cx="831960" cy="46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2" name="Picture 2" descr=""/>
            <p:cNvPicPr/>
            <p:nvPr/>
          </p:nvPicPr>
          <p:blipFill>
            <a:blip r:embed="rId10"/>
            <a:stretch/>
          </p:blipFill>
          <p:spPr>
            <a:xfrm flipH="1">
              <a:off x="6079680" y="419040"/>
              <a:ext cx="1628280" cy="21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3" name="Группа 29"/>
          <p:cNvGrpSpPr/>
          <p:nvPr/>
        </p:nvGrpSpPr>
        <p:grpSpPr>
          <a:xfrm>
            <a:off x="10734840" y="1942920"/>
            <a:ext cx="2489040" cy="2278440"/>
            <a:chOff x="10734840" y="1942920"/>
            <a:chExt cx="2489040" cy="2278440"/>
          </a:xfrm>
        </p:grpSpPr>
        <p:sp>
          <p:nvSpPr>
            <p:cNvPr id="1604" name="Полилиния 26"/>
            <p:cNvSpPr/>
            <p:nvPr/>
          </p:nvSpPr>
          <p:spPr>
            <a:xfrm>
              <a:off x="10734840" y="3332160"/>
              <a:ext cx="495000" cy="88884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5" name="Picture 3" descr=""/>
            <p:cNvPicPr/>
            <p:nvPr/>
          </p:nvPicPr>
          <p:blipFill>
            <a:blip r:embed="rId11"/>
            <a:srcRect l="0" t="0" r="-40" b="0"/>
            <a:stretch/>
          </p:blipFill>
          <p:spPr>
            <a:xfrm flipH="1" rot="174600">
              <a:off x="11354040" y="1987560"/>
              <a:ext cx="18154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Прямая соединительная линия 27"/>
            <p:cNvSpPr/>
            <p:nvPr/>
          </p:nvSpPr>
          <p:spPr>
            <a:xfrm flipH="1">
              <a:off x="11055240" y="3643200"/>
              <a:ext cx="107784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7" name="Группа 37"/>
          <p:cNvGrpSpPr/>
          <p:nvPr/>
        </p:nvGrpSpPr>
        <p:grpSpPr>
          <a:xfrm>
            <a:off x="5742000" y="1942920"/>
            <a:ext cx="2489040" cy="2278440"/>
            <a:chOff x="5742000" y="1942920"/>
            <a:chExt cx="2489040" cy="2278440"/>
          </a:xfrm>
        </p:grpSpPr>
        <p:sp>
          <p:nvSpPr>
            <p:cNvPr id="1608" name="Полилиния 38"/>
            <p:cNvSpPr/>
            <p:nvPr/>
          </p:nvSpPr>
          <p:spPr>
            <a:xfrm flipH="1">
              <a:off x="7735680" y="3332160"/>
              <a:ext cx="495000" cy="88884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9" name="Picture 3" descr=""/>
            <p:cNvPicPr/>
            <p:nvPr/>
          </p:nvPicPr>
          <p:blipFill>
            <a:blip r:embed="rId12"/>
            <a:srcRect l="0" t="0" r="-40" b="0"/>
            <a:stretch/>
          </p:blipFill>
          <p:spPr>
            <a:xfrm rot="21425400">
              <a:off x="5796360" y="1987560"/>
              <a:ext cx="181548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0" name="Прямая соединительная линия 40"/>
            <p:cNvSpPr/>
            <p:nvPr/>
          </p:nvSpPr>
          <p:spPr>
            <a:xfrm>
              <a:off x="6832800" y="3643200"/>
              <a:ext cx="107784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1" name="Группа 2054"/>
          <p:cNvGrpSpPr/>
          <p:nvPr/>
        </p:nvGrpSpPr>
        <p:grpSpPr>
          <a:xfrm>
            <a:off x="10586880" y="2562120"/>
            <a:ext cx="2653920" cy="2737080"/>
            <a:chOff x="10586880" y="2562120"/>
            <a:chExt cx="2653920" cy="2737080"/>
          </a:xfrm>
        </p:grpSpPr>
        <p:sp>
          <p:nvSpPr>
            <p:cNvPr id="1612" name="Полилиния 31"/>
            <p:cNvSpPr/>
            <p:nvPr/>
          </p:nvSpPr>
          <p:spPr>
            <a:xfrm>
              <a:off x="10586880" y="416088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3" name="Picture 4" descr=""/>
            <p:cNvPicPr/>
            <p:nvPr/>
          </p:nvPicPr>
          <p:blipFill>
            <a:blip r:embed="rId13"/>
            <a:srcRect l="0" t="0" r="0" b="-56"/>
            <a:stretch/>
          </p:blipFill>
          <p:spPr>
            <a:xfrm rot="21327600">
              <a:off x="11075400" y="2639520"/>
              <a:ext cx="2066040" cy="258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Прямая соединительная линия 32"/>
            <p:cNvSpPr/>
            <p:nvPr/>
          </p:nvSpPr>
          <p:spPr>
            <a:xfrm flipH="1">
              <a:off x="10975680" y="4781880"/>
              <a:ext cx="124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5" name="Группа 47"/>
          <p:cNvGrpSpPr/>
          <p:nvPr/>
        </p:nvGrpSpPr>
        <p:grpSpPr>
          <a:xfrm>
            <a:off x="5484240" y="2562120"/>
            <a:ext cx="2653200" cy="2737080"/>
            <a:chOff x="5484240" y="2562120"/>
            <a:chExt cx="2653200" cy="2737080"/>
          </a:xfrm>
        </p:grpSpPr>
        <p:sp>
          <p:nvSpPr>
            <p:cNvPr id="1616" name="Полилиния 48"/>
            <p:cNvSpPr/>
            <p:nvPr/>
          </p:nvSpPr>
          <p:spPr>
            <a:xfrm flipH="1">
              <a:off x="7664400" y="416088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7" name="Picture 4" descr=""/>
            <p:cNvPicPr/>
            <p:nvPr/>
          </p:nvPicPr>
          <p:blipFill>
            <a:blip r:embed="rId14"/>
            <a:srcRect l="0" t="0" r="0" b="-56"/>
            <a:stretch/>
          </p:blipFill>
          <p:spPr>
            <a:xfrm flipH="1" rot="272400">
              <a:off x="5583240" y="2639520"/>
              <a:ext cx="2065680" cy="25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Прямая соединительная линия 50"/>
            <p:cNvSpPr/>
            <p:nvPr/>
          </p:nvSpPr>
          <p:spPr>
            <a:xfrm>
              <a:off x="6499080" y="4781880"/>
              <a:ext cx="124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9" name="Группа 2062"/>
          <p:cNvGrpSpPr/>
          <p:nvPr/>
        </p:nvGrpSpPr>
        <p:grpSpPr>
          <a:xfrm>
            <a:off x="10447200" y="3809880"/>
            <a:ext cx="2538720" cy="2725920"/>
            <a:chOff x="10447200" y="3809880"/>
            <a:chExt cx="2538720" cy="2725920"/>
          </a:xfrm>
        </p:grpSpPr>
        <p:pic>
          <p:nvPicPr>
            <p:cNvPr id="1620" name="Picture 5" descr=""/>
            <p:cNvPicPr/>
            <p:nvPr/>
          </p:nvPicPr>
          <p:blipFill>
            <a:blip r:embed="rId15"/>
            <a:stretch/>
          </p:blipFill>
          <p:spPr>
            <a:xfrm>
              <a:off x="10924200" y="3809880"/>
              <a:ext cx="206172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Полилиния 53"/>
            <p:cNvSpPr/>
            <p:nvPr/>
          </p:nvSpPr>
          <p:spPr>
            <a:xfrm>
              <a:off x="10447200" y="548640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Прямая соединительная линия 54"/>
            <p:cNvSpPr/>
            <p:nvPr/>
          </p:nvSpPr>
          <p:spPr>
            <a:xfrm flipH="1">
              <a:off x="10880640" y="5910480"/>
              <a:ext cx="120816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3" name="Группа 62"/>
          <p:cNvGrpSpPr/>
          <p:nvPr/>
        </p:nvGrpSpPr>
        <p:grpSpPr>
          <a:xfrm>
            <a:off x="5362200" y="3809880"/>
            <a:ext cx="2538360" cy="2725920"/>
            <a:chOff x="5362200" y="3809880"/>
            <a:chExt cx="2538360" cy="2725920"/>
          </a:xfrm>
        </p:grpSpPr>
        <p:pic>
          <p:nvPicPr>
            <p:cNvPr id="1624" name="Picture 5" descr=""/>
            <p:cNvPicPr/>
            <p:nvPr/>
          </p:nvPicPr>
          <p:blipFill>
            <a:blip r:embed="rId16"/>
            <a:stretch/>
          </p:blipFill>
          <p:spPr>
            <a:xfrm flipH="1">
              <a:off x="5362200" y="3809880"/>
              <a:ext cx="2061360" cy="27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5" name="Полилиния 64"/>
            <p:cNvSpPr/>
            <p:nvPr/>
          </p:nvSpPr>
          <p:spPr>
            <a:xfrm flipH="1">
              <a:off x="7427520" y="5486400"/>
              <a:ext cx="473040" cy="847800"/>
            </a:xfrm>
            <a:custGeom>
              <a:avLst/>
              <a:gdLst/>
              <a:ahLst/>
              <a:rect l="l" t="t" r="r" b="b"/>
              <a:pathLst>
                <a:path w="495300" h="889000">
                  <a:moveTo>
                    <a:pt x="495300" y="342900"/>
                  </a:moveTo>
                  <a:lnTo>
                    <a:pt x="495300" y="342900"/>
                  </a:lnTo>
                  <a:lnTo>
                    <a:pt x="495300" y="889000"/>
                  </a:lnTo>
                  <a:lnTo>
                    <a:pt x="0" y="571500"/>
                  </a:lnTo>
                  <a:lnTo>
                    <a:pt x="0" y="0"/>
                  </a:lnTo>
                  <a:lnTo>
                    <a:pt x="495300" y="34290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Прямая соединительная линия 65"/>
            <p:cNvSpPr/>
            <p:nvPr/>
          </p:nvSpPr>
          <p:spPr>
            <a:xfrm>
              <a:off x="6259320" y="5910480"/>
              <a:ext cx="120816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49115 0 E">
                                      <p:cBhvr>
                                        <p:cTn id="6" dur="225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-0.49218 -0.00093 E">
                                      <p:cBhvr>
                                        <p:cTn id="8" dur="225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53559 3.33333E-006 E">
                                      <p:cBhvr>
                                        <p:cTn id="22" dur="2000" fill="hold"/>
                                        <p:tgtEl>
                                          <p:spTgt spid="1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53941 -0.0051 E">
                                      <p:cBhvr>
                                        <p:cTn id="24" dur="2000" fill="hold"/>
                                        <p:tgtEl>
                                          <p:spTgt spid="1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51389 0.00046 E">
                                      <p:cBhvr>
                                        <p:cTn id="38" dur="2000" fill="hold"/>
                                        <p:tgtEl>
                                          <p:spTgt spid="1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52205 0.00162 E">
                                      <p:cBhvr>
                                        <p:cTn id="40" dur="2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55764 -0.00209 E">
                                      <p:cBhvr>
                                        <p:cTn id="54" dur="2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22 -2.96296E-006 E">
                                      <p:cBhvr>
                                        <p:cTn id="56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100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Овал 33"/>
          <p:cNvSpPr/>
          <p:nvPr/>
        </p:nvSpPr>
        <p:spPr>
          <a:xfrm flipH="1">
            <a:off x="6848640" y="320760"/>
            <a:ext cx="699840" cy="3348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Овал 40"/>
          <p:cNvSpPr/>
          <p:nvPr/>
        </p:nvSpPr>
        <p:spPr>
          <a:xfrm flipH="1">
            <a:off x="5934960" y="1285920"/>
            <a:ext cx="622440" cy="2966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Овал 65"/>
          <p:cNvSpPr/>
          <p:nvPr/>
        </p:nvSpPr>
        <p:spPr>
          <a:xfrm flipH="1">
            <a:off x="5976360" y="4676760"/>
            <a:ext cx="610920" cy="282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Овал 112"/>
          <p:cNvSpPr/>
          <p:nvPr/>
        </p:nvSpPr>
        <p:spPr>
          <a:xfrm flipH="1">
            <a:off x="6881760" y="2062080"/>
            <a:ext cx="687600" cy="309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Овал 115"/>
          <p:cNvSpPr/>
          <p:nvPr/>
        </p:nvSpPr>
        <p:spPr>
          <a:xfrm flipH="1">
            <a:off x="7632720" y="2989440"/>
            <a:ext cx="611280" cy="27432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Овал 97"/>
          <p:cNvSpPr/>
          <p:nvPr/>
        </p:nvSpPr>
        <p:spPr>
          <a:xfrm flipH="1">
            <a:off x="84240" y="5398920"/>
            <a:ext cx="2860560" cy="13287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Ділення обох частин на степі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Овал 46"/>
          <p:cNvSpPr/>
          <p:nvPr/>
        </p:nvSpPr>
        <p:spPr>
          <a:xfrm flipH="1">
            <a:off x="148680" y="210960"/>
            <a:ext cx="2912760" cy="13906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Зведення до однієї осн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Овал 4"/>
          <p:cNvSpPr/>
          <p:nvPr/>
        </p:nvSpPr>
        <p:spPr>
          <a:xfrm flipH="1">
            <a:off x="574560" y="414360"/>
            <a:ext cx="2060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Прямоугольник 22"/>
          <p:cNvSpPr/>
          <p:nvPr/>
        </p:nvSpPr>
        <p:spPr>
          <a:xfrm>
            <a:off x="781200" y="1365120"/>
            <a:ext cx="3360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Прямоугольник 23"/>
          <p:cNvSpPr/>
          <p:nvPr/>
        </p:nvSpPr>
        <p:spPr>
          <a:xfrm>
            <a:off x="781200" y="1365120"/>
            <a:ext cx="3360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82440" bIns="8244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Овал 24"/>
          <p:cNvSpPr/>
          <p:nvPr/>
        </p:nvSpPr>
        <p:spPr>
          <a:xfrm flipH="1">
            <a:off x="8574120" y="503280"/>
            <a:ext cx="27144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Овал 25"/>
          <p:cNvSpPr/>
          <p:nvPr/>
        </p:nvSpPr>
        <p:spPr>
          <a:xfrm flipH="1">
            <a:off x="8381160" y="320760"/>
            <a:ext cx="273240" cy="1299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Овал 26"/>
          <p:cNvSpPr/>
          <p:nvPr/>
        </p:nvSpPr>
        <p:spPr>
          <a:xfrm flipH="1">
            <a:off x="7768440" y="357120"/>
            <a:ext cx="428760" cy="204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Овал 27"/>
          <p:cNvSpPr/>
          <p:nvPr/>
        </p:nvSpPr>
        <p:spPr>
          <a:xfrm flipH="1">
            <a:off x="7543800" y="157320"/>
            <a:ext cx="27288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Овал 28"/>
          <p:cNvSpPr/>
          <p:nvPr/>
        </p:nvSpPr>
        <p:spPr>
          <a:xfrm flipH="1">
            <a:off x="7048440" y="84240"/>
            <a:ext cx="271440" cy="1299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Овал 29"/>
          <p:cNvSpPr/>
          <p:nvPr/>
        </p:nvSpPr>
        <p:spPr>
          <a:xfrm flipH="1">
            <a:off x="6436440" y="210960"/>
            <a:ext cx="273240" cy="13032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Овал 30"/>
          <p:cNvSpPr/>
          <p:nvPr/>
        </p:nvSpPr>
        <p:spPr>
          <a:xfrm flipH="1">
            <a:off x="5900040" y="303120"/>
            <a:ext cx="428760" cy="2034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Овал 31"/>
          <p:cNvSpPr/>
          <p:nvPr/>
        </p:nvSpPr>
        <p:spPr>
          <a:xfrm flipH="1">
            <a:off x="5522760" y="503280"/>
            <a:ext cx="271440" cy="12996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Овал 32"/>
          <p:cNvSpPr/>
          <p:nvPr/>
        </p:nvSpPr>
        <p:spPr>
          <a:xfrm flipH="1">
            <a:off x="5294160" y="703440"/>
            <a:ext cx="271440" cy="1299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Овал 34"/>
          <p:cNvSpPr/>
          <p:nvPr/>
        </p:nvSpPr>
        <p:spPr>
          <a:xfrm flipH="1">
            <a:off x="8764560" y="1012680"/>
            <a:ext cx="271440" cy="13032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Овал 35"/>
          <p:cNvSpPr/>
          <p:nvPr/>
        </p:nvSpPr>
        <p:spPr>
          <a:xfrm flipH="1">
            <a:off x="8380440" y="1176480"/>
            <a:ext cx="426960" cy="204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Овал 36"/>
          <p:cNvSpPr/>
          <p:nvPr/>
        </p:nvSpPr>
        <p:spPr>
          <a:xfrm flipH="1">
            <a:off x="7612920" y="1322280"/>
            <a:ext cx="622440" cy="2970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Овал 37"/>
          <p:cNvSpPr/>
          <p:nvPr/>
        </p:nvSpPr>
        <p:spPr>
          <a:xfrm flipH="1">
            <a:off x="7162920" y="1558800"/>
            <a:ext cx="271440" cy="1303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Овал 38"/>
          <p:cNvSpPr/>
          <p:nvPr/>
        </p:nvSpPr>
        <p:spPr>
          <a:xfrm flipH="1">
            <a:off x="6854760" y="1322280"/>
            <a:ext cx="426960" cy="204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Овал 39"/>
          <p:cNvSpPr/>
          <p:nvPr/>
        </p:nvSpPr>
        <p:spPr>
          <a:xfrm flipH="1">
            <a:off x="6627960" y="1576440"/>
            <a:ext cx="272880" cy="1299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Овал 41"/>
          <p:cNvSpPr/>
          <p:nvPr/>
        </p:nvSpPr>
        <p:spPr>
          <a:xfrm flipH="1">
            <a:off x="5291280" y="1212840"/>
            <a:ext cx="426960" cy="204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Нашивка 43"/>
          <p:cNvSpPr/>
          <p:nvPr/>
        </p:nvSpPr>
        <p:spPr>
          <a:xfrm>
            <a:off x="4037040" y="417600"/>
            <a:ext cx="1257120" cy="11444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48" y="0"/>
                </a:lnTo>
                <a:lnTo>
                  <a:pt x="21600" y="10800"/>
                </a:lnTo>
                <a:lnTo>
                  <a:pt x="9348" y="21600"/>
                </a:lnTo>
                <a:lnTo>
                  <a:pt x="0" y="21600"/>
                </a:lnTo>
                <a:lnTo>
                  <a:pt x="12252" y="10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Нашивка 44"/>
          <p:cNvSpPr/>
          <p:nvPr/>
        </p:nvSpPr>
        <p:spPr>
          <a:xfrm>
            <a:off x="3198960" y="396720"/>
            <a:ext cx="1257120" cy="11462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31" y="0"/>
                </a:lnTo>
                <a:lnTo>
                  <a:pt x="21600" y="10800"/>
                </a:lnTo>
                <a:lnTo>
                  <a:pt x="9331" y="21600"/>
                </a:lnTo>
                <a:lnTo>
                  <a:pt x="0" y="21600"/>
                </a:lnTo>
                <a:lnTo>
                  <a:pt x="12269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Группа 48"/>
          <p:cNvGrpSpPr/>
          <p:nvPr/>
        </p:nvGrpSpPr>
        <p:grpSpPr>
          <a:xfrm>
            <a:off x="5468760" y="4091040"/>
            <a:ext cx="3360960" cy="511200"/>
            <a:chOff x="5468760" y="4091040"/>
            <a:chExt cx="3360960" cy="511200"/>
          </a:xfrm>
        </p:grpSpPr>
        <p:sp>
          <p:nvSpPr>
            <p:cNvPr id="1656" name="Прямоугольник 72"/>
            <p:cNvSpPr/>
            <p:nvPr/>
          </p:nvSpPr>
          <p:spPr>
            <a:xfrm flipH="1">
              <a:off x="5468760" y="4091040"/>
              <a:ext cx="33609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Прямоугольник 73"/>
            <p:cNvSpPr/>
            <p:nvPr/>
          </p:nvSpPr>
          <p:spPr>
            <a:xfrm flipH="1">
              <a:off x="5468760" y="4091040"/>
              <a:ext cx="33609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8" name="Овал 49"/>
          <p:cNvSpPr/>
          <p:nvPr/>
        </p:nvSpPr>
        <p:spPr>
          <a:xfrm flipH="1">
            <a:off x="8565480" y="3936960"/>
            <a:ext cx="266760" cy="1224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Овал 50"/>
          <p:cNvSpPr/>
          <p:nvPr/>
        </p:nvSpPr>
        <p:spPr>
          <a:xfrm flipH="1">
            <a:off x="8378280" y="3763800"/>
            <a:ext cx="268200" cy="1224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Овал 51"/>
          <p:cNvSpPr/>
          <p:nvPr/>
        </p:nvSpPr>
        <p:spPr>
          <a:xfrm flipH="1">
            <a:off x="7776360" y="3798720"/>
            <a:ext cx="420840" cy="1936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Овал 52"/>
          <p:cNvSpPr/>
          <p:nvPr/>
        </p:nvSpPr>
        <p:spPr>
          <a:xfrm flipH="1">
            <a:off x="7554240" y="360828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Овал 53"/>
          <p:cNvSpPr/>
          <p:nvPr/>
        </p:nvSpPr>
        <p:spPr>
          <a:xfrm flipH="1">
            <a:off x="7068240" y="3540240"/>
            <a:ext cx="266760" cy="1220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Овал 54"/>
          <p:cNvSpPr/>
          <p:nvPr/>
        </p:nvSpPr>
        <p:spPr>
          <a:xfrm flipH="1">
            <a:off x="6469920" y="3660840"/>
            <a:ext cx="266760" cy="1220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Овал 55"/>
          <p:cNvSpPr/>
          <p:nvPr/>
        </p:nvSpPr>
        <p:spPr>
          <a:xfrm flipH="1">
            <a:off x="5943600" y="3746520"/>
            <a:ext cx="419040" cy="1936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Овал 56"/>
          <p:cNvSpPr/>
          <p:nvPr/>
        </p:nvSpPr>
        <p:spPr>
          <a:xfrm flipH="1">
            <a:off x="5571360" y="3936960"/>
            <a:ext cx="266760" cy="1224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Овал 57"/>
          <p:cNvSpPr/>
          <p:nvPr/>
        </p:nvSpPr>
        <p:spPr>
          <a:xfrm flipH="1">
            <a:off x="5346000" y="4125960"/>
            <a:ext cx="268200" cy="1220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Овал 58"/>
          <p:cNvSpPr/>
          <p:nvPr/>
        </p:nvSpPr>
        <p:spPr>
          <a:xfrm flipH="1">
            <a:off x="6873840" y="3763800"/>
            <a:ext cx="687600" cy="3160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Овал 59"/>
          <p:cNvSpPr/>
          <p:nvPr/>
        </p:nvSpPr>
        <p:spPr>
          <a:xfrm flipH="1">
            <a:off x="8752680" y="4419720"/>
            <a:ext cx="266760" cy="1220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Овал 60"/>
          <p:cNvSpPr/>
          <p:nvPr/>
        </p:nvSpPr>
        <p:spPr>
          <a:xfrm flipH="1">
            <a:off x="8375760" y="4573440"/>
            <a:ext cx="420480" cy="19368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Овал 61"/>
          <p:cNvSpPr/>
          <p:nvPr/>
        </p:nvSpPr>
        <p:spPr>
          <a:xfrm flipH="1">
            <a:off x="7623000" y="4711680"/>
            <a:ext cx="611280" cy="28116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Овал 62"/>
          <p:cNvSpPr/>
          <p:nvPr/>
        </p:nvSpPr>
        <p:spPr>
          <a:xfrm flipH="1">
            <a:off x="7182000" y="4935600"/>
            <a:ext cx="2664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Овал 63"/>
          <p:cNvSpPr/>
          <p:nvPr/>
        </p:nvSpPr>
        <p:spPr>
          <a:xfrm flipH="1">
            <a:off x="6877800" y="4711680"/>
            <a:ext cx="420840" cy="1936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Овал 64"/>
          <p:cNvSpPr/>
          <p:nvPr/>
        </p:nvSpPr>
        <p:spPr>
          <a:xfrm flipH="1">
            <a:off x="6655680" y="495288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Овал 66"/>
          <p:cNvSpPr/>
          <p:nvPr/>
        </p:nvSpPr>
        <p:spPr>
          <a:xfrm flipH="1">
            <a:off x="5342760" y="4608360"/>
            <a:ext cx="420840" cy="1936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Нашивка 67"/>
          <p:cNvSpPr/>
          <p:nvPr/>
        </p:nvSpPr>
        <p:spPr>
          <a:xfrm>
            <a:off x="4110120" y="3797280"/>
            <a:ext cx="1233360" cy="108576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52" y="0"/>
                </a:lnTo>
                <a:lnTo>
                  <a:pt x="21600" y="10800"/>
                </a:lnTo>
                <a:lnTo>
                  <a:pt x="9752" y="21600"/>
                </a:lnTo>
                <a:lnTo>
                  <a:pt x="0" y="21600"/>
                </a:lnTo>
                <a:lnTo>
                  <a:pt x="11848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Нашивка 68"/>
          <p:cNvSpPr/>
          <p:nvPr/>
        </p:nvSpPr>
        <p:spPr>
          <a:xfrm>
            <a:off x="3100320" y="3797280"/>
            <a:ext cx="1233720" cy="10857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52" y="0"/>
                </a:lnTo>
                <a:lnTo>
                  <a:pt x="21600" y="10800"/>
                </a:lnTo>
                <a:lnTo>
                  <a:pt x="9752" y="21600"/>
                </a:lnTo>
                <a:lnTo>
                  <a:pt x="0" y="21600"/>
                </a:lnTo>
                <a:lnTo>
                  <a:pt x="11848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Овал 70"/>
          <p:cNvSpPr/>
          <p:nvPr/>
        </p:nvSpPr>
        <p:spPr>
          <a:xfrm flipH="1">
            <a:off x="104760" y="3708360"/>
            <a:ext cx="2860560" cy="1317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Винесення спільного множника за дуж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Овал 26"/>
          <p:cNvSpPr/>
          <p:nvPr/>
        </p:nvSpPr>
        <p:spPr>
          <a:xfrm flipH="1">
            <a:off x="523800" y="3902040"/>
            <a:ext cx="20224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9" name="Группа 75"/>
          <p:cNvGrpSpPr/>
          <p:nvPr/>
        </p:nvGrpSpPr>
        <p:grpSpPr>
          <a:xfrm>
            <a:off x="5448240" y="5786280"/>
            <a:ext cx="3360960" cy="514440"/>
            <a:chOff x="5448240" y="5786280"/>
            <a:chExt cx="3360960" cy="514440"/>
          </a:xfrm>
        </p:grpSpPr>
        <p:sp>
          <p:nvSpPr>
            <p:cNvPr id="1680" name="Прямоугольник 99"/>
            <p:cNvSpPr/>
            <p:nvPr/>
          </p:nvSpPr>
          <p:spPr>
            <a:xfrm flipH="1">
              <a:off x="5448240" y="5786280"/>
              <a:ext cx="3360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Прямоугольник 100"/>
            <p:cNvSpPr/>
            <p:nvPr/>
          </p:nvSpPr>
          <p:spPr>
            <a:xfrm flipH="1">
              <a:off x="5448240" y="5786280"/>
              <a:ext cx="33609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2" name="Овал 76"/>
          <p:cNvSpPr/>
          <p:nvPr/>
        </p:nvSpPr>
        <p:spPr>
          <a:xfrm flipH="1">
            <a:off x="8545680" y="5629320"/>
            <a:ext cx="2664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Овал 77"/>
          <p:cNvSpPr/>
          <p:nvPr/>
        </p:nvSpPr>
        <p:spPr>
          <a:xfrm flipH="1">
            <a:off x="8357400" y="5454720"/>
            <a:ext cx="266760" cy="1252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Овал 78"/>
          <p:cNvSpPr/>
          <p:nvPr/>
        </p:nvSpPr>
        <p:spPr>
          <a:xfrm flipH="1">
            <a:off x="7756560" y="5489640"/>
            <a:ext cx="4190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Овал 79"/>
          <p:cNvSpPr/>
          <p:nvPr/>
        </p:nvSpPr>
        <p:spPr>
          <a:xfrm flipH="1">
            <a:off x="7533720" y="5299200"/>
            <a:ext cx="268200" cy="1238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Овал 80"/>
          <p:cNvSpPr/>
          <p:nvPr/>
        </p:nvSpPr>
        <p:spPr>
          <a:xfrm flipH="1">
            <a:off x="7047720" y="5229360"/>
            <a:ext cx="266760" cy="123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Овал 81"/>
          <p:cNvSpPr/>
          <p:nvPr/>
        </p:nvSpPr>
        <p:spPr>
          <a:xfrm flipH="1">
            <a:off x="6448320" y="5351400"/>
            <a:ext cx="268560" cy="1238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Овал 82"/>
          <p:cNvSpPr/>
          <p:nvPr/>
        </p:nvSpPr>
        <p:spPr>
          <a:xfrm flipH="1">
            <a:off x="5920560" y="5437080"/>
            <a:ext cx="420840" cy="1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Овал 83"/>
          <p:cNvSpPr/>
          <p:nvPr/>
        </p:nvSpPr>
        <p:spPr>
          <a:xfrm flipH="1">
            <a:off x="5550840" y="5629320"/>
            <a:ext cx="266760" cy="12384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Овал 84"/>
          <p:cNvSpPr/>
          <p:nvPr/>
        </p:nvSpPr>
        <p:spPr>
          <a:xfrm flipH="1">
            <a:off x="5325480" y="5819760"/>
            <a:ext cx="268200" cy="12528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Овал 85"/>
          <p:cNvSpPr/>
          <p:nvPr/>
        </p:nvSpPr>
        <p:spPr>
          <a:xfrm flipH="1">
            <a:off x="6852600" y="5454720"/>
            <a:ext cx="687240" cy="3207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Овал 86"/>
          <p:cNvSpPr/>
          <p:nvPr/>
        </p:nvSpPr>
        <p:spPr>
          <a:xfrm flipH="1">
            <a:off x="8732160" y="6116760"/>
            <a:ext cx="266760" cy="1238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Овал 87"/>
          <p:cNvSpPr/>
          <p:nvPr/>
        </p:nvSpPr>
        <p:spPr>
          <a:xfrm flipH="1">
            <a:off x="8354160" y="6272280"/>
            <a:ext cx="4208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Овал 88"/>
          <p:cNvSpPr/>
          <p:nvPr/>
        </p:nvSpPr>
        <p:spPr>
          <a:xfrm flipH="1">
            <a:off x="7602480" y="6411960"/>
            <a:ext cx="611280" cy="2840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Овал 89"/>
          <p:cNvSpPr/>
          <p:nvPr/>
        </p:nvSpPr>
        <p:spPr>
          <a:xfrm flipH="1">
            <a:off x="7158960" y="6637320"/>
            <a:ext cx="268200" cy="1252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Овал 90"/>
          <p:cNvSpPr/>
          <p:nvPr/>
        </p:nvSpPr>
        <p:spPr>
          <a:xfrm flipH="1">
            <a:off x="6857280" y="6411960"/>
            <a:ext cx="42084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Овал 91"/>
          <p:cNvSpPr/>
          <p:nvPr/>
        </p:nvSpPr>
        <p:spPr>
          <a:xfrm flipH="1">
            <a:off x="6635160" y="6654960"/>
            <a:ext cx="268200" cy="1238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Овал 92"/>
          <p:cNvSpPr/>
          <p:nvPr/>
        </p:nvSpPr>
        <p:spPr>
          <a:xfrm flipH="1">
            <a:off x="5956200" y="6377040"/>
            <a:ext cx="611280" cy="2840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Овал 93"/>
          <p:cNvSpPr/>
          <p:nvPr/>
        </p:nvSpPr>
        <p:spPr>
          <a:xfrm flipH="1">
            <a:off x="5322960" y="6307200"/>
            <a:ext cx="420480" cy="1951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Нашивка 94"/>
          <p:cNvSpPr/>
          <p:nvPr/>
        </p:nvSpPr>
        <p:spPr>
          <a:xfrm>
            <a:off x="4089240" y="5489640"/>
            <a:ext cx="1233720" cy="109368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65" y="0"/>
                </a:lnTo>
                <a:lnTo>
                  <a:pt x="21600" y="10800"/>
                </a:lnTo>
                <a:lnTo>
                  <a:pt x="9665" y="21600"/>
                </a:lnTo>
                <a:lnTo>
                  <a:pt x="0" y="21600"/>
                </a:lnTo>
                <a:lnTo>
                  <a:pt x="1193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Нашивка 95"/>
          <p:cNvSpPr/>
          <p:nvPr/>
        </p:nvSpPr>
        <p:spPr>
          <a:xfrm>
            <a:off x="3079800" y="5489640"/>
            <a:ext cx="1233360" cy="109368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65" y="0"/>
                </a:lnTo>
                <a:lnTo>
                  <a:pt x="21600" y="10800"/>
                </a:lnTo>
                <a:lnTo>
                  <a:pt x="9665" y="21600"/>
                </a:lnTo>
                <a:lnTo>
                  <a:pt x="0" y="21600"/>
                </a:lnTo>
                <a:lnTo>
                  <a:pt x="11935" y="10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Овал 26"/>
          <p:cNvSpPr/>
          <p:nvPr/>
        </p:nvSpPr>
        <p:spPr>
          <a:xfrm flipH="1">
            <a:off x="503280" y="5594400"/>
            <a:ext cx="20224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3" name="Группа 102"/>
          <p:cNvGrpSpPr/>
          <p:nvPr/>
        </p:nvGrpSpPr>
        <p:grpSpPr>
          <a:xfrm>
            <a:off x="5476680" y="2381400"/>
            <a:ext cx="3362040" cy="500040"/>
            <a:chOff x="5476680" y="2381400"/>
            <a:chExt cx="3362040" cy="500040"/>
          </a:xfrm>
        </p:grpSpPr>
        <p:sp>
          <p:nvSpPr>
            <p:cNvPr id="1704" name="Прямоугольник 126"/>
            <p:cNvSpPr/>
            <p:nvPr/>
          </p:nvSpPr>
          <p:spPr>
            <a:xfrm flipH="1">
              <a:off x="5476320" y="2381400"/>
              <a:ext cx="336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Прямоугольник 127"/>
            <p:cNvSpPr/>
            <p:nvPr/>
          </p:nvSpPr>
          <p:spPr>
            <a:xfrm flipH="1">
              <a:off x="5476320" y="2381400"/>
              <a:ext cx="336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2889360"/>
                  <a:tab algn="l" pos="5778360"/>
                  <a:tab algn="l" pos="8667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6" name="Овал 103"/>
          <p:cNvSpPr/>
          <p:nvPr/>
        </p:nvSpPr>
        <p:spPr>
          <a:xfrm flipH="1">
            <a:off x="8574840" y="2230560"/>
            <a:ext cx="26676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Овал 104"/>
          <p:cNvSpPr/>
          <p:nvPr/>
        </p:nvSpPr>
        <p:spPr>
          <a:xfrm flipH="1">
            <a:off x="8387640" y="2062080"/>
            <a:ext cx="266760" cy="120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Овал 105"/>
          <p:cNvSpPr/>
          <p:nvPr/>
        </p:nvSpPr>
        <p:spPr>
          <a:xfrm flipH="1">
            <a:off x="7786800" y="2095560"/>
            <a:ext cx="419040" cy="1890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Овал 106"/>
          <p:cNvSpPr/>
          <p:nvPr/>
        </p:nvSpPr>
        <p:spPr>
          <a:xfrm flipH="1">
            <a:off x="7563600" y="1909800"/>
            <a:ext cx="266760" cy="1206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Овал 107"/>
          <p:cNvSpPr/>
          <p:nvPr/>
        </p:nvSpPr>
        <p:spPr>
          <a:xfrm flipH="1">
            <a:off x="7076520" y="1843200"/>
            <a:ext cx="26820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Овал 108"/>
          <p:cNvSpPr/>
          <p:nvPr/>
        </p:nvSpPr>
        <p:spPr>
          <a:xfrm flipH="1">
            <a:off x="6477840" y="1960560"/>
            <a:ext cx="268200" cy="120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Овал 109"/>
          <p:cNvSpPr/>
          <p:nvPr/>
        </p:nvSpPr>
        <p:spPr>
          <a:xfrm flipH="1">
            <a:off x="5950800" y="2044800"/>
            <a:ext cx="420840" cy="188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Овал 110"/>
          <p:cNvSpPr/>
          <p:nvPr/>
        </p:nvSpPr>
        <p:spPr>
          <a:xfrm flipH="1">
            <a:off x="5579280" y="2230560"/>
            <a:ext cx="268200" cy="1206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Овал 111"/>
          <p:cNvSpPr/>
          <p:nvPr/>
        </p:nvSpPr>
        <p:spPr>
          <a:xfrm flipH="1">
            <a:off x="5355360" y="2416320"/>
            <a:ext cx="266760" cy="1206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Овал 113"/>
          <p:cNvSpPr/>
          <p:nvPr/>
        </p:nvSpPr>
        <p:spPr>
          <a:xfrm flipH="1">
            <a:off x="8761320" y="2701800"/>
            <a:ext cx="268560" cy="12060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Овал 114"/>
          <p:cNvSpPr/>
          <p:nvPr/>
        </p:nvSpPr>
        <p:spPr>
          <a:xfrm flipH="1">
            <a:off x="8385120" y="2854440"/>
            <a:ext cx="419040" cy="18864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Овал 116"/>
          <p:cNvSpPr/>
          <p:nvPr/>
        </p:nvSpPr>
        <p:spPr>
          <a:xfrm flipH="1">
            <a:off x="7189200" y="3208320"/>
            <a:ext cx="268200" cy="1191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Овал 117"/>
          <p:cNvSpPr/>
          <p:nvPr/>
        </p:nvSpPr>
        <p:spPr>
          <a:xfrm flipH="1">
            <a:off x="6888240" y="2989440"/>
            <a:ext cx="419040" cy="1886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Овал 118"/>
          <p:cNvSpPr/>
          <p:nvPr/>
        </p:nvSpPr>
        <p:spPr>
          <a:xfrm flipH="1">
            <a:off x="6665760" y="3224160"/>
            <a:ext cx="268560" cy="1206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Овал 119"/>
          <p:cNvSpPr/>
          <p:nvPr/>
        </p:nvSpPr>
        <p:spPr>
          <a:xfrm flipH="1">
            <a:off x="5984280" y="2954160"/>
            <a:ext cx="610920" cy="27648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Овал 120"/>
          <p:cNvSpPr/>
          <p:nvPr/>
        </p:nvSpPr>
        <p:spPr>
          <a:xfrm flipH="1">
            <a:off x="5353200" y="2887560"/>
            <a:ext cx="420480" cy="18900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Нашивка 121"/>
          <p:cNvSpPr/>
          <p:nvPr/>
        </p:nvSpPr>
        <p:spPr>
          <a:xfrm>
            <a:off x="4014720" y="2101680"/>
            <a:ext cx="1233720" cy="1060560"/>
          </a:xfrm>
          <a:custGeom>
            <a:avLst/>
            <a:gdLst>
              <a:gd name="textAreaLeft" fmla="*/ 0 w 1233720"/>
              <a:gd name="textAreaRight" fmla="*/ 1234080 w 123372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9" y="0"/>
                </a:lnTo>
                <a:lnTo>
                  <a:pt x="21600" y="10800"/>
                </a:lnTo>
                <a:lnTo>
                  <a:pt x="10029" y="21600"/>
                </a:lnTo>
                <a:lnTo>
                  <a:pt x="0" y="21600"/>
                </a:lnTo>
                <a:lnTo>
                  <a:pt x="11571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Нашивка 122"/>
          <p:cNvSpPr/>
          <p:nvPr/>
        </p:nvSpPr>
        <p:spPr>
          <a:xfrm>
            <a:off x="3211560" y="2127240"/>
            <a:ext cx="1233360" cy="106056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029" y="0"/>
                </a:lnTo>
                <a:lnTo>
                  <a:pt x="21600" y="10800"/>
                </a:lnTo>
                <a:lnTo>
                  <a:pt x="10029" y="21600"/>
                </a:lnTo>
                <a:lnTo>
                  <a:pt x="0" y="21600"/>
                </a:lnTo>
                <a:lnTo>
                  <a:pt x="11571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Овал 124"/>
          <p:cNvSpPr/>
          <p:nvPr/>
        </p:nvSpPr>
        <p:spPr>
          <a:xfrm flipH="1">
            <a:off x="114480" y="2008080"/>
            <a:ext cx="2860560" cy="1287720"/>
          </a:xfrm>
          <a:prstGeom prst="ellipse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mbria"/>
              </a:rPr>
              <a:t>Зведення до алгебраїч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Овал 26"/>
          <p:cNvSpPr/>
          <p:nvPr/>
        </p:nvSpPr>
        <p:spPr>
          <a:xfrm flipH="1">
            <a:off x="533520" y="2195640"/>
            <a:ext cx="2022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6" name="TextBox 4" descr=""/>
          <p:cNvPicPr/>
          <p:nvPr/>
        </p:nvPicPr>
        <p:blipFill>
          <a:blip r:embed="rId1"/>
          <a:stretch/>
        </p:blipFill>
        <p:spPr>
          <a:xfrm>
            <a:off x="5284800" y="665280"/>
            <a:ext cx="3755880" cy="583920"/>
          </a:xfrm>
          <a:prstGeom prst="rect">
            <a:avLst/>
          </a:prstGeom>
          <a:ln w="0">
            <a:noFill/>
          </a:ln>
        </p:spPr>
      </p:pic>
      <p:pic>
        <p:nvPicPr>
          <p:cNvPr id="1727" name="TextBox 101" descr=""/>
          <p:cNvPicPr/>
          <p:nvPr/>
        </p:nvPicPr>
        <p:blipFill>
          <a:blip r:embed="rId2"/>
          <a:stretch/>
        </p:blipFill>
        <p:spPr>
          <a:xfrm>
            <a:off x="5241960" y="5467320"/>
            <a:ext cx="3755880" cy="1287360"/>
          </a:xfrm>
          <a:prstGeom prst="rect">
            <a:avLst/>
          </a:prstGeom>
          <a:ln w="0">
            <a:noFill/>
          </a:ln>
        </p:spPr>
      </p:pic>
      <p:pic>
        <p:nvPicPr>
          <p:cNvPr id="1728" name="TextBox 74" descr=""/>
          <p:cNvPicPr/>
          <p:nvPr/>
        </p:nvPicPr>
        <p:blipFill>
          <a:blip r:embed="rId3"/>
          <a:stretch/>
        </p:blipFill>
        <p:spPr>
          <a:xfrm>
            <a:off x="5132520" y="4071960"/>
            <a:ext cx="4011480" cy="549360"/>
          </a:xfrm>
          <a:prstGeom prst="rect">
            <a:avLst/>
          </a:prstGeom>
          <a:ln w="0">
            <a:noFill/>
          </a:ln>
        </p:spPr>
      </p:pic>
      <p:pic>
        <p:nvPicPr>
          <p:cNvPr id="1729" name="TextBox 128" descr=""/>
          <p:cNvPicPr/>
          <p:nvPr/>
        </p:nvPicPr>
        <p:blipFill>
          <a:blip r:embed="rId4"/>
          <a:stretch/>
        </p:blipFill>
        <p:spPr>
          <a:xfrm>
            <a:off x="5303880" y="2359080"/>
            <a:ext cx="3754440" cy="54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3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3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3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3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3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3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3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0" name="Picture 3" descr=""/>
          <p:cNvPicPr/>
          <p:nvPr/>
        </p:nvPicPr>
        <p:blipFill>
          <a:blip r:embed="rId1"/>
          <a:stretch/>
        </p:blipFill>
        <p:spPr>
          <a:xfrm>
            <a:off x="-6480" y="5724360"/>
            <a:ext cx="1981440" cy="1279800"/>
          </a:xfrm>
          <a:prstGeom prst="rect">
            <a:avLst/>
          </a:prstGeom>
          <a:ln w="0">
            <a:noFill/>
          </a:ln>
        </p:spPr>
      </p:pic>
      <p:pic>
        <p:nvPicPr>
          <p:cNvPr id="1731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32" name="Объект 2" descr=""/>
          <p:cNvPicPr/>
          <p:nvPr/>
        </p:nvPicPr>
        <p:blipFill>
          <a:blip r:embed="rId3"/>
          <a:stretch/>
        </p:blipFill>
        <p:spPr>
          <a:xfrm>
            <a:off x="476280" y="1944720"/>
            <a:ext cx="8131320" cy="3767040"/>
          </a:xfrm>
          <a:prstGeom prst="rect">
            <a:avLst/>
          </a:prstGeom>
          <a:ln w="0">
            <a:noFill/>
          </a:ln>
        </p:spPr>
      </p:pic>
      <p:sp>
        <p:nvSpPr>
          <p:cNvPr id="1733" name="Овал 6"/>
          <p:cNvSpPr/>
          <p:nvPr/>
        </p:nvSpPr>
        <p:spPr>
          <a:xfrm>
            <a:off x="2700360" y="1844640"/>
            <a:ext cx="1833480" cy="987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Овал 11"/>
          <p:cNvSpPr/>
          <p:nvPr/>
        </p:nvSpPr>
        <p:spPr>
          <a:xfrm>
            <a:off x="6732720" y="2832120"/>
            <a:ext cx="175572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Овал 7"/>
          <p:cNvSpPr/>
          <p:nvPr/>
        </p:nvSpPr>
        <p:spPr>
          <a:xfrm>
            <a:off x="4421160" y="3933720"/>
            <a:ext cx="406728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8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3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3" descr=""/>
          <p:cNvPicPr/>
          <p:nvPr/>
        </p:nvPicPr>
        <p:blipFill>
          <a:blip r:embed="rId1"/>
          <a:stretch/>
        </p:blipFill>
        <p:spPr>
          <a:xfrm>
            <a:off x="-6480" y="5724360"/>
            <a:ext cx="1981440" cy="1279800"/>
          </a:xfrm>
          <a:prstGeom prst="rect">
            <a:avLst/>
          </a:prstGeom>
          <a:ln w="0">
            <a:noFill/>
          </a:ln>
        </p:spPr>
      </p:pic>
      <p:pic>
        <p:nvPicPr>
          <p:cNvPr id="173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38" name="Объект 2" descr=""/>
          <p:cNvPicPr/>
          <p:nvPr/>
        </p:nvPicPr>
        <p:blipFill>
          <a:blip r:embed="rId3"/>
          <a:stretch/>
        </p:blipFill>
        <p:spPr>
          <a:xfrm>
            <a:off x="476280" y="1620720"/>
            <a:ext cx="8131320" cy="4767480"/>
          </a:xfrm>
          <a:prstGeom prst="rect">
            <a:avLst/>
          </a:prstGeom>
          <a:ln w="0">
            <a:noFill/>
          </a:ln>
        </p:spPr>
      </p:pic>
      <p:sp>
        <p:nvSpPr>
          <p:cNvPr id="1739" name="Овал 6"/>
          <p:cNvSpPr/>
          <p:nvPr/>
        </p:nvSpPr>
        <p:spPr>
          <a:xfrm>
            <a:off x="755640" y="2205000"/>
            <a:ext cx="63374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Овал 9"/>
          <p:cNvSpPr/>
          <p:nvPr/>
        </p:nvSpPr>
        <p:spPr>
          <a:xfrm>
            <a:off x="4570560" y="5516640"/>
            <a:ext cx="1511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0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Заголовок 8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2" descr=""/>
          <p:cNvPicPr/>
          <p:nvPr/>
        </p:nvPicPr>
        <p:blipFill>
          <a:blip r:embed="rId2"/>
          <a:stretch/>
        </p:blipFill>
        <p:spPr>
          <a:xfrm>
            <a:off x="4973760" y="2349360"/>
            <a:ext cx="3946320" cy="35784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3" descr=""/>
          <p:cNvPicPr/>
          <p:nvPr/>
        </p:nvPicPr>
        <p:blipFill>
          <a:blip r:embed="rId3"/>
          <a:stretch/>
        </p:blipFill>
        <p:spPr>
          <a:xfrm>
            <a:off x="2556000" y="1628640"/>
            <a:ext cx="2681280" cy="484848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3" descr=""/>
          <p:cNvPicPr/>
          <p:nvPr/>
        </p:nvPicPr>
        <p:blipFill>
          <a:blip r:embed="rId4"/>
          <a:stretch/>
        </p:blipFill>
        <p:spPr>
          <a:xfrm>
            <a:off x="244440" y="5437080"/>
            <a:ext cx="1981080" cy="127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20:52Z</dcterms:created>
  <dc:creator>Лена</dc:creator>
  <dc:description/>
  <dc:language>en-US</dc:language>
  <cp:lastModifiedBy>User</cp:lastModifiedBy>
  <dcterms:modified xsi:type="dcterms:W3CDTF">2015-06-12T08:06:26Z</dcterms:modified>
  <cp:revision>8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a6000000000001024140</vt:lpwstr>
  </property>
</Properties>
</file>