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BF9-8666-48F2-B949-457252EB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2B6-3F80-401E-B2E9-A684D9F2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4CE7C-E738-4312-8098-F8FB0E4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81FB0-0C81-4ED0-8D4C-E96BC03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F57E9-2AD0-4D05-9EAC-3DF122FB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17725-2276-455C-96DA-D2EC929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FE9BD-88DF-4318-A7B8-03CC017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F399F-03D4-4A49-B172-EEB369E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67681-E3AE-432C-844D-5A2CC5CC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9405A-A7FB-42FD-9286-5B58FA13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DAD29-280B-491B-8E4D-22B5A842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C10D9-D412-42C6-AAF3-0C244F67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A86-18FC-4969-B7D1-D57592CA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6125D-319B-4840-908C-2D43FCB4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90339-7052-49F8-87D0-E30E8E5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FCB5C-2E69-4F19-8CCD-98CD1A5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C9936-F656-4640-B869-A6A4EDC1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97137-71B3-4778-9795-9E4A6A9D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F08FC-4BB4-47E7-8D94-A87C3187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FDA43-2B9E-4CE1-8634-D70EBB5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778C0-CCAF-41B5-9B49-011E4D2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F9C66-B61A-4AD0-A0A4-5028C721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53958-F248-4E67-876E-1D622DF5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0E5-5F28-4CC9-B0FA-F7C8BF6F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0B71E-1195-4CED-B766-8C88D0C2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D17C5A-C73C-4FFB-8ED9-DAEA2B6A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BFFE2F-928F-489F-9C5A-0748DDFD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ADEDC5-885E-4234-8051-4BD0080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63C4A5-DF62-4AA2-BFB5-06C61770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E8FF7D-339D-4556-9FE9-A551478F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A0DCD1-D53F-4B76-9687-78B92E29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988B13-1E52-4486-A284-DFE70CD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FE8ECA-A22C-40D6-8A58-4CB8973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F56797-A461-4033-84A9-0F8478C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3A49-2D15-45D4-89EF-967F7685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7EB32B-095C-4ADB-8E51-2CCA438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487F35-47D5-48BE-8A6C-35B267F0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57ACD-93F5-4617-B5BB-B7444C99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AA510E-DEB9-4F70-BA61-F7CC33AC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A9A9A7-69D0-4FD9-A281-444B828E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F818DE-8AD5-4DDD-B934-A6F4D51F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80EBEB-182F-4CD5-871B-B63A3565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4B2021-12B2-4BBC-B141-CA34D960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6F191F-DA19-4576-BA3F-9AE722AB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7BF839-2500-4755-B9E0-E5CA383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0734-A482-4F89-9EE8-54228F8B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F3DA2B-3E87-406B-8541-6DFD96B6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16D27F-4A98-4F52-8859-DF6BD100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7AD8D6-E04E-4968-8636-BFEC7F48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9D3936-A577-4B5C-97C0-E68F4184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495836-4850-428C-9E80-C58128FE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C870F0-935E-474C-B9F5-1624E181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4BACD-36D2-4328-A5B9-FC88DF37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5B8402-9E52-433C-906E-E911064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3BB300-7B7F-4026-B5AC-1A6B24A1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88E391-EB3E-4C90-A78A-8D78657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B032-6864-4D24-B6D8-911883D5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AAEFC9-4972-49BE-B9B4-3892E570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9ABA4C-AB3B-49D3-A811-77431182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4788A4-C778-41E8-9C64-729B1AC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BEA649-CF96-4FD0-854C-876EDA43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42841E-768A-4210-8349-9923F511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8840AE-7EDF-4072-8036-9849FCDE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FE9DCA-8C38-4661-95D7-A8ED9960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75A19-1A16-447A-BB88-D065E164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95F8E-524C-43EF-A6C6-A64919E3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1D68A-3B08-4B39-A695-405A3084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AD0D-A485-474E-85B2-F8EA7D63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4E223-E62B-49E9-B2B3-475A21C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07D39-C53A-4000-A160-E519B6C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51E48-AE79-4CDA-9665-F58046AE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B00C2-108B-4DF9-AED1-25291E5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EA012-85DD-4C1C-B19F-E392B82D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0E476-0947-44D1-B1F1-CC685D06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A5EFA-B94A-42AF-8291-2EAE5D73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19E3C-3CCB-485A-90B1-9908AA15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75EDD-4532-404D-8189-0F11750E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0DD1A6-DC5D-4474-8643-F5C525FC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5056-CDDF-4E03-AAF2-039C70A1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DAEE01-9F93-4820-B30E-2D72E81D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812163-23BD-4A10-987E-448566A0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9EDF76-A0A7-4080-B691-B29E447C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BC8FEF-A03F-495F-BB66-EF2CA406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F333F5-594A-472C-B78C-8C3A047B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6CBF5C-5459-40AA-918E-E7C9915B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628F4A-8DD1-47CD-B242-B9DF7220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98728D-A053-4B4F-BA91-AF25DC26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B3564E-82C1-4320-99E8-BF881F6E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38FAA5-525A-4C37-936A-E7083104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7D59-DFCF-405B-9BC6-130F78F6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F6A06B-4AA8-4A96-B6B6-548F131C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8F25B-A6AB-4175-B362-2C3892BC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6AB28-5972-4ACD-B8AB-E52956B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3B613-2D3D-4BF2-935B-C6138DFB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8F4C7-2B9D-4935-8CCA-0DCE8034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228E0-4DA8-46CA-9FC7-CF00C537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4EF6F-18F1-4A10-98BC-1F1D579C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5CDFB-F7D0-474E-A370-A676BFE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DA8EF-246E-40F1-9A6A-080CF5A9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17BBF-2630-42B4-9409-F6D0484D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5BE7-EE6D-4AE6-8CAB-58BD05F6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2578E-4514-4637-8193-A387317E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E3013-47F5-401F-9572-42C9D6A5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41A3E-8BE8-4E07-910C-4E9C4283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8083D-BA47-45C4-84D7-83290161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321B9-DB0A-469B-95A5-5914022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A4938-A778-4123-97D1-7C6E9A2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E61B4-3735-418F-8905-BA896045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5C1C8-2A27-496A-AE5D-35B337BA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F16B6-740B-4485-B3F7-45FE7A82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9E6265-9ACB-4EB5-B400-2B65B924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6B2-6C74-4445-B342-5BE9875B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485D-B52C-454B-AEEC-4E4778E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CC563-6623-4843-A252-CFF0D9D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22C99-E741-478D-AEDD-5A443BA8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5DB85-14A2-45EB-BC00-A4BB844D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C4F85-160D-4AA4-9E47-58C1546A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15D922-E7E1-4279-89D6-7EF3B526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C2516-010B-4647-9AC5-388A2763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2F99E-6E43-49FA-8163-8A025C75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F11DA-9074-4889-8BE9-F4772BE2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2CDDE-7A32-42CE-B4CE-C565C2AD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99052-C3AA-4EDB-A0E4-92BEB1F1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1F1F-36F1-4986-B794-F5120A5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83B87-72E3-487A-8B35-3BF0CAD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15145-F193-4AF9-847A-E448F797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53EBD-383E-498C-B439-1ADAF1D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A1A3C-9A39-4E9D-80AB-758EAA0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AFF6F-073D-4600-9232-6306AD43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55BDB-10A0-416A-ABDB-1C0A07AD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4C0B8-7C34-4DE6-AD58-93B704CD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F71B46-6236-4C50-95B8-53C711BF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B715BB-BB2D-4759-B7BD-F34C1DF0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00A054-3E15-476D-9849-922B0B0E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D268-87ED-4716-9B1F-2E512D1C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ED3877-A5A4-4046-8ACC-463FD125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5B05A8-9D2E-46C2-87DB-644B027C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686B88-B7D6-44CC-A358-59217CAD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7CEEA3-8939-45A3-9007-7E8546D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DB6498-ABA0-4120-A838-DCE1D8E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5977BC-4C3D-449C-A12A-38D2FFF5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F447E9-61D6-4480-B244-3B354329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0AB9C4-CDEB-4BD8-AAC7-A89690CC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E0598D-FADF-4E69-A131-7AB669B5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D2BD22-A6AC-45FB-92C3-782980D2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D24C-AA19-4A16-AF52-06AB5420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D96ACE4-6FA6-46DE-8CA0-6AF2385A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49E0AA6-B4DD-4C12-B2F6-51C8C89C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2BC59A-1B92-4B67-B98E-1533C326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519C3D-9A3E-4931-AFC2-E5493600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9129E5-7097-484F-9C86-F1DDBEC5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44F511-E51F-4661-A8CD-48D9E92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C4C455E-759A-408F-BD30-D75CB6D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08B5B8-E484-48A9-AF0D-F9694F39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2C2D36-D23A-4D5A-9548-B0B48E12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CEAAE1-B631-4B2C-9A57-BF301958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935D-BF9C-4E2C-A772-5187C564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FC5724-3554-4BB6-A5F5-DFDE76AE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BB4885-C7D5-4B79-BEA2-D9CF70C2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C9B36B3-D73A-4D4D-BD34-02F20A24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5060CF-CAEB-4522-B38E-882AC082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4B9EB6-934A-45D8-88A4-92C347B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A612C6-5870-49F4-836D-FD29F43E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014A4A-1121-49D0-9244-1A9A0530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E248D7-997D-456E-9BF2-83AF4F1D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7DE1BA-A941-4C7F-8CB8-589E405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805CB7-1194-49FC-8FF4-C1364758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0DEE-B265-4BD8-84B4-2E8DFE37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3A2086-4C03-45A5-BC0B-3606979E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7AEF70-A5E3-4E9B-BF70-7F3F9BA4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74852A2-9B81-4B93-AE0B-797B5101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2D021-0A4E-495D-8EFD-78B53B8E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4BFEBC-542E-4949-849E-BA9F3987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F669BB-8B1C-4F31-B468-0C52D108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55B9B-4D33-4872-BC2E-7E69F06D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9D49B1-10A4-4AD2-B94C-0D2A408E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F0916B-9102-476D-930B-09153C7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93389B-1502-4710-99C1-F583BFD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4A87-C43F-41A4-87C8-BE449D28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8E7098-A2C9-4340-8705-E6F5EF0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107C0D-A383-4654-ADAD-FA4E3FFB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0E3A1-9DDC-4F18-B31B-8CEB1553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225C40-AFA6-48BC-A958-9C5E1643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4A8912-EFDB-47BA-A4D3-2227228B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462399-69D6-49D1-BD7B-0806D75A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EB00E3-60CE-4D38-AEC3-2E625A52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CEC5234-F5B7-46A0-9D4B-CDEE32A1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0394FAF-3054-44B7-88B7-DAE5B3A0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40252C8-B50E-4502-B471-25CE2626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8950-E71A-4C54-8FA0-1A7D6C99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2318ED-198E-4AFC-BBE3-F4056EE2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101101-F22B-40D1-A027-999D4D3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3F27A3-CAC0-4574-9427-0864683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F71C547-34AD-40C0-A58D-E21A603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638DF92-E1E1-4707-B30A-0101C30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79BA72-4D39-4616-8634-A9D63108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A03065-53F1-4E1D-816C-05D992EA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B4892-159A-448F-949B-C3D37EB0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33DBB-7CB9-4075-9E73-EE746F82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5487F6-A188-44FD-BB68-DF992521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A7DE-88BF-44B7-8FD9-513FCBE9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F6DAF0-23AD-4157-B28A-4B8443D1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6EC66E-8B57-436A-BB0B-F3CA1036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2ED9A-1098-46E9-AF03-FEBDE81D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B6EA7B-8D64-416C-AF12-2301296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B3741D-1D33-4F8F-88EA-82254DB4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76EE2F-F8AC-452D-B25D-A8B8E57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468FD5-47A6-42BC-BA9C-775E7B83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DC47F0-88B4-4056-9A7F-B4675EF8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05AC92-229E-4A5E-B88B-3C1C2112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02029B-3A61-45D4-BBFB-BA8F503B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7292-D499-4CCA-A7F2-CD92C891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C58AA8-7471-4722-BE40-3214C664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136642-0A41-40D7-B811-BD0CB176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B5043F-B2DE-4A5F-A3A5-B32313F6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039D97-F6FE-4487-9961-362A8135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72B300-6961-4860-8062-68557006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A77FA0-A0F7-4C88-AB3A-3C0C699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081054-D528-499E-A367-3D34D49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9307FE-54FD-4FF6-85B0-1850C8C3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DA892D-883A-47AC-8F3C-47A309C2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7D7536-406F-4F83-8D07-7F270A02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2B3-8753-40A0-B4BC-2EB9D91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8A55-9744-4D7D-BCCC-05C75873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75A2AC-CA78-4157-95DA-A84097A0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33BF5F-5D32-4D83-AC04-BFF3BE37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E21E99-3E93-4883-A383-D9A6879E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89E6D0-2276-4B9C-9724-3D24D7EC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2A4BC2-CEBB-4A2A-BDB0-2909A2C7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721976-1E15-455C-B272-5DB399BC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B54329-85DB-4DE9-849E-20E62C86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9DC18F-3DFE-4DD6-9D8B-CC09442C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F92AD2-08E1-4451-B2BB-D7C66DC4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95AA70-ED19-41D4-8740-B4CE6FC1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2298-DDDF-4D8C-9B4A-9A664CB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599A36-D8CB-4C4F-B219-720508BE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6C2C82-2E53-40AB-9771-0F6AD8F6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E22683-5B23-41C6-96C8-B8974B4B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8203E60-C3FF-4876-851D-8A55090A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17D445-EA14-462F-A7A7-A0EDD564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026C355-E433-4DC2-834C-B0D3D6CD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2238E3-ADE3-4BE9-AF44-981BA590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056635D-37AC-4EE1-A455-E6BF923F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F791984-6953-40E3-8827-CDBE95B9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F370F6B-CA8E-4141-9735-B5547C67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7CD0-F60D-4378-9BF5-7E3492F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FC60151-4E54-4CCE-8AFF-4B3A01A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47AEB9C-86A8-43FA-9D4E-E311A68A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C4B52B2-3E73-44C0-9D42-1EE8CF9E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FB45D29-80CA-4689-B067-E5C6D62D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FC0218C-E810-4C90-878C-77A46D11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EBD4AC3-8E46-476B-8A3F-08E01F0A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396700-FBB4-4D30-89AB-FAFE87E8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2C2499-A6E0-4761-908B-06E26B5C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5E5E0FC-7025-4BEB-A6EC-D24587C9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970BCFD-95F5-433C-8D40-9BF1EA8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6F0B-850B-4A01-86C4-950DBBF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0F61EF4-A714-491E-B9F9-E6D4D329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F0C38A0-377A-4CED-8E1F-C6DD508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7C21BE4-8639-4D3A-BB8C-EAE497E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54B9410-1BE8-4D15-B205-1C1017F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9FB571E-FC75-4DA3-8FC6-51D5325C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7D5624F-1F05-43A5-8F11-1B02C411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F649C06-6AA0-47EA-BBA2-B64791C7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550B604-1800-4431-B5AC-45FE7FD2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A59E68-CFEF-428A-8E43-DDEF2214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1FD443E-A72F-4871-AC37-5958D4C6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2E5F-DCC8-4BA0-BA3A-61B1D70C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351832D-7830-4570-9171-6108306D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E7F09B3-7D0A-41B3-99CC-3AA118E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022F9E-E5A7-45EF-8E1A-AAED437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42F3E8-7B65-4EF4-A08E-732ADE42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086BF65-7B31-4B2B-98B0-2BC9BBB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49AC0E-A86A-427E-ADC7-2E8AAF0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1F11C43-E27D-4039-99DC-445C0576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FAB0F76-77D6-4BAE-B479-5F68A9C4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EEAC019-F7CA-4CE1-9EC1-B73C94F7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4707F0-828D-4116-A047-F84EE3D3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25B5-9B06-4024-AB7B-A912E574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02E669-08D7-4049-B291-42CCEBB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071631-F2EF-4C6D-AE9B-E7E12C99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D25C4E-CAC2-490D-8041-C064AF1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5CF3BA-BACC-48B7-9423-093C7BC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22730C-DBF8-4CEE-90D1-C72E2A25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5AB3AF-32CC-4C71-803D-0BCD149B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F4E5B1-D6BE-4CD3-9622-326F736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679AE6-8769-4C8C-9CEE-262CC3A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DD0468-1156-46FB-AB32-A15C5A1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8A4213-CC60-4657-A515-ADED0EF6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4144-9A15-4264-86A0-BE62F876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94BE02-3E6B-4C58-9DB9-1F698D35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8AF7715-5C2D-45E8-8ED9-438DC697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6BB4C28-822A-4DE9-A340-BEE93020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2475B8E-A44F-4EDE-B31A-CB397DD7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9F3658B-5022-43D9-8A96-8F76440E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D8C5F31-E83C-406B-A9A8-30EC8541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29FA371-80C5-477D-AE8B-801B0B72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0925C1-40B3-4A92-9458-ABED84C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F2BE2E0-F103-4F80-B346-582256A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BBCA0A-324B-49AD-9C25-5DA8346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D148-D738-40CD-93C1-06C51050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8DA3F6F-F5D9-4797-89E7-62133034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7D11388-60D0-4800-8598-2D953711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B0B7B2F-5AD5-4302-90BC-464C0768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766DB0-FE3A-4780-B9CA-C24F1DB4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B7D287-9E4A-4B0F-A59F-1510EF0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B721EE-79C6-49F3-8701-61576A02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FCBC40-0B90-4BFF-99F6-AE7F244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3F46BD-488E-4413-96F3-773A315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9FDF80-DD26-449B-AEF1-408160ED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22E0EB-102B-4D3F-BF6D-A48DAEA0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09B7-F38D-4891-B670-3BE73F6E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6B5330-46CF-421A-A42D-5EF3F82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AE4F53-AF48-4459-B8B8-CB188A2B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1D653C-C3ED-4263-B66F-8AF648F9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A59358-6D53-49BE-AC97-0996240F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5853EE-D917-4F74-8D35-FF086164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EFE235-7C5A-41ED-891A-1E15A1A9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24D0A8-E0BC-4F56-8F85-9AF41140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AFE1A6-3F82-40E7-B8D9-7789A432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10819C-41CC-47A2-A758-2DD8CB5E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5BB251-3DAC-44E3-B242-5F7D27AB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9F2D-E731-405D-86EF-45BC0E07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06DE8D-C235-4F89-BB18-69CD20BB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EADDD2-DA09-4EA2-88B7-D1E90DA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F851EA-B3E2-47FA-BDB1-2D28B2EB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F964EB-C90B-475F-AFEB-D9396083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1A3060-1836-48A0-8A99-529B304C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0FEE1C-3685-4C50-98E3-59CE89FC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717352-3AD6-4F23-97F4-47A3C8CA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5F6C32-6CCA-4065-9FC9-D85C1840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D0CDF0-37F2-468E-B178-65302E63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5182B1-CA19-4685-8004-6BA68303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F15-B91A-46AD-B67E-BA69194B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EF24-35FF-43D4-BADE-6A88A047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C5F2A7-219F-42F6-A980-CFC69E0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91739D-4F80-463A-9A2C-43C10F87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0E5335-0E87-4787-A2D6-FF5BCAB6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EECD6D-BF79-4C53-B525-A7B103B5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B8C560-96C6-4F70-9CC0-8CAA07D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F1668E-98AF-460C-8226-4069685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BCB951-FB82-41D1-8D58-E1AD8D25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62F9CC-0793-4215-90DC-C08EE530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69E21A-782F-4833-BE10-8F910D1D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9B58DB4-B434-4109-A89F-FCC2DD37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8DA0-4A8F-4371-A5F4-B2424BCF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04275D1-9F42-4569-B60A-4EDF13A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5C3B0F1-E885-42F3-8113-31AAE425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3D300C8-FF1C-411B-95D0-35E6479D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63BDFA-AC51-4868-B937-9B38C2AF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4B766A1-B9C5-400C-A6C6-B9EFEB78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2200AC3-860D-434A-98E5-D6610E5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0C27124-E50B-4F35-8F16-A6ED4E29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9985DF7-DD4E-4D31-830F-62DAAD6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B832C72-4A7F-4398-9A00-6E0A4FBB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A105AB5-0ECB-41BA-976B-B7476391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BEEB-A5DF-49C3-B3E2-4EF64DBA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C3B6210-81C0-4CB4-B4A7-884114DD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E962DC0-B38E-48EF-8CF3-507405F7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3CF3B53-0CBD-4608-955A-89FC199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3F5FD30-BF60-4BC5-896A-895C2D1F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33EF7DD-142D-47C7-A8B4-98266E88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DB82CF8-2F5F-4849-83F9-23C7DE9B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5CA0C4D-E2B0-4C0D-85FA-4F008731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DB08860-C974-4335-98E9-F068D618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5B46B11-4B50-4EC3-937D-46C2CB8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1CE4E47-DF75-45AA-8C69-D888F36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A0EA-DFDB-4C17-85FA-3329CA7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0F2415A-BD39-4581-B04C-D22A604D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40C34CC-D8C4-4B2C-9446-D491D9BA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05278E5-21E6-4905-8693-63D2D552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8F23-8D68-4A8C-B490-3926064D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1C61-F1EF-4CCA-A519-033232C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C9A8-4FA8-4068-8DAA-9F83CD58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E493-ACE3-433F-9347-EE1DD0D5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94C2-7FF5-4E4F-9655-A23A06C7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4862C-FD1F-4FB2-AA8A-583B470A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5C3-35E9-42C1-88FF-B23A7227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1D166-EF22-4DB1-85EA-46246F2E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90DCA-7718-49E4-9D4E-CB628BAF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FC579-3327-4798-AF66-8EF857A0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36C25-0153-433C-B14F-0941E58E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3D947-A993-44CC-A95C-B8198CA2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095F0-6DEC-4207-97EA-3CA57F7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44EBF-C422-403D-B49F-A55C341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D7C16-53B9-4BE5-95BE-9388BB2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133C7-CAA2-42A2-8D73-5D37D8BC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1767E-7C7E-4BE4-83FA-60191D02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BEF-D489-42DC-BFED-D4C82BFC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EECCA-C451-41DC-A10D-410BB2A5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9758-8582-4F1F-8899-55CE386A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612AC-2AE2-4B91-998D-1D8B5BDA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C754F-FFFE-4B55-AC17-C26C0861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20866-D906-43A5-9A57-D33BA3D6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B0DF5-0EBB-4928-B0FA-240A005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5D6C-5102-4E8A-B88F-E0CEC2BE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8B1F-5674-4D29-AC15-211FC04E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7C793-5870-42CF-AEFF-F63A76F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38C6-19AC-473F-BDB1-BE9352F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D76-2E3F-4389-8D23-B628DB4F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A27CE-05B2-435B-A159-18338172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E3506-BA33-4BFB-AE3D-93397475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24EC-C1C6-4ECE-805B-A9AFE7AD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5686F-848D-4A1C-84B6-05417348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4CB44-0C37-4C7C-A860-0657408A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2B67F-710A-4D0B-AC18-3EEFE60A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EB3C0-3E1F-4C70-9139-C4678B62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6450A-0E59-469C-8746-1E83A3AF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7042D-57D0-4036-9E59-BBF48063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4F87A-5B03-49DF-BC44-B135F2E9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A9B-329A-485A-B6C4-1CD92BE8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AFF28-73F7-4C8E-B52A-2462866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574A7-A9BC-4D95-B2E1-A8788C0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3339A-79A3-45D4-B239-590818D3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3967E-91DC-4430-899D-0513CEEC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D086F-56D5-4C69-B9C8-BD3CF13F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03CA-0838-428D-ACE1-9EC9C4C6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2982D-A6C1-4FEE-A98B-AA8EEF9D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D6D10-BE3E-49ED-BB8D-C62E026C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4E41-219F-43CB-AB0A-26486273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37276-01EF-4989-B4B3-3FF7995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4BB-F8BD-490F-8F7A-8C04EA9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F6098-A091-43F1-B838-7B04EFE4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0AC46-682C-498E-83C6-B443915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1FF21-0982-461F-9FDA-2340A4CB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B905-A26F-4E8F-85E9-A3D1664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13704-A215-4DA7-BD9F-95E2488F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F5A1A-9698-4791-A70F-2C991740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D62D7-1418-450A-BEE0-7D2DC1BC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89868-5917-4BA0-9E04-9C93E6D8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ED9BF-FD07-46A3-9249-9A0B11D3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04C49-C422-4022-B0F2-686AABC9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068C-663B-4F90-8451-03FF622582FA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25E8-CA3A-498E-A8FB-77CDF1C67B2F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3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EFC5-7240-4513-8A03-EAFAFF04074C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3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F602-B1FF-4EA1-B15B-59CF67BD4B60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5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CB0A-8EA6-4C34-9509-A0A9FEF0A88E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DCE0-D8A2-4E20-8010-C3592FBD6462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4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714D-932B-4E33-8BCF-65AFF069D40C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3033-6A6C-4DE7-AF75-AB7B95110111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70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5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5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BF4E-7D8D-4D5E-AC7A-EEE8FCD0F1F5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74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6A0C-2039-4C84-B30B-FD4D5E279E35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2CC5-E147-4EF4-B3B1-E1D0EE341939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37C0-FA8E-421A-93E4-4B52E1CB899A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5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F7C4-1500-4E72-822B-4C5D244034E4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6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87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6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6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9830-2B16-4C83-A9E6-71C53D51F7F6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ftr" idx="6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80C-0203-4038-B5CC-7D2730E0917C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6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3638-5B11-4A07-9777-DEF1EE68F97B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ftr" idx="6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7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7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7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3318-14CD-4F6B-8738-A12DDED00D4D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5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7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7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7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8E8D-A4D1-441C-98C2-FACD5781FAD3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9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896A-2A04-47C5-B640-F7393B3E3048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sldNum" idx="8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20A-C410-413B-A390-978648CA0A24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ftr" idx="8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8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sldNum" idx="8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365F-9C87-4C6C-BB2B-2FC7B8D03247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ftr" idx="8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8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sldNum" idx="8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C4FE-4FEE-4E81-96D5-4D8C8BD40016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ftr" idx="8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B30B-C1DC-4849-A0ED-7B88209A24A1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8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8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9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9618-CFE2-401F-9AD3-11730875D0BA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sldNum" idx="9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357A-C1A2-4155-A5BC-E3E2036118FA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ftr" idx="9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9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9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9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2837-B30D-4E4C-B71E-3AE097CF2F92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40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9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9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9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903B-D45D-4F32-8725-4927802426FD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44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 type="dt" idx="10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 type="ftr" idx="10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 type="sldNum" idx="10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3202-BA88-4783-A27B-0B5B2557E739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10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sldNum" idx="10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F4F-1E62-4DF6-89B1-CDA1B61B7A34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ftr" idx="10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sldNum" idx="10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7ADC-1867-4548-8DF2-0C2A5823DC90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ftr" idx="10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8508-763B-4684-939B-25109DBFE086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7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87FF-93D9-44FD-9BBF-BB85E90CDA62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57A6-F97F-4AD0-A8C4-8650223A186A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0CEC-0507-406F-9E89-247F221E33A1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7172-3DE5-4CA4-91F8-6AEBF783E759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5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DFAC-280E-4E0E-BCA1-50A47A0278E2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3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6" name="Заголовок 1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242560" cy="1738440"/>
          </a:xfrm>
          <a:prstGeom prst="rect">
            <a:avLst/>
          </a:prstGeom>
          <a:ln w="0">
            <a:noFill/>
          </a:ln>
        </p:spPr>
      </p:pic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179280" y="2819520"/>
            <a:ext cx="8514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Урок – подорож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«Сходинками до вершини гори Знань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78" name="Picture 6" descr=""/>
          <p:cNvPicPr/>
          <p:nvPr/>
        </p:nvPicPr>
        <p:blipFill>
          <a:blip r:embed="rId2"/>
          <a:srcRect l="0" t="0" r="0" b="-156"/>
          <a:stretch/>
        </p:blipFill>
        <p:spPr>
          <a:xfrm>
            <a:off x="250920" y="3871800"/>
            <a:ext cx="8713800" cy="2766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76a55"/>
            </a:outerShdw>
          </a:effectLst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Полилиния 36"/>
          <p:cNvSpPr/>
          <p:nvPr/>
        </p:nvSpPr>
        <p:spPr>
          <a:xfrm rot="21120600">
            <a:off x="5940360" y="156960"/>
            <a:ext cx="2035080" cy="2035080"/>
          </a:xfrm>
          <a:custGeom>
            <a:avLst/>
            <a:gdLst/>
            <a:ahLst/>
            <a:rect l="l" t="t" r="r" b="b"/>
            <a:pathLst>
              <a:path w="3771900" h="3771900">
                <a:moveTo>
                  <a:pt x="2677311" y="601386"/>
                </a:moveTo>
                <a:lnTo>
                  <a:pt x="2970705" y="355186"/>
                </a:lnTo>
                <a:lnTo>
                  <a:pt x="3205092" y="551861"/>
                </a:lnTo>
                <a:lnTo>
                  <a:pt x="3013580" y="883550"/>
                </a:lnTo>
                <a:cubicBezTo>
                  <a:pt x="3149756" y="1036739"/>
                  <a:pt x="3253292" y="1216068"/>
                  <a:pt x="3317869" y="1410594"/>
                </a:cubicBezTo>
                <a:lnTo>
                  <a:pt x="3700876" y="1410584"/>
                </a:lnTo>
                <a:lnTo>
                  <a:pt x="3754008" y="1711907"/>
                </a:lnTo>
                <a:lnTo>
                  <a:pt x="3394096" y="1842894"/>
                </a:lnTo>
                <a:cubicBezTo>
                  <a:pt x="3399945" y="2047776"/>
                  <a:pt x="3363988" y="2251701"/>
                  <a:pt x="3288418" y="2442226"/>
                </a:cubicBezTo>
                <a:lnTo>
                  <a:pt x="3581824" y="2688410"/>
                </a:lnTo>
                <a:lnTo>
                  <a:pt x="3428838" y="2953390"/>
                </a:lnTo>
                <a:lnTo>
                  <a:pt x="3068933" y="2822384"/>
                </a:lnTo>
                <a:cubicBezTo>
                  <a:pt x="2941718" y="2983092"/>
                  <a:pt x="2783093" y="3116195"/>
                  <a:pt x="2602735" y="3213571"/>
                </a:cubicBezTo>
                <a:lnTo>
                  <a:pt x="2669253" y="3590757"/>
                </a:lnTo>
                <a:lnTo>
                  <a:pt x="2381734" y="3695406"/>
                </a:lnTo>
                <a:lnTo>
                  <a:pt x="2190239" y="3363707"/>
                </a:lnTo>
                <a:cubicBezTo>
                  <a:pt x="1989486" y="3405045"/>
                  <a:pt x="1782414" y="3405045"/>
                  <a:pt x="1581661" y="3363707"/>
                </a:cubicBezTo>
                <a:lnTo>
                  <a:pt x="1390166" y="3695406"/>
                </a:lnTo>
                <a:lnTo>
                  <a:pt x="1102647" y="3590757"/>
                </a:lnTo>
                <a:lnTo>
                  <a:pt x="1169165" y="3213571"/>
                </a:lnTo>
                <a:cubicBezTo>
                  <a:pt x="988808" y="3116196"/>
                  <a:pt x="830182" y="2983093"/>
                  <a:pt x="702967" y="2822385"/>
                </a:cubicBezTo>
                <a:lnTo>
                  <a:pt x="343062" y="2953390"/>
                </a:lnTo>
                <a:lnTo>
                  <a:pt x="190076" y="2688410"/>
                </a:lnTo>
                <a:lnTo>
                  <a:pt x="483483" y="2442226"/>
                </a:lnTo>
                <a:cubicBezTo>
                  <a:pt x="407913" y="2251701"/>
                  <a:pt x="371955" y="2047775"/>
                  <a:pt x="377804" y="1842894"/>
                </a:cubicBezTo>
                <a:lnTo>
                  <a:pt x="17892" y="1711907"/>
                </a:lnTo>
                <a:lnTo>
                  <a:pt x="71024" y="1410584"/>
                </a:lnTo>
                <a:lnTo>
                  <a:pt x="454031" y="1410594"/>
                </a:lnTo>
                <a:cubicBezTo>
                  <a:pt x="518608" y="1216068"/>
                  <a:pt x="622144" y="1036739"/>
                  <a:pt x="758320" y="883550"/>
                </a:cubicBezTo>
                <a:lnTo>
                  <a:pt x="566808" y="551861"/>
                </a:lnTo>
                <a:lnTo>
                  <a:pt x="801195" y="355186"/>
                </a:lnTo>
                <a:lnTo>
                  <a:pt x="1094589" y="601386"/>
                </a:lnTo>
                <a:cubicBezTo>
                  <a:pt x="1269097" y="493880"/>
                  <a:pt x="1463680" y="423057"/>
                  <a:pt x="1666465" y="393240"/>
                </a:cubicBezTo>
                <a:lnTo>
                  <a:pt x="1732964" y="16050"/>
                </a:lnTo>
                <a:lnTo>
                  <a:pt x="2038936" y="16050"/>
                </a:lnTo>
                <a:lnTo>
                  <a:pt x="2105434" y="393240"/>
                </a:lnTo>
                <a:cubicBezTo>
                  <a:pt x="2308219" y="423057"/>
                  <a:pt x="2502802" y="493879"/>
                  <a:pt x="2677310" y="601386"/>
                </a:cubicBezTo>
                <a:lnTo>
                  <a:pt x="2677311" y="601386"/>
                </a:lnTo>
                <a:close/>
              </a:path>
            </a:pathLst>
          </a:custGeom>
          <a:solidFill>
            <a:srgbClr val="ffc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824040" tIns="949320" bIns="101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6" name="TextBox 37" descr=""/>
          <p:cNvPicPr/>
          <p:nvPr/>
        </p:nvPicPr>
        <p:blipFill>
          <a:blip r:embed="rId1"/>
          <a:stretch/>
        </p:blipFill>
        <p:spPr>
          <a:xfrm>
            <a:off x="6297480" y="878040"/>
            <a:ext cx="1554120" cy="536400"/>
          </a:xfrm>
          <a:prstGeom prst="rect">
            <a:avLst/>
          </a:prstGeom>
          <a:ln w="0">
            <a:noFill/>
          </a:ln>
        </p:spPr>
      </p:pic>
      <p:pic>
        <p:nvPicPr>
          <p:cNvPr id="1747" name="TextBox 41" descr=""/>
          <p:cNvPicPr/>
          <p:nvPr/>
        </p:nvPicPr>
        <p:blipFill>
          <a:blip r:embed="rId2"/>
          <a:stretch/>
        </p:blipFill>
        <p:spPr>
          <a:xfrm>
            <a:off x="6620040" y="401760"/>
            <a:ext cx="750600" cy="671400"/>
          </a:xfrm>
          <a:prstGeom prst="rect">
            <a:avLst/>
          </a:prstGeom>
          <a:ln w="0">
            <a:noFill/>
          </a:ln>
        </p:spPr>
      </p:pic>
      <p:sp>
        <p:nvSpPr>
          <p:cNvPr id="1748" name="Полилиния 23"/>
          <p:cNvSpPr/>
          <p:nvPr/>
        </p:nvSpPr>
        <p:spPr>
          <a:xfrm rot="2035200">
            <a:off x="2641320" y="2390400"/>
            <a:ext cx="2319120" cy="2320920"/>
          </a:xfrm>
          <a:custGeom>
            <a:avLst/>
            <a:gdLst/>
            <a:ahLst/>
            <a:rect l="l" t="t" r="r" b="b"/>
            <a:pathLst>
              <a:path w="2743200" h="2743200">
                <a:moveTo>
                  <a:pt x="2052591" y="694783"/>
                </a:moveTo>
                <a:lnTo>
                  <a:pt x="2457306" y="572809"/>
                </a:lnTo>
                <a:lnTo>
                  <a:pt x="2606226" y="830746"/>
                </a:lnTo>
                <a:lnTo>
                  <a:pt x="2298236" y="1120253"/>
                </a:lnTo>
                <a:cubicBezTo>
                  <a:pt x="2342881" y="1284844"/>
                  <a:pt x="2342881" y="1458356"/>
                  <a:pt x="2298236" y="1622947"/>
                </a:cubicBezTo>
                <a:lnTo>
                  <a:pt x="2606226" y="1912454"/>
                </a:lnTo>
                <a:lnTo>
                  <a:pt x="2457306" y="2170391"/>
                </a:lnTo>
                <a:lnTo>
                  <a:pt x="2052591" y="2048417"/>
                </a:lnTo>
                <a:cubicBezTo>
                  <a:pt x="1932373" y="2169376"/>
                  <a:pt x="1782107" y="2256132"/>
                  <a:pt x="1617245" y="2299764"/>
                </a:cubicBezTo>
                <a:lnTo>
                  <a:pt x="1520520" y="2711244"/>
                </a:lnTo>
                <a:lnTo>
                  <a:pt x="1222680" y="2711244"/>
                </a:lnTo>
                <a:lnTo>
                  <a:pt x="1125955" y="2299764"/>
                </a:lnTo>
                <a:cubicBezTo>
                  <a:pt x="961093" y="2256132"/>
                  <a:pt x="810827" y="2169376"/>
                  <a:pt x="690609" y="2048417"/>
                </a:cubicBezTo>
                <a:lnTo>
                  <a:pt x="285894" y="2170391"/>
                </a:lnTo>
                <a:lnTo>
                  <a:pt x="136974" y="1912454"/>
                </a:lnTo>
                <a:lnTo>
                  <a:pt x="444964" y="1622947"/>
                </a:lnTo>
                <a:cubicBezTo>
                  <a:pt x="400319" y="1458356"/>
                  <a:pt x="400319" y="1284844"/>
                  <a:pt x="444964" y="1120253"/>
                </a:cubicBezTo>
                <a:lnTo>
                  <a:pt x="136974" y="830746"/>
                </a:lnTo>
                <a:lnTo>
                  <a:pt x="285894" y="572809"/>
                </a:lnTo>
                <a:lnTo>
                  <a:pt x="690609" y="694783"/>
                </a:lnTo>
                <a:cubicBezTo>
                  <a:pt x="810827" y="573824"/>
                  <a:pt x="961093" y="487068"/>
                  <a:pt x="1125955" y="443436"/>
                </a:cubicBezTo>
                <a:lnTo>
                  <a:pt x="1222680" y="31956"/>
                </a:lnTo>
                <a:lnTo>
                  <a:pt x="1520520" y="31956"/>
                </a:lnTo>
                <a:lnTo>
                  <a:pt x="1617245" y="443436"/>
                </a:lnTo>
                <a:cubicBezTo>
                  <a:pt x="1782107" y="487068"/>
                  <a:pt x="1932373" y="573824"/>
                  <a:pt x="2052591" y="694783"/>
                </a:cubicBezTo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9720" rIns="729720" tIns="734040" bIns="73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TextBox 42"/>
          <p:cNvSpPr/>
          <p:nvPr/>
        </p:nvSpPr>
        <p:spPr>
          <a:xfrm>
            <a:off x="3098880" y="3165480"/>
            <a:ext cx="149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Cambria Math"/>
              </a:rPr>
              <a:t>Не має розв'язк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0" name="TextBox 35" descr=""/>
          <p:cNvPicPr/>
          <p:nvPr/>
        </p:nvPicPr>
        <p:blipFill>
          <a:blip r:embed="rId3"/>
          <a:stretch/>
        </p:blipFill>
        <p:spPr>
          <a:xfrm>
            <a:off x="3425760" y="2627280"/>
            <a:ext cx="738360" cy="676440"/>
          </a:xfrm>
          <a:prstGeom prst="rect">
            <a:avLst/>
          </a:prstGeom>
          <a:ln w="0">
            <a:noFill/>
          </a:ln>
        </p:spPr>
      </p:pic>
      <p:sp>
        <p:nvSpPr>
          <p:cNvPr id="1751" name="Круговая стрелка 44"/>
          <p:cNvSpPr/>
          <p:nvPr/>
        </p:nvSpPr>
        <p:spPr>
          <a:xfrm rot="7472400">
            <a:off x="2418480" y="2628360"/>
            <a:ext cx="3303720" cy="2513160"/>
          </a:xfrm>
          <a:custGeom>
            <a:avLst/>
            <a:gdLst/>
            <a:ahLst/>
            <a:rect l="l" t="t" r="r" b="b"/>
            <a:pathLst>
              <a:path w="3303587" h="2513012">
                <a:moveTo>
                  <a:pt x="104509" y="1170831"/>
                </a:moveTo>
                <a:cubicBezTo>
                  <a:pt x="135925" y="855731"/>
                  <a:pt x="339005" y="563939"/>
                  <a:pt x="666535" y="363294"/>
                </a:cubicBezTo>
                <a:lnTo>
                  <a:pt x="598871" y="290452"/>
                </a:lnTo>
                <a:lnTo>
                  <a:pt x="821463" y="362617"/>
                </a:lnTo>
                <a:lnTo>
                  <a:pt x="837664" y="547523"/>
                </a:lnTo>
                <a:lnTo>
                  <a:pt x="770068" y="474753"/>
                </a:lnTo>
                <a:cubicBezTo>
                  <a:pt x="470753" y="648735"/>
                  <a:pt x="284389" y="903491"/>
                  <a:pt x="254772" y="1179152"/>
                </a:cubicBezTo>
                <a:lnTo>
                  <a:pt x="104509" y="1170831"/>
                </a:lnTo>
                <a:close/>
              </a:path>
            </a:pathLst>
          </a:custGeom>
          <a:solidFill>
            <a:srgbClr val="73737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Полилиния 24"/>
          <p:cNvSpPr/>
          <p:nvPr/>
        </p:nvSpPr>
        <p:spPr>
          <a:xfrm rot="20230800">
            <a:off x="3838320" y="3521160"/>
            <a:ext cx="2801880" cy="2801880"/>
          </a:xfrm>
          <a:custGeom>
            <a:avLst/>
            <a:gdLst/>
            <a:ahLst/>
            <a:rect l="l" t="t" r="r" b="b"/>
            <a:pathLst>
              <a:path w="2687776" h="2687776">
                <a:moveTo>
                  <a:pt x="1729979" y="679881"/>
                </a:moveTo>
                <a:lnTo>
                  <a:pt x="2017463" y="501829"/>
                </a:lnTo>
                <a:lnTo>
                  <a:pt x="2185947" y="670313"/>
                </a:lnTo>
                <a:lnTo>
                  <a:pt x="2007895" y="957797"/>
                </a:lnTo>
                <a:cubicBezTo>
                  <a:pt x="2076474" y="1075739"/>
                  <a:pt x="2112400" y="1209819"/>
                  <a:pt x="2111981" y="1346249"/>
                </a:cubicBezTo>
                <a:lnTo>
                  <a:pt x="2409920" y="1506192"/>
                </a:lnTo>
                <a:lnTo>
                  <a:pt x="2348251" y="1736345"/>
                </a:lnTo>
                <a:lnTo>
                  <a:pt x="2010256" y="1725890"/>
                </a:lnTo>
                <a:cubicBezTo>
                  <a:pt x="1942404" y="1844251"/>
                  <a:pt x="1844250" y="1942404"/>
                  <a:pt x="1725889" y="2010257"/>
                </a:cubicBezTo>
                <a:lnTo>
                  <a:pt x="1736345" y="2348251"/>
                </a:lnTo>
                <a:lnTo>
                  <a:pt x="1506192" y="2409920"/>
                </a:lnTo>
                <a:lnTo>
                  <a:pt x="1346249" y="2111980"/>
                </a:lnTo>
                <a:cubicBezTo>
                  <a:pt x="1209819" y="2112400"/>
                  <a:pt x="1075739" y="2076473"/>
                  <a:pt x="957797" y="2007894"/>
                </a:cubicBezTo>
                <a:lnTo>
                  <a:pt x="670313" y="2185947"/>
                </a:lnTo>
                <a:lnTo>
                  <a:pt x="501829" y="2017463"/>
                </a:lnTo>
                <a:lnTo>
                  <a:pt x="679881" y="1729979"/>
                </a:lnTo>
                <a:cubicBezTo>
                  <a:pt x="611302" y="1612037"/>
                  <a:pt x="575376" y="1477957"/>
                  <a:pt x="575795" y="1341527"/>
                </a:cubicBezTo>
                <a:lnTo>
                  <a:pt x="277856" y="1181584"/>
                </a:lnTo>
                <a:lnTo>
                  <a:pt x="339525" y="951431"/>
                </a:lnTo>
                <a:lnTo>
                  <a:pt x="677520" y="961886"/>
                </a:lnTo>
                <a:cubicBezTo>
                  <a:pt x="745372" y="843525"/>
                  <a:pt x="843526" y="745372"/>
                  <a:pt x="961887" y="677519"/>
                </a:cubicBezTo>
                <a:lnTo>
                  <a:pt x="951431" y="339525"/>
                </a:lnTo>
                <a:lnTo>
                  <a:pt x="1181584" y="277856"/>
                </a:lnTo>
                <a:lnTo>
                  <a:pt x="1341527" y="575796"/>
                </a:lnTo>
                <a:cubicBezTo>
                  <a:pt x="1477957" y="575376"/>
                  <a:pt x="1612037" y="611303"/>
                  <a:pt x="1729979" y="679882"/>
                </a:cubicBezTo>
                <a:lnTo>
                  <a:pt x="1729979" y="679881"/>
                </a:lnTo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5640" rIns="935640" tIns="935640" bIns="9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Круговая стрелка 27"/>
          <p:cNvSpPr/>
          <p:nvPr/>
        </p:nvSpPr>
        <p:spPr>
          <a:xfrm rot="11350800">
            <a:off x="3279240" y="217080"/>
            <a:ext cx="3783240" cy="3783240"/>
          </a:xfrm>
          <a:custGeom>
            <a:avLst/>
            <a:gdLst/>
            <a:ahLst/>
            <a:rect l="l" t="t" r="r" b="b"/>
            <a:pathLst>
              <a:path w="3783013" h="3783012">
                <a:moveTo>
                  <a:pt x="255360" y="1297602"/>
                </a:moveTo>
                <a:cubicBezTo>
                  <a:pt x="332918" y="1083936"/>
                  <a:pt x="451576" y="887531"/>
                  <a:pt x="604633" y="719477"/>
                </a:cubicBezTo>
                <a:lnTo>
                  <a:pt x="505037" y="607039"/>
                </a:lnTo>
                <a:lnTo>
                  <a:pt x="812422" y="673289"/>
                </a:lnTo>
                <a:lnTo>
                  <a:pt x="855258" y="1002417"/>
                </a:lnTo>
                <a:lnTo>
                  <a:pt x="755732" y="890058"/>
                </a:lnTo>
                <a:cubicBezTo>
                  <a:pt x="630375" y="1032230"/>
                  <a:pt x="532824" y="1196673"/>
                  <a:pt x="468150" y="1374843"/>
                </a:cubicBezTo>
                <a:lnTo>
                  <a:pt x="255360" y="1297602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Полилиния 28"/>
          <p:cNvSpPr/>
          <p:nvPr/>
        </p:nvSpPr>
        <p:spPr>
          <a:xfrm rot="184200">
            <a:off x="6021360" y="4330800"/>
            <a:ext cx="2197080" cy="2198520"/>
          </a:xfrm>
          <a:custGeom>
            <a:avLst/>
            <a:gdLst/>
            <a:ahLst/>
            <a:rect l="l" t="t" r="r" b="b"/>
            <a:pathLst>
              <a:path w="3771900" h="3771900">
                <a:moveTo>
                  <a:pt x="2677311" y="601386"/>
                </a:moveTo>
                <a:lnTo>
                  <a:pt x="2970705" y="355186"/>
                </a:lnTo>
                <a:lnTo>
                  <a:pt x="3205092" y="551861"/>
                </a:lnTo>
                <a:lnTo>
                  <a:pt x="3013580" y="883550"/>
                </a:lnTo>
                <a:cubicBezTo>
                  <a:pt x="3149756" y="1036739"/>
                  <a:pt x="3253292" y="1216068"/>
                  <a:pt x="3317869" y="1410594"/>
                </a:cubicBezTo>
                <a:lnTo>
                  <a:pt x="3700876" y="1410584"/>
                </a:lnTo>
                <a:lnTo>
                  <a:pt x="3754008" y="1711907"/>
                </a:lnTo>
                <a:lnTo>
                  <a:pt x="3394096" y="1842894"/>
                </a:lnTo>
                <a:cubicBezTo>
                  <a:pt x="3399945" y="2047776"/>
                  <a:pt x="3363988" y="2251701"/>
                  <a:pt x="3288418" y="2442226"/>
                </a:cubicBezTo>
                <a:lnTo>
                  <a:pt x="3581824" y="2688410"/>
                </a:lnTo>
                <a:lnTo>
                  <a:pt x="3428838" y="2953390"/>
                </a:lnTo>
                <a:lnTo>
                  <a:pt x="3068933" y="2822384"/>
                </a:lnTo>
                <a:cubicBezTo>
                  <a:pt x="2941718" y="2983092"/>
                  <a:pt x="2783093" y="3116195"/>
                  <a:pt x="2602735" y="3213571"/>
                </a:cubicBezTo>
                <a:lnTo>
                  <a:pt x="2669253" y="3590757"/>
                </a:lnTo>
                <a:lnTo>
                  <a:pt x="2381734" y="3695406"/>
                </a:lnTo>
                <a:lnTo>
                  <a:pt x="2190239" y="3363707"/>
                </a:lnTo>
                <a:cubicBezTo>
                  <a:pt x="1989486" y="3405045"/>
                  <a:pt x="1782414" y="3405045"/>
                  <a:pt x="1581661" y="3363707"/>
                </a:cubicBezTo>
                <a:lnTo>
                  <a:pt x="1390166" y="3695406"/>
                </a:lnTo>
                <a:lnTo>
                  <a:pt x="1102647" y="3590757"/>
                </a:lnTo>
                <a:lnTo>
                  <a:pt x="1169165" y="3213571"/>
                </a:lnTo>
                <a:cubicBezTo>
                  <a:pt x="988808" y="3116196"/>
                  <a:pt x="830182" y="2983093"/>
                  <a:pt x="702967" y="2822385"/>
                </a:cubicBezTo>
                <a:lnTo>
                  <a:pt x="343062" y="2953390"/>
                </a:lnTo>
                <a:lnTo>
                  <a:pt x="190076" y="2688410"/>
                </a:lnTo>
                <a:lnTo>
                  <a:pt x="483483" y="2442226"/>
                </a:lnTo>
                <a:cubicBezTo>
                  <a:pt x="407913" y="2251701"/>
                  <a:pt x="371955" y="2047775"/>
                  <a:pt x="377804" y="1842894"/>
                </a:cubicBezTo>
                <a:lnTo>
                  <a:pt x="17892" y="1711907"/>
                </a:lnTo>
                <a:lnTo>
                  <a:pt x="71024" y="1410584"/>
                </a:lnTo>
                <a:lnTo>
                  <a:pt x="454031" y="1410594"/>
                </a:lnTo>
                <a:cubicBezTo>
                  <a:pt x="518608" y="1216068"/>
                  <a:pt x="622144" y="1036739"/>
                  <a:pt x="758320" y="883550"/>
                </a:cubicBezTo>
                <a:lnTo>
                  <a:pt x="566808" y="551861"/>
                </a:lnTo>
                <a:lnTo>
                  <a:pt x="801195" y="355186"/>
                </a:lnTo>
                <a:lnTo>
                  <a:pt x="1094589" y="601386"/>
                </a:lnTo>
                <a:cubicBezTo>
                  <a:pt x="1269097" y="493880"/>
                  <a:pt x="1463680" y="423057"/>
                  <a:pt x="1666465" y="393240"/>
                </a:cubicBezTo>
                <a:lnTo>
                  <a:pt x="1732964" y="16050"/>
                </a:lnTo>
                <a:lnTo>
                  <a:pt x="2038936" y="16050"/>
                </a:lnTo>
                <a:lnTo>
                  <a:pt x="2105434" y="393240"/>
                </a:lnTo>
                <a:cubicBezTo>
                  <a:pt x="2308219" y="423057"/>
                  <a:pt x="2502802" y="493879"/>
                  <a:pt x="2677310" y="601386"/>
                </a:cubicBezTo>
                <a:lnTo>
                  <a:pt x="2677311" y="601386"/>
                </a:lnTo>
                <a:close/>
              </a:path>
            </a:pathLst>
          </a:custGeom>
          <a:solidFill>
            <a:srgbClr val="73737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4040" rIns="824040" tIns="949320" bIns="101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5" name="Скругленный прямоугольник 31" descr=""/>
          <p:cNvPicPr/>
          <p:nvPr/>
        </p:nvPicPr>
        <p:blipFill>
          <a:blip r:embed="rId4"/>
          <a:stretch/>
        </p:blipFill>
        <p:spPr>
          <a:xfrm>
            <a:off x="2176560" y="4638600"/>
            <a:ext cx="2376360" cy="824040"/>
          </a:xfrm>
          <a:prstGeom prst="rect">
            <a:avLst/>
          </a:prstGeom>
          <a:ln w="0">
            <a:noFill/>
          </a:ln>
        </p:spPr>
      </p:pic>
      <p:pic>
        <p:nvPicPr>
          <p:cNvPr id="1756" name="Скругленный прямоугольник 32" descr=""/>
          <p:cNvPicPr/>
          <p:nvPr/>
        </p:nvPicPr>
        <p:blipFill>
          <a:blip r:embed="rId5"/>
          <a:stretch/>
        </p:blipFill>
        <p:spPr>
          <a:xfrm>
            <a:off x="841320" y="3078000"/>
            <a:ext cx="2371680" cy="817560"/>
          </a:xfrm>
          <a:prstGeom prst="rect">
            <a:avLst/>
          </a:prstGeom>
          <a:ln w="0">
            <a:noFill/>
          </a:ln>
        </p:spPr>
      </p:pic>
      <p:pic>
        <p:nvPicPr>
          <p:cNvPr id="1757" name="Скругленный прямоугольник 33" descr=""/>
          <p:cNvPicPr/>
          <p:nvPr/>
        </p:nvPicPr>
        <p:blipFill>
          <a:blip r:embed="rId6"/>
          <a:stretch/>
        </p:blipFill>
        <p:spPr>
          <a:xfrm>
            <a:off x="4133880" y="5694480"/>
            <a:ext cx="2370240" cy="961920"/>
          </a:xfrm>
          <a:prstGeom prst="rect">
            <a:avLst/>
          </a:prstGeom>
          <a:ln w="0">
            <a:noFill/>
          </a:ln>
        </p:spPr>
      </p:pic>
      <p:pic>
        <p:nvPicPr>
          <p:cNvPr id="1758" name="TextBox 39" descr=""/>
          <p:cNvPicPr/>
          <p:nvPr/>
        </p:nvPicPr>
        <p:blipFill>
          <a:blip r:embed="rId7"/>
          <a:stretch/>
        </p:blipFill>
        <p:spPr>
          <a:xfrm>
            <a:off x="4591080" y="4578480"/>
            <a:ext cx="1297080" cy="590400"/>
          </a:xfrm>
          <a:prstGeom prst="rect">
            <a:avLst/>
          </a:prstGeom>
          <a:ln w="0">
            <a:noFill/>
          </a:ln>
        </p:spPr>
      </p:pic>
      <p:pic>
        <p:nvPicPr>
          <p:cNvPr id="1759" name="TextBox 40" descr=""/>
          <p:cNvPicPr/>
          <p:nvPr/>
        </p:nvPicPr>
        <p:blipFill>
          <a:blip r:embed="rId8"/>
          <a:stretch/>
        </p:blipFill>
        <p:spPr>
          <a:xfrm>
            <a:off x="6486480" y="5048280"/>
            <a:ext cx="1305000" cy="596880"/>
          </a:xfrm>
          <a:prstGeom prst="rect">
            <a:avLst/>
          </a:prstGeom>
          <a:ln w="0">
            <a:noFill/>
          </a:ln>
        </p:spPr>
      </p:pic>
      <p:sp>
        <p:nvSpPr>
          <p:cNvPr id="1760" name="Полилиния 29"/>
          <p:cNvSpPr/>
          <p:nvPr/>
        </p:nvSpPr>
        <p:spPr>
          <a:xfrm rot="21015600">
            <a:off x="3860280" y="830160"/>
            <a:ext cx="2916360" cy="2916360"/>
          </a:xfrm>
          <a:custGeom>
            <a:avLst/>
            <a:gdLst/>
            <a:ahLst/>
            <a:rect l="l" t="t" r="r" b="b"/>
            <a:pathLst>
              <a:path w="2687776" h="2687776">
                <a:moveTo>
                  <a:pt x="1729979" y="679881"/>
                </a:moveTo>
                <a:lnTo>
                  <a:pt x="2017463" y="501829"/>
                </a:lnTo>
                <a:lnTo>
                  <a:pt x="2185947" y="670313"/>
                </a:lnTo>
                <a:lnTo>
                  <a:pt x="2007895" y="957797"/>
                </a:lnTo>
                <a:cubicBezTo>
                  <a:pt x="2076474" y="1075739"/>
                  <a:pt x="2112400" y="1209819"/>
                  <a:pt x="2111981" y="1346249"/>
                </a:cubicBezTo>
                <a:lnTo>
                  <a:pt x="2409920" y="1506192"/>
                </a:lnTo>
                <a:lnTo>
                  <a:pt x="2348251" y="1736345"/>
                </a:lnTo>
                <a:lnTo>
                  <a:pt x="2010256" y="1725890"/>
                </a:lnTo>
                <a:cubicBezTo>
                  <a:pt x="1942404" y="1844251"/>
                  <a:pt x="1844250" y="1942404"/>
                  <a:pt x="1725889" y="2010257"/>
                </a:cubicBezTo>
                <a:lnTo>
                  <a:pt x="1736345" y="2348251"/>
                </a:lnTo>
                <a:lnTo>
                  <a:pt x="1506192" y="2409920"/>
                </a:lnTo>
                <a:lnTo>
                  <a:pt x="1346249" y="2111980"/>
                </a:lnTo>
                <a:cubicBezTo>
                  <a:pt x="1209819" y="2112400"/>
                  <a:pt x="1075739" y="2076473"/>
                  <a:pt x="957797" y="2007894"/>
                </a:cubicBezTo>
                <a:lnTo>
                  <a:pt x="670313" y="2185947"/>
                </a:lnTo>
                <a:lnTo>
                  <a:pt x="501829" y="2017463"/>
                </a:lnTo>
                <a:lnTo>
                  <a:pt x="679881" y="1729979"/>
                </a:lnTo>
                <a:cubicBezTo>
                  <a:pt x="611302" y="1612037"/>
                  <a:pt x="575376" y="1477957"/>
                  <a:pt x="575795" y="1341527"/>
                </a:cubicBezTo>
                <a:lnTo>
                  <a:pt x="277856" y="1181584"/>
                </a:lnTo>
                <a:lnTo>
                  <a:pt x="339525" y="951431"/>
                </a:lnTo>
                <a:lnTo>
                  <a:pt x="677520" y="961886"/>
                </a:lnTo>
                <a:cubicBezTo>
                  <a:pt x="745372" y="843525"/>
                  <a:pt x="843526" y="745372"/>
                  <a:pt x="961887" y="677519"/>
                </a:cubicBezTo>
                <a:lnTo>
                  <a:pt x="951431" y="339525"/>
                </a:lnTo>
                <a:lnTo>
                  <a:pt x="1181584" y="277856"/>
                </a:lnTo>
                <a:lnTo>
                  <a:pt x="1341527" y="575796"/>
                </a:lnTo>
                <a:cubicBezTo>
                  <a:pt x="1477957" y="575376"/>
                  <a:pt x="1612037" y="611303"/>
                  <a:pt x="1729979" y="679882"/>
                </a:cubicBezTo>
                <a:lnTo>
                  <a:pt x="1729979" y="679881"/>
                </a:lnTo>
                <a:close/>
              </a:path>
            </a:pathLst>
          </a:cu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5640" rIns="935640" tIns="935640" bIns="9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1" name="TextBox 38" descr=""/>
          <p:cNvPicPr/>
          <p:nvPr/>
        </p:nvPicPr>
        <p:blipFill>
          <a:blip r:embed="rId9"/>
          <a:stretch/>
        </p:blipFill>
        <p:spPr>
          <a:xfrm>
            <a:off x="4668840" y="1987560"/>
            <a:ext cx="1298520" cy="596880"/>
          </a:xfrm>
          <a:prstGeom prst="rect">
            <a:avLst/>
          </a:prstGeom>
          <a:ln w="0">
            <a:noFill/>
          </a:ln>
        </p:spPr>
      </p:pic>
      <p:pic>
        <p:nvPicPr>
          <p:cNvPr id="1762" name="Скругленный прямоугольник 34" descr=""/>
          <p:cNvPicPr/>
          <p:nvPr/>
        </p:nvPicPr>
        <p:blipFill>
          <a:blip r:embed="rId10"/>
          <a:stretch/>
        </p:blipFill>
        <p:spPr>
          <a:xfrm>
            <a:off x="2309760" y="1335240"/>
            <a:ext cx="2511360" cy="822240"/>
          </a:xfrm>
          <a:prstGeom prst="rect">
            <a:avLst/>
          </a:prstGeom>
          <a:ln w="0">
            <a:noFill/>
          </a:ln>
        </p:spPr>
      </p:pic>
      <p:pic>
        <p:nvPicPr>
          <p:cNvPr id="1763" name="Скругленный прямоугольник 30" descr=""/>
          <p:cNvPicPr/>
          <p:nvPr/>
        </p:nvPicPr>
        <p:blipFill>
          <a:blip r:embed="rId11"/>
          <a:stretch/>
        </p:blipFill>
        <p:spPr>
          <a:xfrm>
            <a:off x="3986280" y="365040"/>
            <a:ext cx="2371680" cy="824040"/>
          </a:xfrm>
          <a:prstGeom prst="rect">
            <a:avLst/>
          </a:prstGeom>
          <a:ln w="0">
            <a:noFill/>
          </a:ln>
        </p:spPr>
      </p:pic>
      <p:sp>
        <p:nvSpPr>
          <p:cNvPr id="1764" name="Круговая стрелка 43"/>
          <p:cNvSpPr/>
          <p:nvPr/>
        </p:nvSpPr>
        <p:spPr>
          <a:xfrm rot="11680200">
            <a:off x="5327640" y="-320760"/>
            <a:ext cx="3494160" cy="3094200"/>
          </a:xfrm>
          <a:custGeom>
            <a:avLst/>
            <a:gdLst/>
            <a:ahLst/>
            <a:rect l="l" t="t" r="r" b="b"/>
            <a:pathLst>
              <a:path w="3494088" h="3094038">
                <a:moveTo>
                  <a:pt x="191448" y="1954778"/>
                </a:moveTo>
                <a:cubicBezTo>
                  <a:pt x="15751" y="1439477"/>
                  <a:pt x="186266" y="881346"/>
                  <a:pt x="632217" y="512052"/>
                </a:cubicBezTo>
                <a:lnTo>
                  <a:pt x="567210" y="407930"/>
                </a:lnTo>
                <a:lnTo>
                  <a:pt x="1016688" y="377199"/>
                </a:lnTo>
                <a:lnTo>
                  <a:pt x="795988" y="774367"/>
                </a:lnTo>
                <a:lnTo>
                  <a:pt x="731029" y="670321"/>
                </a:lnTo>
                <a:cubicBezTo>
                  <a:pt x="354513" y="993755"/>
                  <a:pt x="216020" y="1469665"/>
                  <a:pt x="370935" y="1907731"/>
                </a:cubicBezTo>
                <a:lnTo>
                  <a:pt x="191448" y="1954778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Круговая стрелка 45"/>
          <p:cNvSpPr/>
          <p:nvPr/>
        </p:nvSpPr>
        <p:spPr>
          <a:xfrm rot="6656400">
            <a:off x="3674160" y="3031200"/>
            <a:ext cx="3289320" cy="3782880"/>
          </a:xfrm>
          <a:custGeom>
            <a:avLst/>
            <a:gdLst/>
            <a:ahLst/>
            <a:rect l="l" t="t" r="r" b="b"/>
            <a:pathLst>
              <a:path w="3289300" h="3783012">
                <a:moveTo>
                  <a:pt x="178759" y="1453730"/>
                </a:moveTo>
                <a:cubicBezTo>
                  <a:pt x="231375" y="1215385"/>
                  <a:pt x="326371" y="992518"/>
                  <a:pt x="457616" y="799513"/>
                </a:cubicBezTo>
                <a:lnTo>
                  <a:pt x="382136" y="699171"/>
                </a:lnTo>
                <a:lnTo>
                  <a:pt x="707780" y="646050"/>
                </a:lnTo>
                <a:lnTo>
                  <a:pt x="658211" y="1066179"/>
                </a:lnTo>
                <a:lnTo>
                  <a:pt x="583211" y="966476"/>
                </a:lnTo>
                <a:cubicBezTo>
                  <a:pt x="482479" y="1129469"/>
                  <a:pt x="409325" y="1314115"/>
                  <a:pt x="367801" y="1510186"/>
                </a:cubicBezTo>
                <a:lnTo>
                  <a:pt x="178759" y="145373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Круговая стрелка 46"/>
          <p:cNvSpPr/>
          <p:nvPr/>
        </p:nvSpPr>
        <p:spPr>
          <a:xfrm rot="6667200">
            <a:off x="5628240" y="4337640"/>
            <a:ext cx="3492360" cy="2928960"/>
          </a:xfrm>
          <a:custGeom>
            <a:avLst/>
            <a:gdLst/>
            <a:ahLst/>
            <a:rect l="l" t="t" r="r" b="b"/>
            <a:pathLst>
              <a:path w="3492500" h="2928937">
                <a:moveTo>
                  <a:pt x="94956" y="1559340"/>
                </a:moveTo>
                <a:cubicBezTo>
                  <a:pt x="50555" y="1027243"/>
                  <a:pt x="381427" y="521931"/>
                  <a:pt x="943592" y="263290"/>
                </a:cubicBezTo>
                <a:lnTo>
                  <a:pt x="910034" y="178545"/>
                </a:lnTo>
                <a:lnTo>
                  <a:pt x="1265239" y="249742"/>
                </a:lnTo>
                <a:lnTo>
                  <a:pt x="1048041" y="527061"/>
                </a:lnTo>
                <a:lnTo>
                  <a:pt x="1014471" y="442286"/>
                </a:lnTo>
                <a:cubicBezTo>
                  <a:pt x="530033" y="668322"/>
                  <a:pt x="247814" y="1097699"/>
                  <a:pt x="287532" y="1548276"/>
                </a:cubicBezTo>
                <a:lnTo>
                  <a:pt x="94956" y="155934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7" name="TextBox 1" descr=""/>
          <p:cNvPicPr/>
          <p:nvPr/>
        </p:nvPicPr>
        <p:blipFill>
          <a:blip r:embed="rId12"/>
          <a:stretch/>
        </p:blipFill>
        <p:spPr>
          <a:xfrm>
            <a:off x="4943520" y="2335320"/>
            <a:ext cx="738000" cy="676080"/>
          </a:xfrm>
          <a:prstGeom prst="rect">
            <a:avLst/>
          </a:prstGeom>
          <a:ln w="0">
            <a:noFill/>
          </a:ln>
        </p:spPr>
      </p:pic>
      <p:pic>
        <p:nvPicPr>
          <p:cNvPr id="1768" name="TextBox 25" descr=""/>
          <p:cNvPicPr/>
          <p:nvPr/>
        </p:nvPicPr>
        <p:blipFill>
          <a:blip r:embed="rId13"/>
          <a:stretch/>
        </p:blipFill>
        <p:spPr>
          <a:xfrm>
            <a:off x="4834080" y="5041800"/>
            <a:ext cx="798480" cy="669960"/>
          </a:xfrm>
          <a:prstGeom prst="rect">
            <a:avLst/>
          </a:prstGeom>
          <a:ln w="0">
            <a:noFill/>
          </a:ln>
        </p:spPr>
      </p:pic>
      <p:pic>
        <p:nvPicPr>
          <p:cNvPr id="1769" name="TextBox 26" descr=""/>
          <p:cNvPicPr/>
          <p:nvPr/>
        </p:nvPicPr>
        <p:blipFill>
          <a:blip r:embed="rId14"/>
          <a:stretch/>
        </p:blipFill>
        <p:spPr>
          <a:xfrm>
            <a:off x="6797520" y="5510160"/>
            <a:ext cx="792360" cy="671400"/>
          </a:xfrm>
          <a:prstGeom prst="rect">
            <a:avLst/>
          </a:prstGeom>
          <a:ln w="0">
            <a:noFill/>
          </a:ln>
        </p:spPr>
      </p:pic>
      <p:sp>
        <p:nvSpPr>
          <p:cNvPr id="1770" name="Прямоугольник с двумя скругленными противолежащими углами 7"/>
          <p:cNvSpPr/>
          <p:nvPr/>
        </p:nvSpPr>
        <p:spPr>
          <a:xfrm>
            <a:off x="173160" y="216000"/>
            <a:ext cx="8791560" cy="6467400"/>
          </a:xfrm>
          <a:custGeom>
            <a:avLst/>
            <a:gdLst/>
            <a:ahLst/>
            <a:rect l="l" t="t" r="r" b="b"/>
            <a:pathLst>
              <a:path w="8791575" h="6467475">
                <a:moveTo>
                  <a:pt x="785798" y="0"/>
                </a:moveTo>
                <a:lnTo>
                  <a:pt x="8791575" y="0"/>
                </a:lnTo>
                <a:lnTo>
                  <a:pt x="8791575" y="0"/>
                </a:lnTo>
                <a:lnTo>
                  <a:pt x="8791575" y="5681677"/>
                </a:lnTo>
                <a:cubicBezTo>
                  <a:pt x="8791575" y="6115661"/>
                  <a:pt x="8439761" y="6467475"/>
                  <a:pt x="8005777" y="6467475"/>
                </a:cubicBezTo>
                <a:lnTo>
                  <a:pt x="0" y="6467475"/>
                </a:lnTo>
                <a:lnTo>
                  <a:pt x="0" y="6467475"/>
                </a:lnTo>
                <a:lnTo>
                  <a:pt x="0" y="785798"/>
                </a:lnTo>
                <a:cubicBezTo>
                  <a:pt x="0" y="351814"/>
                  <a:pt x="351814" y="0"/>
                  <a:pt x="785798" y="0"/>
                </a:cubicBezTo>
                <a:close/>
              </a:path>
            </a:pathLst>
          </a:custGeom>
          <a:solidFill>
            <a:srgbClr val="d9d9d9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" name="Picture 6" descr=""/>
          <p:cNvPicPr/>
          <p:nvPr/>
        </p:nvPicPr>
        <p:blipFill>
          <a:blip r:embed="rId15"/>
          <a:stretch/>
        </p:blipFill>
        <p:spPr>
          <a:xfrm>
            <a:off x="7196040" y="336600"/>
            <a:ext cx="731880" cy="85896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8" descr=""/>
          <p:cNvPicPr/>
          <p:nvPr/>
        </p:nvPicPr>
        <p:blipFill>
          <a:blip r:embed="rId16"/>
          <a:stretch/>
        </p:blipFill>
        <p:spPr>
          <a:xfrm>
            <a:off x="4843440" y="151128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9" descr=""/>
          <p:cNvPicPr/>
          <p:nvPr/>
        </p:nvPicPr>
        <p:blipFill>
          <a:blip r:embed="rId17"/>
          <a:stretch/>
        </p:blipFill>
        <p:spPr>
          <a:xfrm>
            <a:off x="2849400" y="2695680"/>
            <a:ext cx="785880" cy="858600"/>
          </a:xfrm>
          <a:prstGeom prst="rect">
            <a:avLst/>
          </a:prstGeom>
          <a:ln w="0">
            <a:noFill/>
          </a:ln>
        </p:spPr>
      </p:pic>
      <p:pic>
        <p:nvPicPr>
          <p:cNvPr id="1774" name="Picture 5" descr=""/>
          <p:cNvPicPr/>
          <p:nvPr/>
        </p:nvPicPr>
        <p:blipFill>
          <a:blip r:embed="rId18"/>
          <a:stretch/>
        </p:blipFill>
        <p:spPr>
          <a:xfrm>
            <a:off x="6811920" y="477828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75" name="Picture 7" descr=""/>
          <p:cNvPicPr/>
          <p:nvPr/>
        </p:nvPicPr>
        <p:blipFill>
          <a:blip r:embed="rId19"/>
          <a:stretch/>
        </p:blipFill>
        <p:spPr>
          <a:xfrm>
            <a:off x="4873680" y="4064040"/>
            <a:ext cx="731880" cy="858960"/>
          </a:xfrm>
          <a:prstGeom prst="rect">
            <a:avLst/>
          </a:prstGeom>
          <a:ln w="0">
            <a:noFill/>
          </a:ln>
        </p:spPr>
      </p:pic>
      <p:pic>
        <p:nvPicPr>
          <p:cNvPr id="1776" name="Picture 3" descr=""/>
          <p:cNvPicPr/>
          <p:nvPr/>
        </p:nvPicPr>
        <p:blipFill>
          <a:blip r:embed="rId20"/>
          <a:stretch/>
        </p:blipFill>
        <p:spPr>
          <a:xfrm>
            <a:off x="40176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1783 -0.15902 E">
                                      <p:cBhvr>
                                        <p:cTn id="533" dur="2000" fill="hold"/>
                                        <p:tgtEl>
                                          <p:spTgt spid="1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1783 -0.15902 E">
                                      <p:cBhvr>
                                        <p:cTn id="535" dur="20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1783 -0.15764 E">
                                      <p:cBhvr>
                                        <p:cTn id="537" dur="20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9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324 L -0.19115 0.1324 E">
                                      <p:cBhvr>
                                        <p:cTn id="541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18907 0.1574 E">
                                      <p:cBhvr>
                                        <p:cTn id="543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-0.18889 0.15115 E">
                                      <p:cBhvr>
                                        <p:cTn id="545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2" dur="2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7 0.02245 L 0.00868 -0.38403 E">
                                      <p:cBhvr>
                                        <p:cTn id="554" dur="2000" fill="hold"/>
                                        <p:tgtEl>
                                          <p:spTgt spid="1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2245 L 0.00868 -0.3875 E">
                                      <p:cBhvr>
                                        <p:cTn id="556" dur="2000" fill="hold"/>
                                        <p:tgtEl>
                                          <p:spTgt spid="1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6 -0.02084 L 0.0085 -0.39445 E">
                                      <p:cBhvr>
                                        <p:cTn id="558" dur="2000" fill="hold"/>
                                        <p:tgtEl>
                                          <p:spTgt spid="1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0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934 0.22384 L -0.17431 0.53865 E">
                                      <p:cBhvr>
                                        <p:cTn id="562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0.22824 L -0.19479 0.5537 E">
                                      <p:cBhvr>
                                        <p:cTn id="564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01 0.1905 L -0.19601 0.54745 E">
                                      <p:cBhvr>
                                        <p:cTn id="566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0.39931 0.29723 E">
                                      <p:cBhvr>
                                        <p:cTn id="575" dur="20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4073 0.30371 E">
                                      <p:cBhvr>
                                        <p:cTn id="577" dur="20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39427 0.29746 E">
                                      <p:cBhvr>
                                        <p:cTn id="579" dur="20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1" dur="2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29 0.02338 L -0.3526 -0.27871 E">
                                      <p:cBhvr>
                                        <p:cTn id="583" dur="2000" fill="hold"/>
                                        <p:tgtEl>
                                          <p:spTgt spid="1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2 0.03588 L -0.34896 -0.29584 E">
                                      <p:cBhvr>
                                        <p:cTn id="585" dur="2000" fill="hold"/>
                                        <p:tgtEl>
                                          <p:spTgt spid="1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5 -0.04282 L -0.34566 -0.31666 E">
                                      <p:cBhvr>
                                        <p:cTn id="587" dur="2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31 0.53865 L 0.03038 0.6331 E">
                                      <p:cBhvr>
                                        <p:cTn id="596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698 0.54305 L 0.0099 0.64815 E">
                                      <p:cBhvr>
                                        <p:cTn id="598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01 0.54745 L 0.00868 0.61041 E">
                                      <p:cBhvr>
                                        <p:cTn id="600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31 0.29723 L 0.1632 0.22362 E">
                                      <p:cBhvr>
                                        <p:cTn id="604" dur="20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86 0.28588 L 0.15521 0.21968 E">
                                      <p:cBhvr>
                                        <p:cTn id="606" dur="20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427 0.29746 L 0.15017 0.21343 E">
                                      <p:cBhvr>
                                        <p:cTn id="608" dur="20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-0.32691 0.25186 E">
                                      <p:cBhvr>
                                        <p:cTn id="624" dur="20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-0.06979 0.16482 E">
                                      <p:cBhvr>
                                        <p:cTn id="629" dur="2000" fill="hold"/>
                                        <p:tgtEl>
                                          <p:spTgt spid="1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78035E-008 L 0.14479 0.07098 E">
                                      <p:cBhvr>
                                        <p:cTn id="634" dur="2000" fill="hold"/>
                                        <p:tgtEl>
                                          <p:spTgt spid="1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0.05487 L -0.07292 -0.05 E">
                                      <p:cBhvr>
                                        <p:cTn id="639" dur="20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L -0.29132 -0.07361 E">
                                      <p:cBhvr>
                                        <p:cTn id="644" dur="20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7" name="Заголовок 1" descr=""/>
          <p:cNvPicPr/>
          <p:nvPr/>
        </p:nvPicPr>
        <p:blipFill>
          <a:blip r:embed="rId1"/>
          <a:stretch/>
        </p:blipFill>
        <p:spPr>
          <a:xfrm>
            <a:off x="5505480" y="255600"/>
            <a:ext cx="3608280" cy="6419880"/>
          </a:xfrm>
          <a:prstGeom prst="rect">
            <a:avLst/>
          </a:prstGeom>
          <a:ln w="0">
            <a:noFill/>
          </a:ln>
        </p:spPr>
      </p:pic>
      <p:pic>
        <p:nvPicPr>
          <p:cNvPr id="1778" name="Рисунок 5" descr=""/>
          <p:cNvPicPr/>
          <p:nvPr/>
        </p:nvPicPr>
        <p:blipFill>
          <a:blip r:embed="rId2"/>
          <a:stretch/>
        </p:blipFill>
        <p:spPr>
          <a:xfrm>
            <a:off x="158760" y="244440"/>
            <a:ext cx="5308560" cy="638172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3" descr=""/>
          <p:cNvPicPr/>
          <p:nvPr/>
        </p:nvPicPr>
        <p:blipFill>
          <a:blip r:embed="rId3"/>
          <a:stretch/>
        </p:blipFill>
        <p:spPr>
          <a:xfrm>
            <a:off x="7162920" y="5614920"/>
            <a:ext cx="1974600" cy="12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0" name="Заголовок 8" descr=""/>
          <p:cNvPicPr/>
          <p:nvPr/>
        </p:nvPicPr>
        <p:blipFill>
          <a:blip r:embed="rId1"/>
          <a:stretch/>
        </p:blipFill>
        <p:spPr>
          <a:xfrm>
            <a:off x="463680" y="878040"/>
            <a:ext cx="8412120" cy="1006200"/>
          </a:xfrm>
          <a:prstGeom prst="rect">
            <a:avLst/>
          </a:prstGeom>
          <a:ln w="0">
            <a:noFill/>
          </a:ln>
        </p:spPr>
      </p:pic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515440" cy="2625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Багато чого з математик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не залишається в пам'яті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але коли розумієш її, тоді легк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при нагоді згадати призабут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М. В. Остроградськи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782" name="Picture 2" descr="D:\Documents\Private\Desktop\stock-vector-mountain-graphic-elements-43814590.jpg"/>
          <p:cNvPicPr/>
          <p:nvPr/>
        </p:nvPicPr>
        <p:blipFill>
          <a:blip r:embed="rId2"/>
          <a:srcRect l="0" t="0" r="-160" b="-268"/>
          <a:stretch/>
        </p:blipFill>
        <p:spPr>
          <a:xfrm>
            <a:off x="684360" y="549360"/>
            <a:ext cx="2813040" cy="1871640"/>
          </a:xfrm>
          <a:prstGeom prst="rect">
            <a:avLst/>
          </a:prstGeom>
          <a:ln w="0">
            <a:noFill/>
          </a:ln>
        </p:spPr>
      </p:pic>
      <p:pic>
        <p:nvPicPr>
          <p:cNvPr id="1783" name="Picture 2" descr=""/>
          <p:cNvPicPr/>
          <p:nvPr/>
        </p:nvPicPr>
        <p:blipFill>
          <a:blip r:embed="rId3"/>
          <a:stretch/>
        </p:blipFill>
        <p:spPr>
          <a:xfrm>
            <a:off x="171360" y="4071960"/>
            <a:ext cx="215748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4" name="Picture 2" descr="D:\Documents\Private\Desktop\stock-vector-mountain-graphic-elements-43814590.jpg"/>
          <p:cNvPicPr/>
          <p:nvPr/>
        </p:nvPicPr>
        <p:blipFill>
          <a:blip r:embed="rId1"/>
          <a:srcRect l="0" t="0" r="-160" b="-268"/>
          <a:stretch/>
        </p:blipFill>
        <p:spPr>
          <a:xfrm>
            <a:off x="179280" y="5491080"/>
            <a:ext cx="1851120" cy="1231920"/>
          </a:xfrm>
          <a:prstGeom prst="rect">
            <a:avLst/>
          </a:prstGeom>
          <a:ln w="0">
            <a:noFill/>
          </a:ln>
        </p:spPr>
      </p:pic>
      <p:pic>
        <p:nvPicPr>
          <p:cNvPr id="1785" name="Объект 2" descr=""/>
          <p:cNvPicPr/>
          <p:nvPr/>
        </p:nvPicPr>
        <p:blipFill>
          <a:blip r:embed="rId2"/>
          <a:stretch/>
        </p:blipFill>
        <p:spPr>
          <a:xfrm>
            <a:off x="1146240" y="182520"/>
            <a:ext cx="6851520" cy="651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75439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Объект 2" descr=""/>
          <p:cNvPicPr/>
          <p:nvPr/>
        </p:nvPicPr>
        <p:blipFill>
          <a:blip r:embed="rId1"/>
          <a:stretch/>
        </p:blipFill>
        <p:spPr>
          <a:xfrm>
            <a:off x="890640" y="1494000"/>
            <a:ext cx="7362720" cy="387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9" name="Заголовок 8" descr=""/>
          <p:cNvPicPr/>
          <p:nvPr/>
        </p:nvPicPr>
        <p:blipFill>
          <a:blip r:embed="rId1"/>
          <a:stretch/>
        </p:blipFill>
        <p:spPr>
          <a:xfrm>
            <a:off x="463680" y="878040"/>
            <a:ext cx="8412120" cy="1006200"/>
          </a:xfrm>
          <a:prstGeom prst="rect">
            <a:avLst/>
          </a:prstGeom>
          <a:ln w="0">
            <a:noFill/>
          </a:ln>
        </p:spPr>
      </p:pic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515440" cy="2625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Навчання мистецтву розв'язувати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задачі – це виховання волі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Д. Пой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791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468360" y="436680"/>
            <a:ext cx="3085920" cy="177156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2" descr=""/>
          <p:cNvPicPr/>
          <p:nvPr/>
        </p:nvPicPr>
        <p:blipFill>
          <a:blip r:embed="rId3"/>
          <a:stretch/>
        </p:blipFill>
        <p:spPr>
          <a:xfrm>
            <a:off x="219240" y="4359240"/>
            <a:ext cx="21636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187200" y="5560920"/>
            <a:ext cx="1936800" cy="1111320"/>
          </a:xfrm>
          <a:prstGeom prst="rect">
            <a:avLst/>
          </a:prstGeom>
          <a:ln w="0">
            <a:noFill/>
          </a:ln>
        </p:spPr>
      </p:pic>
      <p:pic>
        <p:nvPicPr>
          <p:cNvPr id="1794" name="Объект 2" descr=""/>
          <p:cNvPicPr/>
          <p:nvPr/>
        </p:nvPicPr>
        <p:blipFill>
          <a:blip r:embed="rId2"/>
          <a:stretch/>
        </p:blipFill>
        <p:spPr>
          <a:xfrm>
            <a:off x="712800" y="182520"/>
            <a:ext cx="771840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Заголовок 1" descr=""/>
          <p:cNvPicPr/>
          <p:nvPr/>
        </p:nvPicPr>
        <p:blipFill>
          <a:blip r:embed="rId1"/>
          <a:stretch/>
        </p:blipFill>
        <p:spPr>
          <a:xfrm>
            <a:off x="463680" y="1547640"/>
            <a:ext cx="834552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5" name="Таблица 4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8888400" cy="6351480"/>
          </a:xfrm>
          <a:prstGeom prst="rect">
            <a:avLst/>
          </a:prstGeom>
          <a:ln w="0">
            <a:noFill/>
          </a:ln>
        </p:spPr>
      </p:pic>
      <p:sp>
        <p:nvSpPr>
          <p:cNvPr id="1796" name="Прямоугольник 2"/>
          <p:cNvSpPr/>
          <p:nvPr/>
        </p:nvSpPr>
        <p:spPr>
          <a:xfrm>
            <a:off x="378000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Прямоугольник 6"/>
          <p:cNvSpPr/>
          <p:nvPr/>
        </p:nvSpPr>
        <p:spPr>
          <a:xfrm>
            <a:off x="5484960" y="237492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Прямоугольник 7"/>
          <p:cNvSpPr/>
          <p:nvPr/>
        </p:nvSpPr>
        <p:spPr>
          <a:xfrm>
            <a:off x="718812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4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Прямоугольник 10"/>
          <p:cNvSpPr/>
          <p:nvPr/>
        </p:nvSpPr>
        <p:spPr>
          <a:xfrm>
            <a:off x="378000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Прямоугольник 11"/>
          <p:cNvSpPr/>
          <p:nvPr/>
        </p:nvSpPr>
        <p:spPr>
          <a:xfrm>
            <a:off x="5484960" y="146196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Прямоугольник 12"/>
          <p:cNvSpPr/>
          <p:nvPr/>
        </p:nvSpPr>
        <p:spPr>
          <a:xfrm>
            <a:off x="718812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Прямоугольник 14"/>
          <p:cNvSpPr/>
          <p:nvPr/>
        </p:nvSpPr>
        <p:spPr>
          <a:xfrm>
            <a:off x="378000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Прямоугольник 15"/>
          <p:cNvSpPr/>
          <p:nvPr/>
        </p:nvSpPr>
        <p:spPr>
          <a:xfrm>
            <a:off x="5484960" y="1920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Прямоугольник 16"/>
          <p:cNvSpPr/>
          <p:nvPr/>
        </p:nvSpPr>
        <p:spPr>
          <a:xfrm>
            <a:off x="718812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Прямоугольник 18"/>
          <p:cNvSpPr/>
          <p:nvPr/>
        </p:nvSpPr>
        <p:spPr>
          <a:xfrm>
            <a:off x="378000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Прямоугольник 19"/>
          <p:cNvSpPr/>
          <p:nvPr/>
        </p:nvSpPr>
        <p:spPr>
          <a:xfrm>
            <a:off x="5484960" y="283068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Прямоугольник 20"/>
          <p:cNvSpPr/>
          <p:nvPr/>
        </p:nvSpPr>
        <p:spPr>
          <a:xfrm>
            <a:off x="718812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Прямоугольник 36"/>
          <p:cNvSpPr/>
          <p:nvPr/>
        </p:nvSpPr>
        <p:spPr>
          <a:xfrm>
            <a:off x="3778200" y="553896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Прямоугольник 37"/>
          <p:cNvSpPr/>
          <p:nvPr/>
        </p:nvSpPr>
        <p:spPr>
          <a:xfrm>
            <a:off x="5481720" y="5538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Прямоугольник 38"/>
          <p:cNvSpPr/>
          <p:nvPr/>
        </p:nvSpPr>
        <p:spPr>
          <a:xfrm>
            <a:off x="7186680" y="5538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3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Прямоугольник 33"/>
          <p:cNvSpPr/>
          <p:nvPr/>
        </p:nvSpPr>
        <p:spPr>
          <a:xfrm>
            <a:off x="3778200" y="462600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Прямоугольник 34"/>
          <p:cNvSpPr/>
          <p:nvPr/>
        </p:nvSpPr>
        <p:spPr>
          <a:xfrm>
            <a:off x="5481720" y="462600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Прямоугольник 35"/>
          <p:cNvSpPr/>
          <p:nvPr/>
        </p:nvSpPr>
        <p:spPr>
          <a:xfrm>
            <a:off x="7186680" y="462600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Прямоугольник 30"/>
          <p:cNvSpPr/>
          <p:nvPr/>
        </p:nvSpPr>
        <p:spPr>
          <a:xfrm>
            <a:off x="3778200" y="5083200"/>
            <a:ext cx="170352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Прямоугольник 31"/>
          <p:cNvSpPr/>
          <p:nvPr/>
        </p:nvSpPr>
        <p:spPr>
          <a:xfrm>
            <a:off x="5481720" y="508320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Прямоугольник 32"/>
          <p:cNvSpPr/>
          <p:nvPr/>
        </p:nvSpPr>
        <p:spPr>
          <a:xfrm>
            <a:off x="7186680" y="508320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Прямоугольник 27"/>
          <p:cNvSpPr/>
          <p:nvPr/>
        </p:nvSpPr>
        <p:spPr>
          <a:xfrm>
            <a:off x="3778200" y="5992920"/>
            <a:ext cx="170352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Прямоугольник 28"/>
          <p:cNvSpPr/>
          <p:nvPr/>
        </p:nvSpPr>
        <p:spPr>
          <a:xfrm>
            <a:off x="5481720" y="5992920"/>
            <a:ext cx="17049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Прямоугольник 29"/>
          <p:cNvSpPr/>
          <p:nvPr/>
        </p:nvSpPr>
        <p:spPr>
          <a:xfrm>
            <a:off x="7186680" y="5992920"/>
            <a:ext cx="17031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0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1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187200" y="5560920"/>
            <a:ext cx="1936800" cy="1111320"/>
          </a:xfrm>
          <a:prstGeom prst="rect">
            <a:avLst/>
          </a:prstGeom>
          <a:ln w="0">
            <a:noFill/>
          </a:ln>
        </p:spPr>
      </p:pic>
      <p:pic>
        <p:nvPicPr>
          <p:cNvPr id="1822" name="Объект 2" descr=""/>
          <p:cNvPicPr/>
          <p:nvPr/>
        </p:nvPicPr>
        <p:blipFill>
          <a:blip r:embed="rId2"/>
          <a:stretch/>
        </p:blipFill>
        <p:spPr>
          <a:xfrm>
            <a:off x="712800" y="182520"/>
            <a:ext cx="771840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Таблица 4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8888400" cy="6351480"/>
          </a:xfrm>
          <a:prstGeom prst="rect">
            <a:avLst/>
          </a:prstGeom>
          <a:ln w="0">
            <a:noFill/>
          </a:ln>
        </p:spPr>
      </p:pic>
      <p:sp>
        <p:nvSpPr>
          <p:cNvPr id="1824" name="Прямоугольник 2"/>
          <p:cNvSpPr/>
          <p:nvPr/>
        </p:nvSpPr>
        <p:spPr>
          <a:xfrm>
            <a:off x="378000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Прямоугольник 6"/>
          <p:cNvSpPr/>
          <p:nvPr/>
        </p:nvSpPr>
        <p:spPr>
          <a:xfrm>
            <a:off x="5484960" y="237492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Прямоугольник 7"/>
          <p:cNvSpPr/>
          <p:nvPr/>
        </p:nvSpPr>
        <p:spPr>
          <a:xfrm>
            <a:off x="718812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4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Прямоугольник 10"/>
          <p:cNvSpPr/>
          <p:nvPr/>
        </p:nvSpPr>
        <p:spPr>
          <a:xfrm>
            <a:off x="378000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Прямоугольник 11"/>
          <p:cNvSpPr/>
          <p:nvPr/>
        </p:nvSpPr>
        <p:spPr>
          <a:xfrm>
            <a:off x="5484960" y="146196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Прямоугольник 12"/>
          <p:cNvSpPr/>
          <p:nvPr/>
        </p:nvSpPr>
        <p:spPr>
          <a:xfrm>
            <a:off x="718812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Прямоугольник 14"/>
          <p:cNvSpPr/>
          <p:nvPr/>
        </p:nvSpPr>
        <p:spPr>
          <a:xfrm>
            <a:off x="378000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Прямоугольник 15"/>
          <p:cNvSpPr/>
          <p:nvPr/>
        </p:nvSpPr>
        <p:spPr>
          <a:xfrm>
            <a:off x="5484960" y="1920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Прямоугольник 16"/>
          <p:cNvSpPr/>
          <p:nvPr/>
        </p:nvSpPr>
        <p:spPr>
          <a:xfrm>
            <a:off x="718812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Прямоугольник 18"/>
          <p:cNvSpPr/>
          <p:nvPr/>
        </p:nvSpPr>
        <p:spPr>
          <a:xfrm>
            <a:off x="378000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Прямоугольник 19"/>
          <p:cNvSpPr/>
          <p:nvPr/>
        </p:nvSpPr>
        <p:spPr>
          <a:xfrm>
            <a:off x="5484960" y="283068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Прямоугольник 20"/>
          <p:cNvSpPr/>
          <p:nvPr/>
        </p:nvSpPr>
        <p:spPr>
          <a:xfrm>
            <a:off x="718812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Прямоугольник 36"/>
          <p:cNvSpPr/>
          <p:nvPr/>
        </p:nvSpPr>
        <p:spPr>
          <a:xfrm>
            <a:off x="3778200" y="553896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Прямоугольник 37"/>
          <p:cNvSpPr/>
          <p:nvPr/>
        </p:nvSpPr>
        <p:spPr>
          <a:xfrm>
            <a:off x="5481720" y="5538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Прямоугольник 38"/>
          <p:cNvSpPr/>
          <p:nvPr/>
        </p:nvSpPr>
        <p:spPr>
          <a:xfrm>
            <a:off x="7186680" y="5538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3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Прямоугольник 33"/>
          <p:cNvSpPr/>
          <p:nvPr/>
        </p:nvSpPr>
        <p:spPr>
          <a:xfrm>
            <a:off x="3778200" y="462600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Прямоугольник 34"/>
          <p:cNvSpPr/>
          <p:nvPr/>
        </p:nvSpPr>
        <p:spPr>
          <a:xfrm>
            <a:off x="5481720" y="462600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Прямоугольник 35"/>
          <p:cNvSpPr/>
          <p:nvPr/>
        </p:nvSpPr>
        <p:spPr>
          <a:xfrm>
            <a:off x="7186680" y="462600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Прямоугольник 30"/>
          <p:cNvSpPr/>
          <p:nvPr/>
        </p:nvSpPr>
        <p:spPr>
          <a:xfrm>
            <a:off x="3778200" y="5083200"/>
            <a:ext cx="170352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Прямоугольник 31"/>
          <p:cNvSpPr/>
          <p:nvPr/>
        </p:nvSpPr>
        <p:spPr>
          <a:xfrm>
            <a:off x="5481720" y="508320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Прямоугольник 32"/>
          <p:cNvSpPr/>
          <p:nvPr/>
        </p:nvSpPr>
        <p:spPr>
          <a:xfrm>
            <a:off x="7186680" y="508320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Прямоугольник 27"/>
          <p:cNvSpPr/>
          <p:nvPr/>
        </p:nvSpPr>
        <p:spPr>
          <a:xfrm>
            <a:off x="3778200" y="5992920"/>
            <a:ext cx="170352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Прямоугольник 28"/>
          <p:cNvSpPr/>
          <p:nvPr/>
        </p:nvSpPr>
        <p:spPr>
          <a:xfrm>
            <a:off x="5481720" y="5992920"/>
            <a:ext cx="17049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Прямоугольник 29"/>
          <p:cNvSpPr/>
          <p:nvPr/>
        </p:nvSpPr>
        <p:spPr>
          <a:xfrm>
            <a:off x="7186680" y="5992920"/>
            <a:ext cx="17031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Прямоугольник 8"/>
          <p:cNvSpPr/>
          <p:nvPr/>
        </p:nvSpPr>
        <p:spPr>
          <a:xfrm>
            <a:off x="5484960" y="1474920"/>
            <a:ext cx="17031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Умножение 39"/>
          <p:cNvSpPr/>
          <p:nvPr/>
        </p:nvSpPr>
        <p:spPr>
          <a:xfrm>
            <a:off x="3263760" y="13352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Умножение 40"/>
          <p:cNvSpPr/>
          <p:nvPr/>
        </p:nvSpPr>
        <p:spPr>
          <a:xfrm>
            <a:off x="6672240" y="13352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Умножение 41"/>
          <p:cNvSpPr/>
          <p:nvPr/>
        </p:nvSpPr>
        <p:spPr>
          <a:xfrm>
            <a:off x="4970520" y="179388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Умножение 42"/>
          <p:cNvSpPr/>
          <p:nvPr/>
        </p:nvSpPr>
        <p:spPr>
          <a:xfrm>
            <a:off x="6672240" y="179388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Прямоугольник 43"/>
          <p:cNvSpPr/>
          <p:nvPr/>
        </p:nvSpPr>
        <p:spPr>
          <a:xfrm>
            <a:off x="3780000" y="1932120"/>
            <a:ext cx="17049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Умножение 44"/>
          <p:cNvSpPr/>
          <p:nvPr/>
        </p:nvSpPr>
        <p:spPr>
          <a:xfrm>
            <a:off x="3267000" y="224784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Умножение 45"/>
          <p:cNvSpPr/>
          <p:nvPr/>
        </p:nvSpPr>
        <p:spPr>
          <a:xfrm>
            <a:off x="4970520" y="224784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Прямоугольник 46"/>
          <p:cNvSpPr/>
          <p:nvPr/>
        </p:nvSpPr>
        <p:spPr>
          <a:xfrm>
            <a:off x="7186680" y="2398680"/>
            <a:ext cx="170316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Умножение 47"/>
          <p:cNvSpPr/>
          <p:nvPr/>
        </p:nvSpPr>
        <p:spPr>
          <a:xfrm>
            <a:off x="3267000" y="270360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Умножение 48"/>
          <p:cNvSpPr/>
          <p:nvPr/>
        </p:nvSpPr>
        <p:spPr>
          <a:xfrm>
            <a:off x="6672240" y="270360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Прямоугольник 50"/>
          <p:cNvSpPr/>
          <p:nvPr/>
        </p:nvSpPr>
        <p:spPr>
          <a:xfrm>
            <a:off x="5481720" y="2841480"/>
            <a:ext cx="170496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Умножение 51"/>
          <p:cNvSpPr/>
          <p:nvPr/>
        </p:nvSpPr>
        <p:spPr>
          <a:xfrm>
            <a:off x="3267000" y="449892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Умножение 52"/>
          <p:cNvSpPr/>
          <p:nvPr/>
        </p:nvSpPr>
        <p:spPr>
          <a:xfrm>
            <a:off x="6672240" y="449892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Прямоугольник 55"/>
          <p:cNvSpPr/>
          <p:nvPr/>
        </p:nvSpPr>
        <p:spPr>
          <a:xfrm>
            <a:off x="5518080" y="4624560"/>
            <a:ext cx="17049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Умножение 57"/>
          <p:cNvSpPr/>
          <p:nvPr/>
        </p:nvSpPr>
        <p:spPr>
          <a:xfrm>
            <a:off x="6672240" y="495612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Умножение 58"/>
          <p:cNvSpPr/>
          <p:nvPr/>
        </p:nvSpPr>
        <p:spPr>
          <a:xfrm>
            <a:off x="3267000" y="541188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Умножение 59"/>
          <p:cNvSpPr/>
          <p:nvPr/>
        </p:nvSpPr>
        <p:spPr>
          <a:xfrm>
            <a:off x="4968720" y="541188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Умножение 60"/>
          <p:cNvSpPr/>
          <p:nvPr/>
        </p:nvSpPr>
        <p:spPr>
          <a:xfrm>
            <a:off x="3267000" y="58658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Умножение 61"/>
          <p:cNvSpPr/>
          <p:nvPr/>
        </p:nvSpPr>
        <p:spPr>
          <a:xfrm>
            <a:off x="6675480" y="58658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Прямоугольник 62"/>
          <p:cNvSpPr/>
          <p:nvPr/>
        </p:nvSpPr>
        <p:spPr>
          <a:xfrm>
            <a:off x="3780000" y="5094360"/>
            <a:ext cx="1704960" cy="433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Прямоугольник 63"/>
          <p:cNvSpPr/>
          <p:nvPr/>
        </p:nvSpPr>
        <p:spPr>
          <a:xfrm>
            <a:off x="7223040" y="5549760"/>
            <a:ext cx="166680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Прямоугольник 64"/>
          <p:cNvSpPr/>
          <p:nvPr/>
        </p:nvSpPr>
        <p:spPr>
          <a:xfrm>
            <a:off x="5484960" y="6016680"/>
            <a:ext cx="17031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Умножение 66"/>
          <p:cNvSpPr/>
          <p:nvPr/>
        </p:nvSpPr>
        <p:spPr>
          <a:xfrm>
            <a:off x="4946760" y="4956120"/>
            <a:ext cx="273024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2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60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827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1827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828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1828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8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1831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1831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824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1824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825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1825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1833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1833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183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83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739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1840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1840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49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755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36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1836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37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1837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785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1843"/>
                    </p:tgtEl>
                  </p:cond>
                </p:stCondLst>
                <p:childTnLst>
                  <p:par>
                    <p:cTn id="795" nodeType="clickEffect" fill="hold">
                      <p:stCondLst>
                        <p:cond evt="onClick">
                          <p:tgtEl>
                            <p:spTgt spid="1843"/>
                          </p:tgtEl>
                        </p:cond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801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46"/>
                    </p:tgtEl>
                  </p:cond>
                </p:stCondLst>
                <p:childTnLst>
                  <p:par>
                    <p:cTn id="811" nodeType="clickEffect" fill="hold">
                      <p:stCondLst>
                        <p:cond evt="onClick">
                          <p:tgtEl>
                            <p:spTgt spid="1846"/>
                          </p:tgtEl>
                        </p:cond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815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4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1875" name="Группа 3"/>
          <p:cNvGrpSpPr/>
          <p:nvPr/>
        </p:nvGrpSpPr>
        <p:grpSpPr>
          <a:xfrm>
            <a:off x="3719520" y="1474920"/>
            <a:ext cx="1704960" cy="3456000"/>
            <a:chOff x="3719520" y="1474920"/>
            <a:chExt cx="1704960" cy="3456000"/>
          </a:xfrm>
        </p:grpSpPr>
        <p:sp>
          <p:nvSpPr>
            <p:cNvPr id="1876" name="Прямоугольник 63"/>
            <p:cNvSpPr/>
            <p:nvPr/>
          </p:nvSpPr>
          <p:spPr>
            <a:xfrm>
              <a:off x="3719520" y="406728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І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Прямоугольник 8"/>
            <p:cNvSpPr/>
            <p:nvPr/>
          </p:nvSpPr>
          <p:spPr>
            <a:xfrm>
              <a:off x="3719520" y="147492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Прямоугольник 43"/>
            <p:cNvSpPr/>
            <p:nvPr/>
          </p:nvSpPr>
          <p:spPr>
            <a:xfrm>
              <a:off x="3719520" y="190656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Прямоугольник 46"/>
            <p:cNvSpPr/>
            <p:nvPr/>
          </p:nvSpPr>
          <p:spPr>
            <a:xfrm>
              <a:off x="3719520" y="233856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Прямоугольник 50"/>
            <p:cNvSpPr/>
            <p:nvPr/>
          </p:nvSpPr>
          <p:spPr>
            <a:xfrm>
              <a:off x="3719520" y="2770200"/>
              <a:ext cx="1704960" cy="433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Прямоугольник 62"/>
            <p:cNvSpPr/>
            <p:nvPr/>
          </p:nvSpPr>
          <p:spPr>
            <a:xfrm>
              <a:off x="3719520" y="363564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Ц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Прямоугольник 64"/>
            <p:cNvSpPr/>
            <p:nvPr/>
          </p:nvSpPr>
          <p:spPr>
            <a:xfrm>
              <a:off x="3719520" y="449928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!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Прямоугольник 55"/>
            <p:cNvSpPr/>
            <p:nvPr/>
          </p:nvSpPr>
          <p:spPr>
            <a:xfrm>
              <a:off x="3719520" y="320364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25" dur="1000" fill="hold"/>
                                        <p:tgtEl>
                                          <p:spTgt spid="18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Заголовок 8" descr=""/>
          <p:cNvPicPr/>
          <p:nvPr/>
        </p:nvPicPr>
        <p:blipFill>
          <a:blip r:embed="rId1"/>
          <a:stretch/>
        </p:blipFill>
        <p:spPr>
          <a:xfrm>
            <a:off x="463680" y="-249120"/>
            <a:ext cx="8412120" cy="2206440"/>
          </a:xfrm>
          <a:prstGeom prst="rect">
            <a:avLst/>
          </a:prstGeom>
          <a:ln w="0">
            <a:noFill/>
          </a:ln>
        </p:spPr>
      </p:pic>
      <p:sp>
        <p:nvSpPr>
          <p:cNvPr id="1581" name="PlaceHolder 1"/>
          <p:cNvSpPr>
            <a:spLocks noGrp="1"/>
          </p:cNvSpPr>
          <p:nvPr>
            <p:ph type="subTitle"/>
          </p:nvPr>
        </p:nvSpPr>
        <p:spPr>
          <a:xfrm>
            <a:off x="2195280" y="3213000"/>
            <a:ext cx="6561000" cy="2841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Вивчення математики подібне до Нілу, що починається невеликим струмком, а закінчується – великою річкою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Ч. К. Колтон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82" name="Picture 3" descr=""/>
          <p:cNvPicPr/>
          <p:nvPr/>
        </p:nvPicPr>
        <p:blipFill>
          <a:blip r:embed="rId2"/>
          <a:stretch/>
        </p:blipFill>
        <p:spPr>
          <a:xfrm>
            <a:off x="633240" y="676440"/>
            <a:ext cx="2627640" cy="168876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2" descr="D:\Documents\Private\Desktop\KOLTON_CHarlz_Kaleb1_s.gif"/>
          <p:cNvPicPr/>
          <p:nvPr/>
        </p:nvPicPr>
        <p:blipFill>
          <a:blip r:embed="rId3"/>
          <a:stretch/>
        </p:blipFill>
        <p:spPr>
          <a:xfrm>
            <a:off x="171360" y="4627440"/>
            <a:ext cx="1773360" cy="207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Заголовок 1" descr=""/>
          <p:cNvPicPr/>
          <p:nvPr/>
        </p:nvPicPr>
        <p:blipFill>
          <a:blip r:embed="rId1"/>
          <a:stretch/>
        </p:blipFill>
        <p:spPr>
          <a:xfrm>
            <a:off x="384120" y="-73080"/>
            <a:ext cx="8680680" cy="1481040"/>
          </a:xfrm>
          <a:prstGeom prst="rect">
            <a:avLst/>
          </a:prstGeom>
          <a:ln w="0">
            <a:noFill/>
          </a:ln>
        </p:spPr>
      </p:pic>
      <p:pic>
        <p:nvPicPr>
          <p:cNvPr id="1585" name="Объект 2" descr=""/>
          <p:cNvPicPr/>
          <p:nvPr/>
        </p:nvPicPr>
        <p:blipFill>
          <a:blip r:embed="rId2"/>
          <a:stretch/>
        </p:blipFill>
        <p:spPr>
          <a:xfrm>
            <a:off x="2073240" y="1841400"/>
            <a:ext cx="4937040" cy="402300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3" descr=""/>
          <p:cNvPicPr/>
          <p:nvPr/>
        </p:nvPicPr>
        <p:blipFill>
          <a:blip r:embed="rId3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588" name="Объект 2" descr=""/>
          <p:cNvPicPr/>
          <p:nvPr/>
        </p:nvPicPr>
        <p:blipFill>
          <a:blip r:embed="rId2"/>
          <a:stretch/>
        </p:blipFill>
        <p:spPr>
          <a:xfrm>
            <a:off x="2127240" y="1768320"/>
            <a:ext cx="4938840" cy="46929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3" descr=""/>
          <p:cNvPicPr/>
          <p:nvPr/>
        </p:nvPicPr>
        <p:blipFill>
          <a:blip r:embed="rId3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590" name="TextBox 5" descr=""/>
          <p:cNvPicPr/>
          <p:nvPr/>
        </p:nvPicPr>
        <p:blipFill>
          <a:blip r:embed="rId4"/>
          <a:stretch/>
        </p:blipFill>
        <p:spPr>
          <a:xfrm>
            <a:off x="9137520" y="2004840"/>
            <a:ext cx="2030400" cy="841680"/>
          </a:xfrm>
          <a:prstGeom prst="rect">
            <a:avLst/>
          </a:prstGeom>
          <a:ln w="0">
            <a:noFill/>
          </a:ln>
        </p:spPr>
      </p:pic>
      <p:pic>
        <p:nvPicPr>
          <p:cNvPr id="1591" name="TextBox 6" descr=""/>
          <p:cNvPicPr/>
          <p:nvPr/>
        </p:nvPicPr>
        <p:blipFill>
          <a:blip r:embed="rId5"/>
          <a:stretch/>
        </p:blipFill>
        <p:spPr>
          <a:xfrm>
            <a:off x="9309240" y="5132520"/>
            <a:ext cx="1303200" cy="1195200"/>
          </a:xfrm>
          <a:prstGeom prst="rect">
            <a:avLst/>
          </a:prstGeom>
          <a:ln w="0">
            <a:noFill/>
          </a:ln>
        </p:spPr>
      </p:pic>
      <p:pic>
        <p:nvPicPr>
          <p:cNvPr id="1592" name="TextBox 7" descr=""/>
          <p:cNvPicPr/>
          <p:nvPr/>
        </p:nvPicPr>
        <p:blipFill>
          <a:blip r:embed="rId6"/>
          <a:stretch/>
        </p:blipFill>
        <p:spPr>
          <a:xfrm>
            <a:off x="9339120" y="4211640"/>
            <a:ext cx="1457640" cy="860400"/>
          </a:xfrm>
          <a:prstGeom prst="rect">
            <a:avLst/>
          </a:prstGeom>
          <a:ln w="0">
            <a:noFill/>
          </a:ln>
        </p:spPr>
      </p:pic>
      <p:pic>
        <p:nvPicPr>
          <p:cNvPr id="1593" name="TextBox 8" descr=""/>
          <p:cNvPicPr/>
          <p:nvPr/>
        </p:nvPicPr>
        <p:blipFill>
          <a:blip r:embed="rId7"/>
          <a:stretch/>
        </p:blipFill>
        <p:spPr>
          <a:xfrm>
            <a:off x="9180360" y="2786040"/>
            <a:ext cx="2030400" cy="135900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2" descr=""/>
          <p:cNvPicPr/>
          <p:nvPr/>
        </p:nvPicPr>
        <p:blipFill>
          <a:blip r:embed="rId8"/>
          <a:stretch/>
        </p:blipFill>
        <p:spPr>
          <a:xfrm>
            <a:off x="6669000" y="743040"/>
            <a:ext cx="1116000" cy="1927080"/>
          </a:xfrm>
          <a:prstGeom prst="rect">
            <a:avLst/>
          </a:prstGeom>
          <a:ln w="0">
            <a:noFill/>
          </a:ln>
        </p:spPr>
      </p:pic>
      <p:grpSp>
        <p:nvGrpSpPr>
          <p:cNvPr id="1595" name="Группа 4"/>
          <p:cNvGrpSpPr/>
          <p:nvPr/>
        </p:nvGrpSpPr>
        <p:grpSpPr>
          <a:xfrm>
            <a:off x="11052000" y="419040"/>
            <a:ext cx="2213280" cy="2419560"/>
            <a:chOff x="11052000" y="419040"/>
            <a:chExt cx="2213280" cy="2419560"/>
          </a:xfrm>
        </p:grpSpPr>
        <p:sp>
          <p:nvSpPr>
            <p:cNvPr id="1596" name="Полилиния 11"/>
            <p:cNvSpPr/>
            <p:nvPr/>
          </p:nvSpPr>
          <p:spPr>
            <a:xfrm>
              <a:off x="11052000" y="1949400"/>
              <a:ext cx="495360" cy="8892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Прямая соединительная линия 13"/>
            <p:cNvSpPr/>
            <p:nvPr/>
          </p:nvSpPr>
          <p:spPr>
            <a:xfrm flipH="1">
              <a:off x="11299320" y="2060640"/>
              <a:ext cx="833400" cy="46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98" name="Picture 2" descr=""/>
            <p:cNvPicPr/>
            <p:nvPr/>
          </p:nvPicPr>
          <p:blipFill>
            <a:blip r:embed="rId9"/>
            <a:stretch/>
          </p:blipFill>
          <p:spPr>
            <a:xfrm>
              <a:off x="11635920" y="419040"/>
              <a:ext cx="1629360" cy="21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9" name="Группа 10"/>
          <p:cNvGrpSpPr/>
          <p:nvPr/>
        </p:nvGrpSpPr>
        <p:grpSpPr>
          <a:xfrm>
            <a:off x="6079680" y="419040"/>
            <a:ext cx="2272320" cy="2438640"/>
            <a:chOff x="6079680" y="419040"/>
            <a:chExt cx="2272320" cy="2438640"/>
          </a:xfrm>
        </p:grpSpPr>
        <p:sp>
          <p:nvSpPr>
            <p:cNvPr id="1600" name="Полилиния 15"/>
            <p:cNvSpPr/>
            <p:nvPr/>
          </p:nvSpPr>
          <p:spPr>
            <a:xfrm flipH="1">
              <a:off x="7856640" y="1968480"/>
              <a:ext cx="495360" cy="8892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Прямая соединительная линия 16"/>
            <p:cNvSpPr/>
            <p:nvPr/>
          </p:nvSpPr>
          <p:spPr>
            <a:xfrm>
              <a:off x="7272360" y="2079720"/>
              <a:ext cx="831960" cy="46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2" name="Picture 2" descr=""/>
            <p:cNvPicPr/>
            <p:nvPr/>
          </p:nvPicPr>
          <p:blipFill>
            <a:blip r:embed="rId10"/>
            <a:stretch/>
          </p:blipFill>
          <p:spPr>
            <a:xfrm flipH="1">
              <a:off x="6079680" y="419040"/>
              <a:ext cx="1628280" cy="21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3" name="Группа 29"/>
          <p:cNvGrpSpPr/>
          <p:nvPr/>
        </p:nvGrpSpPr>
        <p:grpSpPr>
          <a:xfrm>
            <a:off x="10734840" y="1942920"/>
            <a:ext cx="2489040" cy="2278440"/>
            <a:chOff x="10734840" y="1942920"/>
            <a:chExt cx="2489040" cy="2278440"/>
          </a:xfrm>
        </p:grpSpPr>
        <p:sp>
          <p:nvSpPr>
            <p:cNvPr id="1604" name="Полилиния 26"/>
            <p:cNvSpPr/>
            <p:nvPr/>
          </p:nvSpPr>
          <p:spPr>
            <a:xfrm>
              <a:off x="10734840" y="3332160"/>
              <a:ext cx="495000" cy="88884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5" name="Picture 3" descr=""/>
            <p:cNvPicPr/>
            <p:nvPr/>
          </p:nvPicPr>
          <p:blipFill>
            <a:blip r:embed="rId11"/>
            <a:srcRect l="0" t="0" r="-40" b="0"/>
            <a:stretch/>
          </p:blipFill>
          <p:spPr>
            <a:xfrm flipH="1" rot="174600">
              <a:off x="11354040" y="1987560"/>
              <a:ext cx="18154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Прямая соединительная линия 27"/>
            <p:cNvSpPr/>
            <p:nvPr/>
          </p:nvSpPr>
          <p:spPr>
            <a:xfrm flipH="1">
              <a:off x="11055240" y="3643200"/>
              <a:ext cx="107784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7" name="Группа 37"/>
          <p:cNvGrpSpPr/>
          <p:nvPr/>
        </p:nvGrpSpPr>
        <p:grpSpPr>
          <a:xfrm>
            <a:off x="5742000" y="1942920"/>
            <a:ext cx="2489040" cy="2278440"/>
            <a:chOff x="5742000" y="1942920"/>
            <a:chExt cx="2489040" cy="2278440"/>
          </a:xfrm>
        </p:grpSpPr>
        <p:sp>
          <p:nvSpPr>
            <p:cNvPr id="1608" name="Полилиния 38"/>
            <p:cNvSpPr/>
            <p:nvPr/>
          </p:nvSpPr>
          <p:spPr>
            <a:xfrm flipH="1">
              <a:off x="7735680" y="3332160"/>
              <a:ext cx="495000" cy="88884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9" name="Picture 3" descr=""/>
            <p:cNvPicPr/>
            <p:nvPr/>
          </p:nvPicPr>
          <p:blipFill>
            <a:blip r:embed="rId12"/>
            <a:srcRect l="0" t="0" r="-40" b="0"/>
            <a:stretch/>
          </p:blipFill>
          <p:spPr>
            <a:xfrm rot="21425400">
              <a:off x="5796360" y="1987560"/>
              <a:ext cx="18154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0" name="Прямая соединительная линия 40"/>
            <p:cNvSpPr/>
            <p:nvPr/>
          </p:nvSpPr>
          <p:spPr>
            <a:xfrm>
              <a:off x="6832800" y="3643200"/>
              <a:ext cx="107784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1" name="Группа 2054"/>
          <p:cNvGrpSpPr/>
          <p:nvPr/>
        </p:nvGrpSpPr>
        <p:grpSpPr>
          <a:xfrm>
            <a:off x="10586880" y="2562120"/>
            <a:ext cx="2653920" cy="2737080"/>
            <a:chOff x="10586880" y="2562120"/>
            <a:chExt cx="2653920" cy="2737080"/>
          </a:xfrm>
        </p:grpSpPr>
        <p:sp>
          <p:nvSpPr>
            <p:cNvPr id="1612" name="Полилиния 31"/>
            <p:cNvSpPr/>
            <p:nvPr/>
          </p:nvSpPr>
          <p:spPr>
            <a:xfrm>
              <a:off x="10586880" y="416088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3" name="Picture 4" descr=""/>
            <p:cNvPicPr/>
            <p:nvPr/>
          </p:nvPicPr>
          <p:blipFill>
            <a:blip r:embed="rId13"/>
            <a:srcRect l="0" t="0" r="0" b="-56"/>
            <a:stretch/>
          </p:blipFill>
          <p:spPr>
            <a:xfrm rot="21327600">
              <a:off x="11075400" y="2639520"/>
              <a:ext cx="2066040" cy="258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Прямая соединительная линия 32"/>
            <p:cNvSpPr/>
            <p:nvPr/>
          </p:nvSpPr>
          <p:spPr>
            <a:xfrm flipH="1">
              <a:off x="10975680" y="4781880"/>
              <a:ext cx="12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5" name="Группа 47"/>
          <p:cNvGrpSpPr/>
          <p:nvPr/>
        </p:nvGrpSpPr>
        <p:grpSpPr>
          <a:xfrm>
            <a:off x="5484240" y="2562120"/>
            <a:ext cx="2653200" cy="2737080"/>
            <a:chOff x="5484240" y="2562120"/>
            <a:chExt cx="2653200" cy="2737080"/>
          </a:xfrm>
        </p:grpSpPr>
        <p:sp>
          <p:nvSpPr>
            <p:cNvPr id="1616" name="Полилиния 48"/>
            <p:cNvSpPr/>
            <p:nvPr/>
          </p:nvSpPr>
          <p:spPr>
            <a:xfrm flipH="1">
              <a:off x="7664400" y="416088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7" name="Picture 4" descr=""/>
            <p:cNvPicPr/>
            <p:nvPr/>
          </p:nvPicPr>
          <p:blipFill>
            <a:blip r:embed="rId14"/>
            <a:srcRect l="0" t="0" r="0" b="-56"/>
            <a:stretch/>
          </p:blipFill>
          <p:spPr>
            <a:xfrm flipH="1" rot="272400">
              <a:off x="5583240" y="2639520"/>
              <a:ext cx="2065680" cy="25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Прямая соединительная линия 50"/>
            <p:cNvSpPr/>
            <p:nvPr/>
          </p:nvSpPr>
          <p:spPr>
            <a:xfrm>
              <a:off x="6499080" y="4781880"/>
              <a:ext cx="12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9" name="Группа 2062"/>
          <p:cNvGrpSpPr/>
          <p:nvPr/>
        </p:nvGrpSpPr>
        <p:grpSpPr>
          <a:xfrm>
            <a:off x="10447200" y="3809880"/>
            <a:ext cx="2538720" cy="2725920"/>
            <a:chOff x="10447200" y="3809880"/>
            <a:chExt cx="2538720" cy="2725920"/>
          </a:xfrm>
        </p:grpSpPr>
        <p:pic>
          <p:nvPicPr>
            <p:cNvPr id="1620" name="Picture 5" descr=""/>
            <p:cNvPicPr/>
            <p:nvPr/>
          </p:nvPicPr>
          <p:blipFill>
            <a:blip r:embed="rId15"/>
            <a:stretch/>
          </p:blipFill>
          <p:spPr>
            <a:xfrm>
              <a:off x="10924200" y="3809880"/>
              <a:ext cx="2061720" cy="27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Полилиния 53"/>
            <p:cNvSpPr/>
            <p:nvPr/>
          </p:nvSpPr>
          <p:spPr>
            <a:xfrm>
              <a:off x="10447200" y="548640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Прямая соединительная линия 54"/>
            <p:cNvSpPr/>
            <p:nvPr/>
          </p:nvSpPr>
          <p:spPr>
            <a:xfrm flipH="1">
              <a:off x="10880640" y="5910480"/>
              <a:ext cx="120816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3" name="Группа 62"/>
          <p:cNvGrpSpPr/>
          <p:nvPr/>
        </p:nvGrpSpPr>
        <p:grpSpPr>
          <a:xfrm>
            <a:off x="5362200" y="3809880"/>
            <a:ext cx="2538360" cy="2725920"/>
            <a:chOff x="5362200" y="3809880"/>
            <a:chExt cx="2538360" cy="2725920"/>
          </a:xfrm>
        </p:grpSpPr>
        <p:pic>
          <p:nvPicPr>
            <p:cNvPr id="1624" name="Picture 5" descr=""/>
            <p:cNvPicPr/>
            <p:nvPr/>
          </p:nvPicPr>
          <p:blipFill>
            <a:blip r:embed="rId16"/>
            <a:stretch/>
          </p:blipFill>
          <p:spPr>
            <a:xfrm flipH="1">
              <a:off x="5362200" y="3809880"/>
              <a:ext cx="2061360" cy="27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5" name="Полилиния 64"/>
            <p:cNvSpPr/>
            <p:nvPr/>
          </p:nvSpPr>
          <p:spPr>
            <a:xfrm flipH="1">
              <a:off x="7427520" y="548640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Прямая соединительная линия 65"/>
            <p:cNvSpPr/>
            <p:nvPr/>
          </p:nvSpPr>
          <p:spPr>
            <a:xfrm>
              <a:off x="6259320" y="5910480"/>
              <a:ext cx="120816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9115 0 E">
                                      <p:cBhvr>
                                        <p:cTn id="6" dur="225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-0.49218 -0.00093 E">
                                      <p:cBhvr>
                                        <p:cTn id="8" dur="225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53559 3.33333E-006 E">
                                      <p:cBhvr>
                                        <p:cTn id="22" dur="2000" fill="hold"/>
                                        <p:tgtEl>
                                          <p:spTgt spid="1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53941 -0.0051 E">
                                      <p:cBhvr>
                                        <p:cTn id="24" dur="2000" fill="hold"/>
                                        <p:tgtEl>
                                          <p:spTgt spid="1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51389 0.00046 E">
                                      <p:cBhvr>
                                        <p:cTn id="38" dur="2000" fill="hold"/>
                                        <p:tgtEl>
                                          <p:spTgt spid="1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52205 0.00162 E">
                                      <p:cBhvr>
                                        <p:cTn id="40" dur="2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55764 -0.00209 E">
                                      <p:cBhvr>
                                        <p:cTn id="54" dur="2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22 -2.96296E-006 E">
                                      <p:cBhvr>
                                        <p:cTn id="56" dur="2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100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Овал 33"/>
          <p:cNvSpPr/>
          <p:nvPr/>
        </p:nvSpPr>
        <p:spPr>
          <a:xfrm flipH="1">
            <a:off x="6848640" y="320760"/>
            <a:ext cx="699840" cy="3348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Овал 40"/>
          <p:cNvSpPr/>
          <p:nvPr/>
        </p:nvSpPr>
        <p:spPr>
          <a:xfrm flipH="1">
            <a:off x="5934960" y="1285920"/>
            <a:ext cx="622440" cy="2966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Овал 65"/>
          <p:cNvSpPr/>
          <p:nvPr/>
        </p:nvSpPr>
        <p:spPr>
          <a:xfrm flipH="1">
            <a:off x="5976360" y="4676760"/>
            <a:ext cx="610920" cy="282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Овал 112"/>
          <p:cNvSpPr/>
          <p:nvPr/>
        </p:nvSpPr>
        <p:spPr>
          <a:xfrm flipH="1">
            <a:off x="6881760" y="2062080"/>
            <a:ext cx="687600" cy="309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Овал 115"/>
          <p:cNvSpPr/>
          <p:nvPr/>
        </p:nvSpPr>
        <p:spPr>
          <a:xfrm flipH="1">
            <a:off x="7632720" y="2989440"/>
            <a:ext cx="611280" cy="27432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Овал 97"/>
          <p:cNvSpPr/>
          <p:nvPr/>
        </p:nvSpPr>
        <p:spPr>
          <a:xfrm flipH="1">
            <a:off x="84240" y="5398920"/>
            <a:ext cx="2860560" cy="13287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Ділення обох частин на степі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Овал 46"/>
          <p:cNvSpPr/>
          <p:nvPr/>
        </p:nvSpPr>
        <p:spPr>
          <a:xfrm flipH="1">
            <a:off x="148680" y="210960"/>
            <a:ext cx="2912760" cy="139068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Зведення до однієї осн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Овал 4"/>
          <p:cNvSpPr/>
          <p:nvPr/>
        </p:nvSpPr>
        <p:spPr>
          <a:xfrm flipH="1">
            <a:off x="574560" y="414360"/>
            <a:ext cx="2060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Прямоугольник 22"/>
          <p:cNvSpPr/>
          <p:nvPr/>
        </p:nvSpPr>
        <p:spPr>
          <a:xfrm>
            <a:off x="781200" y="1365120"/>
            <a:ext cx="3360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Прямоугольник 23"/>
          <p:cNvSpPr/>
          <p:nvPr/>
        </p:nvSpPr>
        <p:spPr>
          <a:xfrm>
            <a:off x="781200" y="1365120"/>
            <a:ext cx="3360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Овал 24"/>
          <p:cNvSpPr/>
          <p:nvPr/>
        </p:nvSpPr>
        <p:spPr>
          <a:xfrm flipH="1">
            <a:off x="8574120" y="503280"/>
            <a:ext cx="27144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Овал 25"/>
          <p:cNvSpPr/>
          <p:nvPr/>
        </p:nvSpPr>
        <p:spPr>
          <a:xfrm flipH="1">
            <a:off x="8381160" y="320760"/>
            <a:ext cx="273240" cy="1299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Овал 26"/>
          <p:cNvSpPr/>
          <p:nvPr/>
        </p:nvSpPr>
        <p:spPr>
          <a:xfrm flipH="1">
            <a:off x="7768440" y="357120"/>
            <a:ext cx="428760" cy="204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Овал 27"/>
          <p:cNvSpPr/>
          <p:nvPr/>
        </p:nvSpPr>
        <p:spPr>
          <a:xfrm flipH="1">
            <a:off x="7543800" y="157320"/>
            <a:ext cx="27288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Овал 28"/>
          <p:cNvSpPr/>
          <p:nvPr/>
        </p:nvSpPr>
        <p:spPr>
          <a:xfrm flipH="1">
            <a:off x="7048440" y="84240"/>
            <a:ext cx="271440" cy="1299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Овал 29"/>
          <p:cNvSpPr/>
          <p:nvPr/>
        </p:nvSpPr>
        <p:spPr>
          <a:xfrm flipH="1">
            <a:off x="6436440" y="210960"/>
            <a:ext cx="273240" cy="13032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Овал 30"/>
          <p:cNvSpPr/>
          <p:nvPr/>
        </p:nvSpPr>
        <p:spPr>
          <a:xfrm flipH="1">
            <a:off x="5900040" y="303120"/>
            <a:ext cx="428760" cy="2034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Овал 31"/>
          <p:cNvSpPr/>
          <p:nvPr/>
        </p:nvSpPr>
        <p:spPr>
          <a:xfrm flipH="1">
            <a:off x="5522760" y="503280"/>
            <a:ext cx="27144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Овал 32"/>
          <p:cNvSpPr/>
          <p:nvPr/>
        </p:nvSpPr>
        <p:spPr>
          <a:xfrm flipH="1">
            <a:off x="5294160" y="703440"/>
            <a:ext cx="271440" cy="1299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Овал 34"/>
          <p:cNvSpPr/>
          <p:nvPr/>
        </p:nvSpPr>
        <p:spPr>
          <a:xfrm flipH="1">
            <a:off x="8764560" y="1012680"/>
            <a:ext cx="271440" cy="13032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Овал 35"/>
          <p:cNvSpPr/>
          <p:nvPr/>
        </p:nvSpPr>
        <p:spPr>
          <a:xfrm flipH="1">
            <a:off x="8380440" y="1176480"/>
            <a:ext cx="426960" cy="204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Овал 36"/>
          <p:cNvSpPr/>
          <p:nvPr/>
        </p:nvSpPr>
        <p:spPr>
          <a:xfrm flipH="1">
            <a:off x="7612920" y="1322280"/>
            <a:ext cx="622440" cy="2970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Овал 37"/>
          <p:cNvSpPr/>
          <p:nvPr/>
        </p:nvSpPr>
        <p:spPr>
          <a:xfrm flipH="1">
            <a:off x="7162920" y="1558800"/>
            <a:ext cx="271440" cy="1303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Овал 38"/>
          <p:cNvSpPr/>
          <p:nvPr/>
        </p:nvSpPr>
        <p:spPr>
          <a:xfrm flipH="1">
            <a:off x="6854760" y="1322280"/>
            <a:ext cx="426960" cy="204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Овал 39"/>
          <p:cNvSpPr/>
          <p:nvPr/>
        </p:nvSpPr>
        <p:spPr>
          <a:xfrm flipH="1">
            <a:off x="6627960" y="1576440"/>
            <a:ext cx="272880" cy="1299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Овал 41"/>
          <p:cNvSpPr/>
          <p:nvPr/>
        </p:nvSpPr>
        <p:spPr>
          <a:xfrm flipH="1">
            <a:off x="5291280" y="1212840"/>
            <a:ext cx="42696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Нашивка 43"/>
          <p:cNvSpPr/>
          <p:nvPr/>
        </p:nvSpPr>
        <p:spPr>
          <a:xfrm>
            <a:off x="4037040" y="417600"/>
            <a:ext cx="1257120" cy="114444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144440"/>
              <a:gd name="textAreaBottom" fmla="*/ 1144800 h 11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48" y="0"/>
                </a:lnTo>
                <a:lnTo>
                  <a:pt x="21600" y="10800"/>
                </a:lnTo>
                <a:lnTo>
                  <a:pt x="9348" y="21600"/>
                </a:lnTo>
                <a:lnTo>
                  <a:pt x="0" y="21600"/>
                </a:lnTo>
                <a:lnTo>
                  <a:pt x="12252" y="108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Нашивка 44"/>
          <p:cNvSpPr/>
          <p:nvPr/>
        </p:nvSpPr>
        <p:spPr>
          <a:xfrm>
            <a:off x="3198960" y="396720"/>
            <a:ext cx="1257120" cy="114624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31" y="0"/>
                </a:lnTo>
                <a:lnTo>
                  <a:pt x="21600" y="10800"/>
                </a:lnTo>
                <a:lnTo>
                  <a:pt x="9331" y="21600"/>
                </a:lnTo>
                <a:lnTo>
                  <a:pt x="0" y="21600"/>
                </a:lnTo>
                <a:lnTo>
                  <a:pt x="12269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Группа 48"/>
          <p:cNvGrpSpPr/>
          <p:nvPr/>
        </p:nvGrpSpPr>
        <p:grpSpPr>
          <a:xfrm>
            <a:off x="5468760" y="4091040"/>
            <a:ext cx="3360960" cy="511200"/>
            <a:chOff x="5468760" y="4091040"/>
            <a:chExt cx="3360960" cy="511200"/>
          </a:xfrm>
        </p:grpSpPr>
        <p:sp>
          <p:nvSpPr>
            <p:cNvPr id="1656" name="Прямоугольник 72"/>
            <p:cNvSpPr/>
            <p:nvPr/>
          </p:nvSpPr>
          <p:spPr>
            <a:xfrm flipH="1">
              <a:off x="5468760" y="4091040"/>
              <a:ext cx="33609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Прямоугольник 73"/>
            <p:cNvSpPr/>
            <p:nvPr/>
          </p:nvSpPr>
          <p:spPr>
            <a:xfrm flipH="1">
              <a:off x="5468760" y="4091040"/>
              <a:ext cx="33609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8" name="Овал 49"/>
          <p:cNvSpPr/>
          <p:nvPr/>
        </p:nvSpPr>
        <p:spPr>
          <a:xfrm flipH="1">
            <a:off x="8565480" y="3936960"/>
            <a:ext cx="266760" cy="1224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Овал 50"/>
          <p:cNvSpPr/>
          <p:nvPr/>
        </p:nvSpPr>
        <p:spPr>
          <a:xfrm flipH="1">
            <a:off x="8378280" y="3763800"/>
            <a:ext cx="268200" cy="1224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Овал 51"/>
          <p:cNvSpPr/>
          <p:nvPr/>
        </p:nvSpPr>
        <p:spPr>
          <a:xfrm flipH="1">
            <a:off x="7776360" y="3798720"/>
            <a:ext cx="420840" cy="1936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Овал 52"/>
          <p:cNvSpPr/>
          <p:nvPr/>
        </p:nvSpPr>
        <p:spPr>
          <a:xfrm flipH="1">
            <a:off x="7554240" y="360828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Овал 53"/>
          <p:cNvSpPr/>
          <p:nvPr/>
        </p:nvSpPr>
        <p:spPr>
          <a:xfrm flipH="1">
            <a:off x="7068240" y="3540240"/>
            <a:ext cx="266760" cy="1220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Овал 54"/>
          <p:cNvSpPr/>
          <p:nvPr/>
        </p:nvSpPr>
        <p:spPr>
          <a:xfrm flipH="1">
            <a:off x="6469920" y="3660840"/>
            <a:ext cx="266760" cy="1220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Овал 55"/>
          <p:cNvSpPr/>
          <p:nvPr/>
        </p:nvSpPr>
        <p:spPr>
          <a:xfrm flipH="1">
            <a:off x="5943600" y="3746520"/>
            <a:ext cx="419040" cy="1936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Овал 56"/>
          <p:cNvSpPr/>
          <p:nvPr/>
        </p:nvSpPr>
        <p:spPr>
          <a:xfrm flipH="1">
            <a:off x="5571360" y="3936960"/>
            <a:ext cx="266760" cy="1224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Овал 57"/>
          <p:cNvSpPr/>
          <p:nvPr/>
        </p:nvSpPr>
        <p:spPr>
          <a:xfrm flipH="1">
            <a:off x="5346000" y="4125960"/>
            <a:ext cx="268200" cy="1220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Овал 58"/>
          <p:cNvSpPr/>
          <p:nvPr/>
        </p:nvSpPr>
        <p:spPr>
          <a:xfrm flipH="1">
            <a:off x="6873840" y="3763800"/>
            <a:ext cx="687600" cy="3160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Овал 59"/>
          <p:cNvSpPr/>
          <p:nvPr/>
        </p:nvSpPr>
        <p:spPr>
          <a:xfrm flipH="1">
            <a:off x="8752680" y="4419720"/>
            <a:ext cx="266760" cy="1220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Овал 60"/>
          <p:cNvSpPr/>
          <p:nvPr/>
        </p:nvSpPr>
        <p:spPr>
          <a:xfrm flipH="1">
            <a:off x="8375760" y="4573440"/>
            <a:ext cx="420480" cy="1936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Овал 61"/>
          <p:cNvSpPr/>
          <p:nvPr/>
        </p:nvSpPr>
        <p:spPr>
          <a:xfrm flipH="1">
            <a:off x="7623000" y="4711680"/>
            <a:ext cx="611280" cy="2811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Овал 62"/>
          <p:cNvSpPr/>
          <p:nvPr/>
        </p:nvSpPr>
        <p:spPr>
          <a:xfrm flipH="1">
            <a:off x="7182000" y="4935600"/>
            <a:ext cx="2664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Овал 63"/>
          <p:cNvSpPr/>
          <p:nvPr/>
        </p:nvSpPr>
        <p:spPr>
          <a:xfrm flipH="1">
            <a:off x="6877800" y="4711680"/>
            <a:ext cx="420840" cy="1936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Овал 64"/>
          <p:cNvSpPr/>
          <p:nvPr/>
        </p:nvSpPr>
        <p:spPr>
          <a:xfrm flipH="1">
            <a:off x="6655680" y="495288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Овал 66"/>
          <p:cNvSpPr/>
          <p:nvPr/>
        </p:nvSpPr>
        <p:spPr>
          <a:xfrm flipH="1">
            <a:off x="5342760" y="4608360"/>
            <a:ext cx="420840" cy="193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Нашивка 67"/>
          <p:cNvSpPr/>
          <p:nvPr/>
        </p:nvSpPr>
        <p:spPr>
          <a:xfrm>
            <a:off x="4110120" y="3797280"/>
            <a:ext cx="1233360" cy="108576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52" y="0"/>
                </a:lnTo>
                <a:lnTo>
                  <a:pt x="21600" y="10800"/>
                </a:lnTo>
                <a:lnTo>
                  <a:pt x="9752" y="21600"/>
                </a:lnTo>
                <a:lnTo>
                  <a:pt x="0" y="21600"/>
                </a:lnTo>
                <a:lnTo>
                  <a:pt x="11848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Нашивка 68"/>
          <p:cNvSpPr/>
          <p:nvPr/>
        </p:nvSpPr>
        <p:spPr>
          <a:xfrm>
            <a:off x="3100320" y="3797280"/>
            <a:ext cx="1233720" cy="108576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52" y="0"/>
                </a:lnTo>
                <a:lnTo>
                  <a:pt x="21600" y="10800"/>
                </a:lnTo>
                <a:lnTo>
                  <a:pt x="9752" y="21600"/>
                </a:lnTo>
                <a:lnTo>
                  <a:pt x="0" y="21600"/>
                </a:lnTo>
                <a:lnTo>
                  <a:pt x="11848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Овал 70"/>
          <p:cNvSpPr/>
          <p:nvPr/>
        </p:nvSpPr>
        <p:spPr>
          <a:xfrm flipH="1">
            <a:off x="104760" y="3708360"/>
            <a:ext cx="2860560" cy="1317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Винесення спільного множника за ду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Овал 26"/>
          <p:cNvSpPr/>
          <p:nvPr/>
        </p:nvSpPr>
        <p:spPr>
          <a:xfrm flipH="1">
            <a:off x="523800" y="3902040"/>
            <a:ext cx="20224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9" name="Группа 75"/>
          <p:cNvGrpSpPr/>
          <p:nvPr/>
        </p:nvGrpSpPr>
        <p:grpSpPr>
          <a:xfrm>
            <a:off x="5448240" y="5786280"/>
            <a:ext cx="3360960" cy="514440"/>
            <a:chOff x="5448240" y="5786280"/>
            <a:chExt cx="3360960" cy="514440"/>
          </a:xfrm>
        </p:grpSpPr>
        <p:sp>
          <p:nvSpPr>
            <p:cNvPr id="1680" name="Прямоугольник 99"/>
            <p:cNvSpPr/>
            <p:nvPr/>
          </p:nvSpPr>
          <p:spPr>
            <a:xfrm flipH="1">
              <a:off x="5448240" y="5786280"/>
              <a:ext cx="3360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Прямоугольник 100"/>
            <p:cNvSpPr/>
            <p:nvPr/>
          </p:nvSpPr>
          <p:spPr>
            <a:xfrm flipH="1">
              <a:off x="5448240" y="5786280"/>
              <a:ext cx="3360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2" name="Овал 76"/>
          <p:cNvSpPr/>
          <p:nvPr/>
        </p:nvSpPr>
        <p:spPr>
          <a:xfrm flipH="1">
            <a:off x="8545680" y="5629320"/>
            <a:ext cx="2664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Овал 77"/>
          <p:cNvSpPr/>
          <p:nvPr/>
        </p:nvSpPr>
        <p:spPr>
          <a:xfrm flipH="1">
            <a:off x="8357400" y="5454720"/>
            <a:ext cx="266760" cy="1252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Овал 78"/>
          <p:cNvSpPr/>
          <p:nvPr/>
        </p:nvSpPr>
        <p:spPr>
          <a:xfrm flipH="1">
            <a:off x="7756560" y="5489640"/>
            <a:ext cx="4190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Овал 79"/>
          <p:cNvSpPr/>
          <p:nvPr/>
        </p:nvSpPr>
        <p:spPr>
          <a:xfrm flipH="1">
            <a:off x="7533720" y="5299200"/>
            <a:ext cx="268200" cy="1238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Овал 80"/>
          <p:cNvSpPr/>
          <p:nvPr/>
        </p:nvSpPr>
        <p:spPr>
          <a:xfrm flipH="1">
            <a:off x="7047720" y="5229360"/>
            <a:ext cx="266760" cy="123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Овал 81"/>
          <p:cNvSpPr/>
          <p:nvPr/>
        </p:nvSpPr>
        <p:spPr>
          <a:xfrm flipH="1">
            <a:off x="6448320" y="5351400"/>
            <a:ext cx="268560" cy="123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Овал 82"/>
          <p:cNvSpPr/>
          <p:nvPr/>
        </p:nvSpPr>
        <p:spPr>
          <a:xfrm flipH="1">
            <a:off x="5920560" y="5437080"/>
            <a:ext cx="420840" cy="1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Овал 83"/>
          <p:cNvSpPr/>
          <p:nvPr/>
        </p:nvSpPr>
        <p:spPr>
          <a:xfrm flipH="1">
            <a:off x="5550840" y="5629320"/>
            <a:ext cx="266760" cy="123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Овал 84"/>
          <p:cNvSpPr/>
          <p:nvPr/>
        </p:nvSpPr>
        <p:spPr>
          <a:xfrm flipH="1">
            <a:off x="5325480" y="5819760"/>
            <a:ext cx="268200" cy="12528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Овал 85"/>
          <p:cNvSpPr/>
          <p:nvPr/>
        </p:nvSpPr>
        <p:spPr>
          <a:xfrm flipH="1">
            <a:off x="6852600" y="5454720"/>
            <a:ext cx="687240" cy="3207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Овал 86"/>
          <p:cNvSpPr/>
          <p:nvPr/>
        </p:nvSpPr>
        <p:spPr>
          <a:xfrm flipH="1">
            <a:off x="8732160" y="6116760"/>
            <a:ext cx="266760" cy="1238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Овал 87"/>
          <p:cNvSpPr/>
          <p:nvPr/>
        </p:nvSpPr>
        <p:spPr>
          <a:xfrm flipH="1">
            <a:off x="8354160" y="6272280"/>
            <a:ext cx="4208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Овал 88"/>
          <p:cNvSpPr/>
          <p:nvPr/>
        </p:nvSpPr>
        <p:spPr>
          <a:xfrm flipH="1">
            <a:off x="7602480" y="6411960"/>
            <a:ext cx="611280" cy="2840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Овал 89"/>
          <p:cNvSpPr/>
          <p:nvPr/>
        </p:nvSpPr>
        <p:spPr>
          <a:xfrm flipH="1">
            <a:off x="7158960" y="6637320"/>
            <a:ext cx="268200" cy="1252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Овал 90"/>
          <p:cNvSpPr/>
          <p:nvPr/>
        </p:nvSpPr>
        <p:spPr>
          <a:xfrm flipH="1">
            <a:off x="6857280" y="6411960"/>
            <a:ext cx="4208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Овал 91"/>
          <p:cNvSpPr/>
          <p:nvPr/>
        </p:nvSpPr>
        <p:spPr>
          <a:xfrm flipH="1">
            <a:off x="6635160" y="665496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Овал 92"/>
          <p:cNvSpPr/>
          <p:nvPr/>
        </p:nvSpPr>
        <p:spPr>
          <a:xfrm flipH="1">
            <a:off x="5956200" y="6377040"/>
            <a:ext cx="611280" cy="2840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Овал 93"/>
          <p:cNvSpPr/>
          <p:nvPr/>
        </p:nvSpPr>
        <p:spPr>
          <a:xfrm flipH="1">
            <a:off x="5322960" y="6307200"/>
            <a:ext cx="42048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Нашивка 94"/>
          <p:cNvSpPr/>
          <p:nvPr/>
        </p:nvSpPr>
        <p:spPr>
          <a:xfrm>
            <a:off x="4089240" y="5489640"/>
            <a:ext cx="1233720" cy="109368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65" y="0"/>
                </a:lnTo>
                <a:lnTo>
                  <a:pt x="21600" y="10800"/>
                </a:lnTo>
                <a:lnTo>
                  <a:pt x="9665" y="21600"/>
                </a:lnTo>
                <a:lnTo>
                  <a:pt x="0" y="21600"/>
                </a:lnTo>
                <a:lnTo>
                  <a:pt x="1193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Нашивка 95"/>
          <p:cNvSpPr/>
          <p:nvPr/>
        </p:nvSpPr>
        <p:spPr>
          <a:xfrm>
            <a:off x="3079800" y="5489640"/>
            <a:ext cx="1233360" cy="109368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65" y="0"/>
                </a:lnTo>
                <a:lnTo>
                  <a:pt x="21600" y="10800"/>
                </a:lnTo>
                <a:lnTo>
                  <a:pt x="9665" y="21600"/>
                </a:lnTo>
                <a:lnTo>
                  <a:pt x="0" y="21600"/>
                </a:lnTo>
                <a:lnTo>
                  <a:pt x="11935" y="108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Овал 26"/>
          <p:cNvSpPr/>
          <p:nvPr/>
        </p:nvSpPr>
        <p:spPr>
          <a:xfrm flipH="1">
            <a:off x="503280" y="5594400"/>
            <a:ext cx="20224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3" name="Группа 102"/>
          <p:cNvGrpSpPr/>
          <p:nvPr/>
        </p:nvGrpSpPr>
        <p:grpSpPr>
          <a:xfrm>
            <a:off x="5476680" y="2381400"/>
            <a:ext cx="3362040" cy="500040"/>
            <a:chOff x="5476680" y="2381400"/>
            <a:chExt cx="3362040" cy="500040"/>
          </a:xfrm>
        </p:grpSpPr>
        <p:sp>
          <p:nvSpPr>
            <p:cNvPr id="1704" name="Прямоугольник 126"/>
            <p:cNvSpPr/>
            <p:nvPr/>
          </p:nvSpPr>
          <p:spPr>
            <a:xfrm flipH="1">
              <a:off x="5476320" y="2381400"/>
              <a:ext cx="336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Прямоугольник 127"/>
            <p:cNvSpPr/>
            <p:nvPr/>
          </p:nvSpPr>
          <p:spPr>
            <a:xfrm flipH="1">
              <a:off x="5476320" y="2381400"/>
              <a:ext cx="336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6" name="Овал 103"/>
          <p:cNvSpPr/>
          <p:nvPr/>
        </p:nvSpPr>
        <p:spPr>
          <a:xfrm flipH="1">
            <a:off x="8574840" y="2230560"/>
            <a:ext cx="26676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Овал 104"/>
          <p:cNvSpPr/>
          <p:nvPr/>
        </p:nvSpPr>
        <p:spPr>
          <a:xfrm flipH="1">
            <a:off x="8387640" y="2062080"/>
            <a:ext cx="266760" cy="120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Овал 105"/>
          <p:cNvSpPr/>
          <p:nvPr/>
        </p:nvSpPr>
        <p:spPr>
          <a:xfrm flipH="1">
            <a:off x="7786800" y="2095560"/>
            <a:ext cx="419040" cy="1890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Овал 106"/>
          <p:cNvSpPr/>
          <p:nvPr/>
        </p:nvSpPr>
        <p:spPr>
          <a:xfrm flipH="1">
            <a:off x="7563600" y="1909800"/>
            <a:ext cx="266760" cy="1206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Овал 107"/>
          <p:cNvSpPr/>
          <p:nvPr/>
        </p:nvSpPr>
        <p:spPr>
          <a:xfrm flipH="1">
            <a:off x="7076520" y="1843200"/>
            <a:ext cx="26820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Овал 108"/>
          <p:cNvSpPr/>
          <p:nvPr/>
        </p:nvSpPr>
        <p:spPr>
          <a:xfrm flipH="1">
            <a:off x="6477840" y="1960560"/>
            <a:ext cx="268200" cy="120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Овал 109"/>
          <p:cNvSpPr/>
          <p:nvPr/>
        </p:nvSpPr>
        <p:spPr>
          <a:xfrm flipH="1">
            <a:off x="5950800" y="2044800"/>
            <a:ext cx="420840" cy="188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Овал 110"/>
          <p:cNvSpPr/>
          <p:nvPr/>
        </p:nvSpPr>
        <p:spPr>
          <a:xfrm flipH="1">
            <a:off x="5579280" y="2230560"/>
            <a:ext cx="26820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Овал 111"/>
          <p:cNvSpPr/>
          <p:nvPr/>
        </p:nvSpPr>
        <p:spPr>
          <a:xfrm flipH="1">
            <a:off x="5355360" y="2416320"/>
            <a:ext cx="266760" cy="120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Овал 113"/>
          <p:cNvSpPr/>
          <p:nvPr/>
        </p:nvSpPr>
        <p:spPr>
          <a:xfrm flipH="1">
            <a:off x="8761320" y="2701800"/>
            <a:ext cx="268560" cy="1206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Овал 114"/>
          <p:cNvSpPr/>
          <p:nvPr/>
        </p:nvSpPr>
        <p:spPr>
          <a:xfrm flipH="1">
            <a:off x="8385120" y="2854440"/>
            <a:ext cx="419040" cy="1886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Овал 116"/>
          <p:cNvSpPr/>
          <p:nvPr/>
        </p:nvSpPr>
        <p:spPr>
          <a:xfrm flipH="1">
            <a:off x="7189200" y="3208320"/>
            <a:ext cx="268200" cy="1191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Овал 117"/>
          <p:cNvSpPr/>
          <p:nvPr/>
        </p:nvSpPr>
        <p:spPr>
          <a:xfrm flipH="1">
            <a:off x="6888240" y="2989440"/>
            <a:ext cx="419040" cy="188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Овал 118"/>
          <p:cNvSpPr/>
          <p:nvPr/>
        </p:nvSpPr>
        <p:spPr>
          <a:xfrm flipH="1">
            <a:off x="6665760" y="3224160"/>
            <a:ext cx="268560" cy="120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Овал 119"/>
          <p:cNvSpPr/>
          <p:nvPr/>
        </p:nvSpPr>
        <p:spPr>
          <a:xfrm flipH="1">
            <a:off x="5984280" y="2954160"/>
            <a:ext cx="610920" cy="2764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Овал 120"/>
          <p:cNvSpPr/>
          <p:nvPr/>
        </p:nvSpPr>
        <p:spPr>
          <a:xfrm flipH="1">
            <a:off x="5353200" y="2887560"/>
            <a:ext cx="420480" cy="1890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Нашивка 121"/>
          <p:cNvSpPr/>
          <p:nvPr/>
        </p:nvSpPr>
        <p:spPr>
          <a:xfrm>
            <a:off x="4014720" y="2101680"/>
            <a:ext cx="1233720" cy="106056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029" y="0"/>
                </a:lnTo>
                <a:lnTo>
                  <a:pt x="21600" y="10800"/>
                </a:lnTo>
                <a:lnTo>
                  <a:pt x="10029" y="21600"/>
                </a:lnTo>
                <a:lnTo>
                  <a:pt x="0" y="21600"/>
                </a:lnTo>
                <a:lnTo>
                  <a:pt x="11571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Нашивка 122"/>
          <p:cNvSpPr/>
          <p:nvPr/>
        </p:nvSpPr>
        <p:spPr>
          <a:xfrm>
            <a:off x="3211560" y="2127240"/>
            <a:ext cx="1233360" cy="106056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029" y="0"/>
                </a:lnTo>
                <a:lnTo>
                  <a:pt x="21600" y="10800"/>
                </a:lnTo>
                <a:lnTo>
                  <a:pt x="10029" y="21600"/>
                </a:lnTo>
                <a:lnTo>
                  <a:pt x="0" y="21600"/>
                </a:lnTo>
                <a:lnTo>
                  <a:pt x="11571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Овал 124"/>
          <p:cNvSpPr/>
          <p:nvPr/>
        </p:nvSpPr>
        <p:spPr>
          <a:xfrm flipH="1">
            <a:off x="114480" y="2008080"/>
            <a:ext cx="2860560" cy="12877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Зведення до алгебраїч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Овал 26"/>
          <p:cNvSpPr/>
          <p:nvPr/>
        </p:nvSpPr>
        <p:spPr>
          <a:xfrm flipH="1">
            <a:off x="533520" y="2195640"/>
            <a:ext cx="2022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6" name="TextBox 4" descr=""/>
          <p:cNvPicPr/>
          <p:nvPr/>
        </p:nvPicPr>
        <p:blipFill>
          <a:blip r:embed="rId1"/>
          <a:stretch/>
        </p:blipFill>
        <p:spPr>
          <a:xfrm>
            <a:off x="5284800" y="665280"/>
            <a:ext cx="3755880" cy="583920"/>
          </a:xfrm>
          <a:prstGeom prst="rect">
            <a:avLst/>
          </a:prstGeom>
          <a:ln w="0">
            <a:noFill/>
          </a:ln>
        </p:spPr>
      </p:pic>
      <p:pic>
        <p:nvPicPr>
          <p:cNvPr id="1727" name="TextBox 101" descr=""/>
          <p:cNvPicPr/>
          <p:nvPr/>
        </p:nvPicPr>
        <p:blipFill>
          <a:blip r:embed="rId2"/>
          <a:stretch/>
        </p:blipFill>
        <p:spPr>
          <a:xfrm>
            <a:off x="5241960" y="5467320"/>
            <a:ext cx="3755880" cy="1287360"/>
          </a:xfrm>
          <a:prstGeom prst="rect">
            <a:avLst/>
          </a:prstGeom>
          <a:ln w="0">
            <a:noFill/>
          </a:ln>
        </p:spPr>
      </p:pic>
      <p:pic>
        <p:nvPicPr>
          <p:cNvPr id="1728" name="TextBox 74" descr=""/>
          <p:cNvPicPr/>
          <p:nvPr/>
        </p:nvPicPr>
        <p:blipFill>
          <a:blip r:embed="rId3"/>
          <a:stretch/>
        </p:blipFill>
        <p:spPr>
          <a:xfrm>
            <a:off x="5132520" y="4071960"/>
            <a:ext cx="4011480" cy="549360"/>
          </a:xfrm>
          <a:prstGeom prst="rect">
            <a:avLst/>
          </a:prstGeom>
          <a:ln w="0">
            <a:noFill/>
          </a:ln>
        </p:spPr>
      </p:pic>
      <p:pic>
        <p:nvPicPr>
          <p:cNvPr id="1729" name="TextBox 128" descr=""/>
          <p:cNvPicPr/>
          <p:nvPr/>
        </p:nvPicPr>
        <p:blipFill>
          <a:blip r:embed="rId4"/>
          <a:stretch/>
        </p:blipFill>
        <p:spPr>
          <a:xfrm>
            <a:off x="5303880" y="2359080"/>
            <a:ext cx="375444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3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3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3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3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3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3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0" name="Picture 3" descr=""/>
          <p:cNvPicPr/>
          <p:nvPr/>
        </p:nvPicPr>
        <p:blipFill>
          <a:blip r:embed="rId1"/>
          <a:stretch/>
        </p:blipFill>
        <p:spPr>
          <a:xfrm>
            <a:off x="-6480" y="5724360"/>
            <a:ext cx="1981440" cy="1279800"/>
          </a:xfrm>
          <a:prstGeom prst="rect">
            <a:avLst/>
          </a:prstGeom>
          <a:ln w="0">
            <a:noFill/>
          </a:ln>
        </p:spPr>
      </p:pic>
      <p:pic>
        <p:nvPicPr>
          <p:cNvPr id="1731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32" name="Объект 2" descr=""/>
          <p:cNvPicPr/>
          <p:nvPr/>
        </p:nvPicPr>
        <p:blipFill>
          <a:blip r:embed="rId3"/>
          <a:stretch/>
        </p:blipFill>
        <p:spPr>
          <a:xfrm>
            <a:off x="476280" y="1944720"/>
            <a:ext cx="8131320" cy="3767040"/>
          </a:xfrm>
          <a:prstGeom prst="rect">
            <a:avLst/>
          </a:prstGeom>
          <a:ln w="0">
            <a:noFill/>
          </a:ln>
        </p:spPr>
      </p:pic>
      <p:sp>
        <p:nvSpPr>
          <p:cNvPr id="1733" name="Овал 6"/>
          <p:cNvSpPr/>
          <p:nvPr/>
        </p:nvSpPr>
        <p:spPr>
          <a:xfrm>
            <a:off x="2700360" y="1844640"/>
            <a:ext cx="1833480" cy="987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Овал 11"/>
          <p:cNvSpPr/>
          <p:nvPr/>
        </p:nvSpPr>
        <p:spPr>
          <a:xfrm>
            <a:off x="6732720" y="2832120"/>
            <a:ext cx="17557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Овал 7"/>
          <p:cNvSpPr/>
          <p:nvPr/>
        </p:nvSpPr>
        <p:spPr>
          <a:xfrm>
            <a:off x="4421160" y="3933720"/>
            <a:ext cx="4067280" cy="79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8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3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3" descr=""/>
          <p:cNvPicPr/>
          <p:nvPr/>
        </p:nvPicPr>
        <p:blipFill>
          <a:blip r:embed="rId1"/>
          <a:stretch/>
        </p:blipFill>
        <p:spPr>
          <a:xfrm>
            <a:off x="-6480" y="5724360"/>
            <a:ext cx="1981440" cy="1279800"/>
          </a:xfrm>
          <a:prstGeom prst="rect">
            <a:avLst/>
          </a:prstGeom>
          <a:ln w="0">
            <a:noFill/>
          </a:ln>
        </p:spPr>
      </p:pic>
      <p:pic>
        <p:nvPicPr>
          <p:cNvPr id="1737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38" name="Объект 2" descr=""/>
          <p:cNvPicPr/>
          <p:nvPr/>
        </p:nvPicPr>
        <p:blipFill>
          <a:blip r:embed="rId3"/>
          <a:stretch/>
        </p:blipFill>
        <p:spPr>
          <a:xfrm>
            <a:off x="476280" y="1620720"/>
            <a:ext cx="8131320" cy="4767480"/>
          </a:xfrm>
          <a:prstGeom prst="rect">
            <a:avLst/>
          </a:prstGeom>
          <a:ln w="0">
            <a:noFill/>
          </a:ln>
        </p:spPr>
      </p:pic>
      <p:sp>
        <p:nvSpPr>
          <p:cNvPr id="1739" name="Овал 6"/>
          <p:cNvSpPr/>
          <p:nvPr/>
        </p:nvSpPr>
        <p:spPr>
          <a:xfrm>
            <a:off x="755640" y="2205000"/>
            <a:ext cx="633744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Овал 9"/>
          <p:cNvSpPr/>
          <p:nvPr/>
        </p:nvSpPr>
        <p:spPr>
          <a:xfrm>
            <a:off x="4570560" y="5516640"/>
            <a:ext cx="1511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0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Заголовок 8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2" descr=""/>
          <p:cNvPicPr/>
          <p:nvPr/>
        </p:nvPicPr>
        <p:blipFill>
          <a:blip r:embed="rId2"/>
          <a:stretch/>
        </p:blipFill>
        <p:spPr>
          <a:xfrm>
            <a:off x="4973760" y="2349360"/>
            <a:ext cx="3946320" cy="357840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3" descr=""/>
          <p:cNvPicPr/>
          <p:nvPr/>
        </p:nvPicPr>
        <p:blipFill>
          <a:blip r:embed="rId3"/>
          <a:stretch/>
        </p:blipFill>
        <p:spPr>
          <a:xfrm>
            <a:off x="2556000" y="1628640"/>
            <a:ext cx="2681280" cy="484848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3" descr=""/>
          <p:cNvPicPr/>
          <p:nvPr/>
        </p:nvPicPr>
        <p:blipFill>
          <a:blip r:embed="rId4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8:20:52Z</dcterms:created>
  <dc:creator>Лена</dc:creator>
  <dc:description/>
  <dc:language>en-US</dc:language>
  <cp:lastModifiedBy>User</cp:lastModifiedBy>
  <dcterms:modified xsi:type="dcterms:W3CDTF">2015-06-12T08:06:26Z</dcterms:modified>
  <cp:revision>8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a6000000000001024140</vt:lpwstr>
  </property>
</Properties>
</file>