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CUCKOOCL.WAV" ContentType="audio/x-wav"/>
  <Override PartName="/ppt/media/image15.jpeg" ContentType="image/jpeg"/>
  <Override PartName="/ppt/media/image5.gif" ContentType="image/gif"/>
  <Override PartName="/ppt/media/image14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7.wmf" ContentType="image/x-wmf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3652-F7EE-4557-AD42-36AA5F3822C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1846-63A0-4CFD-B371-0A4CB3167BD9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80AF-D550-4F4E-A046-E538EB70541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757-0A11-4BDA-96EF-8DDCE122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BB8-0197-48F0-B626-5440244A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075-8199-4B6F-BEE7-CFCE281C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A4D-C1CE-47DB-9E1A-4EC72FD4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8D2A-06E5-4CB8-BE9A-7A1ECC37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471C-264D-45CA-9D24-3948F450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0E91-81BA-44E7-967F-AF00AE3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EA7F-C1C4-4999-96DB-5EC4067A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4A81-45A7-4B09-B335-7C3830CE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F448-6D47-45AB-A6BB-2C17B5F6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84BD-3A3F-4A69-B6FC-C63C09F8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B85-38A4-4A2D-9E8C-9969A35B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B339-B5DE-4F22-956B-624FCD64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A620-6A93-4544-BA6C-F783AFF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D656-EC5C-4EEE-99C9-89B0C0E6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BC65-5BB7-4481-993B-E92C32D4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093C-36B3-4309-AA98-04D0297B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C6F2-6D39-43D7-984A-6C5377B7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F095-F238-49B8-BFA7-C7D16136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AD68-AEBD-457D-B7DF-F35421AD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C8D2-2D9D-438A-8079-873D8B77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5C79-C30D-40F7-BA23-1AE8725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59B-1F58-4FA8-996E-08253B9D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3046-ADF2-4F70-817E-3A9B78BE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158A-F85F-4432-8472-CC7122F2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478C-01D2-4D35-BFDB-011983F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24778-6638-4CF2-AF01-0A9F1A14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2415-4A62-4F43-8A1B-171D19CC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105B-BAA3-4D5C-82A6-F5BD0F05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A6D2-F6FF-4D4A-8D70-7337B61A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9912-C766-43C5-8AC1-DFF75151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2A2A-78D3-4574-8223-D819C313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55D1-3D9F-4D93-89DE-CDC1D944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317-DDD8-44A3-8D40-B9F76E59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F561-79C7-4FF2-B8BA-CF079DDE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542C-130D-4BB1-AE55-ABABFA3A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CBAA-27B5-4150-82F2-DB7BC785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6CF10-94C7-44F9-900E-527EDA18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F2D6-92CA-4804-844E-FD748923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96B54-FEAA-4E41-B426-B2191547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2E55-5E49-4367-8C51-A82DE61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4032A-5F3B-4E9D-8087-F7E58CD7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CE82D-5028-463F-AD09-DE4EA99E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FD031-4E4E-41F1-BA7F-B57ABE53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24A-0F06-48A7-9675-C54A2B5A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ACB24-147C-42B1-9AA1-58BE21C6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7603-9B20-46B8-8EAD-404FC444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2A1C-11DE-4B5C-B01E-F2257369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10036-4EF0-4DBC-A4BD-D1E74237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8CA0-CF82-4EF0-A7F3-B98D15E4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39E66-E6E4-4CDC-9540-BCC22A07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01DB5-ABFF-402E-B381-BF0652F7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4444-5630-43C4-A768-9C0C0BD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A6C62-5AF2-42E6-AADF-68F38B8B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A2163-96CE-45C3-87CB-AF02D374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8BE-D20A-41B1-B9FC-CB767193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916E7-76A1-487F-8EA9-64EC868F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3AB4-8B68-4601-B3D0-894D711D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96BA3-138D-466B-B81F-43E65410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8A7A-4854-4BC9-BE93-1FA0B950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7F546-66C0-4DAB-8947-76583EC6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96A04-58AC-4906-90BE-5E8D786C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F351C-746B-4334-8984-1B58B870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B78F2-D89E-435C-AF99-CC267B1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F9CB9-287B-40E3-8A57-06EACD2F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618A1-D0A8-4461-9DA4-5CF8AD3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261-AFFA-481C-9173-9C0999D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0F00A-005C-40F2-845D-CACE920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7A0DF-92D0-4BEA-B77A-7891E467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3A122-42D1-493F-9F69-EF1A0984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15393-4AE2-4D9F-BFA4-01485A0E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8FB8B-358C-4A6E-8009-B0F1D883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BEA5D-186C-4293-8369-9D74A92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087E-223B-4F39-9DE6-A6134FAB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EFB6D-75B1-4BAC-9ACA-14FC2469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DF0BB-B892-47EE-A25E-F27C4B19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3319-F5D3-4547-82BB-122AE55B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598-16BA-4B43-BF80-103D17D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0914-6870-4E58-8079-9CE08497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DA6E2-E751-4390-B290-4780BE5B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5C0CC-E56C-41A5-84B0-761275CA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31C89-EAAD-4314-A9FC-EB2821F2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89FC-E896-40F7-A0CD-36860880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FC6-BE27-4590-B996-4160E12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3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" name="Пряма сполучна лінія 3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27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27f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6899-3C45-4024-A3BE-DC589A74AED7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 сполучна ліні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4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C309-4E43-4DEB-A72C-6330F6359D36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а сполучна лінія 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89" name="Пряма сполучна лінія 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1356-E135-4FDD-B10D-755D723D696E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EAA9-0E59-43AA-9202-B39B5BA3E346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497E-B0D0-4CE3-B5E3-BCEFC43BEE05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1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504E-EC61-4D42-8B47-8747FAB4460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4B5A-4979-4BBF-B559-32F5F882038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gif"/><Relationship Id="rId3" Type="http://schemas.openxmlformats.org/officeDocument/2006/relationships/audio" Target="../media/CUCKOOCL.WAV"/><Relationship Id="rId4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hyperlink" Target="file:///153%20%20%20&#1048;&#1089;&#1072;&#1072;&#1082;%20&#1053;&#1100;&#1102;&#1090;&#1086;&#1085;.mp4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&#1043;&#1086;&#1090;&#1092;&#1088;&#1080;&#1076;%20&#1042;&#1080;&#1083;&#1100;&#1075;&#1077;&#1083;&#1100;&#1084;%20&#1051;&#1077;&#1081;&#1073;&#1085;&#1080;&#1094;%20---%20&#1051;&#1048;&#1062;&#1040;.mp4" TargetMode="External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451320" y="5491080"/>
            <a:ext cx="520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ff33"/>
                </a:solidFill>
                <a:latin typeface="Arial"/>
              </a:rPr>
              <a:t>Знання збільшуються, а вміння</a:t>
            </a:r>
            <a:br>
              <a:rPr sz="2000"/>
            </a:br>
            <a:r>
              <a:rPr b="1" lang="uk-UA" sz="2000" spc="-1" strike="noStrike">
                <a:solidFill>
                  <a:srgbClr val="66ff33"/>
                </a:solidFill>
                <a:latin typeface="Arial"/>
              </a:rPr>
              <a:t>вдосконалюються коли ними  ділишся.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народ</a:t>
            </a:r>
            <a:r>
              <a:rPr b="1" lang="uk-UA" sz="2000" spc="-1" strike="noStrike">
                <a:solidFill>
                  <a:srgbClr val="66ff33"/>
                </a:solidFill>
                <a:latin typeface="Arial"/>
              </a:rPr>
              <a:t>на  мудр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71640" y="1268280"/>
            <a:ext cx="7524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СТОСУВАННЯ ІНТЕГРАЛА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 МОДЕЛЮВАННЯ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СІВ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p:transition advTm="59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03400" y="448920"/>
            <a:ext cx="4464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1. Першу букву якого слова нагадує знак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484360" y="1773360"/>
          <a:ext cx="3743280" cy="27669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9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8360" y="537372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2. Хто із відомих математиків-фізиків розглянув фізичний зміст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5" name=""/>
          <p:cNvGraphicFramePr/>
          <p:nvPr/>
        </p:nvGraphicFramePr>
        <p:xfrm>
          <a:off x="1908000" y="1341360"/>
          <a:ext cx="6264360" cy="3826080"/>
        </p:xfrm>
        <a:graphic>
          <a:graphicData uri="http://schemas.openxmlformats.org/drawingml/2006/table">
            <a:tbl>
              <a:tblPr/>
              <a:tblGrid>
                <a:gridCol w="330480"/>
                <a:gridCol w="328680"/>
                <a:gridCol w="330120"/>
                <a:gridCol w="330120"/>
                <a:gridCol w="330120"/>
                <a:gridCol w="328680"/>
                <a:gridCol w="330120"/>
                <a:gridCol w="330120"/>
                <a:gridCol w="376560"/>
                <a:gridCol w="296640"/>
                <a:gridCol w="314280"/>
                <a:gridCol w="330480"/>
                <a:gridCol w="330120"/>
                <a:gridCol w="328680"/>
                <a:gridCol w="330120"/>
                <a:gridCol w="330120"/>
                <a:gridCol w="330120"/>
                <a:gridCol w="328680"/>
                <a:gridCol w="33012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3. Хто із відомих математиків розглянув математичний зміст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1476360" y="1413000"/>
          <a:ext cx="6913080" cy="3744360"/>
        </p:xfrm>
        <a:graphic>
          <a:graphicData uri="http://schemas.openxmlformats.org/drawingml/2006/table">
            <a:tbl>
              <a:tblPr/>
              <a:tblGrid>
                <a:gridCol w="363960"/>
                <a:gridCol w="362520"/>
                <a:gridCol w="364320"/>
                <a:gridCol w="365760"/>
                <a:gridCol w="362520"/>
                <a:gridCol w="363960"/>
                <a:gridCol w="363960"/>
                <a:gridCol w="362880"/>
                <a:gridCol w="416880"/>
                <a:gridCol w="311400"/>
                <a:gridCol w="365400"/>
                <a:gridCol w="362880"/>
                <a:gridCol w="363960"/>
                <a:gridCol w="363960"/>
                <a:gridCol w="362520"/>
                <a:gridCol w="365760"/>
                <a:gridCol w="364320"/>
                <a:gridCol w="362160"/>
                <a:gridCol w="363960"/>
              </a:tblGrid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515772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4. Як називається трапеція, площу якої ми знаходимо за допомогою визначеного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9" name=""/>
          <p:cNvGraphicFramePr/>
          <p:nvPr/>
        </p:nvGraphicFramePr>
        <p:xfrm>
          <a:off x="1476360" y="1341360"/>
          <a:ext cx="6983280" cy="3742920"/>
        </p:xfrm>
        <a:graphic>
          <a:graphicData uri="http://schemas.openxmlformats.org/drawingml/2006/table">
            <a:tbl>
              <a:tblPr/>
              <a:tblGrid>
                <a:gridCol w="368280"/>
                <a:gridCol w="365040"/>
                <a:gridCol w="368280"/>
                <a:gridCol w="368280"/>
                <a:gridCol w="368640"/>
                <a:gridCol w="365040"/>
                <a:gridCol w="369720"/>
                <a:gridCol w="366840"/>
                <a:gridCol w="420480"/>
                <a:gridCol w="314640"/>
                <a:gridCol w="368280"/>
                <a:gridCol w="366480"/>
                <a:gridCol w="370080"/>
                <a:gridCol w="403200"/>
                <a:gridCol w="330120"/>
                <a:gridCol w="368280"/>
                <a:gridCol w="368280"/>
                <a:gridCol w="365040"/>
                <a:gridCol w="368280"/>
              </a:tblGrid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0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537372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5. Як називається функція, яка стоїть під знаком інтеграла?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1476360" y="1268280"/>
          <a:ext cx="6840720" cy="3889080"/>
        </p:xfrm>
        <a:graphic>
          <a:graphicData uri="http://schemas.openxmlformats.org/drawingml/2006/table">
            <a:tbl>
              <a:tblPr/>
              <a:tblGrid>
                <a:gridCol w="360360"/>
                <a:gridCol w="357120"/>
                <a:gridCol w="360360"/>
                <a:gridCol w="362160"/>
                <a:gridCol w="360360"/>
                <a:gridCol w="358560"/>
                <a:gridCol w="362160"/>
                <a:gridCol w="358560"/>
                <a:gridCol w="412920"/>
                <a:gridCol w="307800"/>
                <a:gridCol w="360360"/>
                <a:gridCol w="358920"/>
                <a:gridCol w="361800"/>
                <a:gridCol w="395280"/>
                <a:gridCol w="324000"/>
                <a:gridCol w="361800"/>
                <a:gridCol w="360360"/>
                <a:gridCol w="357480"/>
                <a:gridCol w="360360"/>
              </a:tblGrid>
              <a:tr h="54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6. Як називається множник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x</a:t>
            </a: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 в підінтегральному виразі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3" name=""/>
          <p:cNvGraphicFramePr/>
          <p:nvPr/>
        </p:nvGraphicFramePr>
        <p:xfrm>
          <a:off x="1476360" y="1341360"/>
          <a:ext cx="6931080" cy="3854520"/>
        </p:xfrm>
        <a:graphic>
          <a:graphicData uri="http://schemas.openxmlformats.org/drawingml/2006/table">
            <a:tbl>
              <a:tblPr/>
              <a:tblGrid>
                <a:gridCol w="365040"/>
                <a:gridCol w="362160"/>
                <a:gridCol w="365040"/>
                <a:gridCol w="366840"/>
                <a:gridCol w="365040"/>
                <a:gridCol w="363600"/>
                <a:gridCol w="366480"/>
                <a:gridCol w="363600"/>
                <a:gridCol w="417600"/>
                <a:gridCol w="312840"/>
                <a:gridCol w="365040"/>
                <a:gridCol w="363600"/>
                <a:gridCol w="366480"/>
                <a:gridCol w="401760"/>
                <a:gridCol w="326880"/>
                <a:gridCol w="366840"/>
                <a:gridCol w="365040"/>
                <a:gridCol w="362160"/>
                <a:gridCol w="365040"/>
              </a:tblGrid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4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7. Як називається операція обернена до операції диференціювання?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1403280" y="1341360"/>
          <a:ext cx="7129440" cy="3600360"/>
        </p:xfrm>
        <a:graphic>
          <a:graphicData uri="http://schemas.openxmlformats.org/drawingml/2006/table">
            <a:tbl>
              <a:tblPr/>
              <a:tblGrid>
                <a:gridCol w="376200"/>
                <a:gridCol w="373320"/>
                <a:gridCol w="372960"/>
                <a:gridCol w="377640"/>
                <a:gridCol w="376200"/>
                <a:gridCol w="374760"/>
                <a:gridCol w="378000"/>
                <a:gridCol w="371520"/>
                <a:gridCol w="455400"/>
                <a:gridCol w="297000"/>
                <a:gridCol w="376200"/>
                <a:gridCol w="371520"/>
                <a:gridCol w="377640"/>
                <a:gridCol w="414360"/>
                <a:gridCol w="336600"/>
                <a:gridCol w="378000"/>
                <a:gridCol w="372960"/>
                <a:gridCol w="372960"/>
                <a:gridCol w="376200"/>
              </a:tblGrid>
              <a:tr h="48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1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39640" y="537372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МОЛОДЦІ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7" name=""/>
          <p:cNvGraphicFramePr/>
          <p:nvPr/>
        </p:nvGraphicFramePr>
        <p:xfrm>
          <a:off x="1403280" y="1341360"/>
          <a:ext cx="7129080" cy="3671640"/>
        </p:xfrm>
        <a:graphic>
          <a:graphicData uri="http://schemas.openxmlformats.org/drawingml/2006/table">
            <a:tbl>
              <a:tblPr/>
              <a:tblGrid>
                <a:gridCol w="376200"/>
                <a:gridCol w="372600"/>
                <a:gridCol w="374040"/>
                <a:gridCol w="377640"/>
                <a:gridCol w="336960"/>
                <a:gridCol w="413280"/>
                <a:gridCol w="377280"/>
                <a:gridCol w="372600"/>
                <a:gridCol w="431280"/>
                <a:gridCol w="320760"/>
                <a:gridCol w="375840"/>
                <a:gridCol w="372960"/>
                <a:gridCol w="377280"/>
                <a:gridCol w="413280"/>
                <a:gridCol w="336960"/>
                <a:gridCol w="377280"/>
                <a:gridCol w="374400"/>
                <a:gridCol w="372600"/>
                <a:gridCol w="375840"/>
              </a:tblGrid>
              <a:tr h="64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8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92360" y="272520"/>
            <a:ext cx="69897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РЕЗЕНТАЦІЯ ПРОЕКТІ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Застосування інтеграла до моделювання процесів у математиці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Застосування інтеграла до моделювання процесів у фізиці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та техніці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Застосування інтеграла до моделювання процесів в економіці, бізнесі та бухгалтерії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Застосування інтегралу згортки для синтезу цифрових систем»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обота з тестам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…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кажи мені – і я запам’ятаю. Дай мені діяти самому – і я навчуся…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китайська мудрість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3276720" cy="29206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піграф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5400" y="2349000"/>
            <a:ext cx="82263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Природа формулює свої закон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мовою математик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Галілео Галіле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5640" y="44370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КЛЮЧ ДО ТЕСТІВ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700280"/>
          <a:ext cx="8569080" cy="4114800"/>
        </p:xfrm>
        <a:graphic>
          <a:graphicData uri="http://schemas.openxmlformats.org/drawingml/2006/table">
            <a:tbl>
              <a:tblPr/>
              <a:tblGrid>
                <a:gridCol w="2143080"/>
                <a:gridCol w="2141640"/>
                <a:gridCol w="2143080"/>
                <a:gridCol w="2141280"/>
              </a:tblGrid>
              <a:tr h="514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аріан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омер завда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211640" y="573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 rot="20050200">
            <a:off x="6227280" y="3068640"/>
            <a:ext cx="1625760" cy="14349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 rot="1704600">
            <a:off x="1190160" y="3540240"/>
            <a:ext cx="1513080" cy="1473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 rot="20826000">
            <a:off x="5796000" y="4437000"/>
            <a:ext cx="1587600" cy="14353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 rot="1423800">
            <a:off x="4284720" y="4292280"/>
            <a:ext cx="1574640" cy="14349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 rot="1017000">
            <a:off x="2556000" y="436572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7"/>
          <a:stretch/>
        </p:blipFill>
        <p:spPr>
          <a:xfrm rot="20593800">
            <a:off x="4066920" y="2923920"/>
            <a:ext cx="2514600" cy="14349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 rot="20661600">
            <a:off x="2626920" y="285228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9"/>
          <a:stretch/>
        </p:blipFill>
        <p:spPr>
          <a:xfrm>
            <a:off x="3780000" y="69228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агальнити та систематизувати знання по даній темі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изначити значущість, необхідність використання інтеграла до моделювання процесів у фізиці, математиці, економіці та інших науках, необхідних для успішного оволодіння вами обраною професією відповідно до сучасних вимог ринку праці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7280" y="188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Геніальні вчені Ньютон і Лейбніц довел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eaea"/>
                </a:solidFill>
                <a:latin typeface="Arial"/>
              </a:rPr>
              <a:t>виявлення точності і можливості розрахунків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eaea"/>
                </a:solidFill>
                <a:latin typeface="Arial"/>
              </a:rPr>
              <a:t>у світовому хаосі рухів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eaea"/>
                </a:solidFill>
                <a:latin typeface="Arial"/>
              </a:rPr>
              <a:t>під силу людському розуму.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Мерзляк А.Г. та ін. Алгебра та початки аналізу: Підруч. для 11 класу загальноосвітніх навч. закладів: академ. Рівень, проф. рівень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Опрацювати за підручником п.26 с.254- 261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ШкільМ.Т. та ін. Алгебра та початки аналізу: Підруч. для 11 класу загальноосвітніх навч. закладів /М.І.Шкіль, З.І.Слєпкань, О.С. Дубинчук. – К.: Зодіак – ЕКО,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Опрацювати за підручником с.144- 148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Розв’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язати задачі для самостйного домашнього розв’язування, запропоновані вашими т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овариш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Використані ресурси: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літератур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панасов П.Т., Апанасов Н.П.Сборник математических задач с практическим содержанием. – М.: Просвещение, 1987. – 110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родский Я.С., Слипенко А.К. Производная и интеграл в неравенствах, уравнениях, тождествах – К.: Вища шк., 1988. – 12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иленкин Н.Я., Функции в природе и технике: Книга для внеклассного чтения, 9-10 класс.– М.: Просвещение,1985,-192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ороговцев А.Я. Інтеграл та його застосування. – К.: Вища школа, 1974. – 128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ириченко В., Бала ханова О. Інтегрований урок-семінар в 11 класі з поглибленим вивченням математики // Математика в школі. – 206. - № 6. – С.26-3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тасюк В., Григулич  С., Використання похідної функції на прикладах розв'язування економічних задач // Математика в школі. – 2008. - № 5. – С.35-4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користані інтернет-ресурс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uk.wikipedia.org/wiki/Первісна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formula.co.ua/</a:t>
            </a: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integral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.ph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ukrreferat.com/index.php?refer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edu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ukrsat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com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- http://soundlib.narod.ru/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- http://office.microsoft.com/clipart/ default.aspx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7467480" y="562284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2987640" y="981000"/>
            <a:ext cx="345600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кую за уваг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692360" y="3645000"/>
            <a:ext cx="6119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их зустрічей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2000" fill="hold"/>
                                        <p:tgtEl>
                                          <p:spTgt spid="5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5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евіз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Думаємо коллективно, працюємо оперативн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Сперечаємося доказово - це для всіх обовязков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596360" y="620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755640" y="472428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8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UCKOOC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Досягнення успішного результату під час розв’язування задач – зовсім не привілей математики. Усе людське життя – це не що інше, як бажання досягти успіху в розв’язуванні все нових питань та проблем</a:t>
            </a:r>
            <a:r>
              <a:rPr b="0" i="1" lang="uk-UA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55640" y="515772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агальнити та систематизувати знання по даній темі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изначити значущість, необхідність використання інтеграла до моделювання процесів у фізиці, математиці, економіці та інших науках, необхідних для успішного оволодіння вами обраною професією відповідно до сучасних вимог ринку праці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«Математику не можна вивчити, спостерігаючи       як це робить сусід…».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aeaea"/>
                </a:solidFill>
                <a:latin typeface="Arial"/>
              </a:rPr>
              <a:t>                                     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А. Нівен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167652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33200" y="542880"/>
            <a:ext cx="8937720" cy="166392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кутник 3"/>
          <p:cNvSpPr/>
          <p:nvPr/>
        </p:nvSpPr>
        <p:spPr>
          <a:xfrm>
            <a:off x="1857240" y="24289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Формула </a:t>
            </a:r>
            <a:r>
              <a:rPr b="0" lang="uk-UA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Ньютона</a:t>
            </a:r>
            <a:r>
              <a:rPr b="0" lang="ru-RU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-</a:t>
            </a:r>
            <a:r>
              <a:rPr b="0" lang="uk-UA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Лейбні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Object 5" descr=""/>
          <p:cNvPicPr/>
          <p:nvPr/>
        </p:nvPicPr>
        <p:blipFill>
          <a:blip r:embed="rId2"/>
          <a:stretch/>
        </p:blipFill>
        <p:spPr>
          <a:xfrm>
            <a:off x="642960" y="3357720"/>
            <a:ext cx="6919920" cy="2357280"/>
          </a:xfrm>
          <a:prstGeom prst="rect">
            <a:avLst/>
          </a:prstGeom>
          <a:ln w="0">
            <a:noFill/>
          </a:ln>
        </p:spPr>
      </p:pic>
      <p:grpSp>
        <p:nvGrpSpPr>
          <p:cNvPr id="452" name="Групувати 5"/>
          <p:cNvGrpSpPr/>
          <p:nvPr/>
        </p:nvGrpSpPr>
        <p:grpSpPr>
          <a:xfrm>
            <a:off x="7572240" y="4533840"/>
            <a:ext cx="1571760" cy="1968480"/>
            <a:chOff x="7572240" y="4533840"/>
            <a:chExt cx="1571760" cy="1968480"/>
          </a:xfrm>
        </p:grpSpPr>
        <p:pic>
          <p:nvPicPr>
            <p:cNvPr id="453" name="Picture 2" descr=""/>
            <p:cNvPicPr/>
            <p:nvPr/>
          </p:nvPicPr>
          <p:blipFill>
            <a:blip r:embed="rId3"/>
            <a:stretch/>
          </p:blipFill>
          <p:spPr>
            <a:xfrm>
              <a:off x="7615080" y="4533840"/>
              <a:ext cx="14860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Box 7"/>
            <p:cNvSpPr/>
            <p:nvPr/>
          </p:nvSpPr>
          <p:spPr>
            <a:xfrm>
              <a:off x="7572240" y="592956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 u="sng">
                  <a:solidFill>
                    <a:srgbClr val="65b2ff"/>
                  </a:solidFill>
                  <a:uFillTx/>
                  <a:latin typeface="Arial"/>
                  <a:hlinkClick r:id="rId4"/>
                </a:rPr>
                <a:t>Ньют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увати 10"/>
          <p:cNvGrpSpPr/>
          <p:nvPr/>
        </p:nvGrpSpPr>
        <p:grpSpPr>
          <a:xfrm>
            <a:off x="214200" y="1071720"/>
            <a:ext cx="1455840" cy="2154240"/>
            <a:chOff x="214200" y="1071720"/>
            <a:chExt cx="1455840" cy="2154240"/>
          </a:xfrm>
        </p:grpSpPr>
        <p:pic>
          <p:nvPicPr>
            <p:cNvPr id="456" name="Picture 3" descr=""/>
            <p:cNvPicPr/>
            <p:nvPr/>
          </p:nvPicPr>
          <p:blipFill>
            <a:blip r:embed="rId5"/>
            <a:stretch/>
          </p:blipFill>
          <p:spPr>
            <a:xfrm>
              <a:off x="214200" y="1071720"/>
              <a:ext cx="1455840" cy="20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Box 9"/>
            <p:cNvSpPr/>
            <p:nvPr/>
          </p:nvSpPr>
          <p:spPr>
            <a:xfrm>
              <a:off x="428400" y="2857680"/>
              <a:ext cx="12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 u="sng">
                  <a:solidFill>
                    <a:srgbClr val="65b2ff"/>
                  </a:solidFill>
                  <a:uFillTx/>
                  <a:latin typeface="Arial"/>
                  <a:hlinkClick r:id="rId6"/>
                </a:rPr>
                <a:t>Лейбні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700360" y="28526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Які натхненні Ньютон з Лейбніцем бу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Якими барвами їх формули загра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Яку могуть побачили, к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Зійшлись їх похідні і інтеграл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Зійшлись – немов злилися два струм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В стократ потужнішу ріку є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Їх теоремі давній завдя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Те, що колись долали вчені за ві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Тепер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тудент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 долає за го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4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ртка індивідуальних досягнен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7000" y="1512000"/>
            <a:ext cx="66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Прізвище _______________            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група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450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39640" y="2138400"/>
          <a:ext cx="8280360" cy="4257720"/>
        </p:xfrm>
        <a:graphic>
          <a:graphicData uri="http://schemas.openxmlformats.org/drawingml/2006/table">
            <a:tbl>
              <a:tblPr/>
              <a:tblGrid>
                <a:gridCol w="4560840"/>
                <a:gridCol w="1818000"/>
                <a:gridCol w="1901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тапи робо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аксимальна кількість б</a:t>
                      </a: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л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брані ба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часть в розв’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язуванні  кросвор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ідбір матеріал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формлення презент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монстрація презент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ліцопитуван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формлення букле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иконання тестових завд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даткова уч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ідсум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64" name=""/>
          <p:cNvSpPr/>
          <p:nvPr/>
        </p:nvSpPr>
        <p:spPr>
          <a:xfrm>
            <a:off x="-5040" y="5636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72680" y="64904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Оцінка</a:t>
            </a: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812000" y="836640"/>
            <a:ext cx="8924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Критерії оціню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9280" y="1773360"/>
          <a:ext cx="8496360" cy="2776320"/>
        </p:xfrm>
        <a:graphic>
          <a:graphicData uri="http://schemas.openxmlformats.org/drawingml/2006/table">
            <a:tbl>
              <a:tblPr/>
              <a:tblGrid>
                <a:gridCol w="936720"/>
                <a:gridCol w="820800"/>
                <a:gridCol w="660240"/>
                <a:gridCol w="658800"/>
                <a:gridCol w="660600"/>
                <a:gridCol w="658800"/>
                <a:gridCol w="660240"/>
                <a:gridCol w="658800"/>
                <a:gridCol w="660600"/>
                <a:gridCol w="658800"/>
                <a:gridCol w="660240"/>
                <a:gridCol w="801720"/>
              </a:tblGrid>
              <a:tr h="143964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л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нше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-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-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-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-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-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0-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5-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ільше 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цін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4211640" y="5445000"/>
            <a:ext cx="8920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8:21:47Z</dcterms:created>
  <dc:creator>viktoriya</dc:creator>
  <dc:description/>
  <dc:language>en-US</dc:language>
  <cp:lastModifiedBy/>
  <dcterms:modified xsi:type="dcterms:W3CDTF">2012-12-02T05:16:40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19000000000001024140</vt:lpwstr>
  </property>
</Properties>
</file>