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CUCKOOCL.WAV" ContentType="audio/x-wav"/>
  <Override PartName="/ppt/media/image15.jpeg" ContentType="image/jpeg"/>
  <Override PartName="/ppt/media/image5.gif" ContentType="image/gif"/>
  <Override PartName="/ppt/media/image14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22.jpeg" ContentType="image/jpeg"/>
  <Override PartName="/ppt/media/image1.jpeg" ContentType="image/jpeg"/>
  <Override PartName="/ppt/media/image4.gif" ContentType="image/gif"/>
  <Override PartName="/ppt/media/image7.wmf" ContentType="image/x-wmf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322F-7CE1-4BF6-BB28-DE394CCA0AC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23ED-AA66-4A58-A8DB-AFF2A8A4F902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1EA3-646C-48F7-AD2F-8827A96BEC2E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1FD-CEAE-4829-928B-5D35BA4E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600-11F1-44D2-B6F8-820F6AE5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BB8-85C0-4B8F-8456-2F9769AA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443-D019-4037-B458-723D42F5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F6DE-9DE3-438A-B485-48083586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9FD9-4EA3-405C-A2AB-0E052DCC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B497-63A3-4C89-8FB3-C5876C93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FD87-76EA-4C24-BE26-8646E2CE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19E7-58E5-4BC9-B847-77855414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F50A-FBDA-4A04-AF78-CAE9765A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D998-203E-42CA-AE71-22DA4EEF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9A6-2242-4949-890C-3395D3B0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9941-6C4E-41D8-B5D8-15011BE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82FE-A6CF-4265-934D-C48F66A6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FFE4-32BF-4D4F-A1AC-62DEC16B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DC75-9A00-4F91-862F-CF31AF8C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3FB6-8415-4154-8FC4-65EEF88A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F5C5-A18B-4615-9230-72176BA4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A311-5D3A-4F54-A143-C68FD341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5AE1-C10D-424C-8352-6D309052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1CBF6-9F26-4788-8289-CD2B796D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78FF-F53C-4EE0-AB4C-839D5096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8CF-3C3D-4AA3-B6BF-C45FA074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C63E-EF1D-4F73-A3AA-5E5FE4B7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F68CE-7E77-4BA3-B851-554BB218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B65D-1A9B-410C-8187-CC6C3B95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CD50-DC5E-43F6-878D-527B7617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60FF-5DD5-4122-B553-04798373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AFB0-D8AE-4C13-B58A-32ECFB88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A070A-7E56-4866-887C-EBF3292D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03191-2D0C-42C1-A0A3-3A9BA73B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FF343-00AB-42A1-BAC3-FB919EBF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D1123-CA50-4168-BD57-5093DC2E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B54-046C-4750-8D15-AB5A5CFF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D53DA-C612-486B-8D3E-207DD3B3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BCDD1-D549-4BBE-AC3A-DB1C5121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CBF5-9E7F-4E6D-853C-ABF5438A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4FDA8-E9E4-40B7-B635-6B2DF6B7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1E866-70BA-4625-8317-A3333E35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A2495-EBB0-46C0-97DE-ED5B47A0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4631A-D729-4EF0-90E9-0A99E82F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F85C7-99C0-43EA-94B3-EEC23EAB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1C15D-9C2E-4B32-8E1B-78E42DAD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505AE-9E1B-4A48-82CB-70566416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45D-BDF4-4903-BE46-936BB292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91B84-1F81-47FF-A94D-2389C33D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F084E-FC7A-41B4-81E3-73EDEF55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93CDD-204E-4218-97FB-EB5F731D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5D5D6-3899-4D21-9826-866848D0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2810F-E0A3-4238-9FA5-42B8E757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E8575-239A-4C73-A324-4B4978A5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A523F-78BC-4A26-B9BD-40C1DB40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7E672-298A-47BC-B942-6B49FDAB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5045F-5832-4682-8D6A-89191209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70244-4DDB-42EB-B736-E7BD66DA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06A-D9BC-45CC-8449-41E5E7FA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97588-0671-471C-8752-1E1C2103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FD72C-0C25-4F5A-8CF9-3EAC899D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848A5-06B4-4049-B6A8-D4136C92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ABCB-F0A9-4104-896A-D57344FE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E48AF-C781-489B-8A49-6E8FFF03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04985-CF85-44E5-8C25-4E21D957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18F1-F485-4C2C-B358-48AC098F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A21DF-3E35-4907-B2B1-749EE2D5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483B4-8E55-4CD5-BEAC-918AC053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7F6CA-5B69-470F-BA2F-A9DE244B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41D-5AB5-49A5-B1F3-293AE2B4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BA06D-AD5C-4A8E-A1A5-5A79052B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C3531-5E6F-4964-81EE-730B46E4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1D080-422E-42F8-ACF5-10EE363F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394A8-73C6-43FF-91B2-0380FA44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B5748-7E92-45EF-ACEF-D25757EB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C1A5D-8649-4BB5-AE33-435902CD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0078D-12AE-4777-AEDA-19229842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99130-EA6C-468F-A186-4FA52C16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D33F0-6B6A-4D08-9841-D6E65994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8A500-65B5-445F-A4EB-5DD8A99D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B05-0350-4BD8-B11F-51D8F04F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839B2-2B46-45A9-8356-CB060C46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231B3-FED9-4A28-8422-AADC8C03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04ED1-7793-47F6-AE85-36B977C5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F2828-4C41-415A-9BE1-EF44DF56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D6818-79D0-4B26-9837-BC395AA2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359-6412-4494-9EE7-528A654E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3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" name="Пряма сполучна лінія 3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27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66627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27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66627f"/>
              </a:solidFill>
              <a:latin typeface="Franklin Gothic Medium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4B47-D21C-41CF-B5BD-C6464FDB4085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а сполучна лінія 6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4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e98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9e98e"/>
              </a:solidFill>
              <a:latin typeface="Franklin Gothic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C616-7302-483E-96CA-A6B9FFEB4A36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а сполучна лінія 4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89" name="Пряма сполучна лінія 4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e98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9e98e"/>
              </a:solidFill>
              <a:latin typeface="Franklin Gothic Mediu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7422-0C96-4F60-960B-70BB3EEE0443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e98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9e98e"/>
              </a:solidFill>
              <a:latin typeface="Franklin Gothic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2408-B1FB-49EA-AB05-709594B8B2EE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eaab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eaab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98e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9e98e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9e98e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9e98e"/>
              </a:solidFill>
              <a:latin typeface="Franklin Gothic Mediu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e95a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31C4-387B-4EA9-A1C4-06C4EEB416C1}" type="slidenum">
              <a:rPr b="0" lang="en-US" sz="1200" spc="-1" strike="noStrike">
                <a:solidFill>
                  <a:srgbClr val="6e95a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1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1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C040-7B52-41ED-8E1A-21BB4752F6B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2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2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7103-29A5-4E71-B679-14D01125551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gif"/><Relationship Id="rId3" Type="http://schemas.openxmlformats.org/officeDocument/2006/relationships/audio" Target="../media/CUCKOOCL.WAV"/><Relationship Id="rId4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hyperlink" Target="file:///153%20%20%20&#1048;&#1089;&#1072;&#1072;&#1082;%20&#1053;&#1100;&#1102;&#1090;&#1086;&#1085;.mp4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/&#1043;&#1086;&#1090;&#1092;&#1088;&#1080;&#1076;%20&#1042;&#1080;&#1083;&#1100;&#1075;&#1077;&#1083;&#1100;&#1084;%20&#1051;&#1077;&#1081;&#1073;&#1085;&#1080;&#1094;%20---%20&#1051;&#1048;&#1062;&#1040;.mp4" TargetMode="External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451320" y="5491080"/>
            <a:ext cx="520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ff33"/>
                </a:solidFill>
                <a:latin typeface="Arial"/>
              </a:rPr>
              <a:t>Знання збільшуються, а вміння</a:t>
            </a:r>
            <a:br>
              <a:rPr sz="2000"/>
            </a:br>
            <a:r>
              <a:rPr b="1" lang="uk-UA" sz="2000" spc="-1" strike="noStrike">
                <a:solidFill>
                  <a:srgbClr val="66ff33"/>
                </a:solidFill>
                <a:latin typeface="Arial"/>
              </a:rPr>
              <a:t>вдосконалюються коли ними  ділишся.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народ</a:t>
            </a:r>
            <a:r>
              <a:rPr b="1" lang="uk-UA" sz="2000" spc="-1" strike="noStrike">
                <a:solidFill>
                  <a:srgbClr val="66ff33"/>
                </a:solidFill>
                <a:latin typeface="Arial"/>
              </a:rPr>
              <a:t>на  мудрі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71640" y="1268280"/>
            <a:ext cx="7524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СТОСУВАННЯ ІНТЕГРАЛА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 МОДЕЛЮВАННЯ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ЦЕСІВ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p:transition advTm="59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003400" y="448920"/>
            <a:ext cx="4464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9640" y="53737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1. Першу букву якого слова нагадує знак інтегра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2484360" y="1773360"/>
          <a:ext cx="3743280" cy="27669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9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4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68360" y="537372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2. Хто із відомих математиків-фізиків розглянув фізичний зміст інтегра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4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5" name=""/>
          <p:cNvGraphicFramePr/>
          <p:nvPr/>
        </p:nvGraphicFramePr>
        <p:xfrm>
          <a:off x="1908000" y="1341360"/>
          <a:ext cx="6264360" cy="3826080"/>
        </p:xfrm>
        <a:graphic>
          <a:graphicData uri="http://schemas.openxmlformats.org/drawingml/2006/table">
            <a:tbl>
              <a:tblPr/>
              <a:tblGrid>
                <a:gridCol w="330480"/>
                <a:gridCol w="328680"/>
                <a:gridCol w="330120"/>
                <a:gridCol w="330120"/>
                <a:gridCol w="330120"/>
                <a:gridCol w="328680"/>
                <a:gridCol w="330120"/>
                <a:gridCol w="330120"/>
                <a:gridCol w="376560"/>
                <a:gridCol w="296640"/>
                <a:gridCol w="314280"/>
                <a:gridCol w="330480"/>
                <a:gridCol w="330120"/>
                <a:gridCol w="328680"/>
                <a:gridCol w="330120"/>
                <a:gridCol w="330120"/>
                <a:gridCol w="330120"/>
                <a:gridCol w="328680"/>
                <a:gridCol w="330120"/>
              </a:tblGrid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6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9640" y="53737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3. Хто із відомих математиків розглянув математичний зміст інтегра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1476360" y="1413000"/>
          <a:ext cx="6913080" cy="3744360"/>
        </p:xfrm>
        <a:graphic>
          <a:graphicData uri="http://schemas.openxmlformats.org/drawingml/2006/table">
            <a:tbl>
              <a:tblPr/>
              <a:tblGrid>
                <a:gridCol w="363960"/>
                <a:gridCol w="362520"/>
                <a:gridCol w="364320"/>
                <a:gridCol w="365760"/>
                <a:gridCol w="362520"/>
                <a:gridCol w="363960"/>
                <a:gridCol w="363960"/>
                <a:gridCol w="362880"/>
                <a:gridCol w="416880"/>
                <a:gridCol w="311400"/>
                <a:gridCol w="365400"/>
                <a:gridCol w="362880"/>
                <a:gridCol w="363960"/>
                <a:gridCol w="363960"/>
                <a:gridCol w="362520"/>
                <a:gridCol w="365760"/>
                <a:gridCol w="364320"/>
                <a:gridCol w="362160"/>
                <a:gridCol w="363960"/>
              </a:tblGrid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3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39640" y="515772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4. Як називається трапеція, площу якої ми знаходимо за допомогою визначеного інтеграл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9" name=""/>
          <p:cNvGraphicFramePr/>
          <p:nvPr/>
        </p:nvGraphicFramePr>
        <p:xfrm>
          <a:off x="1476360" y="1341360"/>
          <a:ext cx="6983280" cy="3742920"/>
        </p:xfrm>
        <a:graphic>
          <a:graphicData uri="http://schemas.openxmlformats.org/drawingml/2006/table">
            <a:tbl>
              <a:tblPr/>
              <a:tblGrid>
                <a:gridCol w="368280"/>
                <a:gridCol w="365040"/>
                <a:gridCol w="368280"/>
                <a:gridCol w="368280"/>
                <a:gridCol w="368640"/>
                <a:gridCol w="365040"/>
                <a:gridCol w="369720"/>
                <a:gridCol w="366840"/>
                <a:gridCol w="420480"/>
                <a:gridCol w="314640"/>
                <a:gridCol w="368280"/>
                <a:gridCol w="366480"/>
                <a:gridCol w="370080"/>
                <a:gridCol w="403200"/>
                <a:gridCol w="330120"/>
                <a:gridCol w="368280"/>
                <a:gridCol w="368280"/>
                <a:gridCol w="365040"/>
                <a:gridCol w="368280"/>
              </a:tblGrid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0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9640" y="5373720"/>
            <a:ext cx="799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5. Як називається функція, яка стоїть під знаком інтеграла?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1476360" y="1268280"/>
          <a:ext cx="6840720" cy="3889080"/>
        </p:xfrm>
        <a:graphic>
          <a:graphicData uri="http://schemas.openxmlformats.org/drawingml/2006/table">
            <a:tbl>
              <a:tblPr/>
              <a:tblGrid>
                <a:gridCol w="360360"/>
                <a:gridCol w="357120"/>
                <a:gridCol w="360360"/>
                <a:gridCol w="362160"/>
                <a:gridCol w="360360"/>
                <a:gridCol w="358560"/>
                <a:gridCol w="362160"/>
                <a:gridCol w="358560"/>
                <a:gridCol w="412920"/>
                <a:gridCol w="307800"/>
                <a:gridCol w="360360"/>
                <a:gridCol w="358920"/>
                <a:gridCol w="361800"/>
                <a:gridCol w="395280"/>
                <a:gridCol w="324000"/>
                <a:gridCol w="361800"/>
                <a:gridCol w="360360"/>
                <a:gridCol w="357480"/>
                <a:gridCol w="360360"/>
              </a:tblGrid>
              <a:tr h="54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7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39640" y="53737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6. Як називається множник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x</a:t>
            </a: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 в підінтегральному виразі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3" name=""/>
          <p:cNvGraphicFramePr/>
          <p:nvPr/>
        </p:nvGraphicFramePr>
        <p:xfrm>
          <a:off x="1476360" y="1341360"/>
          <a:ext cx="6931080" cy="3854520"/>
        </p:xfrm>
        <a:graphic>
          <a:graphicData uri="http://schemas.openxmlformats.org/drawingml/2006/table">
            <a:tbl>
              <a:tblPr/>
              <a:tblGrid>
                <a:gridCol w="365040"/>
                <a:gridCol w="362160"/>
                <a:gridCol w="365040"/>
                <a:gridCol w="366840"/>
                <a:gridCol w="365040"/>
                <a:gridCol w="363600"/>
                <a:gridCol w="366480"/>
                <a:gridCol w="363600"/>
                <a:gridCol w="417600"/>
                <a:gridCol w="312840"/>
                <a:gridCol w="365040"/>
                <a:gridCol w="363600"/>
                <a:gridCol w="366480"/>
                <a:gridCol w="401760"/>
                <a:gridCol w="326880"/>
                <a:gridCol w="366840"/>
                <a:gridCol w="365040"/>
                <a:gridCol w="362160"/>
                <a:gridCol w="365040"/>
              </a:tblGrid>
              <a:tr h="557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4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39640" y="53737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7. Як називається операція обернена до операції диференціювання?</a:t>
            </a: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1403280" y="1341360"/>
          <a:ext cx="7129440" cy="3600360"/>
        </p:xfrm>
        <a:graphic>
          <a:graphicData uri="http://schemas.openxmlformats.org/drawingml/2006/table">
            <a:tbl>
              <a:tblPr/>
              <a:tblGrid>
                <a:gridCol w="376200"/>
                <a:gridCol w="373320"/>
                <a:gridCol w="372960"/>
                <a:gridCol w="377640"/>
                <a:gridCol w="376200"/>
                <a:gridCol w="374760"/>
                <a:gridCol w="378000"/>
                <a:gridCol w="371520"/>
                <a:gridCol w="455400"/>
                <a:gridCol w="297000"/>
                <a:gridCol w="376200"/>
                <a:gridCol w="371520"/>
                <a:gridCol w="377640"/>
                <a:gridCol w="414360"/>
                <a:gridCol w="336600"/>
                <a:gridCol w="378000"/>
                <a:gridCol w="372960"/>
                <a:gridCol w="372960"/>
                <a:gridCol w="376200"/>
              </a:tblGrid>
              <a:tr h="482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1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ідгадай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161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52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39640" y="537372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МОЛОДЦІ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5" descr="Рисунок8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250920" y="260280"/>
            <a:ext cx="1095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7" name=""/>
          <p:cNvGraphicFramePr/>
          <p:nvPr/>
        </p:nvGraphicFramePr>
        <p:xfrm>
          <a:off x="1403280" y="1341360"/>
          <a:ext cx="7129080" cy="3671640"/>
        </p:xfrm>
        <a:graphic>
          <a:graphicData uri="http://schemas.openxmlformats.org/drawingml/2006/table">
            <a:tbl>
              <a:tblPr/>
              <a:tblGrid>
                <a:gridCol w="376200"/>
                <a:gridCol w="372600"/>
                <a:gridCol w="374040"/>
                <a:gridCol w="377640"/>
                <a:gridCol w="336960"/>
                <a:gridCol w="413280"/>
                <a:gridCol w="377280"/>
                <a:gridCol w="372600"/>
                <a:gridCol w="431280"/>
                <a:gridCol w="320760"/>
                <a:gridCol w="375840"/>
                <a:gridCol w="372960"/>
                <a:gridCol w="377280"/>
                <a:gridCol w="413280"/>
                <a:gridCol w="336960"/>
                <a:gridCol w="377280"/>
                <a:gridCol w="374400"/>
                <a:gridCol w="372600"/>
                <a:gridCol w="375840"/>
              </a:tblGrid>
              <a:tr h="64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4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8" name="" descr=""/>
          <p:cNvPicPr/>
          <p:nvPr/>
        </p:nvPicPr>
        <p:blipFill>
          <a:blip r:embed="rId2"/>
          <a:srcRect l="0" t="0" r="-1158" b="515"/>
          <a:stretch/>
        </p:blipFill>
        <p:spPr>
          <a:xfrm>
            <a:off x="781200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20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692360" y="272520"/>
            <a:ext cx="69897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РЕЗЕНТАЦІЯ ПРОЕКТІ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«Застосування інтеграла до моделювання процесів у математиці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«Застосування інтеграла до моделювання процесів у фізиці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та техніці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«Застосування інтеграла до моделювання процесів в економіці, бізнесі та бухгалтерії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Застосування інтегралу згортки для синтезу цифрових систем»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обота з тестам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«…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кажи мені – і я запам’ятаю. Дай мені діяти самому – і я навчуся…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китайська мудрість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3276720" cy="29206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Епіграф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5400" y="2349000"/>
            <a:ext cx="82263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…</a:t>
            </a: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Природа формулює свої закон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мовою математики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eaeaea"/>
                </a:solidFill>
                <a:latin typeface="Arial"/>
              </a:rPr>
              <a:t>Галілео Галілей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55640" y="443700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КЛЮЧ ДО ТЕСТІВ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50920" y="1700280"/>
          <a:ext cx="8569080" cy="4114800"/>
        </p:xfrm>
        <a:graphic>
          <a:graphicData uri="http://schemas.openxmlformats.org/drawingml/2006/table">
            <a:tbl>
              <a:tblPr/>
              <a:tblGrid>
                <a:gridCol w="2143080"/>
                <a:gridCol w="2141640"/>
                <a:gridCol w="2143080"/>
                <a:gridCol w="2141280"/>
              </a:tblGrid>
              <a:tr h="514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аріан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омер завда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4211640" y="573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 rot="20050200">
            <a:off x="6227280" y="3068640"/>
            <a:ext cx="1625760" cy="14349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 rot="1704600">
            <a:off x="1190160" y="3540240"/>
            <a:ext cx="1513080" cy="1473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 rot="20826000">
            <a:off x="5796000" y="4437000"/>
            <a:ext cx="1587600" cy="14353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 rot="1423800">
            <a:off x="4284720" y="4292280"/>
            <a:ext cx="1574640" cy="143496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 rot="1017000">
            <a:off x="2556000" y="4365720"/>
            <a:ext cx="1434960" cy="14349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7"/>
          <a:stretch/>
        </p:blipFill>
        <p:spPr>
          <a:xfrm rot="20593800">
            <a:off x="4066920" y="2923920"/>
            <a:ext cx="2514600" cy="14349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8"/>
          <a:stretch/>
        </p:blipFill>
        <p:spPr>
          <a:xfrm rot="20661600">
            <a:off x="2626920" y="2852280"/>
            <a:ext cx="1434960" cy="14353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9"/>
          <a:stretch/>
        </p:blipFill>
        <p:spPr>
          <a:xfrm>
            <a:off x="3780000" y="69228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загальнити та систематизувати знання по даній темі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визначити значущість, необхідність використання інтеграла до моделювання процесів у фізиці, математиці, економіці та інших науках, необхідних для успішного оволодіння вами обраною професією відповідно до сучасних вимог ринку праці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7280" y="188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Геніальні вчені Ньютон і Лейбніц довел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5400" y="2276280"/>
            <a:ext cx="822636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aeaea"/>
                </a:solidFill>
                <a:latin typeface="Arial"/>
              </a:rPr>
              <a:t>виявлення точності і можливості розрахунків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aeaea"/>
                </a:solidFill>
                <a:latin typeface="Arial"/>
              </a:rPr>
              <a:t>у світовому хаосі рухів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aeaea"/>
                </a:solidFill>
                <a:latin typeface="Arial"/>
              </a:rPr>
              <a:t>під силу людському розуму.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Домашнє завданн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Мерзляк А.Г. та ін. Алгебра та початки аналізу: Підруч. для 11 класу загальноосвітніх навч. закладів: академ. Рівень, проф. рівень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Опрацювати за підручником п.26 с.254- 261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ШкільМ.Т. та ін. Алгебра та початки аналізу: Підруч. для 11 класу загальноосвітніх навч. закладів /М.І.Шкіль, З.І.Слєпкань, О.С. Дубинчук. – К.: Зодіак – ЕКО, 200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Опрацювати за підручником с.144- 148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Розв’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язати задачі для самостйного домашнього розв’язування, запропоновані вашими т</a:t>
            </a:r>
            <a:r>
              <a:rPr b="0" lang="uk-UA" sz="2400" spc="-1" strike="noStrike">
                <a:solidFill>
                  <a:srgbClr val="eaeaea"/>
                </a:solidFill>
                <a:latin typeface="Arial"/>
              </a:rPr>
              <a:t>овариша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Використані ресурси:</a:t>
            </a:r>
            <a:br>
              <a:rPr sz="40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літератур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Апанасов П.Т., Апанасов Н.П.Сборник математических задач с практическим содержанием. – М.: Просвещение, 1987. – 110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Бродский Я.С., Слипенко А.К. Производная и интеграл в неравенствах, уравнениях, тождествах – К.: Вища шк., 1988. – 12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иленкин Н.Я., Функции в природе и технике: Книга для внеклассного чтения, 9-10 класс.– М.: Просвещение,1985,-192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Дороговцев А.Я. Інтеграл та його застосування. – К.: Вища школа, 1974. – 128 с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ириченко В., Бала ханова О. Інтегрований урок-семінар в 11 класі з поглибленим вивченням математики // Математика в школі. – 206. - № 6. – С.26-3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тасюк В., Григулич  С., Використання похідної функції на прикладах розв'язування економічних задач // Математика в школі. – 2008. - № 5. – С.35-41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5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користані інтернет-ресурс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http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://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uk.wikipedia.org/wiki/Первісна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http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://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formula.co.ua/</a:t>
            </a: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integral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.ph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http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://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ukrreferat.com/index.php?refer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http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://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edu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ukrsat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com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- http://soundlib.narod.ru/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- http://office.microsoft.com/clipart/ default.aspx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7467480" y="562284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2987640" y="981000"/>
            <a:ext cx="345600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якую за увагу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692360" y="3645000"/>
            <a:ext cx="6119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нових зустрічей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8" dur="2000" fill="hold"/>
                                        <p:tgtEl>
                                          <p:spTgt spid="5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5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Девіз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Думаємо коллективно, працюємо оперативно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Сперечаємося доказово - це для всіх обовязково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7596360" y="6206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755640" y="472428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8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UCKOOC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Досягнення успішного результату під час розв’язування задач – зовсім не привілей математики. Усе людське життя – це не що інше, як бажання досягти успіху в розв’язуванні все нових питань та проблем</a:t>
            </a:r>
            <a:r>
              <a:rPr b="0" i="1" lang="uk-UA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55640" y="515772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загальнити та систематизувати знання по даній темі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визначити значущість, необхідність використання інтеграла до моделювання процесів у фізиці, математиці, економіці та інших науках, необхідних для успішного оволодіння вами обраною професією відповідно до сучасних вимог ринку праці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6765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«Математику не можна вивчити, спостерігаючи       як це робить сусід…».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aeaea"/>
                </a:solidFill>
                <a:latin typeface="Arial"/>
              </a:rPr>
              <a:t>                                     </a:t>
            </a: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А. Нівен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167652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133200" y="542880"/>
            <a:ext cx="8937720" cy="166392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кутник 3"/>
          <p:cNvSpPr/>
          <p:nvPr/>
        </p:nvSpPr>
        <p:spPr>
          <a:xfrm>
            <a:off x="1857240" y="242892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8e7ed"/>
                </a:solidFill>
                <a:latin typeface="Times New Roman"/>
                <a:ea typeface="Times New Roman"/>
              </a:rPr>
              <a:t>Формула </a:t>
            </a:r>
            <a:r>
              <a:rPr b="0" lang="uk-UA" sz="4000" spc="-1" strike="noStrike">
                <a:solidFill>
                  <a:srgbClr val="e8e7ed"/>
                </a:solidFill>
                <a:latin typeface="Times New Roman"/>
                <a:ea typeface="Times New Roman"/>
              </a:rPr>
              <a:t>Ньютона</a:t>
            </a:r>
            <a:r>
              <a:rPr b="0" lang="ru-RU" sz="4000" spc="-1" strike="noStrike">
                <a:solidFill>
                  <a:srgbClr val="e8e7ed"/>
                </a:solidFill>
                <a:latin typeface="Times New Roman"/>
                <a:ea typeface="Times New Roman"/>
              </a:rPr>
              <a:t>-</a:t>
            </a:r>
            <a:r>
              <a:rPr b="0" lang="uk-UA" sz="4000" spc="-1" strike="noStrike">
                <a:solidFill>
                  <a:srgbClr val="e8e7ed"/>
                </a:solidFill>
                <a:latin typeface="Times New Roman"/>
                <a:ea typeface="Times New Roman"/>
              </a:rPr>
              <a:t>Лейбні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Object 5" descr=""/>
          <p:cNvPicPr/>
          <p:nvPr/>
        </p:nvPicPr>
        <p:blipFill>
          <a:blip r:embed="rId2"/>
          <a:stretch/>
        </p:blipFill>
        <p:spPr>
          <a:xfrm>
            <a:off x="642960" y="3357720"/>
            <a:ext cx="6919920" cy="2357280"/>
          </a:xfrm>
          <a:prstGeom prst="rect">
            <a:avLst/>
          </a:prstGeom>
          <a:ln w="0">
            <a:noFill/>
          </a:ln>
        </p:spPr>
      </p:pic>
      <p:grpSp>
        <p:nvGrpSpPr>
          <p:cNvPr id="452" name="Групувати 5"/>
          <p:cNvGrpSpPr/>
          <p:nvPr/>
        </p:nvGrpSpPr>
        <p:grpSpPr>
          <a:xfrm>
            <a:off x="7572240" y="4533840"/>
            <a:ext cx="1571760" cy="1968480"/>
            <a:chOff x="7572240" y="4533840"/>
            <a:chExt cx="1571760" cy="1968480"/>
          </a:xfrm>
        </p:grpSpPr>
        <p:pic>
          <p:nvPicPr>
            <p:cNvPr id="453" name="Picture 2" descr=""/>
            <p:cNvPicPr/>
            <p:nvPr/>
          </p:nvPicPr>
          <p:blipFill>
            <a:blip r:embed="rId3"/>
            <a:stretch/>
          </p:blipFill>
          <p:spPr>
            <a:xfrm>
              <a:off x="7615080" y="4533840"/>
              <a:ext cx="148608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Box 7"/>
            <p:cNvSpPr/>
            <p:nvPr/>
          </p:nvSpPr>
          <p:spPr>
            <a:xfrm>
              <a:off x="7572240" y="5929560"/>
              <a:ext cx="157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 u="sng">
                  <a:solidFill>
                    <a:srgbClr val="65b2ff"/>
                  </a:solidFill>
                  <a:uFillTx/>
                  <a:latin typeface="Arial"/>
                  <a:hlinkClick r:id="rId4"/>
                </a:rPr>
                <a:t>Ньют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увати 10"/>
          <p:cNvGrpSpPr/>
          <p:nvPr/>
        </p:nvGrpSpPr>
        <p:grpSpPr>
          <a:xfrm>
            <a:off x="214200" y="1071720"/>
            <a:ext cx="1455840" cy="2154240"/>
            <a:chOff x="214200" y="1071720"/>
            <a:chExt cx="1455840" cy="2154240"/>
          </a:xfrm>
        </p:grpSpPr>
        <p:pic>
          <p:nvPicPr>
            <p:cNvPr id="456" name="Picture 3" descr=""/>
            <p:cNvPicPr/>
            <p:nvPr/>
          </p:nvPicPr>
          <p:blipFill>
            <a:blip r:embed="rId5"/>
            <a:stretch/>
          </p:blipFill>
          <p:spPr>
            <a:xfrm>
              <a:off x="214200" y="1071720"/>
              <a:ext cx="1455840" cy="20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Box 9"/>
            <p:cNvSpPr/>
            <p:nvPr/>
          </p:nvSpPr>
          <p:spPr>
            <a:xfrm>
              <a:off x="428400" y="2857680"/>
              <a:ext cx="121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 u="sng">
                  <a:solidFill>
                    <a:srgbClr val="65b2ff"/>
                  </a:solidFill>
                  <a:uFillTx/>
                  <a:latin typeface="Arial"/>
                  <a:hlinkClick r:id="rId6"/>
                </a:rPr>
                <a:t>Лейбні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700360" y="285264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Які натхненні Ньютон з Лейбніцем бу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Якими барвами їх формули заграл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Яку могуть побачили, к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Зійшлись їх похідні і інтеграл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Зійшлись – немов злилися два струм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В стократ потужнішу ріку єд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Їх теоремі давній завдя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Те, що колись долали вчені за ві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Тепер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тудент</a:t>
            </a: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 долає за год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4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артка індивідуальних досягнен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7000" y="1512000"/>
            <a:ext cx="66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Прізвище _______________            </a:t>
            </a:r>
            <a:r>
              <a:rPr b="0" lang="uk-UA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група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450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91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39640" y="2138400"/>
          <a:ext cx="8280360" cy="4257720"/>
        </p:xfrm>
        <a:graphic>
          <a:graphicData uri="http://schemas.openxmlformats.org/drawingml/2006/table">
            <a:tbl>
              <a:tblPr/>
              <a:tblGrid>
                <a:gridCol w="4560840"/>
                <a:gridCol w="1818000"/>
                <a:gridCol w="1901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тапи робо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аксимальна кількість б</a:t>
                      </a: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л</a:t>
                      </a: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брані ба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часть в розв’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язуванні  кросворд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ідбір матеріал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формлення презентаці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емонстрація презентації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ліцопитуванн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формлення букле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иконання тестових завд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одаткова уча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ідсум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64" name=""/>
          <p:cNvSpPr/>
          <p:nvPr/>
        </p:nvSpPr>
        <p:spPr>
          <a:xfrm>
            <a:off x="-5040" y="5636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72680" y="64904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Оцінка</a:t>
            </a: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7812000" y="836640"/>
            <a:ext cx="8924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Критерії оціню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79280" y="1773360"/>
          <a:ext cx="8496360" cy="2776320"/>
        </p:xfrm>
        <a:graphic>
          <a:graphicData uri="http://schemas.openxmlformats.org/drawingml/2006/table">
            <a:tbl>
              <a:tblPr/>
              <a:tblGrid>
                <a:gridCol w="936720"/>
                <a:gridCol w="820800"/>
                <a:gridCol w="660240"/>
                <a:gridCol w="658800"/>
                <a:gridCol w="660600"/>
                <a:gridCol w="658800"/>
                <a:gridCol w="660240"/>
                <a:gridCol w="658800"/>
                <a:gridCol w="660600"/>
                <a:gridCol w="658800"/>
                <a:gridCol w="660240"/>
                <a:gridCol w="801720"/>
              </a:tblGrid>
              <a:tr h="143964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ал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нше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-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-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-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-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-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5-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0-4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5-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ільше 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13366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цін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0" y="383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4211640" y="5445000"/>
            <a:ext cx="8920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8:21:47Z</dcterms:created>
  <dc:creator>viktoriya</dc:creator>
  <dc:description/>
  <dc:language>en-US</dc:language>
  <cp:lastModifiedBy/>
  <dcterms:modified xsi:type="dcterms:W3CDTF">2012-12-02T05:16:40Z</dcterms:modified>
  <cp:revision>10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19000000000001024140</vt:lpwstr>
  </property>
</Properties>
</file>