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CUCKOOCL.WAV" ContentType="audio/x-wav"/>
  <Override PartName="/ppt/media/image15.jpeg" ContentType="image/jpeg"/>
  <Override PartName="/ppt/media/image5.gif" ContentType="image/gif"/>
  <Override PartName="/ppt/media/image14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7.wmf" ContentType="image/x-wmf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B4A-22A8-4CDC-8F0E-3E8ECC0E005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45F0-0B5C-4EDD-A105-438A74829085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3685-1083-4CE5-A526-9B463DF0864E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20C-3BE0-4BBF-9F47-B007056B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342-79F0-42EC-928A-9D09FA3A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B08-E691-4CFA-8D3B-78F90501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0F8-4D35-4B4B-B4CE-317807CA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EDC7-193F-4894-A881-AD77999E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F9A3-D31E-4622-9EEF-4CB770FB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5228-37A6-4CC4-BBF5-D089E2B0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4A81-B032-4FCC-8BC9-5ADA7E34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467-CBB7-47DB-B4E9-3EA030DC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C7A2-E915-4D99-B438-E55BB1C8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9E72-B0B5-4564-B45C-23F9A862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59B-CF9C-4AA2-B983-FE51D0FE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E3CE-73D5-483C-9F6B-435258E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B461-CD11-4F99-9A1F-2DA62CAA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16A-BEB9-48ED-866E-834B0088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BE2-FFEC-41AC-AA88-7FD4E8D1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3887-C023-447E-9C6D-C3D6794D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F1AC-266A-41FE-9521-5E661E9B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DA40-FFBE-4041-8CF0-DE71D3D0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CDC9-48A1-4A93-9FFE-99AFBA54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01F0-8CFB-4809-AC2A-97FB238F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1E16-713B-4A1E-A89E-FC6669C1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90F-BFF5-43B2-98BD-9A511D75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DE52-3827-469D-8D8D-9F0CF0EE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6EF1-D415-4733-B646-D84F3F2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F6F7-BFC2-4740-9177-7605E77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42C03-A3BC-46EC-AA62-D0EFB91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22D5-B48F-4F2D-BE10-F3F962AA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D97F-8C6D-4115-A8C6-218E674A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73AC-18D7-4455-94F0-E8DC689D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C0BF-0916-415E-8785-BC05AE2A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0503-9CC4-4E76-B178-00DFD26A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EF39-472B-48AE-8F3F-71AD7B1A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CEA-3276-436D-940D-B8448323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5BB5C-0DBE-4451-B4DD-542F85B0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A258-6D9A-4B77-A0FB-A2893601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57DE-587E-48CC-8D17-6EE85C5D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D8B59-08E5-4A4B-A07B-BA7D1A8B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644E6-2E21-4B1B-8E7E-84F1EEE9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1F8B-2A3A-4614-9605-1785B8A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0BD81-D578-4BB4-AE0F-6B4CCE15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AE4B-E5C8-4386-8DFF-04348AC8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2C2A1-12C0-498E-949B-38C45C12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8577-2D13-4B4E-9B6D-08F98581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2F0-5D18-4DC9-A993-A8FE5A4C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D040-7DB6-4FE0-BC50-7227B648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CEED-1CCB-4234-B734-71CFB192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4C46F-295C-4684-BC51-3D11E2BA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E34CB-3024-4B21-AAF5-6FEFC645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04D7-A5F2-429F-8B38-5B8CB2D0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86906-9E12-4740-9A45-50EA1CFE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8DC0C-5BB5-4085-BB6F-2149816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ABE4-A245-4740-96F6-F86951E4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C931F-233B-4287-9F05-9983E68F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89524-3671-4C84-A097-D4FCD074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554-D0E2-48D6-A60F-1C5C9E37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81B83-0575-4192-9DE3-A11B04E9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9BDB7-27CC-422E-A20F-411D77F0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EBF0B-35C7-459E-9318-D9CAA14F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8D479-3808-4321-9E8E-6B07A403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2DD5-7E20-40D1-8320-4A51EFA7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AA544-C6FC-49A9-8FF4-C87FE410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DF0FF-855D-408D-B8F9-B2E4194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5608-4FEE-4C99-9527-931B5D3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12C3C-362B-4DA0-B26B-6D49FAA2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B8EC5-356C-458F-A0C2-2970EB18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060-08C3-4DF8-A2C2-C08F6244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C1E7E-73A4-4A37-98E1-9B0410E8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294F8-9D83-48EB-9E60-720DA320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F1271-E91C-4C9B-B2EF-C9C1D96A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592DC-2F03-4379-A15E-07267657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487B-4AED-4316-9B45-FA9B53A1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FDA6-33F9-4E2D-B72D-870770E8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072DC-EAA4-45A5-B511-4D277C4E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CF4BB-87B5-40AC-960A-4334D4F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DFDBE-CA26-44A9-A1AA-787314E8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113B0-34E6-44D7-B772-3FCFF167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90E-3E7F-4056-B073-CF188DA3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40A0A-9C48-4054-A13A-AB77B5B1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1EEF5-84B8-4001-8C18-2D18A97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FEC1-7110-43FF-946C-C7AA0441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544EF-AB9B-450B-8E9F-0306D03E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1FE02-49DF-4A5C-83BB-E6372DAB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633-3F67-43FE-8421-302943D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3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" name="Пряма сполучна лінія 3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27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27f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7D36-65C1-4381-97DF-5E9F7E975927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 сполучна ліні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4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95CD-9EB9-4E19-92A4-A5D28BC38CAF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а сполучна лінія 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89" name="Пряма сполучна лінія 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450-E2F4-4F37-AD50-DDF9F0DE3D08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A8C5-5E4D-48E8-9C28-A9AFAD127673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1E74-4655-4B16-9915-0B5594A14BDA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1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1000-193D-4BB5-8A0A-9A8ED23041F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E305-A65F-41EB-A62D-4A57931CE49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gif"/><Relationship Id="rId3" Type="http://schemas.openxmlformats.org/officeDocument/2006/relationships/audio" Target="../media/CUCKOOCL.WAV"/><Relationship Id="rId4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hyperlink" Target="file:///153%20%20%20&#1048;&#1089;&#1072;&#1072;&#1082;%20&#1053;&#1100;&#1102;&#1090;&#1086;&#1085;.mp4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&#1043;&#1086;&#1090;&#1092;&#1088;&#1080;&#1076;%20&#1042;&#1080;&#1083;&#1100;&#1075;&#1077;&#1083;&#1100;&#1084;%20&#1051;&#1077;&#1081;&#1073;&#1085;&#1080;&#1094;%20---%20&#1051;&#1048;&#1062;&#1040;.mp4" TargetMode="External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451320" y="5491080"/>
            <a:ext cx="520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ff33"/>
                </a:solidFill>
                <a:latin typeface="Arial"/>
              </a:rPr>
              <a:t>Знання збільшуються, а вміння</a:t>
            </a:r>
            <a:br>
              <a:rPr sz="2000"/>
            </a:br>
            <a:r>
              <a:rPr b="1" lang="uk-UA" sz="2000" spc="-1" strike="noStrike">
                <a:solidFill>
                  <a:srgbClr val="66ff33"/>
                </a:solidFill>
                <a:latin typeface="Arial"/>
              </a:rPr>
              <a:t>вдосконалюються коли ними  ділишся.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народ</a:t>
            </a:r>
            <a:r>
              <a:rPr b="1" lang="uk-UA" sz="2000" spc="-1" strike="noStrike">
                <a:solidFill>
                  <a:srgbClr val="66ff33"/>
                </a:solidFill>
                <a:latin typeface="Arial"/>
              </a:rPr>
              <a:t>на  мудр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71640" y="1268280"/>
            <a:ext cx="7524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СТОСУВАННЯ ІНТЕГРАЛА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 МОДЕЛЮВАННЯ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СІВ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p:transition advTm="59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03400" y="448920"/>
            <a:ext cx="4464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1. Першу букву якого слова нагадує знак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484360" y="1773360"/>
          <a:ext cx="3743280" cy="27669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9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8360" y="537372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2. Хто із відомих математиків-фізиків розглянув фізичний зміст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5" name=""/>
          <p:cNvGraphicFramePr/>
          <p:nvPr/>
        </p:nvGraphicFramePr>
        <p:xfrm>
          <a:off x="1908000" y="1341360"/>
          <a:ext cx="6264360" cy="3826080"/>
        </p:xfrm>
        <a:graphic>
          <a:graphicData uri="http://schemas.openxmlformats.org/drawingml/2006/table">
            <a:tbl>
              <a:tblPr/>
              <a:tblGrid>
                <a:gridCol w="330480"/>
                <a:gridCol w="328680"/>
                <a:gridCol w="330120"/>
                <a:gridCol w="330120"/>
                <a:gridCol w="330120"/>
                <a:gridCol w="328680"/>
                <a:gridCol w="330120"/>
                <a:gridCol w="330120"/>
                <a:gridCol w="376560"/>
                <a:gridCol w="296640"/>
                <a:gridCol w="314280"/>
                <a:gridCol w="330480"/>
                <a:gridCol w="330120"/>
                <a:gridCol w="328680"/>
                <a:gridCol w="330120"/>
                <a:gridCol w="330120"/>
                <a:gridCol w="330120"/>
                <a:gridCol w="328680"/>
                <a:gridCol w="33012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3. Хто із відомих математиків розглянув математичний зміст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1476360" y="1413000"/>
          <a:ext cx="6913080" cy="3744360"/>
        </p:xfrm>
        <a:graphic>
          <a:graphicData uri="http://schemas.openxmlformats.org/drawingml/2006/table">
            <a:tbl>
              <a:tblPr/>
              <a:tblGrid>
                <a:gridCol w="363960"/>
                <a:gridCol w="362520"/>
                <a:gridCol w="364320"/>
                <a:gridCol w="365760"/>
                <a:gridCol w="362520"/>
                <a:gridCol w="363960"/>
                <a:gridCol w="363960"/>
                <a:gridCol w="362880"/>
                <a:gridCol w="416880"/>
                <a:gridCol w="311400"/>
                <a:gridCol w="365400"/>
                <a:gridCol w="362880"/>
                <a:gridCol w="363960"/>
                <a:gridCol w="363960"/>
                <a:gridCol w="362520"/>
                <a:gridCol w="365760"/>
                <a:gridCol w="364320"/>
                <a:gridCol w="362160"/>
                <a:gridCol w="363960"/>
              </a:tblGrid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515772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4. Як називається трапеція, площу якої ми знаходимо за допомогою визначеного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9" name=""/>
          <p:cNvGraphicFramePr/>
          <p:nvPr/>
        </p:nvGraphicFramePr>
        <p:xfrm>
          <a:off x="1476360" y="1341360"/>
          <a:ext cx="6983280" cy="3742920"/>
        </p:xfrm>
        <a:graphic>
          <a:graphicData uri="http://schemas.openxmlformats.org/drawingml/2006/table">
            <a:tbl>
              <a:tblPr/>
              <a:tblGrid>
                <a:gridCol w="368280"/>
                <a:gridCol w="365040"/>
                <a:gridCol w="368280"/>
                <a:gridCol w="368280"/>
                <a:gridCol w="368640"/>
                <a:gridCol w="365040"/>
                <a:gridCol w="369720"/>
                <a:gridCol w="366840"/>
                <a:gridCol w="420480"/>
                <a:gridCol w="314640"/>
                <a:gridCol w="368280"/>
                <a:gridCol w="366480"/>
                <a:gridCol w="370080"/>
                <a:gridCol w="403200"/>
                <a:gridCol w="330120"/>
                <a:gridCol w="368280"/>
                <a:gridCol w="368280"/>
                <a:gridCol w="365040"/>
                <a:gridCol w="368280"/>
              </a:tblGrid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0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537372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5. Як називається функція, яка стоїть під знаком інтеграла?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1476360" y="1268280"/>
          <a:ext cx="6840720" cy="3889080"/>
        </p:xfrm>
        <a:graphic>
          <a:graphicData uri="http://schemas.openxmlformats.org/drawingml/2006/table">
            <a:tbl>
              <a:tblPr/>
              <a:tblGrid>
                <a:gridCol w="360360"/>
                <a:gridCol w="357120"/>
                <a:gridCol w="360360"/>
                <a:gridCol w="362160"/>
                <a:gridCol w="360360"/>
                <a:gridCol w="358560"/>
                <a:gridCol w="362160"/>
                <a:gridCol w="358560"/>
                <a:gridCol w="412920"/>
                <a:gridCol w="307800"/>
                <a:gridCol w="360360"/>
                <a:gridCol w="358920"/>
                <a:gridCol w="361800"/>
                <a:gridCol w="395280"/>
                <a:gridCol w="324000"/>
                <a:gridCol w="361800"/>
                <a:gridCol w="360360"/>
                <a:gridCol w="357480"/>
                <a:gridCol w="360360"/>
              </a:tblGrid>
              <a:tr h="54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6. Як називається множник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x</a:t>
            </a: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 в підінтегральному виразі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3" name=""/>
          <p:cNvGraphicFramePr/>
          <p:nvPr/>
        </p:nvGraphicFramePr>
        <p:xfrm>
          <a:off x="1476360" y="1341360"/>
          <a:ext cx="6931080" cy="3854520"/>
        </p:xfrm>
        <a:graphic>
          <a:graphicData uri="http://schemas.openxmlformats.org/drawingml/2006/table">
            <a:tbl>
              <a:tblPr/>
              <a:tblGrid>
                <a:gridCol w="365040"/>
                <a:gridCol w="362160"/>
                <a:gridCol w="365040"/>
                <a:gridCol w="366840"/>
                <a:gridCol w="365040"/>
                <a:gridCol w="363600"/>
                <a:gridCol w="366480"/>
                <a:gridCol w="363600"/>
                <a:gridCol w="417600"/>
                <a:gridCol w="312840"/>
                <a:gridCol w="365040"/>
                <a:gridCol w="363600"/>
                <a:gridCol w="366480"/>
                <a:gridCol w="401760"/>
                <a:gridCol w="326880"/>
                <a:gridCol w="366840"/>
                <a:gridCol w="365040"/>
                <a:gridCol w="362160"/>
                <a:gridCol w="365040"/>
              </a:tblGrid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4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7. Як називається операція обернена до операції диференціювання?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1403280" y="1341360"/>
          <a:ext cx="7129440" cy="3600360"/>
        </p:xfrm>
        <a:graphic>
          <a:graphicData uri="http://schemas.openxmlformats.org/drawingml/2006/table">
            <a:tbl>
              <a:tblPr/>
              <a:tblGrid>
                <a:gridCol w="376200"/>
                <a:gridCol w="373320"/>
                <a:gridCol w="372960"/>
                <a:gridCol w="377640"/>
                <a:gridCol w="376200"/>
                <a:gridCol w="374760"/>
                <a:gridCol w="378000"/>
                <a:gridCol w="371520"/>
                <a:gridCol w="455400"/>
                <a:gridCol w="297000"/>
                <a:gridCol w="376200"/>
                <a:gridCol w="371520"/>
                <a:gridCol w="377640"/>
                <a:gridCol w="414360"/>
                <a:gridCol w="336600"/>
                <a:gridCol w="378000"/>
                <a:gridCol w="372960"/>
                <a:gridCol w="372960"/>
                <a:gridCol w="376200"/>
              </a:tblGrid>
              <a:tr h="48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1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39640" y="537372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МОЛОДЦІ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7" name=""/>
          <p:cNvGraphicFramePr/>
          <p:nvPr/>
        </p:nvGraphicFramePr>
        <p:xfrm>
          <a:off x="1403280" y="1341360"/>
          <a:ext cx="7129080" cy="3671640"/>
        </p:xfrm>
        <a:graphic>
          <a:graphicData uri="http://schemas.openxmlformats.org/drawingml/2006/table">
            <a:tbl>
              <a:tblPr/>
              <a:tblGrid>
                <a:gridCol w="376200"/>
                <a:gridCol w="372600"/>
                <a:gridCol w="374040"/>
                <a:gridCol w="377640"/>
                <a:gridCol w="336960"/>
                <a:gridCol w="413280"/>
                <a:gridCol w="377280"/>
                <a:gridCol w="372600"/>
                <a:gridCol w="431280"/>
                <a:gridCol w="320760"/>
                <a:gridCol w="375840"/>
                <a:gridCol w="372960"/>
                <a:gridCol w="377280"/>
                <a:gridCol w="413280"/>
                <a:gridCol w="336960"/>
                <a:gridCol w="377280"/>
                <a:gridCol w="374400"/>
                <a:gridCol w="372600"/>
                <a:gridCol w="375840"/>
              </a:tblGrid>
              <a:tr h="64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8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92360" y="272520"/>
            <a:ext cx="69897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РЕЗЕНТАЦІЯ ПРОЕКТІ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Застосування інтеграла до моделювання процесів у математиці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Застосування інтеграла до моделювання процесів у фізиці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та техніці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Застосування інтеграла до моделювання процесів в економіці, бізнесі та бухгалтерії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Застосування інтегралу згортки для синтезу цифрових систем»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обота з тестам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…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кажи мені – і я запам’ятаю. Дай мені діяти самому – і я навчуся…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китайська мудрість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3276720" cy="29206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піграф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5400" y="2349000"/>
            <a:ext cx="82263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Природа формулює свої закон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мовою математик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Галілео Галіле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5640" y="44370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КЛЮЧ ДО ТЕСТІВ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700280"/>
          <a:ext cx="8569080" cy="4114800"/>
        </p:xfrm>
        <a:graphic>
          <a:graphicData uri="http://schemas.openxmlformats.org/drawingml/2006/table">
            <a:tbl>
              <a:tblPr/>
              <a:tblGrid>
                <a:gridCol w="2143080"/>
                <a:gridCol w="2141640"/>
                <a:gridCol w="2143080"/>
                <a:gridCol w="2141280"/>
              </a:tblGrid>
              <a:tr h="514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аріан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омер завда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211640" y="573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 rot="20050200">
            <a:off x="6227280" y="3068640"/>
            <a:ext cx="1625760" cy="14349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 rot="1704600">
            <a:off x="1190160" y="3540240"/>
            <a:ext cx="1513080" cy="1473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 rot="20826000">
            <a:off x="5796000" y="4437000"/>
            <a:ext cx="1587600" cy="14353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 rot="1423800">
            <a:off x="4284720" y="4292280"/>
            <a:ext cx="1574640" cy="14349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 rot="1017000">
            <a:off x="2556000" y="436572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7"/>
          <a:stretch/>
        </p:blipFill>
        <p:spPr>
          <a:xfrm rot="20593800">
            <a:off x="4066920" y="2923920"/>
            <a:ext cx="2514600" cy="14349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 rot="20661600">
            <a:off x="2626920" y="285228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9"/>
          <a:stretch/>
        </p:blipFill>
        <p:spPr>
          <a:xfrm>
            <a:off x="3780000" y="69228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агальнити та систематизувати знання по даній темі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изначити значущість, необхідність використання інтеграла до моделювання процесів у фізиці, математиці, економіці та інших науках, необхідних для успішного оволодіння вами обраною професією відповідно до сучасних вимог ринку праці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7280" y="188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Геніальні вчені Ньютон і Лейбніц довел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eaea"/>
                </a:solidFill>
                <a:latin typeface="Arial"/>
              </a:rPr>
              <a:t>виявлення точності і можливості розрахунків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eaea"/>
                </a:solidFill>
                <a:latin typeface="Arial"/>
              </a:rPr>
              <a:t>у світовому хаосі рухів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eaea"/>
                </a:solidFill>
                <a:latin typeface="Arial"/>
              </a:rPr>
              <a:t>під силу людському розуму.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Мерзляк А.Г. та ін. Алгебра та початки аналізу: Підруч. для 11 класу загальноосвітніх навч. закладів: академ. Рівень, проф. рівень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Опрацювати за підручником п.26 с.254- 261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ШкільМ.Т. та ін. Алгебра та початки аналізу: Підруч. для 11 класу загальноосвітніх навч. закладів /М.І.Шкіль, З.І.Слєпкань, О.С. Дубинчук. – К.: Зодіак – ЕКО,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Опрацювати за підручником с.144- 148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Розв’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язати задачі для самостйного домашнього розв’язування, запропоновані вашими т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овариш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Використані ресурси: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літератур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панасов П.Т., Апанасов Н.П.Сборник математических задач с практическим содержанием. – М.: Просвещение, 1987. – 110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родский Я.С., Слипенко А.К. Производная и интеграл в неравенствах, уравнениях, тождествах – К.: Вища шк., 1988. – 12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иленкин Н.Я., Функции в природе и технике: Книга для внеклассного чтения, 9-10 класс.– М.: Просвещение,1985,-192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ороговцев А.Я. Інтеграл та його застосування. – К.: Вища школа, 1974. – 128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ириченко В., Бала ханова О. Інтегрований урок-семінар в 11 класі з поглибленим вивченням математики // Математика в школі. – 206. - № 6. – С.26-3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тасюк В., Григулич  С., Використання похідної функції на прикладах розв'язування економічних задач // Математика в школі. – 2008. - № 5. – С.35-4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користані інтернет-ресурс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uk.wikipedia.org/wiki/Первісна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formula.co.ua/</a:t>
            </a: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integral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.ph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ukrreferat.com/index.php?refer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edu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ukrsat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com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- http://soundlib.narod.ru/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- http://office.microsoft.com/clipart/ default.aspx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7467480" y="562284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2987640" y="981000"/>
            <a:ext cx="345600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кую за уваг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692360" y="3645000"/>
            <a:ext cx="6119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их зустрічей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2000" fill="hold"/>
                                        <p:tgtEl>
                                          <p:spTgt spid="5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5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евіз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Думаємо коллективно, працюємо оперативн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Сперечаємося доказово - це для всіх обовязков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596360" y="620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755640" y="472428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8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UCKOOC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Досягнення успішного результату під час розв’язування задач – зовсім не привілей математики. Усе людське життя – це не що інше, як бажання досягти успіху в розв’язуванні все нових питань та проблем</a:t>
            </a:r>
            <a:r>
              <a:rPr b="0" i="1" lang="uk-UA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55640" y="515772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агальнити та систематизувати знання по даній темі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изначити значущість, необхідність використання інтеграла до моделювання процесів у фізиці, математиці, економіці та інших науках, необхідних для успішного оволодіння вами обраною професією відповідно до сучасних вимог ринку праці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«Математику не можна вивчити, спостерігаючи       як це робить сусід…».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aeaea"/>
                </a:solidFill>
                <a:latin typeface="Arial"/>
              </a:rPr>
              <a:t>                                     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А. Нівен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167652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33200" y="542880"/>
            <a:ext cx="8937720" cy="166392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кутник 3"/>
          <p:cNvSpPr/>
          <p:nvPr/>
        </p:nvSpPr>
        <p:spPr>
          <a:xfrm>
            <a:off x="1857240" y="24289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Формула </a:t>
            </a:r>
            <a:r>
              <a:rPr b="0" lang="uk-UA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Ньютона</a:t>
            </a:r>
            <a:r>
              <a:rPr b="0" lang="ru-RU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-</a:t>
            </a:r>
            <a:r>
              <a:rPr b="0" lang="uk-UA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Лейбні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Object 5" descr=""/>
          <p:cNvPicPr/>
          <p:nvPr/>
        </p:nvPicPr>
        <p:blipFill>
          <a:blip r:embed="rId2"/>
          <a:stretch/>
        </p:blipFill>
        <p:spPr>
          <a:xfrm>
            <a:off x="642960" y="3357720"/>
            <a:ext cx="6919920" cy="2357280"/>
          </a:xfrm>
          <a:prstGeom prst="rect">
            <a:avLst/>
          </a:prstGeom>
          <a:ln w="0">
            <a:noFill/>
          </a:ln>
        </p:spPr>
      </p:pic>
      <p:grpSp>
        <p:nvGrpSpPr>
          <p:cNvPr id="452" name="Групувати 5"/>
          <p:cNvGrpSpPr/>
          <p:nvPr/>
        </p:nvGrpSpPr>
        <p:grpSpPr>
          <a:xfrm>
            <a:off x="7572240" y="4533840"/>
            <a:ext cx="1571760" cy="1968480"/>
            <a:chOff x="7572240" y="4533840"/>
            <a:chExt cx="1571760" cy="1968480"/>
          </a:xfrm>
        </p:grpSpPr>
        <p:pic>
          <p:nvPicPr>
            <p:cNvPr id="453" name="Picture 2" descr=""/>
            <p:cNvPicPr/>
            <p:nvPr/>
          </p:nvPicPr>
          <p:blipFill>
            <a:blip r:embed="rId3"/>
            <a:stretch/>
          </p:blipFill>
          <p:spPr>
            <a:xfrm>
              <a:off x="7615080" y="4533840"/>
              <a:ext cx="14860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Box 7"/>
            <p:cNvSpPr/>
            <p:nvPr/>
          </p:nvSpPr>
          <p:spPr>
            <a:xfrm>
              <a:off x="7572240" y="592956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 u="sng">
                  <a:solidFill>
                    <a:srgbClr val="65b2ff"/>
                  </a:solidFill>
                  <a:uFillTx/>
                  <a:latin typeface="Arial"/>
                  <a:hlinkClick r:id="rId4"/>
                </a:rPr>
                <a:t>Ньют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увати 10"/>
          <p:cNvGrpSpPr/>
          <p:nvPr/>
        </p:nvGrpSpPr>
        <p:grpSpPr>
          <a:xfrm>
            <a:off x="214200" y="1071720"/>
            <a:ext cx="1455840" cy="2154240"/>
            <a:chOff x="214200" y="1071720"/>
            <a:chExt cx="1455840" cy="2154240"/>
          </a:xfrm>
        </p:grpSpPr>
        <p:pic>
          <p:nvPicPr>
            <p:cNvPr id="456" name="Picture 3" descr=""/>
            <p:cNvPicPr/>
            <p:nvPr/>
          </p:nvPicPr>
          <p:blipFill>
            <a:blip r:embed="rId5"/>
            <a:stretch/>
          </p:blipFill>
          <p:spPr>
            <a:xfrm>
              <a:off x="214200" y="1071720"/>
              <a:ext cx="1455840" cy="20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Box 9"/>
            <p:cNvSpPr/>
            <p:nvPr/>
          </p:nvSpPr>
          <p:spPr>
            <a:xfrm>
              <a:off x="428400" y="2857680"/>
              <a:ext cx="12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 u="sng">
                  <a:solidFill>
                    <a:srgbClr val="65b2ff"/>
                  </a:solidFill>
                  <a:uFillTx/>
                  <a:latin typeface="Arial"/>
                  <a:hlinkClick r:id="rId6"/>
                </a:rPr>
                <a:t>Лейбні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700360" y="28526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Які натхненні Ньютон з Лейбніцем бу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Якими барвами їх формули загра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Яку могуть побачили, к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Зійшлись їх похідні і інтеграл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Зійшлись – немов злилися два струм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В стократ потужнішу ріку є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Їх теоремі давній завдя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Те, що колись долали вчені за ві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Тепер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тудент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 долає за го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4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ртка індивідуальних досягнен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7000" y="1512000"/>
            <a:ext cx="66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Прізвище _______________            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група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450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39640" y="2138400"/>
          <a:ext cx="8280360" cy="4257720"/>
        </p:xfrm>
        <a:graphic>
          <a:graphicData uri="http://schemas.openxmlformats.org/drawingml/2006/table">
            <a:tbl>
              <a:tblPr/>
              <a:tblGrid>
                <a:gridCol w="4560840"/>
                <a:gridCol w="1818000"/>
                <a:gridCol w="1901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тапи робо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аксимальна кількість б</a:t>
                      </a: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л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брані ба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часть в розв’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язуванні  кросвор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ідбір матеріал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формлення презент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монстрація презент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ліцопитуван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формлення букле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иконання тестових завд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даткова уч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ідсум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64" name=""/>
          <p:cNvSpPr/>
          <p:nvPr/>
        </p:nvSpPr>
        <p:spPr>
          <a:xfrm>
            <a:off x="-5040" y="5636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72680" y="64904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Оцінка</a:t>
            </a: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812000" y="836640"/>
            <a:ext cx="8924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Критерії оціню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9280" y="1773360"/>
          <a:ext cx="8496360" cy="2776320"/>
        </p:xfrm>
        <a:graphic>
          <a:graphicData uri="http://schemas.openxmlformats.org/drawingml/2006/table">
            <a:tbl>
              <a:tblPr/>
              <a:tblGrid>
                <a:gridCol w="936720"/>
                <a:gridCol w="820800"/>
                <a:gridCol w="660240"/>
                <a:gridCol w="658800"/>
                <a:gridCol w="660600"/>
                <a:gridCol w="658800"/>
                <a:gridCol w="660240"/>
                <a:gridCol w="658800"/>
                <a:gridCol w="660600"/>
                <a:gridCol w="658800"/>
                <a:gridCol w="660240"/>
                <a:gridCol w="801720"/>
              </a:tblGrid>
              <a:tr h="143964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л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нше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-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-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-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-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-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0-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5-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ільше 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цін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4211640" y="5445000"/>
            <a:ext cx="8920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8:21:47Z</dcterms:created>
  <dc:creator>viktoriya</dc:creator>
  <dc:description/>
  <dc:language>en-US</dc:language>
  <cp:lastModifiedBy/>
  <dcterms:modified xsi:type="dcterms:W3CDTF">2012-12-02T05:16:40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19000000000001024140</vt:lpwstr>
  </property>
</Properties>
</file>