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6.png" ContentType="image/png"/>
  <Override PartName="/ppt/media/wind.wav" ContentType="audio/x-wav"/>
  <Override PartName="/ppt/media/explode.wav" ContentType="audio/x-wav"/>
  <Override PartName="/ppt/media/image7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DE6-9C18-476E-AE9E-FCF01A3A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430D-E147-44BF-AE6A-7E12EA7C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BF8-9B9A-4EB4-915A-EB02A0E8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3BC-63B2-4A06-8E2C-DFDCA88B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7EF0-2070-440A-B2A0-386073ED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47DD-411A-4673-A9CB-60B2FC00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99BE-E454-4A96-9A2F-C004386B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136E-9B1E-48AE-A27E-637CB7ED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6577-3DAD-477C-B5DA-DA2188CF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CE1F-49FA-4F84-B07E-69A4ABED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71EE-DABE-4EC2-A36D-B04A1F05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A89-1E5A-4356-A283-335C970B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B689-156B-4A07-A29A-5D49E515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ADF9-7A03-454C-B0B7-7710B52B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DC13-3C4A-4E5C-8A08-AC62E29A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493D-4769-4956-A831-C07C2499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4D5F-226B-4937-890A-AC56C943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4E4CB-C4BD-4D14-8E86-3B1907DD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6B9E0-A1AB-4C34-A84B-29680794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0031-F72C-4CBD-8104-FE84598A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39AE6-997D-4435-B786-5788762B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02A74-DD37-48C3-AD70-7F9D3B4F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4FFD-2D4B-476C-B673-AF4CA928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2BBE4-2746-4251-9043-6DD8651E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E67CC-EC3B-4EAC-8EFD-6A6CBB9E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5D172-9430-43B9-B86D-1D96C99E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60D1A-246F-4B31-AB44-B9795A14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C4CB1-69B7-423D-A3D7-A8216DAE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CCFC0-D690-4F6A-B850-E5260B46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D2206-2247-404B-BA68-D953224D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C7B004-79EA-46F1-AFB6-F11D107B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F7D786-60A1-4102-9EE9-2DCB844C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363B2E-2A14-4AAC-B338-9A86A211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056-9151-49A1-98CD-FE206BE4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B8481-530B-442D-9F94-FB8A49E4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AFC813-C547-434B-9698-E837E05F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623FF1-C1A6-4329-89AE-FB9AC535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E1179F-D4CB-4A00-A4A6-06A7ACC8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C58048-F349-4573-94D9-399D9891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381F6-282D-4E97-9600-E31EDE23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263B9-7BD5-4479-AD21-407F6BC4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357D5C-2097-421B-B041-C44AF08E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86DDDC-CEDA-4ECA-8E08-D2A34AA8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2DDA-346B-409C-9BE4-41E092AD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FB4-DF54-4927-BBCE-FCE80B27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B91-C88B-46F5-8D6F-F1E76D6C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340-05B3-4BD6-A694-B2F94E6C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AD8-19F1-46C2-8BE6-41E4BA6B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26200" y="-54720"/>
            <a:ext cx="3009600" cy="3366000"/>
            <a:chOff x="6226200" y="-54720"/>
            <a:chExt cx="3009600" cy="336600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3320" cy="752760"/>
              <a:chOff x="7567560" y="2500200"/>
              <a:chExt cx="1003320" cy="75276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39760" cy="1396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3320" cy="752760"/>
              <a:chOff x="7797960" y="1442880"/>
              <a:chExt cx="1003320" cy="75276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39760" cy="1396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3320" cy="752400"/>
              <a:chOff x="6329520" y="0"/>
              <a:chExt cx="1003320" cy="7524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3320" cy="75240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39400" cy="1396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26200" y="-54720"/>
              <a:ext cx="3009600" cy="3366000"/>
              <a:chOff x="6226200" y="-54720"/>
              <a:chExt cx="3009600" cy="336600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560" y="403200"/>
                <a:ext cx="1497600" cy="1103400"/>
                <a:chOff x="6991560" y="403200"/>
                <a:chExt cx="1497600" cy="110340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560" y="403200"/>
                  <a:ext cx="1497600" cy="110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400"/>
                  <a:ext cx="295200" cy="20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26200" y="-54720"/>
                <a:ext cx="2961360" cy="2340360"/>
                <a:chOff x="6226200" y="-54720"/>
                <a:chExt cx="2961360" cy="2340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575120" y="874800"/>
                  <a:ext cx="1421640" cy="1189800"/>
                  <a:chOff x="7575120" y="874800"/>
                  <a:chExt cx="1421640" cy="118980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544160" y="1134720"/>
                    <a:ext cx="844920" cy="26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63960" y="1551960"/>
                    <a:ext cx="452880" cy="41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52320" y="529920"/>
                  <a:ext cx="1335240" cy="1397880"/>
                  <a:chOff x="7852320" y="529920"/>
                  <a:chExt cx="1335240" cy="139788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45840" y="772200"/>
                    <a:ext cx="93132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610480" y="1394280"/>
                    <a:ext cx="49896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35760" y="550080"/>
                  <a:ext cx="1347480" cy="1100160"/>
                  <a:chOff x="7835760" y="550080"/>
                  <a:chExt cx="1347480" cy="110016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41160" y="735480"/>
                    <a:ext cx="90108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43960" y="1194120"/>
                    <a:ext cx="48276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22800" y="565200"/>
                  <a:ext cx="1364400" cy="862920"/>
                  <a:chOff x="7822800" y="565200"/>
                  <a:chExt cx="1364400" cy="86292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38280" y="695880"/>
                    <a:ext cx="883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66280" y="984960"/>
                    <a:ext cx="47376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44760" y="603000"/>
                  <a:ext cx="1250640" cy="499680"/>
                  <a:chOff x="7844760" y="603000"/>
                  <a:chExt cx="1250640" cy="4996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54120" y="657720"/>
                    <a:ext cx="80496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44320" y="767520"/>
                    <a:ext cx="4316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400" y="627480"/>
                  <a:ext cx="1109520" cy="195840"/>
                  <a:chOff x="7871400" y="627480"/>
                  <a:chExt cx="1109520" cy="19584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840" y="645120"/>
                    <a:ext cx="72108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91040" y="633960"/>
                    <a:ext cx="38664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36120" y="381240"/>
                  <a:ext cx="1018440" cy="439200"/>
                  <a:chOff x="7836120" y="381240"/>
                  <a:chExt cx="1018440" cy="43920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5840" y="582840"/>
                    <a:ext cx="64548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83040" y="419040"/>
                    <a:ext cx="345240" cy="25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438960" y="938880"/>
                  <a:ext cx="1422000" cy="1188720"/>
                  <a:chOff x="6438960" y="938880"/>
                  <a:chExt cx="1422000" cy="118872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7047720" y="1199160"/>
                    <a:ext cx="844560" cy="26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17800" y="1616760"/>
                    <a:ext cx="452520" cy="41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226200" y="618840"/>
                  <a:ext cx="1336680" cy="1398600"/>
                  <a:chOff x="6226200" y="618840"/>
                  <a:chExt cx="1336680" cy="13986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37680" y="861120"/>
                    <a:ext cx="931680" cy="27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03600" y="1484640"/>
                    <a:ext cx="49932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29800" y="642240"/>
                  <a:ext cx="1350360" cy="1099800"/>
                  <a:chOff x="6229800" y="642240"/>
                  <a:chExt cx="1350360" cy="109980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72960" y="827640"/>
                    <a:ext cx="90108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286320" y="1285200"/>
                    <a:ext cx="482760" cy="36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26560" y="657720"/>
                  <a:ext cx="1364400" cy="861480"/>
                  <a:chOff x="6226560" y="657720"/>
                  <a:chExt cx="1364400" cy="8614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694200" y="787680"/>
                    <a:ext cx="88128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273360" y="1076760"/>
                    <a:ext cx="47268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19080" y="694800"/>
                  <a:ext cx="1249920" cy="498240"/>
                  <a:chOff x="6319080" y="694800"/>
                  <a:chExt cx="1249920" cy="4982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53960" y="749520"/>
                    <a:ext cx="80532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37800" y="857520"/>
                    <a:ext cx="43200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2480" y="716040"/>
                  <a:ext cx="1109520" cy="196200"/>
                  <a:chOff x="6432480" y="716040"/>
                  <a:chExt cx="1109520" cy="19620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8760" y="734040"/>
                    <a:ext cx="72108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5360" y="722520"/>
                    <a:ext cx="38700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58480" y="471960"/>
                  <a:ext cx="1019160" cy="438840"/>
                  <a:chOff x="6558480" y="471960"/>
                  <a:chExt cx="1019160" cy="4388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23520" y="673920"/>
                    <a:ext cx="6440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84400" y="509760"/>
                    <a:ext cx="344880" cy="25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00600" y="338400"/>
                  <a:ext cx="1013760" cy="611640"/>
                  <a:chOff x="6600600" y="338400"/>
                  <a:chExt cx="1013760" cy="61164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64560" y="667440"/>
                    <a:ext cx="63972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37680" y="390600"/>
                    <a:ext cx="343080" cy="27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01040" y="152640"/>
                  <a:ext cx="948600" cy="855720"/>
                  <a:chOff x="6701040" y="152640"/>
                  <a:chExt cx="948600" cy="8557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25760" y="669600"/>
                    <a:ext cx="6274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51080" y="222120"/>
                    <a:ext cx="335520" cy="28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14080" y="-16200"/>
                  <a:ext cx="851760" cy="1022760"/>
                  <a:chOff x="6814080" y="-16200"/>
                  <a:chExt cx="851760" cy="1022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083000" y="637200"/>
                    <a:ext cx="60804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67360" y="56880"/>
                    <a:ext cx="32580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050960" y="-30240"/>
                  <a:ext cx="805680" cy="829440"/>
                  <a:chOff x="7050960" y="-30240"/>
                  <a:chExt cx="805680" cy="82944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349760" y="431280"/>
                    <a:ext cx="57096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089120" y="38160"/>
                    <a:ext cx="30564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43200" y="-54720"/>
                  <a:ext cx="604800" cy="850320"/>
                  <a:chOff x="7243200" y="-54720"/>
                  <a:chExt cx="604800" cy="85032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97280" y="430200"/>
                    <a:ext cx="55728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61920" y="5400"/>
                    <a:ext cx="29808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84640" y="217080"/>
                  <a:ext cx="1010160" cy="630360"/>
                  <a:chOff x="7784640" y="217080"/>
                  <a:chExt cx="1010160" cy="6303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3280" y="560520"/>
                    <a:ext cx="6433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411040" y="271440"/>
                    <a:ext cx="344880" cy="27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920" y="67680"/>
                  <a:ext cx="963000" cy="826920"/>
                  <a:chOff x="7738920" y="67680"/>
                  <a:chExt cx="963000" cy="82692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37840" y="561240"/>
                    <a:ext cx="6343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313120" y="136080"/>
                    <a:ext cx="33948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520"/>
                  <a:ext cx="525600" cy="727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2200" y="101160"/>
                  <a:ext cx="280800" cy="1159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552800" y="-44640"/>
                  <a:ext cx="662040" cy="826200"/>
                  <a:chOff x="7552800" y="-44640"/>
                  <a:chExt cx="662040" cy="8262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460640" y="432720"/>
                    <a:ext cx="55116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902720" y="25200"/>
                    <a:ext cx="29484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488360" y="-30600"/>
                  <a:ext cx="1022760" cy="804240"/>
                  <a:chOff x="7488360" y="-30600"/>
                  <a:chExt cx="1022760" cy="80424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472880" y="387000"/>
                    <a:ext cx="587160" cy="20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28080" y="32400"/>
                    <a:ext cx="313920" cy="32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675920" y="-6840"/>
                  <a:ext cx="227520" cy="752400"/>
                  <a:chOff x="7675920" y="-6840"/>
                  <a:chExt cx="227520" cy="7524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493760" y="466200"/>
                    <a:ext cx="4928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4720" y="81000"/>
                    <a:ext cx="26316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610320" y="938880"/>
                  <a:ext cx="1244160" cy="1316520"/>
                  <a:chOff x="6610320" y="938880"/>
                  <a:chExt cx="1244160" cy="13165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7051320" y="1240560"/>
                    <a:ext cx="87876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678360" y="1740240"/>
                    <a:ext cx="471240" cy="40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943680" y="964440"/>
                  <a:ext cx="831240" cy="1320480"/>
                  <a:chOff x="6943680" y="964440"/>
                  <a:chExt cx="831240" cy="1320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7083360" y="1274400"/>
                    <a:ext cx="8370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84360" y="1807200"/>
                    <a:ext cx="44928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274520" y="990720"/>
                  <a:ext cx="475200" cy="1256040"/>
                  <a:chOff x="7274520" y="990720"/>
                  <a:chExt cx="475200" cy="125604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7170480" y="1299960"/>
                    <a:ext cx="801720" cy="20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7261200" y="1841760"/>
                    <a:ext cx="4284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558920" y="922680"/>
                  <a:ext cx="1288800" cy="1293840"/>
                  <a:chOff x="7558920" y="922680"/>
                  <a:chExt cx="1288800" cy="12938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494480" y="1215720"/>
                    <a:ext cx="871920" cy="26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307360" y="1698120"/>
                    <a:ext cx="467280" cy="41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601040" y="948960"/>
                  <a:ext cx="1003320" cy="1333800"/>
                  <a:chOff x="7601040" y="948960"/>
                  <a:chExt cx="1003320" cy="1333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482600" y="1261440"/>
                    <a:ext cx="8571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94960" y="1794240"/>
                    <a:ext cx="459000" cy="38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626960" y="995760"/>
                  <a:ext cx="701640" cy="1289880"/>
                  <a:chOff x="7626960" y="995760"/>
                  <a:chExt cx="701640" cy="128988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440840" y="1321920"/>
                    <a:ext cx="83268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4360" y="1866600"/>
                    <a:ext cx="445320" cy="31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682040" y="1051560"/>
                  <a:ext cx="368640" cy="1180800"/>
                  <a:chOff x="7682040" y="1051560"/>
                  <a:chExt cx="368640" cy="1180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37960" y="1356120"/>
                    <a:ext cx="76752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79160" y="1870920"/>
                    <a:ext cx="41040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480800" y="1074600"/>
                  <a:ext cx="333360" cy="1144080"/>
                  <a:chOff x="7480800" y="1074600"/>
                  <a:chExt cx="333360" cy="11440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43640" y="1390320"/>
                    <a:ext cx="74340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396200" y="1917000"/>
                    <a:ext cx="39744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480" y="1222560"/>
                <a:ext cx="247680" cy="757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840"/>
                <a:ext cx="2179080" cy="2404440"/>
              </a:xfrm>
              <a:custGeom>
                <a:avLst/>
                <a:gdLst>
                  <a:gd name="textAreaLeft" fmla="*/ 1089360 w 2179080"/>
                  <a:gd name="textAreaRight" fmla="*/ 2179080 w 2179080"/>
                  <a:gd name="textAreaTop" fmla="*/ 42840 h 2404440"/>
                  <a:gd name="textAreaBottom" fmla="*/ 1224000 h 24044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cap="sq"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4200" y="232200"/>
                <a:ext cx="1551600" cy="2099880"/>
              </a:xfrm>
              <a:custGeom>
                <a:avLst/>
                <a:gdLst>
                  <a:gd name="textAreaLeft" fmla="*/ 141840 w 1551600"/>
                  <a:gd name="textAreaRight" fmla="*/ 1458720 w 1551600"/>
                  <a:gd name="textAreaTop" fmla="*/ 1049760 h 2099880"/>
                  <a:gd name="textAreaBottom" fmla="*/ 2099880 h 2099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cap="sq"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480" y="759240"/>
                <a:ext cx="954360" cy="2398320"/>
              </a:xfrm>
              <a:custGeom>
                <a:avLst/>
                <a:gdLst>
                  <a:gd name="textAreaLeft" fmla="*/ 318240 w 954360"/>
                  <a:gd name="textAreaRight" fmla="*/ 954360 w 954360"/>
                  <a:gd name="textAreaTop" fmla="*/ 0 h 2398320"/>
                  <a:gd name="textAreaBottom" fmla="*/ 1221120 h 23983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cap="sq"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600"/>
                <a:ext cx="1464480" cy="2395080"/>
              </a:xfrm>
              <a:custGeom>
                <a:avLst/>
                <a:gdLst>
                  <a:gd name="textAreaLeft" fmla="*/ 429840 w 1464480"/>
                  <a:gd name="textAreaRight" fmla="*/ 1464480 w 1464480"/>
                  <a:gd name="textAreaTop" fmla="*/ 0 h 2395080"/>
                  <a:gd name="textAreaBottom" fmla="*/ 1219320 h 2395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cap="sq"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600120"/>
                <a:ext cx="1532520" cy="2398320"/>
              </a:xfrm>
              <a:custGeom>
                <a:avLst/>
                <a:gdLst>
                  <a:gd name="textAreaLeft" fmla="*/ 313200 w 1532520"/>
                  <a:gd name="textAreaRight" fmla="*/ 1532160 w 1532520"/>
                  <a:gd name="textAreaTop" fmla="*/ 0 h 2398320"/>
                  <a:gd name="textAreaBottom" fmla="*/ 1221120 h 23983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cap="sq"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4440" y="771840"/>
                <a:ext cx="241200" cy="2398320"/>
              </a:xfrm>
              <a:custGeom>
                <a:avLst/>
                <a:gdLst>
                  <a:gd name="textAreaLeft" fmla="*/ 47520 w 241200"/>
                  <a:gd name="textAreaRight" fmla="*/ 241200 w 241200"/>
                  <a:gd name="textAreaTop" fmla="*/ 0 h 2398320"/>
                  <a:gd name="textAreaBottom" fmla="*/ 1221120 h 23983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cap="sq"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7440" y="765360"/>
                <a:ext cx="641520" cy="2398320"/>
              </a:xfrm>
              <a:custGeom>
                <a:avLst/>
                <a:gdLst>
                  <a:gd name="textAreaLeft" fmla="*/ 126720 w 641520"/>
                  <a:gd name="textAreaRight" fmla="*/ 641520 w 641520"/>
                  <a:gd name="textAreaTop" fmla="*/ 0 h 2398320"/>
                  <a:gd name="textAreaBottom" fmla="*/ 1221120 h 23983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cap="sq"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9520" y="606600"/>
                <a:ext cx="910080" cy="2397960"/>
              </a:xfrm>
              <a:custGeom>
                <a:avLst/>
                <a:gdLst>
                  <a:gd name="textAreaLeft" fmla="*/ 180000 w 910080"/>
                  <a:gd name="textAreaRight" fmla="*/ 910080 w 910080"/>
                  <a:gd name="textAreaTop" fmla="*/ 0 h 2397960"/>
                  <a:gd name="textAreaBottom" fmla="*/ 1220760 h 23979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cap="sq"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000280" y="1353240"/>
                <a:ext cx="245880" cy="757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2560" y="1103760"/>
                <a:ext cx="223560" cy="428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7560" cy="2397960"/>
              </a:xfrm>
              <a:custGeom>
                <a:avLst/>
                <a:gdLst>
                  <a:gd name="textAreaLeft" fmla="*/ 234000 w 1537560"/>
                  <a:gd name="textAreaRight" fmla="*/ 1537200 w 1537560"/>
                  <a:gd name="textAreaTop" fmla="*/ 0 h 2397960"/>
                  <a:gd name="textAreaBottom" fmla="*/ 1220760 h 23979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cap="sq"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0520" cy="2363400"/>
              </a:xfrm>
              <a:custGeom>
                <a:avLst/>
                <a:gdLst>
                  <a:gd name="textAreaLeft" fmla="*/ 104760 w 1280520"/>
                  <a:gd name="textAreaRight" fmla="*/ 1052640 w 1280520"/>
                  <a:gd name="textAreaTop" fmla="*/ 0 h 2363400"/>
                  <a:gd name="textAreaBottom" fmla="*/ 1181520 h 236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cap="sq"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800" y="657720"/>
                <a:ext cx="541440" cy="2364840"/>
              </a:xfrm>
              <a:custGeom>
                <a:avLst/>
                <a:gdLst>
                  <a:gd name="textAreaLeft" fmla="*/ 106920 w 541440"/>
                  <a:gd name="textAreaRight" fmla="*/ 497160 w 541440"/>
                  <a:gd name="textAreaTop" fmla="*/ 0 h 2364840"/>
                  <a:gd name="textAreaBottom" fmla="*/ 1182240 h 23648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cap="sq"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160" y="1286280"/>
                <a:ext cx="554040" cy="779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600" y="457200"/>
                <a:ext cx="35568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360" y="225360"/>
                <a:ext cx="212760" cy="779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4040" y="1170360"/>
                <a:ext cx="515880" cy="821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5840" y="754560"/>
                <a:ext cx="778320" cy="54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4280" y="173160"/>
                <a:ext cx="338040" cy="733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960" y="784440"/>
                <a:ext cx="225360" cy="428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3640"/>
                <a:ext cx="225720" cy="428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7494EF-42C6-4780-8554-16895C6A812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1895760" y="163440"/>
            <a:ext cx="7232400" cy="8094600"/>
            <a:chOff x="1895760" y="163440"/>
            <a:chExt cx="7232400" cy="8094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4640" cy="708120"/>
              <a:chOff x="3483000" y="954000"/>
              <a:chExt cx="944640" cy="70812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4640" cy="70812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68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895760" y="163440"/>
              <a:ext cx="7232400" cy="7867440"/>
              <a:chOff x="1895760" y="163440"/>
              <a:chExt cx="7232400" cy="786744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1895760" y="163440"/>
                <a:ext cx="7117560" cy="5626800"/>
                <a:chOff x="1895760" y="163440"/>
                <a:chExt cx="7117560" cy="56268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7480" cy="2651040"/>
                  <a:chOff x="3735360" y="1266840"/>
                  <a:chExt cx="3597480" cy="26510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74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2800" cy="49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ff99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895760" y="163440"/>
                  <a:ext cx="7117560" cy="5626800"/>
                  <a:chOff x="1895760" y="163440"/>
                  <a:chExt cx="7117560" cy="56268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136840" y="2396160"/>
                    <a:ext cx="3421440" cy="2858040"/>
                    <a:chOff x="5136840" y="2396160"/>
                    <a:chExt cx="3421440" cy="2858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062320" y="3021480"/>
                      <a:ext cx="2030400" cy="63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278480" y="4020840"/>
                      <a:ext cx="1087560" cy="99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802480" y="1564560"/>
                    <a:ext cx="3210840" cy="3359520"/>
                    <a:chOff x="5802480" y="1564560"/>
                    <a:chExt cx="3210840" cy="33595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87720" y="2146680"/>
                      <a:ext cx="2237040" cy="65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625880" y="3641040"/>
                      <a:ext cx="1199880" cy="103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62520" y="1618200"/>
                    <a:ext cx="3244320" cy="2646000"/>
                    <a:chOff x="5762520" y="1618200"/>
                    <a:chExt cx="3244320" cy="26460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76920" y="2064240"/>
                      <a:ext cx="2167200" cy="56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706880" y="3163680"/>
                      <a:ext cx="1163520" cy="89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31560" y="1655280"/>
                    <a:ext cx="3281400" cy="2073240"/>
                    <a:chOff x="5731560" y="1655280"/>
                    <a:chExt cx="3281400" cy="207324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68640" y="1969200"/>
                      <a:ext cx="212328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59800" y="2666520"/>
                      <a:ext cx="1140480" cy="90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781960" y="1746360"/>
                    <a:ext cx="3008520" cy="1200240"/>
                    <a:chOff x="5781960" y="1746360"/>
                    <a:chExt cx="3008520" cy="120024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05360" y="1878840"/>
                      <a:ext cx="1938240" cy="4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702920" y="2134080"/>
                      <a:ext cx="1040760" cy="74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7120" y="1799640"/>
                    <a:ext cx="2668680" cy="475560"/>
                    <a:chOff x="5847120" y="1799640"/>
                    <a:chExt cx="2668680" cy="4755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1440" y="1841400"/>
                      <a:ext cx="1732680" cy="28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7280" y="1815480"/>
                      <a:ext cx="930960" cy="44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63600" y="1211400"/>
                    <a:ext cx="2448720" cy="1058040"/>
                    <a:chOff x="5763600" y="1211400"/>
                    <a:chExt cx="2448720" cy="105804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88080" y="1693800"/>
                      <a:ext cx="1550160" cy="39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318440" y="1302840"/>
                      <a:ext cx="831240" cy="61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407320" y="2545920"/>
                    <a:ext cx="3418920" cy="2858400"/>
                    <a:chOff x="2407320" y="2545920"/>
                    <a:chExt cx="3418920" cy="28584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871440" y="3170160"/>
                      <a:ext cx="2027880" cy="63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00280" y="4168800"/>
                      <a:ext cx="1088640" cy="9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1895760" y="1783800"/>
                    <a:ext cx="3213720" cy="3361680"/>
                    <a:chOff x="1895760" y="1783800"/>
                    <a:chExt cx="3213720" cy="336168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886120" y="2365920"/>
                      <a:ext cx="2237400" cy="65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083320" y="3858840"/>
                      <a:ext cx="1201320" cy="103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1905480" y="1835640"/>
                    <a:ext cx="3243600" cy="2646000"/>
                    <a:chOff x="1905480" y="1835640"/>
                    <a:chExt cx="3243600" cy="26460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2966400" y="2282040"/>
                      <a:ext cx="2167920" cy="56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041200" y="3382920"/>
                      <a:ext cx="1163160" cy="88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1899000" y="1874160"/>
                    <a:ext cx="3281400" cy="2073960"/>
                    <a:chOff x="1899000" y="1874160"/>
                    <a:chExt cx="3281400" cy="20739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17520" y="2188080"/>
                      <a:ext cx="2125080" cy="57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11320" y="2884680"/>
                      <a:ext cx="1140840" cy="90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18240" y="1965600"/>
                    <a:ext cx="3008520" cy="1200240"/>
                    <a:chOff x="2118240" y="1965600"/>
                    <a:chExt cx="3008520" cy="1200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65840" y="2097720"/>
                      <a:ext cx="1936800" cy="4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164320" y="2352600"/>
                      <a:ext cx="1038600" cy="74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395800" y="2017080"/>
                    <a:ext cx="2669400" cy="475920"/>
                    <a:chOff x="2395800" y="2017080"/>
                    <a:chExt cx="2669400" cy="4759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4240" y="2057400"/>
                      <a:ext cx="1736280" cy="28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3000" y="2032920"/>
                      <a:ext cx="932040" cy="44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698200" y="1430640"/>
                    <a:ext cx="2449080" cy="1058400"/>
                    <a:chOff x="2698200" y="1430640"/>
                    <a:chExt cx="2449080" cy="105840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73360" y="1913400"/>
                      <a:ext cx="1549080" cy="39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60480" y="1521720"/>
                      <a:ext cx="830520" cy="61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797200" y="1109520"/>
                    <a:ext cx="2437200" cy="1471680"/>
                    <a:chOff x="2797200" y="1109520"/>
                    <a:chExt cx="2437200" cy="147168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63720" y="1899360"/>
                      <a:ext cx="154656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887200" y="1235880"/>
                      <a:ext cx="829080" cy="65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038760" y="663480"/>
                    <a:ext cx="2281680" cy="2059200"/>
                    <a:chOff x="3038760" y="663480"/>
                    <a:chExt cx="2281680" cy="205920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15280" y="1902960"/>
                      <a:ext cx="151236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160800" y="831240"/>
                      <a:ext cx="810360" cy="68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308040" y="259200"/>
                    <a:ext cx="2054520" cy="2459880"/>
                    <a:chOff x="3308040" y="259200"/>
                    <a:chExt cx="2054520" cy="2459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3955680" y="1826280"/>
                      <a:ext cx="1466280" cy="43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36560" y="435960"/>
                      <a:ext cx="786600" cy="68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3880080" y="222840"/>
                    <a:ext cx="1937880" cy="1996560"/>
                    <a:chOff x="3880080" y="222840"/>
                    <a:chExt cx="1937880" cy="199656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600440" y="1332720"/>
                      <a:ext cx="1369800" cy="39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3974040" y="386280"/>
                      <a:ext cx="735840" cy="63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338360" y="163440"/>
                    <a:ext cx="1458360" cy="2049120"/>
                    <a:chOff x="4338360" y="163440"/>
                    <a:chExt cx="1458360" cy="20491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705920" y="1327320"/>
                      <a:ext cx="1344960" cy="37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384440" y="309600"/>
                      <a:ext cx="722160" cy="59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39040" y="820440"/>
                    <a:ext cx="2430720" cy="1514520"/>
                    <a:chOff x="5639040" y="820440"/>
                    <a:chExt cx="2430720" cy="15145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60640" y="1642320"/>
                      <a:ext cx="154728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46720" y="951840"/>
                      <a:ext cx="830160" cy="65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462240"/>
                    <a:ext cx="2314440" cy="1982880"/>
                    <a:chOff x="5530320" y="462240"/>
                    <a:chExt cx="2314440" cy="198288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529240" y="1642320"/>
                      <a:ext cx="1520640" cy="43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909840" y="626400"/>
                      <a:ext cx="816120" cy="68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4960" y="1466280"/>
                    <a:ext cx="126504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6280" y="539640"/>
                    <a:ext cx="67896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082840" y="186840"/>
                    <a:ext cx="1596600" cy="1989720"/>
                    <a:chOff x="5082840" y="186840"/>
                    <a:chExt cx="1596600" cy="198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4864320" y="1334160"/>
                      <a:ext cx="1326240" cy="34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926680" y="354600"/>
                      <a:ext cx="709560" cy="53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4925520" y="222480"/>
                    <a:ext cx="2463480" cy="1936080"/>
                    <a:chOff x="4925520" y="222480"/>
                    <a:chExt cx="2463480" cy="193608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4889520" y="1224720"/>
                      <a:ext cx="1415520" cy="50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64160" y="375480"/>
                      <a:ext cx="758520" cy="78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376600" y="278280"/>
                    <a:ext cx="548640" cy="1810800"/>
                    <a:chOff x="5376600" y="278280"/>
                    <a:chExt cx="548640" cy="181080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4942080" y="1420920"/>
                      <a:ext cx="1179360" cy="14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8960" y="491040"/>
                      <a:ext cx="632880" cy="23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824200" y="2546640"/>
                    <a:ext cx="2992320" cy="3166920"/>
                    <a:chOff x="2824200" y="2546640"/>
                    <a:chExt cx="2992320" cy="31669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885120" y="3271320"/>
                      <a:ext cx="211248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2991600" y="4468680"/>
                      <a:ext cx="1131480" cy="99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622320" y="2609280"/>
                    <a:ext cx="2004120" cy="3175200"/>
                    <a:chOff x="3622320" y="2609280"/>
                    <a:chExt cx="2004120" cy="317520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962880" y="3354480"/>
                      <a:ext cx="2013480" cy="60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22760" y="4632840"/>
                      <a:ext cx="1080000" cy="94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416840" y="2672640"/>
                    <a:ext cx="1143000" cy="3020400"/>
                    <a:chOff x="4416840" y="2672640"/>
                    <a:chExt cx="1143000" cy="30204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4168080" y="3412800"/>
                      <a:ext cx="1922400" cy="50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4388040" y="4716000"/>
                      <a:ext cx="1030680" cy="79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099400" y="2511000"/>
                    <a:ext cx="3097440" cy="3108600"/>
                    <a:chOff x="5099400" y="2511000"/>
                    <a:chExt cx="3097440" cy="31086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4944240" y="3216240"/>
                      <a:ext cx="2097360" cy="62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98680" y="4375800"/>
                      <a:ext cx="1123560" cy="9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99840" y="2574360"/>
                    <a:ext cx="2409480" cy="3202560"/>
                    <a:chOff x="5199840" y="2574360"/>
                    <a:chExt cx="2409480" cy="3202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4915080" y="3326040"/>
                      <a:ext cx="2059560" cy="59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86760" y="4604760"/>
                      <a:ext cx="1103400" cy="93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263920" y="2686320"/>
                    <a:ext cx="1688400" cy="3103920"/>
                    <a:chOff x="5263920" y="2686320"/>
                    <a:chExt cx="1688400" cy="3103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4818600" y="3468600"/>
                      <a:ext cx="2001240" cy="48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9520" y="4776120"/>
                      <a:ext cx="1072800" cy="76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394960" y="2818800"/>
                    <a:ext cx="886320" cy="2837520"/>
                    <a:chOff x="5394960" y="2818800"/>
                    <a:chExt cx="886320" cy="283752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12480" y="3547440"/>
                      <a:ext cx="183960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389200" y="4788000"/>
                      <a:ext cx="987120" cy="66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11840" y="2876400"/>
                    <a:ext cx="802800" cy="2746800"/>
                    <a:chOff x="4911840" y="2876400"/>
                    <a:chExt cx="802800" cy="274680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83520" y="3633480"/>
                      <a:ext cx="178524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1320" y="4893840"/>
                      <a:ext cx="957240" cy="45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3400" cy="7348320"/>
                <a:chOff x="2174760" y="682560"/>
                <a:chExt cx="6953400" cy="734832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3400" cy="7348320"/>
                  <a:chOff x="2174760" y="682560"/>
                  <a:chExt cx="6953400" cy="73483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27440" cy="5044320"/>
                  </a:xfrm>
                  <a:custGeom>
                    <a:avLst/>
                    <a:gdLst>
                      <a:gd name="textAreaLeft" fmla="*/ 340560 w 3727440"/>
                      <a:gd name="textAreaRight" fmla="*/ 3504600 w 3727440"/>
                      <a:gd name="textAreaTop" fmla="*/ 2522160 h 5044320"/>
                      <a:gd name="textAreaBottom" fmla="*/ 5044680 h 50443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cap="sq"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2120" y="2270520"/>
                    <a:ext cx="3516480" cy="5760360"/>
                  </a:xfrm>
                  <a:custGeom>
                    <a:avLst/>
                    <a:gdLst>
                      <a:gd name="textAreaLeft" fmla="*/ 1031760 w 3516480"/>
                      <a:gd name="textAreaRight" fmla="*/ 3516480 w 3516480"/>
                      <a:gd name="textAreaTop" fmla="*/ 0 h 5760360"/>
                      <a:gd name="textAreaBottom" fmla="*/ 2932560 h 576036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cap="sq"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0960" cy="5760720"/>
                  </a:xfrm>
                  <a:custGeom>
                    <a:avLst/>
                    <a:gdLst>
                      <a:gd name="textAreaLeft" fmla="*/ 433440 w 2190960"/>
                      <a:gd name="textAreaRight" fmla="*/ 2190960 w 2190960"/>
                      <a:gd name="textAreaTop" fmla="*/ 0 h 5760720"/>
                      <a:gd name="textAreaBottom" fmla="*/ 2932920 h 57607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cap="sq"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4320" cy="5760720"/>
                  </a:xfrm>
                  <a:custGeom>
                    <a:avLst/>
                    <a:gdLst>
                      <a:gd name="textAreaLeft" fmla="*/ 563760 w 3694320"/>
                      <a:gd name="textAreaRight" fmla="*/ 3694680 w 3694320"/>
                      <a:gd name="textAreaTop" fmla="*/ 0 h 5760720"/>
                      <a:gd name="textAreaBottom" fmla="*/ 2932920 h 57607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cap="sq"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79800" cy="5681160"/>
                  </a:xfrm>
                  <a:custGeom>
                    <a:avLst/>
                    <a:gdLst>
                      <a:gd name="textAreaLeft" fmla="*/ 251280 w 3079800"/>
                      <a:gd name="textAreaRight" fmla="*/ 2531520 w 3079800"/>
                      <a:gd name="textAreaTop" fmla="*/ 0 h 5681160"/>
                      <a:gd name="textAreaBottom" fmla="*/ 2840400 h 568116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cap="sq"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6800" cy="5681160"/>
                  </a:xfrm>
                  <a:custGeom>
                    <a:avLst/>
                    <a:gdLst>
                      <a:gd name="textAreaLeft" fmla="*/ 258480 w 1306800"/>
                      <a:gd name="textAreaRight" fmla="*/ 1199880 w 1306800"/>
                      <a:gd name="textAreaTop" fmla="*/ 0 h 5681160"/>
                      <a:gd name="textAreaBottom" fmla="*/ 2840400 h 568116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cap="sq"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444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cap="sq"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2880" cy="10303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cap="sq"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3240" y="712800"/>
              <a:ext cx="6408720" cy="7545240"/>
              <a:chOff x="2343240" y="712800"/>
              <a:chExt cx="6408720" cy="75452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680" y="3235320"/>
                <a:ext cx="596880" cy="1822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0800" cy="5781600"/>
              </a:xfrm>
              <a:custGeom>
                <a:avLst/>
                <a:gdLst>
                  <a:gd name="textAreaLeft" fmla="*/ 2615040 w 5230800"/>
                  <a:gd name="textAreaRight" fmla="*/ 5230800 w 5230800"/>
                  <a:gd name="textAreaTop" fmla="*/ 102960 h 5781600"/>
                  <a:gd name="textAreaBottom" fmla="*/ 2943360 h 5781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cap="sq"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4280" y="2122560"/>
                <a:ext cx="2300040" cy="5761080"/>
              </a:xfrm>
              <a:custGeom>
                <a:avLst/>
                <a:gdLst>
                  <a:gd name="textAreaLeft" fmla="*/ 767520 w 2300040"/>
                  <a:gd name="textAreaRight" fmla="*/ 2300040 w 230004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cap="sq"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3240" y="1736640"/>
                <a:ext cx="3682800" cy="5759640"/>
              </a:xfrm>
              <a:custGeom>
                <a:avLst/>
                <a:gdLst>
                  <a:gd name="textAreaLeft" fmla="*/ 753840 w 3682800"/>
                  <a:gd name="textAreaRight" fmla="*/ 3682800 w 3682800"/>
                  <a:gd name="textAreaTop" fmla="*/ 0 h 5759640"/>
                  <a:gd name="textAreaBottom" fmla="*/ 2932200 h 5759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cap="sq"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4280" cy="5761080"/>
              </a:xfrm>
              <a:custGeom>
                <a:avLst/>
                <a:gdLst>
                  <a:gd name="textAreaLeft" fmla="*/ 115560 w 584280"/>
                  <a:gd name="textAreaRight" fmla="*/ 584280 w 58428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cap="sq"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1520" cy="5761080"/>
              </a:xfrm>
              <a:custGeom>
                <a:avLst/>
                <a:gdLst>
                  <a:gd name="textAreaLeft" fmla="*/ 304920 w 1541520"/>
                  <a:gd name="textAreaRight" fmla="*/ 1541520 w 154152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cap="sq"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7240" cy="182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7320"/>
                <a:ext cx="543240" cy="1030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240" y="3384720"/>
                <a:ext cx="1336680" cy="187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7520" cy="1878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3984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0200" cy="1314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6120" cy="176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840" y="2155320"/>
                <a:ext cx="542880" cy="1029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8868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C11827-A5C0-4E50-AD83-DD122CC06B01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F01E0C5-4445-4EF8-B46F-6BEB5133CEC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1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C638ED2-9B28-42A3-BCF3-E415DD1457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audio" Target="../media/wind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476360" y="5734080"/>
            <a:ext cx="6335640" cy="366840"/>
          </a:xfrm>
          <a:prstGeom prst="rect">
            <a:avLst/>
          </a:prstGeom>
          <a:solidFill>
            <a:srgbClr val="5d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0" y="-90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258920" y="906480"/>
            <a:ext cx="5759280" cy="8254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0033cc"/>
                </a:solidFill>
                <a:latin typeface="Times New Roman"/>
              </a:rPr>
              <a:t>Географічні відкриття на уроках матема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007600" y="4797360"/>
            <a:ext cx="324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Прагнення </a:t>
            </a:r>
            <a:r>
              <a:rPr b="1" lang="uk-UA" sz="1800" spc="-1" strike="noStrike">
                <a:solidFill>
                  <a:srgbClr val="0033cc"/>
                </a:solidFill>
                <a:latin typeface="Arial"/>
              </a:rPr>
              <a:t>пізнати прир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мало самий постійний 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самий щасливий </a:t>
            </a:r>
            <a:r>
              <a:rPr b="1" lang="uk-UA" sz="1800" spc="-1" strike="noStrike">
                <a:solidFill>
                  <a:srgbClr val="0033cc"/>
                </a:solidFill>
                <a:latin typeface="Arial"/>
              </a:rPr>
              <a:t>вплив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33cc"/>
                </a:solidFill>
                <a:latin typeface="Arial"/>
              </a:rPr>
              <a:t>розвиток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А. Пуанка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132000" y="1700280"/>
            <a:ext cx="53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 rot="5400000">
            <a:off x="-1177200" y="3131280"/>
            <a:ext cx="46814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Times New Roman"/>
              </a:rPr>
              <a:t>З г а д а 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 rot="5400000">
            <a:off x="5951520" y="3275640"/>
            <a:ext cx="48247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Times New Roman"/>
              </a:rPr>
              <a:t>В г а д а 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716360" y="692280"/>
            <a:ext cx="1800" cy="53276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76360" y="836640"/>
            <a:ext cx="26640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Як знайти відсоток від числ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Як визначити масштаб кар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Як називається горизонтальна координатна прям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Формула об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єму паралелепіпе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АВ+ВС =АС. Яка з трьох точок лежить між двома іншим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Градусна міра розгорнутого  кут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292720" y="765000"/>
            <a:ext cx="3241800" cy="74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33cc"/>
                </a:solidFill>
                <a:latin typeface="Arial"/>
              </a:rPr>
              <a:t>В                    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а + в +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33cc"/>
                </a:solidFill>
                <a:latin typeface="Arial"/>
              </a:rPr>
              <a:t>90</a:t>
            </a:r>
            <a:r>
              <a:rPr b="0" lang="uk-UA" sz="1600" spc="-1" strike="noStrike" baseline="30000">
                <a:solidFill>
                  <a:srgbClr val="0033cc"/>
                </a:solidFill>
                <a:latin typeface="Arial"/>
              </a:rPr>
              <a:t>0</a:t>
            </a:r>
            <a:r>
              <a:rPr b="0" lang="uk-UA" sz="1600" spc="-1" strike="noStrike">
                <a:solidFill>
                  <a:srgbClr val="0033cc"/>
                </a:solidFill>
                <a:latin typeface="Arial"/>
              </a:rPr>
              <a:t>;            (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а + в) х с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число поділити на %, переведений у дріб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180</a:t>
            </a:r>
            <a:r>
              <a:rPr b="0" lang="uk-UA" sz="1800" spc="-1" strike="noStrike" baseline="30000">
                <a:solidFill>
                  <a:srgbClr val="0033cc"/>
                </a:solidFill>
                <a:latin typeface="Arial"/>
              </a:rPr>
              <a:t>0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;           а х в х с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О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відстань на місцевості поділити на відстань на карті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число помножити на %, переведений у дріб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ОХ;                    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відстань на місцевості помножити на відстань на карті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03640" y="76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372360" y="76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003640" y="112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56360" y="119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03640" y="1557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300720" y="220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є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003640" y="220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00364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ж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003640" y="306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003640" y="4076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076720" y="47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і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59640" y="472428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ї)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76720" y="5157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9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0.03704 L -0.11024 -0.44653 E">
                                      <p:cBhvr>
                                        <p:cTn id="13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3142 -0.03703 L -0.11024 -0.20509 E">
                                      <p:cBhvr>
                                        <p:cTn id="16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316 -0.04768 L -0.11823 -0.29953 E">
                                      <p:cBhvr>
                                        <p:cTn id="19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61111 -6 L 1.85185 -6 L -0.25208 0.19375 E">
                                      <p:cBhvr>
                                        <p:cTn id="22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9500"/>
                            </p:stCondLst>
                            <p:childTnLst>
                              <p:par>
                                <p:cTn id="24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3142 0.03635 L -0.10225 0.51922 E">
                                      <p:cBhvr>
                                        <p:cTn id="25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3142 0.03634 L -0.09444 0.44583 E">
                                      <p:cBhvr>
                                        <p:cTn id="28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179280" y="33336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9640" y="260280"/>
            <a:ext cx="4608720" cy="10674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33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1600" spc="-1" strike="noStrike" u="sng">
                <a:solidFill>
                  <a:srgbClr val="ffffff"/>
                </a:solidFill>
                <a:uFillTx/>
                <a:latin typeface="Times New Roman"/>
              </a:rPr>
              <a:t>Метеорологи</a:t>
            </a:r>
            <a:r>
              <a:rPr b="1" i="1" lang="uk-UA" sz="1600" spc="-1" strike="noStrike">
                <a:solidFill>
                  <a:srgbClr val="ffffff"/>
                </a:solidFill>
                <a:latin typeface="Times New Roman"/>
              </a:rPr>
              <a:t> вивчають клімати земної кулі, встановлюють причини й особливості їх формування; можливі зміни, вплив рельєфу, водойм, міст і лісів на клім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716360" y="1700280"/>
            <a:ext cx="4067280" cy="1310760"/>
          </a:xfrm>
          <a:prstGeom prst="rect">
            <a:avLst/>
          </a:prstGeom>
          <a:gradFill rotWithShape="0">
            <a:gsLst>
              <a:gs pos="0">
                <a:srgbClr val="5d93ff"/>
              </a:gs>
              <a:gs pos="100000">
                <a:srgbClr val="42e2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 u="sng">
                <a:solidFill>
                  <a:srgbClr val="0033cc"/>
                </a:solidFill>
                <a:uFillTx/>
                <a:latin typeface="Times New Roman"/>
              </a:rPr>
              <a:t>Меліорація </a:t>
            </a:r>
            <a:r>
              <a:rPr b="1" i="1" lang="ru-RU" sz="1600" spc="-1" strike="noStrike">
                <a:solidFill>
                  <a:srgbClr val="0033cc"/>
                </a:solidFill>
                <a:latin typeface="Times New Roman"/>
              </a:rPr>
              <a:t> - це комплекс  заходів, які дозволяють більш ефектив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33cc"/>
                </a:solidFill>
                <a:latin typeface="Times New Roman"/>
              </a:rPr>
              <a:t>використовувати земельні і водні ресурси з метою отримання високих і стійких врожаїв сільськогосподарських культу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9640" y="3716280"/>
            <a:ext cx="3456000" cy="1310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 u="sng">
                <a:solidFill>
                  <a:srgbClr val="0033cc"/>
                </a:solidFill>
                <a:uFillTx/>
                <a:latin typeface="Times New Roman"/>
              </a:rPr>
              <a:t>Геодезія</a:t>
            </a:r>
            <a:r>
              <a:rPr b="1" i="1" lang="ru-RU" sz="1600" spc="-1" strike="noStrike">
                <a:solidFill>
                  <a:srgbClr val="0033cc"/>
                </a:solidFill>
                <a:latin typeface="Times New Roman"/>
              </a:rPr>
              <a:t> - наука про  вимірювання на  поверхні Землі. З'явилася вона ще в далекі часи і потрібна була при будівництві, розподілі земель, відтворення плані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364000" y="5229360"/>
            <a:ext cx="3456000" cy="1067400"/>
          </a:xfrm>
          <a:prstGeom prst="rect">
            <a:avLst/>
          </a:prstGeom>
          <a:gradFill rotWithShape="0">
            <a:gsLst>
              <a:gs pos="0">
                <a:srgbClr val="e775d7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 u="sng">
                <a:solidFill>
                  <a:srgbClr val="0033cc"/>
                </a:solidFill>
                <a:uFillTx/>
                <a:latin typeface="Times New Roman"/>
              </a:rPr>
              <a:t>Картографія</a:t>
            </a:r>
            <a:r>
              <a:rPr b="1" i="1" lang="ru-RU" sz="1600" spc="-1" strike="noStrike">
                <a:solidFill>
                  <a:srgbClr val="0033cc"/>
                </a:solidFill>
                <a:latin typeface="Times New Roman"/>
              </a:rPr>
              <a:t> - галузь науки, техніки та виробництва, що охоплює вивчення створення і практичне використання кар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dur="indefinite" nodeType="after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" dur="indefinite" nodeType="after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26000"/>
                            </p:stCondLst>
                            <p:childTnLst>
                              <p:par>
                                <p:cTn id="51" dur="indefinite" nodeType="after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50920" y="260280"/>
            <a:ext cx="4105080" cy="2565360"/>
          </a:xfrm>
          <a:prstGeom prst="wedgeRoundRectCallout">
            <a:avLst>
              <a:gd name="adj1" fmla="val 41453"/>
              <a:gd name="adj2" fmla="val 61263"/>
              <a:gd name="adj3" fmla="val 16667"/>
            </a:avLst>
          </a:prstGeom>
          <a:blipFill rotWithShape="0">
            <a:blip r:embed="rId3">
              <a:alphaModFix amt="60000"/>
            </a:blip>
            <a:srcRect/>
            <a:stretch/>
          </a:blip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 зв’язку з глобальним потеплінням обчисліть, як зміниться рівень світового океану, коли розтане крига завтовшки 2000 м площе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16 кв к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5000" fill="hold"/>
                                        <p:tgtEl>
                                          <p:spTgt spid="4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wind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62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explode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72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0" fill="hold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2e246"/>
            </a:gs>
            <a:gs pos="50000">
              <a:srgbClr val="ffff00"/>
            </a:gs>
            <a:gs pos="100000">
              <a:srgbClr val="42e2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395280" y="3500280"/>
            <a:ext cx="4518000" cy="30164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95280" y="1182240"/>
            <a:ext cx="36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1800" spc="-1" strike="noStrike">
                <a:solidFill>
                  <a:srgbClr val="00cc66"/>
                </a:solidFill>
                <a:latin typeface="Tahoma"/>
              </a:rPr>
              <a:t>Міністерство агропромислової політики зробило запит до нашого обласного управління щодо використання сільськогосподарських угід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35640" y="4221000"/>
            <a:ext cx="331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1800" spc="-1" strike="noStrike">
                <a:solidFill>
                  <a:srgbClr val="00cc66"/>
                </a:solidFill>
                <a:latin typeface="Tahoma"/>
              </a:rPr>
              <a:t>Загальна площа</a:t>
            </a:r>
            <a:r>
              <a:rPr b="1" lang="uk-UA" sz="18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uk-UA" sz="1800" spc="-1" strike="noStrike">
                <a:solidFill>
                  <a:srgbClr val="00cc66"/>
                </a:solidFill>
                <a:latin typeface="Tahoma"/>
              </a:rPr>
              <a:t>нашої області 32000 кв км. Яку площу займають болота, якщо вона становить 2% від загальної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924360" y="189000"/>
            <a:ext cx="4895640" cy="32637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 flipH="1" flipV="1">
            <a:off x="6225840" y="1411200"/>
            <a:ext cx="1515960" cy="3748320"/>
          </a:xfrm>
          <a:prstGeom prst="line">
            <a:avLst/>
          </a:prstGeom>
          <a:ln cap="sq"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4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4098960" cy="27399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3992400" cy="28227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4716360" y="134136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95280" y="3716280"/>
            <a:ext cx="4176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3333cc"/>
                </a:solidFill>
                <a:latin typeface="Arial"/>
              </a:rPr>
              <a:t>У листопаді в Києві було відкрито після реконструкції СК «Олімпійський». До вас звернувся менеджер з продажу квитків на матчі Євро 2012 з проханням накреслити план спортивного комплексу. Розміри футбольного поля: 105 м х 68 м. Прямокутником яких розмірів можна зобразити це поле, дотримуючись масштабу 1: 500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rcRect l="0" t="0" r="0" b="-97"/>
          <a:stretch/>
        </p:blipFill>
        <p:spPr>
          <a:xfrm>
            <a:off x="0" y="1197000"/>
            <a:ext cx="9144000" cy="54943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4211640" y="5589720"/>
            <a:ext cx="720720" cy="576000"/>
          </a:xfrm>
          <a:prstGeom prst="ellipse">
            <a:avLst/>
          </a:prstGeom>
          <a:noFill/>
          <a:ln cap="sq"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335480" y="5603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556000" y="1773360"/>
            <a:ext cx="718920" cy="574560"/>
            <a:chOff x="2556000" y="1773360"/>
            <a:chExt cx="718920" cy="574560"/>
          </a:xfrm>
        </p:grpSpPr>
        <p:sp>
          <p:nvSpPr>
            <p:cNvPr id="477" name=""/>
            <p:cNvSpPr/>
            <p:nvPr/>
          </p:nvSpPr>
          <p:spPr>
            <a:xfrm>
              <a:off x="2556000" y="1773360"/>
              <a:ext cx="718920" cy="574560"/>
            </a:xfrm>
            <a:prstGeom prst="ellipse">
              <a:avLst/>
            </a:prstGeom>
            <a:noFill/>
            <a:ln cap="sq"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79840" y="1787400"/>
              <a:ext cx="3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uk-UA" sz="2400" spc="-1" strike="noStrike">
                  <a:solidFill>
                    <a:srgbClr val="ff0000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0" y="136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uk-UA" sz="1800" spc="-1" strike="noStrike">
                <a:solidFill>
                  <a:srgbClr val="0033cc"/>
                </a:solidFill>
                <a:latin typeface="Tahoma"/>
              </a:rPr>
              <a:t>Для вболівальників двох команд облаштували вздовж шосе 2 кемпінги. В якому місці на шосе треба зробити автобусну зупинку, щоб відстань від неї до обох кемпінгів була однаков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284720" y="335772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3 -0.19213 L -0.11024 0.20694 E">
                                      <p:cBhvr>
                                        <p:cTn id="97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1258920" y="3122640"/>
            <a:ext cx="6265800" cy="8254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40092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4000"/>
                  </a:srgbClr>
                </a:solidFill>
                <a:latin typeface="Arial"/>
              </a:rPr>
              <a:t>Успішної </a:t>
            </a:r>
            <a:endParaRPr b="1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>
                  <a:alpha val="54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4000"/>
                  </a:srgbClr>
                </a:solidFill>
                <a:latin typeface="Arial"/>
              </a:rPr>
              <a:t>с п і в п р а ц  і</a:t>
            </a:r>
            <a:endParaRPr b="1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>
                  <a:alpha val="54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83" name="">
            <a:hlinkClick r:id="" action="ppaction://hlinkshowjump?jump=previousslide"/>
          </p:cNvPr>
          <p:cNvSpPr/>
          <p:nvPr/>
        </p:nvSpPr>
        <p:spPr>
          <a:xfrm>
            <a:off x="324000" y="6453360"/>
            <a:ext cx="502920" cy="144360"/>
          </a:xfrm>
          <a:custGeom>
            <a:avLst/>
            <a:gdLst>
              <a:gd name="textAreaLeft" fmla="*/ 9360 w 502920"/>
              <a:gd name="textAreaRight" fmla="*/ 493560 w 5029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75116" h="21600">
                <a:moveTo>
                  <a:pt x="0" y="0"/>
                </a:moveTo>
                <a:lnTo>
                  <a:pt x="75116" y="0"/>
                </a:lnTo>
                <a:lnTo>
                  <a:pt x="75116" y="21600"/>
                </a:lnTo>
                <a:lnTo>
                  <a:pt x="0" y="21600"/>
                </a:lnTo>
                <a:close/>
              </a:path>
              <a:path fill="lightenLess" w="75116" h="21600">
                <a:moveTo>
                  <a:pt x="0" y="0"/>
                </a:moveTo>
                <a:lnTo>
                  <a:pt x="75116" y="0"/>
                </a:lnTo>
                <a:lnTo>
                  <a:pt x="73716" y="1400"/>
                </a:lnTo>
                <a:lnTo>
                  <a:pt x="1400" y="1400"/>
                </a:lnTo>
                <a:close/>
              </a:path>
              <a:path fill="darken" w="75116" h="21600">
                <a:moveTo>
                  <a:pt x="75116" y="0"/>
                </a:moveTo>
                <a:lnTo>
                  <a:pt x="75116" y="21600"/>
                </a:lnTo>
                <a:lnTo>
                  <a:pt x="73716" y="20200"/>
                </a:lnTo>
                <a:lnTo>
                  <a:pt x="73716" y="1400"/>
                </a:lnTo>
                <a:close/>
              </a:path>
              <a:path fill="darkenLess" w="75116" h="21600">
                <a:moveTo>
                  <a:pt x="75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716" y="20200"/>
                </a:lnTo>
                <a:close/>
              </a:path>
              <a:path fill="lighten" w="75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116" h="21600">
                <a:moveTo>
                  <a:pt x="30552" y="10800"/>
                </a:moveTo>
                <a:lnTo>
                  <a:pt x="44565" y="3794"/>
                </a:lnTo>
                <a:lnTo>
                  <a:pt x="44565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900000" y="6453360"/>
            <a:ext cx="358920" cy="142560"/>
          </a:xfrm>
          <a:custGeom>
            <a:avLst/>
            <a:gdLst>
              <a:gd name="textAreaLeft" fmla="*/ 9000 w 358920"/>
              <a:gd name="textAreaRight" fmla="*/ 349920 w 358920"/>
              <a:gd name="textAreaTop" fmla="*/ 9000 h 142560"/>
              <a:gd name="textAreaBottom" fmla="*/ 133560 h 142560"/>
            </a:gdLst>
            <a:ahLst/>
            <a:rect l="textAreaLeft" t="textAreaTop" r="textAreaRight" b="textAreaBottom"/>
            <a:pathLst>
              <a:path w="54299" h="21600">
                <a:moveTo>
                  <a:pt x="0" y="0"/>
                </a:moveTo>
                <a:lnTo>
                  <a:pt x="54299" y="0"/>
                </a:lnTo>
                <a:lnTo>
                  <a:pt x="54299" y="21600"/>
                </a:lnTo>
                <a:lnTo>
                  <a:pt x="0" y="21600"/>
                </a:lnTo>
                <a:close/>
              </a:path>
              <a:path fill="lightenLess" w="54299" h="21600">
                <a:moveTo>
                  <a:pt x="0" y="0"/>
                </a:moveTo>
                <a:lnTo>
                  <a:pt x="54299" y="0"/>
                </a:lnTo>
                <a:lnTo>
                  <a:pt x="52899" y="1400"/>
                </a:lnTo>
                <a:lnTo>
                  <a:pt x="1400" y="1400"/>
                </a:lnTo>
                <a:close/>
              </a:path>
              <a:path fill="darken" w="54299" h="21600">
                <a:moveTo>
                  <a:pt x="54299" y="0"/>
                </a:moveTo>
                <a:lnTo>
                  <a:pt x="54299" y="21600"/>
                </a:lnTo>
                <a:lnTo>
                  <a:pt x="52899" y="20200"/>
                </a:lnTo>
                <a:lnTo>
                  <a:pt x="52899" y="1400"/>
                </a:lnTo>
                <a:close/>
              </a:path>
              <a:path fill="darkenLess" w="54299" h="21600">
                <a:moveTo>
                  <a:pt x="542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899" y="20200"/>
                </a:lnTo>
                <a:close/>
              </a:path>
              <a:path fill="lighten" w="542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299" h="21600">
                <a:moveTo>
                  <a:pt x="20143" y="3794"/>
                </a:moveTo>
                <a:lnTo>
                  <a:pt x="34156" y="10800"/>
                </a:lnTo>
                <a:lnTo>
                  <a:pt x="20143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rcRect l="0" t="0" r="76" b="-126"/>
          <a:stretch/>
        </p:blipFill>
        <p:spPr>
          <a:xfrm>
            <a:off x="0" y="260280"/>
            <a:ext cx="6227640" cy="63691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6156360" y="1958400"/>
            <a:ext cx="266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33cc"/>
                </a:solidFill>
                <a:latin typeface="Tahoma"/>
              </a:rPr>
              <a:t>Творче завдання додо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33cc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33cc"/>
                </a:solidFill>
                <a:latin typeface="Tahoma"/>
              </a:rPr>
              <a:t>Як визначити відстань на місцевості між двома доступними точками, між якими є перешкода? (1 ознака рівності трикутників)</a:t>
            </a: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5280" y="5157720"/>
            <a:ext cx="4968720" cy="287280"/>
          </a:xfrm>
          <a:prstGeom prst="line">
            <a:avLst/>
          </a:prstGeom>
          <a:ln cap="sq" w="349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00360" y="4437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22:11:24Z</dcterms:created>
  <dc:creator>Admin</dc:creator>
  <dc:description/>
  <dc:language>en-US</dc:language>
  <cp:lastModifiedBy>User</cp:lastModifiedBy>
  <dcterms:modified xsi:type="dcterms:W3CDTF">2013-02-24T16:54:57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08000000000001024140</vt:lpwstr>
  </property>
</Properties>
</file>